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30C2FD5-2EF4-4DFE-8B25-264F15DF95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C4AE2D7-9407-4C53-AD65-1C00F0053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436152-877F-4E97-8644-96A6B3489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C084713-7776-4B08-9B2E-E5AD8ADB6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FF507C-CEAF-4387-A867-A655E0C37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A61-49B7-4295-B3BA-05087E4F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374-4B74-4467-AEFA-626717F5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56D20-8F25-4513-9A9E-17B40143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32D66-A3F8-4742-98F6-BC7883BE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B6697-AE06-4ABD-99EC-C7765317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3CC2C-1E2D-4FC9-A3C0-C8F51630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43D60-FB6F-471C-BC24-A7A6FAEA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540DC-4F9B-48F5-A704-520E3A0B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F5B92-E4BC-4EFB-913A-783F0C9E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0708D-A4D4-4D80-BBC0-1A2A53E3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2CF27-3739-446B-837B-5F800EF4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5803B-68A0-41D3-8DE9-A840989E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730-8684-436E-95D4-FA20F650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41723-1E59-4DCD-B073-A82125AD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2BC4C-DE0A-4F2F-95B4-47B22945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CDF93-F6B1-40A2-B2EB-1FDE903D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FCBF8-7A3A-4273-9C1A-6FB80227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1C8F9-9E5F-4595-A0A9-B44DF631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7D46A-9280-449D-8937-EB827C7D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3C60B-0BFD-4841-B066-680C9947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10B64-CDEE-40FD-9540-FC500CAA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76352-004D-4D9D-8BD8-CA822832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5F9BA-41C7-4B0B-9112-B8207F2F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3F4-8D67-4C0A-B1EF-8E045EE1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C1CE0-A9BE-4B09-B58D-AEC71C96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503A7-995B-41BA-B731-5E19EB01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C5AE0-0C04-424E-B565-06003855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850C1-3A27-4F3E-A187-C132BEAB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D14A2-A224-41BC-AA75-3E0382DA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CBD5A-2743-403E-A990-9E6F718F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1983B-71E4-4AF5-9A59-0C9FC3AD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E9893-ACC5-4ACE-AC18-572334CB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A609A-1FFF-43A2-90B7-1610709E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99CE1-51EA-47A9-B171-2CDDD20B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AC41-9829-4CA0-BE47-ADF2EC06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469E5-9F5E-43DE-BBBA-DF7C11B5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572CA-FB50-414B-B219-84FA4754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C2D1D-6DC8-4C1B-A62C-BEC738DA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65E17-4FEC-4FAE-AFA9-F5032477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58100-D767-4443-98F6-2EF42900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9C600-FFC5-4214-B3F2-43C80016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62499-AE02-42F2-88BA-EDD09761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8B825-5020-45A9-B57E-CE5E9C88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70069-370B-4E81-A622-2B5A6934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D9081-7E7A-47AD-AF55-55F6DA96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D331-85EE-4046-8A16-BAABCCCC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68250-6AE0-4FA2-BA06-27811C3F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83182-FAE2-4FE8-B01A-328C0392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CF6A1-A3C1-4CEB-84CF-A350C609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04D35-C709-441A-8961-C49DCD2F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81036-C69E-4992-82B0-3BB0B54D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EC66-661D-4855-AAA2-46F14AD4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1E63-2588-4010-BF24-3124EE0F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3D8F-0173-4E54-89B6-717F1012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4226-4072-4C2E-9DE7-C52ED6B7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6E1E-B736-425C-82C0-64D5799A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3A4-6A58-4C72-8BA2-A42D7B7F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DB22-A8F2-44AE-8BC2-926FBA1B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81B5-C51E-4C18-B094-EC10BD94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E8D1-5426-49E0-B8E6-7D7C668F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0D0B-6B9B-4B80-B2E0-FBA0761F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C380-AE69-44F0-93FF-454F4B53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F0F26-8BDA-4FB7-B355-90C37BE3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6BE15-6580-40DD-ABB9-A41F5B69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A2FFB-0A2D-4E4B-8B19-644C5244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86EF-0510-4722-AB75-7D398F73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A9570-F778-4993-B107-AD1796E0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977-C697-47AB-AA74-63CC7F81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CA4AC-20B6-4036-8F02-FFFA4ED7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EE59F-4B06-4896-A14A-2DC92D99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86F5-CB07-48A3-8977-E4249E99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F0123-2F20-4517-A6C5-A0470325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49DA7-3087-47AE-AD08-9DF8FD6A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5109A-C155-46C5-8500-8BEA5400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DF6F1-0EAF-4809-8D26-63C2040B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B9460-2B29-4F66-809E-54886048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9F6F9-AC5B-4D3D-8EA4-13CE5AB8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D47E7-3D3D-4680-858B-098EF0BC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A0E-E3EE-431A-81AD-E0197CFE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09989-6F2B-47D0-939C-2C821CCB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FA3B5-C8BB-49DF-830E-E0E0B739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B510C-8152-4A56-B87C-15654332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104FA-EFD7-4954-B0F7-0E4B0CE5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A382D-5936-427F-80DF-D373F821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6062B-925F-4CE3-8E9C-0D905C28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73430-CCC1-4739-948A-022AD82E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AFDC1-ADBE-4F82-9D4E-AC77A409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3777A-CC5B-4F0C-B3B3-32F5ED09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B93BF-55C2-4A5F-9DA2-922B96B0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166-422C-4377-8683-A6207BA8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252BC-7626-461B-B71D-B999154B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1EC93-ABA1-4A55-8324-6AD40D01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D5187-6B1D-438B-A988-BFA391FF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D7DEF-D3F1-4626-A4A9-57CF652B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14769-A371-40A2-BF9E-2D1976A3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31D63-BD40-46B0-86CE-0D11301A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0E90D-1EF7-4594-84B5-89E1B1FC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D14E8-95B3-4D74-B815-7C7B1A26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D97F2-B520-424D-93DB-A3C64A9B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250B0-F7D0-4268-A033-E3368D23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692E-FFF3-4132-8B5A-B8A9DC2E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A675B-78B3-47E1-BC31-57C3E4EB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F6CD1-FCFB-4F4E-84D1-C5B2CC12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AD6B5-3D3E-469E-B502-A31D5BD3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46723-5363-475F-9D42-F6855BF3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1EBF1-6C1E-4B22-B0BC-8BE41C9E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CDCC3-63BC-4518-9822-71F16112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55BAE-2DEE-4060-840B-8F94D59E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B0F0A-843B-49EB-B2B7-1C6514E9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71CBC-B46E-43C4-82F5-621C687C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58A25-241F-424A-A5B0-09FCA002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321-C408-4971-A388-5933561A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BAB11-059F-4C29-8657-AB67AB97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898C9-92E9-44F3-BD33-1024883C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B159F-B770-48D1-B6F1-EAF7229B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3AE50-067A-4608-8F7A-D166B75D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6D608-3140-4036-A5CE-83CBE75F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ACF05-1F74-4915-9F36-45664602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2B856-1087-45A7-87EF-41CC1594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320D6-9A7A-4BBD-A294-EE9B7DCC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22879-BFCD-4F94-8B87-80A9193E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2AEC6-7803-4712-982B-9C8D5BAE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77B-076D-4109-B6AA-59152068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CA1FB-E05D-4649-A9C7-6DA79383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C25AB-75A3-4A35-8FC7-943E4E1E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8F670-BD20-4BD0-84F6-1DD439F7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544E5-F295-47FC-8FEB-FC3C8294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D1240-5BFA-458C-A0D1-7D56578E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0391D-13FA-4DC6-AE12-903DF798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F4988-4A21-4973-8A80-CB416E67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AF409-3CE0-4B4F-810E-0F884D40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2B2B0-C37B-4801-9CC6-FEBBE037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7352F-6DD5-4878-98F8-E5B838D0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8EE-7BD6-4481-B1EC-5CE937D3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C2368-C1FC-46E8-B273-753AA476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98B53-4CA9-45EC-B421-B516C8C4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C1A4B-5615-4469-9DA0-6A267F02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1F38E-0639-4675-A36E-71CFC5E2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19922-C658-4E69-8D2B-00C61072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053DA-8C68-4B82-AF15-18898EB1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B5359-AEE6-4D39-AF03-E4D46D8D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8BA8B-9F40-4AC1-9B7C-32214D98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BA793-A875-4473-B67B-4AA272C3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68FE7-79EA-4A30-9C3A-5B330A3A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8D96971-ADEA-4E8C-9528-E8DFE6A5E0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03003E3-F44B-4847-A940-3225DD9B6D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4D13E4E-B46F-478D-833C-5BEC883669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8563C04-5A4B-447C-A3AF-50821BF896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DD68DE2-3122-4E28-AF24-1D42D49E0B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054C7A3-2540-474B-B54C-1077D811F6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368DE4A-0F02-41DB-9BA5-A976E34F82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AAEFEA6-6D3C-4145-A0DD-CE28F1B2E4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68C0B99-4EE8-434C-A4DE-83A32AF3ED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5736E87-C866-4B45-8B34-586CA546A5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08A146D-62B6-4553-8198-5CA3A1760E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296F586-3AE0-468D-B05F-FAFA9A97D5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8B6EB12-F209-4D67-AAD2-A7E0FCDA6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 on LB27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3-08-1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518F05F-8CF3-4AC0-8F40-8E2714B32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71 on Draft 4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28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97 Technical, 230 of them must be satis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2 Editorial, 45 of them must be satis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9 General, 4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tative ad-hoc assign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3 PHY, 24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53 MAC, 221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2 JOINT, 34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5978971-8CFA-428D-A387-9F3D5FA78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71 on Draft 3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DC4B977-A623-452D-BEA5-1C525DB6F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75 on Draft 4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3-08-16T18:43:54Z</dcterms:modified>
  <cp:revision>9053</cp:revision>
  <dc:subject>Task Group AY November 2015 Meeting Agenda</dc:subject>
  <dc:title>TGbe Editor's Report on LB27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