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7E9771-7C0D-4B2B-800E-BA77E1EB9E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223376-30BF-4AD7-A7F5-08180DED2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5B66DF-2C7E-4DE0-A1DB-7BE61B9F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693DB7-898F-42F5-B7B7-6BBDF19A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C3DD41-F96F-474E-803B-5573CEF6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49B-B824-4C91-9B38-D161F948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6A9-1D2E-499C-8130-0E701B04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B13A2-F7C6-476D-8C2B-E5093191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397EF-E78E-4CD4-AAB3-FB8CF3B3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2CC0A-BE1C-4B54-95FB-905A175B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A7FFB-3ED3-4148-83A0-4DC049C6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05A9E-79C8-41E5-8E85-EBB02291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8DAEF-92FE-4F36-9260-11DBDFAF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30075-DC59-488C-B7B2-63D395AE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E4382-822F-461E-AB75-094B3D30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12686-73D8-41C6-BF15-39E7E062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9A7AB-C6B7-4031-B033-3F3ACBFE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EC9-8CCF-4F37-ADB4-FCB615DE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C5066-5DBF-4EB5-8C76-A414A311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0F6EE-ED6D-4F8E-9674-BF462595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203E1-2EFB-4B09-B8BB-900B26A8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778CD-975A-4456-846D-6A425891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A630E-129B-41C5-90DE-990CC188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747D0-645D-4F4B-AFFF-40EC9591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D7099-AA44-4256-96B1-AAEDFD4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164D7-6148-4069-985F-9828C72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794F8-DA5B-4B67-9DD5-DBA749C3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047ED-A9C2-4D8D-9012-E9D44FB1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3D3-98D8-4F5B-87C0-BD6A8B85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7DDD3-D525-4EB9-A473-91E62B14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6F84C-C028-4F10-BD79-AFEC21AD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061FE-59BD-4F15-BD0F-14BA6AF2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ED9E8-ECA2-4549-B6B8-67EB3A29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92CAF-BB55-417E-B24F-CAAF9B05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2846D-B811-4AF8-8CB0-358FCD1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45456-457E-4A1B-95CD-CD8ABFDF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54088-9CE7-4F95-A090-93CCAD07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8FDC9-3DBE-4251-BED2-EEE39062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AF586-F159-48E7-A891-4D1BDC4A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970C-A3E9-4948-B28E-2F39DCDE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60365-1610-4FA1-AA9A-1359679E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A67F0-B716-49A2-A746-B13BEEB3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B407C-3821-4FF5-BB18-FD6457C5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5E722-BD8E-4105-9F8C-6AE1A138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4641C-9A2E-40CF-8E9C-9C89E054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F8DCC-6541-4821-B27F-5F92756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1BAC6-4D74-41A0-8777-0C16E30D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04B38-BE7E-4488-B949-782CA228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A9B61-C1C3-4454-A911-FB026AE9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EA828-6F89-4F22-A66A-E3118583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E457-E069-40B1-B6E8-64596E9C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1CD04-375F-4188-BD5F-87038B7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3CCE2-05A3-4AF4-BCAB-A53DC28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797F0-BDD5-4C10-8F1B-37976AE9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CA84A-0411-4510-B9FA-B2DA9D5D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0E98D-9AAA-423B-AA21-B3210756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F275-EBD5-47C3-B957-589525B1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984B-92FF-4A23-9203-DE24B1AD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EAF5-0222-4C79-B885-2F46853E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E2B1-EA42-436C-AD50-C6E1EB9F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95FF-2553-4D7E-9613-C8FB843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424-84EE-4E9D-9867-E9F4EDE2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A1F6-16AE-4CEE-A62A-E392FA01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585D-5462-4916-863A-7773355C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F213-9E09-4A74-A359-7E8B8228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A91E-4545-40EB-BD72-3E0BCA57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94AC-64C0-4064-A8A8-D795F42C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4F60-33C5-42EA-A4E5-7FDF6D06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33E8-3842-426B-A3FD-B2871554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CEB4-7173-438F-BDE3-5BF58B5C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33CC-F7B4-429A-9C0D-8ABFB2DB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3323D-4354-4586-AEC8-4EF085F7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37A-6D13-47C7-A212-47FAB097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6B26-3DBF-4781-A9B6-24BE94B1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E9E4-BDCC-48E2-8755-C733095D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5336-E3CB-4F22-B7BC-7DAAE149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A06F-79A2-472C-9659-711F2798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7278-26CB-4086-9F7D-5E9EF41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1DFF1-3277-448A-8951-2D401240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53C0-9164-42A6-B230-9BBF1D71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BFF13-56CE-48CF-AB04-2EEDDE95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435C-7161-4B98-91D3-4450DA02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836C-FB09-4371-B79B-F78C6810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6DD-8F05-47CF-81DE-AA33BC2D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13BC-10AE-4680-88E7-9F91BB95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CACE-CD6F-4E86-A9C2-5414A6C4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F40DC-175C-4777-8C38-BCF89FF7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F75B3-8400-41F2-AC8E-C4F089A9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FC97-B37C-4F0C-8BCF-B3BD29C3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114D4-7E40-48E9-B474-1A247D62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DA34-AA54-48D9-8E47-BD6528E9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0DC4-C4B9-470A-985C-DD02F993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2C5C-531C-4B17-BFA4-3AB628EA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D92B4-30A0-49A6-98B9-D2CD15C6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F74-C43B-4700-B93D-654A9CC7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9CF2-CB05-481B-94DC-61CD99C5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8788-0B5B-4CA2-9EFC-00AA42D6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4EF1-AAC1-4033-A856-B93B1A7A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AC573-CD16-41F6-80E9-4A623389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235D2-B0B8-4F34-BB39-2C36B1BA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0E9AE-338E-4420-A308-1525F912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90F6-D5C9-4CC6-9CF3-72A6349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F118-212C-4FEA-8BAB-530A6A2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E5EC-5FDD-42ED-96D8-84E92CD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CFDD2-9040-4E2D-9F4D-EA989D55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5A9-6E04-419E-99FE-4490833C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3733-3CF6-428D-8700-D667E53F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F8B6D-8EAF-4355-8710-73D9337E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A8ADB-954B-4F5E-B6D0-CF5AE6F7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E5D0-CBD8-4569-A611-9351BC2F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AE2F2-7159-40DC-8613-2DF33BBD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31094-D5A6-4C57-82C9-9C592156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4093-16EE-43F2-BDA1-13106F7B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79641-F6A4-412F-B97F-D640B556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0D458-9F00-484F-B752-D7FEBFE0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C384-8AF6-4DA9-AB89-8C1CBD27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BD4-F170-4314-9F79-285F4FD5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281A4-962E-4364-8C9F-9C77CD84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7E00D-A14A-48B2-8336-10108F82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0AEE-BFF4-44EE-8764-748FD74C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0E80F-4141-42AC-A59F-7DA793AC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3B59-BB61-4247-80EC-1CAEDFBF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422E7-CDCD-4EB4-B5BE-1EE68358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A4B14-3B2D-43F0-A992-1C64F90F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EEADC-2DAB-4DE3-9BFF-57910D3F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0B14F-BB94-4D52-AE49-8B7E69B9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2F34D-FE64-433E-A461-4FBB14F5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637-08FC-4B1E-9C45-35C401A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0F7FE-B80F-42F6-8F8B-76EF6566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DDF54-8D79-4B2F-B3E7-263E919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263EF-EE06-4840-B4B8-FF0E79BC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F7DB7-E2F2-4B67-95D5-6A7306EE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4AA12-089E-4559-857C-55B939E6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85F81-517C-4175-B848-CC6DDF4F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3B47B-1FE3-412A-AAAD-D92D081E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9A715-63AF-492A-A502-1AB05797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357C4-F67A-4DE1-BD88-81428E62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8218-2CB6-45CE-AD43-648B50BE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C89-7140-4DD5-9956-B46BA256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4A653-1AEF-435F-836B-E2AD8756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68888-FA6E-4FE4-9455-63A6D682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38457-0565-4290-B779-DFBEC20C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44534-C750-4A6F-9133-3AAD66C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FB39F-DB4F-444D-A62D-E2B9C71C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97146-3536-4EDB-B542-397B53D6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B8170-3775-4ADE-9E9D-DB1AD55F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9DABE-8F9A-42D8-92D8-F39A6450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899A6-0884-4DCB-BF2B-056A0F43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BA380-CC64-4D14-8453-907D55B8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3C5FA4-8058-424F-B846-8451E3606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490CAD-2D1D-4585-BF68-6C6F31449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A50E93-BE8D-4B99-990E-EA38CFF7F6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4E33D53-1502-4A21-B606-EA02892B8B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8D2AE8-40AF-4CA4-B96C-5D07A8648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2E1132-DC5B-4BF8-9749-41679D0096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0CDC4C4-763D-40B0-A24E-494E9E764B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A65F7F-89CE-4017-8985-661890CB8B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8B06D8-5183-4882-9451-F2AB140F5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8C6CDE-FCCA-4E3D-9019-E898DC2F02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109D34-6B24-4866-B658-4371F6F4F9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EAAB96-86F6-4D6F-BE58-4502116337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628180-D826-479D-BEC4-E4D8D43D3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 on LB27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3-08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C7DC57-2ED5-4A91-A04A-285B31F27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1 on Draft 4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8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97 Technical, 230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2 Editorial, 45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9 General, 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ative ad-hoc assign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3 PHY, 2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53 MAC, 221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2 JOINT, 3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4FA4CC-AEA5-430F-B3DC-07E6AE940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1 on Draft 3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BF1379-1BB0-4B1C-A333-7F326B6BA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3-08-16T18:43:54Z</dcterms:modified>
  <cp:revision>9053</cp:revision>
  <dc:subject>Task Group AY November 2015 Meeting Agenda</dc:subject>
  <dc:title>TGbe Editor's Report on LB27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