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7CAFBEA-5EA4-4481-B41D-0604E2C368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CC2C5C-4554-4ED9-A415-F6B792F7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54160" y="701640"/>
            <a:ext cx="4626000" cy="3468600"/>
          </a:xfrm>
          <a:prstGeom prst="rect">
            <a:avLst/>
          </a:prstGeom>
          <a:ln w="0">
            <a:noFill/>
          </a:ln>
        </p:spPr>
      </p:sp>
      <p:sp>
        <p:nvSpPr>
          <p:cNvPr id="5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54160" y="701640"/>
            <a:ext cx="4626000" cy="3468600"/>
          </a:xfrm>
          <a:prstGeom prst="rect">
            <a:avLst/>
          </a:prstGeom>
          <a:ln w="0">
            <a:noFill/>
          </a:ln>
        </p:spPr>
      </p:sp>
      <p:sp>
        <p:nvSpPr>
          <p:cNvPr id="5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DE1964-18D9-4A77-BAAE-7A03E83F2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54160" y="701640"/>
            <a:ext cx="4626000" cy="3468600"/>
          </a:xfrm>
          <a:prstGeom prst="rect">
            <a:avLst/>
          </a:prstGeom>
          <a:ln w="0">
            <a:noFill/>
          </a:ln>
        </p:spPr>
      </p:sp>
      <p:sp>
        <p:nvSpPr>
          <p:cNvPr id="6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67C2EA-3294-47B1-AF8B-4D61E799F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54160" y="701640"/>
            <a:ext cx="4626000" cy="3468600"/>
          </a:xfrm>
          <a:prstGeom prst="rect">
            <a:avLst/>
          </a:prstGeom>
          <a:ln w="0">
            <a:noFill/>
          </a:ln>
        </p:spPr>
      </p:sp>
      <p:sp>
        <p:nvSpPr>
          <p:cNvPr id="6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975BD2-FE67-4356-A91F-E9E71C1D5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54160" y="701640"/>
            <a:ext cx="4626000" cy="3468600"/>
          </a:xfrm>
          <a:prstGeom prst="rect">
            <a:avLst/>
          </a:prstGeom>
          <a:ln w="0">
            <a:noFill/>
          </a:ln>
        </p:spPr>
      </p:sp>
      <p:sp>
        <p:nvSpPr>
          <p:cNvPr id="6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E15438-F738-4654-9ECF-71C6CF4D1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8EFF7C-66AE-4688-811A-33450C5C3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54160" y="701640"/>
            <a:ext cx="4626000" cy="3468600"/>
          </a:xfrm>
          <a:prstGeom prst="rect">
            <a:avLst/>
          </a:prstGeom>
          <a:ln w="0">
            <a:noFill/>
          </a:ln>
        </p:spPr>
      </p:sp>
      <p:sp>
        <p:nvSpPr>
          <p:cNvPr id="6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CBDFC9-67FB-4749-AC8A-DD8D26B88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88BEE-543F-4261-8097-CF23B5806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75340-9A0A-43A3-AD34-9D8653D93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58EDE6-73A8-462E-99D2-E6E6709F6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1FC897-3E15-4D3A-B5C8-41E33A758F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E76B87-73A1-4CB0-81BB-ED5379E3BA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7BB09-1CC9-4A35-ACBA-CAA1D2BFDF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7D946-EA43-4ACB-8CEE-8B475BA0F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2397B-B26D-4BA8-BDAF-9031EE2A45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7EB400-00E9-4C70-B741-53AA0E0B3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79EC11-B1EB-49AB-ABDB-9922C7F4C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E3D078-D5C6-427E-95A5-C002496A93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25402B-14AD-4F99-8241-851EB80D90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564D6-2873-43EC-82CE-6FAF02C19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5B67E2-8F17-466E-AA0E-97E6993C62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1D98EA-E9B8-47AA-9248-BCE343C67B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9E6018-C027-4EC0-9FC0-C026B0E6EF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B30CB1-564F-4E73-8ECA-0FDFACABC3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32F3A4-6933-4C9E-A8B1-9314A5A554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10CCF9-DF9F-4701-8585-70CBE9B06C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AA88D-DB8C-468C-8E2B-415CB95083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FDC4B1-DBDD-4BFB-A2FD-1E55AA1F02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1D8C2A-F0F3-412F-96AA-B3A1EA0913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061350-A231-493E-8B6A-3D5F99679E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252EF-F3BF-4E01-AE2A-EA713DC0D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AF762D-72A6-4361-9014-4154BD917D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FAC663-1D29-4700-B81D-B506C76DFA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71760F-9D21-43F2-A3A9-23A09582C2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DCF09B-5154-47F3-B6CA-C744E3101D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4411EC-2232-4170-8044-1A5B69B28F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DA94AB-3279-4FAB-8D93-517BF7ED13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E6B89E-430B-433D-A97B-183E6480CB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F81B0F-8772-435A-86D4-4F35F6B6D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9E81A8-189C-4007-8E58-89A43961E2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4F2154-6D5E-4ADF-BF9C-6BC40D4485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4C353-084E-4EBB-943B-B01CE1CE2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6D87AF-0B2D-4297-B951-A9C09829FC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F9A21B-125F-42B4-889C-4E370AD879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2C3C7A-1D90-449C-A8CA-892B1EE99D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ACA0C7-E049-4D4F-9627-34E0567C352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5F61C2-11C7-492C-BC87-BA83634AC3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95DBB2-EB46-487A-9272-38E3C9C2AC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638BCA-CFB9-49F4-82B6-3B960ABD4E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FE1784-03C7-44B3-83E2-0E65CBF472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B52926-4422-4122-9222-CF80C7045E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EF067D-8789-445A-8AB4-4B2079BB2D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CFA5B-84D6-4362-A46D-1E5C51424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6F8740-CA3D-4684-9F1A-6C23D2A18F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D8300A-8618-419D-A2E5-7A970D0312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8FE735-1889-40A5-85F1-11B08D313F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2772CA-EC55-42D9-BBBB-7A1A1FD2E1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A70E91-4111-498D-B708-406A866CB6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7600D-759D-4B93-B55D-CD8916CC1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B2C72-F6E1-4606-BE19-CA128A0A4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B1ACB-B6AC-46DF-9201-0D674C933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981CA-F661-4350-972D-39B0BB9C8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A5039-FE21-4A13-8989-B6A7379E5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FC81-60F8-44D7-8F53-4220CAD6B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8BA87-44C2-4237-BF53-1590F199F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81800-D569-4D52-909D-9DD7E7D2A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696AE-1DD2-4010-81A2-D22ECA107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925F9-BA15-4FF8-8590-07A16E3E7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99C04-938D-4906-8943-E19AF24EA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88D66-8578-47B0-AAC0-50539DBB7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BA7A5-5755-4F04-8F47-18879ABB0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114A3-1BCD-4458-A7B4-66078D73F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03D5E-B9DD-43AE-A385-DFEED2107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0AB6F-28C1-41AF-A6A3-24F2E3A0F1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AA868-3FC0-4787-ABAE-F44DD1E0E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A1637-6676-4965-B7C9-573AEF653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830FB-8E87-47BC-9334-C25F6E9FE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31227-A871-45CB-A6D0-B03D4C75E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B5D70-52FC-4206-B52D-C94995004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0327B5-F6C1-4FBE-89C0-48166FB22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2D5966-0B99-4506-9436-4DBC36FAB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48464E-E7A9-4DFB-96BD-1ABB4D78F5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D332EC-C423-4724-B281-8F8D21F5C8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AF805-8209-4318-8587-186134422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7C3F8-6604-480A-A648-EF3DDB6384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19956-0266-4219-8A62-6D28583C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D35E7-4499-42F5-A684-6D4478220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54A4A-7692-420B-95C5-944E6A1E3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A9D65-F88B-46F0-8B97-A985818D0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1569C-B5AC-49B9-919A-C2036E5CB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F8821-0FDC-438B-9211-E31D62E15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54C71-B2AD-4710-B421-540074C33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465BC-1B84-42B3-800A-A4591A7F3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558868-B46A-482C-B35C-A3E8C10D5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40A90-E501-4D74-B773-EFAD5874F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661844-5B18-418F-9276-9FD3BC0934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CA800-DA31-42DB-A165-2ADDCCBC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12FBE-9CA3-4407-B749-6CA9FE4C7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750D3-BDBE-49FD-8C86-3825F451F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7C932-18AB-4ECB-BD88-B63FBEE55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D5FDD-ED17-4B49-9CEE-F9335F041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8FB8F8-48F2-456E-A7E5-A8E2226CA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B1076-B85F-4BB9-A4E2-DDB71CF2D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8EC36-A2E4-4AF3-8344-B1D4B8D41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40944-F22A-4AFA-99EC-46EB53065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A4F4E-C952-4B7D-A219-F52206DA5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A96807-31F5-46F1-9F72-8615E5BFC5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A870F-A328-482B-8F8E-7145DFB8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FF2C2-8989-48FE-92C4-745C00C629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BAB724-C546-42CD-83EC-CBCBF517E5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FAEC9F-2EDE-4F1E-9359-CA458423C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D4456A-1690-4422-92D4-235A638B7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DF013-AEE7-4189-AEB6-7C626E1AE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38D2C-6268-4600-9000-AAF61D49F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3C81D-EE93-45BA-BCC9-DC767F6B6A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65293-854C-4339-B095-AD06E33FF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42E0C-8C87-4A0C-B41D-119BD8AA4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8B02C-0F44-46EA-A6F6-339A512EA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6918-4337-4D79-9B11-BEE0E1CF0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CB342-1ADF-4D02-A86C-D23A7EA79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19DF3-5FF6-41F8-A180-3DB6D53F4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B7AB45-16C5-45D2-BBC4-A67EA180BE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D398A-6AFF-45FB-93EF-E74897C689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0A663-7409-43CF-A56D-A06A292BB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790B5-6C0E-468D-BDD3-CFD554A82A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60C09-CCBE-4050-9753-B7B9DC6782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40BC94-265B-4941-8D4D-747BDC68E4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538EB0-1F8A-4603-A97F-2C2C4AECD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86F0E-2F4E-40DD-BA9F-A70A56C90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E966-F37B-4C67-93E4-6D69296D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9982B-209D-44BC-958E-82E014C53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07696-A96F-4D72-A569-C701E37D3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B81B9-31C7-49DF-8B20-32B624F2A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C4EA9A-4981-4CC6-A300-A4253ECAA9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3655A3-D3C4-4F7B-8511-D52651246C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77E09-4EC0-4129-8C71-3E189F3F7E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7680D-1D24-423B-A428-CDED6F72CA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ABE4F-586D-4727-9C59-B0B75422E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87CF7B-FCD4-4460-BB43-90F6D6B72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3BBBBC-43AD-4ED7-AD47-6DF4FB3BC6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02EB-494B-4E67-9AA3-9E573F41C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86147E-8FF3-4186-9AE1-9AAF168161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0544F-2D30-455A-BEC6-E1C721012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A738A3-4692-42D8-A3D8-F862ECAB8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F7FD1-735A-4405-9DC7-7C9C25855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061C45-4DE1-477B-B38C-7E5A8213E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987C6E-DBA1-4E30-8DA1-73B1387CF2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3567DA-CA3D-40EC-A8E8-CCB0779BDC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F44E45-FD59-4AD0-B108-78DD11A455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D931A0-B9BC-4EF8-8CE0-004055F6D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234AC9-9709-4A32-9E1A-5D5A2E454F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6707DC0-3B99-4802-97DB-87EC16D1D7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46F139D-12D9-4322-92E3-426677C042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704013-3B2B-4627-AB97-3D49AA833B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60DAF48-8845-4ACB-A9AD-37BF97DF40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BDB0BF-29C8-425E-ABB5-AD916219C1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F04399-1003-4E15-BC40-21DE4733BC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1083347-355F-47DF-A85E-392814C9C0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DE5E83-CE7E-473F-94A3-A45452D3C7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E4947E-823A-4DB8-96A9-D12186F522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D874CF0-1546-401C-834A-8165014154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50F748F-7785-4B32-9EBA-6010327E7F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3/0273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23</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CA7FB4B-04BA-49F9-9EE5-DF69991E1C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ieee802.org/11/email/stds-802-11-tgbe/msg08828.html" TargetMode="External"/><Relationship Id="rId2" Type="http://schemas.openxmlformats.org/officeDocument/2006/relationships/hyperlink" Target="https://mentor.ieee.org/802.11/dcn/23/11-23-0272-22-00be-ieee-802-11be-lb271-comments.xlsx" TargetMode="External"/><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A32620-9194-4936-99FF-BBBB88B21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 on LB271</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3-05-1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03461E-641F-4D98-B453-8D093E788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B271 on Draft 3.0 (1)</a:t>
            </a:r>
            <a:endParaRPr b="0" lang="en-US" sz="3200" spc="-1" strike="noStrike">
              <a:solidFill>
                <a:srgbClr val="000000"/>
              </a:solidFill>
              <a:latin typeface="Times New Roman"/>
            </a:endParaRPr>
          </a:p>
        </p:txBody>
      </p:sp>
      <p:sp>
        <p:nvSpPr>
          <p:cNvPr id="5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 as of March 11, 2023:</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3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15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9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 General</a:t>
            </a:r>
            <a:endParaRPr b="0" lang="en-US" sz="18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hoc assignment:</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9 PHY</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59 MAC</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5 JOINT</a:t>
            </a:r>
            <a:endParaRPr b="0" lang="en-US" sz="1800" spc="-1" strike="noStrike">
              <a:solidFill>
                <a:srgbClr val="000000"/>
              </a:solidFill>
              <a:latin typeface="Times New Roman"/>
            </a:endParaRPr>
          </a:p>
          <a:p>
            <a:pPr lvl="1" marL="743040" indent="-285840" algn="just">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837 must be satisfied comments:</a:t>
            </a:r>
            <a:endParaRPr b="0" lang="en-US" sz="2000" spc="-1" strike="noStrike">
              <a:solidFill>
                <a:srgbClr val="000000"/>
              </a:solidFill>
              <a:latin typeface="Times New Roman"/>
            </a:endParaRPr>
          </a:p>
          <a:p>
            <a:pPr lvl="2" marL="11430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381 Technical</a:t>
            </a:r>
            <a:endParaRPr b="0" lang="en-US" sz="1800" spc="-1" strike="noStrike">
              <a:solidFill>
                <a:srgbClr val="000000"/>
              </a:solidFill>
              <a:latin typeface="Times New Roman"/>
            </a:endParaRPr>
          </a:p>
          <a:p>
            <a:pPr lvl="2" marL="11430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444 Editorial</a:t>
            </a:r>
            <a:endParaRPr b="0" lang="en-US" sz="1800" spc="-1" strike="noStrike">
              <a:solidFill>
                <a:srgbClr val="000000"/>
              </a:solidFill>
              <a:latin typeface="Times New Roman"/>
            </a:endParaRPr>
          </a:p>
          <a:p>
            <a:pPr lvl="2" marL="11430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2 Gener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9D4668-342A-4BF4-8902-DD86A455F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B271 on Draft 3.0 (2)</a:t>
            </a:r>
            <a:endParaRPr b="0" lang="en-US" sz="3200" spc="-1" strike="noStrike">
              <a:solidFill>
                <a:srgbClr val="000000"/>
              </a:solidFill>
              <a:latin typeface="Times New Roman"/>
            </a:endParaRPr>
          </a:p>
        </p:txBody>
      </p:sp>
      <p:sp>
        <p:nvSpPr>
          <p:cNvPr id="5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progress as of May 14, 2023:</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3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2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46 PHY, 135 Joint, 701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39 Technical, 403 Editorial, 40 General</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98 comment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 PHY, 71 Joint, 610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98 Technical, 180 Editorial, 20 General</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2 comments presented but there are no consensus yet</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 PHY, 13 Joint, 236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35 Technical, 12 Editorial, 5 General</a:t>
            </a:r>
            <a:endParaRPr b="0" lang="en-US" sz="15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99 are must be satisfied comments</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11 comments pending for resolu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 PHY, 203 Joint, 1027 MAC</a:t>
            </a:r>
            <a:endParaRPr b="0" lang="en-US" sz="15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43 Technical, 334 Editorial, 34 General</a:t>
            </a:r>
            <a:endParaRPr b="0" lang="en-US" sz="15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811 are must be satisfied comments</a:t>
            </a:r>
            <a:endParaRPr b="0" lang="en-US" sz="15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9421D2-FCC8-43F8-B1AE-154A0FB7B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B271 on Draft 3.0 (3)</a:t>
            </a:r>
            <a:endParaRPr b="0" lang="en-US" sz="3200" spc="-1" strike="noStrike">
              <a:solidFill>
                <a:srgbClr val="000000"/>
              </a:solidFill>
              <a:latin typeface="Times New Roman"/>
            </a:endParaRPr>
          </a:p>
        </p:txBody>
      </p:sp>
      <p:sp>
        <p:nvSpPr>
          <p:cNvPr id="5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st PoC assignment: </a:t>
            </a:r>
            <a:r>
              <a:rPr b="1" lang="en-US" sz="2400" spc="-1" strike="noStrike" u="sng">
                <a:solidFill>
                  <a:srgbClr val="0066ff"/>
                </a:solidFill>
                <a:uFillTx/>
                <a:latin typeface="Times New Roman"/>
                <a:hlinkClick r:id="rId1"/>
              </a:rPr>
              <a:t>emai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st comment resolution spreadsheet:  </a:t>
            </a:r>
            <a:r>
              <a:rPr b="1" lang="en-US" sz="2400" spc="-1" strike="noStrike" u="sng">
                <a:solidFill>
                  <a:srgbClr val="0066ff"/>
                </a:solidFill>
                <a:uFillTx/>
                <a:latin typeface="Times New Roman"/>
                <a:hlinkClick r:id="rId2"/>
              </a:rPr>
              <a:t>11-23/0272r22</a:t>
            </a:r>
            <a:endParaRPr b="0" lang="en-US" sz="24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37DC64-AD5E-48E1-93F0-DFC58304F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of baseline text alignment (1)</a:t>
            </a:r>
            <a:endParaRPr b="0" lang="en-US" sz="3200" spc="-1" strike="noStrike">
              <a:solidFill>
                <a:srgbClr val="000000"/>
              </a:solidFill>
              <a:latin typeface="Times New Roman"/>
            </a:endParaRPr>
          </a:p>
        </p:txBody>
      </p:sp>
      <p:sp>
        <p:nvSpPr>
          <p:cNvPr id="5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s 1, 3, 4, 5, 7, 8, 10, 11, 12, 13, 17, 26</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B, C, E, R, Z, AA</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 thanks to the following individuals who help the review:</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ol Ansley, Alfred Asterjadhi, Sunhee Baek, Akira Kishida, Michail Koundourakis, Liuming Lu, Mike Montemurro, Stephen McCann, Gaurang Naik, Peshal Nayak, Abhishek Patil, Gaurav Patwardhan, Rubayet Shafin, Atsushi Shirakawa, Bo Sun, John Wullert, Rui Yang, Ross Yu</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96A5B4-F278-4A45-8100-005F77533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of baseline text alignment (2)</a:t>
            </a:r>
            <a:endParaRPr b="0" lang="en-US" sz="3200" spc="-1" strike="noStrike">
              <a:solidFill>
                <a:srgbClr val="000000"/>
              </a:solidFill>
              <a:latin typeface="Times New Roman"/>
            </a:endParaRPr>
          </a:p>
        </p:txBody>
      </p:sp>
      <p:sp>
        <p:nvSpPr>
          <p:cNvPr id="5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ose to complet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 9</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ind the schedul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 6</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E39D10-31E7-4EB6-A84D-5980F372C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of baseline text alignment (3)</a:t>
            </a:r>
            <a:endParaRPr b="0" lang="en-US" sz="3200" spc="-1" strike="noStrike">
              <a:solidFill>
                <a:srgbClr val="000000"/>
              </a:solidFill>
              <a:latin typeface="Times New Roman"/>
            </a:endParaRPr>
          </a:p>
        </p:txBody>
      </p:sp>
      <p:sp>
        <p:nvSpPr>
          <p:cNvPr id="5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23</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to expec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baseline texts are aligned with REVme D3.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s notes may be inserted in a few clauses asking if any text change is needed because of a significant text change in the baseli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gure and table numbers of some subclauses in clause 9 are (significantly) chang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3-05-15T10:09:40Z</dcterms:modified>
  <cp:revision>9025</cp:revision>
  <dc:subject>Task Group AY November 2015 Meeting Agenda</dc:subject>
  <dc:title>TGbe Editor's Report on LB27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