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CE6765F6-BCE1-4CE1-B33E-A416776F16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CAADDD-F7D9-4545-9857-2D0EE2BFF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54160" y="701640"/>
            <a:ext cx="4626000" cy="3468600"/>
          </a:xfrm>
          <a:prstGeom prst="rect">
            <a:avLst/>
          </a:prstGeom>
          <a:ln w="0">
            <a:noFill/>
          </a:ln>
        </p:spPr>
      </p:sp>
      <p:sp>
        <p:nvSpPr>
          <p:cNvPr id="5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54160" y="701640"/>
            <a:ext cx="4626000" cy="3468600"/>
          </a:xfrm>
          <a:prstGeom prst="rect">
            <a:avLst/>
          </a:prstGeom>
          <a:ln w="0">
            <a:noFill/>
          </a:ln>
        </p:spPr>
      </p:sp>
      <p:sp>
        <p:nvSpPr>
          <p:cNvPr id="5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211651-60C0-4E33-A689-6FC1E747A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54160" y="701640"/>
            <a:ext cx="4626000" cy="3468600"/>
          </a:xfrm>
          <a:prstGeom prst="rect">
            <a:avLst/>
          </a:prstGeom>
          <a:ln w="0">
            <a:noFill/>
          </a:ln>
        </p:spPr>
      </p:sp>
      <p:sp>
        <p:nvSpPr>
          <p:cNvPr id="6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A49EC2-2169-4F2A-A782-44AB8DEF5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54160" y="701640"/>
            <a:ext cx="4626000" cy="3468600"/>
          </a:xfrm>
          <a:prstGeom prst="rect">
            <a:avLst/>
          </a:prstGeom>
          <a:ln w="0">
            <a:noFill/>
          </a:ln>
        </p:spPr>
      </p:sp>
      <p:sp>
        <p:nvSpPr>
          <p:cNvPr id="6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A2B16A-9C98-4AB5-B942-DBD644322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54160" y="701640"/>
            <a:ext cx="4626000" cy="3468600"/>
          </a:xfrm>
          <a:prstGeom prst="rect">
            <a:avLst/>
          </a:prstGeom>
          <a:ln w="0">
            <a:noFill/>
          </a:ln>
        </p:spPr>
      </p:sp>
      <p:sp>
        <p:nvSpPr>
          <p:cNvPr id="6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32D1A1-CBAF-4ADF-A3A9-C9E702544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4160" y="701640"/>
            <a:ext cx="4626000" cy="3468600"/>
          </a:xfrm>
          <a:prstGeom prst="rect">
            <a:avLst/>
          </a:prstGeom>
          <a:ln w="0">
            <a:noFill/>
          </a:ln>
        </p:spPr>
      </p:sp>
      <p:sp>
        <p:nvSpPr>
          <p:cNvPr id="6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E3049E-6E38-4A0A-B9B0-94F95FFBA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54160" y="701640"/>
            <a:ext cx="4626000" cy="3468600"/>
          </a:xfrm>
          <a:prstGeom prst="rect">
            <a:avLst/>
          </a:prstGeom>
          <a:ln w="0">
            <a:noFill/>
          </a:ln>
        </p:spPr>
      </p:sp>
      <p:sp>
        <p:nvSpPr>
          <p:cNvPr id="6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6E3B24-3B88-44E7-899A-FC39D5308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6DBFE-EFA8-4CF0-8F09-2D633AD9D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56B4-5C87-4365-AE19-B7223313F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192F9-A8FF-4300-B97F-8747C515DA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9879CF-DC5C-4C83-A8A0-B117C7DC9A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78EEE-AF44-4E7E-ABC5-4113C0666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EEF1D-64A5-4842-8D2A-DCDFD385D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3254BD-BD94-4C01-8BB4-BB4EE8EFC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C2469-B5E9-4B10-B64A-2EC56DA5B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71FE44-D34B-47D0-B5E1-C3C36CC83C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8B1578-A593-434E-9FC6-B4564E9F63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D7C5C9-0719-47DB-888B-B36A4B85D1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C3310C-1637-4FE5-9141-BA6BD40DD3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21E87-00AF-447C-A9BD-075F9A98E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166F9D-F205-4282-9C11-6C7A0E38E7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FDE1B7-1EFB-4E94-AEB9-E955566C4B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453BC9-B80C-45D7-8E6B-473E6ED1E3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2523F8-7E9F-4E97-86E6-E030E633D9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854C1F-B580-4E07-83A5-9D5261E056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1BF070-430C-4C49-BCA6-59E1CE1D3A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E9EE4A-74FE-4E91-923A-31448EF454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164ED0-85A3-4A83-9527-4D15DB1A59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FE39F1-57A2-4605-8D2B-B1C1D1DE7F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F10202-4B8B-48A9-84CE-91397D6D7E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831FA-F035-4612-B148-A14971330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D4FA4A-BD9C-48E6-9996-8FB89D52F0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088549-784A-4378-89E6-15536E11A7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6786DF-93D6-4884-BC4F-7302ED60CB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DA6A0C-D7CB-4E1F-AA76-E8E0C99423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F59EBA-FD2E-4522-A2C4-E61ACE7470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FACF0E-4C4A-4664-B56E-8C0A385A28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AF8EA0-45B7-4883-B9F8-8448996BA7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1ACA43-80A2-419E-9AC1-397334916A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B8BFBD-6514-406C-8380-B20341902B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A0AE3B-D2FE-4365-B6FE-A5063C1234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84C0F-3C26-4A7F-849F-67A560289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779D76-81D8-47B8-B583-4A11D704F8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46E653-0834-46E2-9D67-B57865A5A4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5AA87C-5670-4A77-B14D-98248124E6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D1644E-0366-4339-9C38-93BCCE13E7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B735C7-3902-4FBB-97C7-5044809046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DD7613-10A2-4FD9-A18C-0CB292825D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4F5237-8010-4C1B-852A-7DEF1A31D4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339FA1-CBB4-479E-9978-5F34956D31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0E9B84-86D3-4DD4-A3B7-4E45DFF828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86A938-C427-445C-B77A-CEEF4BA876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935DE-5B8B-4E3A-8CCA-B56F8A411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21307C-0730-4ED8-8607-6B006F89FE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EC1693-2EAB-404C-B9DE-6622C4F880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E5E0A2-5ED5-40CF-B2AD-360B0BD126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2B6DBB-B02E-46F2-BD26-CEBA8B0CCB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3563A6-224B-4DBE-BFA0-7883B99DE6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F6ED5-1094-4018-A16F-3D05A7A70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20A55-98A0-4188-B654-975DD3B50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1A43C-93BF-4DDC-B555-93B99C6D3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807C2-1E41-4869-A4A5-B7E153157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BC112-115D-445D-B223-60C85B35F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73360-1A69-4A79-A586-972F644B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E938D-9FFC-4A84-9923-A84986081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0C650-779B-48BB-9833-E0C20EACD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8E72D-D113-4382-9D80-065C2E02B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B1C79-25B8-4D64-A1F0-D907A7DE8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ED352-1116-4053-9E67-CC826AA5C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2FA628-B636-427E-B531-9CDA06B91F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F4A41-ACB2-40B4-8FBD-6060E7C34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1EBEE-9BF1-447A-ABBD-D0978C6FE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4EF48-2719-4557-A553-6305C2D51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1AAF1-E289-4102-8894-C9A55B5A5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311FD-D1FC-490E-9326-415319C7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887DE-93BB-43D9-8103-646FF5DAA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B1B7C-A0FF-4A20-9400-A012131F9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DC187-F272-4D0E-AE13-305B2ECE7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978A5-D6EA-4E77-B3DA-8671418F0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E0F2B-49E0-4A4C-92A2-A8D48EEB3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912F6-6F07-4930-9DDA-A5A878DFB5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057E6E-70B0-45A6-857D-8124869DBE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11ED82-D430-4C42-951A-2A5014B10E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7CFF7-3900-4E81-8565-53ABDF611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B3855-BEC5-41E2-9621-8172DC4E1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F80A2-8FC6-48D1-970D-891EB08FD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C7F84-0E01-469E-92AC-6A8173A21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367F2-228F-4E44-A677-525B6730BB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12E03C-7E8C-4809-B9C7-37C1A0F3E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80861-1CFE-4FBC-8A2A-6A5D5D4EF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0AE00-9DC7-4842-AAE6-FA33CD63F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3CDE3-2242-4730-B123-8BA937B29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3CFD6-EB1F-4E69-832D-92E840CD6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83C2C-4C90-47EA-BE5A-F3EB75DEE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725236-752C-4D78-9F8B-CAD5D6236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FF2F14-7BCF-4482-833D-5B9BC973D0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DC6D5-9DE4-4E4C-B3AD-82985C415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D89B75-9B22-4846-A02C-CBA9575D39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4C251-C8F9-4455-94A9-0EBFF6B9C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C8B58-6752-4927-9898-73556CC472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FF008-ED43-435F-9929-1F4CDAE03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1BF2B3-2114-476C-A541-ECB78AF42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9FD0E-50B9-4715-B245-62B2CFAA4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4E1F0-085A-4BD4-B4B9-AC2818E4A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D7F9B-6DA8-411D-BEBB-84DA4004B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A8A1B0-FD72-42C1-92CA-DE88C9ECD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609925-B4A4-42AD-A082-31FA748D2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F4601-788F-46CC-BB38-0CE076667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17DD2-12F8-4FD3-8AD0-EDC6EB55E7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E08370-81A9-43D1-8688-FE081FC289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A8FDC0-2FDF-4831-9398-72F047F459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1365EA-D52D-408A-8C9A-95756C7D7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6E8EDD-FA5F-4237-A22F-CF8B30717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6F916-EC02-4CCE-98B6-0A40DE80BE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B28194-1281-4767-94AE-B43D4BA62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4D207-6221-4528-A633-590B0D6D2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F7B2A-5D41-4DF7-9353-F488C85DE1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46FCE-AB08-473F-A97E-BADA2A814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26F5-757A-4796-8001-138D051A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955A1-9A94-4490-969F-7046ACD65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4810EB-6C54-4A45-A995-34B3175D95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2321A7-77D9-4BD8-A403-2831BE030A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577822-20C3-4A50-A5CC-55CB4EB1AE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41CE41-D673-405F-9B33-D2A74CC706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9261D-96D1-429C-865A-88E0BF9E55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A0256-2845-4C03-AE63-D4A15E7A4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422193-3712-49A4-AB90-4C49F8334B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84A79-149B-46B3-90BC-E733D125C2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9354B-A9BC-4797-A169-3EBF1230D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9F62-C608-4D8C-AE52-C6E4E9927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43148-596D-41FD-AE23-4FD20555B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14B92D-86D0-4CFC-919C-2925A719C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D8518D-0AC0-4661-8CC5-F89DCC37B1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C6B736-A7ED-45B2-97BE-DF1327FC66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4B103A-813E-459D-8CFC-EE708D946F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729C0E-B947-4725-9DC3-947123564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0F9E16-5629-47F9-8B46-8289EB7496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70619C-14ED-4C2C-97A9-2EAA3B3B7A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934974-C2E9-49D0-A7E9-A93880764B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47060-3549-4589-90FC-249653ADF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977B-EE5E-4BC1-B915-DD0EEDACC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3FAFA8-0A82-4E58-A004-3C7AE52011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3CD8A9-D56A-4342-87B4-58840408AD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554EA5-9FC9-4AD3-A9F6-28B9D5F56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B01E3-6CDC-47B4-B39F-5C7A5DFBE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7DC2C-184D-4491-8463-47A905446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2EBBA1-717C-48F4-A5C3-B7C947B780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6B3364-7DB7-4819-82BF-EF4757CDE0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18C3F1-0446-4027-8B98-F5219AC757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1AB7D9-1D14-4026-BFE9-DD5DD6A3E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A6F160-6373-44EF-9B98-746FA6862A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B6283DA-D34F-4809-B835-D051E76DC6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946F709-A965-4A4C-A5D4-6BA581613D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B244A98-2BE5-4387-87C6-7593B9A531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4FD8EED-C0F5-4289-9F09-A144946FE7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5A4C15-DA27-4B18-AFBA-5DEDCCA26F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3F22E66-3E98-4A26-8314-32705B46B2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04C22FA-7175-4091-9D78-9A16637886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B19EB1C-3547-4D04-A0F6-F9A49F3EA2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B3E2224-D257-4FA8-9AED-8132305BB3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655327F-6F36-487F-872A-B6C76C5E7C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6EB7DE-AD71-40CC-B750-AC71D61DDE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CF1E27-AD7F-4D1E-8A26-DE68F58CD7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ieee802.org/11/email/stds-802-11-tgbe/msg08828.html" TargetMode="External"/><Relationship Id="rId2" Type="http://schemas.openxmlformats.org/officeDocument/2006/relationships/hyperlink" Target="https://mentor.ieee.org/802.11/dcn/23/11-23-0272-22-00be-ieee-802-11be-lb271-comments.xlsx" TargetMode="External"/><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773EDD-EE9F-4FAB-B8BF-071BBFC28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 on LB271</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3-05-15</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13340D-3CB5-41E8-AA1D-1315661DD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B271 on Draft 3.0 (1)</a:t>
            </a:r>
            <a:endParaRPr b="0" lang="en-US" sz="3200" spc="-1" strike="noStrike">
              <a:solidFill>
                <a:srgbClr val="000000"/>
              </a:solidFill>
              <a:latin typeface="Times New Roman"/>
            </a:endParaRPr>
          </a:p>
        </p:txBody>
      </p:sp>
      <p:sp>
        <p:nvSpPr>
          <p:cNvPr id="5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 as of March 11, 2023:</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3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15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29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9 General</a:t>
            </a:r>
            <a:endParaRPr b="0" lang="en-US" sz="18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hoc assignment:</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9 PHY</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59 MAC</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5 JOINT</a:t>
            </a:r>
            <a:endParaRPr b="0" lang="en-US" sz="1800" spc="-1" strike="noStrike">
              <a:solidFill>
                <a:srgbClr val="000000"/>
              </a:solidFill>
              <a:latin typeface="Times New Roman"/>
            </a:endParaRPr>
          </a:p>
          <a:p>
            <a:pPr lvl="1" marL="743040" indent="-285840" algn="just">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837 must be satisfied comments:</a:t>
            </a:r>
            <a:endParaRPr b="0" lang="en-US" sz="2000" spc="-1" strike="noStrike">
              <a:solidFill>
                <a:srgbClr val="000000"/>
              </a:solidFill>
              <a:latin typeface="Times New Roman"/>
            </a:endParaRPr>
          </a:p>
          <a:p>
            <a:pPr lvl="2" marL="11430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381 Technical</a:t>
            </a:r>
            <a:endParaRPr b="0" lang="en-US" sz="1800" spc="-1" strike="noStrike">
              <a:solidFill>
                <a:srgbClr val="000000"/>
              </a:solidFill>
              <a:latin typeface="Times New Roman"/>
            </a:endParaRPr>
          </a:p>
          <a:p>
            <a:pPr lvl="2" marL="11430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444 Editorial</a:t>
            </a:r>
            <a:endParaRPr b="0" lang="en-US" sz="1800" spc="-1" strike="noStrike">
              <a:solidFill>
                <a:srgbClr val="000000"/>
              </a:solidFill>
              <a:latin typeface="Times New Roman"/>
            </a:endParaRPr>
          </a:p>
          <a:p>
            <a:pPr lvl="2" marL="11430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2 Gener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EBF880-35A2-4DD6-9EA5-D150927E8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B271 on Draft 3.0 (2)</a:t>
            </a:r>
            <a:endParaRPr b="0" lang="en-US" sz="3200" spc="-1" strike="noStrike">
              <a:solidFill>
                <a:srgbClr val="000000"/>
              </a:solidFill>
              <a:latin typeface="Times New Roman"/>
            </a:endParaRPr>
          </a:p>
        </p:txBody>
      </p:sp>
      <p:sp>
        <p:nvSpPr>
          <p:cNvPr id="5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progress as of May 14, 2023:</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3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2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46 PHY, 135 Joint, 701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39 Technical, 403 Editorial, 40 General</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98 comment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 PHY, 71 Joint, 610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98 Technical, 180 Editorial, 20 General</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2 comments presented but there are no consensus yet</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 PHY, 13 Joint, 236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35 Technical, 12 Editorial, 5 General</a:t>
            </a:r>
            <a:endParaRPr b="0" lang="en-US" sz="15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99 are must be satisfied comments</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11 comments pending for resolu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 PHY, 203 Joint, 1027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43 Technical, 334 Editorial, 34 General</a:t>
            </a:r>
            <a:endParaRPr b="0" lang="en-US" sz="15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811 are must be satisfied comments</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6DF8EF-0AE6-4A49-BA12-CD7E619D1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B271 on Draft 3.0 (3)</a:t>
            </a:r>
            <a:endParaRPr b="0" lang="en-US" sz="3200" spc="-1" strike="noStrike">
              <a:solidFill>
                <a:srgbClr val="000000"/>
              </a:solidFill>
              <a:latin typeface="Times New Roman"/>
            </a:endParaRPr>
          </a:p>
        </p:txBody>
      </p:sp>
      <p:sp>
        <p:nvSpPr>
          <p:cNvPr id="5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est PoC assignment: </a:t>
            </a:r>
            <a:r>
              <a:rPr b="1" lang="en-US" sz="2400" spc="-1" strike="noStrike" u="sng">
                <a:solidFill>
                  <a:srgbClr val="0066ff"/>
                </a:solidFill>
                <a:uFillTx/>
                <a:latin typeface="Times New Roman"/>
                <a:hlinkClick r:id="rId1"/>
              </a:rPr>
              <a:t>emai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est comment resolution spreadsheet:  </a:t>
            </a:r>
            <a:r>
              <a:rPr b="1" lang="en-US" sz="2400" spc="-1" strike="noStrike" u="sng">
                <a:solidFill>
                  <a:srgbClr val="0066ff"/>
                </a:solidFill>
                <a:uFillTx/>
                <a:latin typeface="Times New Roman"/>
                <a:hlinkClick r:id="rId2"/>
              </a:rPr>
              <a:t>11-23/0272r22</a:t>
            </a:r>
            <a:endParaRPr b="0" lang="en-US" sz="24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3F9226-C28D-4BE6-8B5D-F0C460373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of baseline text alignment (1)</a:t>
            </a:r>
            <a:endParaRPr b="0" lang="en-US" sz="3200" spc="-1" strike="noStrike">
              <a:solidFill>
                <a:srgbClr val="000000"/>
              </a:solidFill>
              <a:latin typeface="Times New Roman"/>
            </a:endParaRPr>
          </a:p>
        </p:txBody>
      </p:sp>
      <p:sp>
        <p:nvSpPr>
          <p:cNvPr id="5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s 1, 3, 4, 5, 7, 8, 10, 11, 12, 13, 17, 26</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 B, C, E, R, Z, AA</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 thanks to the following individuals who help the review:</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ol Ansley, Alfred Asterjadhi, Sunhee Baek, Akira Kishida, Michail Koundourakis, Liuming Lu, Mike Montemurro, Stephen McCann, Gaurang Naik, Peshal Nayak, Abhishek Patil, Gaurav Patwardhan, Rubayet Shafin, Atsushi Shirakawa, Bo Sun, John Wullert, Rui Yang, Ross Yu</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DC2D47-B470-45A5-ACDD-0F102248A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of baseline text alignment (2)</a:t>
            </a:r>
            <a:endParaRPr b="0" lang="en-US" sz="3200" spc="-1" strike="noStrike">
              <a:solidFill>
                <a:srgbClr val="000000"/>
              </a:solidFill>
              <a:latin typeface="Times New Roman"/>
            </a:endParaRPr>
          </a:p>
        </p:txBody>
      </p:sp>
      <p:sp>
        <p:nvSpPr>
          <p:cNvPr id="5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ose to complet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 9</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ind the schedul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 6</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E5C051-1261-4274-9FB3-A2CA31686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of baseline text alignment (3)</a:t>
            </a:r>
            <a:endParaRPr b="0" lang="en-US" sz="3200" spc="-1" strike="noStrike">
              <a:solidFill>
                <a:srgbClr val="000000"/>
              </a:solidFill>
              <a:latin typeface="Times New Roman"/>
            </a:endParaRPr>
          </a:p>
        </p:txBody>
      </p:sp>
      <p:sp>
        <p:nvSpPr>
          <p:cNvPr id="5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to expec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baseline texts are aligned with REVme D3.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s notes may be inserted in a few clauses asking if any text change is needed because of a significant text change in the baselin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gure and table numbers of some subclauses in clause 9 are (significantly) chang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3-05-15T10:09:40Z</dcterms:modified>
  <cp:revision>9025</cp:revision>
  <dc:subject>Task Group AY November 2015 Meeting Agenda</dc:subject>
  <dc:title>TGbe Editor's Report on LB27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