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E1E0FC-8473-4A35-8A94-B67A762A6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F548C7-9530-4A25-B35E-AC7192AF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BE48FC-D840-4262-9F57-14367F8AB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30FBA0-214C-45CD-8ECA-1D4D2E859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E4C-8AF6-4054-A69C-AD148BB2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503-3E69-4FF0-B632-5640310C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871CE-94F2-4E57-BF57-559012B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9A132-7E18-488A-8066-962C1AE9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43EAF-2217-4659-858E-455D7512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5F3D1-DEEB-4E05-9362-9F8E14D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344B8-0181-4C8B-B14A-FAB76407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DBF0B-7A9B-4917-809C-F2A314EA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00EF0-5D67-445C-8459-251E69C3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58D8A-CB97-46FA-B05B-93CBF048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3796-633F-40FA-9941-47AB2AEC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41E0F-96FC-4667-9E47-A07C3295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6C4-2789-44F5-9499-109BA7CC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32F86-B9B2-4A9C-A0A3-AE2B3F4E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BAE34-1D97-49B1-8C59-99B474BA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DC324-F7F1-4F9B-89EB-E3EC2A63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F1F29-A778-411E-9C34-1B6A037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22DB7-EC9A-4780-903D-89E4CAF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8966D-7A9B-42FE-96D2-794B5DF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6EE3F-A41B-42AD-B9D3-238CB88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A6C93-4D6E-4CA1-A795-1FFEB18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21816-1CBE-4CEF-B570-B08ECE4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9A5BD-2604-4526-9DB6-EB237480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DA9-156D-4A43-AF50-E970B94D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23029-8F8A-4654-99E5-D1216012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53B9-D845-4D91-B7AC-F80ECEEB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30806-2A8F-46E4-9D69-EAB2935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77035-1B54-415C-9FFB-34A47C7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8AAAA-4017-42A2-AC2D-A72326D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E68E6-C0C6-44ED-B2AD-61FF686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36E1-939A-426D-B450-0A98689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ABB7A-6C3C-4890-8C1F-33E5DAF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E7B95-B9E0-4462-8D6D-51366E5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6665E-9C38-4754-9548-C058E79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AD5F-5A85-4EB1-84EC-66D3641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A218B-6E11-42BB-ADAB-4C0F187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49B64-9709-4AF3-A7CE-27CCBBFD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8BBB7-C569-44C3-AFAB-99460005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A1B8E-A11F-4883-9539-C5836C6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1025D-7175-48B6-A50C-EC47BB09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FB6D8-DB04-43A1-A8BB-DF65E04E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15AAA-6B61-42CD-B698-621A184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551BA-466A-439E-89BE-7639B569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B3AA0-B706-4E35-8963-D526D3E3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7AB5A-262A-474C-99BF-C0BF966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0A38-0CAE-4966-9FEB-6C3691C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B207F-5B22-4C8F-9D43-CD34456A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59AE9-A989-40C4-81C4-EF587B39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D6542-0BEB-4297-9108-56D343B9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96627-0F45-4B8C-9AE9-C753EBA2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A6B5F-7E27-43BC-B777-573C622F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B0E-1001-446A-BF21-203D15C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FEC-DC06-4E73-80D9-074CD69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7DF-BBFD-4CB8-BA6C-6DD7A14A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DDBC-2986-4986-9510-DDECBA4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B327-E2FA-4607-BB78-54F4D76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CCA-E118-497E-81AB-01EAECA7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843B-A9AA-4A1D-B3F6-435E69B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ED87-34F3-4B1E-B295-FB432EF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F119-5266-430D-A1B2-82A2FB5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A0E1-F615-44AD-A203-BB4FBD2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6A09-B449-4B82-A8CF-FD994F4F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9ABC-C039-4979-BAEB-BC83CCF3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9DB0-9405-4E43-9656-02CD33E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D203-B5FF-4516-8F85-DB58E0A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EE2E-1B2F-4616-8E0B-EF00193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D3C3-CA5D-4341-A0CD-709F232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6DD-E524-4A49-85CB-3F98FFE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001F-0A01-42A9-948F-23348BA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6B82-7AA0-4F5E-B9AB-E574BE8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3B73-7B0F-4097-AEC3-C07E34E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1880-A302-4634-9308-F627BA8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DA4D-6014-408A-BD2B-3A79D820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0543-5120-4A8F-B7CB-0F0A8CA5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1A80-98A3-4958-86E9-E5711B94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657B-15C7-4471-A2A4-1F054321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BE55-97E2-475B-834C-FEE0EE8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18961-19BB-4C02-B4A1-2852315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3C0-8D5E-4685-AA1A-EFB6C8B6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60D5-246C-46FF-8AD7-05B4699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BEEC-E2EF-4569-8C3B-CB4B9A4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7BE9-BFA2-40B0-804A-1C89D9DE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1640-3660-47E0-B79D-DAC4AA4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5D51-4CB0-4EF6-9E04-9DFBFCA1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A23E-D762-416C-B10F-E6EEC0F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0671-B549-4AFD-A87D-91EED838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58F6-A7DE-4646-BC4A-C4D9A3AA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69C1-6305-4A37-918C-A4F3B490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9ED5-2283-44BE-A9CB-9106E0F5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8C6-2F68-4D98-AE28-31807917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6DA1-0BCF-47B5-9397-3E452DA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077D1-E886-4029-83C2-0BBECE8C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5777-1613-4A10-8296-E62984F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3CB3-8BF9-4132-9C9F-27DB2B5F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0035-33C7-4DB7-ADBD-3A1A4E7F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EF60-063E-4708-A058-F89DF7E1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F5C3-BCD3-47F7-BA19-EEC0D1C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BB72-1FCE-4198-8B6C-9DFD132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9D5CA-D96A-4B6A-A9ED-3EAA8A21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C96B-BB42-4D6C-9A4F-E1DDC989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3BA-C4A8-48E3-B425-D9EBA0E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175A-F41A-42D7-B8B3-0CC330C9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B48A-07CD-4C1C-8140-1E7A57C9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635F-1F89-49D4-BE4F-94151676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2D32-A3EF-486E-B26B-9337787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8E59A-BC95-44F7-8F6B-3791F9C5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047A6-F4E9-407D-95D9-6469FBC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B6B28-7039-4E1A-9384-C467E1F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6D8D-3297-41A1-9B93-FF1CE6F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531D-1FB7-4DFC-8243-16E0D58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B5A1-D841-4409-895E-E88C855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EDB-52B4-44DB-B800-F90396D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45B0-FF5D-453E-8791-BA2A8643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FDC44-CEE5-430D-B838-B26EAC14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393F6-E97D-435D-9F86-E8073126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99F78-8692-4CD8-AFC6-5E6DF509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1CB2-063D-4535-97EC-CF94CFE3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F5E60-005C-4523-9E06-D8550D0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4F58-D031-426A-8A29-DCE5A59A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ACB6-0F71-4CB3-88D2-364EACAD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57E2-6292-4009-AA53-CD58B115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2E24-A2B4-4C0F-B985-5424300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E0A-C235-467F-BED7-351D6A3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8E67-164A-4BE3-9586-CBDED6B4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6758-263E-4D39-9801-BC90361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DC8DB-3291-4F9C-9550-48D78CE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A6C7-A1BC-454B-AB23-221D7793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4F9E-C50E-484C-BD26-FF4AA159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8C3A-BB50-438E-8CC7-A075D351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AD48-180E-4250-A756-CD254978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074E6-4904-4352-BCC6-A4CC06EC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11B9-850E-41C1-A32F-FB816C1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1F89-4803-4602-BC45-4A760547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B24-550F-4730-A850-4FA9998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2DA2-6767-41C3-90BF-E421601F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22A7-1FAB-4561-85A8-6A83032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2A45-6BB3-4900-A077-52AAFCA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0E3B-7267-4D44-983E-DFBF726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2A10-7A1C-42D9-B2A0-7AD51683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9733-414D-4845-9F9D-3ABF99E2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9E2BD-EE80-43D3-B34C-5C5E794F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1A200-8503-4FA8-B1D4-F23A8456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5475-79F1-43C8-9578-886182E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B7286-1496-4C98-8586-BAC1299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307AA6-21F3-4BCF-9F23-6095F2119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51BA5F-7F8E-4D3E-BB4B-02006746F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21B7CE-DC9A-43D6-8106-94E108880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8779FE-AE5B-4D04-BFA1-265E31697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F5A4F9-3ECE-4898-B1C2-184663510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B91311-99B1-4540-9E1F-E8F652AF4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C87A48-B197-4906-880A-571931E24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9A83C5-3A26-4459-936B-0810B7D1D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646700-32ED-4CCD-8B7C-42939EA64D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9E9B51-2824-4822-BDDF-925F224E0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271FC6-3E59-4B35-8755-9FB3310420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953B74-9478-4283-9C58-41205C6CC3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F9DCF2-5884-41DC-8E75-04D7AF3A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11-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310117-22E3-4CB3-B027-D1D416FF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line on D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uming the authors of the approved submissions provide EDITOR the updated visio and emf*, as well as feedback about my roll-in on time, D2.3 is expected to be available in the week of November 28,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EDITOR is still awaiting the following updated visio and emf as of Wednesday AM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s 36-22, 36-23, 36-24, 36-25, 36-26, 36-27, 36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s 36-48, 36-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rures 36-75, 36-76, 36-77, 36-78, 36-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6DDD2B-887A-4603-8CD2-11847898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 for the January 2023 inte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the release of D2.3, EDITOR will start to align the baseline text of D2.3 with REVme D2.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vy editorial lifting is expected on the following clauses: 3, 4, 5,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, 8,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9, 10, 11, 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3, 17,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11-17T06:15:48Z</dcterms:modified>
  <cp:revision>9035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