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1F27B2-B28B-44FD-A97D-C59B805078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227CC8-D24F-4529-8B26-188C88BC8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51C52C-B2ED-43B2-B95B-FB6B0A45C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9231DD-8670-4526-8B7E-E500C4D6B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196-1029-4AAD-8C9B-A1FCA52A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7EA-9278-49CA-9A9E-0E924ED7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C9E25-41EE-41A0-9C02-9D457A85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A5B5D-A48C-451E-991D-72AE6858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0F983-0542-471C-B297-AB53417D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4EB63-5A15-4731-A0FC-EC324BD3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96E66-DDC2-4FFB-94E8-FB197F74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635EE-7734-4D9C-ADA1-FE678F8C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55BF1-1229-4722-A048-4A14A367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0B496-2B24-4765-B1B9-56E4CCF1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63730-3AFF-49CA-A697-5608CD24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F6383-5E3F-48B9-885D-DAF1332D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B51-5F7E-4AD5-8A08-95067A17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83AB9-45FB-44C7-A98D-CA9B5892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336F5-2CA9-4EFA-9A19-1458BBC0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C5DB2-B33B-47A7-B3F3-CB931F76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B9D80-0F76-433E-80ED-6AD476DC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9AAAE-94CE-44F8-A9AF-5556D902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D6B4B-7412-431B-B8B7-0380F2C1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827C9-6B01-4273-8DB9-CFAAA274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84A76-9FAB-467B-A2F1-9E756241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551B9-3832-4364-8AAE-AC5A3727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64D4C-DC19-4A5A-AC79-62DB49AD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775-4E75-44F5-A55B-AC6B7333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8C590-A060-46F4-AD16-F72485B3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793BB-84ED-473C-B027-D79DDB8C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52AAD-73AF-4905-957C-B5968B57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273A1-98A0-41B9-8193-72DE7D51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21AFE-65F5-4E84-8ECE-1014032F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AC90B-1AC1-464B-9226-74A26854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CE8C8-03E8-46B5-8D26-0C69C1E9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0DBEF-A13A-46B9-B8DC-AAE78BAB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01F22-4E4D-4EF3-8DD1-4FE296CE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9A302-EB31-4A9F-B63B-55A4BD55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2B39-E60C-431F-9D3A-89AEDF33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8D300-F895-4B95-812A-224FC452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7156E-46DB-4064-9BC6-39007C4D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B1FF2-9CD5-4F2A-813B-55FF091A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640DD-208F-46C5-86C5-E42338E2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FDD97-3B4A-4B30-AB8C-4F9EAFF7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CC32C-70D1-4A42-A0CC-7F4CDC62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20BA8-C493-48B8-904F-89C11B8A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841FF-1567-42AF-9B64-1429E9CC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C0F89-F1C8-4E78-A5E3-7B8D3BE5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46066-56A6-46D3-9260-631450C6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57C4-E50D-481B-A05D-6E0E929C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50C20-F232-4708-8CE6-CCA7BB92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F7D6B-F721-4F18-9E19-943DE746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2E957-0346-4E15-920C-339522EA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628AF-19E7-4767-B229-04C06CC1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ABE90-8CA2-408D-B053-7FCE81D5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DB41-F3C3-4289-9537-8198ABFE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7BC9-E43E-4DFB-A099-2DD5D632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F14F-509A-4A28-B8C6-F7B18F5F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83C3-94DB-4BBA-A238-7B1B77AD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4DB5-E23D-478F-9725-D57462C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2E8-DADB-451E-9794-8F716265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391C-3C14-479E-9636-4EDE3421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6347-70DC-43BB-A725-A0951CF5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10B2-D3DB-4530-A23A-7EEAB3BF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FB6F-708D-4D1F-9B38-39B327DB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73D8-D8B9-4017-BB7A-D5D34824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011C-877B-4D4C-B5DD-31FAD095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33EB3-7E91-4D0B-915E-FE923F47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7CD6-5C45-48A1-BB23-EB0A458C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D631F-72F5-4B14-94F9-6A3E934A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D092-217D-48D2-B986-02E79899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9B7-5CC7-4767-89A1-A2851FE3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5CDA-08C2-4E6A-A272-5D79C081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0302-5B42-4C8F-8338-ABCBED3D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0719-80AD-45E0-B85F-00BFC72F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75CC-37DF-408F-BC7B-D182E740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B2305-2874-4EA6-99F1-C87ACAF9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10CF-5C4E-4911-A3D6-7189C3A8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E639-BDF0-46BB-BC02-609BD6C8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9634C-C09C-4F89-A214-8B81E957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437B2-7C8B-49DE-BD78-443163D0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0D4DE-D79F-4BA4-B070-CAD23197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A4F-72CD-4ECF-AA5A-4A75579E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8B63C-2DC0-4847-BB94-717ECD13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C46C7-3349-4583-AFA7-CD7B26DF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4A709-FA4B-4D70-8C06-F2FF1863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0AF5-95A1-4908-B8A9-002E918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BA01-0DB3-41EA-9E9B-7F4E3F86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F7D2D-74C6-4955-B878-FCCBE5A9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3E638-E41C-443B-8EFC-8FEEAA75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65228-85C0-4297-8E71-A2843414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F18F0-AADA-48AC-80F4-1F40F16E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A7D32-22AA-44A4-BBBC-A2410990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064-E898-4F00-9733-28AA6E4A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98909-7BCB-4C80-990D-2954FE93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2A3F6-5672-4AF1-9B34-EE9C638A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AA4B6-BF52-46C6-8953-522C4920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9E870-B37B-4633-A6FD-184EC056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786D8-8B78-48E6-9019-2B2B552E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7556F-9526-4A4C-A556-CDE0B48F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75F34-AFF6-47FA-A9D3-BB9A489A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A589A-F912-4135-B825-5943A705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92299-5E77-4FC9-B7CF-0BFB7746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6C6A4-2713-43FC-BD47-D798C17A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8AE-0ACD-4961-874B-DE2E27FC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74808-FCCD-4423-98E4-9C7581C2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C4B56-4E1D-4C27-ABCA-E0CE2DCA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92A9D-67C3-4BAA-BEBF-67D55542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DD2AD-24FF-4E87-A234-C676E288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2784C-EDDC-4AE5-8C52-EF62DB87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39051-933D-416B-8AA9-66D5FD7B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1C254-F05C-48C9-8AAD-EFE5B5A1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B7F7D-5BA2-4D99-B9A5-C1BB13A1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5067F-2228-4F9F-912A-1E31A887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DC566-E2DD-4AA6-BF40-CA35C874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36A-2C8C-4A6D-8452-DC883579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60F2B-45DC-4495-ACAC-32A0681D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EE9BC-8FB5-4813-B858-3D0C04CC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43343-B053-4B6F-89E8-8CE87B88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C3BE8-EC66-4257-BC5C-30065341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BEF7B-C6C8-4E2D-B1B9-B20561F2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B51DD-4D0E-484F-A147-68E5EAD8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5EEA3-CD6C-49B1-89C0-5F9B417D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14528-B76C-4AE1-B747-3F26965B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3296B-A712-4C16-BBD9-373A3E98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D6EB5-9265-44F5-8134-116E19F8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790-4CD1-42E8-91C7-ADC33EE0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70194-68E0-4D97-83AA-9BB95E36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0CA39-FF80-4485-9697-EDD072E4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32AC0-1F31-46F5-AFAA-1D9B1F2B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FF355-935D-4051-AE5F-5B734561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E0C0F-3753-433F-BBA6-23A70896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E938C-85D9-444B-99EC-4D4EE462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93677-8304-4342-83DC-B4F69D7D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0D5EF-93EB-486D-AF3A-B3EC336C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728D3-7F10-4DF1-B7D0-FF1F42D8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23A84-E2F9-443B-A072-32C3A5B3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301-B20E-444C-A282-3788EEF3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0EDEF-5D52-4BC9-8F41-3535B039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CCDC6-133A-4E0A-AB73-9EDD82B4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FBF93-3F85-48CE-9291-56AE2E63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AF903-9AC7-459D-8823-BA8BE2B8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DA903-CCEF-40DA-8D90-9C8D94F1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9D773-26AC-4C84-B451-FB704897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78A5D-BB88-49E8-944A-39B1869F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503EC-0EA4-4FDE-A824-9DC97A5B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C2EDA-E796-4501-8401-148F801B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F834F-EDAF-4DA1-AF8F-BCAE5185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417D93A-BB7B-4BFC-ABF5-8F39322EF3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B1FAA1-932B-4479-A4D7-47CE928F18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2AC9E6-1C48-4BFB-BC2E-B7E012E2CA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93596C-3EDD-4185-AA98-2A9E3E4A3F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A9619C-8B3B-4C7C-8973-7DE6F0FC30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74AEE34-73EE-4EA2-8E0A-D0252E4C98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6EE2F91-49F6-46D2-8B54-515A89DCE8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E711A1E-E81D-48BB-B303-45527C7F9F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BA7007A-2E9F-486C-9A1E-5CB8422E7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B5DA50C-5986-4075-BAFB-1277F1FCE6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BA9AEF0-66AC-4C01-9BF9-2BE6489DD5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940280" y="30636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9F4B55-2B7D-4340-911D-D482DF9566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937C62-4015-4F4F-81A5-7087D3D63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11-1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6E34CF-CE73-4C39-BC56-2BEDBACBB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line on D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uming the authors of the approved submissions provide EDITOR the updated visio and emf*, as well as feedback about my roll-in on time, D2.3 is expected to be available in the week of November 28, 202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EDITOR is still awaiting the following updated visio and emf as of Wednesday AM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s 36-22, 36-23, 36-24, 36-25, 36-26, 36-27, 36-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s 36-48, 36-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rures 36-75, 36-76, 36-77, 36-78, 36-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ADF4DA2-0EF3-4FE9-835F-52F9BEC3A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n for the January 2023 inter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 the release of D2.3, EDITOR will start to align the baseline text of D2.3 with REVme D2.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vy editorial lifting is expected on the following clauses: 3, 4, 5,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, 8,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9, 10, 11, 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13, 17,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Submission</cp:keywords>
  <dc:language>en-US</dc:language>
  <cp:lastModifiedBy>Edward Au</cp:lastModifiedBy>
  <cp:lastPrinted>2014-11-04T15:04:57Z</cp:lastPrinted>
  <dcterms:modified xsi:type="dcterms:W3CDTF">2022-11-17T06:15:48Z</dcterms:modified>
  <cp:revision>9035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