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72D7BC-8C9A-492A-BCB5-BEDE399328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4B17B8-804C-4071-A822-30D4A5C55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9C7D90-C798-48B4-9623-A4661D08E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7FA866-FB7B-468F-B65C-8E543307D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B0325A-B503-4DF4-ADED-C5538E783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A9C074-8D67-4F09-8235-D00756670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438A48-00F5-4AC6-AF1C-70825BE88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E0507F-9520-4C40-A36F-5120153CD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8F2-9B33-4B3B-913E-EC1273CA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E3C-31A4-4D7B-A45C-8046C2B8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97F04-F009-4AE7-B552-4060BBA3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84576-F9B3-4AFA-BA5A-49FDF322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ACB60-425C-4C0E-AB2C-5921C730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814E6-C5EE-42C0-9C4F-5D647845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BB8C7-BA02-4703-8FE6-4D589675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A5537-374A-4E5C-8776-0B749AD1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18B0F-8EB7-4713-B9DE-26BE9B30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74085-A8AE-4FBF-B995-8B64B65C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FABAE-E597-40C4-9710-11373A4E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8DE33-4F11-4242-81E8-4F9C4A95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708-DA08-4899-9385-2CD7733C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C2709-7110-4122-AF26-23DE4523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3B3DB-1409-4E97-9F7C-B19229F4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05E22-B0A4-423B-A5EC-11A4DEE6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90A6B-96C6-48C6-AF43-048900C4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07D8F-AC7F-43C9-832E-75BA6763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5ADC5-132F-48EF-9D90-9411AD2E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03763-ACFF-472D-877A-A373AA49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1FC17-0CB7-4ACC-8F83-450438DF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0FB3A-F8B6-4242-9439-E54CD64C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8FC1A-BB19-4F3E-BCB8-742589DD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811-C5FD-4001-84A0-450D8167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1FA29-EC69-4000-9392-44564DCF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9AD29-3484-41D3-B7D9-AC34FA2E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E9F5A-A12D-4DD5-A2CD-CB1FA12D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7D017-8F9D-449F-9DDF-5B907424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7F2CB-4C18-4E0E-806F-23175593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C304B-EB4B-4353-A47B-73FEEFC8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36905-8543-4E05-9244-30627623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4C334-DA0A-41D9-A449-880772FD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144F6-60C7-4264-84D0-702F488C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D0EBA-DB5F-4096-8B1A-66EC6DBE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A4D6-CF11-4E6B-BDE4-8E78807A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E8D9A-4711-44CF-BB81-3FBE1871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92C33-BA44-4A73-9E9A-398C18FF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47521-2320-4F50-A27E-49464377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1E24C-54E0-48BC-95A4-C5DC8A0E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571D7-DEEB-487B-9AD9-DD63AB3F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A89B8-6897-41C6-B2F8-01CF4D32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3C61E-1DDB-4E84-886B-257C04B7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5DB41-364E-40C1-872A-745A220F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AEED5-07B8-44AB-947A-711C564A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6E496-BB5B-4677-9C25-E9436BBC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90EF-F661-4144-9CC0-2D2C1361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C61F7-9759-45DC-AC06-0797F8BE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E7967-69B0-4BE1-B9C3-94CC011D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74802-11A0-450F-A526-47F47048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684AD-ECC9-4DD6-BA01-74AE469D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B7F7F-B208-4206-AF37-BEC4ACD1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D081-C9F0-48AB-98A2-500A7D6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39E3-C65E-4394-96A5-7B8EB154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A1CB-AC62-49D6-8675-DA65ED80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CF6D-73B6-483A-A384-13CCC8EB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A3FA-AF74-442D-ACC8-3D805F1A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AEC-814E-487A-8BCC-4DCB1918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D13D-6574-47AE-AEB4-10B8AEFD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6B02-0335-44E6-A7CA-ADC4FF76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C776-1AA5-434E-88FD-FADE7687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F04C-0545-44D9-8D1D-77D55686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2301-7835-42A0-9922-05D07FA5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427D7-B353-4189-9A65-541CBEC6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3FA76-5A3B-4FEF-974D-F257F2C5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6BB62-4969-48B0-BFEB-19D785A0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9213F-8F01-4932-91B0-2C890EFF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AB23-A6D1-4DCC-8E9E-CEE6BBF7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AD2-64A7-4542-8644-C72D0BFA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EB87-0A52-47A3-B5F9-E31911C0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6B430-A53E-46D1-8B35-93DD90D5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95D6-61EA-441B-92A1-903F2712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F232-E251-4F3E-B1CF-55D63915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3450-D370-4F00-9942-0C8607E8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73DF-0077-4EC8-88A1-D0EA9F18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477F8-22D9-485F-8F5D-72995FFE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18DDA-CF2A-4778-BB01-2D3B641E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17F9-DF85-4EC0-8E31-521027F4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449F2-2413-429E-9D4D-F7DB5366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BFD-8796-4EF0-B6A7-2EE9B257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F028C-6F8C-4767-B268-0E40339E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88F23-B868-40AB-8414-DCFD79BE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F18C7-32B2-4999-8D24-05F6B5BE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869E7-EE85-4041-A904-C5015A84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8E73E-4447-4259-AD59-9C3BCC4D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F155C-E9A6-434F-8D2B-AC8BEC0A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9F796-3CBB-4E24-AFB2-D185B348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1DC83-F459-4D88-A661-C4B29CDB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9E59B-9530-4282-9490-AB843DDD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6995B-EEBC-40E6-AD79-FAF5BD83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321-33EA-4610-9E99-FD254D60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69AC9-E2AF-446C-B95C-3AC50E90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7450E-CC90-46EC-8C23-3C981CE2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10BC7-5F74-4510-9CC1-37615463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5408D-4F3A-4FA4-8C1B-2A8C00FB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61A96-517B-47AF-9D56-3A97F6BE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A971F-FDFD-4D5C-8344-B614638B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0B408-7653-44D9-9420-7C5C349B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88A7B-21BD-4E78-8BE3-2EB2BC09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2A462-E0F5-4ECB-A037-35D12668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5E92C-3AA4-4837-AB44-46BE5DAF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28E-4458-4FF5-9CE9-6F712D38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D1056-BD57-4814-BE70-8161F949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C385A-C515-4FA8-97CC-F50A0C68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F86DB-5535-48EF-9961-2E7F8283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6D7C8-ACE9-45E1-AF61-B62B1122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B0448-ECC5-478D-BB49-BC97B8E3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8A3D6-741B-44A8-92BB-2ACE95C0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5D9FC-A368-48BE-8719-BEFAC9B6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45BB4-B0D5-4507-9520-6FD3DA89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1C5EE-5BF1-48E7-94E6-CE2FD715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7D55C-C4B6-431F-9CD3-D79E5DA4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FEB-3322-4CE8-8FF1-7344A1A3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89F54-3E25-4AD9-BDB7-3D13A8DE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4C0CB-5C70-44A9-A126-DEC4E96E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3C714-515F-4F0B-8519-80EF66F8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63E8C-A79A-46EB-8224-B76F45A2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C17AE-12FB-48A5-B069-1E369B2A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B79D1-803F-4D88-97DC-F5E38353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572BD-72A8-4986-8F0A-A1597C5A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A6055-4112-4C41-9E09-7D246CBE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45765-7D12-4AA6-BCC9-814C2E29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6C034-9B05-4F2D-A078-94E0B50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680-E1FC-4EC2-89B2-C2F34B48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1B6FC-EA39-4EE7-A420-5601106F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EB677-62DA-4F01-80B6-1271D6B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43511-035A-4EB3-9861-0D34C56E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6CF62-3350-44C1-84CB-4DFFA408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03610-4C96-4050-A7C3-A831CDA5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0DC0D-4004-4440-8067-1933C317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59288-12E5-499C-9FFE-C448D022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715E0-A996-4577-91AB-F17CC14E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8B501-C8F1-42ED-8C6D-F4F9D5A3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F7266-5CBA-44E4-8ED5-546AB10A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ED2-6B1F-477E-979C-44C85302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FD75F-4B60-4EB4-848C-4B86134C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4FD02-096F-4B47-B35B-490E3D1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386C9-0E99-47E7-AD0D-5B6CD8A9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4CC68-CB66-40BD-8C3E-7B6E0AA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8CFB8-9E36-402A-8484-2E48FDF9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90504-3526-4F94-880A-8E882A9C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C3981-6ED4-4E19-B150-61E3478F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813F1-F3CC-4BD6-9205-AD18E125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6F727-75E4-42AE-9EAE-4767466D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C2D7A-9E10-4F9E-AF14-F16C76DA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66A9CD-8E5E-4720-966C-24F263E940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0165758-2A18-437C-A815-1944956818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ACEBD6-2F4A-4E7C-8AEE-B6D9487C0E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8DE8871-59CE-406B-9F0F-A0C6A5B1D0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663A0F0-37AC-4A0E-AAA6-74F437DAE8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E281DC-39A6-4991-BC4E-3F12A1E14A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75726E-B3B5-486D-BBC5-7B17D9955A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FC19E9A-C9C0-4321-8073-7D21A45B0E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20806FD-3793-4EAB-8D44-12AE5B7591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14537B-030A-4BBB-9F7A-C16DAB585B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C9F1C6C-36E7-47D1-8F86-113CB4E58A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88BB7E-8DD3-4E76-878C-CF7FCE391B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22/11-22-0971-23-00be-ieee-802-11be-lb266-comments.xlsx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ieee802.org/11/private/Draft_Standards/11be/Draft%20P802.11be_D2.1.1%20-%20Figure%20Sources.zip" TargetMode="External"/><Relationship Id="rId2" Type="http://schemas.openxmlformats.org/officeDocument/2006/relationships/hyperlink" Target="https://www.ieee802.org/11/private/Draft_Standards/11be/Draft%20P802.11be_D2.1.1%20-%20Figure%20Sources.zip" TargetMode="External"/><Relationship Id="rId3" Type="http://schemas.openxmlformats.org/officeDocument/2006/relationships/hyperlink" Target="https://www.ieee802.org/11/private/Draft_Standards/11be/Draft%20P802.11be_D2.1.1%20-%20Figure%20Sources.zip" TargetMode="External"/><Relationship Id="rId4" Type="http://schemas.openxmlformats.org/officeDocument/2006/relationships/hyperlink" Target="https://www.ieee802.org/11/private/Draft_Standards/11me/REVme_D1.3.fm.zip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DC24A04-8D46-440E-8E33-27BBD6EA4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9-1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C46627D-5A33-4F63-91D0-4AC0881FB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6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0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9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83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3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0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244184-6990-47F4-B553-7385757E8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preadsheet: 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2/0971r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end of the 3-day MAC ad-ho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60 out of 4120 CIDs approved and, if accepted/revised, rolled-in to D2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3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1 Technical; 31 Editorial; 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3 Technical; 130 Editorial; 2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4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9 Technical; 41 Editorial; 4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37 CIDs ready for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23 CID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CB91F32-52BF-49AB-9140-1953CB49D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you propose a resolution to a CID that modifies a particular figure in the draft standard, please visit the members area and download the latest visio to edit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visio figures of D2.1.1 can be downloaded 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://www.ieee802.org/11/private/Draft_Standards/11be/Draft%20P802.11be_D2.1.1%20-%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20Figure%20Sources.zi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visio figures of the baseline (P802.11REVme D1.3) can also be downloaded at: 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s://www.ieee802.org/11/private/Draft_Standards/11me/REVme_D1.3.fm.zip</a:t>
            </a:r>
            <a:br>
              <a:rPr sz="1600"/>
            </a:b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 your proposed resolution is approved, I will ask you to provide me with the visio (and preferably the emf file too) for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6587179-464F-4047-BB27-7045A8BBC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96960" y="2666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r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8A53E4-55E0-4EE9-9DAB-6FD35F2DB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F89AD20-CF49-4CE0-A743-3A9A29154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87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Submission</cp:keywords>
  <dc:language>en-US</dc:language>
  <cp:lastModifiedBy>Edward Au</cp:lastModifiedBy>
  <cp:lastPrinted>2014-11-04T15:04:57Z</cp:lastPrinted>
  <dcterms:modified xsi:type="dcterms:W3CDTF">2022-09-14T01:38:06Z</dcterms:modified>
  <cp:revision>9027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