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147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5040"/>
            <a:ext cx="10414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646440" y="8985240"/>
            <a:ext cx="263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E58767B-7CBF-47CD-9059-600C260758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E876C74-8928-4013-8A69-77C9DC5DA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0CE11D7-1ACB-48DA-92D7-ABAE86828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5457270-EB28-4005-92A9-F87631CE5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A02BF1C-CF76-44F3-BDA5-D24525109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E224188-04B7-4552-9C57-A4AFAB386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46FF3BD-69CB-41A4-9348-9F5CA3063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1252E7D-BE2C-4EB7-BAE4-665C6EED3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02AA-6284-4F61-8349-42ACDE06F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FDA3-8F30-4D9D-B913-DDA3C329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175A5-3DAF-4477-90BC-758D827D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8A88A1-1885-4740-BBE6-0EC73D2D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CFB47-1F09-4BAC-80E1-938F1D89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52202-78D3-461A-8307-E16FD8B2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294794-0A4C-44D4-8AB6-DB932BFE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CFA83-4EB1-492E-ADD3-4F1D9695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69BBB2-ABA5-4C68-BA76-E941872F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40C26-5B78-4627-B299-5EC996012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615B6-8E68-4CBE-84C1-048F04889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709A7-94E3-41BB-A4F1-288DD15F9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5E6D-D322-4CF4-9F23-B13874DE4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FE2A9-E586-4CE0-9962-68A50083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7DEEE-27F8-4B9C-9945-3D86342E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DF08F3-72EE-40A1-9441-EA07B39B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6DD778-D66C-4ECC-B929-7E7614B5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69CDC-F395-4874-95AF-A3C57786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03B71B-04F0-4D75-AEE3-61BCD085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4583F2-7279-4069-B016-C9E327F7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1F0FA-365D-4A0C-8B4E-3EFC6AA2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D0B2A9-B270-495E-8134-8BBE1CC2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78F37A-7557-4AFD-8E74-D8FEF65A0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C948-AE6B-430D-A151-999E23893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6D6D5-FDBC-45A5-A3D6-0DCD25E86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DBDB1-4939-4A35-AD70-18738589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9E28C-1515-4DC9-85F3-FE4DB624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B7096-D171-4A29-B618-60C29C8D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CD6F0-491A-40B7-B73F-76ECCA1C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3D18B-5899-447D-A80E-809BB7D3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93DD4-B706-4705-B3F0-A61EB060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FB9C4-789F-427B-9C7B-894EE2B7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EBBDD-71EE-43E8-AC8E-3A6FAAB5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A338E-F6E7-47B8-9889-D5DE8D5A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FE70-F755-4ED3-8C7D-E3AC10E00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90BCA-A972-44D7-8F53-B66CDC66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37188-7D2E-4377-A39A-8249A526A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8D8B4-E301-4C14-A702-3B5F3FCA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F9C228-DB92-4ACB-8B58-FF76C05C4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45C66E-7934-4C35-8718-0859C0AB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1968BF-63B4-4B44-BF32-664E1F10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FD3F76-C6F9-49CF-83BB-999D3459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3AF33C-A095-4C55-9525-DAC1B290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E763E-9992-4E82-B64D-19D5996E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878BAF-F9B1-4794-865A-C54A7AE5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D9D3-651F-4292-B17F-25951DCF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B9B90-04D6-4283-9CBF-32D2FFD0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13082-5C06-4C77-98A1-6808618A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2A786E-6DD4-4190-8344-C8A91DB9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DDC5E9-CF5A-4515-9AA6-D7C42492F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41B005-2C31-45D6-9873-D4FA847B4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D58F-87E4-48B8-B668-F0C040F9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FADA-5CC7-4AA6-8266-C32F7C7F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C0AA-75CA-433C-8DED-FBE2F7E4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5DE7-9B26-4A85-BD64-88EF8C40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C09B-991E-4539-AB57-C48E9225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2613-B1B9-45C1-B145-BECFDB7B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0B58-5C50-40C1-8CFF-D53F01AA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326B-C954-4C20-881B-A7B97D2A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3DF6-C33D-44F4-B00B-DFE0270D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FD99-2D8B-484C-A2AC-6A356A375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4447-4C20-4E64-9B9C-08099C6D6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E8FAC-27F3-4509-917C-9FC103D16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CE0CC-D0D6-48BD-A8C6-BA861A71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610BA-ADF5-47A8-BB79-6F34AC04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05E94-DA65-4320-83F3-E347622D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87BE3-3BA9-43AA-A41E-2E8A388B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516B-4A9B-420C-A712-08E61794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C4389-00A2-48D2-90D0-7E022BAF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17754-C1E7-415B-B08B-1C7E1123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B7CCF-14AF-473A-B4CF-D1EA38E2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36654-659C-4F1D-A58F-39530C33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15FF7-55CC-4205-BC4E-492567D4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18E45-B83C-4E16-BEB5-8ED000EB3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42DE5-3006-415F-8BAA-BC3D0C866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27AE3-B905-4600-BCC3-BCD3E651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053CC-9F7D-4545-9838-CFBF5E4C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8C962-129B-4015-87B9-68D51C35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EF90-13BD-4395-BF4B-FAA41F1B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13AE5-60C1-4742-8112-E3A37FD4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4369C-7667-439D-970C-80819B02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FBE4D-5896-4531-BD63-A728CFD0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69976-8485-4940-BB38-50594649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BC377-64CC-4E08-8DFA-13E96085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2C43F-F106-412E-88E1-F9E48D8B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E2235-711A-4389-8690-BB5EB6D0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0C61C-097F-4F74-A396-8E71BCC4E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3ECBC-DBDB-4FC0-A19A-5D14988E9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4008A-EA5F-477D-8BEF-74CAB770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5DA1-9E4D-42F9-9105-37137CC5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0C310-4164-4A7D-9BC6-5C553CCE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CA216-8A59-4477-A38F-624D38BC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1B4C3-C363-44CC-8027-82DD55B1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98961-AE22-4304-9424-721A1068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517E6-8D19-4D09-81A6-DE2D8643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B71E5-54DE-4A7F-9961-A1F760E9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0F0F0-403F-4430-AAE2-18B0BC4C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C9CBC-DC5A-41A2-B73E-D78BF141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0CB56-8B0B-4993-9ADF-B4232FDB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87AFB-C931-4502-AAE0-FCD93AA36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CF4F-8BD6-476F-B054-52DDF616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5FBE1-AA2C-4605-B6E6-79EAC4C3A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EE9DC-5659-4D27-9884-C3F0047B7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3C97C-EED6-43E6-A9F4-A3D6AB57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96BEF-70BA-418A-B869-CE75278D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FDBC8-0909-416B-877D-A8D0CACF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91A39-0E2C-4F0E-8157-C9D1BABA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D9BF3-CA90-4370-84D5-FB1088D7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17A50-0E0C-4C34-BE9F-56B3FDCA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9E46F-3A1B-4E51-8452-6DE503F8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3FA3C-A1DE-4B63-BE6C-EB1CEEEF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CD7D-3D4D-42B3-AA2B-55F7A7EA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DB805-00E2-44A6-9106-D19E3129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7382B-C105-4DD5-854E-6449E8BA3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E822F-692E-4009-AA97-32C5927CB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37EDD-B4DA-48DA-8A96-84E650A67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420B9-527A-4F6E-BDBA-E792AF1F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F0779-180C-48B6-99DB-49D83FEF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A99ED-2D39-48C3-B5C6-11AD5298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38695-5BA1-4AAB-88D7-F11A759F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8E828-48B5-474A-9468-31EF1722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5754F-4B63-4C0D-BCB7-AC8E6F8F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441E-A60E-4A22-A7E3-C45042A3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6AD2D-6C18-4F47-A1C6-9A2599DE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B7E8C-0715-4F78-B7D6-C26FD1B8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A29B1-45CC-4C82-8577-969BA422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0CAC1-867A-4F83-8E0D-002485A96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5AF39-9CF9-4D67-BECF-C34DD8BC1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74877-EDFE-4A16-9DBB-7FE78A9F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DA1AF-6ECE-41F0-9D38-5E404B61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3982C-399D-47C5-B58D-98C53FA3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A765F-679D-4FFB-A1B9-AC6E9E64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914EB-32F1-4EDE-88E8-86BC8C30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6D69-64DB-4C6A-93A1-C62D9A77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2C23A-8574-46C6-B6A9-2EEA69DE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73A00-1392-4358-8AE7-EB15590F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85202-9EFB-4AAA-A57B-6E896855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5748D-8553-4049-88C7-19AB9F83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C2C93-F229-4675-9956-BE65D9BF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7C606-B92C-424A-ACAA-476CC06C4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359F4-10BA-4D59-948C-821D9A037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52AB7-2947-4143-802B-653A3240A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3F9AD-EA14-4541-B0B8-13FD9BEB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2401B-2972-4666-BF78-25DF0024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F759622-9793-4C60-8330-579C02D75B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B7DB89A-C6CB-4346-9FCF-3939D517D8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5D44C62-5DC9-463B-A982-889E13880B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A7CA627-9EB2-4B3D-AB63-0AA2B68CBD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45C6D6E-DAB9-4903-A24D-73CA7DD4E4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61ED3DC-DE68-427D-A763-E1257AA64C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D1A9E7E-DB29-4D17-BECD-FC747F25A1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4C5947F-02A8-46FE-A980-B6A7B50DBD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2921057-3AAF-4E41-8F7F-53ED75EBD7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E78498D-4350-4B87-85F0-D21D658AA0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7C522DE-7A96-4927-B030-DC2C38FAFB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82768BC-0CDF-4042-898F-3F89AAEB4C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22/11-22-0971-23-00be-ieee-802-11be-lb266-comments.xlsx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ieee802.org/11/private/Draft_Standards/11be/Draft%20P802.11be_D2.1.1%20-%20Figure%20Sources.zip" TargetMode="External"/><Relationship Id="rId2" Type="http://schemas.openxmlformats.org/officeDocument/2006/relationships/hyperlink" Target="https://www.ieee802.org/11/private/Draft_Standards/11be/Draft%20P802.11be_D2.1.1%20-%20Figure%20Sources.zip" TargetMode="External"/><Relationship Id="rId3" Type="http://schemas.openxmlformats.org/officeDocument/2006/relationships/hyperlink" Target="https://www.ieee802.org/11/private/Draft_Standards/11be/Draft%20P802.11be_D2.1.1%20-%20Figure%20Sources.zip" TargetMode="External"/><Relationship Id="rId4" Type="http://schemas.openxmlformats.org/officeDocument/2006/relationships/hyperlink" Target="https://www.ieee802.org/11/private/Draft_Standards/11me/REVme_D1.3.fm.zip" TargetMode="Externa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7016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782E4EA-1B03-45BA-AB70-3ED57F8F6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be Editor’s Repor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22-09-1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669960" y="2668680"/>
          <a:ext cx="780408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668680"/>
                    <a:ext cx="7804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6858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2C4DE30-24DE-45C9-9E08-A947DCD10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Date Placeholder 3"/>
          <p:cNvSpPr/>
          <p:nvPr/>
        </p:nvSpPr>
        <p:spPr>
          <a:xfrm>
            <a:off x="7016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120 comments are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23 Tech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06 Edi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1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addressed or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64 comments must be addre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d ad-hoc categoriz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56 P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40 Technical; 111 Editorial; 5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991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83 Technical; 452 Editorial; 56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73 J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0 Technical; 143 Editorial; 30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DD6ACA5-7CFA-45D9-B899-6D5BA11AB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7016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C assign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spreadsheet:  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22/0971r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 the end of the 3-day MAC ad-ho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60 out of 4120 CIDs approved and, if accepted/revised, rolled-in to D2.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3 P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1 Technical; 31 Editorial; 1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23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73 Technical; 130 Editorial; 20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4 J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9 Technical; 41 Editorial; 4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37 CIDs ready for mo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23 CIDs pending for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1B9CFE8-76F0-472E-939B-DC8FE2D12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mi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7016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you propose a resolution to a CID that modifies a particular figure in the draft standard, please visit the members area and download the latest visio to edit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 visio figures of D2.1.1 can be downloaded 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</a:t>
            </a: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://www.ieee802.org/11/private/Draft_Standards/11be/Draft%20P802.11be_D2.1.1%20-%</a:t>
            </a: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20Figure%20Sources.zi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 visio figures of the baseline (P802.11REVme D1.3) can also be downloaded at: </a:t>
            </a: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https://www.ieee802.org/11/private/Draft_Standards/11me/REVme_D1.3.fm.zip</a:t>
            </a:r>
            <a:br>
              <a:rPr sz="1600"/>
            </a:br>
            <a:r>
              <a:rPr b="1" lang="en-US" sz="1600" spc="-1" strike="noStrike" u="sng">
                <a:solidFill>
                  <a:srgbClr val="0066ff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fter your proposed resolution is approved, I will ask you to provide me with the visio (and preferably the emf file too) for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C8ABE58-DD82-4901-8EA2-B2480D8AC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696960" y="2666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plementary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Date Placeholder 3"/>
          <p:cNvSpPr/>
          <p:nvPr/>
        </p:nvSpPr>
        <p:spPr>
          <a:xfrm>
            <a:off x="7016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BAB8D12-66A9-405C-9A0F-D60F77929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:  Sort by subcl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Date Placeholder 3"/>
          <p:cNvSpPr/>
          <p:nvPr/>
        </p:nvSpPr>
        <p:spPr>
          <a:xfrm>
            <a:off x="7016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696960" y="1600200"/>
          <a:ext cx="7761240" cy="482112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906A08F-918A-4439-A9A8-63D78722A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:  Sort by subcl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Date Placeholder 3"/>
          <p:cNvSpPr/>
          <p:nvPr/>
        </p:nvSpPr>
        <p:spPr>
          <a:xfrm>
            <a:off x="7016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696960" y="1600200"/>
          <a:ext cx="7761240" cy="444960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cellane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587" name="TextBox 2"/>
          <p:cNvSpPr/>
          <p:nvPr/>
        </p:nvSpPr>
        <p:spPr>
          <a:xfrm>
            <a:off x="623160" y="6199200"/>
            <a:ext cx="558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Miscellaneous includes, e.g., wrong (sub)clause number, abstract, contents, and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dward Au</dc:creator>
  <dc:description/>
  <cp:keywords>Submission</cp:keywords>
  <dc:language>en-US</dc:language>
  <cp:lastModifiedBy>Edward Au</cp:lastModifiedBy>
  <cp:lastPrinted>2014-11-04T15:04:57Z</cp:lastPrinted>
  <dcterms:modified xsi:type="dcterms:W3CDTF">2022-09-14T01:38:06Z</dcterms:modified>
  <cp:revision>9027</cp:revision>
  <dc:subject>Task Group AY November 2015 Meeting Agenda</dc:subject>
  <dc:title>TGbe Editor's Report on LB26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change">
    <vt:lpwstr/>
  </property>
  <property fmtid="{D5CDD505-2E9C-101B-9397-08002B2CF9AE}" pid="3" name="_full-control">
    <vt:lpwstr/>
  </property>
  <property fmtid="{D5CDD505-2E9C-101B-9397-08002B2CF9AE}" pid="4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5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6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7" name="_ms_pID_72534310_00">
    <vt:lpwstr>_ms_pID_72534310</vt:lpwstr>
  </property>
  <property fmtid="{D5CDD505-2E9C-101B-9397-08002B2CF9AE}" pid="8" name="_ms_pID_72534311">
    <vt:lpwstr>w8PjNg==</vt:lpwstr>
  </property>
  <property fmtid="{D5CDD505-2E9C-101B-9397-08002B2CF9AE}" pid="9" name="_ms_pID_72534311_00">
    <vt:lpwstr>_ms_pID_72534311</vt:lpwstr>
  </property>
  <property fmtid="{D5CDD505-2E9C-101B-9397-08002B2CF9AE}" pid="10" name="_ms_pID_7253431_00">
    <vt:lpwstr>_ms_pID_7253431</vt:lpwstr>
  </property>
  <property fmtid="{D5CDD505-2E9C-101B-9397-08002B2CF9AE}" pid="11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2" name="_ms_pID_7253432_00">
    <vt:lpwstr>_ms_pID_7253432</vt:lpwstr>
  </property>
  <property fmtid="{D5CDD505-2E9C-101B-9397-08002B2CF9AE}" pid="13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4" name="_ms_pID_7253433_00">
    <vt:lpwstr>_ms_pID_7253433</vt:lpwstr>
  </property>
  <property fmtid="{D5CDD505-2E9C-101B-9397-08002B2CF9AE}" pid="15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6" name="_ms_pID_7253434_00">
    <vt:lpwstr>_ms_pID_7253434</vt:lpwstr>
  </property>
  <property fmtid="{D5CDD505-2E9C-101B-9397-08002B2CF9AE}" pid="17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8" name="_ms_pID_7253435_00">
    <vt:lpwstr>_ms_pID_7253435</vt:lpwstr>
  </property>
  <property fmtid="{D5CDD505-2E9C-101B-9397-08002B2CF9AE}" pid="19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20" name="_ms_pID_7253436_00">
    <vt:lpwstr>_ms_pID_7253436</vt:lpwstr>
  </property>
  <property fmtid="{D5CDD505-2E9C-101B-9397-08002B2CF9AE}" pid="21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2" name="_ms_pID_7253437_00">
    <vt:lpwstr>_ms_pID_7253437</vt:lpwstr>
  </property>
  <property fmtid="{D5CDD505-2E9C-101B-9397-08002B2CF9AE}" pid="23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4" name="_ms_pID_7253438_00">
    <vt:lpwstr>_ms_pID_7253438</vt:lpwstr>
  </property>
  <property fmtid="{D5CDD505-2E9C-101B-9397-08002B2CF9AE}" pid="25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6" name="_ms_pID_7253439_00">
    <vt:lpwstr>_ms_pID_7253439</vt:lpwstr>
  </property>
  <property fmtid="{D5CDD505-2E9C-101B-9397-08002B2CF9AE}" pid="27" name="_ms_pID_725343_00">
    <vt:lpwstr>_ms_pID_725343</vt:lpwstr>
  </property>
  <property fmtid="{D5CDD505-2E9C-101B-9397-08002B2CF9AE}" pid="28" name="_readonly">
    <vt:lpwstr/>
  </property>
  <property fmtid="{D5CDD505-2E9C-101B-9397-08002B2CF9AE}" pid="29" name="sflag">
    <vt:lpwstr>1555359667</vt:lpwstr>
  </property>
</Properties>
</file>