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4D4AFB-86A1-44DA-9740-F34FCF185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3C611C-D977-4F08-A35C-C2B3872F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646680-A5F8-471E-B640-DB868795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341C0A-267F-4694-BBF3-8DE31560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94B6AD-D6B7-4978-B89B-A8202015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7AEA31-642B-4A54-B069-A097C241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9AFA93-87AA-49D4-B2FC-33563C26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9B7DD4-F51F-490C-965A-934F844C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3C8028-CC46-4C37-AFB2-AE73177B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F7D366-1E99-4EEF-BDA4-65298E8C0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3BB-182F-4A9B-AACA-04D4F42F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DBD-272E-451C-A340-3EA3CFE2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9F35-BCC5-4B9C-8307-E042C304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BED28-087F-45A4-9A0D-EE7C326E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34129-6EE7-4D46-9305-29A0796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7BD79-E19E-40DE-B7C1-712E4FB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FFC4-7F8B-4BB7-B6B2-810CB9C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5357-B53A-4B1C-8953-D53359F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AB1ED-9F76-4FF4-AD5E-06A81603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1234A-B46A-4D84-9D37-9C458E1A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7630B-787B-4E12-988B-7FA47ACE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91C9C-4F09-4FA9-996A-88D10C7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4C4-4F85-4200-95AC-EE2DD3EC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5D487-B381-4DD4-85CA-FD2A5DA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02D7-3851-47DF-B346-6EEF03F5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EA69-9D60-4A3E-9C41-B963552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FAC5-2451-46C6-AA1A-EC904C7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3F61C-141D-41D7-A2E9-ABF2C917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87D8-0C6F-47C8-9999-94C57B5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DD8C-72D3-4E2D-8843-C726232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F9D9-E131-403A-9705-5D67E4B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F3ED2-8C42-4B0C-92BA-9DD88B0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D0C9A-A6EA-4B09-92FF-5DED040E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90B-B7D0-4A4F-89EB-3BED5619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CFFE6-A351-4BE0-AC65-D37C9EB1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1325E-3678-4CDA-8CF8-3FB14004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C8F3A-B72D-476C-BDF0-6384EBDD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C04BA-3756-4D3C-BC7E-E7249C9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4A60F-F513-4545-9F14-C2D0D561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CCCE-B19E-4538-A9DD-B8613F2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0D470-167D-4F8D-A24C-1974DB11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5A3A-38D8-4316-8CF7-3BEB975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EE8C-0001-48A8-8A62-BC1F527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42EA8-FD69-4D72-BDF3-A6EE8C8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CBC2-1AD1-481F-8FAC-68529806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27482-D026-462A-82B5-9AF8EEF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DE3D-013F-420B-B900-BAA3DAC1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779B-0020-4488-BEB7-18408887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709D-C9BB-4BDF-8E7E-0A98C4A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AF27C-1DC2-49D5-BEDD-A749EAD5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94A70-1261-47FC-BC6A-070F672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78504-461C-4DB0-9811-12D3259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A45A6-B026-4228-804E-6469A66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2DCCB-1066-4A16-B1D9-01549BD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2F634-3794-44F5-8C40-A562C1E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653-1E36-4A41-AAE3-72A3B82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26F6E-57B9-4703-84D6-C5CFCD2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63882-1448-4AEB-A04A-B236045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039AE-391C-41E2-ADF7-CD76838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D9BBC-86A9-4F02-81C9-4DB4153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82C12-DB9A-49CD-94ED-ADF91DA8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84CB-4077-4201-A3F6-684D7EC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62E-3A97-49FE-B32B-07199462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B2B-7991-4C0D-9338-76C2EAF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E24F-2955-40D5-BB95-9CC95F3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F06-C99E-4DBB-962F-C307134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1C1-EB42-4BFF-AB32-62ED5E14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A8D4-CB95-4813-BBD3-15B9D79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68B-CF6E-4FB6-9E3B-5E84403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586-0DAC-46CD-AD8F-32D776C0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EE44-E5F0-4BB7-A38F-464CB63B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FAA-49D0-41C0-8DBE-93BFC1B7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F507-4423-4497-A73C-B9F6892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AFD0-17EC-47A4-A0B6-93D5177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9C9A-0E8D-4EEE-A95A-C604E35E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1AD9-0D21-43A3-8696-2B65C0B0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57BB-1060-40D4-BB65-142D98B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695-9FCB-4B74-8B9A-C295413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5272-FECD-4E14-B7AA-70D6B09B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4CCB-40AA-4531-9E87-48F6DD4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E4F2-B6DD-489A-A8E4-3504818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4DD7-4228-444D-9AFB-1E97DE2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27AB-8D8F-44B4-913B-5D32A63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5D67-D729-4A74-B808-90DFF0EC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7A3F-B3D9-4C5D-B7B6-5752FCD3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4561-3626-4920-A51B-C7675747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5D4C-F802-4E17-BE71-C9E815A9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FFCB-D8BD-41F9-9015-FC7FE67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6EE-D663-42C4-BE9C-EC9003D4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06AB-020A-4A25-9D33-80F74FB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BF02-7A0B-4D4A-9280-6B9080F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419C-BC3E-41B3-B36F-760A995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CDCF-FFB5-4337-A6D8-2C466DE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17AC-8F10-4F7A-980E-92902DE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209E-4FD3-4102-8B8D-B712FCD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D732-39F2-4BBC-B22B-25303F3A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BF96B-C798-4771-9D45-DDCA5CF7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00CE-BB3B-43C9-B6D3-B2D50CA0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0CB0-1859-45BC-9C3F-F66690EB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4D1-6AB4-46B9-8B55-AF91A42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F1E3-A87C-4C35-BDC1-1BED1D85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2C5C-34B8-4151-95FF-D290CE1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7DE0-8A46-46C4-BD10-4B41D1C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AB5C-5915-4DA2-BC58-AB50392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BE4FB-B97A-4784-B840-F035ACA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A3F0-5050-4F8D-9BC0-B3CF814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F22F2-80BE-4CBE-98B9-BB5B3C7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56E3-D64F-49CB-803D-D163BE4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0D47-4FB6-4A8F-B8C2-30B1F7A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13C8-BACE-4155-8A72-68C9D012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38D-D27C-4771-B97F-F81AFF6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622A-A99E-4FBB-AE66-7B94E69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ECAF0-D764-4E72-B2EF-531D34D7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BE05-DB97-4EFA-9522-87452BDD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A605-B3FB-4A41-9798-2B1B767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5AFB-66DC-49B7-803F-347D770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B597-4726-4670-A3FD-1D70620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47CD-7355-4A6E-B0F1-3BD90F5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7F2B-FA8A-4D42-AF06-B9BE647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F149-424F-4E60-8748-499AEFA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0E3E6-188C-41DF-B08F-0CF6058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C9B-E6BD-4388-9CEF-7051E45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1451-02A3-46A2-95F7-00C1F74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3910-2595-4435-8638-500DF8E4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B92A-B96E-4499-AA77-4EFA980D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FB2D-9709-4E6E-AB22-6095CB5A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7523-2EDA-465A-AB82-4260DCB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4E52-B5BB-4120-A931-F5CB2096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3451-59DD-4C59-9269-AB24A8A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D565-EAC5-43C6-BDAB-3C757D5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97C2-5E09-47A6-8A40-964D6AC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429CE-EB86-4F84-B76A-8D96426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CDD-C178-4C45-B291-F2D0DDEF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46EF-B26E-429C-AE54-B13C7B71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ED01-F460-47E9-9368-E13EF7E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7C1B-8BFB-41D9-9217-4D800C6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0987-FE08-400A-978C-C2A1DF5A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D746-56E3-455F-8F80-CC67A04D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D4917-D266-485D-BCCB-C32B6D43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508F-45A4-4F25-BA70-4778C43B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C0E0-64FD-433F-8692-B413F9A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68FE0-146E-4807-84CA-AB3A0F0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AF45D-4F78-44A4-AADB-3C21BEA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7DB-EEA3-47D7-BF65-46C3452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2F10-D331-459B-A650-B330FCD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64F4-D336-4C87-A24B-CF9178AF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E9E2-AD1D-435A-9505-03E59E4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EE78-BCDF-477A-B23A-0CC4C10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99069-1877-43D3-9C5A-F12633B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AE45-6D88-40AB-B0FF-C98DCB81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BCA4F-8B2C-4E7E-86B6-CF16E76F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8827F-9F27-48DE-8290-F3CA2CBF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A9019-1D61-4CA4-8029-F41FED0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7D4E-2326-457E-9F49-5BCF429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D07BE4-C2AD-4D0C-B8CD-FF5520CDC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46C8F4-8A0A-4830-8E0D-DA7738721E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97F794-4757-461F-A564-35C09015B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1EB241-E370-4CC4-A1EB-E39D2F7B5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9C4FF5-1D85-43B4-844C-75A862F94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5307E6-5DE7-4446-AC19-FF5841B18A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E3C0B1-EDED-4B49-90A2-5E57D6B5F7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B62444-4D36-47E2-8C96-A5A3BE41C5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B1402E-E091-4B36-ADB8-5581F7230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C6566D-E532-46FF-9855-F9302585A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62F358-47A1-468A-ADE0-C6DE0826E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C642F7-BAFE-4803-8AFB-FC240FEEF1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6E685D-24DE-48BE-A613-5273ABE66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7DD1EB-02AA-4DED-9E5B-A065647A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09D1CA-8B36-4B09-BD7C-4E9C194D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95CC99-7190-4E20-96A9-7FDF8F3D2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3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3, CID 13476 is marked as ready for motion;  CID 1411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71FE25-4A6C-4C1B-81A9-7105CBEDE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3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1CEC3A-DB0C-4A11-A632-B5BAF972E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atum:  CID 112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Rectangle 3" descr=""/>
          <p:cNvPicPr/>
          <p:nvPr/>
        </p:nvPicPr>
        <p:blipFill>
          <a:blip r:embed="rId1"/>
          <a:stretch/>
        </p:blipFill>
        <p:spPr>
          <a:xfrm>
            <a:off x="603360" y="1627200"/>
            <a:ext cx="795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5E335E-F3A9-42C5-93AB-7B9B3DA6B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36C700-962F-4849-9779-8228DF6C5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C20ACA-1668-45B4-8A08-544C4789B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7-27T18:26:49Z</dcterms:modified>
  <cp:revision>9022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