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B13E44-8CBA-44D1-BC0D-7E6721820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05F446-1726-4FEB-8C58-58275900F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2D7A38-81FD-4C85-9A4C-8E568D2E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907592-B5E3-4C5C-A018-2936C4EC9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13CBB2-3A61-4542-87C6-5D220648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482D4D-5D01-4BD0-B7B6-228424B74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99E0FB-1687-4908-8569-1A6BEBF31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2F3D1B-8EA9-4579-9F6B-71CCBD573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91AC45-F61C-4A14-B35A-122B3A27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B7DCC8-173D-4A35-835A-8F6101D21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954-3DA3-4CF3-984D-4D6C933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496-C790-4892-A254-A894DA5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3E408-85C1-4644-8AE1-D36B49ED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73FB3-5C18-4CB7-94F3-20576AA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44206-4743-42A7-B2DA-C21BD77A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B98FB-A37D-4464-8814-00B1897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D8EAE-0B40-4D8B-A92E-9247963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A5B5A-23D9-42C1-8BE6-503D4FC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50850-A58C-46EC-9827-8965AA89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A7F4D-D9B6-4F96-8968-84441216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EB6FF-4814-4039-A48F-E8814021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090B3-8EE9-4DB4-B5B6-3F70790D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50A-89FE-4745-8DF9-BC99DD6B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2DC57-72A0-4EA9-8DA9-4B02D089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EEDE2-D63E-4BBB-87EE-1D109919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2597A-A421-48F2-B321-5A52B5A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21446-47F6-4522-859F-2F248CAC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F2B4-8482-472C-8200-ADB53420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72A83-2144-4F9B-94E8-F73DD2F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20E88-8F42-447E-A8D1-9ECD37C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A6191-939A-4338-8EB9-FAAA3E7A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56BD7-B3F2-46DA-8CFB-03DC755F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CC1D1-6814-4B72-A847-CDAF7F41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D18-2511-4FFC-A21A-67AF1AC8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8750D-3BD6-402C-98C1-814D58F9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4D4D0-DA8C-4A29-93CE-7DEE3DF0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33B17-E67D-4339-A1EF-92619538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DAB72-5F84-4BEC-B8FB-75329A7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2AD26-87FC-4DE7-A23D-4A296AC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F6A87-478B-465C-8C5F-4A37BA9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9ABE9-C391-461F-AD41-E4B8B60E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D3358-A876-432A-94DA-FE9FA5B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5F999-54F4-46B0-83A8-38352492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E735B-B98D-4AE3-B92B-1AA8401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CA5-54DD-45D9-BB56-AAB2F5C2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F9DFC-F306-4BB8-BEB1-38C833D0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1A329-1C1E-48AA-9626-2461ED46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EEB86-8AE1-4805-9F14-1356107B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53364-BD41-45B7-9556-146E9AB0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D1FA5-84B2-413F-9A8A-F5150BF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74FA9-6116-40D0-A6F9-79B14CD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41C73-C678-43A4-803D-7CC68AE6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C20F4-79F5-4593-8D6C-04D0950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5BCCE-FC6E-41D8-BEAD-2638BDE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AD601-10A4-4206-8548-EC57A42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917-D2B3-4C66-B74F-AEC6EA4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176AB-2652-4D39-89DC-209A49A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70798-44DC-48C2-A4C5-48133C8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5E25D-3D4B-4BB6-9631-40A6C800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75312-F0BB-4D4E-8F9A-9102D2BE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DABB6-11DF-4B10-A63C-397352AF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0FA9-DC90-4758-BF11-4C8BF012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6308-FD1D-4109-B138-CE625A1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F50D-F414-436C-9CA9-01AE2CC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013-E9B7-4B3C-AA6A-33F837E2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E099-0B6D-4B4D-B918-BD100C5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B61-CCBF-4088-80EE-A27BFF3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2FEC-28CB-4E5F-AFA2-AD809BF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B4B5-FD4D-44DC-BD84-A4BC4AA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57F1-9909-4868-BDCC-191A7759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7714-B274-4264-B368-FBD32616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79D1-5C5D-4DDF-A223-9959C809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97A4-1AE9-4470-9367-3796C3D3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AA15-B940-46A3-9278-501E0AA6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BC3A-E211-4CC6-ADDA-906CD2A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08EF-027D-44D8-911B-A0DC056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0313-B0BB-4218-AA90-9B92292C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EDC-898B-4FA8-A697-DDE775B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D8FE-BA4D-4BE6-88A4-16D2EDC8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AA69-7FA4-4D8A-A76B-89F9BC1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6AC5-52A8-4A56-9E98-83DC5C20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16B9-F627-49C0-80B7-6AF1195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6049-3F31-4A0D-8935-C33BA2A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9CBB-1DED-486E-85C1-5C72EA7D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BCF0-076B-4ECE-809F-CE8A7D5F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2E58-31EA-42C3-B81A-D4448DB0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8D3E-B2DE-4E1E-9F4F-200819E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5A4A-76D8-434D-9E66-151AF1F7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4B3-994F-4667-8147-82C5B6D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3522-BAA3-4325-A3F4-5292465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E314-7744-4EF0-B04C-642E13F2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4359-7AB8-4E27-893A-E813E6CB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FF96-9DBE-4375-9BC2-6F963EA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CDA2-8288-479B-8E2B-3070E56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B9C5-E322-452E-B528-D3C6EBC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E251-1B04-4426-A246-7252A7AE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2DF7-7261-43D7-96FB-8BE4DD82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C7D6-2CB2-4860-8BB2-D7CCB259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962E-B0CB-4706-B452-3556C9D4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2AE-8DFE-41DB-AC80-F3378D1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615F-298D-48E1-97D2-168B0505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9C80-D7ED-4288-8932-A0C7547B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7F28-7279-49EB-AF14-A304016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0A86-4BA0-408C-AC96-CF9E40B7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7D33-8137-47ED-A31A-6DBC36E4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69079-F8F1-4F39-9FF7-24A5D5DA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8C23-73EF-4087-BA29-035C69A1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59D0-284F-4008-89B4-59370F82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C796-AD5F-4D57-8852-4C23529C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ECA7-CE4E-41C6-9695-FB1EAACD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C73-7278-4237-8216-742FA2FB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87A8-B4A8-4C88-9DCF-717E35AA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5B9F-E2AD-4F86-AB67-9F6BFAD9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AF7F-1F22-4A34-8BE3-920F58E9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D565-AB36-4AD6-96C9-DD8AEA05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D28C-A7EA-4AFB-91BC-B6F7EE7A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DE40-EA07-48F7-9300-2E3CAC1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B0F78-C13D-4FF8-9DAD-CF4F7AEA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A49D-5426-4EF1-9574-9708C7E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9830-2A02-49FF-86CE-987F98C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D423-1911-4085-9E36-36A9D1C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DFA-C42A-442C-B0FB-DACBBC33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5C172-62A4-4DB7-B309-32B6B37C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907A7-8DDE-4A33-A080-568A13B6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8313-4979-4238-B690-F51F127D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161E8-DA30-4C56-8144-05E2520E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C72C-3518-42B5-8919-2EDE92B3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4708-4807-4722-A45D-08966131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9D40-6DC2-478C-878A-513D0421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C246-2249-486B-8DD5-5080F5C4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1216-3EE9-4B6F-86F1-10CE2C64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8A22-373E-4CAC-A8F7-4C8044E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FD9-7C02-4789-8A71-C6EB115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5E2C0-D3E0-4A52-89AC-5970001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6B16-4A67-469A-880F-CB815FB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6F74-F3D6-40E8-B373-BAD8472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8322-17BA-449A-9D2D-BF34AB4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0DD54-B932-4390-9386-DFD08B80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4C19-9D7D-436F-A2DD-00AC275B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E8C6-D379-4B0C-86F8-6A214A5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1A752-562C-4171-A6C2-7400A610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FADCD-5196-46CB-A447-1E5D565A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69CF-EEAA-4737-9AE7-7D317A60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D94-1962-4846-B108-FF3310B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92F03-B971-4F4A-BE0A-2CDEACF5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8DFB-1C7A-41E4-9688-B4EA0B2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181F0-C436-4B79-A1F4-ACF97D35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32E9-BE35-4806-AE2C-80408ED4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5036-20DE-4E4D-AA30-EB73619C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E8FF-8E3C-4C7C-A668-9606AC99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64F71-9679-469C-A2D8-799B90D9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D9B01-D050-4DAA-AB65-9FD5006D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B10BB-3EBA-44A7-95AA-50B3776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96707-165A-4475-9D51-DDDC498D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7948E4-345C-45D8-9870-848D9223ED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249AFB-40CF-43E0-B2FE-B9DCD9A08B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FB1D11-2DB7-46BD-9093-FD75991E2F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90B8AA-B33D-4397-8072-CF88741BB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71A3DB-9521-431D-B649-EDB9EA726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780756-BE5B-47BC-8678-7879B3F0D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4A2D8B-B5BC-4B08-AE5F-A26B8E27A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C4B184-FCA6-4F92-8E7E-2148996978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DFB269-8737-40BA-A104-8F8A73E9A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3D90C6-BA69-440A-8350-BDF967046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5DF93D-1891-45FD-A56A-47B07355E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05C0EC-26BF-4466-807A-4CCC13330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3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BBEF31-6507-4FF4-84D9-9077DADD4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C40850-B688-4A7C-A763-2EB6ECBFD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AF95C0-BB2D-4FB9-9386-ED2B4256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14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4894CB-0BB5-4FD6-AD15-94C998CF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3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3, CID 13476 is marked as ready for motion;  CID 1411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9C01ED-8486-4FA4-92AD-8531BCCF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3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194336-6D7F-4914-B8AB-A1626EEE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atum:  CID 112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Rectangle 3" descr=""/>
          <p:cNvPicPr/>
          <p:nvPr/>
        </p:nvPicPr>
        <p:blipFill>
          <a:blip r:embed="rId1"/>
          <a:stretch/>
        </p:blipFill>
        <p:spPr>
          <a:xfrm>
            <a:off x="603360" y="1627200"/>
            <a:ext cx="795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C8F3FB-18A0-4C56-9094-FA792771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06D10C-475E-4FE8-A0A6-711D9825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D76C9E-17CC-42F9-BCC5-0DFB274BD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07-27T18:26:49Z</dcterms:modified>
  <cp:revision>9022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