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407EC8-7136-4D8D-9755-30D7623E5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1B8D8D-F1EF-4EFD-BD51-13A5C4A99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19DEEB-EB6E-4BB7-9294-B3C967BB5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D99989-1681-4B7E-B61E-761CA414E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7186EB-A473-4445-814B-EBDB39A9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B834C0-11B5-4CFA-8C30-F4BEC6C21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D2B0CE-0C7B-4024-A8F2-A9060944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7A1265-68FF-4DF0-B7BB-3CD9592E4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551DD7-8344-462D-8B70-AC778BD6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45EC4B-6541-4AA7-9BD8-9184F2283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8EE-614A-4870-8667-36E65CD3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CC1-3B18-489E-94AC-0997E5E0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16A56-B29D-4D78-A249-54C642D2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0ADC3-EDCB-4D17-BF26-72A609D5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C052-A1A0-44AF-B0FA-B66E566F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C270A-7B59-4558-BEFC-F0A66DC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93B23-DC1B-42A7-9B05-6FDF323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AEED9-0B06-4E86-ADD2-462D465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8F9D4-A140-43B1-806F-921AEFD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5F31B-4D1F-4ED6-92DF-9AA97456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E7D01-66A5-4A23-AFCC-120B6C40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A8DCF-D570-4C94-9624-F3CFAF5D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EDA-D894-4929-9ACB-652D34BC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4EEDD-833D-4DFC-B95B-47D36B95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E19CD-B62E-4303-8AE7-8056E0C7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1DB45-1241-4E8A-BDA7-F0B3A9D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05857-A681-493B-AA09-92874116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929D4-0F0E-4735-9C0C-2CEF7E8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4B8E1-84C2-4EA1-9D81-6616C0D7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E0BE9-7689-42B8-8910-9D3E436B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0184C-25CE-4628-8CFB-BC67B4E2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1BA55-5FE8-4AA9-B636-C861D80E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573FB-D094-4D51-9DEE-7AE95B30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E01-9C6A-4D29-8D51-0537AF92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C2705-1862-4D33-9F56-BEB0EE4A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02440-C7EC-4B99-826D-28749C1C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06D0F-A7D6-459C-8C37-96F6FA56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66E78-E509-4E0B-8E4F-32C2E291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58B91-DE6E-4A62-865E-BB7E39F6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CEDF1-7496-450D-A06B-6987631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1B8E7-7BB5-4CE1-95CD-A4707F5A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44D5C-BBF7-4AA7-922D-0E36878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D8D1B-591B-4039-B30A-90F5544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B920A-95F7-4F0B-B79A-8EF0916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C9A3-74FE-491C-AC4C-F1970F32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CF4CA-FA30-4CB3-9545-D5C4406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120EC-317A-4DB3-82D8-BA177CC3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870B4-5073-4362-AAA5-B5EFC316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2AC6D-331A-41B1-B229-2B5D8FCA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7FFF8-5B5D-4701-9489-6D37B71A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7C1B7-E10B-4E6B-8681-4B23480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E78A9-B57D-4BAD-BA5B-46D340BF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8BC6D-D2FA-4CB8-97AD-60945066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7DF32-E66E-4CA7-93BA-F9ED91CF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CB1A8-E810-4DA4-8ECE-671B0E02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2F3E-D3A2-47BA-8671-9A03BE0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28B6D-B8E0-4E56-9E5D-6C4E3FC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0DD2E-9D03-4DC6-AB86-7BFB0B3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4C3E5-A053-4C88-B61A-45405F7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749A4-2AC3-40CD-A7B5-42221148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737A4-0ABA-45DD-8B20-ED1C9282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6B8C-82C0-4384-A796-3AACAD9E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52ED-415B-43B0-982F-1E99997E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3C9-8E29-441E-B465-92680DC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B77-374D-467A-BE4D-AC494C43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101E-1FB7-43D1-BD9E-C5F36CE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FB5-E686-4E01-9BC4-3406B65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572A-3E5F-48CC-B62B-A4A90FC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2569-65C8-453C-B087-9BE38AA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5BA8-300C-4D00-9921-E45B98CB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05E-B8A9-4439-8864-EBBF3188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1BF9-56F8-4922-B257-BD9B01AB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0D89-A022-4809-B9CF-ACB6F042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DA70-0F1D-44FA-BEDC-46F14D4A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FBB3-B8D3-47B9-B595-7F51B56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D300-A9AD-4D60-8124-6400726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F54B-F3E5-4B26-BC86-8323291C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1ED-067D-4849-A9F1-B3BA28D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58EF-9B45-49DE-BF4C-A9440395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E323-8945-4A69-8868-92DC9DB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7532-0C5E-43F2-A625-197260E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23BF-6981-4901-9058-6F98803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5FAE-9FE1-46B5-86E5-4FE5F2D1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287D-DBFA-4643-B1A3-F7E97373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5BA0-A8CB-408C-A9D2-57A49686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BC1E-F0D7-464E-A11A-0056E54D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974A-416E-40B3-BC80-FA4EF2C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6B991-B450-421D-867B-EA32982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9C5-CAC1-460F-80E2-F3A880A9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71BC-DCE2-4C9B-AF4E-F04E6661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05AE-B31E-4B77-BEB5-2B43ADB5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F1F77-B8F8-41F4-BD88-0CC3874E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62E3-4120-4F53-8242-05E4C88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174D-5BA7-461B-BC1F-988C8210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ADB0-31AD-420A-9B96-4E53184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8B39-F1CE-4F7C-BA3C-22BD1DAE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45DA-D326-46B4-BBF2-DD6D5786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A945-385B-4842-A098-823367FB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AB0A-5D8C-4543-BC21-EB3BEA9D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1F4-534C-48CF-9B55-6236BAB5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B5AB-4D99-4C1F-A7FE-9351846A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94AF-0A01-4974-96DE-8F1AF470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D479-7DF8-4F82-BF9E-37F28258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2C50-722D-4C08-BCF9-4EC1CDA1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E66D-0962-4AC9-9B77-ECBC41D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2220-A5D2-4B54-86D1-F5BB36A8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6A128-9D5B-4A55-9584-93C2346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86125-60DB-4380-AE3A-C6DD29B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85D5-E7F4-4C11-8EFF-C08C794F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375A-7259-4939-BF57-84F4C1C9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183-B8A3-4516-8898-BEA4D24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EBA3-EDAE-4BCC-A90A-02FEB70A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8A35-4D34-4A49-98D7-4E98DAAA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6131-0A81-467B-97AF-91533B70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E92F6-3DF0-41DF-B6CE-4E2A95C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A6C9-D55B-467E-AECC-5A4F2AA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8B307-8F3A-4035-A484-AB049B19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5A23-9E32-46BD-9E31-56F77E8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DD46-CF2E-4889-9B12-D4FBC15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6370A-DE5C-4E42-9CBC-8658FEE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8CB1-72BD-42CB-84ED-47C0E804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D02-0268-46C8-933A-E2950F4D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885F-57F6-4B07-8AFD-0FEEB202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657B9-73E0-4B84-BBC2-839B1768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DC6D-DF74-44A6-964A-74D93467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F07A-B507-44FB-B305-3F62AB1B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1804-C0D5-4ADF-862D-55C0A01D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9C18B-5C7B-4635-BDF7-4C3FA4F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5C19-4F60-4EC9-95A9-CDDDDBC1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2C47-5DB0-44AE-AB4E-40BE3DE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F8A11-D715-4FB1-A9F1-95CD0826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E94BB-FFF2-4AFA-9B2B-01731BA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198-8303-4D40-8602-A325CB1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F288-1081-406A-95D5-5748EFC8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EE38-B57F-4795-943F-655998E4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DE7E-7839-40DE-9C0B-4694EEE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354A-AD83-4B28-BFCE-DBAB055F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908D7-7F7B-48D8-8436-C7ED7D7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0BAC1-CE6A-47CE-BA81-637740BE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6FC7-8CDC-42C1-8ABD-6D2D2A1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9668-6176-46D9-9C1D-CAD8A15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1DD29-1277-4437-B63C-66876163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24AE4-6C49-4686-81A4-31E0BF9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F61-7405-445F-BB7F-1B9C0221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29B82-7D62-49ED-A3CC-34E251E4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9B3A7-9DF0-40DC-A077-E9D6EF6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1B4C-8F9C-4C2F-A55E-477AA7A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1149B-966E-4E69-8FDC-9094F2CD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A8C4-3B1B-4181-9D59-3342DFC2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AACC7-8794-429B-AF6F-3DFEF8C8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70C96-D31A-404B-89BD-B89052E1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47DF9-2203-4019-B8E8-B8F41D69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82BF4-EC23-4EA5-B6CA-6B9552D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F02EF-99BF-422D-9772-510BEA4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49F309-AD38-466A-BB48-F7A38FFB7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A6F09A-2B28-47D3-B6DF-5E9B1C7490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F491AD-E3F4-4390-8B69-B607D0740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68B4D8-EFE4-4481-8060-F837BE74F9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7C6035-4D2F-4364-92C0-383A183C17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018AD0-2B37-436F-B9F2-F5CCEF58E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61C222-13DA-45BD-9C5E-AB2EB1A34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F96637-0F82-40BE-BE98-D684F1486A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7AB1E3-366C-4915-882F-C948D85F7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D621ED-01A4-494F-B4C5-A90822F1B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A594C1-4E08-4153-A736-CEB452C9B4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18AD20-582C-4EB5-9A98-6F0B4BB84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3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D01DD6-5F27-4C28-8BC3-68513063A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0A46E1-BEC4-4872-ABD5-E15F1AF2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B603E8-1717-410C-8805-C762FED89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14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579350-75A2-4EBA-94E1-AA8D7B5CF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4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 13476 is marked as ready for motion;  CID 1413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9100C0-21EA-4342-943A-B1574068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A3D0EB-67DA-4C71-AA60-B04DD0EF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ratum:  CID 112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Rectangle 3" descr=""/>
          <p:cNvPicPr/>
          <p:nvPr/>
        </p:nvPicPr>
        <p:blipFill>
          <a:blip r:embed="rId1"/>
          <a:stretch/>
        </p:blipFill>
        <p:spPr>
          <a:xfrm>
            <a:off x="603360" y="1627200"/>
            <a:ext cx="7950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5BA7A7-26C2-4E52-BDB0-7BA535E0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191D72-9BAC-46C0-950E-1FBFBA480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26E42C-FF93-415A-9DCF-D8EBA4A3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7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07-26T17:17:59Z</dcterms:modified>
  <cp:revision>9021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