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9587467-A3A9-4B9E-B7B8-D32B60A692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CC1A867-6A00-4501-8927-0A5B5F7DE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1A60A08-C83F-4B2F-9BAD-BC9E0A98F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03AAE93-5F0B-4C72-8603-4749B239A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8E21AB3-DFC0-4DBD-B899-6654E6001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AEC696-408F-40D4-89FB-0AA178068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E8FE5DF-E056-4467-B13A-C98FB02E3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BFA3C0D-BDF5-462D-BDA9-2DB00992D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42ECF29-319E-4A12-A9D4-CAE74B608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089613E-A2C5-44F3-AD4A-C0BD8B7A4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49A-65C9-41CA-B0DE-0E78D784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FF6-6598-4055-92A4-5D6F3834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20109-8581-4B30-8E7B-ECA3D196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99C46-D8FB-4F43-B365-BE357D5C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97ECD-CA4F-476E-BD11-0644D9D8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4FD7B-DE86-4621-A266-7326DBA3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B0228-B85E-453B-BA8E-F45D3DBE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9FAE6-14B3-49DF-BC62-269CD9B8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CB991-F6E5-4928-946B-6D807E4B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BD943-C373-426F-BEBB-3EC73B89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384F7-C5DD-4414-8116-B6EAED55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A1E1F-E243-412A-9A23-96D84BF9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C4F-74AA-42B0-842A-5814D873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DC902-8400-4D41-A734-46C721CE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9B7CD-6529-4B06-A1D8-5FF33F5B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48FE7-0A41-46A4-AB65-640A4653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FD369-4C8A-4ED9-BEFC-9693CF74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B9CFB-548F-4B72-B598-B786636A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2BF8A-CBBE-4FA8-8F71-82E7464F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07546-C892-4022-8463-FB7C9C26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CC6ED-E75A-4C3D-971D-5F74F472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AC2A8-83B5-4D91-BBC6-3DF2D4CA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77AE8-B912-4D71-9030-ECA573AF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C0E4-7607-4438-A045-D2723531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FA8E8-871B-4037-B280-C63769A2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CDAD4-D4C5-408B-9470-D90FBF7E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7B897-4FC4-4898-BFCC-59CED2C6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EB6D7-E523-46C0-8D3A-6F4F144B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4ABE5-755D-4B16-AD21-2E58F24D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4C82A-DEC5-4014-8366-BB18C065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095CD-F69D-4EF3-BE68-EF172E2F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75F42-B0AF-47F2-9561-3CD40699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1EEA4-434E-41D1-BBC1-A2BE8E85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2BB1F-64D3-46F8-A758-8912E147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FD94-E218-4304-BA55-48A4CF1D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9FA12-A1EB-4934-A665-B8D74845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29FC0-56BA-4274-9EF0-C687D247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B0419-B577-46D8-BB98-B259F755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1D9CF-D386-4DCA-AC51-851AE84B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B5F00-C99C-496C-AC5F-2C9559F0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E5512-6FEC-4445-95BC-6ACD28EE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D617B-E4D6-488A-97E5-7F266E2A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DC902-1CEA-441D-BBAD-A3653E69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60A7B-54A7-478D-8509-16448C20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EA312-80A3-4A57-BFAC-AB539AB0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B089-3CFE-4D39-9E3B-3FC45D7A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6B274-E930-4FC3-BAFB-B06CD088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8685D-EF4B-4FD1-B8B1-C3F50518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C4CB0-D9BA-4800-8FDC-C3BE0363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77AAA-1956-4CC8-8CF2-D1905635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94AEC-19CE-473C-B064-3B59D368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88B5-CF64-46EB-8C08-6414EC50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03DC-8B75-4E44-B9DD-FF93CB55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205B-411B-465B-9918-9AB470DB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3C17-86D2-4B02-BEAB-49A2175B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62E8-75DC-4F9B-BDF8-2B4191AC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A013-CD77-49EE-8F3D-CF5D51AB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F7FA-023E-436C-B93A-08E05E54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A7D5-1A47-4872-BFE8-CD3794F8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F1ED-8787-44CC-A0DE-09A4F39B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BDF9-67E1-4288-8B18-EA6B2AB8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5BCD-E4CC-4BCA-81B1-5A59527A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8EB1F-9EA1-44C1-98BA-F95F771C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FC486-10AD-47B7-84C1-76AC1B6E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DF599-001E-4623-91D4-2755B23C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2E03E-6853-418C-87DB-464BC01E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D649D-CCD2-4173-A045-B1E7FCB3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0FB-1893-4C90-B9AD-D327ED60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AC681-361E-4659-AB69-EE457B00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AAE44-F4D9-40EF-A8AF-E51179CC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5D4DF-B907-4193-8E5B-2235640E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DEEA4-2A3D-4E24-9ED6-7ADDE69F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E5E94-DA2C-42F4-B03F-A8850A10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6397C-C405-497B-BF92-61BE7AE8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DC0E9-C968-4F0D-BAFB-DFE0E90F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0B10B-7C74-4199-9B40-9EE3BBBA5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4906D-08E3-45A6-809C-24269C1E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FEEED-DC97-4A8F-A9EF-65AE101D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7937-1FC3-4FD2-906B-490B14B1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A8184-F291-4EBA-B866-891D8FCC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C8F44-7F86-4A90-A5DD-C9B83290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7F891-D8C3-4576-809E-F7CE66C7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DB28C-17A1-4033-9B8D-305E6098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EFBD3-4834-4655-A05E-12E8EE87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FBDDE-204B-4642-88A7-073274BC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C3F0A-6F30-4EE8-9549-82F417F7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9F439-13F0-4D42-B0D7-A63D5992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8F0FD-2371-447F-AA2C-9EED6849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41EB8-C5AA-42C4-8072-5D55B6C2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9E4D-CA49-4C72-8F17-73E4758A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D437B-7CA5-40BE-8291-CE9A4DAE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17865-7537-4243-95F7-576C7044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FFA79-6533-4C45-959B-E6E80712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F295C-A392-4DAC-9724-C4935B2C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F3DFB-610E-46DC-ACE4-D284761D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EFF70-2D0F-4CDA-A120-D4A527D4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AC998-30D9-472C-B8BF-EE67A08C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8FCDF-ABB0-464E-95C6-74758C41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6B9A8-7736-4B45-979E-0665B83B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C6B70-6611-41BC-8CFC-3B1F4884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EFC7-F9B2-48F1-86A9-6DCF5B34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5EBD1-ABDE-4845-BDE9-4D90D913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5E0FE-64DF-47D4-8A09-935D0D57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BF5B4-5902-44D2-B00C-7FA6C640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4C18B-5DE7-45A4-B4B7-0E01B413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FD469-928D-4525-A688-3487ABD2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CA67C-5150-4A97-AABF-1CA3115C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EAC8D-8DED-4B19-A36A-09240A5B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0AA0C-C9DE-49BD-9D6E-E715066B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D4700-024F-4C99-B3AC-714C8B11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BD864-A373-41B4-AEEA-4713179F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A7A-F158-4365-8A59-F4BB2BC5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98FF9-54B3-4EF1-8784-5716BB82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288D5-A918-4CC3-8704-9EE6810E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D9119-1A8A-4648-9FEC-F00BB590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F6B99-697F-42DD-823E-7817B980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9DA9C-4AD3-41EC-8F01-4C8057E2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34450-EECB-4EDE-98E2-6254E8A1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8AC0A-3EC5-4E48-8C8A-24133348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F1726-6985-4152-A6DA-13851FF4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DB781-B90D-41A2-834B-BBC021FA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F00BA-36BD-4104-9F9D-224D41BC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1DD6-8086-4139-9817-8087E2B1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CFBF9-B25A-452B-B006-A379372B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4FB44-611E-437D-AC0E-3832590E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987D8-CA8D-4E54-A640-0850B167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7712D-0A56-4BBF-ACBB-8E07DD93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9D93F-DE29-4FC4-872D-0E68DF37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A2A58-6D98-4829-95EA-6DB6B003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40A36-2A4F-44CE-898F-4187876F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13C22-F9CE-4F51-9428-B54CC85C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FDA56-4FCC-4C28-A73A-2928F5F7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D25DA-6519-43CE-A8A8-64321C62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C91D-DBF5-4599-BE01-C5ECA506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F286E-F75F-4B21-9C77-CDEE7958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93DB6-155F-46C9-AF82-115E724E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83F21-DCE7-4408-A5CC-0703EB08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CD6C8-1AEB-4CEA-B3DC-1FFD6F15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CB74E-A00C-40BC-A183-B97EEF11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C9172-7373-450A-9931-62B21536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C8F69-8E20-4CA0-9775-B191568F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12F52-3A8A-4B90-87A8-F4876A1C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3E834-21AB-4114-B667-DD2BBA71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12616-425B-419D-9E83-EC152E64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A8E1432-011D-4C54-87F4-4D0A43EA75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F8EC6F1-73AD-4647-B857-B0BC79D10A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5E8F237-EDFC-4F02-A494-FAA5832B94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1915B97-34BA-420B-9184-A7D5AB3C52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53C36A0-A46C-4CE6-8B3A-449AA58571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9168B9A-2D96-4E09-B8A0-2B05B93AE3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DB70CCA-CD0A-4AF1-9EAD-BB32BE8BCF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9F951EB-8EC0-4F3F-A0AC-8BF9267308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A898FBF-1B60-40BF-B071-0549D4B630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D0B8701-2061-4F8F-B0D1-D3EDA5979A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1DC4EA0-7E4F-4645-8BD2-CCA7B2974F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D9F3C5D-F5C9-431F-BFE0-370057694C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22/11-22-0971-13-00be-ieee-802-11be-lb266-comments.xlsx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085E853-9B77-46C1-8764-5774D9642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2-07-2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FD98D1D-AB4B-4913-A5F3-389F49CB2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20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23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6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ddressed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64 comments must be add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pdated ad-hoc categoriz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56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40 Technical; 111 Editorial; 5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991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483 Technical; 452 Editorial; 56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673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500 Technical; 143 Editorial; 3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A648780-01E4-4897-A507-3E987B1C4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C ass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preadsheet: 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22/0971r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the end of the July 2022 plen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80 out of 4120 CIDs approved and, if accepted/revised, rolled-in to D2.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7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 Technical; 22 Editorial; 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3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9 Technical; 82 Editorial; 1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4 Technical; 23 Editorial; 3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 CIDs ready for 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614 CIDs pending for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C6037FF-0F4A-4CC3-AB0B-3A0A550D4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llowing CIDs were approved during the July 2022 plenary but these CIDs were not included in D2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D 141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motion 411, CID 14114 is approved with the proposed resolution that follows CID 13476 that is yet to be appro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 the offline discussion with the author, the actual CID ready for motion was CID 13476, not CID 1411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22/0971r11, CID 13476 is marked as ready for motion;  CID 14133 is marked as assigned (pending for resolu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B51ECEA-B9AF-41FC-A253-031560587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llowing CIDs were approved during the July 2022 plenary but these CIDs were not included in D2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Ds 11118, 12053, 13314, 11863, 12231, 134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motion 410, the 6 CIDs from 22/1047r1 (LB266 CR for subclause 9.3.3.8) are ap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6 CIDs are also shown in the front page of 22/1047r1.  However, all these 6 CIDs are related to 9.4.2.199, not 9.3.3.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xact CIDs covered in 22/01047r1 are actually 10985, 11050, 11952, 13728, 12231, 1345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ddition, CID 11050 was approved by the motion 40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22/0971r11, CIDs 10985, 11952, 13728, 12231, 13457 are marked as ready for motion; CIDs 11118, 12053, 13314, 11863, 12231, 13457are  marked as assigned (pending for resolutio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7DA52F0-4C3B-497F-961E-66BD59C58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rratum:  CID 1122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Rectangle 3" descr=""/>
          <p:cNvPicPr/>
          <p:nvPr/>
        </p:nvPicPr>
        <p:blipFill>
          <a:blip r:embed="rId1"/>
          <a:stretch/>
        </p:blipFill>
        <p:spPr>
          <a:xfrm>
            <a:off x="603360" y="1627200"/>
            <a:ext cx="79502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ECBA9E1-1D4E-48D2-9D7E-D3689F653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696960" y="2666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lementar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10D6192-7A9D-4253-BACC-3D12D859F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:  Sort by sub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A9A67E1-C7FB-4BAE-8E2C-0916BA722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:  Sort by sub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696960" y="1600200"/>
          <a:ext cx="7761240" cy="444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cella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597" name="TextBox 2"/>
          <p:cNvSpPr/>
          <p:nvPr/>
        </p:nvSpPr>
        <p:spPr>
          <a:xfrm>
            <a:off x="623160" y="6199200"/>
            <a:ext cx="55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iscellaneous includes, e.g., wrong (sub)clause number, abstract, contents, and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Submission</cp:keywords>
  <dc:language>en-US</dc:language>
  <cp:lastModifiedBy>Edward Au</cp:lastModifiedBy>
  <cp:lastPrinted>2014-11-04T15:04:57Z</cp:lastPrinted>
  <dcterms:modified xsi:type="dcterms:W3CDTF">2022-07-26T17:17:59Z</dcterms:modified>
  <cp:revision>9021</cp:revision>
  <dc:subject>Task Group AY November 2015 Meeting Agenda</dc:subject>
  <dc:title>TGbe Editor's Report on LB26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