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E97475-9D5A-47F5-A900-C11F4810E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B1FF15-C92B-43F4-8CEF-8CB1774C5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72023E-5504-45A5-B7A8-0D9764238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B0591D-EE14-42A9-BE46-F9B71C963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39087B-BBAD-4564-A1EC-15A645402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D0069E-1355-41CC-859C-F8419B30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18E7B3-4339-4270-BAAB-CEAC47CEE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D9EF27-57EC-456A-9418-85E7E0214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CCF715-F258-4ED7-BBB1-81E374C69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7A8-22A6-45F1-9F8E-B4AF9E1E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10B-4A82-4FD2-AD37-26DC81D8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EEF11-83E0-43FF-AFCB-6AA311A6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EB4CC-85FB-4800-9618-4232393B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B4F27-CCB3-49FE-B2CD-4A32157B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D6BDA-3403-4AA6-9472-621EBDF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D21A5-7E4C-4AEC-ACD4-7782BF6C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7183B-6849-4ADB-9A7D-5A0726D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A8D58-6DA4-45EA-BCF6-837B79E2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D38D1-9F6B-41C3-9560-C8375C0A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21C50-F6CF-4435-9305-55A5E2E6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0A6D4-CDEF-4B7A-97EC-689BCA81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9B5-C3F9-40C4-943B-9BE952BD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03430-9A9A-4765-B095-8256F84E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104C0-A359-4286-9F6B-11E76AEB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07AA6-6B27-4889-A93D-240CA46E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62F4C-CA8E-4F42-A265-E01CBE4D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DDBCD-383D-46D9-8624-0750B683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F5412-CB28-4BBB-AD54-D9A03DFE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AAAE1-FEC4-4DDE-A669-C9071D6F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9D4D4-CF24-478D-80C1-7A4A1BE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6CA29-A2D8-4708-8FEA-8BB651BA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2AFEB-A2B6-49B9-8FDC-855F00FB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329-1396-4A46-9824-84AEA90B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DF8CD-C79C-4030-93FC-7D808E7C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61D8E-D6EA-4F16-818F-E301554F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911E7-B134-4724-8255-EF1752D1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B47E4-8BD1-4FF2-9181-3EDD9CCC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F26B8-0D64-457D-AEE7-9AC93FE3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F72AB-BFA5-4D2D-AC5B-1C81AC28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9E5ED-682F-4576-BF3A-080B8CD7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08D62-7AAC-4E75-BF6F-1F9414CA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CD01-7C85-4032-A4E0-4E96372D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F1E38-F971-41C0-84BB-252D4B6F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BFA7-0909-4EF1-AEB5-80F0CFC4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4839E-5B1F-49C8-80FE-25C3C308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87793-293E-4F2A-980E-9875E207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A9915-99A2-4DF1-A4BB-EDD7ADC4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71D70-70AF-4B4E-ADFC-F15B31CF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26B85-281A-4356-95D0-C3AC2C15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B3894-42D0-4F30-AF05-A1877839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74425-0630-4C92-93A1-F2F402A6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7BCD9-43D4-4048-B15F-0FE21CEA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63EF2-ABD5-4D71-A7FE-5281CA59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5C0A1-CF91-4E48-8C45-A6896D47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06CE-4A88-442B-9884-C98A020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777E8-F5EE-40B4-9BEA-BFC2AB7E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8D42E-D089-4792-B26C-91956EF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5C7DE-BE5D-4647-8203-C9663686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3A8F9-65E6-4193-9D2B-49C122A6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F9061-E1D2-4B52-9416-6E5FA13D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BA0F-50A8-491F-837D-B62FEAC0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9434-E325-47B9-9A24-FC0D0D9F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B6FB-7635-4AB4-A1FD-E88BF320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DD49-D351-4786-8412-4B0695E2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CFCE-B09D-4E3C-9B4E-AF9D32EE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D5E-05E1-4934-AD2D-C4285DA9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88AF-C0D3-4C66-9B9A-57AF4DB7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0DB6-0B53-4918-858A-255530D9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5E84-C806-4108-849A-802CA515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C8F6-17C2-4073-850D-8C764979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000B-BBB5-468A-BB02-45FC347A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F611-334F-4102-8CF1-9E5AE6E0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E937-95C0-460A-A2DE-11E84CCA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239C-85AB-4818-9C5E-864E19DA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B0C1-E5C6-4DEA-ABCE-BA935951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7A56-5C77-482A-978B-967E8B43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112-34F0-4E7C-A66D-3F19FE8E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B878-2F75-4863-BD53-94C24864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05AB-A7EA-43FF-9F20-E5E663F1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6CC4-3148-47C0-92A3-89CB504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A02A-4B1E-4453-9E6F-1545491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7932-1532-4D80-ACD2-9C061D2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1571-627E-4B26-AA68-316A08AC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3D17-EF2E-4F94-A6C5-DF7D1047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74D5-A6BC-4866-8595-2E6D9CCB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A90A-864A-41A5-9878-2F472579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A68C-96B9-49EF-82CB-EAD6A398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743-FB87-490C-922A-4E7E1824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3986-866D-493B-A79D-2816CF53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A024-8B5A-4D77-9B18-FDAB6DF8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0331-E4C9-4923-A72B-A7AA426A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18A9-467D-4909-A39D-7017A41C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BB28-8431-4F0B-B07A-2FFEDC4D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E543-9624-405E-A32A-FFA2E848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D0763-DDA3-4DF0-9B5A-260BE1D6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E2255-8BB7-461A-B5B8-938E55FD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6643-FD80-4B82-8858-BD569349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ECDD2-A78C-47EA-B817-A75D4820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DE3-8D02-4865-B41D-17011143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3333-8BBA-4092-B0AC-849DC1F0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C614-BB21-430A-8021-49DB1A47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E5745-91FC-4FBE-936E-AFD7E20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F07D-BAA6-4CA3-A7DA-4D473B8C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0D058-8FA2-4743-A193-FD9BD107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C38B4-FB24-4BB6-A54E-AA5FF24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756F8-F1B0-4C43-9C45-A32BB38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1A1D-BD63-44C5-982C-1537A418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4B424-903D-4845-A00A-6EF047F1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074F2-DF96-4910-910E-E4FCCC88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189-C4B3-4183-A081-215A408B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E843-A13B-4E2E-97E6-683E21A7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3DA15-F38D-48C4-A4FD-EE98429F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325F3-C3EE-456D-B30D-2CCEF11A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921E-11B9-4B3C-A8BD-40CA9A16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CAC8-5941-4915-BC04-DDC9767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9C0B-3D9E-484E-B703-F9962F6E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781AD-5C9D-4852-8CAE-5112B2E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05FED-E738-4D02-B44F-38CA4ABF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F95B-0300-4C60-AA92-8C44C8A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72414-BFBB-4842-ACEF-D981616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B41-E09B-43A7-84EA-973BC490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9EC5E-EEF7-4C70-9FEC-06009E63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D5259-873E-4B57-AFF0-A421D407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CC0A-3C9B-45CF-BB6B-D5CBDB2A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8E043-9883-45D1-9453-A442D922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896AD-06A8-4FA6-B8BF-B51E7983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AAE86-5FE3-4066-9A85-14883981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2CB8-0DB3-43F5-8F42-9CFD53E1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FDF9-59CE-4591-8BD7-11C4C305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510D4-FF6D-4C49-B581-151D5E80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D378D-28A7-4CB4-AA33-27986991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D5B-56D7-4886-8878-09DC1DBE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CA6B-F984-4282-853C-A67C885B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C521-186C-499F-8C2A-144E3FD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14BE-2C76-4585-B68A-08D1D8C4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44039-9F4F-40D5-AF42-60CCE23C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CD22-6B22-421B-8D9C-2787C3BB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C31C9-A8B5-42B5-BC47-AFFDF6A2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8420E-CDBC-4B52-AE97-7487D455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F5B59-B4EF-49AB-83C4-2C5B3316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257BD-7AC2-47CF-9B8C-6FBB761D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04833-A28C-4002-9B8A-6EEE2BC2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F01-B75B-44A7-B2C8-BB20590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B8A9D-2478-4E4A-8739-DE95B1E8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27556-AEAD-48C1-A203-A765C90E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720E6-A44F-4EB8-A791-67FF069F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AB568-AD2C-4523-A697-F758685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11C91-4C86-4660-96E3-5A85F539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AE419-3D0F-4017-9CFF-0991A4B3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B45C9-1072-4511-ADA0-21D6707A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EF9D5-C231-4A5A-B35E-87D5208A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85A20-847D-4519-BA46-42EB4010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28260-437B-442C-A442-6B1ED7BA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0BFCFF-155D-4369-A726-52F88B0D33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9A563A-3E22-454F-B1F1-26B177AAB3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746142-5CD0-4346-BB42-1906A00EF8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6C6A90-CBCD-48AF-8956-9C6AA0EDEC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7E3CB2-94B5-4BE4-9EA4-1250848BF4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968963-F637-419A-9CDF-37F82DDBCF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723E6B-26DC-40D2-A6DD-63B93A63FA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89FDBD-6759-4EA7-A9C0-D9FB2F32D5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ED205F-2399-47EE-9D93-77BE5E0AB5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72CE0B-C7FF-4044-ADA6-69A95022F1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9F6082-FEAB-48A3-AD46-D1AB01AD42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8C0ECF-4C3B-4AFF-A34C-44E1F8EF9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12-00be-ieee-802-11be-lb266-comments.xls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D68161-EED4-4230-95D0-0513235FF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2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819AA66-1BE3-4E48-8D50-2D38E5E9A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A5659C-0652-4D03-82E3-2892F256B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July 2022 ple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0 out of 4120 CIDs approved and, if accepted/revised,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Technical; 22 Editorial; 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9 Technical; 82 Editorial; 1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 Technical; 23 Editorial; 3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CID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14 CID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020258-5C22-4E36-8FF5-A9226AA8D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 141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1, CID 14114 is approved with the proposed resolution that follows CID 13476 that is yet to b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he offline discussion with the author, the actual CID ready for motion was CID 13476, not CID 141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 13476 is marked as ready for motion;  CID 14133 is marked as assigned (pending for re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9A3B85-A23D-4DFD-9414-3961D6D31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s 11118, 12053, 13314, 11863, 12231, 13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0, the 6 CIDs from 22/1047r1 (LB266 CR for subclause 9.3.3.8) are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6 CIDs are also shown in the front page of 22/1047r1.  However, all these 6 CIDs are related to 9.4.2.199, not 9.3.3.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act CIDs covered in 22/01047r1 are actually 10985, 11050, 11952, 13728, 12231, 134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ddition, CID 11050 was approved by the motion 4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s 10985, 11952, 13728, 12231, 13457 are marked as ready for motion; CIDs 11118, 12053, 13314, 11863, 12231, 13457are  marked as assigned (pending for resolu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07AAD45-A927-4F79-A087-F8E2DEB7A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5C8004-EE08-4487-B32D-FDF875872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167771-494A-4A33-91D0-BFBB2D320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92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24T17:40:02Z</dcterms:modified>
  <cp:revision>9020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