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2DD5E2F-D596-4C34-BA1D-70ED2B988E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66904A1-32CD-4011-B8DC-558453A4D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36898DC-BAEE-4AA9-BE45-C08384AA3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C5870B9-2C3F-4396-8D8B-4CB3C6135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6A4F1DD-6945-48AF-8955-856F30B32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A4F8C7B-E495-4450-BF29-9772D9E11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085DB73-619F-4B16-80C1-6814BEE02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79E0939-27B2-46DC-ACEE-7612C827F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33E3EFE-CEB3-4491-8D7F-58258E71B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53C0-B8D2-472A-B037-899F3FBC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2B7C-34AA-4E78-A0B9-AB0AECA5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8E7BF-F522-4B2B-AE50-C930F932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22F28-5344-490D-98C3-9042819C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74B7B-FCF6-4218-866D-041311AE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03F26-DDB0-44CF-A2B9-B898C8EF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9C863-ADBC-47F5-A4C3-76B81826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A02FE-B956-44A9-B915-41C5206F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ED592-C846-4C39-BD78-B5D8DA30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D247E-1D4B-4445-8CEC-4C344112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B2AF0-65D9-4493-AA12-035FAF7A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42092-63A3-404F-BB9E-62EF4892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798C-5D42-45F8-AE0B-12B9AB48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4664A-F4E4-4A93-9E32-01045680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48E58-FED2-4791-8E5D-302E9923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826C2-7BC6-4DE2-BE02-A0ED3391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92E65-3BF4-421F-9757-94005F07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76C1D-5011-404B-93B8-A0D04A0F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8DEE4-74B8-491D-9261-B35078B3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B23C6-A734-4023-87DB-76F4A380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04A9D-8074-4678-B2D2-9B2B3779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8DDE8-79FA-4327-AAF0-3331205C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7F895-C196-4324-8AF2-E251CC19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39FF-C3C1-4294-B67A-8FA98ABE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528FC-28AD-40A0-A771-C8E30D6A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5503A-03CD-4D2D-8EEE-F12C41AC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F5623-3930-416B-9050-B34C5B3E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25FB3-7DA2-449B-9E77-D49898EC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73ED9-87AC-45DC-94AA-7246D776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8146B-DF17-4A8F-9D33-450EF801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1BFB6-A62E-43B9-8AED-A4ED6F8B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1C3A1-7F3E-4FD1-BE31-CCCC0602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5447F-4A51-4451-A62B-97AFBBE1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77931-BBE1-4F76-8AC6-52B0F2C7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95DF-F3BB-4370-891C-394A36F1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796C9-7B53-4392-93D3-F28FAABF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765BF-42CD-421C-A072-98C79469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7C3A4-B180-4628-B549-C452AE11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4CEF7-7D8C-43A6-AFF1-F2E044D3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43216-53E5-47D1-8B5E-C52417E6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2CE3B-51D7-4C12-8D1B-8A2ED7C3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98322-378B-465F-95CF-38CE8834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B4E4E-65F5-4579-9CA4-734D2E7D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0B98E-A800-4399-B967-B8EBCF74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E8B1B-ACB1-436C-A359-4295B78F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72CC-FF2A-457B-A91B-776CABA7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4652B-4EC4-4D7D-B30B-5B832277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3498A-2F78-43B8-9EE1-37ED0FBA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91A51-A240-4561-BA1F-CCA7ABB5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FA980-AD3A-4395-85E2-ED20CEA0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241A8-1669-44C7-98DB-B6313913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729A-0013-4E92-A79D-4C5AC7AA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CB88-119D-4426-9589-53F4579C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013C-E611-4923-9AE1-812638F5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28F9-4EF2-4175-B1B8-7048ED76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59AC-BBD9-481C-9A28-EB31D401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EFEB-4228-4546-B12C-C72EBB7C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EAF5-5C0C-4086-BDBF-58DD8DB6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7F55-0B35-4304-BFC0-4A96DC4B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2F65-D99D-404B-99D8-0E3C5E16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507E-E98B-407C-A1C4-663F55E2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AEA4-899A-477A-9299-D0B8391A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68B24-07CD-46B7-937D-4E77035A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99884-D67F-41C7-AFCB-EFFAABFB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E2CB7-2885-4AFB-AFE1-AEBC4219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74454-6CB9-4BA0-9AC7-22089421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57CBA-21EE-4478-A815-7480B101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6D04-982A-4747-82BD-B03101C0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F9849-3AB3-46DA-9F9A-557ECB08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59C0A-99E7-4D44-9BD1-30A5F9F1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824CD-ACFB-4B31-B54C-6D3B2119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9F2B2-F8BC-4A59-8EDA-52A3CD58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B7E54-54FB-49BF-BAB5-33AEB227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C1871-BFCA-423D-8E92-A6665CF4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CC3A6-3D1A-4CD4-909D-B828214FF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111AB-5808-4A54-B591-4C0BFD55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ADC54-C2EC-4D8B-9EB5-1477D23C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63FE1-D873-4673-854D-BBF12AFB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A1D4-84DD-4944-A200-4673AA69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797D3-07E6-4BF8-A757-07734062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6CB59-B1AA-470B-A3E6-468E77FF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709AF-631D-483A-B450-CA686B92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76F8B-F674-41AF-B4CD-3BC693AE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D7C11-B3E4-45A1-96E5-B1521568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C67C4-3C87-4DCE-A518-710C03AA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86997-8827-495A-98D2-87A16ED3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7B35F-A346-4F99-A54F-B13E828C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FED0E-1B9A-4F97-9770-C2509A25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0D4F5-C315-448E-8563-A86A1E54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4AA0-5520-46E8-8236-B3EF8244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D2FC0-86B4-461E-8B20-AE0617B1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29EE0-D1EA-4DCC-B169-F993F215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D7596-4DBA-4ABE-AD6A-0062B188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367CC-DCC8-4912-979E-0897255E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0FB2A-94F1-49DD-B958-791A68F1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6A8D5-BBC2-4EAD-ABF0-2D59F404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CABCD-AA59-4FF6-9298-DB209CD1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7F300-C835-4DCA-96F3-5027E379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23BF8-74BF-40DC-84D3-1D14E6A4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087A1-5554-44F1-9FE3-2AC2C57B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DD6E-E3F4-4809-B5BC-00343B0D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4AA73-AA31-4826-A9DF-8CE826BE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66092-DD32-41BD-A852-72B03701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7DD32-AFC8-4131-B8CE-9FE77722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3AE2C-EA07-4BC8-8D1F-D9D0B7E2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8C766-429B-4252-A308-A61F3AA6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1C265-DB72-4901-B066-833C7081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15614-1077-4D24-838C-DBD2424F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5DE99-A686-4349-8486-2A214BE2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B2A1D-CF4A-4C09-B701-953994D8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6C50E-654F-4BD1-897E-E33DABB9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7F76-CA03-4B5E-8489-ED35D009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8A36C-DC41-4074-8C70-68A5CBED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843C6-8FA3-42DC-9BDF-DEFB2B19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FF53E-1D37-40F2-82C2-6135F85B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A9D4C-2332-4FE0-B49A-9BA45046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8DFDB-6882-437E-AE7B-B9BC80DD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C8B91-00A6-49E4-818B-2D659B73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C11F1-C5B7-45D6-BDE1-5D3AE107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6CB62-D7E9-4ED9-9ADC-5A64D4E8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9ADAE-70AE-4082-8843-6F1ABC58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E0683-9946-4112-8EA0-40788F5B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00A5-F9B7-4D10-A613-8A0C98F3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A959F-1214-4E49-A87D-CF4CEF40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96C62-F87D-4FCE-9E0B-173F1838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FC91D-47AB-4A9C-9334-8053AFA2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82FC8-B08A-4C5A-BC25-E1573010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E2F3A-8C97-42AA-82EF-27A40917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06271-3761-456A-9320-D2261B0B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35CD3-12F6-4B38-B05E-B3F3AEF3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8FB1F-40BF-4E8F-9E0C-44595948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9B2ED-0C32-46DC-AFEB-C60EB033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7BEF9-90A2-496C-9FA4-91ABB335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827C-2E92-41A6-85BE-D5E5B38B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EFC15-C69F-40DC-8FDE-6E3FDE43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73078-0F6C-496A-94F7-E210CD92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14E1E-D559-4A13-B535-FD04E434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46F2F-6B77-4011-B80F-B5C74F6D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7D64C-ABF8-4D01-8F80-7533CAD5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0BFE8-1AE6-49A1-81A6-FC80EC2C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A8973-C894-40B8-ACE7-AB0101F3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A0552-918A-4803-B6F1-5815E9EF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78D6D-C6CC-4433-9047-C955226E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12780-4FDF-4F53-BAA0-8F4C5D0C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690C20B-E78F-41FB-B2B9-3607BC26A1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190E7CC-06A3-4B95-B6F8-750781C955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218DCE3-9FCD-4F64-8071-2E9C3DEB21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B0A3656-5004-4C32-B692-AE91631087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16A93FD-1F96-429E-B887-E07A8CDD98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66027E6-316F-427A-B307-B0F551C3A0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902F55A-1508-4F5E-AAEC-1AF0110C23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70F3DBF-4EE8-45DA-AC6F-66F5D9CD04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3FB07B5-87D3-4A94-8699-B9FEDF6CF7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2106C0C-3972-4C9B-AF33-F10B7D5121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ED2BB0F-BA18-40CF-BD21-9F85E07311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A32BF4B-F595-49C2-BE90-EB627FA8AB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22/11-22-0971-12-00be-ieee-802-11be-lb266-comments.xlsx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AED8CFF-3D31-4C30-8CBB-8A7D7F448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2-07-2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333DA0E-1623-4BBD-9BB6-729B0B7C2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120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23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06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1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addressed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64 comments must be add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pdated ad-hoc categoriz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456 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40 Technical; 111 Editorial; 5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991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483 Technical; 452 Editorial; 56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673 J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500 Technical; 143 Editorial; 30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2CC06D8-3D71-492A-9F76-62C6F3E66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C assign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spreadsheet:  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22/0971r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the end of the July 2022 plen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80 out of 4120 CIDs approved and, if accepted/revised, rolled-in to D2.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7 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 Technical; 22 Editorial; 0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3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9 Technical; 82 Editorial; 12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 J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4 Technical; 23 Editorial; 3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 CIDs ready for 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614 CIDs pending for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D0E515E-8A64-4571-A2A4-45AD9F496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ollowing CIDs were approved during the July 2022 plenary but these CIDs were not included in D2.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D 141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the motion 411, CID 14114 is approved with the proposed resolution that follows CID 13476 that is yet to be appro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 the offline discussion with the author, the actual CID ready for motion was CID 13476, not CID 1411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22/0971r11, CID 13476 is marked as ready for motion;  CID 14133 is marked as assigned (pending for resolu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128D50C-C935-41ED-A17F-42CD0BEFD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ollowing CIDs were approved during the July 2022 plenary but these CIDs were not included in D2.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Ds 11118, 12053, 13314, 11863, 12231, 134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the motion 410, the 6 CIDs from 22/1047r1 (LB266 CR for subclause 9.3.3.8) are appr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6 CIDs are also shown in the front page of 22/1047r1.  However, all these 6 CIDs are related to 9.4.2.199, not 9.3.3.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xact CIDs covered in 22/01047r1 are actually 10985, 11050, 11952, 13728, 12231, 1345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ddition, CID 11050 was approved by the motion 40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22/0971r11, CIDs 10985, 11952, 13728, 12231, 13457 are marked as ready for motion; CIDs 11118, 12053, 13314, 11863, 12231, 13457are  marked as assigned (pending for resolutio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60EC547-D0DD-447D-8FB1-0BDFF45FA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696960" y="2666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lementary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47A9787-E386-42D2-9C1C-96A326E09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:  Sort by sub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96960" y="1600200"/>
          <a:ext cx="7761240" cy="482112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4B12270-5EDA-4C9F-981D-644CED3AB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:  Sort by sub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696960" y="1600200"/>
          <a:ext cx="7761240" cy="444960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cellane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592" name="TextBox 2"/>
          <p:cNvSpPr/>
          <p:nvPr/>
        </p:nvSpPr>
        <p:spPr>
          <a:xfrm>
            <a:off x="623160" y="6199200"/>
            <a:ext cx="55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Miscellaneous includes, e.g., wrong (sub)clause number, abstract, contents, and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2-07-24T17:40:02Z</dcterms:modified>
  <cp:revision>9020</cp:revision>
  <dc:subject>Task Group AY November 2015 Meeting Agenda</dc:subject>
  <dc:title>TGbe Editor's Report on LB26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