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34EF47-A699-410B-AB5D-37C349C76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6D63C5-0380-46B1-B6FE-91D7F3C9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DB2AA9-F8D2-457C-8193-2BCC3B427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9FEECD-1B9E-408C-8F78-DC98C406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56CA18-17B3-461E-9FF8-824126F3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CA163A-D09D-4FD0-86ED-C5C810D2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EDA8E3-8EBE-4CAF-93F1-56ADDBA72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F1BF4E-53CF-46BB-8D72-EEC768F2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3B69A7-2540-49B2-89E1-23C7B72A9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891-647F-4988-B3C9-B7400CA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110-41ED-45E7-ABA0-6CB9A5FC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824B9-27A9-49F0-8D06-3ADCB8D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3382C-8481-496B-A35A-E44C61F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3AAA7-CB7B-4421-B297-8E173B90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806E1-C258-4CFD-9936-676012B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D100-E9F0-44DE-BE0A-FDEA27E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4159D-9069-4E77-AA3F-1508C47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F4437-DCE6-460E-A185-A6CB31B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604CF-EFFA-4139-8DDE-54427401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02222-C798-4EEB-AEB5-A027ADB5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66A27-956E-4B4E-AE64-FC70FDF5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7F8-6C07-43AE-BEA5-4C496629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68F62-9D7C-4380-A78C-0800438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E3D6A-A6DD-490C-92F7-0333F53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1EEE4-6CF9-4D6A-8EA7-2DF83BF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A8CCE-6C85-4B2B-A960-B0A61B2D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5B38-1C5A-4E72-9321-67657A14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96483-0989-4889-BED1-619407A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8492D-DA68-4AFE-8E52-746AEDF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B0842-1E28-4B41-846C-7B8D6C7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0145D-1477-42FD-B3A5-7CF3F08A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188BD-E87F-4498-B9AB-4C659157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BF6-9F4F-4001-9B18-7882A294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A3FE-1808-491F-BAE7-8B45AEFE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8419-A621-4159-8606-96827396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820C7-6465-49A7-B2C9-8FD059DE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E477D-364F-4BFC-8564-177A3DB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06FF-5CDF-440B-BF57-DE5276B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925B0-7518-4342-AEC5-3779D38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C3277-C6CE-4B8D-BB9A-CAC4C00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7658D-D59E-49BA-865A-6F46327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C556C-1F9E-46F2-A4E9-457F924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55E38-DDE0-40B5-A0D4-F8FC507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159E-885E-4122-96FB-A1A5ABB5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93A9-CB20-4431-9440-8E009971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658BC-8776-49F0-B385-DC406AB4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FAE7-E67F-4418-B19E-0459D01E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BE613-A925-4126-A4FE-500A55F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A2E2F-B4A8-4305-87E1-2B7328C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7912B-D51A-4B42-8786-0C0AA81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AC46-BA32-4C21-9C6B-098F46B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2F4F8-5E46-4712-87D4-C00CD47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B65CF-BE95-404F-AA8C-47D2B1B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43295-3FD0-4ED9-AE53-8D84F2F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1E76-DE50-4147-A25C-FFA5CA4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06906-17BF-4CDA-86AB-BB7A551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0B281-8AC0-44BA-B801-C543292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A09B0-C02D-4AC8-9B42-0F562A09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CF906-7867-4277-9274-5DBF3319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40DC7-B5A2-4AC6-A979-6B092182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D4E2-83EF-4B08-9023-31F3AB2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9642-A2F9-44F5-8A96-E8878DD9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DAA-2219-4D64-9907-C38F051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F26-97A1-4669-9B8F-B464A126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A2B9-87B6-4D75-BE99-E4C25DF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D88-DD86-4318-A877-57D4050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0A4-4322-4A3B-B8E1-5886252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179-8D42-4AA3-A44A-45A0496D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D4C-B45E-48DC-8DDA-3D2F396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BBE0-C07C-452E-91E3-25B03A5E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0031-C343-4CEE-9E09-D7199BAD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43E9-0201-4556-966A-AFBA80AD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98A0-01BE-4077-AA3E-516BE44F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A1B3-DC01-40DD-807B-F5D72C5A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9077-D961-42E1-B3D2-6208392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B779-8963-4765-91DF-5973203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9E5-C8DA-4C38-A52F-51ECC80C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F39F-FD56-4BFB-B4CC-C7AE2B3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7761-B4E8-4A3E-8737-1E28FB9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A37F-7AB0-41A7-895C-A0FF194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08B8-A5C9-4199-8B20-177BDB8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3358-7B72-4121-9C86-31E4CBA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68D3-1CF8-4913-A712-196D5D7C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02C9-FD94-4387-BC75-70A8D5B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407B-EA24-43AE-ADE7-DBE03736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064B-A432-4276-8D85-BE76CC2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05CE-CCE3-4A1F-A82E-38D6C3A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95B-BD9F-46E9-A32F-CCE68F2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E4CB-8DE6-4764-8A27-5520D0D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6D90-5605-4263-92B3-7104B162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22FB-D85F-4718-A42A-CEEBBA6F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3AD0-6C22-49DB-BE17-3685C94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69A7-1A6B-4596-A2C9-80FD1A5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1410-B5EA-4841-9190-6F2E8DF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0F93-0AE4-4C21-9EC2-CE7DEFE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1DA6F-1749-4C9C-8C80-4ED643BC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CCC0-B331-41D5-9DBB-BFEC20F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D862-80B3-4381-ABEB-6BE21B28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D5C-7E52-45CD-B253-2E28B074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0D1C-DB7D-454E-95EF-3D502D8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5907-3F02-4327-A91D-BF902C1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23D6-6AA2-4B74-8D53-278B74CD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0B4E-A085-4E82-85E4-24CDF6B5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BF343-112E-4330-9EA8-9386237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41E8-0F9A-4A3B-AC12-85C30FD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976B6-843B-4793-9E72-DB39A02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2638-5650-4108-8C99-14427F6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9F3F-6483-4215-8ADC-5B80704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5B2E-86C8-4439-9080-1E5334E2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1D6-2EB7-4042-AE94-56EC8F56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E702-755F-4406-B759-01F3810A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D539-54CD-4777-BA01-42BD49C4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04D2A-E6AC-4235-87DC-A6AAAE7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1CE5-7531-4CB9-804D-0CB79C3F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3C1A-74F1-44C4-A25E-41F849C6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1DA8-8A45-4DEE-90B3-B56B58ED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AEDA-51AD-41B3-9250-2C060CC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DF61-7433-4787-82F8-59F022E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1A3D-DACB-47F6-99B0-24428C9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FA59-33BC-4E73-9864-CFF60D4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985-D4A7-4BB8-B3D6-2A4353E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2C2B4-63B6-48C8-85CF-163FA76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F65A-1478-4A67-9FF9-FACED382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D432-C124-46B4-9058-4B995F95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5D46-7367-4182-A798-4159A489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34D2-F60F-4C92-B432-83C0FF8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3F38-05CE-42D1-B84C-E36192E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5A33-3A75-4A66-9236-5CCD8646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4C6B-C845-4CF2-91B1-19661E5C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F1BD-A31E-40FB-BEE6-4F5C8A2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94EF-EF7F-43DC-B42E-F1D68A9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D58-9D5C-486B-BB4E-A0623AE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4DB7-53F0-48D6-9627-6C9BC0B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4FA8B-B052-4BE3-B3A6-504462F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2B3F-8AAC-4E7E-AA49-CA7A30E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18D9-31B4-4208-AD17-4E8E1706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2DEC-5037-43CE-878D-D0781A12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D9C8C-562A-4D31-8E6A-E6F78099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3F249-608E-4368-AD79-CAB3F99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CCAF-BEB5-4008-996D-F164F99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7969F-1643-4298-95D4-B1F293B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8B631-04B1-4D2E-88E0-4B9559F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A05-B012-40E5-B834-062EA96A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68784-2464-4534-82E0-41FA1453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6F15-6399-4C11-8DE0-778925E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A8D7-1B61-43C9-967C-D009ED7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F16C0-760B-41C0-8F96-9D5E2C8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A872-1D48-4A48-9BC4-72E955A7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B133-50BB-45AA-BBF6-8EDCA85E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82060-F6C7-434A-8ABF-4C47FD67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B3BD0-804A-4B8D-84CD-6887DB90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D8497-3946-4155-BA37-CD7B623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D798-3D51-4E7C-B4B1-1EAFBCBF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44D83F-1707-4200-AF7C-EC662C8EB9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F453D6-BA81-4558-87BA-F36471753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976BA2-0FAA-414E-BF32-902F957C1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7D0D0C-5DE2-4E8A-B2C3-0A327C6476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D33501-0F2B-4D05-835D-BD68E19A8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8B8318-22F6-4409-BCF1-8FE6CBBEDC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CF3C59-AF54-48DA-934B-8ABCFDA8D9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B4B541-0277-46CE-89C9-BBF563000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D184A7-5F24-4F78-BDE2-E252264672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8683ED-CE90-4DF2-B16A-31D4300F6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861918-C4AB-45D5-BDAA-87267BA0C7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A1A6D6-0AB3-44EA-8FA0-F9E17D15C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22/11-22-0971-11-00be-ieee-802-11be-lb266-comments.xlsx" TargetMode="External"/><Relationship Id="rId2" Type="http://schemas.openxmlformats.org/officeDocument/2006/relationships/hyperlink" Target="https://www.ieee802.org/11/email/stds-802-11-tgbe/msg07426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5ECB01-5DE9-45AE-849F-F9CA1596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6B4E21-CC9C-4E79-AAD9-C125A493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ddres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4 comments must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pdated ad-hoc categor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6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0 Technical; 111 Editorial; 5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83 Technical; 452 Editorial; 56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73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00 Technical; 143 Editorial; 3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96244A-12B8-4D0F-85E6-E2B74DD6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spreadsheet: 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22/0971r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no open 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end of the July 2022 ple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0 out of 4120 CIDs approved and rolled-in to D2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Technical; 22 Editorial; 0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3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9 Technical; 82 Editorial; 1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 Technical; 23 Editorial; 3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9A0403-7F3A-4EB5-8F58-3F42EE94C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 141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1, CID 14114 is approved with the proposed resolution that follows CID 13476 that is yet to b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he offline discussion with the author, the actual CID ready for motion was CID 13476, not CID 141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 13476 is marked as ready for motion;  CID 14133 is marked as assigned (pending for re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4E4D20-857C-4CFF-8C60-8F43A46F4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CIDs were approved during the July 2022 plenary but these CIDs were not included in D2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Ds 11118, 12053, 13314, 11863, 12231, 13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motion 410, the 6 CIDs from 22/1047r1 (LB266 CR for subclause 9.3.3.8) are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6 CIDs are also shown in the front page of 22/1047r1.  However, all these 6 CIDs are related to 9.4.2.199, not 9.3.3.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act CIDs covered in 22/01047r1 are actually 10985, 11050, 11952, 13728, 12231, 134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CID 11050 was approved by the motion 4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22/0971r11, CIDs 10985, 11952, 13728, 12231, 13457 are marked as ready for motion; CIDs 11118, 12053, 13314, 11863, 12231, 13457are  marked as assigned (pending for resolu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EE70A4-B9DF-4F17-A814-A3F6C95A3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96960" y="2666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F0F1CE-6F9E-41EA-9BA9-BC950105F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B974E3-C857-4B11-9B19-0B473BAC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:  Sort by sub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92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23T23:25:23Z</dcterms:modified>
  <cp:revision>9019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