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A4F676A-63B2-4786-84D5-A96208606D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0689E80-F3F2-4EF4-AEB9-53175BC2D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07D8A40-BF92-4FF5-B36A-0A7E376A0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B75BEC5-DC4E-4BC8-81E7-AB149316A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BC8B4D7-DEBA-45CC-A92B-E0D034E05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11C0038-C16F-4BAD-92BF-7F41EE36F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695DEB2-0772-4CA6-8420-3A7B05287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6C1FB38-DE29-4010-AA8D-223A62782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859A6C1-A660-4D8D-A529-016F84DA2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6C6E-FAB5-4B77-8D76-777227E4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8A39-B1F0-40A6-9217-FC0B36CA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C3054-FF85-494C-97B5-E562D591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EFBA6-D7C1-4253-BF3B-6B0D0A9D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CD2BA-8406-4842-B701-1202C168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D3EE0-6256-4265-BBA8-78AC2329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0D95E-0293-4EE9-87D3-C4CEFB48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6E21A-3E90-4CD2-BE1A-0E906957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9A919-BC0F-478D-BBD7-134D330A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A38BE-8CA0-4E07-992E-897F0E83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69268-A855-42EF-ACF3-35A894E4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0C873-AB71-4AE8-98F8-CC12B8E4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5E97-2C6E-437C-AFE3-2837571F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7893F-EF7A-4F91-901E-97E1B243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7E0AE-2C74-4753-8EA9-A40A6FDC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172F4-6904-4379-9363-DE171609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0DB1F-01DD-4D05-A7EB-BD5C739E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8A16E-69F4-4E73-8FDA-4ECE928D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4DDC5-53FC-4545-9564-FBC78B13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4900E-E882-4CDE-A72E-9E683FA3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9A19F-6501-4D81-B716-BE2A1BDB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9761E-B688-44C9-8EBA-047AE60E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D698A-D1EE-42C4-AB02-F7E8EDDD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1F95-EC38-4913-982D-C8E64084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24315-B215-449C-A5AD-7F3A2AAA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16F3F-D169-46A6-A771-4BF70DDB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DBD82-95D7-4E5A-9BF3-BF5C2162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2380E-4F74-40BD-A81E-932B4B8D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83E38-2356-4FFA-B6BB-05D3BAB2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A193B-C20B-4DF9-AEB4-3D851352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0432B-52DB-4A6C-B2FB-630FC6B6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E17BD-EBAA-45ED-A537-C82C7576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D5B5C-202F-45EC-BA67-731D96F7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02270-4083-4FB0-B758-4A99207E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0AAB-3266-4757-9061-4E043DDE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5A3D5-545B-4CB1-BA28-F9DC8480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0C992-1964-481E-99FB-260FCD28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0E1B5-211B-4CA8-88F0-6F1511A3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91A49-6809-458B-B959-04EDDD02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7DCE1-07A9-48F1-8CBE-F6992096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D8D7E-4124-41B3-BDFF-4A3CA98D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164F5-E23C-42C8-8246-81834949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3BDA4-FB19-40B1-83E3-02ADE068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0C974-2021-437E-8078-4A7A7F6F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C9F08-CAE3-415D-A94E-84C5FBB6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FBE7-986E-49CF-992E-C113C3EE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3E302-A7DD-44CC-9B64-EE7650C9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C2A47-B784-4571-9D22-76745899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7A9DF1-97D9-4DEE-9E8A-E7D293BF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9AEA5-6AAA-45F7-8F4D-D665EC20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1B0EF-08CF-4D90-B35F-912C14A3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0257-3D78-4727-AED3-D962999A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2203-DE85-4F38-93E7-5749A6C0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EE39-2FBD-4600-8D92-272F385A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45BB-1BC0-4747-B496-48944222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2ECD-1FDA-43FD-B1C6-AE5DFB18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C950-CD08-4C0C-9CE1-3CC80F95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13E9-F11C-481C-A16C-6B7AD5A7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E0B9-A347-4159-B993-F083803B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1B6F-EA54-43BB-9186-6433B914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5AFA-CC8D-4403-8155-A46D475B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7417-391B-4CC6-83BB-C52603D9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E055F-A7A1-4455-AB52-C2BF8B79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91547-0CD2-47A6-AFD1-5FBFE15C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38ECD-6E59-45DF-9C33-D02967C3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75B9E-3CC2-4A8F-8DDA-F33B758F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183B0-22C2-4B68-BF42-996F0719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C18F-79E3-4DE5-9FD3-721E09C7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C1EB7-EBE3-44EF-9759-ECB8B898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1A4D8-0DFC-4C4A-8B85-FAC55821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626E1-9194-4889-BF92-E0BAC03F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86DBC-7FE1-433A-B72C-1B82F331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DBBCC-4BD0-480A-83A7-29DAA53C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6F31E-4995-49B1-AE61-B1D4AF2E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907C8-0A30-4E26-A82C-8FF187BE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B83C4-14A5-410C-9555-63F65A97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7AA43-0055-4A97-8A46-8523F4AA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0EF72-CF29-428C-ADC5-C4E0DFC5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92C7-0BC3-4BC8-8DEC-0AA06EF9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3EA2C-94FD-4A75-89E2-593E9016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0DAF5-3C43-420B-AEC8-DD53A3B1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645A3-72A1-402A-B35E-1891B6B8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155AE-4085-486F-8D74-32FF4966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80252-F5F0-4FAB-8EAD-147EDA39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E82C2-BCCB-4F55-9C7E-73BD0AC4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81555-D86A-4794-9D60-DAA7FEC3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DA11D-36C2-4EE0-BCFE-546C1324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629B5-1519-4979-9048-7E048E65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C637C-F137-4C42-B706-24FD8AA6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6F73-0F07-47A9-AF44-70D45D2D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0C25B-1BEF-4F67-8154-BD80574C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DC9AD-7139-4CB3-A020-280C29D4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6B972-FBAA-4869-ACC2-4D7DADF7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D2BD0-5FFE-44A4-8818-BBC5DB96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A9985-8AFF-46A5-A8A7-A28F1612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13A8A-4A52-457C-91C8-09CDDA8E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383C1-828B-4CB1-A9B3-40E39D10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5D2F8-6976-48F6-B68E-BF17D2E2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57F12-C1D1-4F2D-A82C-EA31D00C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0D1C7-9F1E-45BD-A346-C5BC9FD4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10FC-F392-43F7-B9C0-56259B38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0C09A-80C3-477B-9964-E9818264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7FC73-918B-4FA1-B4E5-E8D1F59E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31BA8-61A2-4899-BDCB-515510F3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D7615-1C1A-4DD8-995E-D2CC611D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EFAD6-C26D-4ADE-A5A4-BA884F0D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B62B2-A181-4F76-8DCF-A5A28220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C7517-0D33-4C91-A351-B23E1FC7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E5332-53B0-437D-B535-A15F547F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B5B60-0C6D-41D5-81B1-D774983D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497D7-4646-452A-B14D-501FDE48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A9CF-5348-44A9-B5B9-96AEFCC0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3101C-92C5-490B-BB71-F615F5D9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8D624-EA84-4ED8-8B5E-ADD31B83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49C5E-42A0-4614-9FF4-9BDC0F14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59EDE-2602-4AB7-9EE0-6E95EB58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32EB3-99AA-48D1-8CE9-C41B0740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1DA20-C538-40B8-AC9D-726B8A72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84A2C-26FA-4DA5-96BB-F3E5364A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A67F2-4498-4931-8323-3FCD5EB7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E3741-2065-4D3E-B0AA-C8E8914B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69383-B2BA-4634-94E9-85837F6D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1BC0-436C-4FF7-ABC9-0AB5B6B3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A37AB-E77D-4A6E-B597-D33AA20A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D312E-E93A-4F74-BFDC-9A5A8F96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0A251-C0F1-4C37-B333-A5BE7695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38F18-8FCA-466E-9029-A4AE2E24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1FD54-C6F9-45F8-B02D-F94B7AAC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4D947-0464-4506-BE4E-166A92D2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9293B-C417-41F4-AEC0-F6F65E62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4FD16-4D6B-4EF3-8885-3933DD44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AD42D-2BFF-4385-9265-5C9947C2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38B9A-D5DA-456A-8DF6-2D3A762E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0147-5E6C-4AD2-BD7C-5EA35740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B4E4F-821E-45E7-88DB-E73A52CE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79F9D-3446-44D1-9720-B20AE301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365D3-E277-4FDF-85F1-978E6BD4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4E8E3-840C-432C-8126-C40D4748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ED3AC-40B3-462F-8C37-14224A99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87DC4-F818-4904-8BF2-9F6BAFBF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2D8D0-8F42-423B-B6EE-BA059CAD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1E443-3C9D-40AB-8D1B-8CC90F1D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192E6-2062-45EC-A606-1312C430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EB865-E4CD-472D-A259-C580AEB8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FF78666-B6B5-4D98-8BFE-5C44479F19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D972FE7-3634-45B2-A819-7EFD89758C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CB397DC-3198-40D8-B42D-373139E762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28C72F2-0047-4A06-92F4-8D67E83E41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3DEF952-3008-446B-84D2-4DC1E09F5E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6485A6A-39AA-4E12-8A5F-ECF00AC898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27EE177-4A7F-4F79-8E21-F0CF175488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6CD7940-F8F6-4EB7-BAB8-81C63E4E78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19969EF-725F-487C-9B73-F281786F57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02D777E-2152-4550-853B-926CBD9BE2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21B90BD-411F-440C-9BB0-44F2BAA9AD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1E617AD-A571-48F7-A101-D89D226405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22/11-22-0971-11-00be-ieee-802-11be-lb266-comments.xlsx" TargetMode="External"/><Relationship Id="rId2" Type="http://schemas.openxmlformats.org/officeDocument/2006/relationships/hyperlink" Target="https://www.ieee802.org/11/email/stds-802-11-tgbe/msg07426.html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1362921-7308-4F43-9F1F-04F48EBA5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2-07-2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DDD1030-0A69-4AE7-9103-11918B0BD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120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23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06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1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addressed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64 comments must be add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pdated ad-hoc categoriz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456 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40 Technical; 111 Editorial; 5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991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483 Technical; 452 Editorial; 56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673 J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500 Technical; 143 Editorial; 30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9A34CD5-D7C9-4A5C-9340-12B022649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C assign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spreadsheet:  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22/0971r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Compl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no open 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the end of the July 2022 plen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80 out of 4120 CIDs approved and rolled-in to D2.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7 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 Technical; 22 Editorial; 0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3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9 Technical; 82 Editorial; 12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 J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4 Technical; 23 Editorial; 3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22EBDED-BDA3-4FB2-B327-46C096656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ollowing CIDs were approved during the July 2022 plenary but these CIDs were not included in D2.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D 141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the motion 411, CID 14114 is approved with the proposed resolution that follows CID 13476 that is yet to be appro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 the offline discussion with the author, the actual CID ready for motion was CID 13476, not CID 1411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22/0971r11, CID 13476 is marked as ready for motion;  CID 14133 is marked as assigned (pending for resolu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0E41CC9-2C29-4B49-8D46-862419476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ollowing CIDs were approved during the July 2022 plenary but these CIDs were not included in D2.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Ds 11118, 12053, 13314, 11863, 12231, 134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the motion 410, the 6 CIDs from 22/1047r1 (LB266 CR for subclause 9.3.3.8) are appr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6 CIDs are also shown in the front page of 22/1047r1.  However, all these 6 CIDs are related to 9.4.2.199, not 9.3.3.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xact CIDs covered in 22/01047r1 are actually 10985, 11050, 11952, 13728, 12231, 1345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ddition, CID 11050 was approved by the motion 40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22/0971r11, CIDs 10985, 11952, 13728, 12231, 13457 are marked as ready for motion; CIDs 11118, 12053, 13314, 11863, 12231, 13457are  marked as assigned (pending for resolutio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7EC5133-49DE-4AE4-839C-902BD897C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696960" y="2666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lementary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A75966F-4440-4878-B6AB-C0C7C7EAF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:  Sort by sub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96960" y="1600200"/>
          <a:ext cx="7761240" cy="482112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EE27C17-7F80-4815-82C3-280FE4A28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:  Sort by sub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696960" y="1600200"/>
          <a:ext cx="7761240" cy="444960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cellane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592" name="TextBox 2"/>
          <p:cNvSpPr/>
          <p:nvPr/>
        </p:nvSpPr>
        <p:spPr>
          <a:xfrm>
            <a:off x="623160" y="6199200"/>
            <a:ext cx="55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Miscellaneous includes, e.g., wrong (sub)clause number, abstract, contents, and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2-07-23T23:25:23Z</dcterms:modified>
  <cp:revision>9019</cp:revision>
  <dc:subject>Task Group AY November 2015 Meeting Agenda</dc:subject>
  <dc:title>TGbe Editor's Report on LB26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