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/>
          <p:nvPr/>
        </p:nvSpPr>
        <p:spPr>
          <a:xfrm>
            <a:off x="0" y="0"/>
            <a:ext cx="69336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hdr"/>
          </p:nvPr>
        </p:nvSpPr>
        <p:spPr>
          <a:xfrm>
            <a:off x="4086360" y="-115920"/>
            <a:ext cx="2195280" cy="42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1472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dt" idx="37"/>
          </p:nvPr>
        </p:nvSpPr>
        <p:spPr>
          <a:xfrm>
            <a:off x="653760" y="95040"/>
            <a:ext cx="1041480" cy="21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anuary 2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 type="sldImg"/>
          </p:nvPr>
        </p:nvSpPr>
        <p:spPr>
          <a:xfrm>
            <a:off x="1152000" y="701280"/>
            <a:ext cx="4629240" cy="346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 type="ftr" idx="38"/>
          </p:nvPr>
        </p:nvSpPr>
        <p:spPr>
          <a:xfrm>
            <a:off x="3646440" y="8985240"/>
            <a:ext cx="263520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defRPr>
            </a:lvl1pPr>
          </a:lstStyle>
          <a:p>
            <a: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 type="sldNum" idx="39"/>
          </p:nvPr>
        </p:nvSpPr>
        <p:spPr>
          <a:xfrm>
            <a:off x="3222720" y="8984880"/>
            <a:ext cx="5126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BD4D6AD-401B-443F-9E59-C4ED5096A11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Rectangle 8"/>
          <p:cNvSpPr/>
          <p:nvPr/>
        </p:nvSpPr>
        <p:spPr>
          <a:xfrm>
            <a:off x="722520" y="898524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Line 9"/>
          <p:cNvSpPr/>
          <p:nvPr/>
        </p:nvSpPr>
        <p:spPr>
          <a:xfrm>
            <a:off x="723960" y="8983800"/>
            <a:ext cx="5486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Line 10"/>
          <p:cNvSpPr/>
          <p:nvPr/>
        </p:nvSpPr>
        <p:spPr>
          <a:xfrm>
            <a:off x="647640" y="29700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2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Rectangle 3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6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7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E7B11030-17B9-4CFE-AFD4-DB5AA93A65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4607350E-153F-4C47-BDE5-30BADFDE5D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BAADB5D7-C55F-4092-A9B0-97E46F2C86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7122A81E-C462-49EB-AC6A-3945A5148D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49215CB8-6E69-4BCA-9264-ABBC0E8276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B294B9EF-F2DD-4D32-BE57-F0EC78B7FA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4956-1857-4F38-BB52-F3BAC5E34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C623-5835-4BA2-AD81-DDDEE8A67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DE6462-C72C-4798-95D5-2FB9A9E99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26D26B-741C-4C04-8E58-590C92C72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389940-7714-4284-85FC-EB73AB2FB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479A6D-3921-4405-A014-0C6C1B057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FE387B-C132-4F61-9C4E-A8E7A7B21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7A367A-5817-49E3-A1EF-62780C311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CB03A8-03B3-4CA9-9DE6-BCADC1EB2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E9517D-F28C-4D2C-82E7-2632366CA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7B218E-251B-4230-B8E1-886DEEB92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27A669-8C87-4939-96F8-5399EBDB9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DE5D-D845-49BE-AB00-1BD839512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45326A-0C20-4C32-97C8-A15172B79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F81142-F4F1-40D4-B58C-C8FAECFEC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F14F9D-F8D5-4D15-A20A-4E68EFFF4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1D3AEC-6148-4272-BB2D-D46950702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52CF25-3AD6-4458-BDE7-D79476C0B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A4F236-05D7-495D-9F60-B3420E19B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49E420-CBD2-4C8D-A26E-E3B5FDD59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5BC77A-AB9C-4C61-B68B-BE0E3C8B0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E569AF-DDC2-429A-A84F-1E2C3794B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BF115E-D0DF-495E-82AC-0D27FC53B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9374-45EE-4548-979F-FBA968AA2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2A49AF-C8F3-4D14-AE13-86A798D36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AE1015-977B-4AA9-B444-83E43DBB9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24B7FB-ED74-41C2-BD1B-C478EC9BE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B35C2E-D361-4F76-A8AB-CC787266C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B52196-ADF0-4DE4-B8F6-DA018D58B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BD4976-DE02-4882-86CE-789699DCC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135483-9AB7-4727-B637-85CF9C327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FFAF47-E907-4113-A306-081BB5053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2C06D0-7F6D-441D-BDA8-89F76DE0E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B672B3-1A4B-493E-B855-0A3A20035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79942-EE6E-409B-8900-008EB037E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C0C37A-CF0E-46F4-B01D-6F4D38C9E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C56F58-1702-4FB8-88AC-66D885145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2FC5C7-2371-43CA-B87F-4600D1FE1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3ED1AC-0849-4183-9C67-FA30F37C3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F55D59-15CE-482E-AD4A-81911EA5D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9D4D0C-662D-4A88-8880-DC041A346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011C22-1F66-4D3B-90D5-B3EC891A4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623C34-F98F-487C-9621-7F177B471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3ADF0E-1EAB-4616-ADD2-DF12DD6C4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393E6C-0D54-498F-971F-071AE957D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ACC64-078C-44A6-B1BB-FD0D6CD4C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62915B-5079-4DE2-865F-A43F34C2A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415CA7-019C-48C4-A3AB-6F8C45CD3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0548CC-BB92-4005-B4F2-F7DFEACDC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136EE1-36A7-4F76-9E24-F4CE16C55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1C4787-12AF-4E24-9CD2-78FD683EE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67686-E5B4-4A8F-83F9-89C2F9E56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E9F96-EED4-437F-A350-2941A5349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ABF31-C62D-4AE5-B4B0-F2A941821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ED1CC-6DA7-489A-AF37-2784F6546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CA802-5EC6-47BC-93A8-4EDB88AC8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BD9D-B4D8-4DCE-8EC2-424FB4251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2282D-EAE5-4054-AD69-559D1B042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1786C-B4E6-4662-9E17-A99053EC7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2119C-250A-4E95-B2E1-640DA8056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BA18E-6AA8-449D-868F-D2D60DCA7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8711D-0F2B-45C4-9886-654D81786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016BC7-12EC-40C3-8080-FBCC4935B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E3CE55-3284-41FD-AE73-314587BA0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2E57C0-7FFD-4746-BC3A-A6603BA91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9494DF-6A4B-4B43-8D07-CAAFD4170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139DD5-E61C-45F0-B370-32F603487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A19F-6596-4CAC-8DA2-ED0B3F6C2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FE5C59-DE2D-4093-8353-D682EC9A5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441F73-48C8-420F-8F62-79566A81B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04003A-21C2-44C4-BAA9-FF72450A7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0C3DD6-4C99-4B83-BABC-71E02D570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0C7785-02C1-47DF-B0AB-15F711D41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DFDD2C-03A6-4BD1-9135-3AEAC3B05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E3A88C-2489-4DF4-BB7F-ADFA83D85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1DA5B0-FE4E-4387-9AC3-3347C440D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BA1C11-8A81-47C8-B04A-58418070C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6C3F98-6022-4661-9661-3EB3BC6F0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7702-4EA3-48B1-BB70-0FDBFE5F3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49D896-0A2B-4334-A08E-A4A98940D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857321-952D-48F0-95E5-54F4A37C0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38E5D1-37C9-4FCB-90B6-517F3FA80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955871-D5BA-4976-9998-2D2984ADC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F024A3-3793-4BAF-95F7-3FB076D3F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FFE34E-11A1-4DBD-A954-0E53CE819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94DD2E-5FEA-43A1-8F4E-4FAF7072E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0CB8CA-A849-4E89-9B10-C7DC0301E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2530E8-2BFE-423B-89BB-6DAF189EB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E5DA75-A06E-405F-B13A-EC37F276F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F253-8460-43DD-B7BF-D93FBB7B1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DA49A6-E00A-4DCB-B9C2-30617D396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3D5FBD-87E2-4C6F-890A-11B8CFB63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230E10-7EDF-4817-9D37-AFC94376B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683A7C-04E2-4572-9709-F23668C82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D766F9-11D8-4FE9-8BC5-B6F27DAC6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B4D289-E7BF-4151-86A9-596F2F01C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1C1C83-7B55-44CD-A394-DAEE0FA85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3EACF1-31CE-412A-B2D8-9F17F6B7F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97DFD6-518A-4FD4-B5F4-2DFA90949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E81722-118B-4B2D-B328-165B9F27F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865F-84FA-4FEC-A0F1-C494992DD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2C47DF-EA67-4047-8793-2764F4398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3B3753-5C47-423C-96FA-6BF76C5F7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EFA26C-2738-45AF-AB72-8D9717040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528A02-B82B-40BF-A039-569E9D10F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437223-7767-4D1E-8251-83798176C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CE9DA6-6232-4E7A-B0A8-C399B367C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A2AE37-9704-4FF9-AFF8-0D07F0539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8FCB82-E238-4970-A045-7F513095A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46498E-2E4B-462A-8198-496CACC8B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FEE26F-FF35-4A33-AB5F-74FCED056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7432-536C-43A1-A850-D4B8C70E8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3EFE59-667B-4A85-BA14-006763113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B98813-0BA7-45B9-B751-256A9977C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3043AC-F7D9-4601-8D9A-B3CD832B7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9CA4D4-A741-4D4A-934B-54D969247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94A71B-133F-46E6-AA4B-EC12B26CA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A5B2AD-DEE6-4604-B5BB-E6540979A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7405F9-9F80-4362-B0EE-E5217DE0F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7A9FE4-4892-4699-BE48-96EF98169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8A86BF-7E66-4D55-9230-58DB16F49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00BF8F-7F7D-4968-A904-9492D6452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D0FF-0B15-4254-B04D-33D686CEA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2A20B6-9295-40D7-B261-E8190E782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DAC3ED-CD41-4BDD-97DE-EC6998893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18AE51-96C4-49FD-AAEE-5C142EDA5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B8A459-162A-4288-A01B-CEB8C1167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6E4902-4D65-480F-A218-DE2CEAE5E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AF46B6-9DB2-427F-B7A9-4E411B5FC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ECC829-E945-49EE-B93D-BF54FF7CF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96221B-F952-4D3A-86D9-AE04B3782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EAB24E-AC73-4B4A-942A-2621226D5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2931DA-4ACB-41F2-835A-B72996E0A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22B2-4574-4F6B-BF5D-685A2CE1E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31EBFA-C10C-4D3C-997E-2DCB62DFF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45360C-A3E2-468B-9062-2387D758E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7B7B71-6BD7-4775-9EFC-12E87060C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A56A22-3885-4A18-A630-E23413007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F72DE7-6487-4F3D-A17D-BE5D9AAF7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18A338-0B58-4306-9220-96E9603D1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DA5169-D83F-40BF-8F77-625B9E1FD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857A90-AF3E-487E-A79D-E86B331A4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B3243C-F5C1-49D2-8044-D47B5B7D6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059FAE-B568-4F54-B87E-4F1C7328D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96600" y="333000"/>
            <a:ext cx="942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8344D0E9-F88E-4E09-838C-ACAF41C2F13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2/0972r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2/0972r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8"/>
          </p:nvPr>
        </p:nvSpPr>
        <p:spPr>
          <a:xfrm>
            <a:off x="696600" y="333000"/>
            <a:ext cx="942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9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30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AAFE8974-D97E-41BE-BDA9-CA8817DAE15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2/0972r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1"/>
          </p:nvPr>
        </p:nvSpPr>
        <p:spPr>
          <a:xfrm>
            <a:off x="696600" y="333000"/>
            <a:ext cx="942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2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147B30DC-CF71-4E49-9C01-EBE58B6F62C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2/0972r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dt" idx="34"/>
          </p:nvPr>
        </p:nvSpPr>
        <p:spPr>
          <a:xfrm>
            <a:off x="696600" y="333000"/>
            <a:ext cx="942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 type="ftr" idx="35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 type="sldNum" idx="36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7C6660C2-7D0D-4FD8-80B5-4092022C89C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2/0972r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96600" y="333000"/>
            <a:ext cx="942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F148CF15-ABF0-43C2-AFC1-591FD162216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2/0972r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696600" y="333000"/>
            <a:ext cx="942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65F58C37-4E27-4D14-A595-7E70AD2D1DC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2/0972r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696600" y="333000"/>
            <a:ext cx="942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EB4A08A7-7901-4A78-9C46-8B24E441AB2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2/0972r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3"/>
          </p:nvPr>
        </p:nvSpPr>
        <p:spPr>
          <a:xfrm>
            <a:off x="696600" y="333000"/>
            <a:ext cx="942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4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5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5ACD20F6-C706-4616-AFCB-FC37433861B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2/0972r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696600" y="333000"/>
            <a:ext cx="942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FD0EC74B-4D19-49A0-B739-96E59C30997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2/0972r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9"/>
          </p:nvPr>
        </p:nvSpPr>
        <p:spPr>
          <a:xfrm>
            <a:off x="696600" y="333000"/>
            <a:ext cx="942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20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21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05CAF438-9875-4867-A48F-A04B9E32DE6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2/0972r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dt" idx="22"/>
          </p:nvPr>
        </p:nvSpPr>
        <p:spPr>
          <a:xfrm>
            <a:off x="696600" y="333000"/>
            <a:ext cx="942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ftr" idx="23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sldNum" idx="24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62627368-D8A1-42B8-B239-10103BD34F5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2/0972r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5"/>
          </p:nvPr>
        </p:nvSpPr>
        <p:spPr>
          <a:xfrm>
            <a:off x="696600" y="333000"/>
            <a:ext cx="942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6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7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3A3C8AF4-A3C1-40C4-8C4E-91BE44335C4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s://mentor.ieee.org/802.11/dcn/22/11-22-0971-06-00be-ieee-802-11be-lb266-comments.xlsx" TargetMode="External"/><Relationship Id="rId2" Type="http://schemas.openxmlformats.org/officeDocument/2006/relationships/hyperlink" Target="https://www.ieee802.org/11/email/stds-802-11-tgbe/msg07426.html" TargetMode="External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Date Placeholder 3"/>
          <p:cNvSpPr/>
          <p:nvPr/>
        </p:nvSpPr>
        <p:spPr>
          <a:xfrm>
            <a:off x="700920" y="334800"/>
            <a:ext cx="934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80B9C3E5-0770-467F-943F-ED8ED119E7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Gbe Editor’s Repor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e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2022-07-08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5" name="Object 11"/>
          <p:cNvGraphicFramePr/>
          <p:nvPr/>
        </p:nvGraphicFramePr>
        <p:xfrm>
          <a:off x="669960" y="2668680"/>
          <a:ext cx="7804080" cy="1000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6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9960" y="2668680"/>
                    <a:ext cx="780408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7" name="Rectangle 12"/>
          <p:cNvSpPr/>
          <p:nvPr/>
        </p:nvSpPr>
        <p:spPr>
          <a:xfrm>
            <a:off x="685800" y="21337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utho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6A991907-19ED-477C-8B9C-48E4CF8C20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knowledg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Date Placeholder 3"/>
          <p:cNvSpPr/>
          <p:nvPr/>
        </p:nvSpPr>
        <p:spPr>
          <a:xfrm>
            <a:off x="700920" y="334800"/>
            <a:ext cx="934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Rectangle 3"/>
          <p:cNvSpPr/>
          <p:nvPr/>
        </p:nvSpPr>
        <p:spPr>
          <a:xfrm>
            <a:off x="685800" y="16765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ank you very much to the following individuals for the review of D2.0 prior to its public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rol Ansl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fred Asterjadhi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urent Cario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nqing Lo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ephen McCan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bhishek Pat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ubayet Shafin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himi Shi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tsushi Shirakaw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sa W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y Ya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C80C7347-7668-419D-9A1C-DA0C5E071C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B266 on Draft 2.0 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Date Placeholder 3"/>
          <p:cNvSpPr/>
          <p:nvPr/>
        </p:nvSpPr>
        <p:spPr>
          <a:xfrm>
            <a:off x="700920" y="334800"/>
            <a:ext cx="934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Rectangle 3"/>
          <p:cNvSpPr/>
          <p:nvPr/>
        </p:nvSpPr>
        <p:spPr>
          <a:xfrm>
            <a:off x="685800" y="16765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120 comments are recei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323 Techn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706 Edi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91 Gene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st be addressed or n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264 comments must be addres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Updated ad-hoc categoriza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ff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459 PH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spcBef>
                <a:spcPts val="300"/>
              </a:spcBef>
              <a:buClr>
                <a:srgbClr val="ff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343 Technical; 111 Editorial; 5 Gene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ff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2993 M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spcBef>
                <a:spcPts val="300"/>
              </a:spcBef>
              <a:buClr>
                <a:srgbClr val="ff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2485 Technical; 452 Editorial; 56 Gene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ff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668 J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spcBef>
                <a:spcPts val="300"/>
              </a:spcBef>
              <a:buClr>
                <a:srgbClr val="ff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495 Technical; 143 Editorial; 30 Gene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62BDEF62-8FD2-42FB-AA3F-2B1FF164B2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B266 on Draft 2.0 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Date Placeholder 3"/>
          <p:cNvSpPr/>
          <p:nvPr/>
        </p:nvSpPr>
        <p:spPr>
          <a:xfrm>
            <a:off x="700920" y="334800"/>
            <a:ext cx="934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2" name=""/>
          <p:cNvGraphicFramePr/>
          <p:nvPr/>
        </p:nvGraphicFramePr>
        <p:xfrm>
          <a:off x="696960" y="1600200"/>
          <a:ext cx="7761240" cy="4821120"/>
        </p:xfrm>
        <a:graphic>
          <a:graphicData uri="http://schemas.openxmlformats.org/drawingml/2006/table">
            <a:tbl>
              <a:tblPr/>
              <a:tblGrid>
                <a:gridCol w="1552680"/>
                <a:gridCol w="1552320"/>
                <a:gridCol w="1551240"/>
                <a:gridCol w="1552320"/>
                <a:gridCol w="155268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echni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ditor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ene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945B143B-E838-4084-9DCF-68312BBB4E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B266 on Draft 2.0 (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Date Placeholder 3"/>
          <p:cNvSpPr/>
          <p:nvPr/>
        </p:nvSpPr>
        <p:spPr>
          <a:xfrm>
            <a:off x="700920" y="334800"/>
            <a:ext cx="934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7" name=""/>
          <p:cNvGraphicFramePr/>
          <p:nvPr/>
        </p:nvGraphicFramePr>
        <p:xfrm>
          <a:off x="696960" y="1600200"/>
          <a:ext cx="7761240" cy="4449600"/>
        </p:xfrm>
        <a:graphic>
          <a:graphicData uri="http://schemas.openxmlformats.org/drawingml/2006/table">
            <a:tbl>
              <a:tblPr/>
              <a:tblGrid>
                <a:gridCol w="1552680"/>
                <a:gridCol w="1552320"/>
                <a:gridCol w="1551240"/>
                <a:gridCol w="1552320"/>
                <a:gridCol w="155268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echni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ditor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ene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nex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nex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nex 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nex 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nex 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nex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scellaneo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  <p:sp>
        <p:nvSpPr>
          <p:cNvPr id="578" name="TextBox 2"/>
          <p:cNvSpPr/>
          <p:nvPr/>
        </p:nvSpPr>
        <p:spPr>
          <a:xfrm>
            <a:off x="623160" y="6199200"/>
            <a:ext cx="558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 Miscellaneous includes, e.g., wrong (sub)clause number, abstract, contents, and oth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4381507B-F11C-489E-B774-57213CF44D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B266 on Draft 2.0 (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Date Placeholder 3"/>
          <p:cNvSpPr/>
          <p:nvPr/>
        </p:nvSpPr>
        <p:spPr>
          <a:xfrm>
            <a:off x="700920" y="334800"/>
            <a:ext cx="934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Rectangle 3"/>
          <p:cNvSpPr/>
          <p:nvPr/>
        </p:nvSpPr>
        <p:spPr>
          <a:xfrm>
            <a:off x="685800" y="16765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C assignme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ent spreadsheet:  </a:t>
            </a: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1"/>
              </a:rPr>
              <a:t>22/0971r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2"/>
              </a:rPr>
              <a:t>Comple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no open C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TT assignme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you would like to volunteer to resolve a comment or collaborate with the PoC to resolve a comment together, please contact the respective PoC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C will send the finalized list of volunteers for each CID to me by the end of this wee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ff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7T18:10:23Z</dcterms:created>
  <dc:creator>Edward Au</dc:creator>
  <dc:description/>
  <cp:keywords>Contribution</cp:keywords>
  <dc:language>en-US</dc:language>
  <cp:lastModifiedBy>Edward Au</cp:lastModifiedBy>
  <cp:lastPrinted>2014-11-04T15:04:57Z</cp:lastPrinted>
  <dcterms:modified xsi:type="dcterms:W3CDTF">2022-07-11T16:29:09Z</dcterms:modified>
  <cp:revision>9013</cp:revision>
  <dc:subject>Task Group AY November 2015 Meeting Agenda</dc:subject>
  <dc:title>TGbe Editor's Report on LB266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change">
    <vt:lpwstr/>
  </property>
  <property fmtid="{D5CDD505-2E9C-101B-9397-08002B2CF9AE}" pid="3" name="_full-control">
    <vt:lpwstr/>
  </property>
  <property fmtid="{D5CDD505-2E9C-101B-9397-08002B2CF9AE}" pid="4" name="_ms_pID_725343">
    <vt:lpwstr>(12)O48q+nWDiKNAVXoAwq58w7ATF5BZpxUzus1FEuepahc6BRLUWdfXeHQFTCUY0LJynFgfmRNUPZlAVy+j0r6pbTTT4EXTIDQn++fDAJzW+wNWbLiJe8Z4f4WxdeblmkwEZYVIjqjQH/zBS5y6b9GoioXTXjFlVZ7xPu5xRU0WiDXzU0e3oG78RYbPZ2aHX/hl9SFYOtYdUMQjNw+W6g45GYePd7oGmr8CiOcEr8o5DLsyXdeT</vt:lpwstr>
  </property>
  <property fmtid="{D5CDD505-2E9C-101B-9397-08002B2CF9AE}" pid="5" name="_ms_pID_7253431">
    <vt:lpwstr>hBtTL66MZvP2f/KaV3adKT94KHNJID0xypYHmm25hGzk/ETif8Sj8xBGFsYnZVfYQOQ/wAyM9jGI1mxvLrml8FSLl4bDbfLtpebXgH+6bsglE2sjb5/6PLqZ6vrPMuq4xHCeAFploXk9GR4pqeBSsTI3ryAIkLOeZIHu3OlyhiIUHAYFFjusCknP+OLaVPfpnqpJjopJQHwudTzey6vtimu1b8SZqaoMzXoWNM8jqNR1+tnd</vt:lpwstr>
  </property>
  <property fmtid="{D5CDD505-2E9C-101B-9397-08002B2CF9AE}" pid="6" name="_ms_pID_72534310">
    <vt:lpwstr>kiAeZ3SViGiZnriBbU58KYt1RpZ8eBinUdFbRfYxQXRkzDWwNQewHtw75pcA6cREPLuI2SAbxHVYSR3ZUQ5zzjYwte9tx/Sz0XORHKyOcmsIT5gncnPVLYLsDnTA2iOGX/DUw8XNZoQ9LYZzW9Y+ux8R1UZoLQv4XUK12L129g9SBWNmAOm2sZnFbfrpXSC/kozVB/gOTHDLzacdjMJ1j+FvpemlYvFkaW2xdXn6gHIjaUtI</vt:lpwstr>
  </property>
  <property fmtid="{D5CDD505-2E9C-101B-9397-08002B2CF9AE}" pid="7" name="_ms_pID_72534310_00">
    <vt:lpwstr>_ms_pID_72534310</vt:lpwstr>
  </property>
  <property fmtid="{D5CDD505-2E9C-101B-9397-08002B2CF9AE}" pid="8" name="_ms_pID_72534311">
    <vt:lpwstr>w8PjNg==</vt:lpwstr>
  </property>
  <property fmtid="{D5CDD505-2E9C-101B-9397-08002B2CF9AE}" pid="9" name="_ms_pID_72534311_00">
    <vt:lpwstr>_ms_pID_72534311</vt:lpwstr>
  </property>
  <property fmtid="{D5CDD505-2E9C-101B-9397-08002B2CF9AE}" pid="10" name="_ms_pID_7253431_00">
    <vt:lpwstr>_ms_pID_7253431</vt:lpwstr>
  </property>
  <property fmtid="{D5CDD505-2E9C-101B-9397-08002B2CF9AE}" pid="11" name="_ms_pID_7253432">
    <vt:lpwstr>x8ME0DQ2PpRh3avrRbfrZv56P6DdLEWGgiSMf+uDB4pq8mzhbhG6zPVPz3X1HS7rV0q5VF4keEsOSPp/KUMahD6kIQ6nI8qma02y7yusddScuZyMKuYK7AFTacu2BRKKxw82Xzx/b9m828jjjbhdYp08I8L82pMlPMiTjrFCpVp1AC8y6wfo3GM3bJVjc7D4DG5rJI1R0MXpzIiQOzKrXn0tHb6SOvbzeZuVqelsG00qCwte</vt:lpwstr>
  </property>
  <property fmtid="{D5CDD505-2E9C-101B-9397-08002B2CF9AE}" pid="12" name="_ms_pID_7253432_00">
    <vt:lpwstr>_ms_pID_7253432</vt:lpwstr>
  </property>
  <property fmtid="{D5CDD505-2E9C-101B-9397-08002B2CF9AE}" pid="13" name="_ms_pID_7253433">
    <vt:lpwstr>DeUnBJ7jXkhDFSfx2mbaZLiRTmabchORs5UcQM7t6iy9W9V5x0aJrpdekEha9ev1v7ztBtDiSNiz0nb5TnbmoOjSO9dSTPtxKJtkBk0VOT8v8uSIsc13cQc0DfmbMnZDCw/73NT8fGNvpvuxnOABvrA90Ua7RN1L2t9H8pOjEZKxCOmcGK2xRY5PojaZXHShwppauFNrvLHwrK2A1xMWv2Hy/8UBtsBI7RPOw+pkMh3CoR5h</vt:lpwstr>
  </property>
  <property fmtid="{D5CDD505-2E9C-101B-9397-08002B2CF9AE}" pid="14" name="_ms_pID_7253433_00">
    <vt:lpwstr>_ms_pID_7253433</vt:lpwstr>
  </property>
  <property fmtid="{D5CDD505-2E9C-101B-9397-08002B2CF9AE}" pid="15" name="_ms_pID_7253434">
    <vt:lpwstr>9t84MRtTx6Thnshgwp5BWq4UiuH84Eiujfe39Icajo8bMu+OO+aJRKLepkNrNUE99MU7YuJd+fFCg3aweaBTnq2fGfvMW7Ut/bQu8RC1FTVvRRLGOQlyb7hYMxC9aIRdVBZ6p18/5pQrL2cu4rhCKSpebJkgn8YLAtFbLQvYKXu93YKEYLjKpDwJeP+CyI8vT062JGalwlQ3Yvee3IDqJW1yqOBg24U7zWL0L3MKhhrvO8f0</vt:lpwstr>
  </property>
  <property fmtid="{D5CDD505-2E9C-101B-9397-08002B2CF9AE}" pid="16" name="_ms_pID_7253434_00">
    <vt:lpwstr>_ms_pID_7253434</vt:lpwstr>
  </property>
  <property fmtid="{D5CDD505-2E9C-101B-9397-08002B2CF9AE}" pid="17" name="_ms_pID_7253435">
    <vt:lpwstr>6GWTJDqz29S7smRvZQ2d6O2tevCrNSUYcO/TE5kl465CI3u3agCbKz/IqAI6BCDNXFzeHpTc0L65mbokTOrPcULOX23R2vtnlJnGDo1mTjdsWF4b4qPHz0R58sXuSVXhknyPvskulsySMkLGliq6rC8WkcO5aBCH/kRw9eAT1jvX2qCdNVwm1UhsJZec74rp824gmFvr6KutP18IGVz5uhur7VnixQSUGNWBIVj552MkbME6</vt:lpwstr>
  </property>
  <property fmtid="{D5CDD505-2E9C-101B-9397-08002B2CF9AE}" pid="18" name="_ms_pID_7253435_00">
    <vt:lpwstr>_ms_pID_7253435</vt:lpwstr>
  </property>
  <property fmtid="{D5CDD505-2E9C-101B-9397-08002B2CF9AE}" pid="19" name="_ms_pID_7253436">
    <vt:lpwstr>sTeVGnCQ0WCLcu3MQHuO0TFinWdHluh2Vf6zXtBjuRebL8xr6suQUaNHGWcf621zJRFmh33DmaFN7MhZOreGlD6ucG2hrcCFhIUw1L/vg/10yQu6cia0ltRDyoV9ZARFiNAqXnGHWnwNjirxWaWwRuMcte7s5PAnIc7KUTz33edbdJXdaI39osewTu48zvXD5Ap8Q0zJ809EcnCIXc+WtGKSzpnNNWwFyVUPx3CFyuEpL4Pj</vt:lpwstr>
  </property>
  <property fmtid="{D5CDD505-2E9C-101B-9397-08002B2CF9AE}" pid="20" name="_ms_pID_7253436_00">
    <vt:lpwstr>_ms_pID_7253436</vt:lpwstr>
  </property>
  <property fmtid="{D5CDD505-2E9C-101B-9397-08002B2CF9AE}" pid="21" name="_ms_pID_7253437">
    <vt:lpwstr>Dm3MIKDygnrlJgGYaKT7hvJiY3AsvZDFcRpNIqaF2iH+3iYHuJDWGNqjQFQTnPnIW4L7Ph3g4wZJ6lvGXdrp7GMSeF0/HbFbONKSiB6fo3sjR58WECrD3iyflR3pBaDoQwN398Hqp9MUjYgpTKwoV9UJBG1HMAxflrQaAv6/QXkRlJDGoKn90YQTAs+RxuWobh62wp6uacyFPhO3dxEgde63/NbE/BFnXQtf45PCGNa3KvlH</vt:lpwstr>
  </property>
  <property fmtid="{D5CDD505-2E9C-101B-9397-08002B2CF9AE}" pid="22" name="_ms_pID_7253437_00">
    <vt:lpwstr>_ms_pID_7253437</vt:lpwstr>
  </property>
  <property fmtid="{D5CDD505-2E9C-101B-9397-08002B2CF9AE}" pid="23" name="_ms_pID_7253438">
    <vt:lpwstr>2TW/xbkhJGEaCFDDLT5IDAVYF7wCtVb86KgY7RouYgbTiiRUOUZdvQgYasRYQjRRQHq3j7PEJ5m9aiErVUdxB14eSEqi39a6X/0IWvo/Tl6lOouA5yKfuJr+AnxG9iCUEzuOlA5YtCxXAL38I3f/xKvhMKnXvJsA3IDAAIj0TdpHkqeEjGqdZaLJun9BFA8ui4iGfsGtGbd83Tu9xvBJhy61UCXLzIC1/3e8A7uQIj70Y9vE</vt:lpwstr>
  </property>
  <property fmtid="{D5CDD505-2E9C-101B-9397-08002B2CF9AE}" pid="24" name="_ms_pID_7253438_00">
    <vt:lpwstr>_ms_pID_7253438</vt:lpwstr>
  </property>
  <property fmtid="{D5CDD505-2E9C-101B-9397-08002B2CF9AE}" pid="25" name="_ms_pID_7253439">
    <vt:lpwstr>y6kFNTjsH2mE8f1UM95zogrbUuwzLzv11JqPEndS5UH5Lo8hJp1y9mBWg137eLLAXkxWIT1wLg0+p/ZEkq2ar/3u10yNvrddGtCMOn+Mik/A6YEfsGhiacDa6gq2VTnIhFya5g2Un2Qd5eq5mxnZth6Wic1AwgAKLTlzgAodJEMyHfuT91df79HCc/2kG/biuHnoxtPvJnwn+VOSQPxc/3X08hy+h9J1u9JNx0xL2/GBk3Jq</vt:lpwstr>
  </property>
  <property fmtid="{D5CDD505-2E9C-101B-9397-08002B2CF9AE}" pid="26" name="_ms_pID_7253439_00">
    <vt:lpwstr>_ms_pID_7253439</vt:lpwstr>
  </property>
  <property fmtid="{D5CDD505-2E9C-101B-9397-08002B2CF9AE}" pid="27" name="_ms_pID_725343_00">
    <vt:lpwstr>_ms_pID_725343</vt:lpwstr>
  </property>
  <property fmtid="{D5CDD505-2E9C-101B-9397-08002B2CF9AE}" pid="28" name="_readonly">
    <vt:lpwstr/>
  </property>
  <property fmtid="{D5CDD505-2E9C-101B-9397-08002B2CF9AE}" pid="29" name="sflag">
    <vt:lpwstr>1555359667</vt:lpwstr>
  </property>
</Properties>
</file>