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8A5BCA-913B-4A14-971D-655B24E3B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784BD6-351E-4881-805F-3B47D2CE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F9116E-C6C8-4410-9166-B8F51CF3A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B4D349-3596-4187-A4A0-27D65F7D7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C5A770-D0CB-4084-90EE-6692902C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655695-F453-48E6-B24A-02A0264C7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1EA441-1133-4CC4-B834-5433663D9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FB9-EE51-4E73-AF1F-7C82A441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FD3-89C4-4F5D-A9EE-FD048FAF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F6164-6E85-40DA-B7BF-99D4A8A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B235-A11F-4787-9B95-1AC1F1DF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38F9D-4AA1-450A-9DBB-681E4E66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8EEB1-1409-4020-BB51-67C47AE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AA35A-C260-4FE1-881F-02BF459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6E756-403B-444D-8B9B-D342512E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90123-1FDC-4E85-A7B5-71754E85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EB9C5-73DC-4314-8D94-2A1E374F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3D4A8-49BA-43EB-AC78-0003035F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DFC49-8A7C-47B3-840D-25FE59E3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CD7-BEF8-4473-919C-9F9B49F8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A4E29-DF92-4074-8376-94FB013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9D0CD-B98A-4A7C-98B7-81A6ADC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7E4FC-CA3E-4B24-9598-C54D9354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2FEA0-29F7-4BC3-9557-5CC77519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D9FFB-B3E4-49DA-87E5-6E42BE1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149AA-9063-4F39-8ABD-4E6E312E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277E3-8BF9-482A-B9BC-56DE97B5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52AEA-4650-4292-AD34-1B7C28FF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C6CB1-E121-404B-847E-7657BFFE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6E725-E398-45BF-B1EE-E5AB861E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666-B43C-4797-9727-5E3DAA07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A3291-40B8-471E-B745-30A1B22C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EC281-C413-4127-86C7-24EC36F5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30D72-6FF1-4D15-9A57-87E3F74F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50115-0FA9-44FB-AEA1-1B12AAF8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5DEC7-9A9D-45D3-BCA6-92CD9B77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EB8A-3715-4E13-993C-52BD6A2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CC03E-32A1-43BD-A4A5-C9EA1F0F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E1680-8376-4479-8096-4AB71D0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AA417-C869-4E31-963D-27A9C7F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27420-29BB-409F-B6A8-34BD646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06BC-664A-464E-9160-186F99A1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E5B59-58E5-4061-822E-BE43C581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635AE-A921-4505-818B-7FB0F026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2B323-9E82-4948-9AE9-33056904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78759-93BA-40A1-8FE1-BE90753F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41E81-7597-498D-9742-BCE56A56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0FB08-6789-40F5-AFBB-615A7CDC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E69E0-DBBE-4CF4-BAA9-C304CE2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1F2B0-40C1-4054-9AC1-36CFA17F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85B44-2C09-4821-864D-837E7773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269F2-39C1-4B63-9FB8-76A91F19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6A5A-F34B-4FD3-BA1A-63E06EA6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6389D-F7F6-4BC6-A30F-BD67B25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BEBB9-6295-4C3E-AD28-403F82E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34210-BDAD-416D-835E-386DB529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B0DA9-EF47-4E3A-8124-62768707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2C658-55DF-497F-8183-E6C78868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4FF-5323-482A-AC91-F41985A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E251-F952-479A-9D06-5324AF12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6240-77A3-43E2-84EA-A6A06FAF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2B7B-96C3-4C29-9882-FBCEF8D2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7E8-5EB7-47F9-B7A8-A310711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679-784A-498D-87D4-87AB1F22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0F0-6577-4622-976B-F2117F0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2E5-82A4-4289-BFB1-E3B9824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294E-D68A-4BD1-A7E4-4EB6F255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CB7D-9F38-481A-BC96-AB805091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A164-91C4-45D8-95EF-7CE70B52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26F0-F86C-4079-BC67-42BD2619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C55B-DD54-4B65-B724-013124BB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05B1-DE5E-4025-922C-D50F118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3580-9936-4446-A8C5-F9E2EC0D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FDB8-19C8-4239-A100-7E773A3D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F04-2C4C-47AA-8E38-8A58B4C9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EBA8-3C5E-4ED5-BFAD-ABD028DA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7BC5-9666-4285-B6DE-9822010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1C15-AD62-46FD-A6D3-F55424B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571F-EAB7-47FF-8303-36CD9A1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BDDF-C056-4FAC-B6E3-DF0D009D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7B60-C4CA-41E8-AE86-1C80E772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4A17-172F-4805-A408-8999E0E9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55FC-ED9A-421C-91C3-9D347B3B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E5DE-14EC-4D0F-BC23-5557D0F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41E9-B4DD-4288-A80A-8479C78E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A13-748C-4F38-B373-087BD1B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9424-23A9-4A15-AFE2-21634DFE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5EFB-CBB8-41D5-9BC4-0448029D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7FD3-F2C9-49B5-B93E-1445EC67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F9BF-BCC5-4958-B72A-6A35877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D4FE-42D4-4E07-A49A-64BB364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07B0-9684-4467-ABC6-3D6660E6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C1F3-A48F-422B-A9AD-5B6255F8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A645-5183-4C57-A69B-ABAC7149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8129-A043-4F69-8EB2-3D237D43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0314-B60F-458A-909A-388A7775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ACD-CEDA-433A-8F0F-B9772461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09C0-6128-458B-9A51-8DDA6515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0F48-3B42-4DDA-8462-8027F5C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99AC-6F3F-4594-A4DD-43D80CA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C0ED-3F8C-489A-98CC-321C2EE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E771A-D8D9-4DD4-AD74-458BE46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D42E-4BEF-486A-8EDC-1300A06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569B-7C94-4086-94D3-530B0795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689F-6331-460C-897C-780C1DE9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D26E-5FDF-480D-A076-F6CEE41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43DB-D009-4D5F-B072-E5CAC909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39E-F2D4-4E32-921D-ED2EA2A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CD73-F4F0-4167-8515-EA3C7384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84AC-1DDD-49BE-9A08-07B628F8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7765-A996-42B5-8681-6B5EA99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15932-9B39-4F37-B8EF-D14668B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110C5-484A-49FB-A425-0C419197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0EA36-5503-43E0-9A64-CCE7DA72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E5ED-E80C-4A5A-88BA-F436A20B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EF5FC-8B58-4F2D-88C9-177B5A1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CCC2-7140-4E7B-8FF5-5E610AEC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C54A-B83E-44A9-887C-01480FC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990-AE0E-44D4-A10B-DE0F36C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4665F-DA5F-4C8B-80B8-F69A16FD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9C093-7999-401E-8254-501B5A4E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9195F-1CCA-4586-BF35-F8F65B30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FB79E-8C8D-4B99-8793-895E66EA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9ED5-02E7-4FDD-A4C3-A16FD6D9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B4FC7-7DC7-4617-8858-9F17F62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1E327-52EE-4997-9E4C-6CC585A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C903-0AAA-4346-BE37-14F895D8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B9E2-3FAF-44EF-B08F-0AE5568D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8AF9A-47FB-40A6-97B0-322DB88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65D-87AA-4FA8-B0EE-23B539A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4969-F72A-46C3-BEF1-335CF6F7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8716-4242-489A-B873-81DD559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8FE2-0377-4C8B-90B4-D3465104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3ACE-7896-4BA4-80C7-A5D32ECD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10B2-63E2-4F3D-9749-6F11896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8F9D8-6EEA-4230-90E7-40C78AC9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C6818-4E7A-4819-AD50-D7F6AC5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9BFD-24ED-49BC-9012-D646A23B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87DD5-550B-4F30-89D8-DCCA8F67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D830-CDBB-445B-832F-599BEA23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6C8-8F77-4F28-93B6-DADA32F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BCED9-EE7A-4049-A169-FC9CCE8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3A558-2FE9-4D1B-A149-6A81ED8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7CA7C-D9A4-423C-902C-D02D8D2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19F8-02F3-43A5-94C8-6920BCC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20FC5-E714-40DA-93B2-76B9FDF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731C-1A2C-445F-A240-51DE417D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AD7AF-71CB-4613-8120-234D30FD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B8AD6-3A55-4FC7-A559-1E8B9AA0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D1880-481F-4769-8AA3-5EC6F13A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9CB48-9D64-42EF-8BE2-96CF1059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5A4108-671D-41C4-9646-C4DB604D6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1670AE-A02E-44C6-A5EE-00437824D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FB84FB-A714-407E-8B46-DEF51058CB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CFD017-84EB-40C4-8A04-5945E864B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3CCCB2-D4BF-4602-8522-BB99707B37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02F13E-E1C8-4C33-AB99-260451C8C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C07A83-6897-404F-B472-58E475F067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B6B846-8B98-4BB8-9158-4244259415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A9E570-8EF6-4B43-91E0-EE39596D6F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3993D6-1D03-46C6-8F8D-D4C77BF16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B8219C-C6A4-4DF9-A246-8A6F29326B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6DC341-515F-4B0E-A02F-DDBE965B5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06-00be-ieee-802-11be-lb266-comments.xlsx" TargetMode="External"/><Relationship Id="rId2" Type="http://schemas.openxmlformats.org/officeDocument/2006/relationships/hyperlink" Target="https://www.ieee802.org/11/email/stds-802-11-tgbe/msg07426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DC2542-AF0F-4A82-ADB1-557107C2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C42363-1855-40AF-BEDB-45C63123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very much to the following individuals for the review of D2.0 prior to its pub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ol An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fred Asterjadhi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rent Cari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qing L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McC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hishek Pa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bayet Shaf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mi Sh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sushi Shiraka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a 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Y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07ADC6-6B49-4E38-96F7-7DA9EA14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9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3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5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68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95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70BCED-3F60-408D-817F-8496C7BC8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8E3B65-9233-4483-8E08-B278A9C5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A4E064-C44B-4E7C-96D0-26BA85B8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no open 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TT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ould like to volunteer to resolve a comment or collaborate with the PoC to resolve a comment together, please contact the respective PoC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will send the finalized list of volunteers for each CID to me by the end of this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11T16:29:09Z</dcterms:modified>
  <cp:revision>9013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