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BEC31A-2A15-48B8-84C8-E2CD33F7F2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B8FE25C-F844-4CB3-A2C1-865511354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1FF694-28AD-41A7-BA37-7465257D6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EB5441-AFFE-4794-9AE0-7F797279D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CD343E7-D976-468F-AAD8-BABCB7BC2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E5809D-FB79-4155-81A5-A8C7FDC15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4BF0ED-CA32-4368-9194-69FCD3C35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281-2A84-41D4-B0EA-FDCBED98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328-33EB-4ABB-A74B-8DAEAB37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983F7-2F3F-4FA8-B76D-24DD1F1F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B78D6-01B9-4005-8E57-96CD9FC0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6BFBA-023B-4EE3-9265-3C520CA9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9C5E9-4F01-4921-9AA2-2B4FE12C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29F29-09CC-42C3-9DC8-CFEEE723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44A07-5B25-49D6-B0D5-0D5AF52C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98D98-BC93-4110-B49D-BD10E9F2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BF066-BCE0-4E67-AF66-839D5F32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866C3-89B5-4248-91F9-8B3AEC7E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A86E0-FF6E-49A1-80F7-9C2AE7C1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91D-5B6C-4372-A235-45E9E75C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E83E7-1676-489F-B9D6-04A25DB7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DB1DB-42F5-415F-AFD7-C291B0DE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340F8-F71D-48F2-A20F-5065D449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58307-B5D2-4F0A-B775-5AF9830C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8B926-12C0-47C1-97E0-593B6B87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A146F-3723-4356-86E6-62E0C6CD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2331A-0558-4724-AEE3-7B13460D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CBDBD-6679-441D-BD35-F3514A0E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33B35-574B-494E-9530-A3CD047B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35B85-8888-4A41-95F3-2E00033D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653-A5A3-41D5-8B14-FDB67CEB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3FFC6-7A17-4EF6-A51E-4D8DE59D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72832-7FC1-41C3-AFC4-14372A45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5D6E9-A03D-4C53-9908-E0A83006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D183D-6866-4B0F-ACC0-58C48794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9BAC1-0C90-4311-85B0-25EE591D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4F63F-34FE-4691-8706-F4D4C946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AED9C-A438-4D2A-B5D4-AB42BCF9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83C2A-365F-4B92-B5BA-66D882DA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DEE3A-F14F-4C4D-B20D-1F4D6553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C6D88-8086-4ED7-AED7-0BFA4DFD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D715-5F9D-4CFE-AB6F-683477A4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E9589-0D0C-4D9B-939C-71A47DBB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489DA-9849-45C7-9B9E-ABB72858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156A3-5DDB-4F51-B5D2-70C5B81C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F4582-2AAE-4700-933D-A10A7A1C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73C78-A35C-4F9C-97CF-E82F9A90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A00BD-6525-4C7E-9B78-5A4F515E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7AC48-49B7-4724-ADC4-3BA1DF22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F25A7-7B67-4620-B739-6BF87A06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0043B-4D95-4D41-8C0D-2443A30B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331A2-DEB8-4A0A-84AB-D7482CB4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5B12-C1A3-47F7-8BB3-50103FE3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AF1E0-C99A-421A-AFFE-038A47E0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E93B7-BD1E-4BC8-91C2-5DC32B26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5505B-85C7-49DE-8CBB-103DF136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22995-2093-4AE7-874F-02AF2580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02E94-6DD5-4FEE-90B7-B62B6621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0CBF-6C30-4D52-833C-8745B955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893B-C3F4-4E36-81A1-678319F0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6294-88BB-4F16-AD3B-0B93FA78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E21B-5EB4-456A-8132-14172444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620A-EF91-484A-9C6A-0816C8F1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F41-FED1-48D3-B380-FACAA893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7EAD-2780-4DAC-86D7-A2FE5060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FB08-96FB-4038-81AA-D2B99246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CF8A-F40E-4EDE-A3F9-EB127BAE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3916-9A58-4B7B-B551-2E90D05A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FEDF-8248-47B0-9529-D3501DC4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49A7E-0618-4D57-AD4F-78985F26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A0838-66B1-4992-ABA2-A21EC1CD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2381B-3873-4285-9A55-393290D2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37B34-7B14-4508-900F-0404B263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21920-0547-4159-B4A2-134EC474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FC5-E8AF-4B01-A707-3DD70AF4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AED8F-5BEB-415D-99AC-92C357E3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B1B8E-A87C-4D2D-AEF2-46EB26DF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E24A6-6404-405C-BD78-AC7C4804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3CD3-25E6-4A29-93A0-2C1D8D8F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3555F-17AE-43D9-8798-A79061E8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BEE32-E19F-4DBD-A7AA-7639862F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51F00-AB70-46C4-9D78-AB68A7EE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14417-1CEC-4720-B01F-479C908B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3DEA7-1C33-4C2B-97D4-98203626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C5AB0-DA5B-4450-8C69-85D61A64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D47-144A-44EC-9820-C6BCF1C5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85F90-C831-44FC-91EE-299FE53F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499E0-9F62-4783-A132-D6EDFFA6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84359-7CE9-449E-BDA8-BAA14EFA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E3407-F591-421E-9EE0-FAB0521A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4EC30-3719-4163-801B-D504A6E1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7FD10-5933-44A6-B924-B05F1B30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392C8-3DE8-4128-B774-1F7B813D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19417-48C1-4F57-8765-B98B0BA6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3531F-63E8-4AB8-A913-5FB90A88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4ACA2-C24B-4B4C-91D3-5793B8C9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AF4-7D97-465B-9990-28F8369C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C6569-03F7-43B7-A1DD-30126E91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B32F2-2449-4743-8E68-8D93ED71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A75FB-6880-4C04-A00E-2EE251CA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2563C-0B00-48C3-85AD-930367DB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461BE-6787-4E09-8BAE-35E6A4DA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3161F-F8D1-4227-86D2-215867EA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E0415-138C-4C4E-875E-0E79FCED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88336-1759-426E-8B8F-268050B6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A1BD6-BB3A-4413-AE62-BC3F0CDD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502CC-9B8C-4B31-B5CA-C9F30F16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9E2-224B-4E76-92A5-7FD19CC3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45A14-DBA1-4F92-996A-97FC8FA6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2D0E7-8F04-4817-AAA6-75E1C242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518B8-6E9F-450B-AA7A-1A71FFB6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42F35-2F40-4F1F-8409-074723E2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5DDB4-36CE-497C-A604-388C3C88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CF539-FFDA-4D16-81DB-D8FD08DD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F61D5-2D32-49E7-922C-0EC87021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81E55-1615-4036-B152-00C60AEF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538DA-C438-48DC-8AF7-39C981FB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C6A40-7495-4AD7-884C-E9F9ED4C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4FA-A8CF-4419-A09A-1F10B711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9234C-EC4D-4A07-AC6B-A3ED8779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B401E-B1AC-46B2-9A73-3C37FEB9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F9C63-A012-4307-97BA-3250F010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F197B-261E-4CCB-9C9D-1876824E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FF886-50DA-4B87-9726-97B0FB39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289DA-3EE9-40D3-9EDE-1AA3DA76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5652E-1714-4373-9704-3C3A75D7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57BCB-7E72-45AA-8FC4-5BADBC78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249ED-BB57-47D3-BD81-2ECEC7AD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6AEAB-04E8-4D03-AAD7-5C21EFB0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E2B-C7F0-4229-B7FF-1AE25030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6D662-9BBB-42D4-AB1F-8F00FD50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5D4D5-1BA3-4F52-AB70-5484FB53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116C0-D537-469C-8285-64D4ACE7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50721-3767-45C4-8DA8-E3B7B2B3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01A1A-0DAA-49DA-AA9A-9CA8E801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E062C-F33C-4333-AFB1-06ACA224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F65FB-9698-4715-89B4-93631E67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B5960-0C1E-4BF7-B069-EBE76897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1A916-4985-462A-8963-34E4F72C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3547C-D07B-4193-99E4-A337C067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DF0-A4FC-4F8B-9823-0559C995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8351E-229D-47E4-A399-E3194818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099D5-54A6-4500-90A4-35486EDA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6D6FC-9FF7-4246-BB74-8EFC8336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3D416-4F3D-437E-903F-363CF6E5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8E1D3-EC55-4F63-A779-1A62492A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94557-554F-4C8C-91FB-DFC6EA09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A00EA-8D9C-44CB-A1FF-E573DF71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966C5-2AFC-478E-8A8A-9F920C7D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F328F-1B4C-4593-A708-3FB92FA3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23A64-4604-42D1-9B6A-D3706C89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C89A181-EEB3-414D-908E-5BB7395A3B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9FF6C5C-FA57-4F9A-8146-761F27D386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DC960F-1996-448F-8690-E8952873EF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9109101-A448-4951-B0F1-01B6315EEB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706456-8A22-43E4-A916-A53EA09F72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243D9DB-20E6-499C-B939-5A5BEE5756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22B9B9-EF71-44F4-991E-DC0B9EA98A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0E4BDA5-ADB6-44B9-B466-CA6851F554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DDA354C-C91F-4769-B0F3-BFDAFB8E12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CBEC57-D3FD-47F8-B7E7-84ECCD4E44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D8611AF-B495-4E30-80A7-87839DFE71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694FC85-2580-4027-8E51-604FEC22D2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ieee802.org/11/email/stds-802-11-tgbe/msg07393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707BA5A-15D7-4EBA-BF42-FB46631D5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7-0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6B83698-C88A-4B77-AD40-0BEF68574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knowled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 you very much to the following individuals for the review of D2.0 prior to its pub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ol An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fred Asterjadhi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rent Cari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qing L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hen McC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hishek Pa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bayet Shafin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mi Shi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sushi Shiraka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a 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 Y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8738298-63A3-4D0D-86D0-37BC80CFB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0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23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6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ddress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64 comments must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pdated ad-hoc categor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59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43 Technical; 111 Editorial; 5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993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85 Technical; 452 Editorial; 56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68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95 Technical; 143 Editorial; 3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85B8F28-7B08-4BCA-B2EA-CA08C5569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D77D06F-A710-4D76-8947-2CBC6CD3A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78" name="TextBox 2"/>
          <p:cNvSpPr/>
          <p:nvPr/>
        </p:nvSpPr>
        <p:spPr>
          <a:xfrm>
            <a:off x="623160" y="6199200"/>
            <a:ext cx="55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iscellaneous includes, e.g., wrong (sub)clause number, abstract, contents,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E6AF7A-EAB6-4F7F-9DCB-76E677DDD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C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no open 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TT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would like to volunteer to resolve a comment or collaborate with the PoC to resolve a comment together, please contact the respective PoC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C will send the finalized list of volunteers for each CID to me by the end of this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2-07-09T02:36:58Z</dcterms:modified>
  <cp:revision>9012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