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00F907-F5AF-4A36-AB30-FD6BB4D32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B9198E-8671-4ECB-AC0B-5B5A348C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E8EB28-F7E4-4A4A-A13C-A515D6A3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54DBF8-54CC-4CCE-92D3-67149E40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C50EF2-E6B0-4C70-838D-63932209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50246A-AE65-4FE9-A898-1943A618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6B1C36-A5AF-4E07-9DF1-74FBD4365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501-3EB6-449C-B662-0A031C53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B1E-45F3-4E20-BF3E-CEEFA34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75A9B-0EAA-41FF-B749-BFB7B42D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28A7-8531-477E-97F7-2469F09B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9B740-322A-4451-9006-EABD289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80748-50D8-4D2F-B473-E1A49B4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E4BC0-4FC6-42C9-B2B3-043140C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2C9C-0D35-4C37-A010-9DFBDFA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AD04E-1867-4714-A52A-32F79EA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D077A-86E2-4ED9-B53A-8C1B2B3D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2AD0-2490-4737-83FB-65CAE816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74AFB-7739-4E59-9EEC-9A0DB07D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150-4340-4311-8119-3FEFC703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1AC69-6151-4F6A-A9C0-AB30FC98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8C431-285C-436C-BDDF-C86816D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87BD-1A3C-4548-92C0-1BBF679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963C8-103F-418B-AED6-ECF015F0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D7BFF-4340-48F0-88F6-5733A4D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0C9ED-8B4F-4987-8687-7BA153E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31763-7866-4DA6-880C-83D0DEB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B4ECD-CF7D-4F0F-A980-8DE3D6C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592E4-4A4C-4A2B-8898-2644B968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110B1-11C3-4462-9697-E68D5B69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2FA-0CC8-448A-8FE5-1876F511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599F5-5658-45B7-A664-ED75456F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04B3-F86E-45E8-A678-F33EE5AB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2C91F-281C-4760-8EAC-E9CF7FC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399A7-985E-4715-819F-F6D6E06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E978F-BB20-42A7-A2CC-A779FA1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D759-EC07-4CD0-B2D7-BE9BD02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A60B-9B5A-4A34-8B86-BC198B3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06E70-6552-4590-BD11-BD6E033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EC6F4-07AC-43BD-B400-63ECFE2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2D27F-4008-4F01-8896-D760FE7D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44D-5E5A-40BD-88BA-45A2C52D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850F5-FC83-4D54-8D75-04DCBE7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5E935-B1E5-4CC7-92DD-84FB50D4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22AB3-BDF1-4900-93E8-E58DDAF0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1B0FB-0A74-46F6-A77D-0C4EC94D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53AA4-B8C9-4A36-B655-7148EBB9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8ADBE-3CBA-4EF7-B4AF-8F72940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CF9DF-4FC9-424E-B353-1D8ADD9A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A23E3-C3D0-4CD4-9067-70079C9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CBD03-56AA-4D92-A1A6-8C463F6F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AD10E-EFF0-47CF-A909-119C635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5096-CB83-40B9-ADE3-8FC7EA7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6567-EE95-4778-80B6-47340C17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7DBE8-816A-4F9F-A489-6E7389D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0AC06-AE29-468A-8B0F-15386763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117D5-CCA1-4898-A16C-4198E95D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BBA4A-BD1D-46A6-A242-7BB51837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984B-A968-4C16-B937-2AF1043C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A70-2956-47DB-A607-F7C1D63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2274-0ECA-444A-A501-0DB70C9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B0FC-5C84-4D65-807B-BB417D36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131F-0748-49DC-B50D-00AC2EC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1D9-4E8D-4DCA-AEF6-CA96C0E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6195-32CA-4D5B-B678-E21B815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6D17-5264-403C-BE59-12C6C6B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85A-A3F8-40C8-A76F-BCF1373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DB7-9458-47A9-A75F-1773E0B8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2411-36F4-48F2-81D9-4A931822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8915-04B2-4161-84C0-12BBA92A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2981-4341-4DCD-9DC6-30FF6B1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825F-6353-4AA7-A2F3-3FE221C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55D1-1792-426F-9365-6931421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97CE-6F63-4F94-BCC6-8835307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BEA-C788-45DF-A9B7-6EB264B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1678-8B3D-48CB-84F5-BCA2237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1500-9172-4F36-A5EE-9FACD68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179E-2854-4408-8844-041A815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D92F-DFF8-414B-B6EF-B2D504D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62A4-B9E9-4E31-9E45-9A3C005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1E02-46F2-4700-9D2A-4AFFCA50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C6EF-CB12-40F2-9065-E5A21A05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19F3-4995-41BA-9C02-43435347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A5AC-AA72-492F-872A-FA087B7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8711-37F0-4F63-8E9F-989063B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F5B-C70A-4C4E-9179-B63476E2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58B1-BDBB-404B-9C3D-772A45E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316C-11EC-4388-A97B-19B1382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729B-AD46-4250-BC86-D9C71C1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42DA-AC56-4B24-BC64-93529C6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A385-BEF1-4E6B-977E-7892E5B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DE83-3014-4450-83FB-7F6C681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1829-2803-47D6-8EA9-0A2FE31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9930-0C46-4E7C-AD0E-5FF70CE8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55B1-84A5-4560-9695-EDC0F563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BB76-0696-4488-93AF-420BFFCA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21E-7100-4194-91C8-DC90E4A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6564-0114-47D1-9B8F-3272F67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31F8C-BB45-4811-A6FB-CAB25DBD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83DA-A48C-4AD3-9272-E5C7DC9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0A85-1FCF-4BBD-A062-DFF6659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A4CA-B665-4168-8771-241F6A3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AEFA-A6D9-4424-9FDE-8327036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9F38-B1BC-4C7F-90E2-8360EBC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29A94-A791-4335-8440-C411F09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89DD-B3C3-4DA3-938E-4ECE44D2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D812-8102-4B79-8461-8E0987A7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992-6994-4915-B714-93101F14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F737-ACDD-4081-A864-331177D2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CFCA-30E2-48B9-90B8-C37AFCC0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F7E5-509D-4C24-B313-B9805F6D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D551E-4260-4E64-A6C8-D14EEEE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C150-9D1F-4AA8-BB90-9B38195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5D59-E2CD-4A85-AEC5-4CC0872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0BF4B-5F38-4979-9328-217DE0D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AEE9-969E-4278-9C54-D6E6625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D732-EDB5-487D-9AA3-0C25FD3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6903-76A0-40E3-AAFA-FEE65C4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735-2D67-4B77-93E5-E3F0101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C608-14A3-4033-BF55-BFBE6201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63D5-201B-412D-9D9C-2D2BF3E8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374E-2F96-4C60-B600-B575789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8015-9827-4F2E-BC03-691E83A3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9949-D064-4065-9CCF-FF62A59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0B60-79CA-4090-AF8F-3F3A850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A958-2463-45C4-9401-D3A896C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1BAA-1386-45DD-B294-FA5CA12D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89B5-7763-4FED-869F-8C61AA2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7BBA-1A6B-43E9-B72B-291207B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D1A-18F1-43FE-9C50-6BA14EC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07B8C-BF1B-460A-811B-4212F4D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DC04-2199-46C1-B38A-3094BAF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2494-A083-4ED7-BBAD-973F83D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A15C-D9FA-425B-8536-EEC7A5B7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D82B4-F000-4F40-BD97-EBD06632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A107-C9F6-43C9-B489-DD3CA87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BBF5-D984-4FA7-8C95-6E1D921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F1BB-9C6D-4E48-A121-C767D9B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C162-DA03-4859-A964-7E11DCE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ECC0-85FC-4A26-9F1B-3F946D5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156-9980-4812-8219-B5D2B9D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7C82-AF12-4CD1-BDDD-FEB9EDA7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A999-C6A2-47A2-B187-BBEF2EB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F198-9656-4F88-9567-F423FC8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1BB84-CE52-4A66-AE8C-0C088EE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92731-DF8C-4F1B-A9E0-A9C91D4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818A-F59F-4F7B-8B59-34C0FA53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E9A4-8A40-4221-BA22-40838E8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51D28-AD49-4F8E-B243-46B918C5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01662-3FB9-4A7A-8167-4CF54CA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14D6E-B046-40A3-9361-4F4B5C6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1F4D8F-19F7-4F7C-8105-4D35A40BC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14D578-7FF5-4CE8-9B0D-BD52FAEDB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BE719A-79F9-4E27-99B0-C0019EA56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7C5492-B0A4-45DC-8C48-314EA07E7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602681-0654-4227-A554-DEB69E18D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7DAE4F-F0CD-412D-A906-AF39BFB50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57B4A2-9FA3-45BB-A9F2-C312B7077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31230E-F604-47B9-8F41-F704A53D1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A47D5F-50A0-4D2F-98A0-8050012C65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0258C0-8F31-4122-9658-C3A9B5A1C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3C9AFA-5C72-4D5E-BB2B-C38C479C6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3EC3A4-584C-402B-9233-A846387DC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7393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133056-BFCA-443C-9BD2-0750D563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BA39D0-C6B2-4DB9-8F9F-34EDC168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very much to the following individuals for the review of D2.0 prior to its pub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ol An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fred Asterjadhi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rent Cari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qing L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cC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hishek Pa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ayet Shaf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mi Sh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sushi Shirak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a 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Y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79A6D5-8BF6-4C96-9279-FC694CEF6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9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5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68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95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7DC66E-D4BB-435E-B153-E3B38D467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AA3550-BD97-4F72-B609-AF74DD81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484F7A-640A-4814-A802-9D8310AB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T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ould like to volunteer to resolve a comment or collaborate with the PoC to resolve a comment together, please contact the respective PoC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will send the finalized list of volunteers for each CID to me by the end of this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09T02:36:58Z</dcterms:modified>
  <cp:revision>9012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