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356EF49-7E5F-4458-A735-4D4B033F4C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98473FF-16F3-4489-82F4-09E7E96AE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E1E28C4-7085-4C74-94D3-1C089C9E7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C6F9C4B-B01C-4553-B69E-D12DE5922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079EB9E-22C7-4D51-A2C5-AEDDDCE46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2EFF-EAF1-40F4-A688-F474FFA9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5E34-92B5-4112-B60B-B88BC1BD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EB1DC-6AFA-4906-9DEF-0274DE93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5CF08-46BA-40AF-AF24-98F9330F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127A4-DC78-497C-B062-E108FF97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2008E-D596-4A3C-A29E-31ECFDC6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506E1-7CB2-4C13-8717-2FAA24EA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92E53-6E39-4304-AE09-6EE2C33D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C1B9C-1971-455A-ABC8-B7C47CE4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925E1-5F59-4DFC-8EF7-58F61033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3F006-F3D0-456D-BB31-008325B8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75010-4A4E-4531-BB70-B727150F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7759-50EB-4404-892B-6116223E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05383-D249-497B-A294-DE94A12C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5C59E-860F-4F89-8640-9E529414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5B2C7-A38F-4898-9501-FDE75156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C0306-8DC4-40BB-8133-A980C1CF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79417-56C1-458C-AF96-D1F5C25C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4422E-56CC-4827-96BD-8569E018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77089-FA31-4F78-95AC-F40D9DE4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7A740-C256-4E93-B777-9001E5BD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39E9B-37C8-447C-906E-FD8BE66F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64BCE-5782-482C-ADA7-47BD650F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1187-CD7C-4523-9C72-A2510D7F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DF513-E9FA-4C0B-A511-6B272D66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AA642-7861-4A8E-8DC6-BC113BC5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9ADD7-EFD9-4525-B9F1-816D3216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359DB-C7BF-450F-978E-0901A6B2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02CA8-BBB1-4C6F-BABA-C836870E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449C6-E051-4D79-955D-A451CD30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96CD3-8E23-4487-B2C9-5A23F865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2DBDC-7FE0-49A6-8167-9F160689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26270-871D-44C6-9C0A-A9F91DB1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600D4-DDAC-4A3F-80C1-BBB7DA59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509F-C820-42AF-AD08-A376A03A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D58D3-DB66-46E8-8A83-3EE47511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E7A90-1066-4128-AD1D-9967917A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B106D-7135-4636-970D-137C49FD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CB459-A5AA-4B9E-BA4C-0969D85F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D8896-FB52-467B-A934-B314A670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A3DCB-4F95-45BD-B6BA-E2F13386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F5CB9-D662-4E6E-9B41-CC8B8A6D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0AAD4-CDB9-4317-B1E3-9D963C5A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5D1A3-4662-4088-BE75-78909FFF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EDF7B-B6C3-4D4C-A211-7C1160A4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FC7D-4D15-4361-8874-CE80087C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03D12-0836-4878-BCA0-0B69C687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237FF-3FD2-4490-9880-AB1DF852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8A1AD-F0B8-4DBC-AAD8-99E127B6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3EBE6-0017-4840-8DE1-7043CB9F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1F903-0A54-4806-BB2F-7CBA3C8F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977D-D8A0-47CE-A2AB-87E2B858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13AE-90DF-44E9-9E14-2D28F7DD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8563-D521-4027-8076-7DDEB515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9711-633E-4297-B04A-8F44E25F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39BD-9791-44BA-898F-494C38E5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3F0B-1E5C-4611-B51F-E19BDB8F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EF02-0F02-4C96-8AE0-CD0C65AB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0A0B-B81A-4A55-98F9-FC328694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92FC-7953-49F1-8723-7B309A2C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EF21-C0D3-4278-A73C-75A68671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5A9C-7A97-4439-8729-797CEB67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13234-AB0A-4815-AEA0-D7FC571D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D622E-89BA-4E46-AA8B-C69F3AC9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E47D5-F20C-4518-A229-2E5D9276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A785C-48C0-4279-B215-C7D35F61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F832B-E19A-4F84-BAEA-2AF72A66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CA4-C6CC-45A5-A881-50754359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2677E-9EC3-4E60-981F-9B2DEAC9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76196-C6E7-44EC-B7A0-D8C24BF4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CC31A-4614-4F53-8DB2-D45C72CB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AC424-F1D9-48FD-AE9F-97829ED3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77051-31B7-4433-83BA-37F5909C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725B3-1396-4370-A650-F510270B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46097-7453-4842-A04C-23A79170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3B56C-4C52-4DD8-ADD8-04B28DD6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AC93F-D733-4D49-878E-5DE9D3F3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EAB0B-AEE6-463C-878D-0B327537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039D-192A-4E6C-AFD7-B549B990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67E53-3FC5-4482-9624-14BF45E1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95E51-5850-4528-B446-0159F4C3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EAE24-7CDD-43C9-A1EB-818FBA1C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46BEE-E93D-40D9-BADD-F9FDD0B8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C5BEE-DB5F-48AB-83BA-62278429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2B7A6-AAD1-44C0-9FFD-0609A081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E812E-337D-4F7D-B109-2F54B986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C876C-2DDA-4634-88C3-B13CBD86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8486B-6DC9-417F-AAF9-6806F480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F495A-A498-4F1D-8E77-EC5D7ABF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FFAE-DFC0-461D-81FF-9CCF1271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984C1-2B3A-4E89-8DC9-64967372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656E6-8737-4D86-9961-580EF3B7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AAB38-F0D4-433C-80B7-EC0142E0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BA7F1-0945-4963-9F1A-CCA1FAC2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48769-4675-4195-B9BE-4C05D16F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45E69-674D-4452-8417-1BFFF696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DA928-FBB7-450F-916B-51B77886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CA6AC-47E6-4827-AC3B-26B4E607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F7927-AF4C-4C76-87C2-2769E07A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BB5DD-E813-461D-9AF5-4258EF97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856C-A7A2-4CCA-9974-E9B1F238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91ADE-5B46-48D2-8E4B-0952D8E7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F5115-C3CF-447B-B57D-EE983DC0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8D80B-F066-4B73-B6A8-8BA8657D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0B95A-65E4-4DE0-8595-4941EB4F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DC6FB-61C3-469F-8C39-9599FB30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F250C-5C89-46BE-AF70-73B28B62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131F0-69B0-495E-8366-C5CCD319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E8FD4-E6BE-46CF-91DD-1889775B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F4872-4527-4729-8AA1-C472DE33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D2515-A9C3-4EE8-98DA-A1BE1884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83C9-CED1-4CE0-A4C2-17D5A14E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5E505-C5C5-440F-B864-9D25537C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F09EA-CADA-4FAC-84B0-64B21CC9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83327-56C1-4534-91A7-C5A3F38A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3BB78-9A4E-4F3B-96FC-C3AF3D33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36433-C930-41C6-A797-294CA191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0ADA0-1202-41D6-8B81-B6CE074E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CCB0F-CA44-4DF8-BEDA-B7CFE53D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FB348-3D6F-4E62-83B7-F8B7DAB6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16655-AC64-4CE7-A874-586D0ECB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28818-C782-4907-B4E9-06FD7BB7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F59A-E6AC-4558-AA41-CA8C2CD6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C4A14-C0DB-43FB-BEFF-FAF883FA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4BEC1-9423-4674-ADDB-302C0DBF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2329F-1096-46FD-B322-A76DEFED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E62DC-0414-412D-8180-C97743DA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859F3-90F7-4C00-B2E0-BFB94BBA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38834-7418-474C-A95E-2DE62757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7E623-7E8F-4CAE-8BE9-32CB555B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23B07-6A98-4A44-9548-6654E058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84354-812F-4E6D-94A9-CC113415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5D313-CE22-4DC7-AF63-36C44339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E55-7B42-4330-868A-F9C3EB20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98FC5-A543-414B-ACF7-87DA23A3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6B54F-6429-417E-BAB1-1BD2C2D1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C1837-603A-47E7-8A27-6F4EECA3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FFC12-EA30-4E42-93E3-DC20E9C6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0755B-BE7A-4C8F-9C1D-8A2FAEC2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84CC1-F131-4500-BDB4-57E7B361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0BC3B-B276-49D7-8939-080CF5CF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87A96-99FE-4903-9690-62C1DC90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344B7-85E7-4D08-9599-226C6C84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56D72-0837-4765-B43A-83A264E0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D04D0B3-0441-427C-8D10-968713301D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51EBD22-1A91-4D08-BA9D-339C63150C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7394786-08B8-41D8-A8FC-C8397BE76B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0BC225A-05E9-4B21-90C2-ACE012FAB5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4683342-E7C3-4CE2-9DB5-D3C6433240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A9620F5-9F35-4676-8CAB-610B296487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691B8AD-F040-44F8-8DD8-092C061183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0DABF47-09F8-46C9-A612-0B03F5BECE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2AEF7A7-57F5-4794-BA3B-D813219C7B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35D2991-BBDF-4973-A7A5-0938404016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C01BAC0-D8D3-4180-992B-2A451C3ABE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81AD112-AF47-434D-A992-66AD6BA6DF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50A1A24-BF26-48EA-AC96-3EA06E056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2-07-0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4D467B5-BFF7-4483-B0F9-455E45942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120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23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6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1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ntative ad-hoc assign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7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979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84 J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0EEDE16-FD48-48D5-83BA-8A20E8167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696960" y="1600200"/>
          <a:ext cx="7761240" cy="482112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3F9C40E-6A32-42FC-AE61-96ECF5AA5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696960" y="1600200"/>
          <a:ext cx="7761240" cy="444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cella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573" name="TextBox 2"/>
          <p:cNvSpPr/>
          <p:nvPr/>
        </p:nvSpPr>
        <p:spPr>
          <a:xfrm>
            <a:off x="623160" y="6199200"/>
            <a:ext cx="55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Miscellaneous includes, e.g., wrong (sub)clause number, abstract, contents, and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2-07-06T03:44:37Z</dcterms:modified>
  <cp:revision>9006</cp:revision>
  <dc:subject>Task Group AY November 2015 Meeting Agenda</dc:subject>
  <dc:title>TGbe Editor's Report on LB26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