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0DDDC7-2156-48EC-A394-44DB643C04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C1FA5C-1541-477D-BB24-A518A06DA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3BFF17A-E21A-4DC7-A464-746233B7D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B4A969-6413-492F-95C4-432DB6159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4AD5FF6-8066-44C2-A758-82943A5BC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2E9-D360-45E9-B894-6C86D3B2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1D2-F4FB-4F0A-B62F-DF5F4533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FF438-3D16-4761-A669-3C15AB32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90FB5-EBDC-48B3-9C67-6F631CF3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5C781-4DB6-413D-A049-CA93A522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9EF8D-1C13-4193-8A2C-D16DF5A5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4382C-E4F1-404B-ACC4-38FBAB06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653AD-FE51-4C69-A6FB-E8A203F4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21BE3-9F20-468A-AC9C-52E06BC8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C79D1-64D8-4EC3-A826-C738CA63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62CA2-6AC1-416B-B533-26EE8D28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BC5A9-EC7E-481E-856F-D7457974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48F-58A7-4182-95DF-7592F56F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EAC87-0808-4387-A851-C7F535E9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3E4F6-C070-4E54-86DF-E038B49A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20AA6-2B5E-4F4F-A8AE-7D074F81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03D0C-AC78-4A3B-A032-2B923B0D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A2A64-0F35-4FE9-9179-0798DDA5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612EE-86AA-4229-83E3-28829297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20284-7DD8-4BD0-9135-FA4DEF4C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FFA6F-D928-4A2F-9E81-AE25398A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3272B-FF43-49B1-B689-0A51807E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9F1A2-70C1-49F9-A1E4-2EB606BE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F5F-1F97-4628-ADFE-0C287A46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87417-AC07-4827-B6E4-C519B519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5893B-DA25-4A5E-BA90-697F62E4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971AD-0234-4341-8AC1-2488BECB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2EBFC-E3E3-4D33-8C84-DFC52E4B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7EDFF-5311-4A53-BFFB-A3B8DEF7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DBDE0-9CBE-4C92-B68C-1B62DA06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3B77D-B080-42C6-A522-187D90DC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3253A-C174-47AD-9CE8-D919F0EF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BCC83-E678-4707-86B8-02EB5D63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504FB-41CD-46F6-86BD-74D49158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BFD2-BAAC-4788-BABE-3A89D563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37A8C-5C09-4827-B1EE-600A6C0D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7D17D-FEF0-4F01-B96B-A92BF4C0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A403E-0B3F-471E-8E3E-14360952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9341F-6403-4E0F-9F6D-37C6DF4F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C1459-90DF-41E2-8E27-55100B0C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AE312-8FAD-4D04-BEDC-E3013C38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F5AB1-51DA-4897-8E4F-488E795A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463B7-4A17-4445-B8B8-711310DC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FD6AE-A620-4E0F-B876-0DC1BE0F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AB612-66A8-485A-805D-903823AC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1FEF-CCE1-4400-8A6D-ED9BED57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CE0DC-D6FA-4652-B12B-43ED973E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0A191-871C-42D1-9FE4-E54A165B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CAF8F-0E92-4A3E-A8EB-E2AA04C1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63FE0-FEAB-4C93-8141-1C499182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1A8D6-A573-43B8-806A-3A03BA74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9D93-E621-4D18-9CB2-B5928635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47BB-15CD-4253-90B6-A6AD539C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6812-605A-4FBC-9084-5868FF50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1606-CB0E-4A0C-B609-E0BA52DC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832E-4C14-4396-9131-22302410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789-F7B0-4754-9456-BFD623FA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6945-0330-46A6-901F-01F51F68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9081-6D3F-47F6-89B6-388A5D8B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6D82-AD1F-4E1A-B13D-3A6E47B2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4059-08BC-4439-8FB9-12C3AD10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19D2-A34A-475D-8B0A-680162A6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1D639-94BD-44B8-A044-122D5E84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E006D-AE34-44F8-9EF1-F4248A95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DCDB-D1B1-45D6-9ED1-6A1F3299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8E19C-4A0A-42E5-958A-10367EE1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25B4-D011-403A-977D-55DEF137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D1E-6341-4169-B2CD-1300AFBF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C770D-6650-4137-B987-CE06603D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30588-8FCB-4BC8-82AD-C57AC149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F4F5B-4267-4444-86ED-CAADCB0E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38485-7F8C-4396-924D-009B7305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56DCF-99CF-40BA-84B5-9E4FF6B3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C205-D98B-4C61-925A-F1990E5E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19F9D-1BAD-4A5F-82F0-1912951F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775B9-1DCB-41DD-9F7B-49D44B4C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D726E-4E50-42E9-B3FC-CF65CF2D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F9A8-A984-4278-AE86-E1767BFC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668-4977-4310-BA88-192B3F7E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054DA-FF12-4C80-B63A-45E1CBE6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74A1A-0A07-47AD-8259-F8231C03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346CB-4709-4682-93BF-492093D5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84DB5-5FDA-42DB-BB90-62BFA89F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7869A-440A-4C75-83E5-4F2D01FE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0462C-44D8-4868-B4ED-BBC63D4D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47637-3F2B-4AD8-A643-06908F32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27C07-25F4-4975-8564-CE0BCAF5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60CF4-0D0A-4FBE-934F-ED56614C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B64B4-7A8F-486B-ABC5-BAB37E76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24B-22E0-4527-B198-254723A3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030D9-30C6-4903-98D1-AB113743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2F50B-5E3A-4737-BEE7-3AAB5EC2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84A45-E8FA-4593-B92C-16D26D75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9B90C-4FAD-418C-946D-C7E493A8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F0D95-BB65-42C7-B9C1-833AFD06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A5AE7-E350-4396-B35F-1B291755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A16A0-1A0E-431E-8E47-20356C62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9B690-89BE-41DC-95F4-DCD48DF8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31527-979E-4247-ADAC-3002A79E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74333-AD77-46A5-8D1B-40A26EAD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1A1-94B3-4C8C-8BD0-E8929E08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06D70-320E-4D85-B52C-8B64F67F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E9E25-79FA-4350-A01F-C0C91FF9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3FE8C-24AB-4252-8AAD-F118F4EB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64E80-E28A-4EDF-B629-157BEDD6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AD439-3FBF-4F28-AAEC-24764301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B3A8B-E7B8-4FB8-96AF-D60AA158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86189-11C9-4A81-9594-7DDF3951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A2C82-CAEC-4D22-8640-D342B9E0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CF1CF-710B-4A26-94BE-1D8DFA99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189CA-A084-48A0-B70F-25B4252A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C13-6CA1-49B0-86EE-6AD3DCAA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EA944-CE79-4CEF-8D85-4DCBDD85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B5A1E-40B7-4D71-B5E0-9E0902CD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9B2E0-89C5-447C-AB4C-16CAFB56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1C122-DADE-4FFF-9A5A-2F4690A3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CAA73-8BFD-42D4-AFD2-987E0326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D637F-C538-4694-991D-72FEFD49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14D19-E41F-4B46-A0E1-4F6CC17D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BF7BF-82A6-4A4A-9F95-21F601C6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37847-159D-4E48-B9AA-E341BB77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0C36C-AC9C-4E72-8448-3855D7C2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BFD-92DD-42FC-AEDB-CC5E283D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A6D71-4049-4274-A410-BEBC2799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334BD-F302-4057-827F-D594F849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F4C51-DA18-40B0-B76E-613E34B1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083CB-6D77-41B4-82FC-31DE487D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43524-E30C-474B-8A21-CC44BE49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A16AA-3CF9-4C14-A658-96A454A8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CF1C6-557E-47EF-81AB-3EBE00BC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72D78-A3FA-42C5-9D58-D4213E84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A5842-F563-4EA6-89F2-D1FD21A7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4586B-9E64-4EA0-8B3B-592DF090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B7F2-840D-48FB-A393-3D942750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70DF1-1A4F-4A77-97B6-9E9955E3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C0E15-6F28-4C25-AF51-DD447F76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BCB56-C31D-48D5-A9B8-9A7F71A8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02FF7-2962-4EA4-9DC4-F6852ABC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E82E6-6C20-4625-BD70-34230F30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C2A63-8C29-4ED5-B128-37E22A39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ADC0A-7F46-4054-8CAD-789E7376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C153C-F9F6-4B83-AA6B-96B9D21E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A2944-2DBC-4463-8F5F-A04EB021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79285-F10E-40F3-9E3F-2C69717B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AF3205A-35F7-4F91-ADA5-4EAA299012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AB85997-7F57-43C5-A25B-B740BE3A3D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3029F6-6BA8-43D9-8423-9A156F5EE1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4C817C-DD64-43FC-B680-FCFF2CE6AB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18A891F-A93D-46E8-9121-F765DAEB3E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E5EA358-0C9A-44C7-A5ED-C9A77EDF38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9087320-1A49-438C-9915-35986A042D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295A331-4FD3-41FA-B4C8-AC314DE3EB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46FE430-B2D8-4AA0-9DE6-779EE00378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8EF0D2-FD24-4EF7-97A9-907B225605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30FB486-1F09-49E6-BD6A-40218D47C8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1272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2/097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67C1F9E-0B3C-4400-8C3D-47622404D3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7D01B0-B5CC-4F5E-B863-4A372449C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7-0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A85459-D589-4B36-B021-A6DB0609E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20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23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6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tative ad-hoc assign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7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79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84 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1BD76F6-2419-4C58-8D00-12F1BDAA7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96960" y="1600200"/>
          <a:ext cx="7761240" cy="482112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AFE19FF-B878-45DB-8427-59EB49EC9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B266 on Draft 2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92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600200"/>
          <a:ext cx="7761240" cy="4449600"/>
        </p:xfrm>
        <a:graphic>
          <a:graphicData uri="http://schemas.openxmlformats.org/drawingml/2006/table">
            <a:tbl>
              <a:tblPr/>
              <a:tblGrid>
                <a:gridCol w="1552680"/>
                <a:gridCol w="1552320"/>
                <a:gridCol w="1551240"/>
                <a:gridCol w="1552320"/>
                <a:gridCol w="15526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73" name="TextBox 2"/>
          <p:cNvSpPr/>
          <p:nvPr/>
        </p:nvSpPr>
        <p:spPr>
          <a:xfrm>
            <a:off x="623160" y="6199200"/>
            <a:ext cx="55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iscellaneous includes, e.g., wrong (sub)clause number, abstract, contents,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2-07-06T03:44:37Z</dcterms:modified>
  <cp:revision>9006</cp:revision>
  <dc:subject>Task Group AY November 2015 Meeting Agenda</dc:subject>
  <dc:title>TGbe Editor's Report on LB2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