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hdr"/>
          </p:nvPr>
        </p:nvSpPr>
        <p:spPr>
          <a:xfrm>
            <a:off x="4086360" y="-115920"/>
            <a:ext cx="219528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1472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37"/>
          </p:nvPr>
        </p:nvSpPr>
        <p:spPr>
          <a:xfrm>
            <a:off x="653760" y="95040"/>
            <a:ext cx="1041480" cy="21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ftr" idx="38"/>
          </p:nvPr>
        </p:nvSpPr>
        <p:spPr>
          <a:xfrm>
            <a:off x="3646440" y="8985240"/>
            <a:ext cx="263520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 type="sldNum" idx="39"/>
          </p:nvPr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99F72CC-6BA0-42A8-B839-26CD309272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8"/>
          <p:cNvSpPr/>
          <p:nvPr/>
        </p:nvSpPr>
        <p:spPr>
          <a:xfrm>
            <a:off x="722520" y="8985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9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2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6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2C10DAC-233D-41FA-BDAF-9EE81CEDA1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88E0529-BA57-45E0-AE47-13A415713A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EB404E8-35B7-42FE-94D2-82A6ADE4E1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F637B78-26B7-4CF3-9502-40BA08C02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184DBC1-425B-49A4-91B9-14327C5AD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BC9F250-B7D7-4BF8-97ED-EB449CD39C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247AD8D-CDDC-429F-8E9F-DCA3C1383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1C96C29-7EB1-4311-AD5B-17BEED8C93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B3DCDE8-46D3-4013-8A12-9E444F1354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350A-F73E-42AC-9D80-276838407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7BAD-A27F-424C-8DC2-C8C3FEFDD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186538-FFEE-4C60-8C75-BA8C97B11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A81275-EFBA-4E3A-9C95-8654CC33F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37C80C-A07C-4A25-991D-1BF522A98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E2A5E8-F8B0-42A4-BD6F-EDA944EB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184E6C-426E-4431-BF8A-133150EC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204FA6-DA8D-40D6-96AD-ACBC7187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013B18-392D-4B40-A010-06810A21F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05AA51-C04F-4ECE-85BA-444B87675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470895-E5A6-4E24-817F-7350F4A73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E6E380-9F5A-4589-ADB6-8A8D6FAD6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FB9B-C7F5-49E2-B5C7-655E82E67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64966C-CB9C-4277-8DE9-6C87B9D23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7CB651-B39F-4D01-B02F-F506D0942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E702F1-63DE-4123-90C7-7F8BD0CEC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251F00-AE3E-4B52-881C-515939A4F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40C2DC-01B7-4D69-AA54-1982A6A2A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5ADE62-A7A6-4343-B441-CA9C0867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AF476E-28CB-4B06-93DB-0EE557CF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BA2FFE-CC34-4448-8D1E-9C4D57FF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EB953D-E24A-4085-8EB9-F44CF9B85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3ABF8C-D904-4DD6-9033-59DC9F187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3DEB-7584-4BF6-9B73-86DD7B58A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660A1D-F063-4443-93A8-FEC402E7E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91DEA2-C1D6-4EBE-9173-3E9ED769A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A34063-753F-42E4-B0AF-DC79786EE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F71C14-0E50-4FF0-B348-76B55031C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68A640-D4EB-4691-84B2-F064A84AD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EAE2C9-CF3E-45BE-BD79-649394F9E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8715EC-DC8B-4A92-B7D4-6F8747D7D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03A8DA-16E0-48D7-8145-67696B15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6B4603-80AA-4449-BA67-62AEE70B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AE5E89-E5B8-48BC-AC04-2FFA2D51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93E27-0F6A-4839-A260-190AD2A8A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5888FC-4A44-4B4F-92F1-F096FA402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AF78E6-DEF9-4930-90C5-FDED1773A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9C9E20-5694-40AC-9DBA-1FC0CF83B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CB84E3-10EB-4A0B-999F-F2C4AD10F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12DEA9-8537-4FA3-B247-00F260C80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C37666-FEA5-430A-872C-C52AE8CBB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DBF91A-E919-494B-A810-78ED89556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54C45E-527C-43E1-8983-918BBE90F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4A4055-76AC-458E-AA31-90B9C3AD0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B64511-3B99-464B-9A6F-B7E8C232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A8943-9FA3-4C11-A8B3-050D18704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9D99A9-72A5-4B1B-9385-C10BB625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F3FCE2-F1AC-4766-B8F1-D4EE450F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94FD35-6094-4E36-A00B-789A92325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A7759D-9D60-436A-8859-13C9119B3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E32ECF-A15A-491B-9991-78985E2A5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1C80B-D3A5-4A05-A0AD-F65774789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A3650-669B-4269-906E-7C5558F4C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52B83-A358-47F9-90B2-956130525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037F5-02F0-41AA-91F6-CB979A3DA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21640-C894-459B-B7DD-595093DE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05FE-62EA-4B00-A6D3-B7A40BDAB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6C120-08DE-4A91-8780-58FE7C260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8AE2D-3296-4F54-AD6C-09B9B027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FA90E-6FB1-442A-88D7-203176A8E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24704-04EA-4482-9713-1A6D40603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18ECB-0804-4036-AB3E-08BFA7902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5989A-84C9-401F-9914-70470B19C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210EE-E70B-4006-B4EB-B5F220858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F1A4D-7EDD-4E0F-9643-E4F541555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0B364-AE3E-4929-9316-F66DCDF20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63313-E998-42E0-889D-86F3EA8E8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8606-4065-406A-9FC5-1D46C5D28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2431F-A6F1-41D3-A441-733D65AC8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CBC3F-C51C-475E-8528-9C95DE4C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2A221-EEEE-4208-A714-26BF0587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3FA6F-1AC6-4978-8BE4-3D2D9135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2F6D5-35E1-4B53-8D41-C419B00DB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08C37-BBEC-4ACB-8638-4DD286A61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5C8EF-48DE-4036-AF43-7BCF93DFA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197D7-E911-46E6-9CED-2B531117B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9DEC9-C5C2-411E-888B-AF0E8FE4F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0CF4D-B081-4652-9D34-77EFD9E97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13A1-A828-437E-84AC-6C32292BF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E7EA7-26EE-4A46-84D7-2B2ADF029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38DEB-3B1F-426E-8D1A-4FE1728B7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2EBF5-F816-4684-8A7A-1FC5CA2D7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96C4D-D2F8-41D5-B26E-A296D6E6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7B342-100A-4217-A25C-5E4323BD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FD3CB-9603-48B7-A4CC-9348F8A2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4FDE1-DFCE-4CF3-BF37-079C816CB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8836A-6BA9-4B64-BB26-BB51C641C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EDF90-D66F-4FC0-B6EB-7EFF58CB9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94603-499B-4D8E-96DA-7BE7986BC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585D-009C-4DD3-9EF0-3F458B84E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922C4-FDDD-4071-B366-E2213FEBD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B6408-FDA2-42DB-B850-444E41140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A2135-1EAD-4272-94EB-7993BBB58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56477-8C6F-4F45-BDBB-8C392218F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F1BB4-156C-4D3F-9C4D-8B98C169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7E044-7D7C-4EB8-AB8C-49FE2DDD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8E4F9-4C73-4973-81B8-0498E12B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65854-187E-4A7B-9F59-E7750EB9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1C110-3E02-4D48-AEC9-B5C5D5F1E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91545-C65E-4AE2-B90A-D495677FE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44BF-A9C6-4B06-8FB8-5551D3A10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B0CD7-D9BA-4EEB-908C-7CD443CF7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D7764-594E-4711-9C1A-85FF9A2D2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A89E8D-E6E6-4ECA-A634-02BD90CE1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C60D6-D3DA-485A-AA8D-1E8E665EB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18A641-B28E-4137-AE20-C21E8E236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208D0-3710-4684-8117-CEC7A9C21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1E3C8-A677-43FE-8927-711C2B4C9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04E6F-6B41-4921-BB7B-AACD3DD5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32167-FE8D-424A-B792-A515700F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6E5A4-A0F2-43D3-9105-47271931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CB50-7DB1-42DB-8A36-FC1F9C9A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0A103-7AE0-4B89-B0E3-FE96D513D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9F110-88F5-4697-B9E7-9142BCC7D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EBAC9D-0B87-4D20-8DD9-CF99BF5FB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4AADDF-7E59-43BF-8209-1F09FEDC0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261061-9A88-4207-BEE3-D84136869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D60B80-9426-40C9-B0D6-270389184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B8564-5DC9-4D05-8F41-54EEB3DD1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934A70-D917-475E-A825-98D258E2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D8873-53AF-48D6-8247-B5E146E8F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A93AD-A360-4D23-93D0-C8859D9C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D602-2BE3-45CF-B411-1E601902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069A7-75E8-4475-915A-F870047A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515B9-E6D4-494F-AF55-93149178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21F15D-B92C-42F7-9131-D26E46310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1FA52E-8525-4D87-9ED0-960CC6D81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AF5BFE-259A-4D82-8489-625D13F7E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E97791-7532-46DB-869D-6179002E3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BD11EE-AD3E-43B6-9240-5742762BC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0F015F-395F-4486-85BE-57EF62380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D50683-5FF5-4317-8922-6EF941B13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FE3934-565D-4086-AB77-BCB5E435B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B523-F89B-4A43-924A-1716E3D2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29698D-9BE3-4676-87EF-1DCAC1A90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57A6AE-E249-41A9-AE3B-0F5571BE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92C5AB-4DF1-4FA0-BA37-904153DC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2D1154-52D7-47B1-9528-3C55B5BB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92B82-0601-4DED-AF1E-8B2129E08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612F9A-DD57-4BD8-8F00-20FB1AC5D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BFEBD0-FF4D-429C-BC11-1D95C3ABC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D8C3CD-0BDD-4E6C-BB00-01BA0D23B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9ED383-13DF-4620-88F0-6D03DF39D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8FA7DB-132E-4DF2-8FB3-3A4DA2418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7E08B19-DA50-49DE-8223-C562A741A2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8F0828B-243B-4AEB-AE55-FF964F0F72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1E3E2CE-E86A-4FF1-BEA0-E9BCB2264DF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113CB24-BCFF-455E-A7FD-B203B6F32B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0D03B81-0524-4304-B8D6-EB858D42BB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8E5C13E-68BE-4C6A-9019-162ABB8F00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0CEB4F5-1BAF-4AA5-9251-6DE6D703DA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C74D96C-1437-4F86-B848-BB8C3F7BC3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BD7250D-10A0-43B9-B042-795E6761F2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90E4471-E757-46F1-AB2A-CE393E836C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62AB238-DBB1-46B1-A11E-497CF99B53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3ED275C-5955-4374-AE91-D27FE08B906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Date Placeholder 3"/>
          <p:cNvSpPr/>
          <p:nvPr/>
        </p:nvSpPr>
        <p:spPr>
          <a:xfrm>
            <a:off x="700560" y="33480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5E34B75-4CAF-4EA5-AAC3-BC06DFCA87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Gbe Editor’s Repor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22-05-1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5" name="Object 11"/>
          <p:cNvGraphicFramePr/>
          <p:nvPr/>
        </p:nvGraphicFramePr>
        <p:xfrm>
          <a:off x="669960" y="2668680"/>
          <a:ext cx="7804080" cy="100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2668680"/>
                    <a:ext cx="780408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Rectangle 12"/>
          <p:cNvSpPr/>
          <p:nvPr/>
        </p:nvSpPr>
        <p:spPr>
          <a:xfrm>
            <a:off x="685800" y="21337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25AF5FB-448E-4444-954A-1EEF77EC8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ment Collection 36 on Draft 1.0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Date Placeholder 3"/>
          <p:cNvSpPr/>
          <p:nvPr/>
        </p:nvSpPr>
        <p:spPr>
          <a:xfrm>
            <a:off x="700560" y="33480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olution status as of May 15, 202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372 comments are recei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246 CIDs appro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1 CIDs ready for mo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 CIDs assigned and pending for re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5 CIDs presented and pending for further 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36308D6-3642-40FD-A444-D70AD4763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ment Collection 36 on Draft 1.0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Date Placeholder 3"/>
          <p:cNvSpPr/>
          <p:nvPr/>
        </p:nvSpPr>
        <p:spPr>
          <a:xfrm>
            <a:off x="700560" y="33480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olution status as of May 15, 202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8" name="Picture 1" descr=""/>
          <p:cNvPicPr/>
          <p:nvPr/>
        </p:nvPicPr>
        <p:blipFill>
          <a:blip r:embed="rId1"/>
          <a:stretch/>
        </p:blipFill>
        <p:spPr>
          <a:xfrm>
            <a:off x="1943280" y="2286000"/>
            <a:ext cx="533376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563B518-7D2B-4DA4-A11A-D94CD1643A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ment Collection 36 on Draft 1.0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Date Placeholder 3"/>
          <p:cNvSpPr/>
          <p:nvPr/>
        </p:nvSpPr>
        <p:spPr>
          <a:xfrm>
            <a:off x="700560" y="33480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sio fig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you propose a resolution to a CID that modifies a particular figure in the draft standard, please visit the members area and download the latest visio to edit 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ter your proposed resolution is approved, I will ask you to provide me with the Visio (and preferably the emf file too) for produ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arlier I get the Visio (and emf) files, the earlier the publication of D1.6 (see next p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4C9D355-EF2C-4750-8788-C4186D3C1F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1.6 and D2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Date Placeholder 3"/>
          <p:cNvSpPr/>
          <p:nvPr/>
        </p:nvSpPr>
        <p:spPr>
          <a:xfrm>
            <a:off x="700560" y="33480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suming the motion to move forward the WG letter ballot on D2.0 is approved, the following materials will be posted to the Members Area by early Ju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1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DF (Clea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2.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DF (Clea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DF (Redline compared with D1.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(Clea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s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ifference between D1.6 and D2.0 is the CID tags.  In D2.0, all the CID tags (over 20,000) and many Editor’s notes will be manually dele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48084C8-6E15-4F15-868D-D7B192A16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ll for volunte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Date Placeholder 3"/>
          <p:cNvSpPr/>
          <p:nvPr/>
        </p:nvSpPr>
        <p:spPr>
          <a:xfrm>
            <a:off x="700560" y="33480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ditor may need around 9 volunteers to review a pre-release draft of D2.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ck if there is any missing cross 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ck if there is still any CID tag left behi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mark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itor expects that the number of pages of D2.0 is just under 900, and each volunteer is expected to read up to 100 pag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volunteer is expected to provide a quick turn-around within 36 hou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6F3A1AE-8533-47A5-ABB8-86716B794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ment Collection 37 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existence Assessment Doc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Date Placeholder 3"/>
          <p:cNvSpPr/>
          <p:nvPr/>
        </p:nvSpPr>
        <p:spPr>
          <a:xfrm>
            <a:off x="700560" y="33480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7 comments are received, including 4 from 802.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2 Techn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3 Edi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IDs are resolved and motioned in the September 2021 interi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652323B-C5F2-40D7-9E31-1D8313BD92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ditor’s documents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As of May 15, 202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Date Placeholder 3"/>
          <p:cNvSpPr/>
          <p:nvPr/>
        </p:nvSpPr>
        <p:spPr>
          <a:xfrm>
            <a:off x="700560" y="33480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3" name=""/>
          <p:cNvGraphicFramePr/>
          <p:nvPr/>
        </p:nvGraphicFramePr>
        <p:xfrm>
          <a:off x="685800" y="1616040"/>
          <a:ext cx="7924680" cy="3641760"/>
        </p:xfrm>
        <a:graphic>
          <a:graphicData uri="http://schemas.openxmlformats.org/drawingml/2006/table">
            <a:tbl>
              <a:tblPr/>
              <a:tblGrid>
                <a:gridCol w="1033560"/>
                <a:gridCol w="6891120"/>
              </a:tblGrid>
              <a:tr h="331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C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it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1262r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ecification framework for TGb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293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1755r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endium of motions related to the contents of the TGbe specification framework docu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/0566r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endium of straw polls and potential changes to the Specification Framework Docu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/1935r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endium of straw polls and potential changes to the Specification Framework Document:  Part 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20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/0997r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Gbe spec text volunteers and statu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/0546r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Gbe spec text volunteers and status:  Part 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04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1935r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Gbe Editor’s report on CC3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/1062r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Gbe Editor’s report on CC36 and CC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/0223r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EEE 802.11be CC34 commen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04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/1018r6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EEE 802.11be CC36 commen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/1019r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EEE 802.11be CC37 comments on Coexistence Assessment Docu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DCC72FC-D051-4463-A1C2-DC6C89546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ditor’s documents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As of May 15, 202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Date Placeholder 3"/>
          <p:cNvSpPr/>
          <p:nvPr/>
        </p:nvSpPr>
        <p:spPr>
          <a:xfrm>
            <a:off x="700560" y="33480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 to 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 of straw polls related to the contents of the SFD are summarized in the latest version of 20/1935. Results of motions are summarized in the latest version of 19/175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 of straw polls related to PDT and PDT-TBD texts are summarized in the latest version of 21/0546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 of the straw polls related to the comment resolution submissions are summarized in the meeting minutes.  Results of the motions  are summarized in the “TGbe Motions List for Teleconferences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8:10:23Z</dcterms:created>
  <dc:creator>Edward Au</dc:creator>
  <dc:description/>
  <cp:keywords>Contribution</cp:keywords>
  <dc:language>en-US</dc:language>
  <cp:lastModifiedBy>Edward Au</cp:lastModifiedBy>
  <cp:lastPrinted>2014-11-04T15:04:57Z</cp:lastPrinted>
  <dcterms:modified xsi:type="dcterms:W3CDTF">2022-05-15T18:56:51Z</dcterms:modified>
  <cp:revision>9055</cp:revision>
  <dc:subject>Task Group AY November 2015 Meeting Agenda</dc:subject>
  <dc:title>TGbe Editor's Report on CC36 and CC37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change">
    <vt:lpwstr/>
  </property>
  <property fmtid="{D5CDD505-2E9C-101B-9397-08002B2CF9AE}" pid="3" name="_full-control">
    <vt:lpwstr/>
  </property>
  <property fmtid="{D5CDD505-2E9C-101B-9397-08002B2CF9AE}" pid="4" name="_ms_pID_725343">
    <vt:lpwstr>(12)O48q+nWDiKNAVXoAwq58w7ATF5BZpxUzus1FEuepahc6BRLUWdfXeHQFTCUY0LJynFgfmRNUPZlAVy+j0r6pbTTT4EXTIDQn++fDAJzW+wNWbLiJe8Z4f4WxdeblmkwEZYVIjqjQH/zBS5y6b9GoioXTXjFlVZ7xPu5xRU0WiDXzU0e3oG78RYbPZ2aHX/hl9SFYOtYdUMQjNw+W6g45GYePd7oGmr8CiOcEr8o5DLsyXdeT</vt:lpwstr>
  </property>
  <property fmtid="{D5CDD505-2E9C-101B-9397-08002B2CF9AE}" pid="5" name="_ms_pID_7253431">
    <vt:lpwstr>hBtTL66MZvP2f/KaV3adKT94KHNJID0xypYHmm25hGzk/ETif8Sj8xBGFsYnZVfYQOQ/wAyM9jGI1mxvLrml8FSLl4bDbfLtpebXgH+6bsglE2sjb5/6PLqZ6vrPMuq4xHCeAFploXk9GR4pqeBSsTI3ryAIkLOeZIHu3OlyhiIUHAYFFjusCknP+OLaVPfpnqpJjopJQHwudTzey6vtimu1b8SZqaoMzXoWNM8jqNR1+tnd</vt:lpwstr>
  </property>
  <property fmtid="{D5CDD505-2E9C-101B-9397-08002B2CF9AE}" pid="6" name="_ms_pID_72534310">
    <vt:lpwstr>kiAeZ3SViGiZnriBbU58KYt1RpZ8eBinUdFbRfYxQXRkzDWwNQewHtw75pcA6cREPLuI2SAbxHVYSR3ZUQ5zzjYwte9tx/Sz0XORHKyOcmsIT5gncnPVLYLsDnTA2iOGX/DUw8XNZoQ9LYZzW9Y+ux8R1UZoLQv4XUK12L129g9SBWNmAOm2sZnFbfrpXSC/kozVB/gOTHDLzacdjMJ1j+FvpemlYvFkaW2xdXn6gHIjaUtI</vt:lpwstr>
  </property>
  <property fmtid="{D5CDD505-2E9C-101B-9397-08002B2CF9AE}" pid="7" name="_ms_pID_72534310_00">
    <vt:lpwstr>_ms_pID_72534310</vt:lpwstr>
  </property>
  <property fmtid="{D5CDD505-2E9C-101B-9397-08002B2CF9AE}" pid="8" name="_ms_pID_72534311">
    <vt:lpwstr>w8PjNg==</vt:lpwstr>
  </property>
  <property fmtid="{D5CDD505-2E9C-101B-9397-08002B2CF9AE}" pid="9" name="_ms_pID_72534311_00">
    <vt:lpwstr>_ms_pID_72534311</vt:lpwstr>
  </property>
  <property fmtid="{D5CDD505-2E9C-101B-9397-08002B2CF9AE}" pid="10" name="_ms_pID_7253431_00">
    <vt:lpwstr>_ms_pID_7253431</vt:lpwstr>
  </property>
  <property fmtid="{D5CDD505-2E9C-101B-9397-08002B2CF9AE}" pid="11" name="_ms_pID_7253432">
    <vt:lpwstr>x8ME0DQ2PpRh3avrRbfrZv56P6DdLEWGgiSMf+uDB4pq8mzhbhG6zPVPz3X1HS7rV0q5VF4keEsOSPp/KUMahD6kIQ6nI8qma02y7yusddScuZyMKuYK7AFTacu2BRKKxw82Xzx/b9m828jjjbhdYp08I8L82pMlPMiTjrFCpVp1AC8y6wfo3GM3bJVjc7D4DG5rJI1R0MXpzIiQOzKrXn0tHb6SOvbzeZuVqelsG00qCwte</vt:lpwstr>
  </property>
  <property fmtid="{D5CDD505-2E9C-101B-9397-08002B2CF9AE}" pid="12" name="_ms_pID_7253432_00">
    <vt:lpwstr>_ms_pID_7253432</vt:lpwstr>
  </property>
  <property fmtid="{D5CDD505-2E9C-101B-9397-08002B2CF9AE}" pid="13" name="_ms_pID_7253433">
    <vt:lpwstr>DeUnBJ7jXkhDFSfx2mbaZLiRTmabchORs5UcQM7t6iy9W9V5x0aJrpdekEha9ev1v7ztBtDiSNiz0nb5TnbmoOjSO9dSTPtxKJtkBk0VOT8v8uSIsc13cQc0DfmbMnZDCw/73NT8fGNvpvuxnOABvrA90Ua7RN1L2t9H8pOjEZKxCOmcGK2xRY5PojaZXHShwppauFNrvLHwrK2A1xMWv2Hy/8UBtsBI7RPOw+pkMh3CoR5h</vt:lpwstr>
  </property>
  <property fmtid="{D5CDD505-2E9C-101B-9397-08002B2CF9AE}" pid="14" name="_ms_pID_7253433_00">
    <vt:lpwstr>_ms_pID_7253433</vt:lpwstr>
  </property>
  <property fmtid="{D5CDD505-2E9C-101B-9397-08002B2CF9AE}" pid="15" name="_ms_pID_7253434">
    <vt:lpwstr>9t84MRtTx6Thnshgwp5BWq4UiuH84Eiujfe39Icajo8bMu+OO+aJRKLepkNrNUE99MU7YuJd+fFCg3aweaBTnq2fGfvMW7Ut/bQu8RC1FTVvRRLGOQlyb7hYMxC9aIRdVBZ6p18/5pQrL2cu4rhCKSpebJkgn8YLAtFbLQvYKXu93YKEYLjKpDwJeP+CyI8vT062JGalwlQ3Yvee3IDqJW1yqOBg24U7zWL0L3MKhhrvO8f0</vt:lpwstr>
  </property>
  <property fmtid="{D5CDD505-2E9C-101B-9397-08002B2CF9AE}" pid="16" name="_ms_pID_7253434_00">
    <vt:lpwstr>_ms_pID_7253434</vt:lpwstr>
  </property>
  <property fmtid="{D5CDD505-2E9C-101B-9397-08002B2CF9AE}" pid="17" name="_ms_pID_7253435">
    <vt:lpwstr>6GWTJDqz29S7smRvZQ2d6O2tevCrNSUYcO/TE5kl465CI3u3agCbKz/IqAI6BCDNXFzeHpTc0L65mbokTOrPcULOX23R2vtnlJnGDo1mTjdsWF4b4qPHz0R58sXuSVXhknyPvskulsySMkLGliq6rC8WkcO5aBCH/kRw9eAT1jvX2qCdNVwm1UhsJZec74rp824gmFvr6KutP18IGVz5uhur7VnixQSUGNWBIVj552MkbME6</vt:lpwstr>
  </property>
  <property fmtid="{D5CDD505-2E9C-101B-9397-08002B2CF9AE}" pid="18" name="_ms_pID_7253435_00">
    <vt:lpwstr>_ms_pID_7253435</vt:lpwstr>
  </property>
  <property fmtid="{D5CDD505-2E9C-101B-9397-08002B2CF9AE}" pid="19" name="_ms_pID_7253436">
    <vt:lpwstr>sTeVGnCQ0WCLcu3MQHuO0TFinWdHluh2Vf6zXtBjuRebL8xr6suQUaNHGWcf621zJRFmh33DmaFN7MhZOreGlD6ucG2hrcCFhIUw1L/vg/10yQu6cia0ltRDyoV9ZARFiNAqXnGHWnwNjirxWaWwRuMcte7s5PAnIc7KUTz33edbdJXdaI39osewTu48zvXD5Ap8Q0zJ809EcnCIXc+WtGKSzpnNNWwFyVUPx3CFyuEpL4Pj</vt:lpwstr>
  </property>
  <property fmtid="{D5CDD505-2E9C-101B-9397-08002B2CF9AE}" pid="20" name="_ms_pID_7253436_00">
    <vt:lpwstr>_ms_pID_7253436</vt:lpwstr>
  </property>
  <property fmtid="{D5CDD505-2E9C-101B-9397-08002B2CF9AE}" pid="21" name="_ms_pID_7253437">
    <vt:lpwstr>Dm3MIKDygnrlJgGYaKT7hvJiY3AsvZDFcRpNIqaF2iH+3iYHuJDWGNqjQFQTnPnIW4L7Ph3g4wZJ6lvGXdrp7GMSeF0/HbFbONKSiB6fo3sjR58WECrD3iyflR3pBaDoQwN398Hqp9MUjYgpTKwoV9UJBG1HMAxflrQaAv6/QXkRlJDGoKn90YQTAs+RxuWobh62wp6uacyFPhO3dxEgde63/NbE/BFnXQtf45PCGNa3KvlH</vt:lpwstr>
  </property>
  <property fmtid="{D5CDD505-2E9C-101B-9397-08002B2CF9AE}" pid="22" name="_ms_pID_7253437_00">
    <vt:lpwstr>_ms_pID_7253437</vt:lpwstr>
  </property>
  <property fmtid="{D5CDD505-2E9C-101B-9397-08002B2CF9AE}" pid="23" name="_ms_pID_7253438">
    <vt:lpwstr>2TW/xbkhJGEaCFDDLT5IDAVYF7wCtVb86KgY7RouYgbTiiRUOUZdvQgYasRYQjRRQHq3j7PEJ5m9aiErVUdxB14eSEqi39a6X/0IWvo/Tl6lOouA5yKfuJr+AnxG9iCUEzuOlA5YtCxXAL38I3f/xKvhMKnXvJsA3IDAAIj0TdpHkqeEjGqdZaLJun9BFA8ui4iGfsGtGbd83Tu9xvBJhy61UCXLzIC1/3e8A7uQIj70Y9vE</vt:lpwstr>
  </property>
  <property fmtid="{D5CDD505-2E9C-101B-9397-08002B2CF9AE}" pid="24" name="_ms_pID_7253438_00">
    <vt:lpwstr>_ms_pID_7253438</vt:lpwstr>
  </property>
  <property fmtid="{D5CDD505-2E9C-101B-9397-08002B2CF9AE}" pid="25" name="_ms_pID_7253439">
    <vt:lpwstr>y6kFNTjsH2mE8f1UM95zogrbUuwzLzv11JqPEndS5UH5Lo8hJp1y9mBWg137eLLAXkxWIT1wLg0+p/ZEkq2ar/3u10yNvrddGtCMOn+Mik/A6YEfsGhiacDa6gq2VTnIhFya5g2Un2Qd5eq5mxnZth6Wic1AwgAKLTlzgAodJEMyHfuT91df79HCc/2kG/biuHnoxtPvJnwn+VOSQPxc/3X08hy+h9J1u9JNx0xL2/GBk3Jq</vt:lpwstr>
  </property>
  <property fmtid="{D5CDD505-2E9C-101B-9397-08002B2CF9AE}" pid="26" name="_ms_pID_7253439_00">
    <vt:lpwstr>_ms_pID_7253439</vt:lpwstr>
  </property>
  <property fmtid="{D5CDD505-2E9C-101B-9397-08002B2CF9AE}" pid="27" name="_ms_pID_725343_00">
    <vt:lpwstr>_ms_pID_725343</vt:lpwstr>
  </property>
  <property fmtid="{D5CDD505-2E9C-101B-9397-08002B2CF9AE}" pid="28" name="_readonly">
    <vt:lpwstr/>
  </property>
  <property fmtid="{D5CDD505-2E9C-101B-9397-08002B2CF9AE}" pid="29" name="sflag">
    <vt:lpwstr>1555359667</vt:lpwstr>
  </property>
</Properties>
</file>