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9F35BD-2D88-4A0D-9FA8-481874AF6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5A4441-1FD3-4870-929B-37D9DD59F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DDB416-03AF-4682-9AA7-0C9E072B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2C9A5D-E2A1-4B16-A4EC-C7C69B620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07DE7D-7203-4CBB-A1D7-3F479AD8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DCA092-6DAC-4490-BCB8-241B8FCA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BA1B50-95FE-4D77-911D-ED0192BE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65492A-25CF-429E-B722-CB13ECFD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C5C4B1-617D-4E1C-A910-29B5058D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5B2FF5-B6CA-4F49-AC5B-9D3EC9EC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4A7-2278-4D53-9E54-D5DF17F0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35C-A11A-44BE-BBD6-A9DCC4E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989A4-CCAC-46C4-A5EE-53D2C23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552B3-C29A-4219-AF2B-476EF4FD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91075-33E0-4C90-829A-2F2F0BCD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EB21-4CCD-43DC-9151-BA1B05D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9823C-C5F7-41B4-9BE3-104E066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0A3B6-6EBD-4B0A-90D6-B409751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D30CF-447A-4329-8917-BBB140C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C8B4-D69B-4115-B95E-3B8CBC82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2F0C-D3EE-4C31-A4AA-3A100B9D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6C091-7E67-4AF4-AC83-5185224D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E13-05A6-4467-B697-54A49ADF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1610-6698-4435-B608-C23960C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D9212-C80C-4E54-A3A3-E241F2F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0C626-099C-49ED-8BBD-B0F74632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8FC54-3631-4EF7-9BAA-C156795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5135-F0FE-4014-8C17-FD9CA3E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9E625-9031-4D41-B76A-4803758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6FB85-8187-4FDE-802F-87A2E14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8A07-0C20-4316-860A-E634816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49E8-3D58-448F-B9F1-B5B3BE7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6C5CD-5ECA-491C-98BC-6318E4C1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716-A209-4321-B88C-5B09FDE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87D23-947A-470E-97C5-66F89289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3DCAD-38BB-448A-9DE0-D0C61A0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E5918-1A2F-4844-995F-3A053893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16414-C3D2-4CCD-BC99-3597988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4EDA-4206-4FB2-9FFD-FA597A1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313E2-E7E6-4FF5-A0AC-0C16E2CA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5C160-3BE0-4ECB-AD83-E934D954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39A78-F3D7-4DD0-90AB-DD08262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FA6C-C1A3-4551-BE8E-96D98A9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FFF6-7724-40EE-B69E-AC9B4EB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780-90B5-41C9-8560-A7212C84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60BB5-DEA9-44F6-8975-1A1D1E5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13A38-3292-45E3-9C3C-543CC02D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D19F-D25D-4C76-9C4D-12FF3027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F6DF-CE38-4629-B6AD-CD8278C1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46645-8921-41AB-B425-749308D1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DC76-1D42-4ACE-A56A-A1EEAF1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00E2F-DC55-4CA4-85AF-B27F621D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DCFC6-DFD8-4745-ACD0-1E275B0A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F7813-0785-41E2-90D6-18EC648C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B40FC-F693-4AAD-AED0-80BCE2C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C832-AEDF-455E-AD71-A054718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362AF-0905-46B7-AD40-E836C0F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9DECA-2267-4020-8FBF-6FD7A90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D6736-3288-4766-9AB0-AA62D5F3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16DE9-77BB-4DE6-AD77-C91E8B32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8A267-5CCD-4806-9DB4-0505CECC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FC97-F5E8-4D36-BD4B-19B9BF71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9AA6-1CF5-4753-B268-47F4B76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04A0-23D2-4DD0-8AB1-307CE362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403-FB5F-4F52-B9DF-6102E59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E467-FEDB-4928-9AE9-47DBF9F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121-C9A8-458C-A544-90904A6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2811-721B-4BDC-B1AA-E113C9A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B99A-2160-4151-8AC2-0D4B5B1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58D1-3728-4501-9741-44D2C86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750-C7A9-4279-854B-7B466BE8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F757-12E7-4623-80AD-69AE5CF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1EF5-F0E4-4FE1-B751-13A95EE1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98EC-D65D-4904-A5CB-12750FD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1F65-F685-4953-A36D-4857F91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B3BC-2D60-4B91-86BD-1777ACAA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83DB-D497-404C-A596-FBCC84BB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E28-AAC9-4FE0-8B4D-47ACD16A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515A-676E-4DD0-8C65-7105FFC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4737-FACB-49CA-8E86-9032D41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1DAA-578A-4815-963D-2899BBB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F0DB-900C-44BC-89C2-442D02D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F68E-6AA5-4FCF-AADF-82FC000A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DFCF-C20E-47C6-9636-35D36737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B377-2608-4097-B8A5-CD3D0E03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AD5E-85BC-46B7-8714-48A9DB39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3B6E-4089-428B-AC91-7D3D1EF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9553-16FE-4059-8652-66DA51E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15D-851B-479B-B919-E0B0ED9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6B88-FE84-4D6F-B86B-B2ECB8CD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2856-CD09-4735-ACC8-66E9BBB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B2D3-B4D7-4888-AF61-B6593C6B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7CA1-7019-4704-AB80-B8DA9F4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9F3B-5FBF-49F1-AFC6-E4DFD77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BD2A-1EDE-45BB-88D6-A253B9B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9930-C7ED-4D7B-9477-A316887F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76DB-DE38-4D33-A515-6A48B82D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DD18-F776-45AF-875C-0552ABA4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2D72-CA09-488E-A42A-4C96F76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E48-EA0D-47EE-A362-B52902D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51FD-34F0-4461-81A0-59BE32EB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0280-CA9F-4F91-92D7-DA2079A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3E201-0331-4189-9C26-0179553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A4CB-0720-4057-8299-5E2D91A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C83C-0667-4210-96BF-42CCD6B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EF3A-8976-4E05-B0EC-49C9FB4F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3BEA-6745-4268-9640-35B4E4F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D3AD-69CB-4F8D-9658-C4726643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32FC-A9D8-4FA9-98E1-2F74A81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163D-50C9-4ACA-954A-90837F02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6FE-3E53-46AF-92CE-1A2AECD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AF89-4481-44B0-86A4-B08D0BD4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EC5D-C719-46B0-89CE-25D005E3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0FC5-57D8-4BDE-A72A-4E7AD761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3B9C-5CC5-4F10-87D7-4C172AAA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E1A6-80B1-4556-A4FA-CEB4F9E7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E0E2-1C9D-497A-B55A-3365CBB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BC4E5-D7E7-4D12-ACA2-BBEBC01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11817-CF25-4802-AF42-C1981B5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6557-D764-4FA5-8661-0F5FDE3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F792-CAD3-45E4-992C-81C7AA4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CF8-549C-468D-8D5E-50D61DB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2639-CA3D-4E33-A498-F2C0B9B9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1BCC8-7BC5-46DD-926D-0636E142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4BC82-09B3-4CF2-B147-7E1483BB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E6A7-6434-422A-89CB-C9834B63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B7E6-CF22-4187-87CB-E5F5389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ABBE-8617-4812-8F6C-651C6A7C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FBC2-098E-4E96-88D2-C95442A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C621-321F-4545-8CED-F314ACC8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9C26-DB42-4711-971C-622438B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44357-E68A-469C-A678-B2EC8E7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4F8-D765-408A-9ECB-A4CB537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5C4A-84AC-4BDE-A161-32FFA5E7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6A132-8758-457E-88EB-E53CEB7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ACEAF-A7AC-44D6-9072-EDAD154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02E6-9384-482E-BF5C-72B2C13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6874-9513-40A3-821E-7D09819E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E02E0-7D67-4DF4-BADE-16E0129A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AD3B-3FEC-49A2-B64B-0EF905FC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EA9B-1897-48E7-B08D-A0EC142B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8FBB6-353A-4C2B-859A-D3DB4BED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180AB-8ED6-4223-90AD-06E282AA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FD9-CEF4-4775-A7BF-6E2CE0D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C375D-2368-42B9-83EE-11C3465E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B43C-D7DF-4E54-8821-5E63DC7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8059-FCEE-4A01-8349-7168E44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94FB-9C89-4151-96EA-710E7F6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5B623-BDF5-4C2D-ACBA-5E451C1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ECAFA-76EF-4C64-A42B-55239202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4144-BE10-4FC8-B147-3D653148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FCFAF-61D9-465C-B7F8-6857CE8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A85D-6D9A-4DA8-B9D9-C20A8AFE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59CBD-61C9-4BCE-843F-314CD7BE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079292-6CC3-416A-9CFD-5D070F810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F7F107-3E38-4326-8F20-CD09728621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BD18D3-E52F-4DEA-9FBC-1794CCF69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3339C1-830E-4998-BC97-23D47ADF3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93C5EE-864C-4011-B5D2-8D1BD1339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3768B7-0E87-48C6-9F35-931A361C3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F20BA0-AC5C-4118-8315-483AF0A3A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0DE12E-536A-44A1-B990-7C5804B8A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105E72-7345-4776-8EF9-A6FC5187B5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692E83-77C2-480A-82B7-65311AF80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2B2AE8-C0FB-4277-A9BE-2C3D55DB6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BA13B9-9A21-4338-B4C6-7C6AF5D3F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6D407E-4256-43A1-921A-F99FE37C5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5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5AF46B-6A9C-4C70-BFFB-89F5E943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6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CIDs presented and pending for further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14229D-40E5-47C3-802D-EFAF77AF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943280" y="2286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38F150-3D0C-446A-9B68-0908CEBE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lier I get the Visio (and emf) files, the earlier the publication of D1.6 (see next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D98259-D2A2-443C-9129-D7614235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6 and D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ing the motion to move forward the WG letter ballot on D2.0 is approved, the following materials will be posted to the Members Area by early J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6 and D2.0 is the CID tags.  In D2.0, all the CID tags (over 20,000) and many Editor’s notes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983D06-0ED9-482C-A1FC-2EA64AEC5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for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or may need around 9 volunteers to review a pre-release draft of D2.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there is any missing cross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there is still any CID tag left beh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expects that the number of pages of D2.0 is just under 900, and each volunteer is expected to read up to 100 p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volunteer is expected to provide a quick turn-around within 36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FE1421-304E-4A21-92ED-D53CAFD25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5FA3EF-DBF5-43F1-9B20-3CB6140E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7696DC-EB10-45D9-9780-15C42916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5-15T18:56:51Z</dcterms:modified>
  <cp:revision>9055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