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A51B50-4F46-4DF0-B150-F155E465F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3B195F-8C39-43C5-8C7C-EE94A63B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0692D8-B456-4558-899F-B09927C8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BCC8EC-8AE0-4DF6-9E22-586B854D5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5002FF-BD88-4E6A-BFD2-6CCBE5663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A66B10-4C03-4CB7-9FCC-08283FB4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2E600C-19E6-48DA-AF01-EAFBDE11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3A3167-B347-433D-AF93-4DDDA479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3F5-1E23-4693-B9D0-8E6441B8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4A1-2822-412C-8D30-1F84CA8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D436C-C771-48EB-A8E2-00DB43B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D2251-1DF3-4868-8254-9A25CF5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F15B-78C8-44B5-A490-33FFA67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C50F1-9F40-42C9-91F4-95E12B40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047A-D111-4081-891D-A015947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F462-657B-4085-AA1A-0D456F6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D6FEC-8F04-42B3-A6AC-10689C73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73421-A0C2-4402-B567-AB14993A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94A32-480F-49EB-B60F-9BBFBEC3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1214-487A-4A7B-BD16-9380C60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52E-7969-462C-AE11-B07D1C30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DE5A4-6D85-4D66-9692-73E7A3D4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718F9-9D6C-4A8F-99DA-E594CE94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2379D-1895-49BC-A4E8-AD91F9C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0E150-E34D-4EFE-B5EF-920F8CD5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49E31-1937-4C40-9929-909973CD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864D5-C605-4A39-8291-DDC9779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971EE-1B21-488A-84FF-E91E3A3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8BD41-B025-495D-926C-C334444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A385F-5E69-4B09-B4BC-78A0D039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2271-DAB8-4BB9-9114-325EFCA7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E9C-4A86-4038-A4C5-BFE99B47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FEF1B-EA6F-4936-A200-50E6A962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F928C-2EB1-45F2-8E17-F43C2E0E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FA384-3C7E-420E-AF56-C24C7FA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3C10-962E-4E7F-BD66-E8460BD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738F9-BC9B-4644-A4A0-D5F9938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2A4EC-9D37-49F1-B685-C3BF3C89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D39C5-3197-4542-9DD7-51FEF7CE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C06DA-9656-4F80-A62F-2FDAFFC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5C073-76C3-433E-ACF6-0CD6557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F2EAC-3D65-4A2D-8E0D-3995DCD5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0BD-7D03-4CCC-BEEE-05D63CD6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8DB4-1752-4FF8-868A-6D64F59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24931-2349-455E-AE8C-E2620AD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46E9-C451-4282-94AC-C70E6675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17B26-C1A9-4C83-B55D-6C84BD3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F58D7-1474-4356-B398-5A86BA26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2C89E-D4CC-458E-A31C-0AE8594E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F1204-7754-421F-BBED-4DE340A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B3271-711B-408A-90FF-4CB9550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C58B-73D6-4EFA-A2BB-921D10B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7EA3-707F-4BB5-B9EE-F3EB5A7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672-909C-4739-899A-FE1A36F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9F9D-0B12-421C-8825-F9DE887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4122-8CBF-4D91-9CCD-84CB2F1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8FCFD-1DF1-424C-A1F0-F296BBE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62231-A052-4DB8-950F-0F558C08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2BCD6-929E-49F1-9DC2-CE196FCB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71D-3940-4851-A070-4483B29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041-1A22-436F-8CCE-AC8BB38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A513-B79B-44F7-B897-665B1E4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8CB1-D78C-44B7-B11E-C1D079C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85D-5F27-4198-9F30-1548194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F94-D23E-43D9-B7C8-3B30428E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4020-7131-4416-86B2-7691273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C31-AB7C-4EA1-8C47-F3D9C7F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26D-803C-46B4-B8F2-4E1FB541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CEE0-54FB-4B23-93FA-48A12D2C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338C-36AE-45F8-BBA4-748119A2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5430-B507-4813-B624-82893275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A848-A8AB-4175-BB7C-8A71BFB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4AF5-B5CA-4452-A827-93556D1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E6AA-EA8E-4F9B-9031-04E540B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F286-0F9E-455F-ABB0-BB85AD6B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894-458F-4D1E-8903-7A54156C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ADFC-E32E-454F-946C-55C54FFC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9B4A-0A8F-41D3-A777-AF68DB9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8717-0D0A-4FE0-9FDB-225B177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2227-5CA1-4287-84F8-1F54578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EE9B-A4A7-4BA7-BF56-5644D30A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79BC-7F9C-46A0-8ED3-C9210226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F914-8347-47B8-949C-8BAA51FE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2C30-42F3-4E1B-AF7F-D6139912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6CD5-3707-42C7-8197-0F2A9D8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88B3-3BFC-417A-A5F2-B5CF147D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98E-459F-4F6C-8792-3121060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DC052-47EA-4DF2-875B-0BDCA0B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8DAD-8041-4260-BB7A-30B699A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FAFC4-686E-4DD6-86A1-570521A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FB83-1F2F-4EA4-A918-CD285A7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C288-C8F8-4D25-B37C-C38E8A6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A34B-7B0A-4D90-A118-DA24320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D477-0B27-435B-B2DA-B811FDD8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F3F0-C5E1-4DBB-B4EA-D06B1D45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D508-875E-4D53-900B-5DADEB4D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2340-C210-4E2C-8B00-EEA6AFE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522-BCCC-4F0F-A9AC-3CFED40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B6CA-D51B-40B4-8E05-6C80FAAA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12CC-735A-44AF-8755-9789942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4C13-39B8-4C7E-9072-495A538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097E-A578-4316-B80F-5ED27478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DF1E-19AC-4033-962C-263AB333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DF5E-D1B7-4D2A-8FDC-C084BD9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25A0-A063-4BF2-BD89-D1F1C17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A488-A492-4A36-BC5D-C4746B2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3E28-1571-4806-8332-C278785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4A6D-5719-4F39-ADF9-DF66AAE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B6B-2393-41ED-84BD-28DFE9F2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4C22-10CB-4BFA-9082-C3076EF3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2A838-3257-484F-B678-F6B12B88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674F-99DF-43C5-BFD4-5251BC68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2CD2-30BD-4B6E-80BB-EE64AA93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2AB2-F0F0-4054-A5AC-5E6008B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683A-2FF2-45CD-9C85-9AE38868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B1D5-3355-461C-ADA1-6BAE7A2E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67DC-D37B-49CA-80E5-1A04B05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3C02-6E30-45CD-9810-9B8E3FA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D2A1-1BA7-4716-B809-F3DF31E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E2C-3E31-4151-823B-A1BF3C4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C3CE-4426-40DE-B4DB-886B2CA6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1BEA-0CE7-4ACC-A9A3-A14C201C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16CE-FE6D-4EAB-9345-F78D09A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09B0B-A808-494D-9CDD-D652F2D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D68D-A4A2-4616-A740-23F90F46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072D-3E8D-4BE5-BFF1-D46440F2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A139-89BC-4621-819A-EC76E63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9C23-AEF4-4C11-8B38-EF9E7550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D4A9-4B98-45E7-A809-131A564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F628-E49C-4290-84C8-4A84C28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00E-29C0-47BD-B800-AFA7C0D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2906A-F6DB-4F8F-A406-98D823B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6E46-3B36-46E2-8FE2-1586AAD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629C-63A2-441E-9E51-9242851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D9BB-32FD-4EAE-A645-A84FA7F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F7C67-1311-40B2-B76A-7BDA2C75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FD61-AF60-4FE5-8671-ABD5A415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1D99-AE95-4EDD-912A-95121A1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21BA-D691-45F9-A8E1-7235FDF5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47B7-B8A7-4C77-9C39-B25D61C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4196-1F2C-4DEE-8B82-86C58E3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1F9-619B-409A-B425-1F5DF18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EB4B4-6440-49DF-93E9-EC6B21E0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69F2-7414-43E8-87D0-F9BE18D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3E33-4847-44B1-9DDE-1B2A1B5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E1CB6-94BC-49CB-87FE-54B238B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C973-73E4-4AD7-9F9C-6B63A92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B6FD7-6177-4527-85F8-DA42D3E4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92C9-E3DF-4FAC-BD4C-2FD405B9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C1872-A0A1-4F6E-9323-BA9505D1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07895-1858-4851-A647-A2C762EC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F6B15-A486-4458-87D4-1965BD3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C988C3-DF89-44A2-8CCB-ACE8C4AEF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227D83-1576-40C9-ABB6-38A64421D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6E6B7B-47AE-4EC0-AB54-06F91169E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B702D3-93B4-4727-BF84-D974BD7AA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32418E-E5EE-4F2F-8DFF-067F2167F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485976-287F-4C1C-BDCB-D541DE147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6625C3-D297-4915-93C8-537D1B0E9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FBCDED-0F42-4EF7-B31A-06097D1C0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5A4002-A3E5-4A46-ACA7-7B985108D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3BF2C5-287B-4A1D-926D-9B43453F3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74732B-4DDA-41A6-BC84-49B28D7701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58B31F-0E0A-432C-9E3C-860723D5F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9F4031-0681-41B4-938C-7729695B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5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1706A0-3FEB-4531-BE12-3BAC2640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6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CIDs presented and pending for further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C1D394-3645-487A-ACF2-722CCBD3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lier I get the Visio (and emf) files, the earlier the publication of D1.6 (see next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4B3A5D-0964-4B83-B051-D5CB92D5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6 and D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ing the motion to move forward the WG letter ballot on D2.0 is approved, the following materials will be posted to the Members Area by early J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6 and D2.0 is the CID tags.  In D2.0, all the CID tags (over 20,000) and many Editor’s notes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ECFF17-4E25-4595-AADA-86FE2130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D82C42-90F6-45FF-A914-FD5A01ED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C4792E-B6F2-4D04-8978-8A88A089D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5-15T15:00:58Z</dcterms:modified>
  <cp:revision>9052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