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32E66B-7267-4963-B3D0-13D93E304E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87DFA2-A12A-4D1E-97A7-42EA0D0E9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D05AAE-40FB-4E7F-A2B8-70FB7E68A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C31597-9A33-4555-80A7-347F3E1D2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92843F-E755-4B95-9ECB-08C53839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369D92-2354-4101-BE09-222F2887D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C365E9-052A-4E06-AAE7-1021EC407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16951E-567A-4F94-A0C5-56D005532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6EA-F132-4D5E-AFF4-B3C1E513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2EE-CF74-45B1-8BA9-8659F9F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8A9BB-9153-4D72-86F9-DAE06B54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77DFC-C931-4493-880D-ACB47F52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5EF1D-A923-4FE0-B260-0762EF40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D6673-C1B4-4680-BC43-3950C26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815C3-CF3E-49DB-BCB5-57D5B277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DBB1E-D992-4A8C-852B-110EBFC4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F0C12-774F-4FD8-A522-A56637C7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326BD-8220-4083-8E90-BFEC0B6B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A2DD2-90E5-4B12-9873-20D631C1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B9055-C058-42A3-BBF0-420AF0D0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C92-D7D3-4685-9C8B-37E004AD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7F751-73CF-458A-A483-CBA70DA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CFBA7-35B9-49EB-BE12-0897DB8A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D6B74-B23E-4BE2-98D1-8961560B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2030-809B-473A-854E-56760ECE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AEC06-3857-42CF-B958-C1412F77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21978-6EEA-4C3A-9310-ECA60C60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C3B59-B966-4434-BD30-45C930B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7E89A-C8DE-456E-9F24-71620FCB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1CB7F-C3B1-4EED-839B-C316F746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FAEE8-445A-44EF-B8D9-840AEC31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683-692F-4C91-BF29-3320AD04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2DFBE-DA25-43A9-A38D-5D38F406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0AB33-AE5F-4484-A16F-E46C16CF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E98E3-A083-4033-93F5-6ED1FDED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A8C27-9F47-4EF2-85F8-1FF38126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495B0-8319-4E94-8E44-72926BE1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78E15-E12E-4BAD-8B71-75CEBD02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F78A8-0210-411D-8456-BB37063D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427CF-4B8F-461C-B1FD-D9C9360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0B63D-523C-4F0A-9E7F-FBE98973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03E0D-170F-4993-BF4D-B99A20E4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DCF-8732-4DFD-8082-E8292004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59621-BA9C-41CF-A117-F491064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1BD28-125B-4BD3-BB95-25E8457C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CA863-C4CA-4566-8336-B3E8262E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01127-AE44-453E-AE1C-D77FFA3D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F14A2-66FA-4A40-B718-B1E7980C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614BD-4F49-481D-B204-2A2A610C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4ED4E-147E-4EC5-A7A2-7F882512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113FC-1766-4A42-AE40-5C48D1E9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3F964-AD87-495A-A23C-BDFC9CCD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FF3CE-F003-40D9-B663-BFD29C9A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C49E-131D-4098-A22B-A44850A2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0043A-A8D5-4496-99B4-150305D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80EAA-2D14-4F48-8E5B-67F46D8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740B3-8A1A-4FF1-8E5B-8FFECC66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B31B9-4AC7-4C17-9958-C1F4F8C0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04B1B-A426-4FAF-8D06-EB0CAB0D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77DC-8583-4A5C-86C0-34383B0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6C12-3C4B-4284-8598-2DA45788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9CE9-6DAD-463F-A9D9-B0AC345F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37AA-C930-4776-A75D-336D3382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FD95-EBC3-45E4-B2EE-C68361D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C3D-AE30-44A2-84FE-45C3F4F2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55D-B22C-4216-AF82-9F6F57E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AF6E-8580-40D9-90B7-D718A0A0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C65D-0851-4982-8DBB-3ECA6FA8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39C8-D938-4415-99B3-106603A8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E17A-DC9E-44DE-A1E6-8529ECA4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3574-2E23-4440-A58C-54433FF7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EEDC-C155-4831-ABFA-8FFF36F7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2A23-C0CD-47DE-B8E6-95D12635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C7E3-D228-44D5-8E95-063FA894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2011-C789-4068-9178-5C509800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4C2-B680-4566-9C81-4100EA9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DD6E2-4359-4FF7-B789-DB808967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0A3D-5517-4811-9593-7456F01B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8145-1FAF-4D3A-9DA7-C61F7768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0EF3-FE19-4C58-9161-66764767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5B1B-806C-43A8-B3E3-C597A1C3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B109-A82A-4AAC-8607-AC8398AD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468CA-CC1F-4D6D-B777-FAF1742B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7E8AE-D8A9-4248-904A-6873BB98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0265-A504-40EF-B949-FF77030E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B35F-B4DC-4417-9CE2-BC77793F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F91-CC80-4770-9977-D05F2657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2E13E-7A6A-41F6-8FB2-76CD33B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A483-BA51-4470-8245-9E83279A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9CF8-20E1-4A0E-834D-F7F60BDD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610C-77FD-4D4D-B450-D2C2F086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E998-E2BF-4E8E-9C78-E9F09EDE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F72D-5EBE-4625-BC9B-7E38F97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A4444-75E0-4C0B-A824-46550A98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BE40-2BF1-4D1D-923B-555403D4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DF4B1-0622-408D-83BA-FB4EE71A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4AD9E-63F0-4CC1-B7A4-808022EA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E55-97EA-4F1F-ABF0-10DC4FFC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1E05-1413-4D60-AC34-67A025D7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D82E-5CA1-42BC-8917-DF5EA1D8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AF24-E4C3-46CD-BE66-F00DCAC4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A4FA0-8C2F-4579-AB2E-9894CA3D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B77E6-F958-43D8-9005-104CA63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EC432-746E-4CD0-8E6D-B1B44AE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65786-BFAC-4FC6-9F58-9F73889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56A51-869C-4E70-A7F9-8F660D7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EED0-8A5C-427E-AAAD-188F487A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B5F9-249F-46B3-A33B-B81D8265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C23-7CC6-4399-9FCC-40D27AF1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8A673-6E6F-40F5-872E-1A9BE6D0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F6F6-3C12-42AB-9E6E-4B545C3F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F513-1202-4737-AD3D-61765AA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0296C-1C5E-4BD7-9482-551687AD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F0100-4396-44F6-A26F-04072F1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3D373-B585-44B6-B78A-4A8D7470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9CFC8-B891-40F9-B7D5-8621C95A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27DC4-208B-4964-9368-F71A68E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B16B-927B-4866-B08F-A21D6C10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0F707-5E06-40DD-9B30-609DE46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F79-3C7D-496D-B4DF-53AED29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C2C9-1DC4-4461-864B-390FC86E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3DE61-1B66-462B-BB36-02E7777C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EA5FD-4D08-4A61-A2D7-DBCA01F3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2ED0E-D21D-4FCD-8D50-5C7EF32E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39F14-E3A7-406B-8E53-610885D8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B1664-D402-484F-99C5-3C864C09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3A76-6127-4D82-AE04-C7D928EC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630DD-986A-41EA-A375-15AE6348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B84D3-F973-4402-A3A0-955B584F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4F8A-8407-40E6-AE6F-083E6D5E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206-E270-43F1-8FA0-9FAFC9C5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41D1-7494-4B76-A4DC-D413CA2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78312-4839-4AA2-B0AC-5873F4D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8E390-1A98-4749-8735-D571A01A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74EAB-D692-4462-B6DA-04A3DDC7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71CD-55C8-4C37-A6FA-FD917848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4C59-4D26-44B2-9D39-C853C0C1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9D1FA-E0E1-4733-B5A0-ACB934CE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BBB97-D8EE-4614-8D43-F4E164EC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08C3-7CAA-432D-A9F4-E2CD8735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F2138-DF9A-467D-A696-13B13A1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7C8-5BFB-45FE-A505-638FFD46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25FC7-6815-4287-9A2C-2F23CEAA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31D6-A19C-4A21-B710-577AAF91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C96F0-2026-4122-B08D-6644712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12871-ABD7-4217-ADD7-C5C36B3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FE71-167D-469B-A04B-FB6F996D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1FFC9-1FAB-4339-ACAB-8EFCCAD1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A0945-B05D-428E-A37A-B3308682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77CE1-A45C-4A66-8226-CBCA7114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55F21-68DB-489F-A577-D13F8849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260A2-A179-472B-880A-62C4A647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1A17C2-DC5F-4C3F-BDDD-62868CF120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DBF0C4B-E77B-44C6-8C3A-2FD7F0AC09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3EB64B4-4435-4A29-86EF-4B3008B136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085F9B-6B83-4D17-8BC8-FF9F11285A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65C58C-5B5A-4BBA-8F5E-E25CE67837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7C39C6-99E6-41EF-B144-A8CE2DA138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0EC9A9-5CAF-45AE-B43F-116275040C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FC16B8-F7D5-4B21-9290-E67D32019D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15DAC6-1EA8-45A8-B40B-E7C29E1F0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7AFC57-2A76-4193-918D-A919A3AB39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366D5E-F15B-43AB-BDD7-A1AED3F358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21/1062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B89454-2CC8-4A72-A328-D95F3F84BD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D1A3E33-1121-40F8-B915-D9CA9183E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2-05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EBECCB9-5965-4172-8C57-A27FB710B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 status as of May 15, 20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72 comments ar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6 CIDs ap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1 CIDs ready for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CIDs assigned and pending f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 CIDs presented and pending for further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9ED790-EDEA-459F-B9BA-99ED75F9F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6 on Draft 1.0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o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propose a resolution to a CID that modifies a particular figure in the draft standard, please visit the members area and download the latest visio to edi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your proposed resolution is approved, I will ask you to provide me with the Visio (and preferably the emf file too) for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arlier I get the Visio (and emf) files, the earlier the publication of D1.6 (see next 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0B5264-32BC-450C-B673-2C22ACCEA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1.6 and D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ming the motion to move forward the WG letter ballot on D2.0 is approved, the following materials will be posted to the Members Area by early J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2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F (Redline compared with D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(Cle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D1.6 and D2.0 is the CID tags.  In D2.0, all the CID tags (over 20,000) and many Editor’s notes will be manually de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CF9EF3-13EC-4AFB-A281-D60789F29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7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Assessmen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comments are received, including 4 from 802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 Ed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Ds are resolved and motioned in the September 2021 inter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17832E-DA5A-4328-8EF6-C0DB3E57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5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85800" y="1616040"/>
          <a:ext cx="7924680" cy="3641760"/>
        </p:xfrm>
        <a:graphic>
          <a:graphicData uri="http://schemas.openxmlformats.org/drawingml/2006/table">
            <a:tbl>
              <a:tblPr/>
              <a:tblGrid>
                <a:gridCol w="1033560"/>
                <a:gridCol w="6891120"/>
              </a:tblGrid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262r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ation framework for TG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9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755r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motions related to the contents of the TGb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66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1935r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endium of straw polls and potential changes to the Specification Framework Document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20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997r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46r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spec text volunteers and status:  Part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1935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62r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be Editor’s report on CC36 and CC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223r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4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8r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6 com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019r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 802.11be CC37 comments on Coexistence Assessment Docu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89CE45-2D93-4A3D-8402-923EBA9A2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tor’s documen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of May 15, 20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0056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to 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the contents of the SFD are summarized in the latest version of 20/1935. Results of motions are summarized in the latest version of 19/17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traw polls related to PDT and PDT-TBD texts are summarized in the latest version of 21/05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the straw polls related to the comment resolution submissions are summarized in the meeting minutes.  Results of the motions  are summarized in the “TGbe Motions List for Teleconferenc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2-05-15T15:00:58Z</dcterms:modified>
  <cp:revision>9052</cp:revision>
  <dc:subject>Task Group AY November 2015 Meeting Agenda</dc:subject>
  <dc:title>TGbe Editor's Report on CC36 and CC3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