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0C3909-EB7F-472C-8A25-4D26CCA569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E721D5-708C-4EAB-B04C-C9F95B7C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47DC67-5A9C-443A-81AD-33874E5E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B3D76D-F580-43BE-A2AF-535BF2871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82977E-A5D7-4B32-8E21-64F5826CE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47773B-E380-4BC1-B249-7215BECB2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A9B4AA-718A-4566-B0A1-8057B1B6A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62C179-A976-45A7-9ED2-ADA70FA17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407547-5C6C-4A7E-878C-9FFDDC99F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C1DBA7-8A7D-4FAE-945F-8A389F307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623-7BAB-4F28-BD28-371D5583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8F2-E183-4584-9B93-ED0E0B92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B177B-70E6-4629-9D12-58F12EF4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42425-0AFE-4863-AB69-E5551CFB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8FAA7-4174-4E51-ABC6-325F3AF7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0F006-A5C7-4BBA-92BA-8D5A62B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EB0E6-0C29-40DA-BB32-592629B1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0A044-C7AF-480F-829D-4016FCD4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1F7A1-2D12-470D-B71E-520D6034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E9571-B022-44C5-817B-E097C221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A0B1B-9229-46E0-8295-264183BF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6848A-BEB3-4B75-841D-D033EDF2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D1D-1270-414C-BCA4-D7ACA064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552B3-2BC1-4824-965B-02C5E3E3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D1091-A30B-48CD-B0EB-406E1959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55C7B-3FFD-4684-8B6E-63C95A75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67DCC-0DCE-4F44-9E52-AE000C76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A1BAC-E269-4822-999A-D382690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36DAA-6513-493D-904C-FE355C7F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19ACF-0C06-4228-959B-FE6FE2CB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B9923-CF5B-4479-A26B-BB8C056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FBE30-0A91-4809-A88C-B2CC12ED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F18AE-5F4F-43C2-9B41-96E5D3C9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CB0-67BF-4B27-B162-712D1C58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64BEC-721E-48FE-B6E0-B2CC026D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E83D2-29A8-4AB6-8843-698FB140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981F2-5364-4CA5-9696-A1BF6EB7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BD284-0BD0-444C-AE34-CB8833B9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D36D1-3BE3-46E9-AC57-009BD0D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17C17-7BCC-4AF1-A05F-A617C976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CD3E3-1C73-45FB-9316-04474A96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CE540-0FC3-4A81-B230-34693F6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BDAAA-9DB9-47BB-9FCD-F7E725C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6F07B-34F1-4B48-A185-2C700159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2643-2C7C-4265-A579-38F1317C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6474E-DC0C-47D4-82FD-FB6E8E0D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5417E-C26E-4E8E-93D7-251E1593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3E507-A24D-4E86-BCF1-EED5252B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A7CE8-A7B2-4955-8317-A9F8FA8B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95ACC-4480-4968-8E17-A5175C8F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CCFAF-922A-4145-A530-98317AD1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9F0F1-3292-47A5-9460-0D6A3638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BDAD2-B0A0-4E41-9E67-8A1902D5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7C55D-CC61-4C2F-9039-F95CBEA0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91F7E-CF2A-41C7-865E-DFEBEA2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D9DC-E79C-4ADF-A5E7-03CE82E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D73C5-78A8-4CBD-8A8C-B80BDBDF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01A7-F7CD-41BE-A503-C78FF1AC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D8CFF-1D29-4EA6-8E2B-E8437A21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7C4E5-4ABC-46C6-8334-4FA0F81F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9238F-20F9-43F8-92BC-A217F85E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6D5A-76B6-4004-81EF-7151B816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FB41-3C12-47D4-A4E2-3BBB0E72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9EFE-75E6-498F-B8FF-FCCDE87E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BDD8-DFC2-46B7-A8F4-9E02B792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1CC9-C76D-4BD0-B237-79ACF6FB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621-979D-45BE-B09C-7B5F32E4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F933-7443-4166-B12E-6D1F833C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5367-892D-4A0B-A62E-764629C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9F27-CD45-4919-94CE-DC4F91F9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6F81-49CA-4213-8A2E-C56058F8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3735-C8C3-45E6-AA1D-34CA09C1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FB37-D156-43AC-B9EE-DD93FAB9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7A31-6F64-4D86-80CE-9AAC7428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EA23-D575-48E0-9EB5-2B216C5A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F63F-7005-4AE4-81B3-294A5718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4240-1B7C-4104-A2F3-E82992C6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6CC-6925-426D-B564-8062F4CC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B314-1DCD-4486-8775-55AFCD4B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7D5D-A19E-4661-9D9B-F87F35D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CBA0-411E-4B8D-975F-FBC2229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0BE1-4791-490B-9D99-BF34F396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D73FC-A978-40A0-866E-7F1FCB40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C14D-5089-4E74-BFE3-0F0C10CF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01A29-18E0-4E96-AE7A-A9FF0BF9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94F07-C327-47E7-B925-F7109019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79218-B623-45A1-A2DE-3CA8A3F4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D07D-0EEA-4FFC-B656-AB39816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55A-1F15-4AAA-81C2-9697F78F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2CFE9-87DD-44F7-B17B-8B08368D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5EF8F-F7C1-4418-97F4-146A33C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82C4-3CB9-432F-B72B-FFC3542F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B55BF-302E-4BCD-A985-7EA646C5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B74D-1C82-45F3-8D3C-8BBBB0FC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9A46-9A14-4A98-AB12-3040DF9A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70DC-B0E0-456E-848E-1A4F78C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8799C-17E2-4015-A56F-7BA2269F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F961-4016-41BC-9968-B2847CAE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A22C6-E3C4-4AFB-AE19-1B9F662B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A13-309E-4C5A-A944-430ABB7B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FA68-06ED-44AA-82DF-DCE9C1E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C8F1-6923-479D-AF0B-5D9B8DA9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D5468-322D-42FC-A4BD-E05BD50F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0F72B-E905-4413-8340-DA4F5170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1A3B0-AE8F-4113-8209-CACBA18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7F452-73A0-495F-8B0E-D5FAF573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7341-C60E-407F-AAB0-7796F5B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1B711-1740-4309-9260-B3FA2144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8DC7-4AA3-42EC-91C9-8223514C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FD90-DAF4-47AC-B7E0-91A2F368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6D6-BBFB-4654-B3B8-A9B7F8B6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77CC1-437C-435E-8317-22F067D4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8727-4B0F-4DB9-9490-74FA03EA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12D2C-DCE8-4643-B8A4-741DA7C6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6E51D-0672-4E6B-B09D-1EFA9E16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4F177-0AF9-4DC3-9A8A-94539D7F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9C455-A9A2-408B-AFC5-8429E822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CF889-C75E-4496-99C5-C0F7C0B5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FBAE-48CE-46C6-9770-4FD0053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4AD8B-7296-4BCF-8BB8-DA4508F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1EE3B-CC69-47F6-96C7-1366AF1A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8EC-54DA-4593-867E-218A228E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E6401-75C2-43B4-933D-B4253645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B107-ABF4-441F-9FB9-EBF06F24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2E70A-E16A-4145-AD20-F15729DF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B7C8B-FEEA-44C4-8630-98F93B93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FED5E-C96E-471C-9549-D188DA64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EAEF3-26DF-44E9-A758-9E9CE4CF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0936B-6B47-430B-9F84-A1B41A85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4136A-1FDB-41F2-AD38-F0D071B9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CBBA-EFBF-4BDA-A990-219CF196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AC90-C689-4605-B41C-AED2EE68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037-4950-4271-A722-A5A84DF9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84569-725B-45C9-A2B3-855CA297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2537C-7229-4EF0-9588-705E1B8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764E3-5B2E-4D9A-BA77-1B02BD9C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CD660-2A78-434F-BE24-A7EF9E66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B5DF1-BA89-4792-93BD-13F827EB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77056-12CE-4672-9D38-DDABE6E2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5BCDE-09B7-45D3-834A-803C21DF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C4578-6EBE-40C3-8495-623728CF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8D4FB-9CBF-4C4F-A01A-D4A2F78D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6B405-3F03-4644-966E-114049C5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55D-08C0-4812-B4AE-A35E695D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4876A-5A59-4FC8-962A-6B413257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26BC9-CA5D-494A-B052-03C4400E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E486D-2727-4C02-9607-BB572CE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F1BE-1CD0-414A-BE1A-5113E3BB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15FCC-60F5-4819-B643-3158BAC7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809CF-6EA6-4AF9-95EE-504C30D0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678CA-03CB-4006-8B5B-C7CDF7DD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71FEF-C5CA-4013-A2A1-3AF9C36E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A6A66-8CE6-4D44-9BF5-899524C7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05115-6E96-4D96-A1C4-275F63D9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E235C9-143A-4A68-9EB9-6006E376C2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1E5003-C18B-46A1-93D8-9C6CB7D539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173BD5-C572-4CFA-B088-266B78F4E4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5538E7-1EE5-4C3A-886E-03AF1BACE0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AD1357-955C-495C-80B3-8BD52BC505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14C702-FBE9-4668-9B90-31D1BEA1B2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E352D0-F674-4162-9C4F-DCE918AFD9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17A5F8-6F98-4C11-877D-4A71B69A9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D0F2F7-FEED-4A81-92F5-07C5CDCF15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2E6231-758A-49FA-A9D2-4AE288AE37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5FABFD-6000-402A-892E-1D749A08E1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A5C860-7807-4487-92A6-920B431DD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ieee802.org/11/email/stds-802-11-tgbe/msg06868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6A553E-DF82-44EB-9325-C0B4B0038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3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B91722-4A30-45AE-95C5-8E8368A2A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 as of March 12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1 CIDs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18 MAC, 925 PHY, 345 Joint, 13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6 CIDs ready for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 MAC, 129 PHY, 7 J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55 CIDs assigned and pending f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893 CIDs do not have any initial discussion y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262 CIDs pending for the authors of the submissions to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51 technic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9 MAC, 31 Joint, 1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4 gener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 MAC, 2 J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 editori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1 MAC, 5 Joint, 4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8CE8C3-9826-41CC-A5C5-8404204E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PoC assignment as of March 12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www.ieee802.org/11/email/stds-802-11-tgbe/msg06868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EB4508-C174-4290-B738-3C24897B0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o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propose a resolution to a CID that modifies a particular figure in the draft standard, please visit the members area and download the latest visio to edi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your proposed resolution is approved, I will ask you to provide me with the visio (and preferably the emf file too) for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2E6171-3619-4FBC-AAFD-FF3BAD4B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1.5 and D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first week of April, the following materials will be posted to the Member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Redline compared with D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D1.5 and D2.0 is the CID tags.  In D2.0, all the CID tags (over 20,000) will be manually de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26A22D-C10F-4698-BAFB-6F82909A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1.5 and D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D1.5 and D2.0 is the CID tags.  In D2.0, all the CID tags (over 20,000) will be manually de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mmenters would review my roll-in by the end of this week, D1.5 may be published next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97A2EE-A855-4054-9751-B6130CE2F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Ds are resolved and motioned in the September 2021 inter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0C92B1-0AC2-4260-9600-20F302A6D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rch 12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8r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9r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496233-5BB1-450C-81FE-21E0A039F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rch 12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3-12T15:13:52Z</dcterms:modified>
  <cp:revision>9047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