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1494595-F816-419C-833D-C4D4E7DC7A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91D2C99-F9A9-419D-A4E0-BC4175200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A17F8A2-6A6A-4A18-A566-4AEC35ADB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53BE7D0-CA4E-418E-9701-C7FCD7519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07BBC4-812B-4E7A-92C9-FDEDFDD65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2C8C347-002E-408A-A7C4-CE42BFA4A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209773C-A7F9-4325-B0E6-96E472859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A4F864C-9E86-43AB-8C52-71E50BC0B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473FC4-F08E-46B2-8D04-9C6C09A25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9CE9E6-6D08-476A-8B39-D0B74CFC0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D31C-CB1E-49C7-824E-4B726F94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C76F-2766-4D3D-88B6-1E0358B1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01975-4E88-4822-8985-4A71E5A5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4089D-188D-451E-B734-3BEEA9E1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DA919-572A-4B7B-B6E7-2A3FFDFC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2FC72-F0EF-4963-96FE-B235DF68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D655E-7352-4292-A84B-9AF18C46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F2721-ED60-46A0-9B20-2E2FB1C5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2F2E7-F26F-4DF1-B0F8-C3A7CA6A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3D40A-EA09-4487-A245-A5894CDF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3A4A3-2FA4-4CC8-AEA1-A66B303B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9DBA7-34CA-42B5-8A48-8A94B14D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11DA-8994-4D1F-A0F6-EF0D820A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67FA9-DB41-48C1-B856-1AEC15BE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1F7AC-3EBC-4D6E-8672-25003FE8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549C9-73A7-4DDA-BE7A-79459FB1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4E831-F4D1-4257-96AE-9D63DA9B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8B535-06F4-4C98-8CEB-95A7D9AA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604A8-BA6E-4EED-A938-661A08CA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F5109-AB9C-412D-A980-E29F5615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103C6-7A98-40A9-B884-30A19406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F7C06-2944-46C1-A6DA-4C070CB4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E7B01-8EB2-447C-B3A9-9D5AC892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279D-1C73-4D35-854C-07766B9D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552A6-D672-43BF-814D-FD5C628E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64214-840A-4579-BC81-98C1E67D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CEC23-B992-4A96-AEDB-9C70FE2C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5B4F6-E77E-4518-BE64-8ADAFA88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FEF2C-A4ED-4312-8EC8-50DCD5DD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D53E0-C952-420F-96AF-DD1CB76A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CF961-A084-4524-9B36-3975950C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DACA7-E83D-4B8F-8CE4-B9F85ED3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4808C-62A8-48E2-8F64-6CF07B29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9A542-628B-47E6-AEF5-2DE94747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2951-8B6B-464B-880C-6150B259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572B9-B675-4B0F-BA24-03BA02C9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B5833-7BA1-454E-BFFA-B3BFC910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670D6-E6D2-479E-9A57-0E8C089B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CD2DB-C606-44EE-AC39-4635402F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C9FC6-A940-4BF6-B71D-81772ED6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BB9A3-B20E-4CD1-B19B-98EA3388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3E9A2-4109-4266-950D-99D37A84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3C32C-D036-4144-AABD-BAE352B3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CD9B1-D1E3-4FAA-8F75-F7E71EEF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625B1-5EB2-45DE-A6FE-A16D411E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F895-F139-41D7-9C15-F185EA7B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CE57F-C6E5-4C5F-A034-34DE060A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4D866-9CBE-4E27-8595-00C4904A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910E9-A8AD-44A8-8F18-3247A170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B3EB2-D5F3-4B0E-A745-244D7D60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6EBDA-D52B-4047-950A-4C1E2EF5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DDD7-359C-42B6-9F0F-2A3B8576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6E90-49CE-490A-8810-FA6D335A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09C2-6BD4-48B4-9E12-D9CE0BE9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29E1-5C4B-4D60-A2DD-EA458ED8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A51A-27C6-4707-A89F-B8503362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F88-986F-433E-A0AC-99ED9C57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F177-A4F3-4AD7-A860-18D3A6C7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AB57-56DE-41DA-98BE-888DD70F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37B4-0B86-4177-A3AE-88E04405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F6F8-0913-4ED3-8DD4-092E6C03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2F4C-4A76-4062-9329-F85EFAB6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81650-61FA-41ED-B87C-4B6222BA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7FB7B-CD2A-4E0A-9158-C9D6C781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CABCD-5447-4493-B24B-86E47A1A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C07E-A55C-4682-804C-F645922B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BECEB-895D-40A4-A8DB-0922E78C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62F4-2517-4397-BE77-10DAFB1F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36DF8-5155-4BC9-A96C-7238E80B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80A5A-92DB-4035-8F58-B04BFAFC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5AA93-673E-4FB5-91FF-41B4D526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1CC3D-AEEE-4669-B21C-3BE27855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C3D3-6AFE-4237-9ADE-4EE217C0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F9F53-EB61-498F-999C-8DFA38F1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57CD0-1CE2-491B-9189-71A86262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4B79B-0F12-46E8-A2F9-FD6EFD4B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7653C-E6FB-438B-B3C1-6BA293B7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6F025-0502-4716-8391-A76CC637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35F-1AE3-4418-AD27-09F6CD44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97405-9F92-47CD-B854-A539592E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CE6D1-184E-4C94-93D6-88848CD6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25B52-C467-4B18-885B-6B658ADC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F4A8C-A7FE-49B7-93BA-3E6DCFEB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59012-FBCB-4FE8-B3CF-AFB7325A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E38E4-7352-4276-BA35-2595E492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C1F73-710A-49D9-8C1C-706103C0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B0EE8-ECE0-47B3-8ECA-80B3A7CA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5010A-55F9-442F-AB38-49582C79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7A732-1DF6-46FD-90D5-B92F0025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24A-9244-4C4B-AF9F-9AF1D013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A52A8-67FC-48D1-88DF-4E5051F1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C0671-3782-4F5D-95B4-95EB296B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D725D-A749-4656-A548-7E27A920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0B107-E9ED-478D-947D-1560C358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5C4CB-4D1B-4744-84DE-83C06883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B5EA4-65D7-4778-848A-EE1BE1F5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49FE3-B895-41E8-9736-6A692EB4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97E05-0F17-4CEE-82C0-6D933618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E38F3-1806-4E8F-9EF0-722DDF9B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A00F5-88F6-47B1-A9BF-63F70A9F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34C3-2ACF-4D42-80A6-62242121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3AA13-A83B-4E30-8664-33524B3C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0E861-6490-45D5-8B57-AD3BF092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D750B-6E6D-4C59-BD3B-945761F9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A6C4C-DD16-4B62-8F9C-4C6D8092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83416-3626-48B0-A723-3660DAA5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EE475-BB35-4098-92CF-30E8EAA1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74593-20B9-4CA3-8DE4-335C0A08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B9B6A-0D3D-4116-9FAB-D831AC38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E7ED4-7BCB-4BE0-A541-2354F0F1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BD443-741D-4EE8-A4B5-2C8AFE55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3D4-E590-4BAC-AD1A-C845E964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AAAC1-D255-4F11-A9AA-19F8CC49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E6D28-D4E9-40AF-A1D1-85DE7FDA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4E636-54D8-47F8-8887-E76EBB30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6B8F7-B2B3-4F55-99FD-06DFF0E0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7EE0A-1029-4DAC-A0B3-9EE6FEEC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C49DB-4B6E-4847-93D1-AF5C7371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5F5F2-7280-4E21-95E2-DF1A2094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CA269-B84B-447E-9395-D47B82FE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95286-700D-4256-BB22-02DA9A6E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324CC-D257-47C5-BF0A-5BBADE3F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7231-E58D-42AF-ACF4-19E88A19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95A23-BC8F-417E-AC4E-5128378D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7FD9A-A611-461B-87E1-254F22C1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D502E-DED1-4D71-99F4-F79C823D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58EFC-9243-40FF-80B1-9C0F5C82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4BD34-A843-46E3-9130-BBE097FE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C1F60-57F5-4925-A6B0-632E2238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CF822-805F-4103-A5ED-249E0E93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6D108-19BC-4A3A-9512-E28836E0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B31EB-A28D-4723-AE5E-0E3B83DF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5CCC4-DE64-49E2-9868-A8EB0E4E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196-C841-49C4-8E24-EDD37490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E0F73-E698-4795-9100-00F6CADE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4030B-710C-4EC9-B929-D792EB56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53059-FFA0-4EEF-B77B-6C9ABC6F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6360A-2B50-4965-93B0-A5C10692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4D91D-A8BC-4677-A3F6-C549EF7F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B2053-A364-476B-88A1-79D2CA32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D3395-10F4-4C56-8FBB-CFF5330B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B0AD5-6F3B-4718-9DBF-D95FBBDF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51FDC-1B94-4C90-A8E9-C7AF0BBD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7EFE9-F36B-409D-A110-2D6A0442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9FE4C4C-4F49-41E4-8F8E-766E9A9978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9FE1243-A8EE-4833-946B-3E6C04C1F0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AEC5130-6F5B-429F-A098-FD6774A710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A271623-8FE9-4CB0-9C41-C6F934CD77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9864C19-53A0-4BB5-9141-C20837B914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9393D84-4884-4724-B003-752FB16010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DCD496E-3087-492D-9B07-7E73DC0DCB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41C15E3-6701-4743-AAEA-D409A6E3FC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9D5AABB-95F9-48DD-BC92-10485C1DE2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3305F10-341D-4106-A6E4-54B441BBA0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C615B5C-889A-460B-A1DC-339DE2F88D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70D9F1B-90B7-4209-BCDE-EB58D4DDAD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ieee802.org/11/email/stds-802-11-tgbe/msg06868.html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E52D56A-75AD-4A46-A680-771B1A6FD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03-1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3F5603C-4CD8-429B-8047-EDAF3EA5C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ution status as of March 12, 202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72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01 CIDs ap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18 MAC, 925 PHY, 345 Joint, 13 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6 CIDs ready for 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 MAC, 129 PHY, 7 J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55 CIDs assigned and pending for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893 CIDs do not have any initial discussion y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262 CIDs pending for the authors of the submissions to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51 technical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19 MAC, 31 Joint, 1 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4 general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2 MAC, 2 J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 editorial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1 MAC, 5 Joint, 4 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B2E52A6-177F-4835-B8C1-957E23E23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 of PoC assignment as of March 12, 202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www.ieee802.org/11/email/stds-802-11-tgbe/msg06868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F29015B-F950-494A-BDC0-798112F34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io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propose a resolution to a CID that modifies a particular figure in the draft standard, please visit the members area and download the latest visio to edit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your proposed resolution is approved, I will ask you to provide me with the visio (and preferably the emf file too) for pro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B101016-7DE5-41A1-B589-1A7810ED9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1.5 and D2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the first week of April, the following materials will be posted to the Members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1.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F (Cle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2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F (Cle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F (Redline compared with D1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(Cle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s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fference between D1.5 and D2.0 is the CID tags.  In D2.0, all the CID tags (over 20,000) will be manually dele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D4FE7F2-2B1C-4402-9A0A-0C05ACDC5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1.5 and D2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fference between D1.5 and D2.0 is the CID tags.  In D2.0, all the CID tags (over 20,000) will be manually dele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commenters would review my roll-in by the end of this week, D1.5 may be published next we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84AD79A-E870-4118-B0D1-3A1B17888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7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Assessment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 comments are received, including 4 from 802.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IDs are resolved and motioned in the September 2021 interi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69DE1CE-8F0F-4A91-9628-4B9D263F3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rch 12, 20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685800" y="1616040"/>
          <a:ext cx="7924680" cy="3641760"/>
        </p:xfrm>
        <a:graphic>
          <a:graphicData uri="http://schemas.openxmlformats.org/drawingml/2006/table">
            <a:tbl>
              <a:tblPr/>
              <a:tblGrid>
                <a:gridCol w="1033560"/>
                <a:gridCol w="6891120"/>
              </a:tblGrid>
              <a:tr h="331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262r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 framework for TG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93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755r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motions related to the contents of the TGb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66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1935r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20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997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46r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935r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62r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6 and CC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223r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4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18r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6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19r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7 comments on Coexistence Assessment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CC9AB9C-7CA5-4890-AC70-0922CF352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rch 12, 20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Date Placeholder 3"/>
          <p:cNvSpPr/>
          <p:nvPr/>
        </p:nvSpPr>
        <p:spPr>
          <a:xfrm>
            <a:off x="69948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to 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the contents of the SFD are summarized in the latest version of 20/1935. Results of motions are summarized in the latest version of 19/17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PDT and PDT-TBD texts are summarized in the latest version of 21/054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the straw polls related to the comment resolution submissions are summarized in the meeting minutes.  Results of the motions  are summarized in the “TGbe Motions List for Teleconferenc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2-03-12T15:13:52Z</dcterms:modified>
  <cp:revision>9047</cp:revision>
  <dc:subject>Task Group AY November 2015 Meeting Agenda</dc:subject>
  <dc:title>TGbe Editor's Report on CC36 and CC3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