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583025F-B29A-44D7-A078-2C6114DC52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62CCC2-D947-4E5E-9852-15CB70ADF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54160" y="701640"/>
            <a:ext cx="4626000" cy="3468600"/>
          </a:xfrm>
          <a:prstGeom prst="rect">
            <a:avLst/>
          </a:prstGeom>
          <a:ln w="0">
            <a:noFill/>
          </a:ln>
        </p:spPr>
      </p:sp>
      <p:sp>
        <p:nvSpPr>
          <p:cNvPr id="6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411C6F-6153-4F1D-938C-9DD67FB76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54160" y="701640"/>
            <a:ext cx="4626000" cy="3468600"/>
          </a:xfrm>
          <a:prstGeom prst="rect">
            <a:avLst/>
          </a:prstGeom>
          <a:ln w="0">
            <a:noFill/>
          </a:ln>
        </p:spPr>
      </p:sp>
      <p:sp>
        <p:nvSpPr>
          <p:cNvPr id="6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9666C1-C204-4846-BD0F-32349860D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E88E82-72C9-4D45-AFF2-2A4EE91D6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54160" y="701640"/>
            <a:ext cx="4626000" cy="3468600"/>
          </a:xfrm>
          <a:prstGeom prst="rect">
            <a:avLst/>
          </a:prstGeom>
          <a:ln w="0">
            <a:noFill/>
          </a:ln>
        </p:spPr>
      </p:sp>
      <p:sp>
        <p:nvSpPr>
          <p:cNvPr id="6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909172-CBCB-49F2-84EA-BB9740DDE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76CC56-D000-4812-8625-3EBD23957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54160" y="701640"/>
            <a:ext cx="4626000" cy="3468600"/>
          </a:xfrm>
          <a:prstGeom prst="rect">
            <a:avLst/>
          </a:prstGeom>
          <a:ln w="0">
            <a:noFill/>
          </a:ln>
        </p:spPr>
      </p:sp>
      <p:sp>
        <p:nvSpPr>
          <p:cNvPr id="6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A8D3A5-537E-4002-BB2B-CB6BFD7C5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54160" y="701640"/>
            <a:ext cx="4626000" cy="3468600"/>
          </a:xfrm>
          <a:prstGeom prst="rect">
            <a:avLst/>
          </a:prstGeom>
          <a:ln w="0">
            <a:noFill/>
          </a:ln>
        </p:spPr>
      </p:sp>
      <p:sp>
        <p:nvSpPr>
          <p:cNvPr id="6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7D4FAE-50F2-4EC8-BE3C-0FD87746C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67023D-CC2A-4C50-B650-B840B2073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81D14-089D-441D-B422-0B8A3F93F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6703C-5D57-4990-BDBD-53B7D8678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18DA4-406A-41B1-AD1D-F53B650E1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2ECEA-C147-4263-8BE5-9BCD6FAE20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CB5B3-83D8-4FA6-B976-CD112F3329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2D54F-9E89-432A-AF01-8505EBBE3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F049D3-4885-421B-9834-A6450C5C5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6506E-2A24-4A4F-BEE6-D6761A186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92B41-0CF7-48DF-9C99-C1EE914D73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484770-DE01-4D8F-8F6D-9339B5F18B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CBA603-E9DC-40BD-A66A-0A0BDF30DD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CB223F-29B5-47B6-B921-2A001192C0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E435-3DEC-4F39-8B3F-AE0D5EFAF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F2C860-F58A-4361-972C-3CB859C29A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8DB083-098B-4223-8D6B-922CFB8E8B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ABABF7-0D69-4B3B-9094-7B9EF9F542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31EEE-EEB9-4BC0-A661-9B4F782F3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1F9041-5ACE-48AF-A6AB-28760974AE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AEE56-36DC-4E64-BAAC-B89ED74C40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D443C9-63C5-406F-9766-0E5C643B0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BD7C24-94C9-4ACB-9E16-2678D3559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4172FF-FF40-41A9-8A9B-501ADDE615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5CB928-9846-48ED-9D11-3C39B8BD78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40960-5330-4D46-AC51-E29722EEF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C80DDA-7032-4FD3-905C-81F556DD62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975D93-68C3-4BEA-856C-B6D7FAAF16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E5AF91-6A14-4C32-8EC0-D56F3FCF47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725B8B-D076-4843-8AD9-9984A75D72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E091E5-201B-4B41-944B-E8C972680D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AEF3D9-18CE-4D38-BA10-3BF6485238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385062-A8B9-42EB-8ABC-1E67858F54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2094F-251D-4BD6-B73E-FF0C8904B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D42A4D-EA40-4442-9628-17B27050B6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CBA890-128C-490B-9AF7-6C5EC4E2FF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6C491-6946-416F-8B74-B27D9E5E4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31270B-1355-4E2B-A8AD-D504F6ECE4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4454E4-0E4C-4F48-9609-3E17D44BA6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7BB7DE-A2DD-4563-91CB-AB392B3742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7BD289-A08A-4B57-9E35-57CDC6946C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70629-7704-4CBD-B073-59B300FB2E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0055BF-3234-4C09-B500-B8C7E34D23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CCC4CA-F7C2-4770-8565-4F96AF0CBB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6164EC-B146-458F-B253-D2F59C763E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D57AF2-BEC7-4128-9207-3D95D24CAC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EC19FB-1EB5-4CFC-AC33-20E0A2E97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74804-5912-4C00-B0CF-D93B64847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9369D6-24C5-4EEE-90B1-683BCDB6C2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FCA97F-222F-4F31-9FFF-AA0C0590E8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6DA7E6-5559-46A7-A2E4-2BB9BD013A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5F9617-E2FF-4A5C-9578-05326525B4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504A1B-3501-485B-B2EB-B1C40740C5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435E0-264D-4F39-906F-F52B7126E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E422-B590-4B64-B2BB-EDD9D8B4A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718A8-E966-4983-AE88-793C8A107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E1F6C-CF8C-470E-895E-49E8F0AF3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653C-A945-4AC1-8EA0-FAF12E04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6B0C-EE79-4984-8574-82AE4FCA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87A23-316A-43EC-AAD9-AF56EFFE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6554F-7783-4274-A2E4-3E289948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730A-1373-4232-8081-1F6D4B2DD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D585A-CF4B-44D6-87F1-36994FB2C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92400-CF6B-4100-A80E-15C8A316F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ED105-1056-4475-8764-C00745A5B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3685A-FBA6-49D1-9B21-82E1B5CBD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03532-0904-4145-ACC3-3F6B74D2F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5F60B-8927-4C52-9873-25BF86762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74910-A2CB-4662-BCB4-E6D576C76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3AF1-ACCA-4F06-9C53-3C1D3204B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E9132-C4C7-4760-92BE-556A0D405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5D144-97B7-4640-B296-43C4D72E1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BA76E-B13E-4420-A3E6-469404FE4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0F5F5-34D7-442E-8498-DB65374EE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A3563-0F45-49C6-8F80-C2455D2C3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3B3FF-1D7C-44FE-A592-CF46A87BF7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CDE5A-527D-48E8-B977-7C81BA0BB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13F9EC-4AF0-4EC8-A4E6-4D12651FD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2CFDC-7D6C-48B9-BA05-B5709EEB0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4A033-37A3-459D-9DD2-C3CA41EC7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12BB-DCB5-4D44-B3EE-B2F4AE28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7EBE0-159F-407E-AD9A-47438F6F6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711ED-5A79-4E26-B77A-3CDF27094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A7E1E0-6EDC-42CE-AD10-D0368443A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F0ED0-81D8-49A0-B34C-D053191B5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8E482-62F3-4E31-99E1-13F7847F5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2DB50-18D5-44DF-AAC9-3BD749FE6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9BF28-CB76-47CC-A75B-3082AE322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E7A75-34E0-43D9-8FE6-FF68DA7A25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5930A-50B3-4E82-ACB6-B8C7059AF9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63976-2BD7-4C72-863D-0914371C31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8DD4-1855-44C8-92ED-843BBF7C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9A7E5-90FA-4F11-8CE7-3AAFC4580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6A9A25-F552-48FA-BC67-C876C52C0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1B740-0E4B-4E01-A5A8-A58A2ACB9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E35B11-38BD-4420-B30C-613161182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B4BA1-382B-4D22-A4CD-046FBC81F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10E48-4F8D-412E-B82C-E77D78E33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88E88-62D2-4303-92FE-D32BE5381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2E963-2784-40EC-A7F4-9BD07F0F5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48869-076F-4BB9-9A4B-981EF7637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0986E-FD57-4122-AACA-F5AE1E87D3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D8CE-1151-4252-ACDA-0EB422C7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C7F17A-325F-4EE2-931A-80732AEB6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E47BC4-AFF1-4366-B00E-DB434C5436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91AEE-33A3-4646-A665-0F748F3F2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E71F9-32DE-4208-8EE9-92DBBEF02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F65A3-DCC6-4200-9C4E-C1A2E3688C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D48E8-034B-4AA0-A1EC-6A64522A8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7FD93-3803-447F-B53E-437F79BC1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D33A7-7957-455E-AD7D-11AAC0D9A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29097-F673-4159-AAD8-B77A788C6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CE789-7EA0-40A8-B09F-5C8A41072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B0A0-17D2-4344-95F8-00012A13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CBDAF-78AE-4A37-B1D9-F6E759335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1656B-B599-4D72-9272-C5E444C093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97964D-9DC5-49CA-9986-263CDDC5DD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638EC2-6D8F-40AD-83F0-6871D39F94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443D5-0924-4681-8DA7-E5A58BC0D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BB481-B8D0-4D28-B447-14078704E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44ECE-14C7-4D86-9DEF-0179958D7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EA1AB-6AC7-4C9A-818B-2B4A774D6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D4EAF9-4C75-400A-ADDB-F0B3C63FF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6DFD7-0A0C-4F82-9A48-3FAFCACEC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C54B8-4FD6-497D-A555-0ED09ABD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052E5-69DD-4C86-9705-2B64B6DE5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6A410-1183-4128-BD5B-1428E43E3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9F163B-8999-4471-B3D0-EAC792687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CEE07-4AD0-4C2D-A1A5-0681571667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8F5FFD-6411-43DD-A1AF-1342F425A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9EB8E3-082F-4515-A110-732A60A31B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018C3E-1A49-4F1F-A581-5678DBA853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D0CC7E-930B-4177-92C6-508675329D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57585-AA80-4CD2-811B-5CBEE3592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C8046-38F6-404B-AC7A-656CADEB4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06F1-F1DD-460D-AE3D-E2A978489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52F0F-85F4-4B5C-A453-8FCDD778F4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FF29A-18A8-4532-BFED-799184D079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6B495-88C6-44B5-8924-38D87BCD1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47EB8-DA0B-43FD-9EEC-28BDB8B5F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0652F-42A4-4E1D-B7E8-1C839655E4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D7B275-41CC-4FE9-967B-041A21F4BC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FDAAF7-34D6-4ECB-ADF6-B443CCF344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A2D2F3-D10E-4592-9BC9-BA8A7C0D3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CEA3C-F46F-4D8A-AB0A-363E7EADC7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42080-1EED-423A-8D0A-E7A56ED617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D5E5F15-BA11-4D0A-BAA2-652A538E90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2C5398-2745-4E8F-ADF1-4013765AF8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4AFB786-506B-4C72-907E-918529400F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3F14B1-C6D5-4D10-AC51-5CFF4C83DE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E7469B4-070E-4F9F-94C6-225635F823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43C9EC-FC21-4830-A6B5-04C092FC8E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D006191-34BB-4CF9-B5F8-A453B91E4E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5BA081-EC50-4BCB-9A61-3D09EE6B57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41AA9AC-0AA0-4CF7-9F08-A35166109D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F80F45-FCDA-40F6-93BC-9D2771AE79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BF084B-91EF-4FBA-9F28-FB3E548E97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E455B43-0934-4F3F-B6FE-E7DDA7351A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ieee802.org/11/email/stds-802-11-tgbe/msg06649.html"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ieee802.org/11/email/stds-802-11/msg05797.html"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DE3633-230D-4ACB-866F-CA3E689A9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2-01-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D31517-097A-4650-974C-1755E3E74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January 24,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62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21 MAC, 728 PHY, 300 Joint, 13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4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 MAC, 72 PHY</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6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651 CIDs do not have any initial discussion yet</a:t>
            </a:r>
            <a:endParaRPr b="0" lang="en-US" sz="16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25 CIDs pending for the authors of the submissions to follow-up</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4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1 MAC, 202 PHY, 70 Joint, 1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 MAC, 4 PHY, 3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 MAC, 56 PHY, 15 Joint, 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6B96E4-190F-4DB1-BF47-CC6FE4A10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 as of January 24,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649.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1825CF-0E31-4B20-B015-F015C2992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 figur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ropose a resolution to a CID that modifies a particular figure in the draft standard, please visit the members area and download the latest visio to edit it.</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your proposed resolution is approved, I will ask you to provide me with the visio (and preferably the emf file too) for production.</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78F90F-587B-4183-B5BA-659717FA5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5)</a:t>
            </a:r>
            <a:endParaRPr b="0" lang="en-US" sz="3200" spc="-1" strike="noStrike">
              <a:solidFill>
                <a:srgbClr val="000000"/>
              </a:solidFill>
              <a:latin typeface="Times New Roman"/>
            </a:endParaRPr>
          </a:p>
        </p:txBody>
      </p:sp>
      <p:sp>
        <p:nvSpPr>
          <p:cNvPr id="5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ADD52E-74D8-460D-AD1A-26E197C9A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6)</a:t>
            </a:r>
            <a:endParaRPr b="0" lang="en-US" sz="3200" spc="-1" strike="noStrike">
              <a:solidFill>
                <a:srgbClr val="000000"/>
              </a:solidFill>
              <a:latin typeface="Times New Roman"/>
            </a:endParaRPr>
          </a:p>
        </p:txBody>
      </p:sp>
      <p:sp>
        <p:nvSpPr>
          <p:cNvPr id="5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 discussion on what is valuable within clause 6 (of Std 802.11): See </a:t>
            </a:r>
            <a:r>
              <a:rPr b="0" lang="en-US" sz="2000" spc="-1" strike="noStrike" u="sng">
                <a:solidFill>
                  <a:srgbClr val="0066ff"/>
                </a:solidFill>
                <a:uFillTx/>
                <a:latin typeface="Times New Roman"/>
                <a:hlinkClick r:id="rId1"/>
              </a:rPr>
              <a:t>https://www.ieee802.org/11/email/stds-802-11/msg05797.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E8D987-74A5-49FC-AE5D-E4E00F0E6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673C45-485B-408D-BC0B-C40863BE3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January 24, 2022)</a:t>
            </a:r>
            <a:endParaRPr b="0" lang="en-US" sz="16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92"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5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3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3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E38EFD-0EBD-4E28-B2FA-D92618354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January 24, 2022)</a:t>
            </a:r>
            <a:endParaRPr b="0" lang="en-US" sz="16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2-01-24T13:07:09Z</dcterms:modified>
  <cp:revision>9030</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