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8E9C8D7-376D-4A0B-BA92-1191A12BBF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9"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0"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72B979-4A83-4F98-9B72-A0FD7BF5F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54160" y="701640"/>
            <a:ext cx="4626000" cy="3468600"/>
          </a:xfrm>
          <a:prstGeom prst="rect">
            <a:avLst/>
          </a:prstGeom>
          <a:ln w="0">
            <a:noFill/>
          </a:ln>
        </p:spPr>
      </p:sp>
      <p:sp>
        <p:nvSpPr>
          <p:cNvPr id="6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54160" y="701640"/>
            <a:ext cx="4626000" cy="3468600"/>
          </a:xfrm>
          <a:prstGeom prst="rect">
            <a:avLst/>
          </a:prstGeom>
          <a:ln w="0">
            <a:noFill/>
          </a:ln>
        </p:spPr>
      </p:sp>
      <p:sp>
        <p:nvSpPr>
          <p:cNvPr id="6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689406-BE77-4824-A889-CD6550425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54160" y="701640"/>
            <a:ext cx="4626000" cy="3468600"/>
          </a:xfrm>
          <a:prstGeom prst="rect">
            <a:avLst/>
          </a:prstGeom>
          <a:ln w="0">
            <a:noFill/>
          </a:ln>
        </p:spPr>
      </p:sp>
      <p:sp>
        <p:nvSpPr>
          <p:cNvPr id="6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C9E7F2-8726-411D-9348-256683DEB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54160" y="701640"/>
            <a:ext cx="4626000" cy="3468600"/>
          </a:xfrm>
          <a:prstGeom prst="rect">
            <a:avLst/>
          </a:prstGeom>
          <a:ln w="0">
            <a:noFill/>
          </a:ln>
        </p:spPr>
      </p:sp>
      <p:sp>
        <p:nvSpPr>
          <p:cNvPr id="6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49DA3F-1948-402E-B6F3-04BF712DE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54160" y="701640"/>
            <a:ext cx="4626000" cy="3468600"/>
          </a:xfrm>
          <a:prstGeom prst="rect">
            <a:avLst/>
          </a:prstGeom>
          <a:ln w="0">
            <a:noFill/>
          </a:ln>
        </p:spPr>
      </p:sp>
      <p:sp>
        <p:nvSpPr>
          <p:cNvPr id="6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A43884-20D2-4ABB-8B42-EAEA6FBC1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54160" y="701640"/>
            <a:ext cx="4626000" cy="3468600"/>
          </a:xfrm>
          <a:prstGeom prst="rect">
            <a:avLst/>
          </a:prstGeom>
          <a:ln w="0">
            <a:noFill/>
          </a:ln>
        </p:spPr>
      </p:sp>
      <p:sp>
        <p:nvSpPr>
          <p:cNvPr id="6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905C6D-5F2C-4418-804B-0EF5C9825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54160" y="701640"/>
            <a:ext cx="4626000" cy="3468600"/>
          </a:xfrm>
          <a:prstGeom prst="rect">
            <a:avLst/>
          </a:prstGeom>
          <a:ln w="0">
            <a:noFill/>
          </a:ln>
        </p:spPr>
      </p:sp>
      <p:sp>
        <p:nvSpPr>
          <p:cNvPr id="6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F979D5-F286-497D-9B61-BCBEE5184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54160" y="701640"/>
            <a:ext cx="4626000" cy="3468600"/>
          </a:xfrm>
          <a:prstGeom prst="rect">
            <a:avLst/>
          </a:prstGeom>
          <a:ln w="0">
            <a:noFill/>
          </a:ln>
        </p:spPr>
      </p:sp>
      <p:sp>
        <p:nvSpPr>
          <p:cNvPr id="6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6C996B-4F75-4AB7-ADFB-251D639B4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54160" y="701640"/>
            <a:ext cx="4626000" cy="3468600"/>
          </a:xfrm>
          <a:prstGeom prst="rect">
            <a:avLst/>
          </a:prstGeom>
          <a:ln w="0">
            <a:noFill/>
          </a:ln>
        </p:spPr>
      </p:sp>
      <p:sp>
        <p:nvSpPr>
          <p:cNvPr id="6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EA32BC0-A34C-4C4D-99C9-3F7ABB306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1286E-5EAB-4354-B9CF-8E7410E38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67E9B-2D2B-4CBC-BA11-7DBEAC037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E95B2-DB0D-4F30-99B4-084AB7B30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4BC0A-854D-4C7A-9C30-380248B23B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049F6C-2CBA-4197-ACF0-FEA729693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44F7D-9B0B-495A-991C-4E1D9ACDF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F8BF9-9F52-456B-B3E2-0E127652D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AF729-D570-4242-8FA4-2BB6284CE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9080C-7577-40D8-AF5F-B17B5B78A0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1A70B8-A657-4E72-9D0F-265FAE7D49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D56A25-6E89-4138-962B-1B9F3619E6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30E57C-2F82-4B9C-91FE-5BD9E57817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6FE10-4CEA-44FA-A9DD-394B48406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6B7FF7-A92D-43E3-AF21-D17F095F54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064BC0-70F8-405C-B933-FD1F721D8D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7ED369-8B23-46A9-B3AD-F330CAAA6D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70ABFB-3B8A-43A9-B1B0-8E80AC5E50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BD9DA8-D4AC-4A95-9740-81EA39E12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4A454B-8CAA-469A-BE56-08F06FB8CB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EEC951-83DC-40CC-8D4C-C064C119A1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7A54A2-DE56-404E-92DF-34AF0D311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857773-6F1E-4961-A9A7-F43C90F408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D9AC88-7FEF-4C02-A623-C530B52B1F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80693-E6A0-40DE-A947-C01431F0D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9A967A-53A5-4946-B9BB-EE1513CCAD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5DF731-EC41-456E-9640-883EED937A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808B57-C987-48D8-8099-DF8D4BD109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B1D360-05DB-4E8A-A8D5-79BC83E787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AAE98B-4F68-4D33-8DE4-A07DCBD92A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40AF1C-FEC7-4D51-A0E1-F4F5721B50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324CCF-551B-42C9-95D7-1ED9529955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460E2B-9AFF-45C5-A2AF-DEFC7081A8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2C8F0-4755-4702-9F45-15FA0E0A23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93B98B-0985-45A7-A978-7FBFDDA7FA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8A9C9-537B-4271-B563-9B63CD409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14BC3A-9DB7-46A1-A922-9D56011DC9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F7DA9C-D797-44B4-9C9B-4530FA61B4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6DE971-D181-411E-A185-B5A96FF5F8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E976D5-2D87-4C48-BD99-302AE12E9E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149F13-C40C-4744-BAAF-597103B8F4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52FDA9-0A66-473F-93D6-14FD9C0277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8A79F5-D929-4DC8-921D-ED8CFFDECE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696698-4B3B-4C82-874F-54F2710098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52FD06-8338-4C39-A3C2-016170C464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83F605-12F3-4A4B-89E3-E8294703D6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3AA5A-B35B-43DB-80AA-EFFB33CB0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2BFE45-3986-435C-ADC9-D1447B2411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D2FE33-5F70-45F8-A5CE-1A9D4124C0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6A0898-206C-47CF-A024-BDE2C1400F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AE0583-CCD2-48DD-8B9C-D6A22DD5A0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ECAB44-8748-4EF1-96B4-1B46073091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49E7F-D2E2-4577-8147-1AACF6952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46422-583B-4D61-ABA4-E19A2334E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50705-3AF1-4115-B01F-4174680B9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91994-ED4B-47C9-8E3D-C03653984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F6B6F-B90B-4F44-90F3-61D51B2A0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583B-49E9-4EDA-9D14-E79A77FD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E80C-2E24-4E52-8BBB-61F10A41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A949E-8009-4FC4-A12F-263421C1C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2AF3-E468-429E-B6F0-AA2AF1C76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CB27F-00BF-48AA-8341-6DA446517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7B0ED-B4C7-4F52-8435-3E744D296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5CD1C-D5F9-4E32-97AB-D69B7FFEF7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044B2-2906-4769-B34A-9E29ADFA6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84D84-D622-413E-8524-68911DD67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88A54-4993-4BEC-A243-43D8DE243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D83DB-9FBF-45C3-A209-57DBF5B4B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2ACD-5A79-46D2-9FCC-059CA2A2E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23337-ED15-4A8D-BDAC-9160221E8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2FAF2-70C6-4781-B172-687F527B1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37166-5910-4FDB-B793-25BF86505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7984B-0E01-4BB1-B8A9-4D5FE023E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5B358-6D61-464B-867A-255E1D781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D9827-6DA4-4B86-A3C1-7C55D99C8C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028CD-A083-4D57-BE7F-DE1B6B8940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57255D-2C10-4C87-8EE0-28AE93D145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C6FC1-2CB3-44BD-970A-E9AE95E9B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70431-5EEF-4384-9AD4-F6BE608DC0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C3C6-DF25-4BE4-9AD0-51F239C1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06F32-D0D2-40F2-BA0B-DD277DA4C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D2F3E-4CED-4008-9EB6-431DE38B1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33309-7D39-4F1D-8924-7FBDB2326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6CBF4-E8FA-4E02-8550-AC707C454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E8A09-3E10-4327-91C3-EAA9B9E5B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47861-5E58-4DEE-B724-CE14813D3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BD199-4378-4071-81AC-4027F6E39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77840-2F7C-4A70-92B3-FF73AA5D4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EAFFC-A28D-4354-B50D-2043F2ECC3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678BEB-5F0B-4113-A03D-7DE6B92F4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CCEE-AE0B-45C2-B7FF-89C4B07D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99E66-095A-4499-A8B7-BD5B58F14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1294C-D8A6-442F-BA41-2DEC3018D3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730A0-482E-4CC8-B257-1F3B73B91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827B2-6A10-43F4-AFDB-663A2CEEA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D4F7C-722F-4693-A4A9-5D80CB156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DF436-4F98-43AB-996E-DC463DF09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84C20-9372-422D-959A-086D5ED8E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ABE70-18BE-4E41-AA87-20E70C59A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B4963-2320-4002-A229-83952D70F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D3135-7008-4625-BDAF-2C6DC87EC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A451-1823-4A80-98AA-35B752774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D428F-28AD-4432-8A86-4EB311873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AE08EB-F07E-48E0-B41D-A15C514D8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0174D-1CFC-4261-9A60-F0189507E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20FDE-C2FC-4D98-B627-9A8E17E75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C7D83-2D40-4BCC-9D47-65277117A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E674E-B957-4351-8AAD-E87901920F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2B5F0-9E70-4B3B-B877-1FD590C593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32E34-E4D9-41FB-A08C-FA6A79E61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F8210-4935-427E-8CD4-504312304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A70A7-C95B-4FB0-BFB7-B748EAE63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D927-39CB-42B7-83CD-FC23EFD1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F7D3A-6B30-47E0-95E4-A9E346CD9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6802D-0B1A-4931-AFD6-8D22B87EC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B5B9B-E227-43B2-9DE1-3978D79158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AE3385-758F-400A-84DA-FB358C2C0C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BFBC8-AA8B-4100-BA2E-1A4884FAE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715B3-EBC9-4609-B56F-E9669E6FF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15C51-3D41-4878-A07A-1E86376921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AA782-3F11-4A07-8450-272041CCA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7B5CB-7F3C-455C-B77F-62AC8B0D72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201D3-089A-428B-95D9-42E2AF8BB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E768-5B9C-4EC3-88A1-B020A6E4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E7C54-5147-4ABF-95B3-A45F762F9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9969E-967E-4D1D-8295-7C77E8FD6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90773-CE9F-4741-BB95-934846D1D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A1EEE-6297-40F3-BAD7-BE9D3F857C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32F976-0F26-4995-8417-4268780C7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E757D3-562F-45EC-974C-7BB78C630A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3E1B5-1769-4610-A2DB-7D02AFDEC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2E918-511E-465B-9CDD-617114E57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77091-18BA-4755-A863-4B046061B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2A0C6-65B0-4F6D-BA12-9DA90FC83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02E1-71CB-4930-A2AC-EEFAE3F2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68265-4ED5-4410-A66C-5E85CA70A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1F488-7550-49B0-B185-452A409FC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12171-542F-4754-AEA1-E27FD4124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F3AB7-0E6E-4791-BD2B-5755B6EC8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2CDEF-71EA-4104-813A-F937E79BA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3016D-0F2B-45BB-AFB7-25CC1A23E1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D6CC46-58E4-436A-BA01-09C4044CE9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2A863F-2A3C-4F5E-9CDE-98F128BEA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998D6-0892-434A-84FA-CF3CF415B4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DA7F95-8ECA-4312-ACEE-9C393C90AB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E3912D-36BB-4FA0-BCA9-9B57F8A0C6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A8D1A4-CDB9-4727-97DD-728D4519F9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4AB0EE1-5CCB-4EE2-905D-929814E3A8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493C075-EE67-4ADD-8EFA-EB3AA44E71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05713CB-E6EC-484E-94B3-8790166195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7DDA41-DCA4-4325-983F-C948C1CFA6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A8B6D2D-A6E2-4677-BF47-8A23807AE1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4A9CC0B-F306-4737-885E-F6A5DE5FC8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4C2F92-07C5-48A6-927D-966A5FC454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84F2B00-BC00-4796-8D89-79AEFF5938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EE41B8-680D-48F6-83E4-3E31198640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6</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E74BB46-1586-495A-9428-0134A1F7E2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ieee802.org/11/email/stds-802-11-tgbe/msg06649.html"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ieee802.org/11/email/stds-802-11/msg05797.html"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AE2678-6291-4ED1-9C0D-D6F74317E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2-01-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05E6A1-D5E7-436E-842F-8AED3EDF6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January 24,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62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21 MAC, 728 PHY, 300 Joint, 13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4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 MAC, 72 PHY</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6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651 CIDs do not have any initial discussion yet</a:t>
            </a:r>
            <a:endParaRPr b="0" lang="en-US" sz="1600" spc="-1" strike="noStrike">
              <a:solidFill>
                <a:srgbClr val="000000"/>
              </a:solidFill>
              <a:latin typeface="Times New Roman"/>
            </a:endParaRPr>
          </a:p>
          <a:p>
            <a:pPr lvl="3" marL="1600200" indent="-228600" algn="just">
              <a:spcBef>
                <a:spcPts val="3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25 CIDs pending for the authors of the submissions to follow-up</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4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1 MAC, 202 PHY, 70 Joint, 1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 MAC, 4 PHY, 3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 MAC, 56 PHY, 15 Joint, 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4AF136-B304-49E8-AA54-89616E74F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 as of January 24,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649.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A201A8-2BAA-479D-BE9C-88F393B39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 figur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ropose a resolution to a CID that modifies a particular figure in the draft standard, please visit the members area and download the latest visio to edit it.</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your proposed resolution is approved, I will ask you to provide me with the visio (and preferably the emf file too) for production.</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B4325E-1595-451E-9D38-8A6E99E80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5)</a:t>
            </a:r>
            <a:endParaRPr b="0" lang="en-US" sz="3200" spc="-1" strike="noStrike">
              <a:solidFill>
                <a:srgbClr val="000000"/>
              </a:solidFill>
              <a:latin typeface="Times New Roman"/>
            </a:endParaRPr>
          </a:p>
        </p:txBody>
      </p:sp>
      <p:sp>
        <p:nvSpPr>
          <p:cNvPr id="5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54A673-0233-4067-80F9-234F455F3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6)</a:t>
            </a:r>
            <a:endParaRPr b="0" lang="en-US" sz="3200" spc="-1" strike="noStrike">
              <a:solidFill>
                <a:srgbClr val="000000"/>
              </a:solidFill>
              <a:latin typeface="Times New Roman"/>
            </a:endParaRPr>
          </a:p>
        </p:txBody>
      </p:sp>
      <p:sp>
        <p:nvSpPr>
          <p:cNvPr id="5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 discussion on what is valuable within clause 6 (of Std 802.11): See </a:t>
            </a:r>
            <a:r>
              <a:rPr b="0" lang="en-US" sz="2000" spc="-1" strike="noStrike" u="sng">
                <a:solidFill>
                  <a:srgbClr val="0066ff"/>
                </a:solidFill>
                <a:uFillTx/>
                <a:latin typeface="Times New Roman"/>
                <a:hlinkClick r:id="rId1"/>
              </a:rPr>
              <a:t>https://www.ieee802.org/11/email/stds-802-11/msg05797.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30E04-E138-46A4-A230-CE5C5E23C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017EBB-BC84-4C99-A4BE-062231DC9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January 24, 2022)</a:t>
            </a:r>
            <a:endParaRPr b="0" lang="en-US" sz="16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92"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5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3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6</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3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5902E-2A0B-473E-BE95-EE3CF477B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January 24, 2022)</a:t>
            </a:r>
            <a:endParaRPr b="0" lang="en-US" sz="1600" spc="-1" strike="noStrike">
              <a:solidFill>
                <a:srgbClr val="000000"/>
              </a:solidFill>
              <a:latin typeface="Times New Roman"/>
            </a:endParaRPr>
          </a:p>
        </p:txBody>
      </p:sp>
      <p:sp>
        <p:nvSpPr>
          <p:cNvPr id="5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2-01-24T13:07:09Z</dcterms:modified>
  <cp:revision>9030</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