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271B33E-D4A8-4DC6-B6CD-55E10C4DB1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594"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595"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5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84C3EE-B763-446C-BF18-E8FEEBBC0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54160" y="701640"/>
            <a:ext cx="4626000" cy="3468600"/>
          </a:xfrm>
          <a:prstGeom prst="rect">
            <a:avLst/>
          </a:prstGeom>
          <a:ln w="0">
            <a:noFill/>
          </a:ln>
        </p:spPr>
      </p:sp>
      <p:sp>
        <p:nvSpPr>
          <p:cNvPr id="5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4160" y="701640"/>
            <a:ext cx="4626000" cy="3468600"/>
          </a:xfrm>
          <a:prstGeom prst="rect">
            <a:avLst/>
          </a:prstGeom>
          <a:ln w="0">
            <a:noFill/>
          </a:ln>
        </p:spPr>
      </p:sp>
      <p:sp>
        <p:nvSpPr>
          <p:cNvPr id="6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0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E77D85-4444-447F-89F6-6A0C4174B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FCFE77-5CC4-4F73-A4E7-1246C88EA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B581DC-0101-419D-AFBD-00B652810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ACED53-ACD8-4C44-8A8F-C3E270DF0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A7ABA2-79A3-4C1C-8C80-42BA7C54D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BE5B54-694E-4239-8346-5A1E033DF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B3EEC5-AA76-4301-B472-A5607BF22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D8511-F81C-4793-ACEE-4945A2DF5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8944D-BA73-477B-8676-89943261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143E69-12C7-4FE9-822B-B16BC060FF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85533-60C7-4902-B030-9CE3FC18B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A6D4D2-3048-4851-AC96-963199D93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5C6274-8F77-49C4-8B99-BD6906614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EB040-A90A-46E4-90EC-2AFBBC0F1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D2BED-2667-4735-828A-B95598942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03382A-E12F-40C2-9D8B-70315E0180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8E062E-73C0-40FD-85D9-3DFC99C736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E3BD6B-5023-41A1-9835-4079C0AC44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F9CC91-F027-4541-BC50-52186433A2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BB8F2-F5A7-43C0-8984-C55DB4641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3ED652-A9DB-4A92-90D9-915273CE5E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C25903-0B75-4589-B857-F73F382C15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B023EB-04A2-4724-91E2-F70A1C6096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02CB56-467D-498F-A9C5-234903BE66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175656-1989-41C3-A483-DB2C7A7D63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D4AA4F-2452-4DCC-BEC4-FBAFA2087F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77B75-D7E6-4F4C-BB9E-2733B2763A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261140-97A5-4E5F-AB31-2D8C0CB5E2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E522C1-D55A-4796-AEEA-54EBB248DC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148543-F5AD-47C6-9D26-921933492C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4B83F-3EAB-40DE-9318-872392F64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F3077E-80B1-4895-8FD9-2C1257A298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358570-A16F-4B4F-9B30-3DB495AFC5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9B1439-0B87-4FAA-9FF3-ACBA7AA932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94F1B3-2646-42CC-A202-3BF376E7C1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EA1DC9-3518-4094-ACC4-38609B6922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539A39-9835-4ABC-A31A-3DEF5E2688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EDB03D-75A5-4DFC-BB45-95EEF55735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ACA42E-6894-432B-838A-96E66DBD6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E7E921-2B65-4629-ABA8-58E0DE2490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80298B-2D89-4C7C-ADE5-D3246841D2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6CD51-928D-477C-AD83-F98E8169A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3B2DA8-AA33-4C90-B3C6-0910CA4396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9D18EF-42AA-4FC3-BC8B-6B9865C245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0B9FFF-BB6F-4812-9995-E0DF2DE557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FD0E31-3FA0-41D5-9880-40AEF47B98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824CB9-714E-48AB-8641-B2B45B1E3E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AA8DBD-3A2A-450C-B418-E993A73C48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04295A-B262-46B5-B5FC-427E971655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69B4D5-81EC-4CB3-883A-E29091B723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2B8500-9CB9-48F1-97F1-EE6DB19959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CA0F98-FD4D-4619-9C87-B947BF09B8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C14AF-B583-428C-AF5D-0DAA40DDD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A571B5-CBC7-4377-A233-4BAEF1090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FB6650-2F23-4C75-B5ED-F415AED006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73353D-6185-4A50-9446-C773E15EBD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9F0AB1-F300-4B37-A6E0-59827D9428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4453E6-AFD9-42A3-B6A7-C6E4B26895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391A0-A1D1-489C-9AD2-59CDC42CB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93AE5-5295-484F-AE9A-12942B401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3E189-B02C-4C22-BC7B-BCB26224C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CA66B-199C-4524-9A0F-C9F0FD842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60B1B-13EA-45C9-B58A-74335B97F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6E574-7481-4E82-A4DA-77D0A3362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0FD85-60C0-4B4F-8A9D-F75589620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1A445-732C-4C05-B419-D1466C9BB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2E6FD-A28D-44FC-A0A9-9BAA73432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29C50-37EB-4E62-9CB9-6C705D4D2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B08D6-933B-4F7A-810E-DA5EFA9A8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78074-90D2-4344-A052-E050488C53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6614A-F166-4E0A-895B-CD1F66E44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6F8C0-0707-4FA7-8AEF-A240685DE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6D558-D983-4DEC-A785-638802AC1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63E81-1CF5-43A4-8507-DA796012C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FDA5-571A-435B-8D6D-3FC3CAAC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54651E-F81F-4CBE-94F0-6F2628A81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13223-ACC0-40A0-8C77-867845093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A1978-EED0-49A2-8289-7A0344636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D0F71-9445-4646-9144-96802365B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BEE50-0653-43A3-A27C-DF6AFC1F7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750F5-B4C3-409F-852C-B3C46346D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AA5929-7595-42F0-B9A1-565482BC7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B5177-063D-4E82-8A2B-51C276C06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90801-68CC-4C79-98F9-F282605FE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1F8678-3316-438B-BE8F-394C63D3C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8AE58-AD72-4A3D-A964-CB110925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EAF1B-100B-4A7A-A199-8D04FD6A3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8B34A-71C8-4F78-800D-C4F726CD6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6DD05-5312-4C73-B703-C2E4BFADC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8F79C-BE16-48CF-A9CD-E3B86BF3A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53046-16A0-46E8-828B-A8A9132AC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18BC1-6D95-42BF-BA3B-25B6514F1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60157-BF35-42D6-9843-82CAB731B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E0DCE8-1270-49BA-B42F-BC6334D30F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5018CF-1AFA-4D54-AC12-9EB11C661D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0557FF-144B-484E-901F-1186D94F1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241E-2672-405F-8CFA-5919E83F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9D536-6CD3-418B-8E06-EEA792191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1EF8A-85D4-4B33-892C-4CB046CF3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3CDDA-2F8A-4AE9-9C84-8ABCD8E9E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D0AF5-34AD-47B9-8524-29280B42C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B2592E-12A1-4C71-BA4B-7456C104B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7A5C9-B9C4-4DDE-AC92-33C9E8ADB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BE5A2-2744-44BA-A90C-DF74731B6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0E725-75A1-450E-A9A8-3B71F5162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4493E-0C6A-4382-ABF3-B94FD16CE9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EC9119-1A3A-440F-A811-3D80EDE333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CFDF-C07D-4955-B87F-EF95CCF00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B0D6CA-6764-4E02-B6EB-67D10E0789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980AF-F021-4A36-92EE-53DA938FBF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78D2FA-5E61-49C5-8024-BD99078E5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46485-6024-4CC6-84E0-D4B31FBFA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7FAA2C-05C7-4A40-98FD-8AA683CD52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F99066-21FB-49C8-9B43-8B7D3898A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2C6FB-4C02-4AF1-8676-3D738DED0F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D8F2D-719F-4218-998F-514DE27AB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C90AF7-2A3E-4152-9073-1797F09E4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72B99-DF84-480C-AB04-727F3DDFA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650C-C6AC-4AD3-A6B4-38936BF4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AC628-ACF0-4AD6-A146-E8B0222EE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B37850-1E6A-4C71-B34F-6C756764FF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306925-9C6F-465E-9057-158730413A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980ADE-4515-4F20-BA0C-500C261D6A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00D23-DC1A-4F14-976B-667DF6BBC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9E86B4-5358-4A94-8307-D66261420F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E52C7B-77C3-462D-BE90-4E96E652F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00408-458B-48F6-8CFC-3FBA0310B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68143-C499-4BCD-AD0D-00FD97CB1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412C8-2C42-40E4-9C21-3D0A9E776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9FA5-A609-485F-A94B-3AA2A52CB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55A19-1C94-4500-BEC2-09AD0F6E6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39212-7AB1-4642-A801-8003C4609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9C740-1DFC-4E1B-ABE2-55489748C6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91E9F3-8824-40BA-96BE-797CE032EC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F6C532-D2C7-4B9C-817B-1C585DA555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1DEAED-7696-4750-A81E-38166FAAB7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3F1E86-C532-4BBC-BF8C-DCCA49A2A3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CD146-706E-4E7D-872E-ECE15C0C7C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71EC5-9F35-4141-8E98-423545FA5B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B9850D-E5C4-4D6F-A060-8E14BE948B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EAFF-D135-4FAA-A2E9-C18618A79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C0D9B-67B9-47A1-BEE4-03A533E27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C8FC2-BEC7-4C31-8298-CE46C50FF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7E938-FA27-49D3-80F3-845683D40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5F6E9-7557-4CAC-B7A4-A8490FFD5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8D0A8B-81EC-4449-AA51-64FB8552B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16B81E-648A-44DE-B5B5-06F9D3DA27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F5011D-DFBC-415C-A5E2-B4EC502996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2A6E3F-62E8-4B41-B721-161CC77EE9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76BA60-F1A6-4C26-A46B-9BBF25EAE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D476CE-5F06-4653-949D-CE08349683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848BE2A-3CF5-4CFB-B5CF-616828523A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A85140-77F1-4E85-B274-1DAEA94C7D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9E0DEE2-0DE2-459D-BB87-570212A0C2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7E96A17-8437-4628-A12D-A74482DAA7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001CD20-662D-4E4C-AA20-57BBD99983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80CA654-A719-461E-8956-A5CD5646E7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F9DFE81-3A5D-4A54-8992-7175DC4300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95F34D-3691-484D-9C4B-B6093E80AD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36A31DD-9A62-4297-A285-580BCA6BB8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0FFEAE0-1210-4C47-B9F2-637EB1F4F8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001C7CB-6F70-4CA8-9CBA-8856B2B7C3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5</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3399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75BC90-0477-4317-BF68-CDD47AADF2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ieee802.org/11/email/stds-802-11-tgbe/msg06632.html"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D64F0C-DE37-46E2-B141-A033B06D2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2-01-2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0A11CD-8FBB-4994-AF42-9854F8545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1)</a:t>
            </a:r>
            <a:endParaRPr b="0" lang="en-US" sz="3200" spc="-1" strike="noStrike">
              <a:solidFill>
                <a:srgbClr val="000000"/>
              </a:solidFill>
              <a:latin typeface="Times New Roman"/>
            </a:endParaRPr>
          </a:p>
        </p:txBody>
      </p:sp>
      <p:sp>
        <p:nvSpPr>
          <p:cNvPr id="56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status as of January 21, 2022:</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72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62 CIDs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21 MAC, 728 PHY, 300 Joint, 13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1 CID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 MAC, 72 PHY</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79 CIDs assigned and pending for resolu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7 technic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84 MAC, 202 PHY, 70 Joint, 1 EDITOR</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 gener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 MAC, 4 PHY, 3 Joint</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8 editori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 MAC, 56 PHY, 15 Joint, 4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64B5D0-C3B5-4797-827F-1ED7B6510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3)</a:t>
            </a:r>
            <a:endParaRPr b="0" lang="en-US" sz="3200" spc="-1" strike="noStrike">
              <a:solidFill>
                <a:srgbClr val="000000"/>
              </a:solidFill>
              <a:latin typeface="Times New Roman"/>
            </a:endParaRPr>
          </a:p>
        </p:txBody>
      </p:sp>
      <p:sp>
        <p:nvSpPr>
          <p:cNvPr id="56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of PoC assignment:</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www.ieee802.org/11/email/stds-802-11-tgbe/msg06632.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23AAB3-DD3C-4A6D-93A3-00E105F49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4)</a:t>
            </a:r>
            <a:endParaRPr b="0" lang="en-US" sz="3200" spc="-1" strike="noStrike">
              <a:solidFill>
                <a:srgbClr val="000000"/>
              </a:solidFill>
              <a:latin typeface="Times New Roman"/>
            </a:endParaRPr>
          </a:p>
        </p:txBody>
      </p:sp>
      <p:sp>
        <p:nvSpPr>
          <p:cNvPr id="57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 figures</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ropose a resolution to a CID that modifies a particular figure in the draft standard, please visit the members area and download the latest visio to edit it.</a:t>
            </a:r>
            <a:endParaRPr b="0" lang="en-US" sz="20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your proposed resolution is approved, I will ask you to provide me with the visio (and preferably the emf file too) for production.</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231B2C-7083-492B-BEFA-5CC9D5937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5)</a:t>
            </a:r>
            <a:endParaRPr b="0" lang="en-US" sz="3200" spc="-1" strike="noStrike">
              <a:solidFill>
                <a:srgbClr val="000000"/>
              </a:solidFill>
              <a:latin typeface="Times New Roman"/>
            </a:endParaRPr>
          </a:p>
        </p:txBody>
      </p:sp>
      <p:sp>
        <p:nvSpPr>
          <p:cNvPr id="57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7"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ew CIDs, the commenters correctly pointed out that there are editorial style issues (e.g., the writing style is not aligned with IEEE 802.11 editorial style guide).  The comments, however, were rejected on the basis that existing text in, e.g., the IEEE 802.11ax-2021 standards or other locations in the draft IEEE P802.11REVme standards justify the existing or proposed text.</a:t>
            </a:r>
            <a:endParaRPr b="0" lang="en-US" sz="20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 would encourage the members to resolve these issues in both REVme and TGbe sooner than later (i.e., don’t wait to resolve them till the point when Mandatory Draft Review is performed):</a:t>
            </a: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tements that describe the actions of a STA in order to determine a value for a field and any other behavioral specification should not be present in Clause 9</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B naming convention (activated vs. implemented)</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rPr>
              <a:t>set to”, “equal to”</a:t>
            </a:r>
            <a:endParaRPr b="0" lang="en-US" sz="15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C28491-1500-4270-BBDF-25C69991E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7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essment Document</a:t>
            </a:r>
            <a:endParaRPr b="0" lang="en-US" sz="3200" spc="-1" strike="noStrike">
              <a:solidFill>
                <a:srgbClr val="000000"/>
              </a:solidFill>
              <a:latin typeface="Times New Roman"/>
            </a:endParaRPr>
          </a:p>
        </p:txBody>
      </p:sp>
      <p:sp>
        <p:nvSpPr>
          <p:cNvPr id="5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 comments are received, including 4 from 802.19</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nera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IDs are resolved and motioned in the September 2021 interi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9F0629-CA64-412E-A506-9A635B731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587" name=""/>
          <p:cNvGraphicFramePr/>
          <p:nvPr/>
        </p:nvGraphicFramePr>
        <p:xfrm>
          <a:off x="685800" y="1616040"/>
          <a:ext cx="7924680" cy="3641760"/>
        </p:xfrm>
        <a:graphic>
          <a:graphicData uri="http://schemas.openxmlformats.org/drawingml/2006/table">
            <a:tbl>
              <a:tblPr/>
              <a:tblGrid>
                <a:gridCol w="1033560"/>
                <a:gridCol w="6891120"/>
              </a:tblGrid>
              <a:tr h="33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262r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cification framework for TGbe</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293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755r1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motions related to the contents of the TGb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566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1935r4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20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997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546r2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935r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62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6 and CC3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223r2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4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8r2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6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9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7 comments on Coexistence Assessment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325EAD-18D3-4AFA-936D-9A42576FC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22</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no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the contents of the SFD are summarized in the latest version of 20/1935. Results of motions are summarized in the latest version of 19/1755.</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PDT and PDT-TBD texts are summarized in the latest version of 21/054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the straw polls related to the comment resolution submissions are summarized in the meeting minutes.  Results of the motions  are summarized in the “TGbe Motions List for Telecon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2-01-21T15:21:49Z</dcterms:modified>
  <cp:revision>9021</cp:revision>
  <dc:subject>Task Group AY November 2015 Meeting Agenda</dc:subject>
  <dc:title>TGbe Editor's Report on CC36 and CC3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