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451A3AC8-0336-4CFE-9A45-DF9D33EFED4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94"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95"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59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BA62B33-7988-4F67-82A1-AA7415A6C2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PlaceHolder 1"/>
          <p:cNvSpPr>
            <a:spLocks noGrp="1"/>
          </p:cNvSpPr>
          <p:nvPr>
            <p:ph type="sldImg"/>
          </p:nvPr>
        </p:nvSpPr>
        <p:spPr>
          <a:xfrm>
            <a:off x="1154160" y="701640"/>
            <a:ext cx="4626000" cy="3468600"/>
          </a:xfrm>
          <a:prstGeom prst="rect">
            <a:avLst/>
          </a:prstGeom>
          <a:ln w="0">
            <a:noFill/>
          </a:ln>
        </p:spPr>
      </p:sp>
      <p:sp>
        <p:nvSpPr>
          <p:cNvPr id="59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54160" y="701640"/>
            <a:ext cx="4626000" cy="3468600"/>
          </a:xfrm>
          <a:prstGeom prst="rect">
            <a:avLst/>
          </a:prstGeom>
          <a:ln w="0">
            <a:noFill/>
          </a:ln>
        </p:spPr>
      </p:sp>
      <p:sp>
        <p:nvSpPr>
          <p:cNvPr id="60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0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0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0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82AAE68-BCE7-4349-8A1F-669DEC4E3C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54160" y="701640"/>
            <a:ext cx="4626000" cy="3468600"/>
          </a:xfrm>
          <a:prstGeom prst="rect">
            <a:avLst/>
          </a:prstGeom>
          <a:ln w="0">
            <a:noFill/>
          </a:ln>
        </p:spPr>
      </p:sp>
      <p:sp>
        <p:nvSpPr>
          <p:cNvPr id="60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0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0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1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14F2125-DB1A-41A8-9F9F-05439324AA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54160" y="701640"/>
            <a:ext cx="4626000" cy="3468600"/>
          </a:xfrm>
          <a:prstGeom prst="rect">
            <a:avLst/>
          </a:prstGeom>
          <a:ln w="0">
            <a:noFill/>
          </a:ln>
        </p:spPr>
      </p:sp>
      <p:sp>
        <p:nvSpPr>
          <p:cNvPr id="61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1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1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7F6029A-FF16-461A-8EE1-C619C7025D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54160" y="701640"/>
            <a:ext cx="4626000" cy="3468600"/>
          </a:xfrm>
          <a:prstGeom prst="rect">
            <a:avLst/>
          </a:prstGeom>
          <a:ln w="0">
            <a:noFill/>
          </a:ln>
        </p:spPr>
      </p:sp>
      <p:sp>
        <p:nvSpPr>
          <p:cNvPr id="61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1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2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80BA267-6EE8-46F3-844C-973B8364B1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54160" y="701640"/>
            <a:ext cx="4626000" cy="3468600"/>
          </a:xfrm>
          <a:prstGeom prst="rect">
            <a:avLst/>
          </a:prstGeom>
          <a:ln w="0">
            <a:noFill/>
          </a:ln>
        </p:spPr>
      </p:sp>
      <p:sp>
        <p:nvSpPr>
          <p:cNvPr id="62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2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2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A393B24-91A2-4E65-B180-3B82702DB9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54160" y="701640"/>
            <a:ext cx="4626000" cy="3468600"/>
          </a:xfrm>
          <a:prstGeom prst="rect">
            <a:avLst/>
          </a:prstGeom>
          <a:ln w="0">
            <a:noFill/>
          </a:ln>
        </p:spPr>
      </p:sp>
      <p:sp>
        <p:nvSpPr>
          <p:cNvPr id="63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3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3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3E878AF-641E-4395-A6FD-0E26A502D5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54160" y="701640"/>
            <a:ext cx="4626000" cy="3468600"/>
          </a:xfrm>
          <a:prstGeom prst="rect">
            <a:avLst/>
          </a:prstGeom>
          <a:ln w="0">
            <a:noFill/>
          </a:ln>
        </p:spPr>
      </p:sp>
      <p:sp>
        <p:nvSpPr>
          <p:cNvPr id="63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3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4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306FBDD-78FD-4B4B-A9AF-AA770DDF30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34CF55-0453-424C-8951-AE4AABA7F7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9E8EA-57E7-458A-BECD-6B48F2F6C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FA2BFD-5937-454F-8032-CDCD310FFAA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7B4A73-8830-40A2-B70E-BA57369B01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05E655-D2A8-4F0D-B974-F2B90D5F72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FCADB5-2969-497A-8009-7A2D9B561E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FA6893-5260-48EF-8FF1-ACD6AED2D8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9AB139-D8BC-464C-9364-C7981A6FEE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8DDBF9-E3E1-4038-A5AE-94A1777D37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463242E-9198-475F-90AC-F19608CD8CF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9F6BDA1-95AC-471F-B035-C9FA20C7322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BB64C68-973B-4FEC-AFE6-973A5F599CD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D3A7E2-D079-441C-929C-514823BAF2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7DE5AA5-44E2-4F2F-8EB4-177505C5D4E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188E4BE-102E-46CD-B99C-8C3672864A2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5389D9C-8658-40A8-B89B-53B07950CED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6959B37-8162-457E-98A8-30BFDF520D3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5057317-A86B-4EFF-AA64-EF261DA4A0E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E58D3F8-66DC-49C1-97E0-9E16347A328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CF0DF8D-5C96-441F-B327-A7896290067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F3A6BB5-16A0-458F-8A0B-EE9552372C0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339AD95-4003-4218-8E04-E086EECBBE1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EF48DFE-250D-4C91-AA5F-F600BEE60AD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C968C1-7668-46DB-9DCB-22EA3419FC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40C5971-C5A7-4241-A41C-CAAF3C65AAD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7A6D9F7-C8DD-4E24-98D8-563A8248D41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E7EE068-A04B-40AF-9A97-978523EC135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D32F62D-4AC5-4300-BA1E-5A559B561F7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4286B98-968F-4265-8052-F3ACB276CE4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0061287-6A72-4424-8B2E-43F17AC2B9F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F621EEE-2D4C-4C68-B47F-66039CDB8A6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13606F3-4F82-4634-88BA-DA4D7FC1893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3734CA9-433D-4059-90E4-36869297003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CA4456C-1B11-4F44-90D7-A751B219CC8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D0EAFC-5749-40E9-927F-8751BFB4CF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DB3CE74-5E39-4DB3-B15E-3501ACE4660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967934D-FE10-498E-9EB6-CAF25D13B0E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0ED9CA5-9B89-4C08-94D2-C8D6D1E16BB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95666F1-60C9-4CE5-AA80-DE499C682D8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EA3B8DF-80F8-458F-9743-192BFE14DF3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E5F1801-1FD4-4018-89BD-26B8190B922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7655099-03A6-43BC-8737-78C694945D6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3033687-ED92-4417-A50F-BC7530A0752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0D22850-1489-40E4-BBE4-7C882DCDB8F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7BC5C2A-FC18-4662-9670-B46A94616F2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2A69F9-DB6C-4E7F-9085-9BF6BDF771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4D15570-2F0C-496C-8CAB-C9EA4B34633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2656BA2-3066-41C3-BD28-17C9DA1703A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B09AF75-8B83-481F-8F34-0EE42CF6321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C14B492-27E0-4A37-9CF9-FCAAE1E29F0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BCED118-7E18-40BE-8FF3-30B84F48F4B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CD8796-AAA8-433A-A95B-B9073CB747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81B3BE-BE1F-4EAB-8AF4-86177159EC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874C7C-7820-4583-A549-A3926AC5BF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845AE2-E805-4310-906C-39E11A592E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DBF16C-A918-4BA1-A10B-272C95C1B6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45AC0-58DA-4181-B725-DF01C68B7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8A1E25-E8A6-4FF6-8001-32E339134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58587D-9C0F-4748-AE91-C6632210A4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D908FC-27E5-4638-862D-1B23CC1CE9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EFC301-B8AA-4445-9875-7A5E619BB7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62080D-EE0B-428D-B67D-980D452F18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7A3448-61F4-4A5B-A697-8AFA104D43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B5AB24-E718-44C1-8256-135943B17C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7B883D-87CA-479B-9976-3173DFF76A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BB4F90-22BD-40DA-A1F0-53CA1905E1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2B211A-7A4B-48C1-A51C-B50335BA91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7C068-2B65-4D71-827B-532104356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BCCCC0-49BD-47A0-8CBC-9B107DBD9A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9349C1-4B37-49D0-B7A3-F0B613DB40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2C8620-50D6-4F2F-BE0E-F3D4028763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6EADBA-DEB0-4122-93B9-D7F127B440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E96D69-396E-4CA3-B372-1FE2CE2933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A4D65C-2B9E-4389-98F8-6BFC2028D9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584EDD-0FAF-4FC8-8817-243183754B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F64633-E1FF-4427-8A4D-989F4FCD31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2B1653-6686-46F1-A114-668F078C35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FCCE35-32FA-4932-A4EB-618F46CB03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A7688-A01D-4BEE-8465-050290050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72C4AE-A874-42CB-BF87-A87E48930F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A08B83-3A08-42D1-BCC1-FF48A22F06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A4B33D-A8A9-450C-9620-C896C8A463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15ED90-A9AC-4DBF-8913-E91A5C33F2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14522C-F0FB-4A41-B703-92454F9879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D9CDF7-21D9-44C2-81BA-98E56BD72A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86DDD9-4A99-4605-B342-4C7E9EA4ED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38131F-01D9-4AF1-AFAE-2CD8327521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597FE22-6DC4-47DE-9F9A-95A7E3B522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CC17D7A-D11E-409E-B961-9F276A316F0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08760-05EF-460D-AAB6-4CDE86F8F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DC7C82-EFCD-45ED-A8C4-675DD936C7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F20D83-6236-4853-9897-D3B74131E3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CAEA2C-458B-4A9B-82D1-013B086B45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8E70EE-4435-4976-BAC0-B43F8A37D4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C7EFE8-FB78-4154-AE01-61C8614B2D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B023D4-FEFA-4556-805F-0D15C6E0E8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5A4959-CFBF-4752-A8F3-8512291C59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29E679-3E69-4E1C-B872-43A58C0B4A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1795DC-F239-4EA2-B049-9BD92A47C3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A7AAD6-DE76-414B-B92B-A77854ED24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838FB-E283-412C-9CE5-1F6D8FD6C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0D24A3-D091-4C3E-854C-26FA8D3FC8D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6D91F9-FFC8-4441-ACEB-90EB8AD4F7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85D346-A62B-4E96-B38C-3B720FBB6A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CCD2CF-CE61-4673-A673-CAE1BF4469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5F5201-6803-4639-A7FF-E9AFD87CA2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7066D8-F918-4037-8983-B08BA066EF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08DED3-7D9B-44BE-B8B6-27FA5F171E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B62E1C-E639-456E-93C0-86B606294F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64DE9A-F2BC-460B-8F9B-744ACE632C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535852-4351-4E2F-9E6A-03940A8AFD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3407C-F6DB-4008-ACED-3DA651E37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ACAE54-F547-4326-9DFB-F0B9F1BFF7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EDBD5F-AE89-4FB6-A3E3-CB309E3C0C7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D36EFCB-17E6-464D-97B1-BC6CFE37FA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AA1FB86-59F4-4F63-8CFE-DDD0024C7E4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055A25-9115-415D-A025-323661D3AD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6923B3-C8A6-4982-8394-9551D731A6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215891-A5D8-4050-916C-4F39D08652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1DB860-BF3F-4222-9C46-B641087D58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B7E0E4-72EC-4C94-9B26-F942BE976F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AAB83E-98AF-443B-B894-C1BC44FF88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7CC6A-F2D1-4C94-B7EF-6FCBA2C13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B78A50-EE4B-4FEC-B464-48EB7CB22A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ADA103-9D81-4B77-91EF-FE810B7B15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B9DC80-5AEF-450B-A4A0-71030AF32F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60FEBBD-835F-406C-84FD-7014D8D8D16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E87D78F-5B3B-41FC-A1B0-B103D26CC6F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7C487C2-E981-4574-99BF-20A31464004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4E47B6-AB31-41C2-BF58-793A1B3E4F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DC23BA-CC7F-4799-8A89-3E16E46D91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0B45C7-FFD1-4094-970E-D043EAF4DD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BB71FE-9DB0-428B-ADE2-BBB5526429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04C57-0FA8-4577-9DD7-477FF3D68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F48724-8804-4316-A72E-D3FF18C8F3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27931D-5D62-4E58-A0B4-4A68858A61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0FE37D-ABB6-4122-AC3E-B640E41BCA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4401F5-43B5-4DDA-9163-29F8728175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3632EE-BE92-4DF2-9D7C-94AFEBE2D5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888ABEF-811F-4230-8845-4A815FF4A30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5E5CEF1-CEE2-4710-873F-CAD7D79DE07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F27FBE6-9588-4EC3-9D6F-9793FFC70F2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AE29EF-71BF-4A64-A543-15A8626E408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76B0CA-C360-4026-B7B9-8C25EB7B6A1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7EA27A4-377A-4B21-8AE0-E0986999A78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5</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5</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0AAD198-D0EF-43E3-B523-FBB6650494C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5</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C99C689-1972-4967-986A-30BB639F5D4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5</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BAA5C89-B64C-45A8-B190-7CC7BD1BB41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5</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FDE0C52-9D0C-4300-B4D8-F4085AB9207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5</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8D02565-B0DB-4AD1-B3F0-09515528D98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5</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1279729-F618-44DD-A58B-80742EB7816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5</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FF84D7C-14CD-44C3-B0AF-B8A3FD8F8E3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5</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8E39CE6-85BD-47FA-8ECB-646FFACC788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5</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FC2A969-41C4-4EE5-9902-754BA1F9AE5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5</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F7CE2C8-BAE4-47D0-8F40-8A257929FAB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5</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0FA7296-73D2-463A-AC1E-2727DAEA4F0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s://www.ieee802.org/11/email/stds-802-11-tgbe/msg06632.html" TargetMode="External"/><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5644608-AF20-4FEB-845C-F86FE82796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be Editor’s Report</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22-01-24</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5EC206B-ECB3-4E3E-B14D-68AA75C2FF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Collection 36 on Draft 1.0 (1)</a:t>
            </a:r>
            <a:endParaRPr b="0" lang="en-US" sz="3200" spc="-1" strike="noStrike">
              <a:solidFill>
                <a:srgbClr val="000000"/>
              </a:solidFill>
              <a:latin typeface="Times New Roman"/>
            </a:endParaRPr>
          </a:p>
        </p:txBody>
      </p:sp>
      <p:sp>
        <p:nvSpPr>
          <p:cNvPr id="56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56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62"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olution status as of January 21, 2022:</a:t>
            </a:r>
            <a:endParaRPr b="0" lang="en-US" sz="2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372 comments are received</a:t>
            </a:r>
            <a:endParaRPr b="0" lang="en-US" sz="20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62 CIDs approved</a:t>
            </a:r>
            <a:endParaRPr b="0" lang="en-US" sz="1800" spc="-1" strike="noStrike">
              <a:solidFill>
                <a:srgbClr val="000000"/>
              </a:solidFill>
              <a:latin typeface="Times New Roman"/>
            </a:endParaRPr>
          </a:p>
          <a:p>
            <a:pPr lvl="3" marL="16002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21 MAC, 728 PHY, 300 Joint, 13 EDITOR</a:t>
            </a:r>
            <a:endParaRPr b="0" lang="en-US" sz="16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1 CIDs ready for motion</a:t>
            </a:r>
            <a:endParaRPr b="0" lang="en-US" sz="1800" spc="-1" strike="noStrike">
              <a:solidFill>
                <a:srgbClr val="000000"/>
              </a:solidFill>
              <a:latin typeface="Times New Roman"/>
            </a:endParaRPr>
          </a:p>
          <a:p>
            <a:pPr lvl="3" marL="16002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9 MAC, 72 PHY</a:t>
            </a:r>
            <a:endParaRPr b="0" lang="en-US" sz="16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779 CIDs assigned and pending for resolution</a:t>
            </a:r>
            <a:endParaRPr b="0" lang="en-US" sz="1800" spc="-1" strike="noStrike">
              <a:solidFill>
                <a:srgbClr val="000000"/>
              </a:solidFill>
              <a:latin typeface="Times New Roman"/>
            </a:endParaRPr>
          </a:p>
          <a:p>
            <a:pPr lvl="3" marL="16002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57 technical comments</a:t>
            </a:r>
            <a:endParaRPr b="0" lang="en-US" sz="1600" spc="-1" strike="noStrike">
              <a:solidFill>
                <a:srgbClr val="000000"/>
              </a:solidFill>
              <a:latin typeface="Times New Roman"/>
            </a:endParaRPr>
          </a:p>
          <a:p>
            <a:pPr lvl="4" marL="2057400" indent="-228600" algn="just">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84 MAC, 202 PHY, 70 Joint, 1 EDITOR</a:t>
            </a:r>
            <a:endParaRPr b="0" lang="en-US" sz="1600" spc="-1" strike="noStrike">
              <a:solidFill>
                <a:srgbClr val="000000"/>
              </a:solidFill>
              <a:latin typeface="Times New Roman"/>
            </a:endParaRPr>
          </a:p>
          <a:p>
            <a:pPr lvl="3" marL="16002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4 general comments</a:t>
            </a:r>
            <a:endParaRPr b="0" lang="en-US" sz="1600" spc="-1" strike="noStrike">
              <a:solidFill>
                <a:srgbClr val="000000"/>
              </a:solidFill>
              <a:latin typeface="Times New Roman"/>
            </a:endParaRPr>
          </a:p>
          <a:p>
            <a:pPr lvl="4" marL="2057400" indent="-228600" algn="just">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7 MAC, 4 PHY, 3 Joint</a:t>
            </a:r>
            <a:endParaRPr b="0" lang="en-US" sz="1600" spc="-1" strike="noStrike">
              <a:solidFill>
                <a:srgbClr val="000000"/>
              </a:solidFill>
              <a:latin typeface="Times New Roman"/>
            </a:endParaRPr>
          </a:p>
          <a:p>
            <a:pPr lvl="3" marL="16002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78 editorial comments</a:t>
            </a:r>
            <a:endParaRPr b="0" lang="en-US" sz="1600" spc="-1" strike="noStrike">
              <a:solidFill>
                <a:srgbClr val="000000"/>
              </a:solidFill>
              <a:latin typeface="Times New Roman"/>
            </a:endParaRPr>
          </a:p>
          <a:p>
            <a:pPr lvl="4" marL="2057400" indent="-228600" algn="just">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3 MAC, 56 PHY, 15 Joint, 4 EDITOR</a:t>
            </a:r>
            <a:endParaRPr b="0" lang="en-US" sz="16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7E76346-C043-48B3-8ECE-5B87405FC7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Collection 36 on Draft 1.0 (3)</a:t>
            </a:r>
            <a:endParaRPr b="0" lang="en-US" sz="3200" spc="-1" strike="noStrike">
              <a:solidFill>
                <a:srgbClr val="000000"/>
              </a:solidFill>
              <a:latin typeface="Times New Roman"/>
            </a:endParaRPr>
          </a:p>
        </p:txBody>
      </p:sp>
      <p:sp>
        <p:nvSpPr>
          <p:cNvPr id="56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56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67"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us of PoC assignment:</a:t>
            </a:r>
            <a:endParaRPr b="0" lang="en-US" sz="2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www.ieee802.org/11/email/stds-802-11-tgbe/msg06632.html</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6B46A8D-CA7B-4468-AC4D-574F0A2719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Collection 36 on Draft 1.0 (4)</a:t>
            </a:r>
            <a:endParaRPr b="0" lang="en-US" sz="3200" spc="-1" strike="noStrike">
              <a:solidFill>
                <a:srgbClr val="000000"/>
              </a:solidFill>
              <a:latin typeface="Times New Roman"/>
            </a:endParaRPr>
          </a:p>
        </p:txBody>
      </p:sp>
      <p:sp>
        <p:nvSpPr>
          <p:cNvPr id="57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57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72"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sio figures</a:t>
            </a:r>
            <a:endParaRPr b="0" lang="en-US" sz="2400" spc="-1" strike="noStrike">
              <a:solidFill>
                <a:srgbClr val="000000"/>
              </a:solidFill>
              <a:latin typeface="Times New Roman"/>
            </a:endParaRPr>
          </a:p>
          <a:p>
            <a:pPr lvl="1" marL="743040" indent="-28584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ropose a resolution to a CID that modifies a particular figure in the draft standard, please visit the members area and download the latest visio to edit it.</a:t>
            </a:r>
            <a:endParaRPr b="0" lang="en-US" sz="2000" spc="-1" strike="noStrike">
              <a:solidFill>
                <a:srgbClr val="000000"/>
              </a:solidFill>
              <a:latin typeface="Times New Roman"/>
            </a:endParaRPr>
          </a:p>
          <a:p>
            <a:pPr lvl="1" marL="743040" indent="-28584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ter your proposed resolution is approved, I will ask you to provide me with the visio (and preferably the emf file too) for production.</a:t>
            </a:r>
            <a:endParaRPr b="0" lang="en-US" sz="20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BF202BD-9435-4877-8887-35EBDF1F88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Collection 36 on Draft 1.0 (5)</a:t>
            </a:r>
            <a:endParaRPr b="0" lang="en-US" sz="3200" spc="-1" strike="noStrike">
              <a:solidFill>
                <a:srgbClr val="000000"/>
              </a:solidFill>
              <a:latin typeface="Times New Roman"/>
            </a:endParaRPr>
          </a:p>
        </p:txBody>
      </p:sp>
      <p:sp>
        <p:nvSpPr>
          <p:cNvPr id="57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57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77"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neral issues</a:t>
            </a:r>
            <a:endParaRPr b="0" lang="en-US" sz="2400" spc="-1" strike="noStrike">
              <a:solidFill>
                <a:srgbClr val="000000"/>
              </a:solidFill>
              <a:latin typeface="Times New Roman"/>
            </a:endParaRPr>
          </a:p>
          <a:p>
            <a:pPr lvl="1" marL="727920" indent="-280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a few CIDs, the commenters correctly pointed out that there are editorial style issues (e.g., the writing style is not aligned with IEEE 802.11 editorial style guide).  The comments, however, were rejected on the basis that existing text in, e.g., the IEEE 802.11ax-2021 standards or other locations in the draft IEEE P802.11REVme standards justify the existing or proposed text.</a:t>
            </a:r>
            <a:endParaRPr b="0" lang="en-US" sz="2000" spc="-1" strike="noStrike">
              <a:solidFill>
                <a:srgbClr val="000000"/>
              </a:solidFill>
              <a:latin typeface="Times New Roman"/>
            </a:endParaRPr>
          </a:p>
          <a:p>
            <a:pPr lvl="1" marL="727920" indent="-280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itor would encourage the members to resolve these issues in both REVme and TGbe sooner than later (i.e., don’t wait to resolve them till the point when Mandatory Draft Review is performed):</a:t>
            </a:r>
            <a:endParaRPr b="0" lang="en-US" sz="2000" spc="-1" strike="noStrike">
              <a:solidFill>
                <a:srgbClr val="000000"/>
              </a:solidFill>
              <a:latin typeface="Times New Roman"/>
            </a:endParaRPr>
          </a:p>
          <a:p>
            <a:pPr lvl="2" marL="1119960" indent="-22392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tatements that describe the actions of a STA in order to determine a value for a field and any other behavioral specification should not be present in Clause 9</a:t>
            </a:r>
            <a:endParaRPr b="0" lang="en-US" sz="1500" spc="-1" strike="noStrike">
              <a:solidFill>
                <a:srgbClr val="000000"/>
              </a:solidFill>
              <a:latin typeface="Times New Roman"/>
            </a:endParaRPr>
          </a:p>
          <a:p>
            <a:pPr lvl="2" marL="1119960" indent="-22392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IB naming convention (activated vs. implemented)</a:t>
            </a:r>
            <a:endParaRPr b="0" lang="en-US" sz="1500" spc="-1" strike="noStrike">
              <a:solidFill>
                <a:srgbClr val="000000"/>
              </a:solidFill>
              <a:latin typeface="Times New Roman"/>
            </a:endParaRPr>
          </a:p>
          <a:p>
            <a:pPr lvl="2" marL="1119960" indent="-22392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t>
            </a:r>
            <a:r>
              <a:rPr b="0" lang="en-US" sz="1500" spc="-1" strike="noStrike">
                <a:solidFill>
                  <a:srgbClr val="000000"/>
                </a:solidFill>
                <a:latin typeface="Times New Roman"/>
              </a:rPr>
              <a:t>set to”, “equal to”</a:t>
            </a:r>
            <a:endParaRPr b="0" lang="en-US" sz="1500" spc="-1" strike="noStrike">
              <a:solidFill>
                <a:srgbClr val="000000"/>
              </a:solidFill>
              <a:latin typeface="Times New Roman"/>
            </a:endParaRPr>
          </a:p>
          <a:p>
            <a:pPr lvl="1" marL="727920" indent="-2800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19960" indent="-22392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07DB178-DFE6-454D-BB58-9A4BB841E6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Collection 37 o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existence Assessment Document</a:t>
            </a:r>
            <a:endParaRPr b="0" lang="en-US" sz="3200" spc="-1" strike="noStrike">
              <a:solidFill>
                <a:srgbClr val="000000"/>
              </a:solidFill>
              <a:latin typeface="Times New Roman"/>
            </a:endParaRPr>
          </a:p>
        </p:txBody>
      </p:sp>
      <p:sp>
        <p:nvSpPr>
          <p:cNvPr id="58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58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82"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s:</a:t>
            </a:r>
            <a:endParaRPr b="0" lang="en-US" sz="2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7 comments are received, including 4 from 802.19</a:t>
            </a:r>
            <a:endParaRPr b="0" lang="en-US" sz="20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 Technical</a:t>
            </a:r>
            <a:endParaRPr b="0" lang="en-US" sz="18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3 Editorial</a:t>
            </a:r>
            <a:endParaRPr b="0" lang="en-US" sz="18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General</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us:</a:t>
            </a:r>
            <a:endParaRPr b="0" lang="en-US" sz="2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CIDs are resolved and motioned in the September 2021 interim.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BFC1C64-9DCA-4A63-9E48-7E4A983795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ditor’s documents (1)</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s of November 14, 2021)</a:t>
            </a:r>
            <a:endParaRPr b="0" lang="en-US" sz="1600" spc="-1" strike="noStrike">
              <a:solidFill>
                <a:srgbClr val="000000"/>
              </a:solidFill>
              <a:latin typeface="Times New Roman"/>
            </a:endParaRPr>
          </a:p>
        </p:txBody>
      </p:sp>
      <p:sp>
        <p:nvSpPr>
          <p:cNvPr id="58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58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587" name=""/>
          <p:cNvGraphicFramePr/>
          <p:nvPr/>
        </p:nvGraphicFramePr>
        <p:xfrm>
          <a:off x="685800" y="1616040"/>
          <a:ext cx="7924680" cy="3641760"/>
        </p:xfrm>
        <a:graphic>
          <a:graphicData uri="http://schemas.openxmlformats.org/drawingml/2006/table">
            <a:tbl>
              <a:tblPr/>
              <a:tblGrid>
                <a:gridCol w="1033560"/>
                <a:gridCol w="6891120"/>
              </a:tblGrid>
              <a:tr h="331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2898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9/1262r23</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pecification framework for TGbe</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2937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9/1755r15</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ompendium of motions related to the contents of the TGbe specification framework document</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04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0/0566r99</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ompendium of straw polls and potential changes to the Specification Framework Document</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2898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0/1935r48</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ompendium of straw polls and potential changes to the Specification Framework Document:  Part 2</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207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0/0997r99</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TGbe spec text volunteers and status</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04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1/0546r29</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TGbe spec text volunteers and status:  Part 2</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045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9/1935r8</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TGbe Editor’s report on CC34</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04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1/1062r3</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TGbe Editor’s report on CC36 and CC37</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04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1/0223r20</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EEE 802.11be CC34 comments</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045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1/1018r22</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EEE 802.11be CC36 comments</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2898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1/1019r3</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EEE 802.11be CC37 comments on Coexistence Assessment Document</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9618D62-C1D0-401C-94F7-B5BA577D83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ditor’s documents (2)</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s of November 14, 2021)</a:t>
            </a:r>
            <a:endParaRPr b="0" lang="en-US" sz="1600" spc="-1" strike="noStrike">
              <a:solidFill>
                <a:srgbClr val="000000"/>
              </a:solidFill>
              <a:latin typeface="Times New Roman"/>
            </a:endParaRPr>
          </a:p>
        </p:txBody>
      </p:sp>
      <p:sp>
        <p:nvSpPr>
          <p:cNvPr id="59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2"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ints to note:</a:t>
            </a:r>
            <a:endParaRPr b="0" lang="en-US" sz="2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ults of straw polls related to the contents of the SFD are summarized in the latest version of 20/1935. Results of motions are summarized in the latest version of 19/1755.</a:t>
            </a:r>
            <a:endParaRPr b="0" lang="en-US" sz="20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ults of straw polls related to PDT and PDT-TBD texts are summarized in the latest version of 21/0546.</a:t>
            </a:r>
            <a:endParaRPr b="0" lang="en-US" sz="20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ults of the straw polls related to the comment resolution submissions are summarized in the meeting minutes.  Results of the motions  are summarized in the “TGbe Motions List for Teleconferen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Contribution</cp:keywords>
  <dc:language>en-US</dc:language>
  <cp:lastModifiedBy>Edward Au</cp:lastModifiedBy>
  <cp:lastPrinted>2014-11-04T15:04:57Z</cp:lastPrinted>
  <dcterms:modified xsi:type="dcterms:W3CDTF">2022-01-21T15:21:49Z</dcterms:modified>
  <cp:revision>9021</cp:revision>
  <dc:subject>Task Group AY November 2015 Meeting Agenda</dc:subject>
  <dc:title>TGbe Editor's Report on CC36 and CC3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5"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6"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7" name="_ms_pID_72534310_00">
    <vt:lpwstr>_ms_pID_72534310</vt:lpwstr>
  </property>
  <property fmtid="{D5CDD505-2E9C-101B-9397-08002B2CF9AE}" pid="8" name="_ms_pID_72534311">
    <vt:lpwstr>w8PjN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2" name="_ms_pID_7253432_00">
    <vt:lpwstr>_ms_pID_7253432</vt:lpwstr>
  </property>
  <property fmtid="{D5CDD505-2E9C-101B-9397-08002B2CF9AE}" pid="13"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4" name="_ms_pID_7253433_00">
    <vt:lpwstr>_ms_pID_7253433</vt:lpwstr>
  </property>
  <property fmtid="{D5CDD505-2E9C-101B-9397-08002B2CF9AE}" pid="15"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6" name="_ms_pID_7253434_00">
    <vt:lpwstr>_ms_pID_7253434</vt:lpwstr>
  </property>
  <property fmtid="{D5CDD505-2E9C-101B-9397-08002B2CF9AE}" pid="17"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8" name="_ms_pID_7253435_00">
    <vt:lpwstr>_ms_pID_7253435</vt:lpwstr>
  </property>
  <property fmtid="{D5CDD505-2E9C-101B-9397-08002B2CF9AE}" pid="19"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0" name="_ms_pID_7253436_00">
    <vt:lpwstr>_ms_pID_7253436</vt:lpwstr>
  </property>
  <property fmtid="{D5CDD505-2E9C-101B-9397-08002B2CF9AE}" pid="21"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2" name="_ms_pID_7253437_00">
    <vt:lpwstr>_ms_pID_7253437</vt:lpwstr>
  </property>
  <property fmtid="{D5CDD505-2E9C-101B-9397-08002B2CF9AE}" pid="23"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4" name="_ms_pID_7253438_00">
    <vt:lpwstr>_ms_pID_7253438</vt:lpwstr>
  </property>
  <property fmtid="{D5CDD505-2E9C-101B-9397-08002B2CF9AE}" pid="25"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readonly">
    <vt:lpwstr/>
  </property>
  <property fmtid="{D5CDD505-2E9C-101B-9397-08002B2CF9AE}" pid="29" name="sflag">
    <vt:lpwstr>1555359667</vt:lpwstr>
  </property>
</Properties>
</file>