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55BDB47-AD1C-49B2-92EC-B341451377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0"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1"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E24CA1-6188-4364-9986-0A8EFBD3E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54160" y="701640"/>
            <a:ext cx="4626000" cy="3468600"/>
          </a:xfrm>
          <a:prstGeom prst="rect">
            <a:avLst/>
          </a:prstGeom>
          <a:ln w="0">
            <a:noFill/>
          </a:ln>
        </p:spPr>
      </p:sp>
      <p:sp>
        <p:nvSpPr>
          <p:cNvPr id="6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7</a:t>
            </a:r>
            <a:endParaRPr b="0" lang="en-US" sz="1200" spc="-1" strike="noStrike">
              <a:solidFill>
                <a:srgbClr val="000000"/>
              </a:solidFill>
              <a:latin typeface="Times New Roman"/>
            </a:endParaRPr>
          </a:p>
        </p:txBody>
      </p:sp>
      <p:sp>
        <p:nvSpPr>
          <p:cNvPr id="60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0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0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D4FACD-05D9-4303-A322-02C85CDFF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1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1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1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E404AA-7A23-42E6-9FB3-6BC8D4515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10CCCC-D92C-486D-A4C7-2BC1C1369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2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2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2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2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2C3BF3-3BEA-4254-81A6-FDEF3A3C2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3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A26375-C0BA-481B-8F6B-8EF7DF1BB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3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3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3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DB3BF3-84B8-431B-A706-CC7E64821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4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4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4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82724D-59FE-4C1E-938B-E03F3833E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4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5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B1E45B-6A91-4225-9910-A585E21B6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AD753-957E-47F1-9D37-138D2FAD6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FBC8D-9DBE-49E0-855B-046D3D8F6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F66FB3-D7BD-4160-9FB8-810660B4C8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02BF8D-034A-4232-96A8-1626EE34E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394C93-71BE-4443-9353-811BAD956F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F4BBE-5901-4441-A502-1A8458060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F6AC5-2867-4581-A07C-422D893E0F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33E7C-D944-4FCF-A908-F1ECF143A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31EC8A-D260-4AAC-B4C0-3C3E135FE3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AE7CC6-6529-4A05-AF7E-20F7CC764D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EE866E-2431-4216-B7F6-48E1030573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71169E-3AFA-4A0C-A0F1-E78D5F350B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3D0B2-3E6D-4E66-95EE-495092F5F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722A60-15B0-4D60-A77F-EF2217BAAA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5D83DB-F4D2-40F4-A77E-5CD35D43E1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B687D9-4A47-407F-B38C-1390325AB1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DEC337-E9FE-4EA2-A239-369124C3A4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2C244B-E89D-4D20-929A-CD50767208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7832DD-5BFB-4E7D-99E7-AA03006213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05F2E3-B5DA-4BCD-96C2-A2EED1B769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A975A8-3DE6-4147-A1B2-2E0E46BDC0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82F3C7-770B-4ACC-AC14-6F833B1149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198BB5-FA33-41BC-A455-DD6FEBD23B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8DE70-BFF5-428C-87E4-D7369788A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28331F-F8CA-496D-B8A0-AF1A4CD755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F421A8-9540-4397-B0AA-A3F4B135C2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38F984-A443-4642-9F9F-F6CC71FECD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D320C6-6DB5-4FB1-B59D-CCB1DF6D2D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E36EB9-52FD-4C79-A074-7A4E973B16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CC406E-C7E3-412C-B3B0-96BF3658C9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35264B-CD2D-4E9D-8BDC-58672A90CF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41D466-E78C-4AAE-9EC5-B889BE355D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8FFC4B-9CD2-4C3C-B30A-4A63E1B287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7F53D2-9C65-414C-A701-69FBDEE9B9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BC717-2FDE-4051-BDA0-D1B6091A9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E0F133-CF34-4E25-A528-1F174F696F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374A1C-BE4A-4F4E-B87E-36E5AFF5BB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3A1E5A-A35F-4F82-8F3D-C0E322DB63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3074FD-705E-4214-8F9D-68B44B79BA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266F67-0DE8-4419-9E02-E82754CA35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AEDCF9-B7E8-4DD2-9347-0984159428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21152F-539A-4C2B-B389-DF6C67949C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5EF670-740F-4B56-9429-C5A8C12D42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3133ED-DDFB-4BE2-8917-1223D0329E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C5EA15-14CA-48FA-AB13-4C730AF5AF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C486-9824-4A1B-B9B4-C815ED663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F607EA-0E89-46DE-A33C-64D2CA5210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D15345-4B37-400A-8ED0-F2E07E8147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712B4E-F3A9-4ED6-80D3-C2D318FEEC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003177-1583-41AB-9161-97A328DDC2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00D9E0-3B5F-4984-B295-BC589217B2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8470B-D678-4F60-8C7A-083AB39F5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6E125-20B3-4831-B5DE-3000FF13C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9AC0D-90DA-40DD-9D67-6382E24A6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BC68F-E5F1-42EE-AF33-38B482050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9FF60-BD80-441A-9B71-7BEB59CC6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5593-69F3-4E97-8657-90B4F658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8B7EC-98C9-4720-B13C-7F17716AD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C0B1F-AD5B-4C84-99E1-AFF68AE03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D6A74-3EC2-4BC3-9DA3-A9EE9EC52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8A192-D5AC-4358-9F2A-78D1DC3C4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162AB-9461-49BA-9C54-0985F4196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22EBB-372E-4B9F-85B8-00D22FAC6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07F16-D800-4F4B-B4A2-39ACC3551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5227F-3DCF-44DF-B776-C8655963C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7C130-E175-4CE7-814E-4C07076FA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6D309-EBA6-4D0E-9C35-FDB287219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F8657-FA4A-44EF-8E94-0D31EADF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86C3A-75A1-431B-8786-A98C4A879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4A8C2-DDA1-4487-A3C4-F4FD43625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304153-BC0A-4540-BAD3-B860D23AA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D78BE-2766-4373-BB64-6B349DEAD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DD570-F40E-4293-824D-680592811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74ACC5-7BB0-47BA-819E-15E8F0CCF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60E5F9-04EF-4CE4-B685-23CC8C8C89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834D1-A7F9-459B-85B7-D6A8DA2C9A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27671-967F-4CAE-9680-3C9C566DE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A8742-BCD8-4A7A-94DC-7055E4496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40777-8D2B-4B9B-A1B6-E14481B41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2C531-F4AD-4A3C-912F-5D945406A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96BCE0-32BB-403F-AB7E-F4B17798B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C37A0-BAB6-4F12-9FA1-ED629D37A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AFCC3-3E94-430A-A4CD-27A6836D7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55C41-9A3E-4D31-A4E4-55C526AE0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319E1-732A-4CAB-BC7E-7470C8549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7FD368-6ED2-45FF-BBBB-2634383C3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CEC9F2-8660-4E14-BCDE-EEAEC3BF99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42C0F0-2141-4DCF-B249-3256B6228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57B741-4AD4-4739-A2BD-AE2749F546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7D79E-AA23-4A8B-B598-5B7360B4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3E66E-8217-4F21-AA36-585226311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E07F4-C7CE-4BB7-B016-15C245906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BD5DDD-4D86-4E65-8F96-7FD96B2303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F4A1E-5677-4563-BD47-0D6F4CEC0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0EDCB-CDD3-4E85-8301-2ECAAE826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849D6-CD9E-495A-A23B-425B441CF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6BD09-4FC3-4219-ACFE-5F7749D37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419B05-36AE-4FA3-8957-308E9DE09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3CAE7-1EB1-45E7-A8DE-D035CEC90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57E026-672C-4B5C-8652-62C6968DD8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23F82-3B65-435F-A484-C84762FD4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2CFE60-F302-4F04-A385-5D588FE20F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CA411F-0AB8-46C7-8390-A11E50F402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E4C5B-32D3-4A78-BD6A-139875313D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04210-6D0F-48C6-A541-608DDA8F83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478F0-4441-4524-9530-8B96D9F4AE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3673F2-8B18-411A-9576-AA5B07D50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876EC-50C3-429C-AD05-8D4C8C4B8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579CF-F369-4AF0-93EC-A32CB6E99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2D2B7-D1A1-4B00-BE40-77332398A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1CE3F6-F895-40EC-AEBF-16CED8F0D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FD6D-BE20-4F0F-B713-82DE1EF05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F6302C-E8A0-48A1-BD0C-98D51D3728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18B86E-18D7-4DAA-9378-EB88860B9C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CD2F6D-D89A-44A3-98B0-08731E24F0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B7ABEA-75B4-42DC-BFD8-E8E11D9076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8E99CC-8B5C-4A1D-8E4E-60EC5F6E0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B45982-69E9-42C6-8469-3092DD22CA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ECBEDE-3F8F-4D2B-91CB-8F5703151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FB4ED-7CE5-49F6-9D01-D00AED72E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4E5924-37BD-4292-91C1-FF92CFA7E4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57305-91B4-46D2-A713-AC9F7382C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B781-925B-49FC-AE19-A753CCC8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D16C5-2731-4E5F-912B-532985F86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28893-F7B6-44FD-8595-AFC44E6DC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99949C-849E-43CF-892B-025D62522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C0A71A-0352-4223-BB71-5D0CB4ED6F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88B0B1-B2C1-433A-9D07-E965B68917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12405D-9ED4-4526-BBC7-DC08D4B84E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E92889-B684-44E6-B31F-F9D290B6D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2F32FB-6FA9-49DA-8F92-50D5B71B11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03690-4AAD-459C-8DAF-D1656AFFDF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6C3A4-1281-4AD3-8A7F-781839749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E495-DE2D-4867-ADDF-AAE33C37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8C12F0-CD30-44B8-8825-1B1A941857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130C7-F525-40DD-8643-550E4B328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214E4-8F74-4B7E-8F0A-7873C118AC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C5712A-B341-4FCD-9BCB-DC4C3355F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9AE9F-40F9-4C35-A478-0182E19FCC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FC319E-FA9A-4C75-B586-3504568E58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BF2554-05B1-4631-8B96-7891840927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515CB3-09C7-423A-93C8-70F69D86AD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5703FE-1945-4DE2-80D3-0A4EE4242A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C42703-C33A-4295-86EF-5025E50DA8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CEE8761-CA1E-414D-8AE1-4E1B03408A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9A753AD-9B67-463F-B61C-A885FBF614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160DBF3-0DBE-4255-826B-663A0BF655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5EE92E3-0CB4-4EBC-A3EA-502DC6AB17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46951E-3015-49C0-A875-28729D7A8A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3BD2B63-DB7E-4E9B-B89F-FA7ACDA766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D715179-B848-44FC-B9EE-E42BCC6BD7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0CBCE5-9939-4D8A-8A03-E22542CFDD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DE6A503-AA8E-4D91-A2CF-CBE401C74C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DF89682-BD73-46D4-A570-0F1A0AC5EC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F8B36F-2776-4247-B13A-AB2A6CAB3B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1/1062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AFA5836-35E4-4623-95EC-F74DB742E0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ieee802.org/11/email/stds-802-11-tgbe/msg06413.html" TargetMode="Externa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25CB4E-65BC-45EC-A4C3-E0DAB4E21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be Editor’s Report</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1-11-14</a:t>
            </a:r>
            <a:endParaRPr b="1" lang="en-US" sz="2000" spc="-1" strike="noStrike">
              <a:solidFill>
                <a:srgbClr val="000000"/>
              </a:solidFill>
              <a:latin typeface="Times New Roman"/>
            </a:endParaRPr>
          </a:p>
        </p:txBody>
      </p:sp>
      <p:graphicFrame>
        <p:nvGraphicFramePr>
          <p:cNvPr id="555" name="Object 11"/>
          <p:cNvGraphicFramePr/>
          <p:nvPr/>
        </p:nvGraphicFramePr>
        <p:xfrm>
          <a:off x="669960" y="266868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2668680"/>
                    <a:ext cx="7804080" cy="1000080"/>
                  </a:xfrm>
                  <a:prstGeom prst="rect">
                    <a:avLst/>
                  </a:prstGeom>
                  <a:ln w="0">
                    <a:noFill/>
                  </a:ln>
                </p:spPr>
              </p:pic>
            </p:oleObj>
          </a:graphicData>
        </a:graphic>
      </p:graphicFrame>
      <p:sp>
        <p:nvSpPr>
          <p:cNvPr id="557"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569B03-B69C-49D5-B096-E181C538D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1)</a:t>
            </a:r>
            <a:endParaRPr b="0" lang="en-US" sz="3200" spc="-1" strike="noStrike">
              <a:solidFill>
                <a:srgbClr val="000000"/>
              </a:solidFill>
              <a:latin typeface="Times New Roman"/>
            </a:endParaRPr>
          </a:p>
        </p:txBody>
      </p:sp>
      <p:sp>
        <p:nvSpPr>
          <p:cNvPr id="5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2"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status as of November 14, 2021:</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72 comments are received</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70 CIDs approved</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7 MAC, 497 PHY, 216 Joint</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1 CIDs ready for mo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 MAC, 57 PHY, 69 Joint</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91 CIDs assigned and pending for resolution</a:t>
            </a:r>
            <a:endParaRPr b="0" lang="en-US" sz="18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38 technic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57 MAC, 395 PHY, 81 Joint, 5 EDITOR</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 gener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 MAC, 11 PHY, 4 Joint</a:t>
            </a:r>
            <a:endParaRPr b="0" lang="en-US" sz="1600" spc="-1" strike="noStrike">
              <a:solidFill>
                <a:srgbClr val="000000"/>
              </a:solidFill>
              <a:latin typeface="Times New Roman"/>
            </a:endParaRPr>
          </a:p>
          <a:p>
            <a:pPr lvl="3" marL="16002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1 editorial comments</a:t>
            </a:r>
            <a:endParaRPr b="0" lang="en-US" sz="1600" spc="-1" strike="noStrike">
              <a:solidFill>
                <a:srgbClr val="000000"/>
              </a:solidFill>
              <a:latin typeface="Times New Roman"/>
            </a:endParaRPr>
          </a:p>
          <a:p>
            <a:pPr lvl="4" marL="2057400" indent="-228600" algn="just">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8 MAC, 101 PHY, 18 Joint, 14 EDITOR</a:t>
            </a:r>
            <a:endParaRPr b="0" lang="en-US" sz="16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6B99C7-9CFA-4788-91D7-53AB8B29E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2)</a:t>
            </a:r>
            <a:endParaRPr b="0" lang="en-US" sz="3200" spc="-1" strike="noStrike">
              <a:solidFill>
                <a:srgbClr val="000000"/>
              </a:solidFill>
              <a:latin typeface="Times New Roman"/>
            </a:endParaRPr>
          </a:p>
        </p:txBody>
      </p:sp>
      <p:sp>
        <p:nvSpPr>
          <p:cNvPr id="5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67" name="Rectangle 3"/>
          <p:cNvSpPr/>
          <p:nvPr/>
        </p:nvSpPr>
        <p:spPr>
          <a:xfrm>
            <a:off x="685800" y="1676520"/>
            <a:ext cx="7772400" cy="76176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ess (graphic provided by TGbe Chair):</a:t>
            </a:r>
            <a:endParaRPr b="0" lang="en-US" sz="24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8" name="Picture 2" descr=""/>
          <p:cNvPicPr/>
          <p:nvPr/>
        </p:nvPicPr>
        <p:blipFill>
          <a:blip r:embed="rId1"/>
          <a:stretch/>
        </p:blipFill>
        <p:spPr>
          <a:xfrm>
            <a:off x="1752480" y="2125800"/>
            <a:ext cx="5515200" cy="43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145CC2-1E91-470C-9348-93E44D239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3)</a:t>
            </a:r>
            <a:endParaRPr b="0" lang="en-US" sz="3200" spc="-1" strike="noStrike">
              <a:solidFill>
                <a:srgbClr val="000000"/>
              </a:solidFill>
              <a:latin typeface="Times New Roman"/>
            </a:endParaRPr>
          </a:p>
        </p:txBody>
      </p:sp>
      <p:sp>
        <p:nvSpPr>
          <p:cNvPr id="57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7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of PoC assignment:</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www.ieee802.org/11/email/stds-802-11-tgbe/msg06413.htm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191805-AA73-48FF-BE77-EA0EA178F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6 on Draft 1.0 (4)</a:t>
            </a:r>
            <a:endParaRPr b="0" lang="en-US" sz="3200" spc="-1" strike="noStrike">
              <a:solidFill>
                <a:srgbClr val="000000"/>
              </a:solidFill>
              <a:latin typeface="Times New Roman"/>
            </a:endParaRPr>
          </a:p>
        </p:txBody>
      </p:sp>
      <p:sp>
        <p:nvSpPr>
          <p:cNvPr id="57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7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7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issues</a:t>
            </a:r>
            <a:endParaRPr b="0" lang="en-US" sz="24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few CIDs, the commenters correctly pointed out that there are editorial style issues (e.g., the writing style is not aligned with IEEE 802.11 editorial style guide).  The comments, however, were rejected on the basis that existing text in, e.g., the IEEE 802.11ax-2021 standards or other locations in the draft IEEE P802.11REVme standards justify the existing or proposed text.</a:t>
            </a:r>
            <a:endParaRPr b="0" lang="en-US" sz="2000" spc="-1" strike="noStrike">
              <a:solidFill>
                <a:srgbClr val="000000"/>
              </a:solidFill>
              <a:latin typeface="Times New Roman"/>
            </a:endParaRPr>
          </a:p>
          <a:p>
            <a:pPr lvl="1" marL="727920" indent="-280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 would encourage the members to resolve these issues in both REVme and TGbe sooner than later (i.e., don’t wait to resolve them till the point when Mandatory Draft Review is performed):</a:t>
            </a: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atements that describe the actions of a STA in order to determine a value for a field and any other behavioral specification should not be present in Clause 9</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B naming convention (activated vs. implemented)</a:t>
            </a:r>
            <a:endParaRPr b="0" lang="en-US" sz="15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r>
              <a:rPr b="0" lang="en-US" sz="1500" spc="-1" strike="noStrike">
                <a:solidFill>
                  <a:srgbClr val="000000"/>
                </a:solidFill>
                <a:latin typeface="Times New Roman"/>
              </a:rPr>
              <a:t>set to”, “equal to”</a:t>
            </a:r>
            <a:endParaRPr b="0" lang="en-US" sz="1500" spc="-1" strike="noStrike">
              <a:solidFill>
                <a:srgbClr val="000000"/>
              </a:solidFill>
              <a:latin typeface="Times New Roman"/>
            </a:endParaRPr>
          </a:p>
          <a:p>
            <a:pPr lvl="1" marL="727920" indent="-28008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19960" indent="-22392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E66D00-BD57-47BD-B042-8EE75214F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1.3</a:t>
            </a:r>
            <a:endParaRPr b="0" lang="en-US" sz="3200" spc="-1" strike="noStrike">
              <a:solidFill>
                <a:srgbClr val="000000"/>
              </a:solidFill>
              <a:latin typeface="Times New Roman"/>
            </a:endParaRPr>
          </a:p>
        </p:txBody>
      </p:sp>
      <p:sp>
        <p:nvSpPr>
          <p:cNvPr id="58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8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3"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ct to be posted in a week</a:t>
            </a:r>
            <a:endParaRPr b="0" lang="en-US" sz="2400" spc="-1" strike="noStrike">
              <a:solidFill>
                <a:srgbClr val="000000"/>
              </a:solidFill>
              <a:latin typeface="Times New Roman"/>
            </a:endParaRPr>
          </a:p>
          <a:p>
            <a:pPr lvl="1" marL="743040" indent="-28584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figure numbers, table numbers, and subclause numbers are aligned with:</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REVme D0.4</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az D4.0</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bb D0.7</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bc D2.0</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1bd D2.1</a:t>
            </a:r>
            <a:endParaRPr b="0" lang="en-US" sz="20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8AD090-8597-4C3A-AAE7-210666334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Collection 37 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Assessment Document</a:t>
            </a:r>
            <a:endParaRPr b="0" lang="en-US" sz="3200" spc="-1" strike="noStrike">
              <a:solidFill>
                <a:srgbClr val="000000"/>
              </a:solidFill>
              <a:latin typeface="Times New Roman"/>
            </a:endParaRPr>
          </a:p>
        </p:txBody>
      </p:sp>
      <p:sp>
        <p:nvSpPr>
          <p:cNvPr id="58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8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8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 comments are received, including 4 from 802.19</a:t>
            </a:r>
            <a:endParaRPr b="0" lang="en-US" sz="20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 Technic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 Editorial</a:t>
            </a:r>
            <a:endParaRPr b="0" lang="en-US" sz="1800" spc="-1" strike="noStrike">
              <a:solidFill>
                <a:srgbClr val="000000"/>
              </a:solidFill>
              <a:latin typeface="Times New Roman"/>
            </a:endParaRPr>
          </a:p>
          <a:p>
            <a:pPr lvl="2" marL="1143000" indent="-228600" algn="just">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Genera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endParaRPr b="0" lang="en-US" sz="2400" spc="-1" strike="noStrike">
              <a:solidFill>
                <a:srgbClr val="000000"/>
              </a:solidFill>
              <a:latin typeface="Times New Roman"/>
            </a:endParaRPr>
          </a:p>
          <a:p>
            <a:pPr lvl="1" marL="743040" indent="-285840"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CIDs are resolved and motioned in the September 2021 interi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2692C2-E2D3-431B-BDAC-09F785F43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9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9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graphicFrame>
        <p:nvGraphicFramePr>
          <p:cNvPr id="593" name=""/>
          <p:cNvGraphicFramePr/>
          <p:nvPr/>
        </p:nvGraphicFramePr>
        <p:xfrm>
          <a:off x="685800" y="1616040"/>
          <a:ext cx="7924680" cy="3641760"/>
        </p:xfrm>
        <a:graphic>
          <a:graphicData uri="http://schemas.openxmlformats.org/drawingml/2006/table">
            <a:tbl>
              <a:tblPr/>
              <a:tblGrid>
                <a:gridCol w="1033560"/>
                <a:gridCol w="6891120"/>
              </a:tblGrid>
              <a:tr h="33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262r2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cification framework for TGbe</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293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755r15</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motions related to the contents of the TGb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566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1935r4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endium of straw polls and potential changes to the Specification Framework Document: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20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997r9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546r29</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spec text volunteers and status:  Part 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935r8</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4</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62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Gbe Editor’s report on CC36 and CC37</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0223r20</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4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04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8r22</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6 comments</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2898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1/1019r3</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EEE 802.11be CC37 comments on Coexistence Assessment Document</a:t>
                      </a:r>
                      <a:endParaRPr b="0" lang="en-US" sz="13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BB5CCC-9DB6-4871-B66D-6C0426467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or’s documents (2)</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of November 14, 2021)</a:t>
            </a:r>
            <a:endParaRPr b="0" lang="en-US" sz="1600" spc="-1" strike="noStrike">
              <a:solidFill>
                <a:srgbClr val="000000"/>
              </a:solidFill>
              <a:latin typeface="Times New Roman"/>
            </a:endParaRPr>
          </a:p>
        </p:txBody>
      </p:sp>
      <p:sp>
        <p:nvSpPr>
          <p:cNvPr id="59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1</a:t>
            </a:r>
            <a:endParaRPr b="0" lang="en-US" sz="1800" spc="-1" strike="noStrike">
              <a:solidFill>
                <a:srgbClr val="000000"/>
              </a:solidFill>
              <a:latin typeface="Times New Roman"/>
            </a:endParaRPr>
          </a:p>
        </p:txBody>
      </p:sp>
      <p:sp>
        <p:nvSpPr>
          <p:cNvPr id="59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8"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not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the contents of the SFD are summarized in the latest version of 20/1935. Results of motions are summarized in the latest version of 19/1755.</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straw polls related to PDT and PDT-TBD texts are summarized in the latest version of 21/0546.</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of the straw polls related to the comment resolution submissions are summarized in the meeting minutes.  Results of the motions  are summarized in the “TGbe Motions List for Teleconfer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Contribution</cp:keywords>
  <dc:language>en-US</dc:language>
  <cp:lastModifiedBy>Edward Au</cp:lastModifiedBy>
  <cp:lastPrinted>2014-11-04T15:04:57Z</cp:lastPrinted>
  <dcterms:modified xsi:type="dcterms:W3CDTF">2021-11-14T12:01:20Z</dcterms:modified>
  <cp:revision>9012</cp:revision>
  <dc:subject>Task Group AY November 2015 Meeting Agenda</dc:subject>
  <dc:title>TGbe Editor's Report on CC36 and CC3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55359667</vt:lpwstr>
  </property>
</Properties>
</file>