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8FB29B8-D679-49ED-B55B-8EE50FF45B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E8F209-F266-482F-9EF8-1F34248A0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7</a:t>
            </a:r>
            <a:endParaRPr b="0" lang="en-US" sz="1200" spc="-1" strike="noStrike">
              <a:solidFill>
                <a:srgbClr val="000000"/>
              </a:solidFill>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6878B7-4DCD-4656-BB80-0A07FA60A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0374C9-CE21-49AA-B1F8-BD4CBC4A2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D978C2-13BC-494D-82D4-228D1B1CE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760634-B8AE-4518-8AC8-A9996061F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68A25C-1524-4B9E-A124-15F933341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E0BA57-65AA-4656-8CF6-711F1588C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ABE744-78DC-4511-A203-94AC36744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17B812-A337-4838-9D96-BEF9DF204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C3B90-247D-499A-AE1E-BF7D3AC84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C3B3-F4BC-469E-B307-31259519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1C43EB-94D7-4BDE-9131-00A42BD27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9DF23-F0FF-47CC-9C2E-FC0969A144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1B4A64-8F88-41E3-A7AC-C96C40788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F05A1-0D83-4D91-A55F-C42A83A22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FCD83-42C0-4572-BDA4-54B69AF9C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8CED1-F8D1-4383-B1DD-3A70AEB35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BB6F5-236F-4993-9BA4-5442BC36A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01357E-11E7-4186-875E-438A82663F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4182E5-0FD9-4DA8-9F86-227B424DA5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85C277-0B4D-4EE3-9941-7F2BFDBFA0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3380E-DB25-4525-BFFE-7D2DE7F47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FA1156-B033-4E85-A6BE-815009DA0F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47D5DC-3270-4A2B-8206-4926EA5396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B9A5E2-268D-4293-8EB2-E47FDE2301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00BEE2-EAF1-4D1F-A0CD-047C36FA6B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D74DD1-48D0-4A5B-86A8-BD96EA4428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D80995-226C-44B2-A863-62DD5DB70B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CF288D-6E43-4C4E-B5C0-FDC03FD250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2A0C21-3897-44AE-B66C-5A11E6ED77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37C418-6A1D-4F81-A655-3283A3C120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6B1499-6CAF-4D01-9208-BB8BA61ED3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285B-A172-4C21-BBBE-14A703E4C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02460E-6262-47AC-9812-F480777B65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E5899E-1510-4683-B9F1-6FD72200E6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51069-5892-451B-BEED-26879A70C2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18065C-1CB0-4DB2-AE91-8C7791FCE7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84216A-0FAC-448E-991C-E575E1671D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CF406E-FD34-4DAD-8DF2-BA7D40BE2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DD198D-7645-4F16-9316-B59AFD0719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EDC38C-D929-4FB7-A107-ECACD07E8E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91E09-FD90-474C-BB6F-BC6948C7CD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83FBDC-5E4D-43B5-B82F-2EC5ABD84E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DF062-FBC2-4388-8D7F-C4C77922E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DB1448-17E8-4182-B775-72E8112DBC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95E78A-C18C-4C1F-AC33-B5ED81BBA4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8421F2-EC38-43B7-9C46-979FEDBF0C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09DC96-6B88-44C8-9D4E-ED99439857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5B595A-AEE1-412B-B7B4-2A455F62DF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BB9B52-5CE9-4D61-89C6-6C61DAEEE3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AE3ED6-048C-4560-8C0E-B1942FCFA8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3047EC-442F-4220-A031-9A434C2E59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FD11C2-DBB5-4B6D-8FDB-F26AED693D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B318D6-77F8-413C-8995-A7BE4BEF6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B02FC-57F7-413C-8BE5-5B42C69D0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49A4A-8A53-448E-85FC-12C2C53DFC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B58BC6-0144-4397-9FC5-C058CD08A4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B72640-7CDA-4274-B996-D498EC8E0F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235FB5-06E6-4F60-A7B6-6D405DEC5E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7717A8-BB21-4AD4-B56F-EF629F5713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EA56E-A379-46F4-A6BF-5E666F16D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2696-6AB1-4BFB-9401-A3797CB75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B65C9-1AB4-400B-89BE-A7EF179BD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EC5DB-871F-421F-85D8-D04352C6E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4A8D8-1510-4BAC-AB7E-1097D003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20A8-5855-4B27-8532-90499D8D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3060F-FFBE-4ACE-97B6-B555E53CF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800F6-14BA-438A-A481-B1176CE5F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F30F5-68FE-4070-9630-101063BF6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AEF5C-B012-4074-B6FB-981C35A95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D3B1F-518E-41BF-9D90-615A1568A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EF1A4F-D752-42A0-8617-427A135466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06B68-07E4-4D5A-B08A-AB8BAC92D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CBF0E-5DB9-4179-8C69-73B0C0275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CF53A-1862-4B63-A01E-9553488B7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0A62F-CE64-41BF-820B-53698B520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CF83-269F-48DF-AC41-114FE0C01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6D76D-5E65-4B6E-AB14-2EBA5836F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3AEA9-19AA-4DC4-B4BC-04ACE188A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1C064-550E-43AC-B5D1-1D1B4C9AF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9F975-D547-4DBC-94C2-10961B369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43781-243F-47F3-A516-C3C24F6AE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ED62E-18AD-43B9-BA5C-804008B1D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FE0F99-A03C-4561-AE78-020182C34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7FFD6-17EB-47A6-8F29-7244DF018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D845A-9D11-4513-834B-BB3899E1E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581D5-F421-4602-A8EE-9E2861FC1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D94A-E80E-427D-BF4A-E901E2AEA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19D3D-6028-41E8-96A7-B9000DA7C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00BC8-6976-4137-979D-9757311DD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13B7D-7C65-453B-8B83-DB578BC01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BF6AE-AABB-476F-B20B-F7C9600B8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BDED9-7A86-4D84-91EB-E30734B91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E9941-7A9B-4E65-B841-8D81794DE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5302B-9252-4ABC-81CF-4B65E1510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7D2E2-3F0B-4E53-BD48-0EE1299E35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0273C7-A791-401C-BDAB-2760CE39BD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9F116-41BC-4C53-8004-5E5D41761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437DB-C8C4-4118-8580-1FFC6846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E184F-E0A4-45E3-AA64-4500481EF3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CA00C-E940-4D5F-A5F5-FD3FC1247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445D7-E36D-4D7D-98BB-D559D8B42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3B3CC6-AE73-4188-A622-CD9EADA4D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9191A-2E06-456B-95EE-43B9F6274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FA07E-2EBA-4458-B973-B5238DE4D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52BF7-8F29-456E-868D-D2B6D85DF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AD34D-3B68-4215-8466-62841391C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4F08C-B0A3-4399-A591-5156475A3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152A8-3A5F-4F87-8B53-AD02AE42F4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EE8CD-3C6A-4E4B-B58F-AAB55FF50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17271-63A3-4B9D-B3FF-97679E8AD3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77343E-3E91-43C7-BD57-DDEC59C8B1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B6B78-E237-4E16-83A1-5F603B814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F16D7-998A-4DDD-BA83-B888A1C0D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B7D71-4DB5-4CCB-8B1D-F2BEED0A47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F7F87-5937-4B77-A17E-FEE0A8EA2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C266A-F306-44B6-B6E6-C24FD8EFF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F7E1A-6C13-4C9F-AA68-C9811CA85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6FB1B-4887-4244-BE90-F258F287A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26B63-2D8E-4F6C-99AA-90EB3C0C2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5C70-659B-4E6E-94EF-FBB6D999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0DABC-692E-412B-990E-E5261C7C0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244EF-B8E7-4300-959B-FD24AF4EED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0258FE-C82A-4DA2-B229-FC80F720D6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89A0AC-E91C-4E96-8FE5-E19375DB2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704CE-E336-4515-A082-F7EC3A6897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94D6D-83A3-4187-AB1C-5FE4418A2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B1D3F-2F35-4FBF-997C-B41EDAE00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2C41D4-5C5D-426D-A720-25B014C80F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CA93A8-51FD-4D60-AB49-0DE213F2F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1C6D7-4AA8-4E3A-971B-91DCF502B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E4EC-645A-4556-9D41-B3A80165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99E83-7D00-4C19-834F-CAE0B9CD4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BBCCA-DC7D-4FDB-BE84-1A7FE8E6A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0D8F06-47B8-4AFA-A91B-D9C43868A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2FD330-2487-43DE-AA98-29BB55BF9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5E39E-9295-48DD-9C1C-2A17F9ADB1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B148AB-7D83-4DC3-9302-64AF68B937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A551E-B472-4985-923D-FED5556D0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1EA19-4B6A-4C27-9373-FF182FC77B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B777E-F7F4-4519-8416-4745B54C7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F41C2-338D-444D-A71A-0865A4D8C9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7BAB-2129-4D28-BE70-42E07F138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89240-8C5E-40AC-8351-F0E2A0B64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12ABF-E19C-4905-AD78-F064B628B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19024-3617-431C-AB03-C7D482D14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B2C04-F9D7-49AB-8CC4-E30852F04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48EE4-ABBC-4BC4-8D35-60ACDF5FD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CD2A67-6DC6-40B3-9C8B-B69666CDA0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56680A-D726-4C9C-915F-659323E609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30345B-9B74-4137-AA39-A7FF3F4F63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74736E-78FF-41B1-A1C0-AA23019335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B030F-C942-4E84-B2B6-F43C9CA2E0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1F1A9D-A1C2-4EEC-B7A0-9974CECE48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7D9C07A-92FF-41B8-961B-9AB1F1DAF2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B73DB2C-12A1-41EF-92FA-2D3C086723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A20A52-FF19-4020-B8E3-1C30C81104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C4AEEB-8B68-48AD-AFF6-D9B09CF10E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7F3DF1-521C-44BE-9D99-9626B9C1D6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1AE36CC-C294-4303-B54E-BE9D2EB0B6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B0B551D-1AFD-4EA8-8E15-96CB4B7222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ACEB18-931A-4F02-84FD-48DB6B7B3F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33071C-02C6-4253-A130-A09E3295BE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36AF64-5258-4460-BE91-A1B0ABCBA4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65CC08-3398-4253-9804-D107A8813D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ieee802.org/11/email/stds-802-11-tgbe/msg06413.html"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D0EF5F-36D4-47B1-82D4-F6FD1900D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1-11-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DAFD93-1C99-4772-BF25-5B5B44163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November 14, 2021:</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0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7 MAC, 497 PHY, 216 Joint</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1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 MAC, 57 PHY, 69 Joint</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91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8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57 MAC, 395 PHY, 81 Joint, 5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 MAC, 11 PHY, 4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1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 MAC, 101 PHY, 18 Joint, 1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BDABD9-F3D5-4A85-9F9A-86954ABA8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2)</a:t>
            </a:r>
            <a:endParaRPr b="0" lang="en-US" sz="3200" spc="-1" strike="noStrike">
              <a:solidFill>
                <a:srgbClr val="000000"/>
              </a:solidFill>
              <a:latin typeface="Times New Roman"/>
            </a:endParaRPr>
          </a:p>
        </p:txBody>
      </p:sp>
      <p:sp>
        <p:nvSpPr>
          <p:cNvPr id="5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76176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graphic provided by TGbe Chair):</a:t>
            </a:r>
            <a:endParaRPr b="0" lang="en-US" sz="24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8" name="Picture 2" descr=""/>
          <p:cNvPicPr/>
          <p:nvPr/>
        </p:nvPicPr>
        <p:blipFill>
          <a:blip r:embed="rId1"/>
          <a:stretch/>
        </p:blipFill>
        <p:spPr>
          <a:xfrm>
            <a:off x="1752480" y="2125800"/>
            <a:ext cx="5515200" cy="43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A52B54-9BC0-436E-9823-685AE1D1B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7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413.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21DE4A-EA72-42FD-8179-482A455D3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C67184-CA6F-4376-97D6-EA1B3E4FF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1.3</a:t>
            </a:r>
            <a:endParaRPr b="0" lang="en-US" sz="3200" spc="-1" strike="noStrike">
              <a:solidFill>
                <a:srgbClr val="000000"/>
              </a:solidFill>
              <a:latin typeface="Times New Roman"/>
            </a:endParaRPr>
          </a:p>
        </p:txBody>
      </p:sp>
      <p:sp>
        <p:nvSpPr>
          <p:cNvPr id="5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 to be posted in a week</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figure numbers, table numbers, and subclause numbers are aligned with:</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REVme D0.4</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z D4.0</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b D0.7</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c D2.0</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d D2.1</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5CA567-FEE1-4FCF-9476-591DF437C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1F3187-77D4-45B2-960E-BE8734A41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93"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4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2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2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EE06B2-A743-48C9-B788-13FEA8FB7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1-11-14T12:01:20Z</dcterms:modified>
  <cp:revision>9012</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