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E7CC87-C051-493C-A60A-0C25A983F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E9B024-D8F4-4BDF-8064-8B60A5E96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D5C2FA-407D-415F-AE02-861CFD240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067A77-F1A8-42D0-9D5E-C44CF262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46A560-9AFD-4DDD-A8DA-FC0CFFD4C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6B85EBC-7BD6-4712-9196-931E7F900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BE8AFF-5FD5-4D27-9DE6-015C7A38F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A5AC9C-221F-4E5E-B31B-7BC366584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B98-26B7-433C-A835-676C366A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0C2-EE75-433E-8684-6460CF9A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A86AB-A7A0-4D33-988F-A9FE2518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05F94-ED6E-45B4-91C1-151A68EE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37843-417A-4C75-9AB4-CD24D190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3089E-9599-465C-9ADB-82E68211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589BA-A296-41E6-BF3C-CBC8B2E8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2B59A-8F96-4640-834E-1A45E8BE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E390E-B507-4F8D-984F-46715170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15355-049B-4E90-AEBF-A8A8E449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38A3A-99BC-4F6C-BD9D-15496A7D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69D66-9B0A-44C2-88D9-35DB7770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F30-35E9-424A-8958-A22B1763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DB4EC-9D3E-4334-82D2-BEE3F04D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3E46B-C181-472A-8649-F2F51846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AEE34-37EF-41FF-9399-C673F8C4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8701C-A9CC-4830-9CE7-4D563929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CED80-8B8A-499F-9B16-AEFBCC0A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3C3AD-E236-4504-A3CA-4E834488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F7FF5-9938-4424-B4A9-4B9D01D8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A5249-D51E-4952-8B30-5A3AEC8D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98539-AFBF-4744-BCAE-AE73E213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7BB70-6FC6-4244-8437-5C822434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16A-F989-4802-A348-0D4DFBEC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D7A36-1DC1-4B65-8CB6-08AD760B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6574D-7815-47B8-88C2-7B949B2F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FF267-DD80-496D-BE54-D62A8A4B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6C34A-F0AE-4952-B59B-A5A10AC4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330EE-2ADB-4391-BBC4-C7687D5C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C846B-A5B2-4E4F-960B-7C18E170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4DA0D-724A-42DB-9A34-FFE3EDD5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6D2FC-C121-4898-98B4-6000905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417EE-52B5-47F3-904F-576A70D0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2477B-FC8F-473D-A126-AD5402B5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EDCD-44B9-424B-82B4-C8370562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D2334-46DA-40F5-B566-D97F4D4B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256FB-9FEC-4146-8F20-CF8EF409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B0D64-0B1E-4921-886A-2AC35B4E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48B3C-2130-49F6-A2E0-FED56A6E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170A2-C756-4D31-B0A7-CB1E8812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E3BE1-8029-47E1-9F96-41F9CB8D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812FF-C73A-4643-9DCC-363D599A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F2549-B9DB-4E66-B4B7-35539E74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85135-CC63-42EC-A309-33E9362A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97CEF-2084-4811-B434-A5224B24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BED5-B489-4592-A541-70DE905D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AD9A1-DE9F-4571-964E-44D08516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9E86A-55F5-495C-9351-CA4955E6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4E265-BABF-496E-8CF1-ADF4AB6B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94F6B-01C5-4AE4-A865-997BD4A8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D1842-F8D0-4EA2-9ABC-99724146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EAC7-7905-4016-BEF7-5978BF72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F4D8-7B49-4EEE-BB4C-DFB94249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14CD-787E-474F-A5F1-8F55FADD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71FF-E56B-48CB-B6DD-FAFD684A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5688-F458-4016-8473-E992DEE3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7F1-8A44-40F2-977F-5BF31E94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FBE1-8F4F-48BD-8D97-96ABE3DA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3A68-6363-49F9-8445-B7CDCDC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A5AB-FCB9-414F-8DE3-32CAC4C3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4C0C-D189-41F2-808E-F6EADA3C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7833-8F99-4646-B224-0C49D133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83FD-72D6-4F39-AA09-C8FFF608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FD534-3DF5-4FDE-86DB-EF70FEB1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DDF53-44A5-4540-99AC-EA1F07FE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D9B6-5830-4E2E-80AA-D79DFBEA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2268-9E17-4C8D-8A45-DEB89395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0D0-47C9-4F7E-B9A8-16A1BF5A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29CB-06B5-44C8-933C-356F1943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2B84-FD47-4BAB-9C17-2C65462C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7AD2-C313-4798-B3E3-E80A329E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2613-9DFF-4E1A-B767-24BDB6F6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97AB-DA83-482E-A8A0-5F195A4F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70B4-EB38-44CF-9A37-958A4D10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D3E84-9DD3-44EA-9C37-6358EC60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26F17-0E3F-4F3D-AD3A-9D9A7A89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555D4-9319-4394-A71D-8BE82F01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A200-3707-4FE7-B937-1F604A2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E3F-1244-4DAB-96FE-ED25EF88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01B9-3789-4F62-AF52-75962746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F684-9231-4812-9A65-D8D61CD1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95AB0-FED6-4168-9B6C-4B49E746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36D84-9E3A-441D-81C2-DCE2BAE9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1711B-BD56-4D9D-86CA-C6DA1369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788C-E105-4ACB-AE02-D87D5E32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53225-A7FB-4107-92FB-C52C3C5A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CBC8-D52F-4BD9-BFCC-C0B3C831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C62D-DB1C-4B20-9188-70820532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1701-EBEC-40BC-923A-C1DEB8FC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334-8D5A-46F8-8E83-701D6C7D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1F421-EB69-4234-BAFB-8C8A9D1F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073D-7A0F-4D13-A84B-F76D73B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3C701-3A47-4894-B397-EAE75782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296EF-5CD1-43A4-9D58-4E02FE79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BAAA1-06E9-4427-B72F-34D3D7EC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1D9B3-CB33-4D35-A61F-6607F88A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4F3C7-2DE2-4A68-8C6F-7E8FC1D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26DBD-AE45-41FA-88B6-F128F570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9646C-E624-4717-B56D-13284EEC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C5864-67AA-443D-95E8-0DFC7C31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E6A-5F18-4938-9BDF-362C603C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8B1AA-29D5-427A-B84C-4B8544E4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DBF47-FC14-4BAE-A83F-84714E19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BAB3E-24ED-4DE7-8F52-7DB5A89B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2C47E-BB75-4AB4-B8D4-EF80AFE2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C3817-7DB4-44B6-9354-A18B8D66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5BBC5-A738-4644-95A4-2D01E161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3DDFD-05E5-4CD6-9B52-9859CB09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F1639-D99F-40E8-8923-EA876E91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F0529-C152-475D-B7B3-D00F3A42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C6EC-D659-43D4-9BD0-4D4987EA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C9D-64C4-485C-B925-36D0ACF6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65E5D-79B2-4DBF-B79F-FB8A0311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53698-1338-49E4-AB3C-AC758733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4068D-E733-44AD-AC0D-E2864BCC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1B22F-5D3E-43F8-A2DB-AC413F38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FAE8F-4918-4308-9873-2CC1FC7D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96A28-23A5-41A6-9A5A-D5F669DC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DAF45-36F5-42C4-BAA9-D799DFC0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5F15A-5178-4F0D-BEB4-DABC8F37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0AC07-81D8-488F-92A1-B9E76BB6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670AA-4342-449E-A04C-830D458D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C68-C74C-46FF-9F0E-FFC6CBE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389B6-D995-4928-A38F-7934B6CC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5B0EA-F942-4961-A784-A951A54B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9071F-0E67-4BB5-B429-C6777EB1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17ECD-E7E0-4795-8E68-8091959C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463DF-83B9-4B28-8739-93F9D9CE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E59ED-48D8-49BB-AEE1-CBC48CE2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6217C-4F80-45A5-B6CC-B726695F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E9B34-4799-4049-92BE-174D8185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EF1C8-4290-42CC-88E2-E8AF1B34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63FB1-6C0C-4412-9681-99068E7F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302-A9CC-4454-9A42-4BE71B0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95C4C-2F92-44D9-9A39-D4F4700B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DE035-DFB5-4BD9-A483-776F74A0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389A6-EE7A-418C-A884-8DBFFE0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A4B56-C0A6-4657-8E4A-E5415CB1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413EF-00F0-48B8-8FC5-FF14CA98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486AB-A506-4DFB-8ACE-4286DC4F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93D49-40C3-4CAA-9BE8-4582F1E3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12FB0-81F7-432C-AB61-2DBCBDFD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68C5A-E742-443D-A4A7-8C9130F4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032B7-AAEC-421F-A22F-59CEDEF5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16EBD7D-EFFF-41E2-959B-BE42ABF740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8AF1D0-D3DB-4A3A-96BC-1B5F0793AF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ABDA69-63D5-4887-B8EC-C475EDD86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FD6DAE-4C7A-4D41-AF21-3C4FE3DA50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D7E923-E116-4A0B-9B3E-911DCCAFD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298FFB-C243-4C16-BAA5-5E91CC73CA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F4901F-5C20-42E3-9886-5DB7F0013A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2BA276-828D-46D9-A7D1-B99DF8A5A8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9995B5E-EE53-4505-BE4E-A12B050494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D482E6-CA98-4E47-AAF4-DF86059C3E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BEA8A8-9558-4600-AA16-0F37E9678C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25AC110-64C6-412B-A018-C4DEE9313C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ieee802.org/11/email/stds-802-11-tgbe/msg06240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ieee802.org/11/email/stds-802-11-tgbe/msg06066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A10D394-3A00-484A-8692-B5FDA2380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9-1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C6A4940-C84B-4B62-8379-B53ED4DDF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82 CIDs approv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 CIDs ready for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62 CIDs assigned and pending for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96 technic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 gener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96 editori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C72A2D0-8735-495E-8723-2A35A78B6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of 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www.ieee802.org/11/email/stds-802-11-tgbe/msg06240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52640A-ADEC-40B8-9787-019D67C9D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est was made and WG Editors have completed the assign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www.ieee802.org/11/email/stds-802-11-tgbe/msg06066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 values will be published in D1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8F06EA-E043-43CE-ADF0-CEC804334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IDs are resolved and motion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9F97EE-DA82-4138-8626-38C187B8B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September 19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8r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9r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356237-B816-41ED-A038-519ABD68A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September 19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9-19T17:01:40Z</dcterms:modified>
  <cp:revision>8995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