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3D0FB6-060C-4898-84BE-143A82498D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2EDF35-8BA3-458E-B344-B170DEB18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5E3177-414A-4C26-938F-C06D2274E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4E9196-24EE-4DD1-9655-5784EF4DC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278667-6249-41B1-8118-B2AB6A22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6D7C93-A4D6-49DE-B965-ABCCC98F8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DBDCD9-A42C-49CE-96FE-218C054E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ADA18C-0F96-4BED-847A-5D168136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ABF-3C3C-4B04-9E1A-D29AB0B7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99F-864A-448D-AD65-33BDD2E5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B4073-5CBF-4DCF-B845-D7B2E06D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CF0F7-4C4A-4646-B37D-E47A8A37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20166-2124-4F42-9C89-209463D7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DA596-DB47-42E7-A0A5-E6E54A23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64B28-40F6-4440-9866-3603C953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137BE-240E-48A0-95EC-299BDC75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1D9C5-BC6E-4F7A-95A4-EC4AC1CE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07217-96EC-4A3B-8656-223052C5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A58D0-6FE5-440A-9BB0-666C44BD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E7BCA-F2F7-4082-8C61-C1E526C2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E71-D43C-4D6D-AAA4-09AF8F85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396B4-19CB-465F-B2A6-705E2F7A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0EBFB-979F-4AEF-9B79-62CBDB24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2F275-EB8A-4537-9134-BE2AD25A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3AF01-33EA-4D3D-869A-6A4F1149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6B65B-7AE0-4288-AFA5-F3DD2666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486A3-60F1-46D8-BF95-F3AD5024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2AA66-C311-460E-BDFB-E171CF8B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5125B-D9EE-407A-882F-D291BC0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5C7D4-AEB2-40AB-ACE8-BA7B384B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7D83D-12DA-46BA-94C6-E7114536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F58-A6CD-4692-B698-A8B2CCAB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AC02A-DD42-411E-A89A-6DE4FCE0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7839D-4594-4511-8992-A039509D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DBED4-1D00-44EC-A65A-B714E8A7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6CEC6-7930-4F39-880A-74715608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C4DF6-E9B1-49F1-8007-00EB84C8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13948-5234-4055-A9AF-686D71B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8B51C-8B59-4A08-B7FE-17CFCB04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C62FE-F00D-4248-B26E-F32488B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A9DDE-3D8A-4B4D-9305-832EE9B9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CEBC7-4D4A-40A2-A099-7AE57F6C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23F-E98A-4075-B339-6F4B83C0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296A7-6A3A-4B90-87C7-8A99BBD5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33140-E297-444F-A9BE-E3DE95F6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F881-B5AD-4BA6-AADE-D80885C9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1215A-CD76-45E8-B13E-8BE91413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9FA63-669B-4923-BFF9-BB2F49F2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8A486-A51F-42A0-B03E-ADA099AB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6F9F7-05CF-435E-9DFA-51A59373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F4B42-A80C-4BDF-A2ED-8E9E2D3A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03D5D-1F60-44EC-8BF2-56450994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A5EA2-40B4-4D8E-B01A-A5B50A34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0FF0-F472-49E1-AA9E-5729DA4A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A72B0-41EA-4B73-BCB9-92FCD881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A76A5-B42B-477E-BDFE-DB93C8E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91A17-1E13-4660-BE51-B823BE7C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F5CFD-9428-459C-8115-C5BB9C50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2B5E7-1354-4D01-9878-80DC3DFE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AB98-F32D-4324-8DB6-4B41D9B8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F3D-9A86-43EE-9BFE-6A5096C8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782D-3D36-4B06-96AF-8B72C642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0673-838D-4C9A-89E7-8B5324F6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5C4B-EDA3-4596-9100-8B11EDFE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22A-F3D6-45D1-9699-850281D9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B5CC-76AA-4226-BE5F-15B001F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E891-A56B-4A36-9864-BDC908A2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7B0B-5D3D-4286-8928-6AEB711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0E0F-8B09-4730-830B-4F5901D3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058D-0EE5-4AA9-8C97-11140939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78E8-CBED-40E0-8F5D-829B3BC7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C524F-71A9-493A-8ECB-AB3ACD5E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9BF0-596F-4821-AE48-A988F1CD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24AB-CB40-4F0E-AC94-354EC3E4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00C3-986D-47EF-BC5E-691F003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830-7E46-4762-A0D9-402288BD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7F2D-B413-495B-A3A5-5B4B1541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11A3-70A9-40A3-AE68-CC822FE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773A-A021-4CBD-BF1E-FDC64ADA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95EB-152D-428D-9D8E-B45974B3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5FFA-8116-4D4B-8F1A-4694AC7C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1D14A-70FB-4BFA-AEA8-87C0B201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B3F7-16B3-431F-904A-99E5AFDB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C955-2D5D-423B-BF64-6E5B02AD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7526C-342B-472A-BED9-DFA7082E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3FA48-8665-4051-AA52-75F96E0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613-2593-4DF0-A213-3B186449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15F71-92D6-4392-930E-4345192A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74E8-D997-4A1F-8263-411460A3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86C4-0BF8-447C-9892-0D3765B8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07FF3-4600-404D-9245-ECBF361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E3A91-5B78-47F0-BA06-06B9D75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BCBC-A1A8-4BDE-B179-8605F827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F307-250A-4FA8-804F-84C71B8D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7965-E222-4325-B048-DB7B4B3D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14AF-4D9D-48E1-8235-E34416DF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C7EB1-77A1-413A-97E0-24F69F31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308-5B76-4F0B-B16A-A1019B35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FAC2-CA8D-4FD4-9125-E1C9020C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16997-6FAD-407C-9199-962825F9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7B2F3-FBC0-4B60-8957-159424B9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C4D38-D2E6-453E-A68B-7F289FE0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DE7F0-61EE-4A09-9092-2C047BB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42F1D-3C40-43CB-957F-AD64C5CA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C6E20-633C-4C01-B11E-ED12C8F9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9055-2978-4602-980B-0B53A9D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00EAF-59F4-46A5-A44C-C336D97D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0B4E-14B1-4A14-A41D-10438755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292-7E49-4A16-8C8F-97062218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D8B25-7393-4353-A774-1D38DACE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05107-84BD-4484-8A8A-A93D9CE2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22983-C340-432E-B59D-C73DFD3F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FB57D-E113-4991-BBEA-FB4263F9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96EF5-3224-4E3A-871B-468E935C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6DE0-206B-485F-A8D2-4C766F3C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273BC-3194-4DA3-AC0C-2DA335A2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1718-D111-491A-ACCD-EF94B92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F3416-A28E-4D25-8352-FA380329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E83D2-39F4-4AEA-93AE-288BFEB9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39C-2259-4541-A23E-39513E0A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9E07-251B-4152-AB8A-FEACD1B5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2CFC-84A6-45C9-BF04-86346378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CAD61-FED4-4FBE-BB2E-39FCAD0C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68051-44A2-4D5E-8EF7-3FBDB15B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808B3-F587-4220-88D2-27FA9879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A9410-CB0D-4B6D-A3FF-BBA3E054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5FDFB-FCE5-40F8-A949-28E4A5D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06B49-2CEF-4BBC-A133-B749F980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79E0E-EC09-4792-BB2D-77BE728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30EDF-A4FD-408B-9991-8603E729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6E5-1958-4FBC-A9E4-EEC94DF5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8627B-A484-446D-8D2C-A1370BF0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07240-A4E9-438A-B84A-4A3D6878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C45B7-98B1-4719-A5CB-97EAF53F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EFCF2-A70F-43DF-8428-1E52C9D3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9F41-A78D-4F3D-AAB6-7891F31C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B8353-9008-4471-82E3-07C60F8F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9368F-20DC-4B17-9635-04283BCC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F1380-C035-476E-80A8-F0041B6F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E9BB7-B136-4761-9A33-CDA4AE69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D9AC3-C352-4077-8C6F-C3BF99F8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8B9-0D3C-4381-8CBC-8645D9CE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5364D-A824-4E54-8E6E-414EAE32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959F1-8EB6-40F1-8759-8E0BF5F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0A9A-C13A-4E35-ADCE-53C1C034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B8622-8B20-4F03-8E00-D9E5708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1930B-6187-4F4C-AED7-34E82EC8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C26A1-834B-4FD8-8253-74977C01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41179-666A-4416-BC88-B5CA3127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9C42E-099D-443C-BCD8-85851E66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0A66D-0233-442E-83EC-3D91A427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47263-4DBA-49FD-99EA-63441761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B07B4B-10F9-49CF-9D92-237B98AF22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12A191-DA46-4CE9-93DA-56B3922E5B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ECB959C-8064-4964-A989-9718F5AB78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2A3A04-A7EE-4987-BF58-240C4DECD2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7BAF69C-42F4-4462-8194-9A2947550F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DADB6A-65A7-4EF7-9A94-73378B92CD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E5D249-E864-47B5-804F-591836ACE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57F7F6-4C95-43E8-9D51-1B331C874B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9C8B36-7F78-4863-A500-618F99F58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4FC1D0-561D-4097-87EB-93D88337C7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19484B-EA2B-42EF-B959-ADB306BFD9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5ABD8A-EC18-43C6-967D-2539DEE032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ieee802.org/11/email/stds-802-11-tgbe/msg06240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ieee802.org/11/email/stds-802-11-tgbe/msg06066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FE70C5-EAC2-4C84-9A33-D561E1F0B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9-1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0EB1DD-F7D8-490F-9D0E-86C55A1C6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82 CIDs approv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 CIDs ready for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62 CIDs assigned and pending f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96 technic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 gener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96 editori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7EF84C-C964-4FD7-8B16-B4829E894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www.ieee802.org/11/email/stds-802-11-tgbe/msg06240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8DB648-6183-4554-8695-A84A719B2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est was made and WG Editors have completed the assign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www.ieee802.org/11/email/stds-802-11-tgbe/msg06066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 values will be published in D1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5B5998-87D6-49BF-90A9-9DE70DD6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Ds are resolved and motio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6AB50B-6721-4800-A8FD-13DA656A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September 19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8r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9r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09CF9E-98F3-45AF-B436-F078D2165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September 19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9-19T17:01:40Z</dcterms:modified>
  <cp:revision>8995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