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CAA073-8BFE-4DDA-998A-07E5512817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84729A-90B5-4F54-9273-1390B87AA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7F5E3B-BF0F-4A49-AA7B-9E73E55D2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ACA5AC-4A62-4656-B315-BCB6CB360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0CFA52-4B3C-437E-B414-CAA6657A8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A4CEA8-18FC-4A5A-8629-23E62916F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4F7637-2296-4D64-9D89-E314CA41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E0862D-267A-4F49-AA86-77B22ED62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96DA40-EF93-47DF-9E5B-ADB91EC1F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65E31E-8CC2-44A5-8662-A7C33E0B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4D1A19-6535-4F5F-8F32-CD681972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93E822-D533-4F44-82FC-305AECE53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E6E-D7A2-432C-93A3-9C81DE01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7BD-FB17-4638-A30D-73C441F0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77866-5E14-492F-89BF-3D97524F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4C9EF-F13D-4EFB-BBEB-71B36853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FFEC9-1EA3-443F-B4FB-8C039DAF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A1017-5B3D-49C8-80E3-932BC635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B0A2E-E7B2-402D-8640-80C00D0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C1D97-371F-4869-89AB-BE0223D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91165-A0B7-49BD-97C6-F0BA38D2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2B8AE-2026-4C83-87CA-F11B2766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DE276-BBE8-4DD5-88B8-82C1F794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19800-526C-483C-BA48-D5443211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046-7FCC-48EB-966F-85129A87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EA809-C63F-46E2-9E80-027F4D1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A3BC2-E3CE-4D15-BD86-30FDE5AF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46382-08C0-4FEC-9376-45ED7E3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9A743-6CA6-489D-81C0-B926757C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F5AAB-BCC5-4913-9959-CCA17167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6A3B9-B3A5-4595-9A36-B190BA1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2B32C-B874-4399-9FC6-374B65CA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98958-91D9-47D5-B881-EA681E1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252C4-865A-432C-9D4A-663BF3D3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68CED-AADC-4979-A0FE-B7424973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A83-0829-479F-8CDA-50EF8C01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843DF-C2D1-47FC-B116-74E2F2B2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105E8-0A3E-46B1-B5FB-BD4A4745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8CE45-E021-4CEF-A004-600C07A9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95904-6872-4E39-8EE8-101B9F48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6721A-D755-4B2D-A460-AEAFD0CB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51C28-8318-40F1-B816-14378D0D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99EEA-29A8-4B6A-B9BA-0526BDC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51263-467C-40F1-8364-EF172DA0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E9335-C7B6-4B58-889C-9DAB1BC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46BD2-63F3-4584-898D-47B32A9C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75A4-E4DF-44BC-9C4E-A8488D9C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4CD8A-1641-4354-9319-8AAF2C04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384B2-5AE3-4FE6-A373-DC57B261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506BE-BDD4-4206-872E-0C1F1CF9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FB680-C076-4ED2-9E28-213D044B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482FE-1874-411F-9190-4833E2C1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5FCA7-FEC5-4C23-8324-ABA4B3A5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50453-8B55-4C36-AD21-9532A273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38A2B-E7B6-42B9-BC45-3515A972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9AAA2-5BEF-493E-8A95-A5FE52AF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ADC6C-633F-4F9A-B75D-55120538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A39A-10EF-4A29-BC8B-0B8313B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12D44-D4A6-42C0-A529-028D2F8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22C4B-1B2F-4CFF-917C-FC302CC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5350F-2F88-4F15-981C-0A2A1D5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F8FF7-2BD0-4CB3-8416-4A000AB5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E290D-AAE0-4431-B102-387F79F6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FB46-A8F2-4CA8-80DC-F7D5B9E7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5919-0CA6-45B7-9128-F08B6231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E9AC-CAE3-4014-BD48-198F08C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2594-D61B-43D5-910B-5003093C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95AA-CB01-4F1C-995E-3AF04635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39F-6DEB-4A0C-9641-C60523B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DE94-D1C0-4F22-AD69-AF6E01E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4AB5-03DC-44CD-AFEC-AE2A407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26B8-BCB2-40D8-B7D1-55612591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C884-CFCD-46E9-802D-39D6468D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BE6-1890-4F4D-8B8D-C67DE06C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E157-C5CB-4C46-8766-56522BCC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7D8D-CF01-499F-A3EB-C8138E42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EAE0-FC4A-4D67-9A18-B8BB71D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36113-8168-401C-B61C-01E4DB9E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D7FF-BF16-4021-9A23-75957C5D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AA2-83C7-4479-B3D8-1CAD1778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F24F-B1A4-4C82-912F-26CD6A0F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479B-3FD8-4469-A04F-0A62659A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4FA1F-1B75-4DE5-93FF-491023CD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469A-EA8D-449D-BF2C-90A21161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D241-66DE-439D-8569-BCAE3D3F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ECD3-0166-4FFC-A908-BDB5BC46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D89E-4CB9-4D0A-8A5B-401DD83D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CF7B4-EEC7-4955-819D-9A02B65A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4999-344F-42C4-8981-463A2514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1DD7F-D9CC-444C-9DFA-79DC22BA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E67-F2FC-4FBF-9836-2A305D8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41477-2B3D-43AC-812F-6AAE51A3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9DA3-1258-4406-AF56-23ECC246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6C43A-62FC-477B-96CE-F1294629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B84A-F24D-4575-A608-DCFDAFE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E6AC-F0D2-403F-8D29-FE531938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BA3E-B9B5-4E57-AB33-A1A5A72D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AB50-F0DE-4F37-9557-5670395B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D423B-691F-41D4-9AAC-0A489764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BA1B-B95B-4CDF-9AE1-A81ABC62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360BE-B636-400E-A71B-2942DCA9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53F-AB78-48B0-A0AE-FFD893FF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EEC5-13C7-4AD4-8E40-42C4D61B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61D47-6E2E-4D55-AFB0-D5BD98EC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81FDE-6D01-4165-A4C5-DB2E540A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C2921-7EC4-4588-88DE-0F03C3C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60F7F-B28A-4BA8-A224-4EDFA03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BB32-F86D-40B8-9EFE-78BEB19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80D05-41E3-4C91-99BD-CA84F17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41B2F-B0EA-4FE1-9A20-E33397AF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5FBE-D3C8-4A56-99E9-DBA91019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2C7C-E1F3-404B-83F9-E2A67FBB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49E-5B8C-41A1-AB09-F6AEFF70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F992-4BFE-4E27-88FE-D61FF875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9693-3B94-492C-AB0E-082F0046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81F3C-F65D-44F6-827B-9F5182B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9B0E6-ED32-4D54-9748-2CB0A47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18FE6-794A-4268-95EA-B6C50762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D4433-0B9E-4FFB-BBE5-2C992852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F5220-8E1E-4891-9538-7C3267E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2BF4-FBBD-4EEA-BAD7-72A642D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7077-D97C-4179-A58A-C9970A6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9CAA-4440-4DD4-9DEA-E689357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651-8CD4-436F-914E-A7A216EF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C552-2453-43D7-AAC7-49137F56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BB208-C45E-45B6-96FF-5E4FF505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386F2-62B8-4B54-9A29-6A1ADF26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CC0D2-A449-4613-BFA2-37B9F4C0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9893-B00D-45BF-A580-89722742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ED798-4C8C-4EB6-AF9B-64DD90A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64B5A-19A2-400E-8D45-F743ACB2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F0029-742D-4376-9918-4750176F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E833-16F2-4585-9262-558DA597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F40F8-3E56-4079-8BB4-B26FD198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DBE-BAC0-4594-9862-D1DDBD3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C21B6-D6B8-4829-A855-51416101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FAEED-0860-47B3-A286-C99CE6C4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CA8E0-8740-40E4-AD6E-F7F076D0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FD964-3452-41C8-B93C-5A422488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9ADED-2EC8-4031-8C2A-FB7DDCBF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F1061-F23C-4422-848E-5A09C06C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8618A-62C2-4DDE-AEA8-EF33F934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DFDCE-C1D0-41AD-94D4-5068BC23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861EC-45A3-4D77-ACC3-2680D469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B973E-0727-4FA5-B1BF-A52C2423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892-1A91-4EB4-AC46-F41F418D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2ADE-59A3-4663-9549-D867F41C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86178-E8A7-4A52-BA70-5DCE93BB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00BE-C5E2-4805-AE84-DC634D10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08C7E-A319-4CF3-9BB6-4FB5A36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056F4-21D6-4471-A1D7-00F36F4F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1CF5D-52C6-4946-9FA3-7303BDCF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CF16D-0611-4DAB-B9FD-D0C26BFF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09DC4-C81F-4ED1-8C7C-86742DAE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E4B1-A53E-490B-B6E9-598D6682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8C918-6674-412B-B992-2E998C27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6D5CF6-C97B-42AA-9BE0-89004B56A6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845517-F9B1-4679-92EA-D8D3482030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0AC23F-10A1-4B9D-9A0D-12007DCBE3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0BC9B9-1CB0-400C-82B0-6AF2DCB3A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07C8CB-E3E1-4FAE-8D70-7B6419C5D7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A454DB-B10C-4E22-8469-7E4351DB15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D3C4F7-9FA6-4FD8-9A83-3E0A5F47EB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D48E1A-E51D-4A84-A138-3BC24A0DA2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19C570A-30C5-420C-9F06-BA02F87F60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68FB43-D068-440D-8B9D-747F4ABBF1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3715FA-9C3F-42A0-BA6F-AC54C6E62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A1B867-0E3D-4832-BF44-5C8EEED4DC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EA2173-AF89-4F0A-96B0-6C9FCF485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7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C8E390-16A4-440F-9AC1-1A06C5724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ly 14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8r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9r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847045-C078-492E-B687-9775D828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ly 7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14A43A-9672-45E4-B74A-42CFA8CD9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19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1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3B4693-7A8D-43FF-B7A4-300CEE474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E525CF-645F-4769-B829-857C9270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71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54104D-AF0A-479F-B7A5-3D99D7D6C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PoC and volunteers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Update as of July 14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st version:  21/1018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 5 to be posted in the next few day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in the PoC reassignment of selected C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in status of a few PHY CIDs that are ready for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9827E7-1ECD-4DBF-9935-09E14D9A6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Update as of July 14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quest will be submitted to the Working Group Editors in the near future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– to be completed and published in either D1.1 or D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A18608-2180-43F1-ACAF-70AF149E3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iendly suggestion to comment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multiple CIDs share a common resolution, please consider tagging only one CID, rather than all relevant CIDs, for the proposed text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if CIDs 9000, 9001, 9002, and 9003 share the same comment resolution,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consider the following: “Instruction to Editor:  Please incorporate the changes as shown in 21/XXXXrY (URL of the submission) under CID 9000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her than duplicating the resolution per CID: “Instruction to Editor:  Please incorporate the changes as shown in 21/XXXXrY (URL of the submission) under CID 9000”, “Instruction to Editor:  Please incorporate the changes as shown in 21/XXXXrY (URL of the submission) under CID 9001”, “Instruction to Editor:  Please incorporate the changes as shown in 21/XXXXrY (URL of the submission) under CID 9002”, “Instruction to Editor:  Please incorporate the changes as shown in 21/XXXXrY (URL of the submission) under CID 9003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10BA7C-A686-49BB-8160-D1C9C0E72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 and volunteer assignments are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C71913-AFC6-4900-87A5-D8D10923A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ignment with baselin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line (Draft 802.11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x-2021, IEEE 802.11ay-2021, and IEEE 802.11ba-2021 are expected to be rolled in to the baseline in the next couple of month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will align the contents of the draft with the baseline in late 2021/early 202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az (Draft 802.11az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az is expected to begin its initial SA ballot in March 2022 and submit the proposed standard to IEEE SA RevCom in September 2023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plans to align the contents of the draft with the Tgaz draft in late 2022/early 202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7-14T11:52:33Z</dcterms:modified>
  <cp:revision>8985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