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118AF6-22AC-4E4A-ABF7-8E53D5820D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70F05C-763A-4F5E-A670-63A40DDE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0A9049-E2D7-44E7-B165-F9828969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142141-D504-4A22-BE1C-E2A57B939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1A8EE1-7725-4342-8DD4-39AEF3A38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F55677-F379-4D3A-97B7-7708C456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3654FD-E62D-425E-BA80-2B243525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7949DB-B57E-45F8-A49C-627D07BA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FFE774-1C3D-461C-BD90-668E7671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985763-7343-4037-A0CB-ED74A038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78A3B4-2795-4CEB-B1C4-DD6F642B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EE19C4-29FB-452C-8F13-E5DA0E3A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3B3-5784-47A0-A4C1-C0A320C8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A7B-09A4-40A6-9D19-685C6E81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D8795-74E8-4A19-80B8-B24EA5C9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5B6A5-30C7-4B1E-B460-38EBDC38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FD08-6A49-484D-8591-4D9BC069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F1D7-8249-4B3D-B88C-B799986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DE990-2643-43E7-8293-75390E4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0BA8A-90B3-4C60-B5DF-B4FC8A3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4DB1-8919-4634-AD03-B1CB5002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5419B-1BB5-4F6C-A901-0D45357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E13D-45B4-41F7-8117-0BA5E184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EFDE3-8CDC-47A4-B18F-3E9C5802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2CB-3E8E-4016-A2C1-9A6D5D8D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34449-CAFA-4021-BBD7-28CC16C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99A5-418B-4570-A4FA-136E0C8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00177-A5F5-431C-BD82-D5C0156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2E09C-3846-4C48-A30A-16A2D98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7B030-DE86-4F1C-8A9C-67D7DAA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6CA07-F181-4A1E-B35B-6F4DB0C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CA92-28C4-40E5-8456-086F7708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69A3E-447C-45EE-9927-57BAEA6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9F179-A9B5-4998-85E3-4D51099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56E6B-F835-44EE-A02B-2247F37B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50A-D133-496C-9B0D-D22C4403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6B169-D646-4918-B6F6-677EA232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2BD24-D3A3-4E3E-A326-F93ABE68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DB82-7D7A-44F7-B8EF-F33BCA57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6DB4-E909-4722-AE03-55AAD97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AB9D2-4A4A-48F5-B003-A9896B9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7FAC-BB18-4E6D-9BA3-28C738E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1048-7852-4AD0-AB5E-4C0AF5F1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37DB1-C445-4390-9A12-D9BF851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DC3F8-F38B-4CD1-8ACE-33EC105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18F2A-779B-4B5B-B202-C951C72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596-FBA9-4CC4-84DF-253456D5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57888-B864-49BB-8E40-1D3F6577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434FE-FD12-4550-B614-BDC193C2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1C37-2831-4603-95C5-9B43BBDD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139C1-0232-4EA2-BBA2-7698E6D0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2565-6721-465D-B7C8-18E84CD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20DA4-C752-4168-8E26-7F927B67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221FE-46B6-4C61-8008-7304ACF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9B0E7-BB24-456F-AC6D-2983193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9EFB2-70DB-4CDE-881E-D5787C2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33C39-8547-4E3B-ABBE-143B271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F7C-379D-4786-B906-DA19FFC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98DA5-3E2E-439D-8DEF-CC456C73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93271-BE8B-448F-8C29-F5B6B30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A968-AA68-4EFC-A4F5-B2579BC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3AAF-43EA-4961-82A2-23E25EE8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16743-CC12-44AC-A6BB-84EF7885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F1D4-DCCD-4D2B-92E6-6639F389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DD8-47C1-41AA-8EA5-A92D8F66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337-D5D1-4DC5-BDCD-1FF77FC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5CC4-10E5-46AB-88AA-9F01C55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91AC-D5BD-4CCC-BEAA-47357F8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2BD-EE85-4FA3-9FC8-757EC48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C8C6-5EA8-49B5-997A-57CC43B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B553-D469-4005-9F05-E73AA41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641A-1660-4D9B-9620-C170A0E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D98B-E4CF-4A5E-81FF-6A10295E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20D-83C9-424D-97BC-C884F91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EC54-4DE1-47E5-881F-BC322854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E09E-CD3C-4E65-B621-3EBC8909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40D5-5125-4985-A34E-960A14F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7D80-9D5D-479B-AAE8-BAA581A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3A35-9F4F-41F9-9AA4-32ADDB6E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A40-9165-4B6A-A1E4-B22BE27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6176-F795-4E49-9821-4BD1266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8D08-4789-486A-8E76-B9FECE1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E509-3BF0-4588-AB57-BB0DA59D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CD0E-012E-42A2-90AE-8BE3292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B800-3680-4B55-8C33-A8419ED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4F73-97A2-4021-B73C-87A43D4D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182E-357B-4630-AD6A-E880FC8E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CA22-67FD-4B77-9ADC-7A5F0C55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3F80-1E14-4259-9039-AF4CBFAC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49AD-9E92-40A0-9247-3E6AEE9B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DA8-5E4C-4E01-868C-1665125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C447-F3C0-4635-8F76-13CA95D1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26A5-101B-47D6-A7DD-E6B71FAB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E89E1-436C-48D3-902E-9C7EF877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DFCD-BC63-48D1-8D52-42BE184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20E9-AE46-4510-801B-67AC930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1108-CC1E-4473-BB8B-C18DD30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826A-00C5-4577-B027-0282C7DA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24CC-ED4E-4C9D-BD92-C3CFC1CD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9931-9D5F-481E-A234-7984A8D0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853A-6DBB-4D12-B84A-03BD6301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C63-3715-469D-8D95-7E43896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483C-0C52-4E80-8A3A-E0D6205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17818-0723-4A74-8775-56096C33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7EA9-F2D7-4985-B3AD-6FDBECF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8158-F061-475F-869A-DBE0BBA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239E-5D2A-4C16-876F-1B5F9AA2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C781-A94C-409C-A3D9-ED44A96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C0A0-E789-44E2-870A-0ABA9E1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9792-016C-459A-9319-E32C679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6422-E243-47E8-B2D3-BCD1117E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224C-4E7A-49AA-9D5D-B6CC88FB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ED0-8314-4F2F-9D88-065B6229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05C8-4CBB-4421-8920-23009C3C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82F0-5773-4ED0-A262-662030E1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2F53-CEE1-4EBD-8744-78DDA9C3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1C0B8-DCAC-4BD1-9741-671F9BDF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C2F0-1D33-4654-9DBD-9A70404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B598-5671-49FF-9D46-5D37042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1BFB-9457-4AD7-B6A4-FD2901B9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5C7C-C601-4BB6-8F52-C4E574D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4B8F4-DCF3-478A-B306-AE6D533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5DC8-EAF0-4A8E-837B-852A0B6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34C-B380-47A6-960A-3013301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6041-9BB6-40BA-A42D-8388490D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7DA2-EB60-4AFB-BA2C-6F511E8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12F8-42AB-484E-B843-81EE22CA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FA57-906B-4651-8686-1C7CCDF3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A6C4-C2F2-4BF4-8F09-88B7BA27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A49A-4B43-4F5F-9EC1-97B0D5B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B403-A940-462B-A708-E47F2A3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13A5-86E9-4901-B778-4DC357C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93AFE-B21A-4DB1-9D2D-D5A6F72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4EDB-CD01-4B6A-B787-7A2A75A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CFD-19C0-4643-BAE4-9A2D40D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A1F9-6AFF-4A5B-A4A3-91E5914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C34D-A1D3-4E1B-822D-A42A2BA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3C81-BE98-4629-9DBB-1FC99C8A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B45E7-B8DD-45C9-ADEC-594AA00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AFE3-128F-49E4-8CAA-2269AFBC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6245-43F9-49F3-A446-20B7A7EF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D65B-4FC4-48EC-8C37-A017F6CC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6C1C6-8C37-4991-A460-4194CE5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2043E-4B59-47A2-9646-439C23A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FBAF-6E2E-474F-99E8-C3CD3D16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5B2-5694-4AF8-9A21-1486C52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850D-05A5-4BE2-9790-2894EAB9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1EE8-DB0E-415A-8ABB-0B572AE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F2A0-779B-48CD-B28E-E1600E1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42946-6AD2-47EC-90CA-55CE68A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A096-A851-4039-915F-E4AD887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04B6-907C-47FC-8636-D29001E1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C7395-E955-4120-84A6-8C3F2559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348AC-3AE7-4BC6-8F98-8983AC9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3D652-1EAD-4189-80A3-E8D57BF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8B413-CC98-4769-BE66-4886F3AB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1BE5EC-ED26-42DA-AA61-CAC4DB1CB5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D54872-887E-4752-BFBC-7DAEB3496A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B0FB7A-537E-4C46-906B-2EFF4837E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FA8E86-5B7E-466E-9284-B58B517D7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68DC0E-34AE-406F-AB51-64B96FB69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F7E676-ABC6-46AA-B014-B6C827540D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961359-5CCA-4E56-B9D1-303A81EEB1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A60370-B36B-4762-95D7-DDF8D5969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0CFC68-0CA9-40FF-8BD0-E922A74DC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08E8F8-D95D-4115-9D05-ACD48A5A6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C95559-E4EC-4617-872E-48207E65F8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BD45FE-9EEA-4E2E-B88E-97ACD6B94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44AEFB-33A3-4211-9ECC-BBAE58472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7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AD01E5-EE52-4A68-944D-7D191394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B198FF-0048-4492-AE05-B62ED65D0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8A006A-159A-4F2A-8CFE-610A74C7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F70A25-CD85-4A0A-80A5-EEE0B4DF7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BBDF2A-0A38-4041-B9CE-A7C52892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A87485-47F0-4685-B3E9-72ABE7FD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PoC and volunteers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Update 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st version:  21/1018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 5 to be posted in the next few day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in the PoC reassignment of selected C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in status of a few PHY CIDs that are ready for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EBF393-9490-4A36-BE40-7B330B90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Update as of July 14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quest will be submitted to the Working Group Editors in the near future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– to be completed and published in either D1.1 or D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FEB370-DC13-4521-BB78-35D3C0BD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ly suggestion to comment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ultiple CIDs share a common resolution, please consider tagging only one CID, rather than all relevant CIDs, for the proposed tex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CIDs 9000, 9001, 9002, and 9003 share the same comment resolution,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nsider the following: “Instruction to Editor:  Please incorporate the changes as shown in 21/XXXXrY (URL of the submission) under CID 900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her than duplicating the resolution per CID: “Instruction to Editor:  Please incorporate the changes as shown in 21/XXXXrY (URL of the submission) under CID 9000”, “Instruction to Editor:  Please incorporate the changes as shown in 21/XXXXrY (URL of the submission) under CID 9001”, “Instruction to Editor:  Please incorporate the changes as shown in 21/XXXXrY (URL of the submission) under CID 9002”, “Instruction to Editor:  Please incorporate the changes as shown in 21/XXXXrY (URL of the submission) under CID 9003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845C7B-1641-475E-918B-8155E591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and volunteer assignments ar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D0296F-B0AB-49F9-94F9-0FE75A7F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7-14T11:52:33Z</dcterms:modified>
  <cp:revision>898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