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A23CCF-1AF1-467B-B7A7-BC4C9FEDB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B8B359-FD00-4009-BF76-553085D6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9EE408-7A23-43B2-A4D9-5CD3DB48D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6A758D-3EE3-4709-8A4E-F652F668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0CF249-3BF7-4B76-ABCF-DD17F6D0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4BB03E-22FF-49A8-8372-6C562639E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9198BE-406C-4464-8472-6D5F6DB3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17682D-F258-42A0-A21A-34EDE51E7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FAB355-4A0E-4B72-99BE-84F2F159E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CA1175-480D-4CB8-8786-B21AD109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D793E4-3894-4622-BCA0-C0911EAF3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5CF92B-E615-41D0-B5E7-8B67182C1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906-B38B-4BD2-A7C7-D93F71A5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FCA-3919-40B4-8A8F-515A6E74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3F728-CE73-40DD-9CD4-81AFA3B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330F-18F4-4845-9F03-3F1B5F90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7BF4D-CD34-4C44-953E-12F40049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C385E-C6A6-4A06-A76B-36779DF6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3EA1F-BB27-4A21-8302-FCEAA2B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211CE-8767-4718-8ED4-0031E554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23DAB-12FC-401E-917C-E5EB37D7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0810B-5F67-4EDB-B208-6573ACA0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6A7B2-3085-4CF1-A428-2434D45F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6FFEA-853D-4AD8-978E-2585B4EC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E67-76B8-4E56-B784-116264FE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E6CA-E6D0-432F-91BD-38F11CF4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A6603-9A97-4DD4-B3E3-2A3EE7A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20290-6579-4DD2-A6DF-F1BF60A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C67AD-7CC7-4B3F-BF34-81677CC3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9BCA-8865-4D99-B231-07192FF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CBA7B-240C-4AD0-976C-3E14724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1E53-F93A-4C27-8B56-4E7785A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DCBE6-6839-44D9-BD35-B42914D6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E809B-3A61-4611-9417-E66F42C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47ED1-915B-45D0-A270-34A2C88F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A71-971A-4F60-B482-90DF1F24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81D0-CD1F-4F3C-AF8A-30B812DE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87EB-D812-41FB-A179-8FE3B81C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43C49-6A7F-45BB-B7BC-E6CE9D8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316E6-C13C-4061-9782-56B7E77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31C4-2AD9-4B4C-92E4-1534631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DA7DF-1B7B-4F26-9D90-35B8F7AE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F0634-8CDB-4E84-8F98-DA10B58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D3DC6-B057-46A5-8546-D097394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FA43D-06C6-48E4-93D4-E9823EF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4FEC0-2F64-4952-A531-0AC54AE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83EB-7658-4E13-A05B-9B9169B8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4553-3A97-41AC-8328-D0F29D3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0D414-C1CB-41B6-876C-DB253BB3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D72A5-21F9-4D3E-A2A8-B59D7F2D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13FF3-6075-449B-9A6C-E63F230B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1E2F1-2ACE-4DD3-B75C-9D1F8660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8D670-76E7-4B47-86A9-FBD70836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2580A-FA91-4DD5-9AFB-A0394466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0AACA-A3DE-4368-8130-D884F4EB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9E2D9-0ACF-420E-8D02-D3CF6E22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056F8-ACE5-4C39-B1EC-78DA91E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A189-1118-4438-A672-FFE7B0F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D2B97-29A5-4889-8D72-6584579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28066-6AED-4FE7-9199-F8FD2B61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C6844-E986-4EE4-9CCC-881A521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CC693-1B89-4830-9307-464F3D4D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53766-9818-478D-BE6F-4A64DB47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E768-AC22-4F96-BED1-214912E0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C18-84ED-418C-9BD9-BBBB457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F8CF-89FD-46B9-A9F1-0D610E5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17B3-126F-4190-8C26-99345C59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FD3-D1D3-4B60-B5BE-2A8CCF8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D7B-52C3-4DBF-BC09-CDE0BA1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41A-3444-4C66-918D-CA72D9E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4254-F7EA-4510-B7B8-65368AC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30F-A2B4-44D6-B824-B98D44B2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622-651B-49AD-B466-B4896E67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77F4-E30D-4D08-A468-C89BDFC2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72C4-8001-4134-AEB4-1B9C5CD4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4902-03B4-44E9-874B-5E6C056B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1F8B-9A8D-414F-9B68-88BB72B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270B-CF4C-42AF-B6FF-FFBA1F5F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2451-A3C0-45F4-B882-9935D07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A4A-8534-4EC4-AA3D-FF5E895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9EF2-03CF-4F84-B7A8-1CF79B14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A0C0-A5CF-4452-AB61-7D87EE9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F528-0ACE-4B51-A5F3-391FF84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26F4-31C0-49DA-9035-4EA1651D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C94B-C391-4C1A-92FC-34B5DCF4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A885-A566-4BC0-9F09-4A1ED5B3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BE24-8440-48BF-8B00-5867FD9B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B5C2-0FFE-4FF5-9514-9F5C20A0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1C58-6D1C-4719-9CAF-8B25C9D1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9B02-3A82-431B-B533-711B5A33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C84-F863-41BC-95C3-0067FA3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8E85-A6E0-4068-9556-EB74D6D2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ACD2-24C1-4865-ABAB-131DBAE5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1480-C582-4670-A1EE-63E7A76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C56D-E10B-41FA-BF3E-742C08D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CE0A-2A4E-48F7-818A-B67C786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3D13-2D6A-4F7E-A448-12C9412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8809-83B9-4298-BA43-83C1F97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49EE4-97BE-4A97-A062-EC6EBE42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0BC8-73FE-4D7B-9BD6-100497FB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A302-5D32-4A80-97E0-07B2DFBA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1D8-D811-44A9-B1E7-D934D40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A955-0F2D-4CDD-99C2-DA92ED4D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D4723-EF6C-43E1-AF28-DC9CBC13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B830-7FBF-4FFD-8E21-76D1E7BD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03B9-7A56-4C3A-981C-55AFC1C0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4520-F9F6-48B8-A2EF-E813070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DEDA-EAFC-49EC-85AC-74C3033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2AEE-CBA3-4E1B-8EA7-7D775C8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D64A-8B88-44BA-BE92-97F316B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0306-BD2C-4080-AD82-D5E1D05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5B97-FC84-421D-8779-8E09FE61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056-5010-4AA5-B462-1CBF5D8A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307D-960F-4EFA-8CF2-6B4B4A66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88D41-DDD1-4895-8FC8-D66D0602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BA81-1279-475A-97BE-0468963E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B9F7A-0FAE-4D5F-A8BF-2C1C10D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3117-54C3-4DB4-A123-9699BA2F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808D-2D42-4268-9BDB-D0BEB838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D01A-E404-4814-9682-834E81D0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A37D-2FE0-40C0-9906-E43E11D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3BFE-C560-47E2-9592-6DB3F84E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E697C-0F11-4381-98D3-AE3A70F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8A1-0ADA-412D-BED4-C4A5094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7EB1C-5401-4C65-B813-581FE90A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7E68-735F-4608-827F-870AB1E7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BCEFB-C171-45BF-9D73-0E53A894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A5765-B07C-4D8F-A7A9-6149F44E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D2CFC-C2F6-4248-90ED-BD473092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9891-7C21-4B96-8725-C60315E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B7AE-70AB-4672-8FEE-4D66AD9F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8B4E6-99C0-4268-8EB5-0D2F3DB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38A6A-32AA-42E7-A717-902697F5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77F2F-2717-4A9C-97DB-EFCFA5E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70D-A7D6-45B8-9954-05E9E04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C8172-6F82-4E08-954A-3951056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796B-8A0B-4AB3-A64B-9C293B2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E1FF-EF55-4D33-832F-5CF1E8C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79403-0EE3-4FD6-B1B0-8B5C26E5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F14E-84E2-4650-9BE2-EBCCEF36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E120-93BF-40BB-BCBA-83F2F71E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AACB-A903-448C-B4B7-EAFCC52D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C00D-3F6E-4ED6-AF81-6BF95F81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5E43-C21D-4842-956E-B51DDC9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2555-C0D3-4ECE-B254-C640507F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60C-CCBA-4AB3-88BD-5BC25B6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17A93-A7D1-4073-B42A-A434888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B2060-BC00-40E2-A24A-91BEEB4D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4246-476E-42A6-8DCF-5240F0DE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DDD0-5E38-4EB8-9BE0-DAB05C83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CAE35-19B9-431E-9CBB-2DA8594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534D-EA01-42B1-90DE-242832FF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9733-B200-42F7-9575-BF4E1EB4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A27D8-0132-4824-8747-46AEDEC2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4A1A4-A503-48DA-9F87-9BDBB250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CA843-5AD2-4A70-B81D-5E5950F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1D148C-AF9C-4FF5-B8B5-776A569AB2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3CAF56-BAB1-45DF-BE12-F14DFAEFE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06F5D3-0447-410D-BC8E-7CC127795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FE613E-53CA-4A11-820D-C07A628E0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CE8089-B4F9-4B0A-85AE-00E3541440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F099DC-C9A8-4705-B935-32C29F889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7EFB95-1F56-43AC-84D4-7194B48C4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C5ED4D-F5A6-4F0A-A68D-C73DDB5DE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E8F1C2-8412-4320-A0EC-FE64E92F85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5C44BA-A599-40BE-A322-CF37C8716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7BB8CC-967D-4853-8B59-E59D86810B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EF2594-C125-4688-BAE6-095E6A9F2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3089A2-2C00-4457-90F5-0F5EA18C5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7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836D8B-583D-4486-B50C-14F056A1F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7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8r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/1019r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7FC729-1B3A-4367-8E95-06CAC48F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July 7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C032A5-978E-4CF0-A602-109CCEBBE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19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1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140E35-C603-40D5-B812-FB9D8EC9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31CA34-93B7-42E7-B4AD-D0C8B13B8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71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642E20-5DAC-4A46-98BC-8771C9E0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PoC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21/1018r1 is pos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allocated 621 out of the remaining 671 open unassigned CIDs to existing PoC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till 50 CIDs without any PoC assig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latest initial PoC assignment and see if any adjustment is needed, 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omments the commenters filled in incorrect subclause nu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exts that may have been contributed by PDT contributions co-authored by members other than the PoCs themselv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Object 1" descr=""/>
          <p:cNvPicPr/>
          <p:nvPr/>
        </p:nvPicPr>
        <p:blipFill>
          <a:blip r:embed="rId1"/>
          <a:stretch/>
        </p:blipFill>
        <p:spPr>
          <a:xfrm>
            <a:off x="7543800" y="2590920"/>
            <a:ext cx="13064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4AB288-FB8F-46CD-B0E9-D48096AFB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volunteer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21/1018r1 is pos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are still assigning comments per members’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one remaining pending requ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latest initial volunteer assignment and see if any adjustment is needed, especially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the commenters filled in incorrect subclaus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without specific subclause nu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F70A12-2ADF-4967-8283-1EED22AE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endly suggestion to comment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ultiple CIDs share a common resolution, please consider tagging only one CID, rather than all relevant CIDs, for the proposed text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if CIDs 9000, 9001, 9002, and 9003 share the same comment resolution,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consider the following: “Instruction to Editor:  Please incorporate the changes as shown in 21/XXXXrY (URL of the submission) under CID 900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her than duplicating the resolution per CID: “Instruction to Editor:  Please incorporate the changes as shown in 21/XXXXrY (URL of the submission) under CID 9000”, “Instruction to Editor:  Please incorporate the changes as shown in 21/XXXXrY (URL of the submission) under CID 9001”, “Instruction to Editor:  Please incorporate the changes as shown in 21/XXXXrY (URL of the submission) under CID 9002”, “Instruction to Editor:  Please incorporate the changes as shown in 21/XXXXrY (URL of the submission) under CID 9003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CA5934-D6D5-402B-B856-118CC9CC0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and volunteer assignments ar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04766E-DED8-4139-9897-F1F4EA93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ignment with baselin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line (Draft 802.11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x-2021, IEEE 802.11ay-2021, and IEEE 802.11ba-2021 are expected to be rolled in to the baseline in the next couple of month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will align the contents of the draft with the baseline in late 2021/early 202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az (Draft 802.11az-2023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az is expected to begin its initial SA ballot in March 2022 and submit the proposed standard to IEEE SA RevCom in September 202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be Editor plans to align the contents of the draft with the Tgaz draft in late 2022/early 202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7-07T13:51:12Z</dcterms:modified>
  <cp:revision>8979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