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C350A2-D844-4768-A756-9AA4B2D092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28AA6C-4C7C-4F0A-BA39-D28CAEEED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754A7F-1E43-4734-96F3-C2CF6A494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121E44-4154-406A-9D05-66F01AA4E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6003A2-8DF2-400A-94DD-4A202F75E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DD611EA-AD0A-4A2A-9186-4722B4E7C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7EE608-9259-46FA-82E3-7EF9D5462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374A1E-7CF7-43B9-A0B1-81A4A9E82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289C44-74A1-40FE-A717-41C7F352A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C809CB-CD42-4E88-BBC4-F3DFE7DE9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96A922-25FE-44AD-8149-B668CA3E0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BC06F2-C5D9-46DA-AF73-22E9C541E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B36-54C4-44C8-B46D-A7A2DE61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7AB-70E4-4078-91CC-B2524EE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340E3-86D7-4E1E-B9D9-CB2E51AB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3A8F2-1B0F-4805-ADD8-CAC9F139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7A3AF-09AE-42F1-BDE1-3D25FF81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1F85C-CCA8-4CCA-A04E-C2B2A23D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5FD2F-1AE0-413D-8DD5-0C3C132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47357-23D8-4209-BBB5-2808F0E2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7B446-CE21-42BD-B586-D61F1909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4A486-B3FD-4A40-BBFF-F38AC0F9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99844-8C4E-43CD-841E-2B7E4C61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C84A4-D741-4A68-B185-861BC35E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4FC-0DF1-4D81-934B-C3C76F30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945E8-AAC6-4A7F-A471-F7E1BFE3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4FFA9-98F5-41E9-873D-C3EE08DA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DEFA6-C53E-49E3-AA31-DD7D2D9F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FD317-F04E-48B5-9A4B-94906DFE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87626-50B3-4330-9307-6906D2B2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1DAD8-A0ED-4248-9F85-C8AFFCBA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EB8D3-4302-443A-8E37-D0C33415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A3CB6-A02C-438F-B389-578A0D7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CE20F-4615-4420-8545-D2275BE1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378EB-0D73-42D7-9919-7ECCE941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D76-370D-4F30-9446-6DFAB187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B29E7-D692-4191-B077-77E1C13B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C2566-5D39-4347-9AA9-68E7EBA9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49981-3F39-4AE7-849F-83502771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BD698-EA87-4B5D-89EE-2CFCF76D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9CE16-6F2B-4A61-B839-2B37E892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B6831-E98A-4118-834B-526D19BA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BC50D-3075-4B12-83DB-60BDF78C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53472-E41D-4339-BDD2-4E9312D7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7D96D-0B44-4044-9C48-CB1939F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EFE19-5AFF-41AD-BAB4-09B992C4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3EB2-BFD5-47AC-8918-30F2DE03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9B55C-FA6A-4604-8059-9D968006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D1934-FBA8-447D-B3BB-A8C9EEC5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74666-2412-453A-ACAE-6C4EBC3E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FBFC5-39CF-4BC7-AD05-02F6F6E3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20984-83E1-4CDE-BFE4-C0B11798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ABCB6-B331-45C4-A611-2D0E54C8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36037-E63A-46AD-9AB4-7752784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00A2C-C786-40CA-9C55-A7EE5570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2CD5D-F34D-466E-BC72-82D703DE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5D468-76B1-4CF9-8A18-2F0D58AE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4920-6A6F-4BCB-A19F-28423EE8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1D3FA-48CD-4C33-A75A-9C55D1AA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486D9-33BF-4F1D-BB9B-8A5DFE27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E6CD7-B1EF-42AE-B403-CAC21E2D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E5DF0-46D6-4261-9548-EA28CBCE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5625E-9EAE-4F1B-9A64-CB05F46B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AE25-DDBB-4705-9171-66A00585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EDF0-B64E-4B12-AE91-45FD86A9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A3DC-65D1-499F-AD9E-0E31BF90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34D8-ECB5-4BCA-AB8F-B90796A2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DA62-0802-4733-9C0D-D2ACB801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3C7-6D22-4B10-864D-BB2EBF1B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558E-52BF-428B-B6A6-AF929FB7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F353-DA27-4E91-94EE-F977B8B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A86A-5FCD-4BD8-A5CE-94CF06BE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93D1-770C-4DAA-9FB9-49EC9C0D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F65E-A04F-4207-AA2F-97411B78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F2D4-E742-4535-AEA5-38F091D3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F201-65C6-445A-A2A8-C4B71788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50B7-E2D5-4046-B77B-D9913640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62B4-CD15-4644-9A73-7A6DCED2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EA5B-5699-4D59-BD12-4709D404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E8F-DAED-44BE-8657-C40882E5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85B9-C6E8-41AE-9255-6ED5FEA4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5EBA-1C58-4FAF-93CE-2B2C90DB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EEE3-9323-45EC-8160-BD231A6F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115A3-BBF5-4086-A6FD-8618995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B2EA-6A54-43B7-B62E-E755EEB3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E5B3-FEA8-4813-A8CF-A30FB288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C1420-DA67-45E0-8A5E-FAAD46B7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2879-1857-4D90-A580-F15A5936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9792D-8950-4021-B28A-55C1FF7A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F56EA-4A4B-425A-8642-6C0CCB51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AF4-9151-4699-8534-B7C5B846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087A-FFA4-4407-BFDE-279ABCFC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83C3-5915-4444-9B61-368D228E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B7040-3D00-4E02-855E-E373B5DD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3D5C7-A706-4786-AC85-2CC4F79F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ACB0-B855-42B8-92B5-919DC06A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A56B-849F-49DA-87C0-BEADCEE3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862B0-C966-4E5B-8BA7-09550FE8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E5360-DBAE-4DB7-B839-359EB6C0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E749-4385-43F4-972C-30D641BC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96F39-CECD-4DE3-B4EA-8C3F3493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28B-C662-4CF1-B4EC-F51497CC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AA5DC-090F-46FB-B3DC-CB0DB0B9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8EFD-D2B5-4682-8572-5077E37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D014-D809-4765-A1F2-9BB0D693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31F3-4B1E-458A-9D26-8A92A890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CDDCA-430A-4B02-8831-EC35B586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62D1C-472C-48F6-A9D7-12929A6F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8A056-748C-42A9-BFD6-CCBCDF15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1C05F-0400-4BF6-AB94-62D769C3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3ECC1-5D0E-46C2-8513-76C6E027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230BA-B22C-4B50-B204-C207F080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943-784B-480E-9728-8B93D912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2A261-8D27-4923-BAF4-9BDC3D54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1BA9B-E217-4966-B55D-D8BA3A94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2F687-8B9B-4F6B-A001-7EE1131D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19241-3A5C-4B25-B37E-B72A2F10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ED7F4-8FB4-4FA2-AE67-4A89ED0F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6A1BC-9978-499F-A325-D3351CC9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5C8E8-487F-4028-8112-AECD98FE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B6346-1FC3-428C-9CBF-E0A46570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389AF-9579-4B4D-AA9D-73A7D634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102CB-975C-4EC7-9490-6077CD17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D55-013D-42B6-951D-AD379E92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4A82-7BDC-4B06-9909-D818DD33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C33FA-DC83-482F-ABB8-EF023389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206E1-CB1B-4678-B351-265496B6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19455-44F6-4CA5-809B-4C961D58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48120-9ACD-49C5-866F-4C086F3A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67FA8-7011-4E25-AA92-272C078E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A2A4C-FE8F-48D8-9D2F-40061BC5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1E9E-BD6A-4301-A7EA-39113256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F43DC-2608-495F-BC21-AA63EC0D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82EF8-D601-41A3-80A4-7FDD951A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639-9EA1-4B16-BE49-EF324E47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DF75E-74A4-43CD-B870-BF53C94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DD7E1-0875-43D9-81A2-65134B7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00667-BF48-4A18-A767-E6941BF6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F18EE-B31A-4AD1-94BF-8C914F63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3CA24-B316-4EEB-9D01-5F167CCE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F1157-8ECB-497B-B62E-D2220AB3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2EF72-98D6-4914-9D96-189A559D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6D62E-C890-4BF4-927E-D1AD7A40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57486-BD85-4594-8D12-9A9E8D8F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DA373-5378-4975-8FDE-C21DFC5C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79E-CDE8-4B50-AFEE-239ABFB9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84553-1EF8-4BAA-B555-697E693C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35C49-FD54-4397-88BB-F46A4A1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2565C-5D6E-4452-AA30-337238F9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A1ECB-2F99-4A72-A98A-9FEC151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5D31E-3989-4B09-A570-68EFA592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1C26C-6533-4D6B-9FEE-7CFA17AD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95C69-C545-4DFB-B82A-F88EDA07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798FA-B5AE-4C3D-9660-972FE1A6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2F9AD-71A8-4777-BE4D-8676CAF7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EA980-65E0-4C57-B64F-858C6B3B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9197CCE-A5DB-42C8-AAB5-61B11D2451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47CBAE-7265-408B-A6A4-7A58F4FFB4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5081E5-A5E9-4360-9C04-C68D13B128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185039-D04E-4D91-BC67-9805E20232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970E4A-1B4A-4548-9FC2-06CF9636C6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FCC934-E713-4D96-BF3E-51A45B3E8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A4937EF-4F46-4F9C-89A4-A3C869381D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C3932F-3791-4E0D-A3FC-1284F89D73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D1A3D5-D1D8-4625-94DC-AF4B7FA748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FE8A92-F663-4132-9710-AD2203B4E6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73FB19-C2CA-4266-B8E9-DE82D4EDB1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B2C91E-5CAE-4F8B-B324-E9990A0FA1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07E710-7F4A-4772-A367-9A93AB374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7-0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A4603E5-E883-4D09-9158-8FB6FB673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ly 7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8r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9r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A17A55-8285-49F8-BDC6-BFA6F0FA0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ly 7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448E8B-80EE-40C8-BED8-570F40DD3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19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1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7AABD8-0713-496B-8C57-F703F9F4F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6D04C2-218D-4247-BDD4-C14686027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71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86BE0A-0A53-4B87-9626-1AE9941CD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PoC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21/1018r1 is pos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allocated 621 out of the remaining 671 open unassigned CIDs to existing PoC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still 50 CIDs without any PoC assign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latest initial PoC assignment and see if any adjustment is needed, especi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omments the commenters filled in incorrect subclause nu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exts that may have been contributed by PDT contributions co-authored by members other than the PoCs themselves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Object 1" descr=""/>
          <p:cNvPicPr/>
          <p:nvPr/>
        </p:nvPicPr>
        <p:blipFill>
          <a:blip r:embed="rId1"/>
          <a:stretch/>
        </p:blipFill>
        <p:spPr>
          <a:xfrm>
            <a:off x="7543800" y="2590920"/>
            <a:ext cx="13064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C4323A-94AA-4C7A-AB31-C7137B8BF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volunteer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21/1018r1 is pos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are still assigning comments per members’ reque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one remaining pending requ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latest initial volunteer assignment and see if any adjustment is needed, especially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the commenters filled in incorrect subclaus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without specific subclause numb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5A5B71-F1DE-4EC9-9424-0FE952715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iendly suggestion to comment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multiple CIDs share a common resolution, please consider tagging only one CID, rather than all relevant CIDs, for the proposed text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if CIDs 9000, 9001, 9002, and 9003 share the same comment resolution,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consider the following: “Instruction to Editor:  Please incorporate the changes as shown in 21/XXXXrY (URL of the submission) under CID 9000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her than duplicating the resolution per CID: “Instruction to Editor:  Please incorporate the changes as shown in 21/XXXXrY (URL of the submission) under CID 9000”, “Instruction to Editor:  Please incorporate the changes as shown in 21/XXXXrY (URL of the submission) under CID 9001”, “Instruction to Editor:  Please incorporate the changes as shown in 21/XXXXrY (URL of the submission) under CID 9002”, “Instruction to Editor:  Please incorporate the changes as shown in 21/XXXXrY (URL of the submission) under CID 9003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196D5E4-3CBA-4432-92F5-07C77AFA9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 and volunteer assignments are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09A462-262F-4C66-8AE6-2D087A0B2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ignment with baselin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line (Draft 802.11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x-2021, IEEE 802.11ay-2021, and IEEE 802.11ba-2021 are expected to be rolled in to the baseline in the next couple of month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will align the contents of the draft with the baseline in late 2021/early 202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az (Draft 802.11az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az is expected to begin its initial SA ballot in March 2022 and submit the proposed standard to IEEE SA RevCom in September 2023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plans to align the contents of the draft with the Tgaz draft in late 2022/early 202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7-07T13:51:12Z</dcterms:modified>
  <cp:revision>8979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