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610C7C9E-77D0-489A-A633-F39577044E0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B671DCB-30CD-4661-AE0E-AB9778EF8E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54160" y="701640"/>
            <a:ext cx="4626000" cy="3468600"/>
          </a:xfrm>
          <a:prstGeom prst="rect">
            <a:avLst/>
          </a:prstGeom>
          <a:ln w="0">
            <a:noFill/>
          </a:ln>
        </p:spPr>
      </p:sp>
      <p:sp>
        <p:nvSpPr>
          <p:cNvPr id="6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711"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712"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71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A303DEC-A7E2-4450-9737-F40008253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54160" y="701640"/>
            <a:ext cx="4626000" cy="3468600"/>
          </a:xfrm>
          <a:prstGeom prst="rect">
            <a:avLst/>
          </a:prstGeom>
          <a:ln w="0">
            <a:noFill/>
          </a:ln>
        </p:spPr>
      </p:sp>
      <p:sp>
        <p:nvSpPr>
          <p:cNvPr id="715"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1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86045A5-F1FC-4C28-B69D-528CA8EC9F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54160" y="701640"/>
            <a:ext cx="4626000" cy="3468600"/>
          </a:xfrm>
          <a:prstGeom prst="rect">
            <a:avLst/>
          </a:prstGeom>
          <a:ln w="0">
            <a:noFill/>
          </a:ln>
        </p:spPr>
      </p:sp>
      <p:sp>
        <p:nvSpPr>
          <p:cNvPr id="72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2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7FEA899-7FD7-4E32-9CFD-75D9CE4AD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72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728"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72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AB54012-E0ED-41F9-A46C-3B3FF2D69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54160" y="701640"/>
            <a:ext cx="4626000" cy="3468600"/>
          </a:xfrm>
          <a:prstGeom prst="rect">
            <a:avLst/>
          </a:prstGeom>
          <a:ln w="0">
            <a:noFill/>
          </a:ln>
        </p:spPr>
      </p:sp>
      <p:sp>
        <p:nvSpPr>
          <p:cNvPr id="7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54160" y="701640"/>
            <a:ext cx="4626000" cy="3468600"/>
          </a:xfrm>
          <a:prstGeom prst="rect">
            <a:avLst/>
          </a:prstGeom>
          <a:ln w="0">
            <a:noFill/>
          </a:ln>
        </p:spPr>
      </p:sp>
      <p:sp>
        <p:nvSpPr>
          <p:cNvPr id="73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CC9C42E-848B-4D17-936E-CA1B33564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54160" y="701640"/>
            <a:ext cx="4626000" cy="3468600"/>
          </a:xfrm>
          <a:prstGeom prst="rect">
            <a:avLst/>
          </a:prstGeom>
          <a:ln w="0">
            <a:noFill/>
          </a:ln>
        </p:spPr>
      </p:sp>
      <p:sp>
        <p:nvSpPr>
          <p:cNvPr id="73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A3282C5-4E5A-46DC-82E9-027DE7F50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54160" y="701640"/>
            <a:ext cx="4626000" cy="3468600"/>
          </a:xfrm>
          <a:prstGeom prst="rect">
            <a:avLst/>
          </a:prstGeom>
          <a:ln w="0">
            <a:noFill/>
          </a:ln>
        </p:spPr>
      </p:sp>
      <p:sp>
        <p:nvSpPr>
          <p:cNvPr id="7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3E321E-7912-4EE5-856F-4F3BC6ECB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54160" y="701640"/>
            <a:ext cx="4626000" cy="3468600"/>
          </a:xfrm>
          <a:prstGeom prst="rect">
            <a:avLst/>
          </a:prstGeom>
          <a:ln w="0">
            <a:noFill/>
          </a:ln>
        </p:spPr>
      </p:sp>
      <p:sp>
        <p:nvSpPr>
          <p:cNvPr id="7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F53A4AB-75C2-4F8D-9C48-6C9BCEBB4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54160" y="701640"/>
            <a:ext cx="4626000" cy="3468600"/>
          </a:xfrm>
          <a:prstGeom prst="rect">
            <a:avLst/>
          </a:prstGeom>
          <a:ln w="0">
            <a:noFill/>
          </a:ln>
        </p:spPr>
      </p:sp>
      <p:sp>
        <p:nvSpPr>
          <p:cNvPr id="7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7D4BE4C-779F-4DE3-83A2-748AD491E0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54160" y="701640"/>
            <a:ext cx="4626000" cy="3468600"/>
          </a:xfrm>
          <a:prstGeom prst="rect">
            <a:avLst/>
          </a:prstGeom>
          <a:ln w="0">
            <a:noFill/>
          </a:ln>
        </p:spPr>
      </p:sp>
      <p:sp>
        <p:nvSpPr>
          <p:cNvPr id="7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BE8C77C-6F3F-49C8-A3FF-BEBED3FA6B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54160" y="701640"/>
            <a:ext cx="4626000" cy="3468600"/>
          </a:xfrm>
          <a:prstGeom prst="rect">
            <a:avLst/>
          </a:prstGeom>
          <a:ln w="0">
            <a:noFill/>
          </a:ln>
        </p:spPr>
      </p:sp>
      <p:sp>
        <p:nvSpPr>
          <p:cNvPr id="7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D32AFB2-E61B-4BD8-A911-6060639D16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54160" y="701640"/>
            <a:ext cx="4626000" cy="3468600"/>
          </a:xfrm>
          <a:prstGeom prst="rect">
            <a:avLst/>
          </a:prstGeom>
          <a:ln w="0">
            <a:noFill/>
          </a:ln>
        </p:spPr>
      </p:sp>
      <p:sp>
        <p:nvSpPr>
          <p:cNvPr id="6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3DE1124-AD11-4F18-85E5-408AB81AD1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54160" y="701640"/>
            <a:ext cx="4626000" cy="3468600"/>
          </a:xfrm>
          <a:prstGeom prst="rect">
            <a:avLst/>
          </a:prstGeom>
          <a:ln w="0">
            <a:noFill/>
          </a:ln>
        </p:spPr>
      </p:sp>
      <p:sp>
        <p:nvSpPr>
          <p:cNvPr id="7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1B4C92-AD7D-4908-B6B4-E1BA9B009D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54160" y="701640"/>
            <a:ext cx="4626000" cy="3468600"/>
          </a:xfrm>
          <a:prstGeom prst="rect">
            <a:avLst/>
          </a:prstGeom>
          <a:ln w="0">
            <a:noFill/>
          </a:ln>
        </p:spPr>
      </p:sp>
      <p:sp>
        <p:nvSpPr>
          <p:cNvPr id="7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272FCEF-5071-4267-9AA5-05C3509A12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4DB0BC5-C827-4664-837A-DF2222EAC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54160" y="701640"/>
            <a:ext cx="4626000" cy="3468600"/>
          </a:xfrm>
          <a:prstGeom prst="rect">
            <a:avLst/>
          </a:prstGeom>
          <a:ln w="0">
            <a:noFill/>
          </a:ln>
        </p:spPr>
      </p:sp>
      <p:sp>
        <p:nvSpPr>
          <p:cNvPr id="6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2"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8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A801F84F-2007-46E4-BB88-544692C98E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7680" y="696960"/>
            <a:ext cx="4640400" cy="3479760"/>
          </a:xfrm>
          <a:prstGeom prst="rect">
            <a:avLst/>
          </a:prstGeom>
          <a:ln w="0">
            <a:noFill/>
          </a:ln>
        </p:spPr>
      </p:sp>
      <p:sp>
        <p:nvSpPr>
          <p:cNvPr id="68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8"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8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C8B03E6-72F9-418B-989B-3CA1B72E32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7680" y="696960"/>
            <a:ext cx="4640400" cy="3479760"/>
          </a:xfrm>
          <a:prstGeom prst="rect">
            <a:avLst/>
          </a:prstGeom>
          <a:ln w="0">
            <a:noFill/>
          </a:ln>
        </p:spPr>
      </p:sp>
      <p:sp>
        <p:nvSpPr>
          <p:cNvPr id="691"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03531AC-AC7F-4462-ADB3-67B360DCA8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PlaceHolder 1"/>
          <p:cNvSpPr>
            <a:spLocks noGrp="1"/>
          </p:cNvSpPr>
          <p:nvPr>
            <p:ph type="sldImg"/>
          </p:nvPr>
        </p:nvSpPr>
        <p:spPr>
          <a:xfrm>
            <a:off x="1154160" y="701640"/>
            <a:ext cx="4626000" cy="3468600"/>
          </a:xfrm>
          <a:prstGeom prst="rect">
            <a:avLst/>
          </a:prstGeom>
          <a:ln w="0">
            <a:noFill/>
          </a:ln>
        </p:spPr>
      </p:sp>
      <p:sp>
        <p:nvSpPr>
          <p:cNvPr id="6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D604CE0-E41D-4457-AE8E-388FED5B6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54160" y="701640"/>
            <a:ext cx="4626000" cy="3468600"/>
          </a:xfrm>
          <a:prstGeom prst="rect">
            <a:avLst/>
          </a:prstGeom>
          <a:ln w="0">
            <a:noFill/>
          </a:ln>
        </p:spPr>
      </p:sp>
      <p:sp>
        <p:nvSpPr>
          <p:cNvPr id="6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99"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700"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70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6CBF357-2EF4-43C5-A21D-F70E2CFD3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54160" y="701640"/>
            <a:ext cx="4626000" cy="3468600"/>
          </a:xfrm>
          <a:prstGeom prst="rect">
            <a:avLst/>
          </a:prstGeom>
          <a:ln w="0">
            <a:noFill/>
          </a:ln>
        </p:spPr>
      </p:sp>
      <p:sp>
        <p:nvSpPr>
          <p:cNvPr id="703"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705"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706"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70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0E46839-8B28-41E8-99B6-0FEE0CB44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54160" y="701640"/>
            <a:ext cx="4626000" cy="3468600"/>
          </a:xfrm>
          <a:prstGeom prst="rect">
            <a:avLst/>
          </a:prstGeom>
          <a:ln w="0">
            <a:noFill/>
          </a:ln>
        </p:spPr>
      </p:sp>
      <p:sp>
        <p:nvSpPr>
          <p:cNvPr id="709"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1B342-4E34-475E-A59C-8BC35CB85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66347-2200-40AA-8FE3-858FD582C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FBC44A-659B-4164-A76E-40C11184F1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280B41-64E2-4413-AF4E-8EA5090043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8012047-0DCC-4D57-AC2E-71F22AB890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993D58-A5A7-4B2C-AB8F-110D1009C9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22E8D7-E758-47EC-B669-61BF5966B8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2A8DD1-C3BB-4EB0-8FA9-F970ADABA9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119DC2-72B7-44AE-9179-484C331047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222418F-7F40-4BD2-B0DD-497D4055BF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4BEE47-707B-476D-BF30-8840DB074C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ADCF99D-524E-49B3-8C47-AE49DC2CB09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EB1BDE-F1E5-4BF2-9E91-908C27BFC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29C2A9-9F9A-4D0B-9DA7-228471A48E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1F9500F-5643-41D6-B6C9-CEB647A9FC4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ABE367-0831-4DCA-B8E9-8A31D53A47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4D6721-D1A8-4972-9F02-C5BCD15A42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378760-979D-4FC6-B0F9-EE4A600CA0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03405A-E2D8-4955-8FF3-BA10876ECD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BAE222C-2A32-403C-A6A9-723A9B82BFF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008DDC-7761-4FDC-BA8D-159C95EB53D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6B0016-B9DB-41CE-99F4-FDFD69230B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0652567-581E-4CF5-8632-6F6F67F20E7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578B8-565F-44CD-9403-DE0506D5EF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44ED044-E542-4117-A6A0-8B071B3F2FA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5ABF35F-4438-4B47-93B6-0C357007423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B4FE50-DDF6-4952-A6D2-779D14D06BA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240F7E-ECFF-42CF-AD47-B532DB4F4D1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0F44C4F-6A90-4290-B577-8EE6382115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3F6D05-FFAF-4E50-A2AB-734B93F95A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528642F-F33C-4898-BB8C-F41CBB81D19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C9F803-B5B1-465B-A1DC-033D5FF3CA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C55853-EF42-48DE-BE56-E23EEA80CEA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5461C0-1991-4FCD-A94E-7747C370B5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19A89B-335E-4870-BDEE-0E11E3DF00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41B281C-A9B3-4756-BA06-48FB228290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E24E40B-0CA0-454A-BC05-50EC63C40A0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F61EF3C-9FF4-418F-8A33-8E101FEFE67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92F9418-92CA-412F-BDC0-5DBE3A8D0F1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4BD48F7-041B-4D9B-AE50-850AA76E628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706E14B-7C3A-4564-93F0-C837A968D6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D284F98-9C2E-413F-82E5-8EA3A64C6C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E4A964-D1E0-4204-A484-D93668E9661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BE56A8-FF1D-470B-B421-9531CE49FC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BE44CA4-44FF-434C-98CF-4B9269E238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1FFB1-0563-49ED-AB96-671303D74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CAACA0-4408-4744-833C-DFA2005394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3A468C-1B10-4976-9D55-9FD9D2912F6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09F308B-2D42-4501-915A-EF602336CFE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E27F186-64EA-4C02-A3E3-116F631C209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280C804-0ADB-439E-B3F3-AA34C36B5C5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D4496-826C-4D21-B6DC-192356C79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3DDD58-02C8-47F3-ADF6-0DDD8F0A6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25D89-5382-4E39-BD31-DFDE719F37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57A5E-7134-4C43-AF3A-52AD6BBCA2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AFA5B-44CE-4241-B734-08A77EA71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460BD-A66F-497F-AAB5-A42F809B1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DA64C-1AB1-4DCD-9148-63A33532E0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B71BC-E94E-4F7D-8B1C-6E808FE2A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D463E-8DBC-4C0B-95B4-17E715C3D5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53BDBE-6C0B-496E-9D56-F781E68F02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9E194C-66F1-4E41-8D13-F8E6E3F98C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DEB97B-21BE-4674-9002-026DC26A28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C86A13-1E50-4E3A-8773-BE494AD51B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AE11E3-A7B9-4E1C-8330-7C2F38D5C2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36B5A1-82BE-4E3A-BE2C-71E9F494AC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8043C4-2757-4D37-9781-FCC7FB6E8E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34D7E-68AF-4391-9A35-BAF63AC4C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9DE1D9-6013-43BD-80BB-080A88B1FA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19D4DA-E6AF-4AD4-B4C7-81B76F9C04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0A1D1D-7808-4727-A98B-4DA552C95B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FB0B5C-4B6A-4312-9B83-11D76F2F68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7BD269-EFBA-43CE-8683-36ADF5F4CE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46FE41-BA03-4154-83BE-8A6703E237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6EDE9B-3DE8-41F8-A891-537F82CD29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B1EF4E-9048-44FE-BE21-110E477613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56B90B-99AB-4ED0-AF8B-3D4884FC2A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10D09F-44D6-4B51-A097-3A0CEF253B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81724-2242-4E0A-B996-0A19CAF82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36FE07-10A4-4812-AB64-0596D875D9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661D47-CA91-4B8C-B596-FF689DBFDE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938F4F-B13B-465B-B689-A6458A3524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05EB28-1761-42EC-A9F7-D97F42972E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BBA773-2886-4D30-8736-5CE5A6F862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FE5F4B-2319-463B-9F3B-E30F7377FC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F35EDA-0440-4729-829D-F4BC37D644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645D62-F54D-400E-8005-A1D550A7F8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8F7799-6E8B-4CB5-BB61-A65621C1E3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B89519-7B73-4648-B4BA-B553AF687A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9C5BA-5611-42B3-935C-EC432DC0D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26A6EF-B0EA-45F7-A937-7F2CCDE3E6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AD48EB-A43D-482E-955B-49A860C23E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8DF4FE-BF11-4EF2-B987-7678CCCD7C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303F08-0AEB-4510-8839-D4E0C30426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639B95-8F39-4FF7-A35F-2810E8A000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E3E799-A798-4290-B896-2BAF74BE64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48A783-5A3D-4655-9C5C-A6838F4CC9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43FF48-9AAF-45C6-8025-2C236B2FAC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EE6D51-664A-4B27-8B41-5F65D4F2CC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44FF5F-B2E6-4389-86D9-21E8FA5DC8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1A01B-E703-468B-9452-D557938AE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F8F802-6F2E-4AA9-B678-5E84116F3B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D009E8-BB0A-43BA-BF56-E8C1D964A6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475A8F-4EC1-4970-AA2D-F1127BAEB0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7421AA-C44E-44AD-8004-E83AB1771A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25C0A7-E5CC-4178-969A-C94679825E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E3F29B-2C43-45F7-A8F6-65CAEAC71A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D0EF7A-BEF8-4959-8D59-8262507469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40CBA1-0763-4DCA-8F0D-B84F58CB2A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845DE9-9C14-46BA-B1FA-40AC382F88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58AD12-A84C-45C0-9C4B-431C17A77B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75D761-55C5-47EB-BADA-21220BDFB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7A35CD-C68D-4013-9E64-742D4F8DF3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457981-1C3D-4731-88DB-971CFBABA9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2A1595-7851-40D7-A2D0-3B0F46A926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2D3F71-68ED-40EB-95E0-4DA182F29F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D797B2-7623-492B-AAFA-972C0E8A9C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7BB33A-DADF-4DAF-8C48-61D4AB3CD4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C4773F-4842-4EB7-8619-6AB9174364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EAC617-D5E7-48A3-A66F-8DF347C123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A621BD-7A1C-4EE7-BF66-6CF33D8367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CABA61-4A9B-4420-8B6C-208D2545CB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C85B0-CBC1-4A2B-B096-6129F1519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095EF5-5E8B-427D-8F24-7E89C71B7D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00A94D-D40A-42CD-9BFB-308F59D704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5F726A-E928-487B-B1D2-4284C7BA55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2E0B0E-62BF-4A6C-A4C4-ECD4C46991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9783669-FA2E-46BB-88D4-9858B16096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479BC4-EA09-40C0-A14C-38C20F9711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1A9369-D743-4631-B498-14C8A3E1F9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C62DD7-3475-4397-9118-32D9FE2697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C4FF12-46CA-4F89-949B-6C4D3B477D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6A9187-33D6-462C-B605-29404C891C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891EF-DA98-4396-AEE1-EB35DD6EA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4D6FB6-374E-4CA4-927F-F30DDB0A8E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EA7537-627C-4DC4-974B-D4D004158E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B4C2F9-E9B3-46F9-B008-0EF2791C60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149F75-EC4A-4BC8-9DE2-583B6FB2E2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2EB73F-61C4-427F-A1F7-123D70ACB1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347A48-4813-4DA2-9AB3-E25CCDD5AB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8F53C2-F818-4F12-A2EE-BF7CD6B1E6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2BB3FD-70FB-4649-BFEA-1FAE5585F9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4452C8-198F-4406-B3D9-9E81376A67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6598BE-768B-4ECA-AB96-63BA9E23E44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2EBF459-12E2-46B2-A2ED-2C52A60CC91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99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99r1</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4E5717A-3335-4984-9547-2DEDC6FDE8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99r1</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090BE9F-B81A-4B4E-A202-424A00EAAFA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99r1</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ABDBB51-A39B-4C8E-881A-3A4035324AE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99r1</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EC1FB2D-5541-41C5-96E0-84C08034BEC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99r1</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CFF6456-9870-4A6C-B9FE-DE0643487DA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99r1</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1C0195F-6ACA-4FC0-803B-F0042904545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99r1</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DF5C735-3B58-4DAC-9FED-693685028C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99r1</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F589E03-D82B-4284-922C-391631575A5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99r1</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B34464B-1AE8-49C2-9423-3020BD7DD2D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99r1</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8809C12-D6C3-43F6-8249-9F65F10A779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99r1</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E799C29-18CF-48F4-B9FA-601C4DC3C59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standards.ieee.org/develop/policies/bylaws/sect6-7.html#loa" TargetMode="External"/><Relationship Id="rId5" Type="http://schemas.openxmlformats.org/officeDocument/2006/relationships/hyperlink" Target="https://development.standards.ieee.org/myproject/Public//mytools/mob/loa.pdf" TargetMode="External"/><Relationship Id="rId6" Type="http://schemas.openxmlformats.org/officeDocument/2006/relationships/hyperlink" Target="http://standards.ieee.org/board/pat/faq.pdf" TargetMode="External"/><Relationship Id="rId7" Type="http://schemas.openxmlformats.org/officeDocument/2006/relationships/hyperlink" Target="http://standards.ieee.org/board/pat/pat-slideset.ppt" TargetMode="External"/><Relationship Id="rId8" Type="http://schemas.openxmlformats.org/officeDocument/2006/relationships/slideLayout" Target="../slideLayouts/slideLayout25.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mentor.ieee.org/802.11/dcn/20/11-20-1844-00-00ay-task-group-ay-november-11-2020-teleconference-minutes.docx" TargetMode="External"/><Relationship Id="rId2" Type="http://schemas.openxmlformats.org/officeDocument/2006/relationships/hyperlink" Target="https://mentor.ieee.org/802.11/dcn/20/11-20-1844-00-00ay-task-group-ay-november-11-2020-teleconference-minutes.docx" TargetMode="External"/><Relationship Id="rId3" Type="http://schemas.openxmlformats.org/officeDocument/2006/relationships/hyperlink" Target="https://mentor.ieee.org/802.11/dcn/20/11-20-1864-00-00ay-task-group-ay-november-16-2020-teleconference-minutes.docx" TargetMode="External"/><Relationship Id="rId4" Type="http://schemas.openxmlformats.org/officeDocument/2006/relationships/hyperlink" Target="https://mentor.ieee.org/802.11/dcn/20/11-20-1877-00-00ay-task-group-ay-november-18-2020-teleconference-minutes.docx" TargetMode="External"/><Relationship Id="rId5" Type="http://schemas.openxmlformats.org/officeDocument/2006/relationships/slideLayout" Target="../slideLayouts/slideLayout25.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www.ieee.org/content/dam/ieee-org/ieee/web/org/about/ieee_code_of_conduct.pdf" TargetMode="External"/><Relationship Id="rId3" Type="http://schemas.openxmlformats.org/officeDocument/2006/relationships/hyperlink" Target="http://www.ieee.org/about/corporate/governance"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79772E-4C1A-4738-906F-306FB40A0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380880" y="8380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a:t>
            </a:r>
            <a:br>
              <a:rPr sz="3200"/>
            </a:br>
            <a:r>
              <a:rPr b="1" lang="en-US" sz="3200" spc="-1" strike="noStrike">
                <a:solidFill>
                  <a:srgbClr val="000000"/>
                </a:solidFill>
                <a:latin typeface="Times New Roman"/>
              </a:rPr>
              <a:t>December 2020 Meeting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20574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20-12-21</a:t>
            </a:r>
            <a:endParaRPr b="1" lang="en-US" sz="2000" spc="-1" strike="noStrike">
              <a:solidFill>
                <a:srgbClr val="000000"/>
              </a:solidFill>
              <a:latin typeface="Times New Roman"/>
            </a:endParaRPr>
          </a:p>
        </p:txBody>
      </p:sp>
      <p:graphicFrame>
        <p:nvGraphicFramePr>
          <p:cNvPr id="555" name="Object 11"/>
          <p:cNvGraphicFramePr/>
          <p:nvPr/>
        </p:nvGraphicFramePr>
        <p:xfrm>
          <a:off x="669960" y="304956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3049560"/>
                    <a:ext cx="7804080" cy="1000080"/>
                  </a:xfrm>
                  <a:prstGeom prst="rect">
                    <a:avLst/>
                  </a:prstGeom>
                  <a:ln w="0">
                    <a:noFill/>
                  </a:ln>
                </p:spPr>
              </p:pic>
            </p:oleObj>
          </a:graphicData>
        </a:graphic>
      </p:graphicFrame>
      <p:sp>
        <p:nvSpPr>
          <p:cNvPr id="557" name="Rectangle 12"/>
          <p:cNvSpPr/>
          <p:nvPr/>
        </p:nvSpPr>
        <p:spPr>
          <a:xfrm>
            <a:off x="685800" y="251460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F79A078-B7BA-4AA9-B097-4B1F50C5D6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clause 5.2.1.3) specifies that “</a:t>
            </a:r>
            <a:r>
              <a:rPr b="1" i="1" lang="en-US" sz="1800" spc="-1" strike="noStrike">
                <a:solidFill>
                  <a:srgbClr val="000000"/>
                </a:solidFill>
                <a:latin typeface="Times New Roman"/>
              </a:rPr>
              <a:t>the standards development process shall not be dominated by any single interest category, individual, or organization</a:t>
            </a:r>
            <a:r>
              <a:rPr b="1" lang="en-US" sz="1800" spc="-1" strike="noStrike">
                <a:solidFill>
                  <a:srgbClr val="000000"/>
                </a:solidFill>
                <a:latin typeface="Times New Roman"/>
              </a:rPr>
              <a:t>”</a:t>
            </a:r>
            <a:endParaRPr b="1"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eans no participant may exercise “</a:t>
            </a:r>
            <a:r>
              <a:rPr b="0" i="1" lang="en-US" sz="1800" spc="-1" strike="noStrike">
                <a:solidFill>
                  <a:srgbClr val="000000"/>
                </a:solidFill>
                <a:latin typeface="Times New Roman"/>
              </a:rPr>
              <a:t>authority, leadership, or influence by reason of superior leverage, strength, or representation to the exclusion of fair and equitable consideration of other viewpoints</a:t>
            </a:r>
            <a:r>
              <a:rPr b="0" lang="en-US" sz="1800" spc="-1" strike="noStrike">
                <a:solidFill>
                  <a:srgbClr val="000000"/>
                </a:solidFill>
                <a:latin typeface="Times New Roman"/>
              </a:rPr>
              <a:t>” or “</a:t>
            </a:r>
            <a:r>
              <a:rPr b="0" i="1" lang="en-US" sz="1800" spc="-1" strike="noStrike">
                <a:solidFill>
                  <a:srgbClr val="000000"/>
                </a:solidFill>
                <a:latin typeface="Times New Roman"/>
              </a:rPr>
              <a:t>to hinder the progress of the standards development activity</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rule applies equally to those participating in a standards development project and to that project’s leadership group</a:t>
            </a:r>
            <a:endParaRPr b="1"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y person who reasonably suspects that dominance is occurring in a standards development project is encouraged to bring the issue to the attention of the Standards Committee or the project’s IEEE-SA Program Manager</a:t>
            </a:r>
            <a:endParaRPr b="1" lang="en-US" sz="1800" spc="-1" strike="noStrike">
              <a:solidFill>
                <a:srgbClr val="000000"/>
              </a:solidFill>
              <a:latin typeface="Times New Roman"/>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60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EEE-SA standards activities shall allow the fair &amp;</a:t>
            </a:r>
            <a:br>
              <a:rPr sz="2600"/>
            </a:br>
            <a:r>
              <a:rPr b="1" lang="en-US" sz="2600" spc="-1" strike="noStrike">
                <a:solidFill>
                  <a:srgbClr val="000000"/>
                </a:solidFill>
                <a:latin typeface="Times New Roman"/>
              </a:rPr>
              <a:t>equitable consideration of all viewpoints</a:t>
            </a:r>
            <a:endParaRPr b="0" lang="en-US" sz="2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DDC04E-1CF1-485A-A07A-8AFDDADE0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SA Policy Documents</a:t>
            </a:r>
            <a:endParaRPr b="0" lang="en-US" sz="3200" spc="-1" strike="noStrike">
              <a:solidFill>
                <a:srgbClr val="000000"/>
              </a:solidFill>
              <a:latin typeface="Times New Roman"/>
            </a:endParaRPr>
          </a:p>
        </p:txBody>
      </p:sp>
      <p:sp>
        <p:nvSpPr>
          <p:cNvPr id="6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Code of Ethics</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www.ieee.org/about/corporate/governance/p7-8.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Standards Association (IEEE-SA) Affiliation FAQ</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and Competition Policy</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tter of Assurance Form</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standards.ieee.org/develop/policies/bylaws/sect6-7.html#loa</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5"/>
              </a:rPr>
              <a:t>https://development.standards.ieee.org/myproject/Public//mytools/mob/loa.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SA Patent Committee FAQ &amp; Patent slides</a:t>
            </a:r>
            <a:endParaRPr b="0" lang="en-US" sz="20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6"/>
              </a:rPr>
              <a:t>http://standards.ieee.org/board/pat/faq.pdf</a:t>
            </a:r>
            <a:r>
              <a:rPr b="1" lang="en-US" sz="1600" spc="-1" strike="noStrike">
                <a:solidFill>
                  <a:srgbClr val="000000"/>
                </a:solidFill>
                <a:latin typeface="Times New Roman"/>
              </a:rPr>
              <a:t> and </a:t>
            </a:r>
            <a:r>
              <a:rPr b="1" lang="en-US" sz="1600" spc="-1" strike="noStrike" u="sng">
                <a:solidFill>
                  <a:srgbClr val="0066ff"/>
                </a:solidFill>
                <a:uFillTx/>
                <a:latin typeface="Times New Roman"/>
                <a:hlinkClick r:id="rId7"/>
              </a:rPr>
              <a:t>http://standards.ieee.org/board/pat/pat-slideset.ppt</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7FBDB2-F45C-4B52-9BFA-BCB6F9182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register your attendance a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imat.ieee.org</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UPDATED)</a:t>
            </a:r>
            <a:endParaRPr b="0" lang="en-US" sz="3200" spc="-1" strike="noStrike">
              <a:solidFill>
                <a:srgbClr val="000000"/>
              </a:solidFill>
              <a:latin typeface="Times New Roman"/>
            </a:endParaRPr>
          </a:p>
        </p:txBody>
      </p:sp>
      <p:sp>
        <p:nvSpPr>
          <p:cNvPr id="61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283A02-4C85-4D88-8669-3A0896D286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the CRC operation (1)</a:t>
            </a:r>
            <a:endParaRPr b="0" lang="en-US" sz="3200" spc="-1" strike="noStrike">
              <a:solidFill>
                <a:srgbClr val="000000"/>
              </a:solidFill>
              <a:latin typeface="Times New Roman"/>
            </a:endParaRPr>
          </a:p>
        </p:txBody>
      </p:sp>
      <p:sp>
        <p:nvSpPr>
          <p:cNvPr id="61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tion 3.9.4, 14/0629r22</a:t>
            </a:r>
            <a:endParaRPr b="0" lang="en-US" sz="24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G chair delegates resolution of any comments received in subsequent WG letter ballots on the project’s draft to a comment resolution committee (CRC).  </a:t>
            </a:r>
            <a:endParaRPr b="0" lang="en-US" sz="20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oject’s TG chair is also chair of this CRC.</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is subject to IEEE-SA anti-trust and patent policies.</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will publish minutes of its meetings as 802.11 submissions.</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meets together (either in person, or in teleconferences, subject to the LMSC WG P&amp;P rules about notification of such meetings) in order to resolve comments.</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may vote to approve comment resolutions (75% approval required).</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802.11 voting member may vote at any CRC meeting.</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voting members of 802.11 may vote in the CRC.</a:t>
            </a:r>
            <a:endParaRPr b="0" lang="en-US" sz="16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comment resolution is complete (as determined by the CRC chair) and any modified draft is available, the WG chair will start any necessary WG recirculation ballots.</a:t>
            </a:r>
            <a:endParaRPr b="0" lang="en-US" sz="2000" spc="-1" strike="noStrike">
              <a:solidFill>
                <a:srgbClr val="000000"/>
              </a:solidFill>
              <a:latin typeface="Times New Roman"/>
            </a:endParaRPr>
          </a:p>
          <a:p>
            <a:pPr lvl="1" marL="727920" indent="-28008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27920" indent="-2800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7920" indent="-2800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7920" indent="-280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568160" indent="-22392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AE567A-B532-4E45-9C7D-5D7DDFFB47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the CRC operation (2)</a:t>
            </a:r>
            <a:endParaRPr b="0" lang="en-US" sz="3200" spc="-1" strike="noStrike">
              <a:solidFill>
                <a:srgbClr val="000000"/>
              </a:solidFill>
              <a:latin typeface="Times New Roman"/>
            </a:endParaRPr>
          </a:p>
        </p:txBody>
      </p:sp>
      <p:sp>
        <p:nvSpPr>
          <p:cNvPr id="62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tion 3.8, 14/0629r22</a:t>
            </a:r>
            <a:endParaRPr b="0" lang="en-US" sz="24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CRC is following the “Accelerated process” for completion of a WG letter ballot, and is not meeting during an 802.11 WG session, any submission containing changes to the draft shall be on the server and announced to the appropriate TG reflector no less than 72 hours before any motion is made related to that submission.  </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 when a CRC is meeting coincident with an 802.11 session, it is subject to the four hour rule described in the previous paragraph.</a:t>
            </a:r>
            <a:endParaRPr b="0" lang="en-US" sz="20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6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05477F-90F7-4D59-B1FD-BD73FA71D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the CRC operation (3)</a:t>
            </a:r>
            <a:endParaRPr b="0" lang="en-US" sz="3200" spc="-1" strike="noStrike">
              <a:solidFill>
                <a:srgbClr val="000000"/>
              </a:solidFill>
              <a:latin typeface="Times New Roman"/>
            </a:endParaRPr>
          </a:p>
        </p:txBody>
      </p:sp>
      <p:sp>
        <p:nvSpPr>
          <p:cNvPr id="62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tion 8.2, 14/0629r22</a:t>
            </a:r>
            <a:endParaRPr b="0" lang="en-US" sz="24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G (and subgroup) teleconferences are not permitted to make formal motions, with the exception of when a TG is operating under the accelerated process and when it is a sponsor ballot comment resolution committee (CRC).</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G operating under the accelerated process follows the rules in section 3.9.4 of this document which permit voting on formal motions on teleconferences.</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sor ballot CRC teleconferences, albeit announced in the WG and consisting of WG participants, operate under the authority of the sponsor, and are therefore permitted to vote on formal motions.</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6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0878AE-B13A-4C6A-8D35-641158292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34"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63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1)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December 17, 2020)</a:t>
            </a:r>
            <a:endParaRPr b="0" lang="en-US" sz="1800" spc="-1" strike="noStrike">
              <a:solidFill>
                <a:srgbClr val="000000"/>
              </a:solidFill>
              <a:latin typeface="Times New Roman"/>
            </a:endParaRPr>
          </a:p>
        </p:txBody>
      </p:sp>
      <p:graphicFrame>
        <p:nvGraphicFramePr>
          <p:cNvPr id="636" name=""/>
          <p:cNvGraphicFramePr/>
          <p:nvPr/>
        </p:nvGraphicFramePr>
        <p:xfrm>
          <a:off x="685800" y="1676520"/>
          <a:ext cx="7772400" cy="2563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E95E02-777B-4E83-9AD9-30CB94AF4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39"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64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2)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December 17, 2020)</a:t>
            </a:r>
            <a:endParaRPr b="0" lang="en-US" sz="1800" spc="-1" strike="noStrike">
              <a:solidFill>
                <a:srgbClr val="000000"/>
              </a:solidFill>
              <a:latin typeface="Times New Roman"/>
            </a:endParaRPr>
          </a:p>
        </p:txBody>
      </p:sp>
      <p:graphicFrame>
        <p:nvGraphicFramePr>
          <p:cNvPr id="641" name=""/>
          <p:cNvGraphicFramePr/>
          <p:nvPr/>
        </p:nvGraphicFramePr>
        <p:xfrm>
          <a:off x="685800" y="1676520"/>
          <a:ext cx="7772400" cy="3787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406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186r3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82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483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8</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180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42 (D4.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96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46 (D5.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0112r8</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initial SA letter ballot (D5.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1558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recirculation SA letter ballot (D6.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C25F2F-3455-4F6D-99CB-8AA84BD54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4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prior meeting minute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of the second recirculation SA ballot on D7.0</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sed report to EC (20/1708r5)</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6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62155C-8CB6-4F60-8C27-CFB0007933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700: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vember 2020 teleconference call minutes</a:t>
            </a:r>
            <a:endParaRPr b="0" lang="en-US" sz="3200" spc="-1" strike="noStrike">
              <a:solidFill>
                <a:srgbClr val="000000"/>
              </a:solidFill>
              <a:latin typeface="Times New Roman"/>
            </a:endParaRPr>
          </a:p>
        </p:txBody>
      </p:sp>
      <p:sp>
        <p:nvSpPr>
          <p:cNvPr id="64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electronic plenary on November 3 and November 5, 2020, and teleconference calls on November 11, November 16, and November 18, 2020:</a:t>
            </a:r>
            <a:endParaRPr b="0" lang="en-US" sz="2000" spc="-1" strike="noStrike">
              <a:solidFill>
                <a:srgbClr val="000000"/>
              </a:solidFill>
              <a:latin typeface="Times New Roman"/>
            </a:endParaRPr>
          </a:p>
          <a:p>
            <a:pPr lvl="1" marL="8002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20/11-20-1790-00-00ay-tg-ay-november-2020-meeting-minutes.docx</a:t>
            </a:r>
            <a:endParaRPr b="0" lang="en-US" sz="1600" spc="-1" strike="noStrike">
              <a:solidFill>
                <a:srgbClr val="000000"/>
              </a:solidFill>
              <a:latin typeface="Times New Roman"/>
            </a:endParaRPr>
          </a:p>
          <a:p>
            <a:pPr lvl="1" marL="8002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mentor.ieee.org/802.11/dcn/20/11-20-1844-00-00ay-task-group-ay-november-11-2020-teleconference-minutes.docx</a:t>
            </a:r>
            <a:endParaRPr b="0" lang="en-US" sz="1600" spc="-1" strike="noStrike">
              <a:solidFill>
                <a:srgbClr val="000000"/>
              </a:solidFill>
              <a:latin typeface="Times New Roman"/>
            </a:endParaRPr>
          </a:p>
          <a:p>
            <a:pPr lvl="1" marL="8002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3"/>
              </a:rPr>
              <a:t>https://mentor.ieee.org/802.11/dcn/20/11-20-1864-00-00ay-task-group-ay-november-16-2020-teleconference-minutes.docx</a:t>
            </a:r>
            <a:endParaRPr b="0" lang="en-US" sz="1600" spc="-1" strike="noStrike">
              <a:solidFill>
                <a:srgbClr val="000000"/>
              </a:solidFill>
              <a:latin typeface="Times New Roman"/>
            </a:endParaRPr>
          </a:p>
          <a:p>
            <a:pPr lvl="1" marL="8002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4"/>
              </a:rPr>
              <a:t>https://mentor.ieee.org/802.11/dcn/20/11-20-1877-00-00ay-task-group-ay-november-18-2020-teleconference-minutes.docx</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8002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5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6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December 21, 2020</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2:00pm ET – 4:00p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Teradyne)</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D3B1FF-1B5E-4113-AE55-7309B836A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41CF9F-032C-4756-96DB-F00CBE6BD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701:  Comment Resolutio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emplate]</a:t>
            </a:r>
            <a:endParaRPr b="0" lang="en-US" sz="3200" spc="-1" strike="noStrike">
              <a:solidFill>
                <a:srgbClr val="000000"/>
              </a:solidFill>
              <a:latin typeface="Times New Roman"/>
            </a:endParaRPr>
          </a:p>
        </p:txBody>
      </p:sp>
      <p:sp>
        <p:nvSpPr>
          <p:cNvPr id="65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6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431D562-A138-486B-9AC0-DFEB7BB3C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y other business</a:t>
            </a:r>
            <a:endParaRPr b="0" lang="en-US" sz="3200" spc="-1" strike="noStrike">
              <a:solidFill>
                <a:srgbClr val="000000"/>
              </a:solidFill>
              <a:latin typeface="Times New Roman"/>
            </a:endParaRPr>
          </a:p>
        </p:txBody>
      </p:sp>
      <p:sp>
        <p:nvSpPr>
          <p:cNvPr id="659"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6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723985-4506-45B8-B407-70C57FDEE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items for the teleconference call on December 21, 2020.</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ay is operating as the Comment Resolution Committee (CRC) for P802.11ay.</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477249D-D2AA-4CB4-92DA-135CB482E7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1313C6F-7287-4407-A047-D4F8E9D651A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9EF23E-1FB9-4661-9152-0D66ABC61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19E080-0C38-4A18-B5A6-52A2CBC72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25A01FC6-6522-4BD9-848B-367C8A8CF21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nts in IEEE-SA activities are expected to adhere to the core principles underlying the:</a:t>
            </a:r>
            <a:endParaRPr b="1"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IEEE Code of Ethics</a:t>
            </a:r>
            <a:endParaRPr b="0"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IEEE Code of Conduct</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ore principles of the IEEE Codes of Ethics &amp; Conduct are to:</a:t>
            </a:r>
            <a:endParaRPr b="1"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phold the highest standards of integrity, responsible behavior, and ethical and professional conduct</a:t>
            </a:r>
            <a:endParaRPr b="0"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eat people fairly and with respect, to not engage in harassment, discrimination, or retaliation, and to protect people's privacy.</a:t>
            </a:r>
            <a:endParaRPr b="0"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void injuring others, their property, reputation, or employment by false or malicious action</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ost recent versions of these Codes are available at</a:t>
            </a:r>
            <a:endParaRPr b="1"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org/about/corporate/governance</a:t>
            </a:r>
            <a:endParaRPr b="0" lang="en-US" sz="1800" spc="-1" strike="noStrike">
              <a:solidFill>
                <a:srgbClr val="000000"/>
              </a:solidFill>
              <a:latin typeface="Times New Roman"/>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just">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articipant behavior in IEEE-SA activities is guided by the IEEE Codes of Ethics &amp; Conduct</a:t>
            </a:r>
            <a:endParaRPr b="0" lang="en-US" sz="2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ED3D61C-1494-46E1-9EBD-C83607796F1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require that “participants in the IEEE standards development individual process shall act based on their qualifications and experience”</a:t>
            </a:r>
            <a:endParaRPr b="1"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means participants:</a:t>
            </a:r>
            <a:endParaRPr b="1" lang="en-US" sz="1800" spc="-1" strike="noStrike">
              <a:solidFill>
                <a:srgbClr val="000000"/>
              </a:solidFill>
              <a:latin typeface="Times New Roman"/>
            </a:endParaRPr>
          </a:p>
          <a:p>
            <a:pPr lvl="1" marL="743040" indent="-285840"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Shall act &amp; vote </a:t>
            </a:r>
            <a:r>
              <a:rPr b="0" lang="en-US" sz="1800" spc="-1" strike="noStrike">
                <a:solidFill>
                  <a:srgbClr val="000000"/>
                </a:solidFill>
                <a:latin typeface="Times New Roman"/>
              </a:rPr>
              <a:t>based on their personal &amp; independent opinions derived from their expertise, knowledge, and qualifications</a:t>
            </a:r>
            <a:endParaRPr b="0" lang="en-US" sz="1800" spc="-1" strike="noStrike">
              <a:solidFill>
                <a:srgbClr val="000000"/>
              </a:solidFill>
              <a:latin typeface="Times New Roman"/>
            </a:endParaRPr>
          </a:p>
          <a:p>
            <a:pPr lvl="1" marL="743040" indent="-28584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act or vote </a:t>
            </a:r>
            <a:r>
              <a:rPr b="0" lang="en-US" sz="1800" spc="-1" strike="noStrike">
                <a:solidFill>
                  <a:srgbClr val="000000"/>
                </a:solidFill>
                <a:latin typeface="Times New Roman"/>
              </a:rPr>
              <a:t>based on any obligation to or any direction from any other person or organization, including an employer or client, regardless of any external commitments, agreements, contracts, or orders</a:t>
            </a:r>
            <a:endParaRPr b="0" lang="en-US" sz="1800" spc="-1" strike="noStrike">
              <a:solidFill>
                <a:srgbClr val="000000"/>
              </a:solidFill>
              <a:latin typeface="Times New Roman"/>
            </a:endParaRPr>
          </a:p>
          <a:p>
            <a:pPr lvl="1" marL="743040" indent="-28584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direct </a:t>
            </a:r>
            <a:r>
              <a:rPr b="0" lang="en-US" sz="1800" spc="-1" strike="noStrike">
                <a:solidFill>
                  <a:srgbClr val="000000"/>
                </a:solidFill>
                <a:latin typeface="Times New Roman"/>
              </a:rPr>
              <a:t>the actions or votes of other participants or retaliate against other participants for fulfilling their responsibility to act &amp; vote based on their personal &amp; independently developed opinions</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standards activities using the “</a:t>
            </a:r>
            <a:r>
              <a:rPr b="1" i="1" lang="en-US" sz="1800" spc="-1" strike="noStrike">
                <a:solidFill>
                  <a:srgbClr val="000000"/>
                </a:solidFill>
                <a:latin typeface="Times New Roman"/>
              </a:rPr>
              <a:t>individual process</a:t>
            </a:r>
            <a:r>
              <a:rPr b="1" lang="en-US" sz="1800" spc="-1" strike="noStrike">
                <a:solidFill>
                  <a:srgbClr val="000000"/>
                </a:solidFill>
                <a:latin typeface="Times New Roman"/>
              </a:rPr>
              <a:t>”, you are deemed to accept these requirements; if you are unable to satisfy these requirements then you shall immediately cease any participation</a:t>
            </a:r>
            <a:endParaRPr b="1" lang="en-US" sz="1800" spc="-1" strike="noStrike">
              <a:solidFill>
                <a:srgbClr val="000000"/>
              </a:solidFill>
              <a:latin typeface="Times New Roman"/>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6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articipants in the IEEE-SA “individual process” shall act independently of others, including employers</a:t>
            </a:r>
            <a:endParaRPr b="0" lang="en-US" sz="2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December 2020 meeting agenda</cp:keywords>
  <dc:language>en-US</dc:language>
  <cp:lastModifiedBy>Edward Au</cp:lastModifiedBy>
  <cp:lastPrinted>2014-11-04T15:04:57Z</cp:lastPrinted>
  <dcterms:modified xsi:type="dcterms:W3CDTF">2020-12-18T16:47:05Z</dcterms:modified>
  <cp:revision>4781</cp:revision>
  <dc:subject>Task Group AY November 2015 Meeting Agenda</dc:subject>
  <dc:title>20/1899r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