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A454F66D-EC1B-4530-8686-7C1B463E6A3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9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9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0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DB32DF9-DB2C-42BF-85BC-A66A19D714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1" name="PlaceHolder 1"/>
          <p:cNvSpPr>
            <a:spLocks noGrp="1"/>
          </p:cNvSpPr>
          <p:nvPr>
            <p:ph type="sldImg"/>
          </p:nvPr>
        </p:nvSpPr>
        <p:spPr>
          <a:xfrm>
            <a:off x="1154160" y="701640"/>
            <a:ext cx="4626000" cy="3468600"/>
          </a:xfrm>
          <a:prstGeom prst="rect">
            <a:avLst/>
          </a:prstGeom>
          <a:ln w="0">
            <a:noFill/>
          </a:ln>
        </p:spPr>
      </p:sp>
      <p:sp>
        <p:nvSpPr>
          <p:cNvPr id="7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46"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47"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4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F96268A-D7E5-41B6-8943-8423E89CE5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54160" y="701640"/>
            <a:ext cx="4626000" cy="3468600"/>
          </a:xfrm>
          <a:prstGeom prst="rect">
            <a:avLst/>
          </a:prstGeom>
          <a:ln w="0">
            <a:noFill/>
          </a:ln>
        </p:spPr>
      </p:sp>
      <p:sp>
        <p:nvSpPr>
          <p:cNvPr id="750"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5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FB9632-3A8E-4531-BED7-C2DB319503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5" name="PlaceHolder 1"/>
          <p:cNvSpPr>
            <a:spLocks noGrp="1"/>
          </p:cNvSpPr>
          <p:nvPr>
            <p:ph type="sldImg"/>
          </p:nvPr>
        </p:nvSpPr>
        <p:spPr>
          <a:xfrm>
            <a:off x="1154160" y="701640"/>
            <a:ext cx="4626000" cy="3468600"/>
          </a:xfrm>
          <a:prstGeom prst="rect">
            <a:avLst/>
          </a:prstGeom>
          <a:ln w="0">
            <a:noFill/>
          </a:ln>
        </p:spPr>
      </p:sp>
      <p:sp>
        <p:nvSpPr>
          <p:cNvPr id="7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6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7BBD65-DB93-4A38-A5AB-A0691C098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76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76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76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B04C69-166B-4F78-8746-924A0A73D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PlaceHolder 1"/>
          <p:cNvSpPr>
            <a:spLocks noGrp="1"/>
          </p:cNvSpPr>
          <p:nvPr>
            <p:ph type="sldImg"/>
          </p:nvPr>
        </p:nvSpPr>
        <p:spPr>
          <a:xfrm>
            <a:off x="1154160" y="701640"/>
            <a:ext cx="4626000" cy="3468600"/>
          </a:xfrm>
          <a:prstGeom prst="rect">
            <a:avLst/>
          </a:prstGeom>
          <a:ln w="0">
            <a:noFill/>
          </a:ln>
        </p:spPr>
      </p:sp>
      <p:sp>
        <p:nvSpPr>
          <p:cNvPr id="7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54160" y="701640"/>
            <a:ext cx="4626000" cy="3468600"/>
          </a:xfrm>
          <a:prstGeom prst="rect">
            <a:avLst/>
          </a:prstGeom>
          <a:ln w="0">
            <a:noFill/>
          </a:ln>
        </p:spPr>
      </p:sp>
      <p:sp>
        <p:nvSpPr>
          <p:cNvPr id="7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5B68D63-6E11-4491-8845-B4C96D2E1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54160" y="701640"/>
            <a:ext cx="4626000" cy="3468600"/>
          </a:xfrm>
          <a:prstGeom prst="rect">
            <a:avLst/>
          </a:prstGeom>
          <a:ln w="0">
            <a:noFill/>
          </a:ln>
        </p:spPr>
      </p:sp>
      <p:sp>
        <p:nvSpPr>
          <p:cNvPr id="7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AE6688-AC62-44BD-BD4C-CA8BECA0C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54160" y="701640"/>
            <a:ext cx="4626000" cy="3468600"/>
          </a:xfrm>
          <a:prstGeom prst="rect">
            <a:avLst/>
          </a:prstGeom>
          <a:ln w="0">
            <a:noFill/>
          </a:ln>
        </p:spPr>
      </p:sp>
      <p:sp>
        <p:nvSpPr>
          <p:cNvPr id="7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8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D3EBA25-B544-47C9-A629-5B26A56E1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54160" y="701640"/>
            <a:ext cx="4626000" cy="3468600"/>
          </a:xfrm>
          <a:prstGeom prst="rect">
            <a:avLst/>
          </a:prstGeom>
          <a:ln w="0">
            <a:noFill/>
          </a:ln>
        </p:spPr>
      </p:sp>
      <p:sp>
        <p:nvSpPr>
          <p:cNvPr id="7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8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8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8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B87429-10C1-4578-9FC1-17D9A0A23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54160" y="701640"/>
            <a:ext cx="4626000" cy="3468600"/>
          </a:xfrm>
          <a:prstGeom prst="rect">
            <a:avLst/>
          </a:prstGeom>
          <a:ln w="0">
            <a:noFill/>
          </a:ln>
        </p:spPr>
      </p:sp>
      <p:sp>
        <p:nvSpPr>
          <p:cNvPr id="7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9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9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9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7E7305-10B6-45B6-8485-AB39D6AA1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54160" y="701640"/>
            <a:ext cx="4626000" cy="3468600"/>
          </a:xfrm>
          <a:prstGeom prst="rect">
            <a:avLst/>
          </a:prstGeom>
          <a:ln w="0">
            <a:noFill/>
          </a:ln>
        </p:spPr>
      </p:sp>
      <p:sp>
        <p:nvSpPr>
          <p:cNvPr id="79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9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A33354A-CB04-4AFA-B20F-31BDB522B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54160" y="701640"/>
            <a:ext cx="4626000" cy="3468600"/>
          </a:xfrm>
          <a:prstGeom prst="rect">
            <a:avLst/>
          </a:prstGeom>
          <a:ln w="0">
            <a:noFill/>
          </a:ln>
        </p:spPr>
      </p:sp>
      <p:sp>
        <p:nvSpPr>
          <p:cNvPr id="8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DB17578-B4A1-438E-B9EF-01812593E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0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0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0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0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09FE201-1113-490B-8950-F165BBB80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54160" y="701640"/>
            <a:ext cx="4626000" cy="3468600"/>
          </a:xfrm>
          <a:prstGeom prst="rect">
            <a:avLst/>
          </a:prstGeom>
          <a:ln w="0">
            <a:noFill/>
          </a:ln>
        </p:spPr>
      </p:sp>
      <p:sp>
        <p:nvSpPr>
          <p:cNvPr id="81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1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8E6ABB-0E9B-40B4-9055-56BC41980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54160" y="701640"/>
            <a:ext cx="4626000" cy="3468600"/>
          </a:xfrm>
          <a:prstGeom prst="rect">
            <a:avLst/>
          </a:prstGeom>
          <a:ln w="0">
            <a:noFill/>
          </a:ln>
        </p:spPr>
      </p:sp>
      <p:sp>
        <p:nvSpPr>
          <p:cNvPr id="8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1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1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1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5F1AFC-C43C-4791-8053-4DAE91F66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54160" y="701640"/>
            <a:ext cx="4626000" cy="3468600"/>
          </a:xfrm>
          <a:prstGeom prst="rect">
            <a:avLst/>
          </a:prstGeom>
          <a:ln w="0">
            <a:noFill/>
          </a:ln>
        </p:spPr>
      </p:sp>
      <p:sp>
        <p:nvSpPr>
          <p:cNvPr id="8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2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2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2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0B470F5-5617-43BA-A525-EC2C317DAB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54160" y="701640"/>
            <a:ext cx="4626000" cy="3468600"/>
          </a:xfrm>
          <a:prstGeom prst="rect">
            <a:avLst/>
          </a:prstGeom>
          <a:ln w="0">
            <a:noFill/>
          </a:ln>
        </p:spPr>
      </p:sp>
      <p:sp>
        <p:nvSpPr>
          <p:cNvPr id="8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CE4F19C-C784-41BC-BBC8-356EF7777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54160" y="701640"/>
            <a:ext cx="4626000" cy="3468600"/>
          </a:xfrm>
          <a:prstGeom prst="rect">
            <a:avLst/>
          </a:prstGeom>
          <a:ln w="0">
            <a:noFill/>
          </a:ln>
        </p:spPr>
      </p:sp>
      <p:sp>
        <p:nvSpPr>
          <p:cNvPr id="8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B361081-37ED-43F2-8AFF-AA84F2E286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54160" y="701640"/>
            <a:ext cx="4626000" cy="3468600"/>
          </a:xfrm>
          <a:prstGeom prst="rect">
            <a:avLst/>
          </a:prstGeom>
          <a:ln w="0">
            <a:noFill/>
          </a:ln>
        </p:spPr>
      </p:sp>
      <p:sp>
        <p:nvSpPr>
          <p:cNvPr id="8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65919E3-36BC-4F7B-AA0A-1C1FC319E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54160" y="701640"/>
            <a:ext cx="4626000" cy="3468600"/>
          </a:xfrm>
          <a:prstGeom prst="rect">
            <a:avLst/>
          </a:prstGeom>
          <a:ln w="0">
            <a:noFill/>
          </a:ln>
        </p:spPr>
      </p:sp>
      <p:sp>
        <p:nvSpPr>
          <p:cNvPr id="8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7F2370-21E1-4FB4-B945-15DBD70A2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54160" y="701640"/>
            <a:ext cx="4626000" cy="3468600"/>
          </a:xfrm>
          <a:prstGeom prst="rect">
            <a:avLst/>
          </a:prstGeom>
          <a:ln w="0">
            <a:noFill/>
          </a:ln>
        </p:spPr>
      </p:sp>
      <p:sp>
        <p:nvSpPr>
          <p:cNvPr id="8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1722A8E-D16F-4D72-9A87-55FF53A1C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54160" y="701640"/>
            <a:ext cx="4626000" cy="3468600"/>
          </a:xfrm>
          <a:prstGeom prst="rect">
            <a:avLst/>
          </a:prstGeom>
          <a:ln w="0">
            <a:noFill/>
          </a:ln>
        </p:spPr>
      </p:sp>
      <p:sp>
        <p:nvSpPr>
          <p:cNvPr id="8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8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8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8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8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0FEBF83-BF72-467D-8901-B71E92505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F5E554-B7DD-4450-8FDC-C99E028E9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3" name="PlaceHolder 1"/>
          <p:cNvSpPr>
            <a:spLocks noGrp="1"/>
          </p:cNvSpPr>
          <p:nvPr>
            <p:ph type="sldImg"/>
          </p:nvPr>
        </p:nvSpPr>
        <p:spPr>
          <a:xfrm>
            <a:off x="1154160" y="701640"/>
            <a:ext cx="4626000" cy="3468600"/>
          </a:xfrm>
          <a:prstGeom prst="rect">
            <a:avLst/>
          </a:prstGeom>
          <a:ln w="0">
            <a:noFill/>
          </a:ln>
        </p:spPr>
      </p:sp>
      <p:sp>
        <p:nvSpPr>
          <p:cNvPr id="7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545C3C6C-1F32-4118-A32E-7224B02058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9" name="PlaceHolder 1"/>
          <p:cNvSpPr>
            <a:spLocks noGrp="1"/>
          </p:cNvSpPr>
          <p:nvPr>
            <p:ph type="sldImg"/>
          </p:nvPr>
        </p:nvSpPr>
        <p:spPr>
          <a:xfrm>
            <a:off x="1147680" y="696960"/>
            <a:ext cx="4640400" cy="3479760"/>
          </a:xfrm>
          <a:prstGeom prst="rect">
            <a:avLst/>
          </a:prstGeom>
          <a:ln w="0">
            <a:noFill/>
          </a:ln>
        </p:spPr>
      </p:sp>
      <p:sp>
        <p:nvSpPr>
          <p:cNvPr id="72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2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2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4580385-AE62-4C73-BEFA-EC143D28BA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47680" y="696960"/>
            <a:ext cx="4640400" cy="3479760"/>
          </a:xfrm>
          <a:prstGeom prst="rect">
            <a:avLst/>
          </a:prstGeom>
          <a:ln w="0">
            <a:noFill/>
          </a:ln>
        </p:spPr>
      </p:sp>
      <p:sp>
        <p:nvSpPr>
          <p:cNvPr id="72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91093F4-EAAC-4D8E-B55A-A6047A53AF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8" name="PlaceHolder 1"/>
          <p:cNvSpPr>
            <a:spLocks noGrp="1"/>
          </p:cNvSpPr>
          <p:nvPr>
            <p:ph type="sldImg"/>
          </p:nvPr>
        </p:nvSpPr>
        <p:spPr>
          <a:xfrm>
            <a:off x="1154160" y="701640"/>
            <a:ext cx="4626000" cy="3468600"/>
          </a:xfrm>
          <a:prstGeom prst="rect">
            <a:avLst/>
          </a:prstGeom>
          <a:ln w="0">
            <a:noFill/>
          </a:ln>
        </p:spPr>
      </p:sp>
      <p:sp>
        <p:nvSpPr>
          <p:cNvPr id="7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F4E44D0-2684-4FBB-8218-36F78B44F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1" name="PlaceHolder 1"/>
          <p:cNvSpPr>
            <a:spLocks noGrp="1"/>
          </p:cNvSpPr>
          <p:nvPr>
            <p:ph type="sldImg"/>
          </p:nvPr>
        </p:nvSpPr>
        <p:spPr>
          <a:xfrm>
            <a:off x="1154160" y="701640"/>
            <a:ext cx="4626000" cy="3468600"/>
          </a:xfrm>
          <a:prstGeom prst="rect">
            <a:avLst/>
          </a:prstGeom>
          <a:ln w="0">
            <a:noFill/>
          </a:ln>
        </p:spPr>
      </p:sp>
      <p:sp>
        <p:nvSpPr>
          <p:cNvPr id="7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3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3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3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641019-59BE-4522-A990-C89A76849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7" name="PlaceHolder 1"/>
          <p:cNvSpPr>
            <a:spLocks noGrp="1"/>
          </p:cNvSpPr>
          <p:nvPr>
            <p:ph type="sldImg"/>
          </p:nvPr>
        </p:nvSpPr>
        <p:spPr>
          <a:xfrm>
            <a:off x="1154160" y="701640"/>
            <a:ext cx="4626000" cy="3468600"/>
          </a:xfrm>
          <a:prstGeom prst="rect">
            <a:avLst/>
          </a:prstGeom>
          <a:ln w="0">
            <a:noFill/>
          </a:ln>
        </p:spPr>
      </p:sp>
      <p:sp>
        <p:nvSpPr>
          <p:cNvPr id="73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4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41"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4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8A632F8-12AF-49B9-9DCE-61D276CD1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3" name="PlaceHolder 1"/>
          <p:cNvSpPr>
            <a:spLocks noGrp="1"/>
          </p:cNvSpPr>
          <p:nvPr>
            <p:ph type="sldImg"/>
          </p:nvPr>
        </p:nvSpPr>
        <p:spPr>
          <a:xfrm>
            <a:off x="1154160" y="701640"/>
            <a:ext cx="4626000" cy="3468600"/>
          </a:xfrm>
          <a:prstGeom prst="rect">
            <a:avLst/>
          </a:prstGeom>
          <a:ln w="0">
            <a:noFill/>
          </a:ln>
        </p:spPr>
      </p:sp>
      <p:sp>
        <p:nvSpPr>
          <p:cNvPr id="744"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54C76-2E24-4ADF-A862-702C1A13C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E2172-4C4B-4AED-8AA6-BDC3F6070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DDE418-256B-4BBB-8859-6519F9AC085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92ABCD-8449-46C1-8B42-C31A152EB0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ECA9E5-A90E-4DC2-BF1B-44C6003BF2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A0F3D4-9AC2-430D-9C63-0B931E6FB1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59561B-1193-481E-90BA-E9FA6B4D1F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B17A47-445D-4411-A50A-FCECD9434F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D41541-F00D-489E-875E-8B439CC310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BBB0B3-7E5A-4F39-B32C-B09B0EC7E4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3F5C761-DD26-4D54-8528-B4CE3B25D0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E2D2940-7F57-429C-9067-7D394EC0945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11B81-D17E-40D0-A18B-98E40D8B2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E4FF42-3AB9-464C-B127-5E71E31A1F2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5CD70CD-9B3E-4BEC-B0AB-33958233C7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54E7C8D-A49C-474C-8A9C-D4FFBD31E3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69F8891-A037-462B-814D-22DC89B6D9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B57968-283D-4E50-AAA9-23F7433F14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066BED-9FA6-4459-A1B7-76109737AD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0A97070-B789-4D8A-B075-3DD4FE9401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CB50CA4-8432-4483-A721-4B0F0380B47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28DD3F-B5D4-400E-8003-9E71FCDCE7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5587BC-95F3-4DC9-84E8-658C52496B3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CBBF8-C3C8-4A9A-A0C5-31C5F4A69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4D7E58-81B0-4F51-92CE-34A0EA9B18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28D1A1C-A11D-4024-B190-7FBE6CFE97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1A373C4-84D0-4E52-BB66-91C0E4E235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B8EC32-3C13-4AD1-A274-8830A9BE98D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0B6732-6F1F-43FC-A984-6F3BCEEFAA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E912E8-1496-4F52-9B03-C927C7699B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DD1881-F039-45C1-9E5E-55A22B8F52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CA30684-2605-462B-83D6-53D8BC1AA1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B71EE70-6A8D-4527-B350-E3496722B8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6E7534C-FC2C-4814-B528-E93E0F9BE5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9670C3-0139-42E9-96FF-6F6F7EBA4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B9D82D-E11A-463B-AD87-55F2C58FA93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BE8A80-6DE2-4A88-95C0-B953EF2EB6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04A9FFE-BDF1-4DE6-9705-FBD1E8A4772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BD6CBBE-AD29-4689-8DD0-66478C44D71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A37209-64AC-419C-9897-A4A6D73755E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A79BF75-E929-4578-8829-A897ADB2787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11E143A-636F-4D65-BA42-CE6520FBFEA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F6CFFC9-E502-48BB-8C2D-B587B35A193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D2584E-E8D9-4319-87F0-3FA1291A6AF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333DF3D-8985-4E91-AF4C-4E08BB71123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F7763-47CA-4283-96EF-AC09F9A22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647A92-8DFA-4507-A71F-E461527215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6F26C8-6AF5-44E4-954B-A9C7C14B98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BCEB48-D620-4E4B-82E6-EF294C232E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5C3591E-F212-48DF-B352-F3E8F59614D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4343246-9965-4689-B70E-FF3354B06C1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055F6-3BB8-4E4D-91D8-802D8ED36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15EEA-9010-4FF8-A062-62893BE13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53659-B295-4652-8996-23E86FCBED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73043-4E83-4358-9CC3-EB37E4B5F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53495-58A1-440D-BE38-6545DE73D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6042C-9E04-463C-947C-BF3116B67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9884E-2AB3-4E55-8438-A769C660F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7B0CB-11F5-40D4-BD5A-F9300B0174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79228A-CEDF-40B3-AE8A-F305A2448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7EAD61-32DA-4E2E-8E34-3D3BA6A6A2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E2DAFC-75AE-42AF-85C5-2CC3A0414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A1AD25-BCA2-46E6-A1A2-5289F6B55D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45513A-7C24-4E4B-B5FC-B006A1A27C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B2A2A3-1613-4214-9866-D86344D6AD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77D627-E73A-4843-A008-A9497FCF85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5C6215-179A-4451-A9A9-8D9C7D5259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239B91-D93A-463B-B13A-72731CDC1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E52FDC-1314-48D1-B06D-E1D8EABA7F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D26DD6-3988-44A8-AD12-2397CFA586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04C55-7C1C-4144-96F5-1FBA0A9A1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64188-D2E0-47B3-88A1-D2B5B7255F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46E4E0-8151-47D1-9501-8BC7C9AAA0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B417A6-934B-4CFB-A599-D34A026E95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88EAD1-B130-4051-8AB2-37B800972B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0B4160-9735-4F05-8016-725E30253E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FABBF0-33A4-4EE0-9E72-B598FCC78F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DEF649-2984-4162-B76E-4E3977DD8E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704DCC-667A-4F25-B3AE-5F01D02AC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BC910-00E9-476B-BFA8-99258B1718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66D81D-2001-4351-BDDA-57E823DEA3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E29B3F-10AF-440E-9D7D-E8B3188E4A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ACEA6C-F6E2-407C-AEFE-7D909BF16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D07912-CEB9-4C1D-897D-983406CC8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5804E7-E18E-4AB1-93F0-DF110804D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142915-6F73-4904-93EF-FFC059EEE8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CC17F4-53E4-48DD-BFFB-F9E0E69087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B53067-5C40-41B6-88A6-4FC908E27A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D4B6FF-3AB7-4BBA-941F-35EDA1A288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8C8B1-B929-4A26-BE29-795AA82E2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CB41D1-FAD7-406E-B2B2-C22431A871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200C6D-10C6-4104-94D0-3F70A4EEC5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5FDF8E-E02C-4DF8-BC54-0AB0B05344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12E364-780F-4122-971F-4E40E3FA32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B843F8-0B1D-4AEC-ACFB-6489A3C152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347810-91CB-4542-AE6F-998741929B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BBE00A-CA46-4CB0-AB6A-EB06B3DE85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927C91-025C-451A-9407-B2E9C16517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DE1958-CB88-42C0-9C87-A624A02462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AB5705-5AF5-4894-A333-F9FF3BAA12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FBB42-096E-4F60-8D53-BCC47FE9E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D897AE-B694-4A3B-8AC6-95F3744828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A6108E-F99A-4511-8D24-80C93B8F5E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83F5EE-F815-483E-AE2D-7BE22A1BD9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82F355-1B41-4C13-8228-DA599B29EE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8ED68F-3418-4E9A-9CBD-CE4EB7E16E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BD5CFA-FA5C-417A-80B5-E95CB433D1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76FC80-8BBD-4F4E-8041-8FD6096F36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CA662-0444-488C-B748-840FAC56D7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E86E2-CFB8-42D4-BFAC-2128146668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67F3D3-EB70-4C17-9D45-BA2CA7E80A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B6AFA-DAC0-4288-8695-827BD09A1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08E2C4-CC0E-470A-ABFB-5540605C00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ECD1C9-5714-46D5-9326-15C669D7DA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95A682-F94B-4952-AA5B-5D914E9FBB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B2B470-9C11-492C-B498-65B415E426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1F6661-AB48-4D9A-B9F0-E55E62E10A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000893-4270-467F-BC1A-7B80265F4D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E78715-C7C8-4E3E-9AD5-66C810287E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05E1DD-8BD7-4156-82A6-DFB5F122B5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2FED8D-08EE-4C3E-B159-F0660B522C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46EC2-5EF4-4F4C-9F96-742D18F5C0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7499B-2B51-4B3F-83CB-38B2FA756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0E079E-D041-4711-AE00-98B0371E88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34C2FB-9A79-4B6E-B11E-7C09B2094A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80C2CE-C562-4B35-8CBD-F9C57D1CDD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139E8A-D59A-48D0-A036-FBDD4A2B3E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F26D50-701B-4E1E-BC8B-7566338B73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D8D43C-AC24-4A97-9C06-E10212DF6D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D63BBF-2293-46B4-B69D-F677058E3C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D0C8E1-AE8B-47FE-9199-06AB3CC08E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93784D-B1CF-4DBA-AC1E-7EDF0D80BD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708787-7CEF-4681-8EF8-1B1C089696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8C513-8E03-42A1-BAB8-AE90F049E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2D2FA1-D92F-4206-904D-153EDDD873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8B97BC-2077-4F07-A44B-F702297F8F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79CBC5-D5BE-4DF1-BEA7-48B3D1061F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1BC0DB-AAEE-43B0-A0CE-1A4F52A4E6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5E63D2-9746-4BEA-8CF6-7026C1C4D5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294829-4A1C-45B5-AB86-CA3ACF740F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406925-5600-46CE-9435-1407745238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5358BA-807F-4302-8411-00A111AB18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8B89FD-298E-4B1D-BD7C-640517A61D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CCBF1F-40A0-4413-98B9-3C5D7C688F8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80BB913-B36F-4D6A-87DA-E45D3BA12DA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4</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A07F8F1-A3CA-46E2-9987-52D68CA141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4</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77E5CBA-54C5-4835-9B6E-E53E1DE0154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4</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280895B-CC56-4014-83BD-3C7DFF553A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4</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A341292-2AF0-43F7-9DDF-5B46524D6D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4</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B62BD30-1AC7-4038-91FB-FA6DF9F31C5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4</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6E39E4A-78C9-4D4F-A050-E5BBEF3AE8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4</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ADB2D04-C294-4A9C-AA97-689407390BA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4</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6C53397-5D2F-4D51-A762-F6C16504780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4</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BD69137-9D63-4774-973F-5BACBE61DC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4</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01649CC-2C1F-435E-B5D4-94014F28A95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00r4</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AF405E5-F7E0-4B21-8E82-7394C4910E0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standards.ieee.org/develop/policies/bylaws/sect6-7.html#loa" TargetMode="External"/><Relationship Id="rId5" Type="http://schemas.openxmlformats.org/officeDocument/2006/relationships/hyperlink" Target="https://development.standards.ieee.org/myproject/Public//mytools/mob/loa.pdf"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pat-slideset.ppt" TargetMode="External"/><Relationship Id="rId8" Type="http://schemas.openxmlformats.org/officeDocument/2006/relationships/slideLayout" Target="../slideLayouts/slideLayout25.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mentor.ieee.org/802.11/dcn/20/11-20-1706-01-00ay-task-group-ay-october-26-2020-teleconference-minutes.docx" TargetMode="External"/><Relationship Id="rId2" Type="http://schemas.openxmlformats.org/officeDocument/2006/relationships/hyperlink" Target="https://mentor.ieee.org/802.11/dcn/20/11-20-1724-00-00ay-task-group-ay-october-28-2020-teleconference-minutes.docx" TargetMode="External"/><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s://mentor.ieee.org/802.11/dcn/20/11-20-1558-03-00ay-comments-on-tgay-d6-0.xlsx" TargetMode="External"/><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F1E82A-D607-422D-9DC1-756FDDE84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8380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a:t>
            </a:r>
            <a:br>
              <a:rPr sz="3200"/>
            </a:br>
            <a:r>
              <a:rPr b="1" lang="en-US" sz="3200" spc="-1" strike="noStrike">
                <a:solidFill>
                  <a:srgbClr val="000000"/>
                </a:solidFill>
                <a:latin typeface="Times New Roman"/>
              </a:rPr>
              <a:t>November 2020 Meeting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0574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11-18</a:t>
            </a:r>
            <a:endParaRPr b="1" lang="en-US" sz="2000" spc="-1" strike="noStrike">
              <a:solidFill>
                <a:srgbClr val="000000"/>
              </a:solidFill>
              <a:latin typeface="Times New Roman"/>
            </a:endParaRPr>
          </a:p>
        </p:txBody>
      </p:sp>
      <p:graphicFrame>
        <p:nvGraphicFramePr>
          <p:cNvPr id="555" name="Object 11"/>
          <p:cNvGraphicFramePr/>
          <p:nvPr/>
        </p:nvGraphicFramePr>
        <p:xfrm>
          <a:off x="669960" y="304956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3049560"/>
                    <a:ext cx="7804080" cy="1000080"/>
                  </a:xfrm>
                  <a:prstGeom prst="rect">
                    <a:avLst/>
                  </a:prstGeom>
                  <a:ln w="0">
                    <a:noFill/>
                  </a:ln>
                </p:spPr>
              </p:pic>
            </p:oleObj>
          </a:graphicData>
        </a:graphic>
      </p:graphicFrame>
      <p:sp>
        <p:nvSpPr>
          <p:cNvPr id="557" name="Rectangle 12"/>
          <p:cNvSpPr/>
          <p:nvPr/>
        </p:nvSpPr>
        <p:spPr>
          <a:xfrm>
            <a:off x="685800" y="25146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B97FCC57-881B-4285-9844-BA79592160B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EEE-SA standards activities shall allow the fair &amp;</a:t>
            </a:r>
            <a:br>
              <a:rPr sz="2600"/>
            </a:br>
            <a:r>
              <a:rPr b="1" lang="en-US" sz="2600" spc="-1" strike="noStrike">
                <a:solidFill>
                  <a:srgbClr val="000000"/>
                </a:solidFill>
                <a:latin typeface="Times New Roman"/>
              </a:rPr>
              <a:t>equitable consideration of all viewpoints</a:t>
            </a:r>
            <a:endParaRPr b="0" lang="en-US" sz="2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DC6C70-7CD5-4F63-9658-38944F3D5B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SA Policy Documents</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www.ieee.org/about/corporate/governance/p7-8.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tter of Assurance Form</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standards.ieee.org/develop/policies/bylaws/sect6-7.html#loa</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https://development.standards.ieee.org/myproject/Public//mytools/mob/loa.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SA Patent Committee FAQ &amp; Patent slides</a:t>
            </a:r>
            <a:endParaRPr b="0" lang="en-US" sz="20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6"/>
              </a:rPr>
              <a:t>http://standards.ieee.org/board/pat/faq.pdf</a:t>
            </a:r>
            <a:r>
              <a:rPr b="1" lang="en-US" sz="1600" spc="-1" strike="noStrike">
                <a:solidFill>
                  <a:srgbClr val="000000"/>
                </a:solidFill>
                <a:latin typeface="Times New Roman"/>
              </a:rPr>
              <a:t> and </a:t>
            </a:r>
            <a:r>
              <a:rPr b="1" lang="en-US" sz="1600" spc="-1" strike="noStrike" u="sng">
                <a:solidFill>
                  <a:srgbClr val="0066ff"/>
                </a:solidFill>
                <a:uFillTx/>
                <a:latin typeface="Times New Roman"/>
                <a:hlinkClick r:id="rId7"/>
              </a:rPr>
              <a:t>http://standards.ieee.org/board/pat/pat-slideset.ppt</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364A8D-0337-46D6-ACED-058FAFDDD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register your attendance a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imat.ieee.org</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UPDATED)</a:t>
            </a:r>
            <a:endParaRPr b="0" lang="en-US" sz="3200" spc="-1" strike="noStrike">
              <a:solidFill>
                <a:srgbClr val="000000"/>
              </a:solidFill>
              <a:latin typeface="Times New Roman"/>
            </a:endParaRPr>
          </a:p>
        </p:txBody>
      </p:sp>
      <p:sp>
        <p:nvSpPr>
          <p:cNvPr id="61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D90550-3EFF-4B26-9A94-7E41A342B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1)</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9.4,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chair delegates resolution of any comments received in subsequent WG letter ballots on the project’s draft to a comment resolution committee (CRC).  </a:t>
            </a:r>
            <a:endParaRPr b="0" lang="en-US" sz="20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ject’s TG chair is also chair of this CRC.</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is subject to IEEE-SA anti-trust and patent policie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will publish minutes of its meetings as 802.11 submission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eets together (either in person, or in teleconferences, subject to the LMSC WG P&amp;P rules about notification of such meetings) in order to resolve comment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ay vote to approve comment resolutions (75% approval required).</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802.11 voting member may vote at any CRC meeting.</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voting members of 802.11 may vote in the CRC.</a:t>
            </a:r>
            <a:endParaRPr b="0" lang="en-US" sz="16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comment resolution is complete (as determined by the CRC chair) and any modified draft is available, the WG chair will start any necessary WG recirculation ballots.</a:t>
            </a:r>
            <a:endParaRPr b="0" lang="en-US" sz="2000" spc="-1" strike="noStrike">
              <a:solidFill>
                <a:srgbClr val="000000"/>
              </a:solidFill>
              <a:latin typeface="Times New Roman"/>
            </a:endParaRPr>
          </a:p>
          <a:p>
            <a:pPr lvl="1" marL="727920" indent="-28008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68160" indent="-2239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5AAD69-C023-4848-AF66-D314D7781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2)</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8,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CRC is following the “Accelerated process” for completion of a WG letter ballot, and is not meeting during an 802.11 WG session, any submission containing changes to the draft shall be on the server and announced to the appropriate TG reflector no less than 72 hours before any motion is made related to that submission.  </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 when a CRC is meeting coincident with an 802.11 session, it is subject to the four hour rule described in the previous paragraph.</a:t>
            </a: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081CA1-BCD5-4C34-986E-9F12372B2D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3)</a:t>
            </a:r>
            <a:endParaRPr b="0" lang="en-US" sz="3200" spc="-1" strike="noStrike">
              <a:solidFill>
                <a:srgbClr val="000000"/>
              </a:solidFill>
              <a:latin typeface="Times New Roman"/>
            </a:endParaRPr>
          </a:p>
        </p:txBody>
      </p:sp>
      <p:sp>
        <p:nvSpPr>
          <p:cNvPr id="6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8.2,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 (and subgroup) teleconferences are not permitted to make formal motions, with the exception of when a TG is operating under the accelerated process and when it is a sponsor ballot comment resolution committee (CRC).</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G operating under the accelerated process follows the rules in section 3.9.4 of this document which permit voting on formal motions on teleconference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 ballot CRC teleconferences, albeit announced in the WG and consisting of WG participants, operate under the authority of the sponsor, and are therefore permitted to vote on formal motion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8687FC-501F-4A54-B98A-9C990005A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3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November 12, 2020)</a:t>
            </a:r>
            <a:endParaRPr b="0" lang="en-US" sz="1800" spc="-1" strike="noStrike">
              <a:solidFill>
                <a:srgbClr val="000000"/>
              </a:solidFill>
              <a:latin typeface="Times New Roman"/>
            </a:endParaRPr>
          </a:p>
        </p:txBody>
      </p:sp>
      <p:graphicFrame>
        <p:nvGraphicFramePr>
          <p:cNvPr id="636" name=""/>
          <p:cNvGraphicFramePr/>
          <p:nvPr/>
        </p:nvGraphicFramePr>
        <p:xfrm>
          <a:off x="685800" y="1676520"/>
          <a:ext cx="7772400" cy="256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4BDCD1-1685-4EFB-92B4-126BC941C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3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November 12, 2020)</a:t>
            </a:r>
            <a:endParaRPr b="0" lang="en-US" sz="1800" spc="-1" strike="noStrike">
              <a:solidFill>
                <a:srgbClr val="000000"/>
              </a:solidFill>
              <a:latin typeface="Times New Roman"/>
            </a:endParaRPr>
          </a:p>
        </p:txBody>
      </p:sp>
      <p:graphicFrame>
        <p:nvGraphicFramePr>
          <p:cNvPr id="641" name=""/>
          <p:cNvGraphicFramePr/>
          <p:nvPr/>
        </p:nvGraphicFramePr>
        <p:xfrm>
          <a:off x="685800" y="1676520"/>
          <a:ext cx="7772400" cy="3787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06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3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82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180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96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6 (D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0112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initial SA letter ballot (D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155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recirculation SA letter ballot (D6.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C87A43-71BA-4A51-A1FA-EC40D8C946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November 11</a:t>
            </a:r>
            <a:endParaRPr b="0" lang="en-US" sz="3200" spc="-1" strike="noStrike">
              <a:solidFill>
                <a:srgbClr val="000000"/>
              </a:solidFill>
              <a:latin typeface="Times New Roman"/>
            </a:endParaRPr>
          </a:p>
        </p:txBody>
      </p:sp>
      <p:pic>
        <p:nvPicPr>
          <p:cNvPr id="644" name="Rectangle 3" descr=""/>
          <p:cNvPicPr/>
          <p:nvPr/>
        </p:nvPicPr>
        <p:blipFill>
          <a:blip r:embed="rId1"/>
          <a:stretch/>
        </p:blipFill>
        <p:spPr>
          <a:xfrm>
            <a:off x="633240" y="1646280"/>
            <a:ext cx="7828200" cy="4754520"/>
          </a:xfrm>
          <a:prstGeom prst="rect">
            <a:avLst/>
          </a:prstGeom>
          <a:ln w="0">
            <a:noFill/>
          </a:ln>
        </p:spPr>
      </p:pic>
      <p:sp>
        <p:nvSpPr>
          <p:cNvPr id="64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F469C9-7E86-4137-8ACB-6D5A28254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ctober 2020 teleconference call minutes</a:t>
            </a:r>
            <a:endParaRPr b="0" lang="en-US" sz="3200" spc="-1" strike="noStrike">
              <a:solidFill>
                <a:srgbClr val="000000"/>
              </a:solidFill>
              <a:latin typeface="Times New Roman"/>
            </a:endParaRPr>
          </a:p>
        </p:txBody>
      </p:sp>
      <p:sp>
        <p:nvSpPr>
          <p:cNvPr id="64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ask Group AY minutes of the teleconference calls on October 26 and October 28, 2020:</a:t>
            </a:r>
            <a:endParaRPr b="0" lang="en-US" sz="20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20/11-20-1706-01-00ay-task-group-ay-october-26-2020-teleconference-minutes.docx</a:t>
            </a:r>
            <a:endParaRPr b="0" lang="en-US" sz="16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s://mentor.ieee.org/802.11/dcn/20/11-20-1724-00-00ay-task-group-ay-october-28-2020-teleconference-minutes.docx</a:t>
            </a:r>
            <a:endParaRPr b="0" lang="en-US" sz="1600" spc="-1" strike="noStrike">
              <a:solidFill>
                <a:srgbClr val="000000"/>
              </a:solidFill>
              <a:latin typeface="Times New Roman"/>
            </a:endParaRPr>
          </a:p>
          <a:p>
            <a:pPr lvl="1" marL="800280" indent="-343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Claudio da Silva</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Approved with unanimous consent</a:t>
            </a:r>
            <a:endParaRPr b="0" lang="en-US" sz="2000" spc="-1" strike="noStrike">
              <a:solidFill>
                <a:srgbClr val="000000"/>
              </a:solidFill>
              <a:latin typeface="Times New Roman"/>
            </a:endParaRPr>
          </a:p>
        </p:txBody>
      </p:sp>
      <p:sp>
        <p:nvSpPr>
          <p:cNvPr id="65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November 18,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10:00am ET – 12:00p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242290-DFD9-46FC-8BD6-E359AAEC8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896797-F626-4C46-94CF-49AD2B74C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3:  Comment Resolution</a:t>
            </a:r>
            <a:endParaRPr b="0" lang="en-US" sz="3200" spc="-1" strike="noStrike">
              <a:solidFill>
                <a:srgbClr val="000000"/>
              </a:solidFill>
              <a:latin typeface="Times New Roman"/>
            </a:endParaRPr>
          </a:p>
        </p:txBody>
      </p:sp>
      <p:sp>
        <p:nvSpPr>
          <p:cNvPr id="65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 7031 as shown in 20/1751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Solomon Train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 (11 Yes; 0 No; 0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D00AAFB-1EDB-47B4-877F-CC3CB83B0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4:  Comment Resolution</a:t>
            </a:r>
            <a:endParaRPr b="0" lang="en-US" sz="3200" spc="-1" strike="noStrike">
              <a:solidFill>
                <a:srgbClr val="000000"/>
              </a:solidFill>
              <a:latin typeface="Times New Roman"/>
            </a:endParaRPr>
          </a:p>
        </p:txBody>
      </p:sp>
      <p:sp>
        <p:nvSpPr>
          <p:cNvPr id="65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following resolution for CIDs 7087 and 7088:  Rejected, the commenter withdraw his comments.</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lecsander Eita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  Assaf Kasher</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Approved with unanimous consent</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6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9CC4B4-C093-4A26-BA0E-3D4C5350C0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y other business</a:t>
            </a:r>
            <a:endParaRPr b="0" lang="en-US" sz="3200" spc="-1" strike="noStrike">
              <a:solidFill>
                <a:srgbClr val="000000"/>
              </a:solidFill>
              <a:latin typeface="Times New Roman"/>
            </a:endParaRPr>
          </a:p>
        </p:txBody>
      </p:sp>
      <p:sp>
        <p:nvSpPr>
          <p:cNvPr id="6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6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914118-9C72-4BA9-9164-C07E7F436D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November 16</a:t>
            </a:r>
            <a:endParaRPr b="0" lang="en-US" sz="3200" spc="-1" strike="noStrike">
              <a:solidFill>
                <a:srgbClr val="000000"/>
              </a:solidFill>
              <a:latin typeface="Times New Roman"/>
            </a:endParaRPr>
          </a:p>
        </p:txBody>
      </p:sp>
      <p:pic>
        <p:nvPicPr>
          <p:cNvPr id="669" name="Rectangle 3" descr=""/>
          <p:cNvPicPr/>
          <p:nvPr/>
        </p:nvPicPr>
        <p:blipFill>
          <a:blip r:embed="rId1"/>
          <a:stretch/>
        </p:blipFill>
        <p:spPr>
          <a:xfrm>
            <a:off x="633240" y="1646280"/>
            <a:ext cx="7858440" cy="4754520"/>
          </a:xfrm>
          <a:prstGeom prst="rect">
            <a:avLst/>
          </a:prstGeom>
          <a:ln w="0">
            <a:noFill/>
          </a:ln>
        </p:spPr>
      </p:pic>
      <p:sp>
        <p:nvSpPr>
          <p:cNvPr id="67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7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FF2508-17A6-476B-85CE-52569B11C0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 on November 18</a:t>
            </a:r>
            <a:endParaRPr b="0" lang="en-US" sz="3200" spc="-1" strike="noStrike">
              <a:solidFill>
                <a:srgbClr val="000000"/>
              </a:solidFill>
              <a:latin typeface="Times New Roman"/>
            </a:endParaRPr>
          </a:p>
        </p:txBody>
      </p:sp>
      <p:sp>
        <p:nvSpPr>
          <p:cNvPr id="67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us review</a:t>
            </a:r>
            <a:endParaRPr b="0" lang="en-US" sz="2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of November 16, 2020, out of the 90 CIDs</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6 CIDs approved</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CIDs pending for motion</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CIDs pending for resolution</a:t>
            </a:r>
            <a:endParaRPr b="0" lang="en-US" sz="16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resolution (CIDs 7085, 7086)</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ion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7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B1C243-0066-4155-AF2D-A3DE82FCF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5:  Comment Resolution</a:t>
            </a:r>
            <a:endParaRPr b="0" lang="en-US" sz="3200" spc="-1" strike="noStrike">
              <a:solidFill>
                <a:srgbClr val="000000"/>
              </a:solidFill>
              <a:latin typeface="Times New Roman"/>
            </a:endParaRPr>
          </a:p>
        </p:txBody>
      </p:sp>
      <p:sp>
        <p:nvSpPr>
          <p:cNvPr id="67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comment resolution for CIDs 7026 and 7041 as shown in 20/1848r0.</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8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B8D970-97A3-428B-9CEE-3EA508DA28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6:  Comment Resolution</a:t>
            </a:r>
            <a:endParaRPr b="0" lang="en-US" sz="3200" spc="-1" strike="noStrike">
              <a:solidFill>
                <a:srgbClr val="000000"/>
              </a:solidFill>
              <a:latin typeface="Times New Roman"/>
            </a:endParaRPr>
          </a:p>
        </p:txBody>
      </p:sp>
      <p:sp>
        <p:nvSpPr>
          <p:cNvPr id="68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following resolution for CID 7085:  Rejected, the comment fails to identify changes in sufficient detail so that the specific wording of the changes that will satisfy the commenter can be determined.</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8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D3ECEE-8085-4E15-9503-254F16E18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7:  Comment Resolu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ft, depending on a tentative submission]</a:t>
            </a:r>
            <a:endParaRPr b="0" lang="en-US" sz="3200" spc="-1" strike="noStrike">
              <a:solidFill>
                <a:srgbClr val="000000"/>
              </a:solidFill>
              <a:latin typeface="Times New Roman"/>
            </a:endParaRPr>
          </a:p>
        </p:txBody>
      </p:sp>
      <p:sp>
        <p:nvSpPr>
          <p:cNvPr id="68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ccept the following resolution for CID 7086:  </a:t>
            </a:r>
            <a:endParaRPr b="0" lang="en-US" sz="20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jected, the comment fails to identify changes in sufficient detail so that the specific wording of the changes that will satisfy the commenter can be determined.</a:t>
            </a:r>
            <a:endParaRPr b="0" lang="en-US" sz="1600" spc="-1" strike="noStrike">
              <a:solidFill>
                <a:srgbClr val="000000"/>
              </a:solidFill>
              <a:latin typeface="Times New Roman"/>
            </a:endParaRPr>
          </a:p>
          <a:p>
            <a:pPr lvl="1" marL="5158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as shown in contribution 20/TBDrTBD.</a:t>
            </a:r>
            <a:endParaRPr b="0" lang="en-US" sz="16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482AE4-E483-47AA-9727-385920942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698:  SA Recirculation ballot</a:t>
            </a:r>
            <a:endParaRPr b="0" lang="en-US" sz="3200" spc="-1" strike="noStrike">
              <a:solidFill>
                <a:srgbClr val="000000"/>
              </a:solidFill>
              <a:latin typeface="Times New Roman"/>
            </a:endParaRPr>
          </a:p>
        </p:txBody>
      </p:sp>
      <p:sp>
        <p:nvSpPr>
          <p:cNvPr id="694"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ving approved comment resolutions for all of the comments received from the initial Standards Association ballot on P802.11ay Draft 6.0 as contained in document </a:t>
            </a:r>
            <a:r>
              <a:rPr b="1" lang="en-US" sz="2000" spc="-1" strike="noStrike" u="sng">
                <a:solidFill>
                  <a:srgbClr val="0066ff"/>
                </a:solidFill>
                <a:uFillTx/>
                <a:latin typeface="Times New Roman"/>
                <a:hlinkClick r:id="rId1"/>
              </a:rPr>
              <a:t>https://mentor.ieee.org/802.11/dcn/20/11-20-1558-03-00ay-comments-on-tgay-d6-0.xlsx</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struct the editor to prepare Draft 7.0 incorporating these resolutions and,</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ve a 10 day Standards Association Recirculation Ballot asking the question “Should P802.11ay Draft 7.0 be forwarded to RevCom?”</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 </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9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E52B38-EA4F-45EE-B381-A4A81F9736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November 11, November 16, and November 18, 202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ay is operating as the Comment Resolution Committee (CRC) for P802.11ay.</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77E4DBA-66DE-43F7-B3E7-01CA5C7E21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519E55CB-F2C4-49D3-9C93-736A6C01C9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F75BBD-A2B2-4B05-B97D-200F4AFDC6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5957D7-9141-44B0-8721-6EACDE6F4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3659B776-CEF3-40AB-A3EB-BF40FA9690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IEEE Code of Ethics</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IEEE Code of Conduc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phold the highest standards of integrity, responsible behavior, and ethical and professional conduct</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eat people fairly and with respect, to not engage in harassment, discrimination, or retaliation, and to protect people's privacy.</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void injuring others, their property, reputation, or employment by false or malicious action</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org/about/corporate/governance</a:t>
            </a:r>
            <a:endParaRPr b="0" lang="en-US" sz="1800" spc="-1" strike="noStrike">
              <a:solidFill>
                <a:srgbClr val="000000"/>
              </a:solidFill>
              <a:latin typeface="Times New Roman"/>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 behavior in IEEE-SA activities is guided by the IEEE Codes of Ethics &amp; Conduct</a:t>
            </a:r>
            <a:endParaRPr b="0" lang="en-US" sz="2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0EDE7383-D8FA-47AB-8785-0F69D47C19D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0"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20</a:t>
            </a:r>
            <a:endParaRPr b="0" lang="en-US" sz="1800" spc="-1" strike="noStrike">
              <a:solidFill>
                <a:srgbClr val="000000"/>
              </a:solidFill>
              <a:latin typeface="Times New Roman"/>
            </a:endParaRPr>
          </a:p>
        </p:txBody>
      </p:sp>
      <p:sp>
        <p:nvSpPr>
          <p:cNvPr id="6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s in the IEEE-SA “individual process” shall act independently of others, including employers</a:t>
            </a:r>
            <a:endParaRPr b="0" lang="en-US" sz="2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November 2020 meeting agenda</cp:keywords>
  <dc:language>en-US</dc:language>
  <cp:lastModifiedBy>Edward Au</cp:lastModifiedBy>
  <cp:lastPrinted>2014-11-04T15:04:57Z</cp:lastPrinted>
  <dcterms:modified xsi:type="dcterms:W3CDTF">2020-11-16T19:43:49Z</dcterms:modified>
  <cp:revision>4737</cp:revision>
  <dc:subject>Task Group AY November 2015 Meeting Agenda</dc:subject>
  <dc:title>20/1800r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