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5EBEF2C9-CEF9-4EC9-B070-1F8B0475AB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EA25EE8-83E3-492C-A5D6-B11FADD840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1" name="PlaceHolder 1"/>
          <p:cNvSpPr>
            <a:spLocks noGrp="1"/>
          </p:cNvSpPr>
          <p:nvPr>
            <p:ph type="sldImg"/>
          </p:nvPr>
        </p:nvSpPr>
        <p:spPr>
          <a:xfrm>
            <a:off x="1154160" y="701640"/>
            <a:ext cx="4626000" cy="3468600"/>
          </a:xfrm>
          <a:prstGeom prst="rect">
            <a:avLst/>
          </a:prstGeom>
          <a:ln w="0">
            <a:noFill/>
          </a:ln>
        </p:spPr>
      </p:sp>
      <p:sp>
        <p:nvSpPr>
          <p:cNvPr id="6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1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1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1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8EF82AF-13B2-4D5C-A383-BDBDEC596C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54160" y="701640"/>
            <a:ext cx="4626000" cy="3468600"/>
          </a:xfrm>
          <a:prstGeom prst="rect">
            <a:avLst/>
          </a:prstGeom>
          <a:ln w="0">
            <a:noFill/>
          </a:ln>
        </p:spPr>
      </p:sp>
      <p:sp>
        <p:nvSpPr>
          <p:cNvPr id="72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0A694AB-7044-4777-9916-B916C5FDE1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3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A5F8AE-09A1-4F09-9B69-BC1D64256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3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3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3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B68231-F01B-420B-A619-421CD4A3F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PlaceHolder 1"/>
          <p:cNvSpPr>
            <a:spLocks noGrp="1"/>
          </p:cNvSpPr>
          <p:nvPr>
            <p:ph type="sldImg"/>
          </p:nvPr>
        </p:nvSpPr>
        <p:spPr>
          <a:xfrm>
            <a:off x="1154160" y="701640"/>
            <a:ext cx="4626000" cy="3468600"/>
          </a:xfrm>
          <a:prstGeom prst="rect">
            <a:avLst/>
          </a:prstGeom>
          <a:ln w="0">
            <a:noFill/>
          </a:ln>
        </p:spPr>
      </p:sp>
      <p:sp>
        <p:nvSpPr>
          <p:cNvPr id="73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CF2391-DC46-4449-A766-66DE07291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164C5D8-DA09-45E5-9936-E3A11DD188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FE1E3B6-A74F-4373-9C9A-E26675B252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E871C4-1C1C-4E4A-BF29-D40389162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54160" y="701640"/>
            <a:ext cx="4626000" cy="3468600"/>
          </a:xfrm>
          <a:prstGeom prst="rect">
            <a:avLst/>
          </a:prstGeom>
          <a:ln w="0">
            <a:noFill/>
          </a:ln>
        </p:spPr>
      </p:sp>
      <p:sp>
        <p:nvSpPr>
          <p:cNvPr id="7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C3FD52-BF1E-4E2D-A477-241281A097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163C57-55A9-4980-A38A-B04C785E1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3BBC90-2A8D-4126-9BEF-599C7DD597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5AFF0A9-C807-4D4B-BE1D-D109874A8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302954-84BB-49ED-977D-FA0C4FAD6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1F555E6-7753-4700-9F86-20D6A678B0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A0869A-6EF6-4285-9B80-F72339864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FDDD1C-FFBC-4F22-AE6B-AF2628540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PlaceHolder 1"/>
          <p:cNvSpPr>
            <a:spLocks noGrp="1"/>
          </p:cNvSpPr>
          <p:nvPr>
            <p:ph type="sldImg"/>
          </p:nvPr>
        </p:nvSpPr>
        <p:spPr>
          <a:xfrm>
            <a:off x="1154160" y="701640"/>
            <a:ext cx="4626000" cy="3468600"/>
          </a:xfrm>
          <a:prstGeom prst="rect">
            <a:avLst/>
          </a:prstGeom>
          <a:ln w="0">
            <a:noFill/>
          </a:ln>
        </p:spPr>
      </p:sp>
      <p:sp>
        <p:nvSpPr>
          <p:cNvPr id="6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84F5EC7C-ECA8-4392-9EAF-F25A643FB7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9" name="PlaceHolder 1"/>
          <p:cNvSpPr>
            <a:spLocks noGrp="1"/>
          </p:cNvSpPr>
          <p:nvPr>
            <p:ph type="sldImg"/>
          </p:nvPr>
        </p:nvSpPr>
        <p:spPr>
          <a:xfrm>
            <a:off x="1147680" y="696960"/>
            <a:ext cx="4640400" cy="3479760"/>
          </a:xfrm>
          <a:prstGeom prst="rect">
            <a:avLst/>
          </a:prstGeom>
          <a:ln w="0">
            <a:noFill/>
          </a:ln>
        </p:spPr>
      </p:sp>
      <p:sp>
        <p:nvSpPr>
          <p:cNvPr id="69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9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485F082C-AB22-4126-8DB7-6F6323A9C1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5" name="PlaceHolder 1"/>
          <p:cNvSpPr>
            <a:spLocks noGrp="1"/>
          </p:cNvSpPr>
          <p:nvPr>
            <p:ph type="sldImg"/>
          </p:nvPr>
        </p:nvSpPr>
        <p:spPr>
          <a:xfrm>
            <a:off x="1147680" y="696960"/>
            <a:ext cx="4640400" cy="3479760"/>
          </a:xfrm>
          <a:prstGeom prst="rect">
            <a:avLst/>
          </a:prstGeom>
          <a:ln w="0">
            <a:noFill/>
          </a:ln>
        </p:spPr>
      </p:sp>
      <p:sp>
        <p:nvSpPr>
          <p:cNvPr id="69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D9A0DD4-7165-4BA9-9A51-5542BB2C9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8" name="PlaceHolder 1"/>
          <p:cNvSpPr>
            <a:spLocks noGrp="1"/>
          </p:cNvSpPr>
          <p:nvPr>
            <p:ph type="sldImg"/>
          </p:nvPr>
        </p:nvSpPr>
        <p:spPr>
          <a:xfrm>
            <a:off x="1154160" y="701640"/>
            <a:ext cx="4626000" cy="3468600"/>
          </a:xfrm>
          <a:prstGeom prst="rect">
            <a:avLst/>
          </a:prstGeom>
          <a:ln w="0">
            <a:noFill/>
          </a:ln>
        </p:spPr>
      </p:sp>
      <p:sp>
        <p:nvSpPr>
          <p:cNvPr id="6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F09CA6B0-50BE-4B11-8DE1-708580AB3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DEABDB-111C-4877-B993-A851C1C80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7" name="PlaceHolder 1"/>
          <p:cNvSpPr>
            <a:spLocks noGrp="1"/>
          </p:cNvSpPr>
          <p:nvPr>
            <p:ph type="sldImg"/>
          </p:nvPr>
        </p:nvSpPr>
        <p:spPr>
          <a:xfrm>
            <a:off x="1154160" y="701640"/>
            <a:ext cx="4626000" cy="3468600"/>
          </a:xfrm>
          <a:prstGeom prst="rect">
            <a:avLst/>
          </a:prstGeom>
          <a:ln w="0">
            <a:noFill/>
          </a:ln>
        </p:spPr>
      </p:sp>
      <p:sp>
        <p:nvSpPr>
          <p:cNvPr id="70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1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11"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1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C66855D-2F72-4355-B9BE-4A4C54E2C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F5BF5-4FAE-46E7-8ACF-4DE89C316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726A4-D1D8-4831-B208-0A89DF5B4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85ED0-5050-4116-9C25-2EEC4AB603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1C9366-FC94-47E1-9C3B-DDA420A59C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28DE66-B063-461F-B303-B0DF4674E8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AB3736-1F8D-4A03-B556-2265DB6E4F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A48B6-21BB-4342-9C85-774322C2B7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A5682-844E-4D4D-8C2D-01CD8255A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71624C-701E-494D-810A-FE215F84A6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4B8515-029E-4687-AA8A-2C616AFAD8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45521F-A44E-4C8D-A1FA-D7E4375E90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76EF36E-1A9C-4B48-ABB2-4D4B736549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90611-9649-4CD3-8607-044CA0194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96E8296-B628-4A1D-9C51-7F25C60C42F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B13841-70EE-4022-91BC-880B3C4EFBA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050E122-3178-4FE3-8209-EDAE25A585D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320C22-8C10-4B11-9BAE-222F8BC3AF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9889C8-5727-4A81-900C-2E535BBF08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0A1C90-AFA9-4ECC-AE9E-C8FD977069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C212B7-A983-4A74-89CF-4F2BE9323FB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9061F5-082F-4134-8395-67A003B956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D3684B-40A5-4BF7-BCC7-B133572C6E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4F58FFE-90AA-411A-A6FE-E65EB165CF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89C66-341C-4AEE-8C26-9FB70AD66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E826A8-729E-413E-9FDD-B6C00200FD9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A94DE2-CEFA-4CE4-81C6-1FB2E6B4C0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26506C-2098-4DED-9D3B-26E1AFEBA6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C902B2-C6AC-4C6C-98A5-AFF20C3551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9C0F477-D57E-4FBA-9580-B0C57A302F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09DE78-2CD7-4B62-B75F-0E28467F032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1E84DD-6D9A-497F-BB7D-3C9D6D97B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2C7FF5-8CCC-4B53-97DC-AA27FBFDF5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DA31F3B-256A-418E-81A7-2FDEDF01F2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C6D3F6-ABF6-451D-87A0-7F123A097D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8442D-8A31-49D6-B6D6-4E6C24449C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2AE920-6AB9-425E-AC3E-C53F1299D9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527260A-52C1-4E8B-B626-952E696195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36A24B2-6CCA-4B42-814E-93FBCEC8E8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D4342BD-8564-4691-BE8C-CEDAD1BF4C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CB5F2A9-5D7E-4DAB-A348-10101B7B29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27646D3-B960-4BDA-AC2E-031C9342304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B638EE-F902-4125-955F-53F929DF96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CC567E-8811-4558-829F-02098ED70CE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3FC059-789D-4C3B-AF5D-CE288E43B4D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3E18E7-5282-4DD5-9348-7FBFA58119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7DC78F-13E1-41D6-B7AA-B72024CD0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A8A6E6-9EBE-4251-A9E5-AACD83477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4A00F8-9631-449C-A463-51358F56B9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437A3D0-2715-4B58-8C7E-3F55E263B2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24EDF2A-402B-47F0-A639-BBA463B365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E7E177C-3CDC-45AF-B03D-D0070CAFD7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D43CA-528A-4D5D-B1F9-F19CE33F5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37A22-9107-4738-8017-DC3AC92B3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B8836B-B710-4171-935F-FC5E0FFB4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D6B755-510A-45EB-A752-5F8C8B564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676B0-4571-4D33-8571-396F956AB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BAA38-BE46-4B5C-841D-51D8BBE1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B9583-56C8-44CB-BEA2-AD6AD1445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95623-CCAF-4DCD-ACEC-673A58967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A6590-9B05-419F-B9D9-A0F0749FD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69EBCF-87F2-4978-A93F-9DB3E910F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09E50-24CC-4A3C-97F3-F7A9991C52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35B7F2-A4AA-4C5D-A003-37C723C4AD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B3D1ED-9DBB-4223-BB77-B6CA16CC09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956E76-61CE-4A27-B4D3-14AC103C1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6C154-AC08-495B-B196-7CA828062B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5536D6-F5C6-4463-A7AD-9402E23B08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18AB7-75F8-4E05-AC95-7B0309AE6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BF474B-2EDF-4600-A176-24F78C7D0A3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E88E3-F0F2-4967-AE43-8547B9744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06D4B0-2E11-4EDC-9EDB-C31DDA5EF8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4BC3F5-F440-4CCA-A49E-892B588660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216F6-1B78-470A-BE1C-164A4BCEB2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A45196-074A-485A-A0AA-EBCEC1BCD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927627-1C00-4407-ADFE-6620DFE18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E8C608-ADA3-4957-8073-5A46ADA280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EE558-5C58-4371-940D-95BFD6858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881DD9-8B56-4A73-997B-220F31AC98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98BC-44B2-4138-B0B6-3DD20281D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8D585-2CC8-4EC7-999A-5028C75362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CB1042-025A-4F8E-95D7-EC20AD7B1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127296-7679-4908-AA31-E1BE22D33F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C77E6-3DBC-4F07-80BF-386E7807A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2CDCCA-45EB-431D-BFB3-9C0BF2DBDE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71160A-8D0F-4C68-9FF7-8AA3A6CF6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41215-AB6D-401E-A164-8F3850A813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86DEF6-00A1-4E42-8941-57968C907D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38F22B-FAE8-47FC-A65A-797B0DDFF3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BA24F1-6A2C-4719-A0E2-87294498BF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7473A-D6EB-43C3-B324-D2815B23C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D38161-CD4D-4E73-BD25-142515851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E7AC77-F64D-4E44-B3BA-D5EA52C721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C4A0F3-886A-4C4C-97C3-491A67FB9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3230C9-6204-460B-87DF-59BB5652D9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B11AF-86E4-4E00-AD97-AC265D0633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74F400-9C56-4609-8405-463EBEE233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F3289D-608C-48B2-A83E-A9FC5E429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0C0072-16BB-4A83-B9F9-9DBA9CD8F9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F4BCCD-A54B-490E-9BF0-91F54A0C2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D9A84E-A55E-4C0F-ABE7-5925D2F261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3652F-F58B-42FA-B9B5-C0E8917C4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37301-9E5E-435B-8ECC-A1A6A880A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E7CF32-C32A-4D7E-BBA8-F032D8BB2B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6C1A7-E8C3-4C45-A1D4-EC2AA0AA5A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CBD956-A8CC-47F0-9DCC-456F6E51E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6373EB-693A-4EA0-BB07-293A9C0FC6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988BF-1ED7-4982-B4AE-F791035A05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06C07A-9F4D-47D8-82E6-94EF193E93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152D6-655D-49E9-8281-8AE9B3DC3F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45C5BF-94EB-4CB2-A95E-022238B48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C6FDEF-C655-4A6E-87D4-E18413473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E4BA-5CFA-4E22-80AD-41A949E52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3D769-4828-45DC-B781-C254F28A25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FE23C-F361-439D-A59A-DE1FD1BECD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F2E764-B031-4A4D-9711-9053406B41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D9E506-5992-4F04-A673-139EDB38A16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43E7B-627F-42FF-9940-81655732D7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BE01BC5-4A10-4892-AF62-F6D4C40B13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517435-FF23-4C7D-997D-BBC2B23A4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7C80B-7B5D-45CF-95FE-F9B8E3664E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AC0581-D2C4-4365-8E0C-F7932D676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6BAFC-0A47-4F91-BBF5-5164AD36DD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F3D5-0424-4011-868B-397AF4D21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9D9BB5-71B6-4BC1-A4F0-2BAE178EF6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6060A-6E4F-4F33-BE6D-82B312198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3FC9A2-F941-47E1-AE9A-55F5B30D40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8A3466-DB09-426E-AF41-35D930A12C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E06708-CD7D-4B71-B16B-95C24AA76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C12C98-553E-4465-BE56-08EA6A2C62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F61BA4-DCCE-407D-9D30-138766605F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DDF1B-0073-4E29-BB8A-C507AD99BC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D58A91-7C1B-45D0-9894-2285468479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1F7834-8C9E-44FF-A3E9-0927AF9FAC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3EE02-8D3D-4286-B8B1-233B7C79D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06C788-BF93-4084-8803-40F946EC77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8182F6-26C2-418B-82DF-D69BA1A5E4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CF6513-B039-4212-B1DD-831D3ECDA2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59A5EB-C9D7-4B81-8BAA-5EF27D6C2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737818D-510F-4521-8D0B-2815994DA0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FA88F8-0691-4537-B688-6E51600A71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70D754E-FE20-4E8C-8A83-C61B858930E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66A9B6-0092-49F9-9215-94E80248C7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2C2EC5-34F3-4563-98A0-BF2FFE7D07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4E7BA9-8656-44D3-9E33-EDFCBDFCAF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594DD1-8ACD-4158-8CE5-9D62EE4CF8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466DE14-EC23-4C92-918D-4215EFEE8C2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FFE61D7-A533-444B-863C-2F7241A0BA6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5B0AE5B-F881-492A-A8E1-99614984830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972BBEB-BDE1-4DCE-8DA1-D97BB46552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593206-86D6-4275-BBEA-8FDA68B628A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D1155FA-4489-417C-A8B0-FF641FFE904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7D42CF0-AF91-4B9C-A859-75B09F7810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919A8A3-1A3A-4660-8D60-B1A51AE7FA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D1D4EFC-9340-4A28-971D-9FB225E5E84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B49F12F-DED7-4118-B6BA-057A843658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C93CA78-CB54-4C6E-951A-5B06A4DDC9B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20/11-20-1706-01-00ay-task-group-ay-october-26-2020-teleconference-minutes.docx" TargetMode="External"/><Relationship Id="rId2" Type="http://schemas.openxmlformats.org/officeDocument/2006/relationships/hyperlink" Target="https://mentor.ieee.org/802.11/dcn/20/11-20-1724-00-00ay-task-group-ay-october-28-2020-teleconference-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B16F5A-2C02-4F58-9F9B-C1DCCF4E11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8380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t>
            </a:r>
            <a:br>
              <a:rPr sz="3200"/>
            </a:br>
            <a:r>
              <a:rPr b="1" lang="en-US" sz="3200" spc="-1" strike="noStrike">
                <a:solidFill>
                  <a:srgbClr val="000000"/>
                </a:solidFill>
                <a:latin typeface="Times New Roman"/>
              </a:rPr>
              <a:t>November 2020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11-11</a:t>
            </a:r>
            <a:endParaRPr b="1" lang="en-US" sz="2000" spc="-1" strike="noStrike">
              <a:solidFill>
                <a:srgbClr val="000000"/>
              </a:solidFill>
              <a:latin typeface="Times New Roman"/>
            </a:endParaRPr>
          </a:p>
        </p:txBody>
      </p:sp>
      <p:graphicFrame>
        <p:nvGraphicFramePr>
          <p:cNvPr id="555" name="Object 11"/>
          <p:cNvGraphicFramePr/>
          <p:nvPr/>
        </p:nvGraphicFramePr>
        <p:xfrm>
          <a:off x="669960" y="304956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3049560"/>
                    <a:ext cx="7804080" cy="1000080"/>
                  </a:xfrm>
                  <a:prstGeom prst="rect">
                    <a:avLst/>
                  </a:prstGeom>
                  <a:ln w="0">
                    <a:noFill/>
                  </a:ln>
                </p:spPr>
              </p:pic>
            </p:oleObj>
          </a:graphicData>
        </a:graphic>
      </p:graphicFrame>
      <p:sp>
        <p:nvSpPr>
          <p:cNvPr id="557" name="Rectangle 12"/>
          <p:cNvSpPr/>
          <p:nvPr/>
        </p:nvSpPr>
        <p:spPr>
          <a:xfrm>
            <a:off x="685800" y="25146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73B0ED8D-AF92-4A05-A93D-A7E5F840E7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5C5A59-2AD5-4E20-8FC8-B78D4B9B0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7476C5-54DA-4FE2-AA2E-9D3F4E911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register your attendance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imat.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UPDATED)</a:t>
            </a:r>
            <a:endParaRPr b="0" lang="en-US" sz="3200" spc="-1" strike="noStrike">
              <a:solidFill>
                <a:srgbClr val="000000"/>
              </a:solidFill>
              <a:latin typeface="Times New Roman"/>
            </a:endParaRPr>
          </a:p>
        </p:txBody>
      </p:sp>
      <p:sp>
        <p:nvSpPr>
          <p:cNvPr id="6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F0A846-C7B8-4BA3-939D-150B414BE8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A0372E-708A-4916-A645-C7ED4BA3C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75F618-82A0-4A9A-8E0B-D39D612D9A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B176344-4B6B-4C39-9D38-A9DFDEC29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5, 2020)</a:t>
            </a:r>
            <a:endParaRPr b="0" lang="en-US" sz="1800" spc="-1" strike="noStrike">
              <a:solidFill>
                <a:srgbClr val="000000"/>
              </a:solidFill>
              <a:latin typeface="Times New Roman"/>
            </a:endParaRPr>
          </a:p>
        </p:txBody>
      </p:sp>
      <p:graphicFrame>
        <p:nvGraphicFramePr>
          <p:cNvPr id="636"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F889C8-9021-4A16-9C36-AF606DEDE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5, 2020)</a:t>
            </a:r>
            <a:endParaRPr b="0" lang="en-US" sz="1800" spc="-1" strike="noStrike">
              <a:solidFill>
                <a:srgbClr val="000000"/>
              </a:solidFill>
              <a:latin typeface="Times New Roman"/>
            </a:endParaRPr>
          </a:p>
        </p:txBody>
      </p:sp>
      <p:graphicFrame>
        <p:nvGraphicFramePr>
          <p:cNvPr id="641" name=""/>
          <p:cNvGraphicFramePr/>
          <p:nvPr/>
        </p:nvGraphicFramePr>
        <p:xfrm>
          <a:off x="685800" y="1676520"/>
          <a:ext cx="7772400" cy="3787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6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3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9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6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0112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initial SA letter ballot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155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recirculation SA letter ballot (D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00524F-F246-489A-9C6E-39DBE2DBC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review</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of November 5, 2020, out of the 90 CIDs</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3 CIDs approved</a:t>
            </a:r>
            <a:endParaRPr b="0" lang="en-US" sz="1400" spc="-1" strike="noStrike">
              <a:solidFill>
                <a:srgbClr val="000000"/>
              </a:solidFill>
              <a:latin typeface="Times New Roman"/>
            </a:endParaRPr>
          </a:p>
          <a:p>
            <a:pPr lvl="2" marL="1143000" indent="-228600" algn="just">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 CID presented and pending for further discussion,  6 CIDs pending for resolution</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Bug Fixe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D 7086, Payam Torab (Facebook)</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D 7085, Payam Torab (Facebook)</a:t>
            </a:r>
            <a:endParaRPr b="0" lang="en-US" sz="1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xt 2 calls:  2pm ET on November 16 (Monday), 10am ET on November 18 (Wednesday)</a:t>
            </a: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9276F7-600C-4BC0-8A4B-5BF8AD319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ctober 2020 teleconference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October 26 and October 28, 2020:</a:t>
            </a:r>
            <a:endParaRPr b="0" lang="en-US" sz="20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20/11-20-1706-01-00ay-task-group-ay-october-26-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20/11-20-1724-00-00ay-task-group-ay-october-28-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a:t>
            </a:r>
            <a:endParaRPr b="0" lang="en-US" sz="2000" spc="-1" strike="noStrike">
              <a:solidFill>
                <a:srgbClr val="000000"/>
              </a:solidFill>
              <a:latin typeface="Times New Roman"/>
            </a:endParaRPr>
          </a:p>
        </p:txBody>
      </p:sp>
      <p:sp>
        <p:nvSpPr>
          <p:cNvPr id="6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1,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2:00p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41402B-E36F-4FF3-8FBB-79A980C21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94DC33-1387-4C55-94E5-0F1233B1D4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3:  Comment Resolution</a:t>
            </a:r>
            <a:endParaRPr b="0" lang="en-US" sz="3200" spc="-1" strike="noStrike">
              <a:solidFill>
                <a:srgbClr val="000000"/>
              </a:solidFill>
              <a:latin typeface="Times New Roman"/>
            </a:endParaRPr>
          </a:p>
        </p:txBody>
      </p:sp>
      <p:sp>
        <p:nvSpPr>
          <p:cNvPr id="6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7031 as shown in 20/1751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F6D233-4CB6-4D1C-BB19-83BEE087A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4:  Comment Resolution</a:t>
            </a:r>
            <a:endParaRPr b="0" lang="en-US" sz="3200" spc="-1" strike="noStrike">
              <a:solidFill>
                <a:srgbClr val="000000"/>
              </a:solidFill>
              <a:latin typeface="Times New Roman"/>
            </a:endParaRPr>
          </a:p>
        </p:txBody>
      </p:sp>
      <p:sp>
        <p:nvSpPr>
          <p:cNvPr id="6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following resolution for CIDs 7087 and 7088:  Rejected, the commenter withdraw his comments.</a:t>
            </a:r>
            <a:endParaRPr b="0" lang="en-US" sz="2000" spc="-1" strike="noStrike">
              <a:solidFill>
                <a:srgbClr val="000000"/>
              </a:solidFill>
              <a:latin typeface="Times New Roman"/>
            </a:endParaRPr>
          </a:p>
          <a:p>
            <a:pPr marL="343080" indent="-343080" algn="just">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E – This draft motion is pending for the commenter’s reconfirmation]</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AA9D64-8C4D-4A55-839D-8AAFBA1583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other business</a:t>
            </a:r>
            <a:endParaRPr b="0" lang="en-US" sz="3200" spc="-1" strike="noStrike">
              <a:solidFill>
                <a:srgbClr val="000000"/>
              </a:solidFill>
              <a:latin typeface="Times New Roman"/>
            </a:endParaRPr>
          </a:p>
        </p:txBody>
      </p:sp>
      <p:sp>
        <p:nvSpPr>
          <p:cNvPr id="6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7A93B4-045B-4D12-8D7F-49730A935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November 11,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726CE72-874E-487F-BA42-8BAF73A723A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B140859-7AEB-4539-931A-0A86D44D51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0E7927-7CF5-497C-ACB2-B0DE103B8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94DCF2-CEE4-4CAD-98BF-471104BFD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44E7060B-C0E1-41AF-9558-EA231968C5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27D6F2A-1851-4B0C-A397-72227A49A4B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20 meeting agenda</cp:keywords>
  <dc:language>en-US</dc:language>
  <cp:lastModifiedBy>Edward Au</cp:lastModifiedBy>
  <cp:lastPrinted>2014-11-04T15:04:57Z</cp:lastPrinted>
  <dcterms:modified xsi:type="dcterms:W3CDTF">2020-11-05T19:34:12Z</dcterms:modified>
  <cp:revision>4699</cp:revision>
  <dc:subject>Task Group AY November 2015 Meeting Agenda</dc:subject>
  <dc:title>20/1800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