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9BF8D4-CB2A-4E85-942E-B24724382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6B5FEF-B324-40A4-B689-77342820E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3B758-581C-46E1-A9E2-792689179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FC6694-A529-41F0-99B0-0AB0AA031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C533E6-8DB9-4E05-B1A2-BBBDD56068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DB5531-E8FB-4F09-BC33-31823EE6E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F512C-0465-4685-B05E-0D2CFCA736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7970D-B457-4F6D-9743-870C7B205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18EA0-8931-4EDE-978D-F44E0647A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46CA21-EFDC-4CA8-AB63-B630E70CE5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3476B-6918-4C42-AB34-253C365A2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B7BE83-2476-451D-A60C-6A5326880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5BB23-928A-42FC-A4B5-97F54B2EAF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9FB6BB-F98A-4FAB-8BCC-08D35954C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339r2</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1560" y="320760"/>
            <a:ext cx="14439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February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2A8DA3-592D-44E0-9321-B896DE396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February and March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2-1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8B26979-06C6-46D9-8904-D2301FDBC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3C0904C-681D-47FC-9795-3BBFA971F2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81C1E70-EB90-47D3-9608-D75A11FA7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31BD85-1FE5-467F-BF9A-4CC2CFB16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4DCF14-3E32-4FDF-906A-5F8515C41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February 18 </a:t>
            </a:r>
            <a:endParaRPr b="0" lang="en-US" sz="32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the meeting to order</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ent policy and logistic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target of SENS SG and call for contribution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WG motion result for the PAR in January closing plenar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 the </a:t>
            </a:r>
            <a:r>
              <a:rPr b="1" lang="en-US" sz="1800" spc="-1" strike="noStrike">
                <a:solidFill>
                  <a:srgbClr val="000000"/>
                </a:solidFill>
                <a:latin typeface="Times New Roman"/>
              </a:rPr>
              <a:t>Study Group Timeline</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ation of submissions</a:t>
            </a: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852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other business</a:t>
            </a:r>
            <a:endParaRPr b="0" lang="en-US" sz="18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2570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440000" indent="-20556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52813F-BD48-4AF0-804E-CD7487503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2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1A1C52-A3B5-4D60-AA1A-791EB07D2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WG motion result for the PA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closing plenary </a:t>
            </a:r>
            <a:endParaRPr b="0" lang="en-US" sz="2800" spc="-1" strike="noStrike">
              <a:solidFill>
                <a:srgbClr val="000000"/>
              </a:solidFill>
              <a:latin typeface="Times New Roman"/>
            </a:endParaRPr>
          </a:p>
        </p:txBody>
      </p:sp>
      <p:sp>
        <p:nvSpPr>
          <p:cNvPr id="132" name="Rectangle 3"/>
          <p:cNvSpPr/>
          <p:nvPr/>
        </p:nvSpPr>
        <p:spPr>
          <a:xfrm>
            <a:off x="685800" y="1523880"/>
            <a:ext cx="7772400" cy="22100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motion for the PAR (19/2103r4) and CSD (20/42r1) passed in the SENS SG, some concern/comments were raised. And corresponding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revisions of PAR (19/2103r5) and CSD (20/42r2)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closing plenary, based on the motion for the PAR (19/2103r5), some editorial changes and timeline changes were made</a:t>
            </a:r>
            <a:endParaRPr b="0" lang="en-US" sz="1800" spc="-1" strike="noStrike">
              <a:solidFill>
                <a:srgbClr val="000000"/>
              </a:solidFill>
              <a:latin typeface="Times New Roman"/>
            </a:endParaRPr>
          </a:p>
          <a:p>
            <a:pPr lvl="1" marL="698400" indent="-2685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new revision of PAR (19/2103r6) </a:t>
            </a:r>
            <a:endParaRPr b="0" lang="en-US" sz="1600" spc="-1" strike="noStrike">
              <a:solidFill>
                <a:srgbClr val="000000"/>
              </a:solidFill>
              <a:latin typeface="Times New Roman"/>
            </a:endParaRPr>
          </a:p>
          <a:p>
            <a:pPr marL="322200" indent="-322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tion result is shown  below</a:t>
            </a:r>
            <a:endParaRPr b="0" lang="en-US" sz="1800" spc="-1" strike="noStrike">
              <a:solidFill>
                <a:srgbClr val="000000"/>
              </a:solidFill>
              <a:latin typeface="Times New Roman"/>
            </a:endParaRPr>
          </a:p>
        </p:txBody>
      </p:sp>
      <p:sp>
        <p:nvSpPr>
          <p:cNvPr id="13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pic>
        <p:nvPicPr>
          <p:cNvPr id="134" name="Picture 8" descr="C:\Users\h00316112\AppData\Roaming\eSpace_Desktop\UserData\h00316112\imagefiles\0413DFAD-0491-4360-AFA0-BA38D9878D64.png"/>
          <p:cNvPicPr/>
          <p:nvPr/>
        </p:nvPicPr>
        <p:blipFill>
          <a:blip r:embed="rId1"/>
          <a:stretch/>
        </p:blipFill>
        <p:spPr>
          <a:xfrm>
            <a:off x="685800" y="3962520"/>
            <a:ext cx="3772080" cy="2385720"/>
          </a:xfrm>
          <a:prstGeom prst="rect">
            <a:avLst/>
          </a:prstGeom>
          <a:ln w="9360">
            <a:solidFill>
              <a:srgbClr val="000000"/>
            </a:solidFill>
            <a:miter/>
          </a:ln>
        </p:spPr>
      </p:pic>
      <p:pic>
        <p:nvPicPr>
          <p:cNvPr id="135" name="Picture 10" descr="C:\Users\h00316112\AppData\Roaming\eSpace_Desktop\UserData\h00316112\imagefiles\DE66E845-04B0-43F9-ADF5-BDC1FFFA669E.png"/>
          <p:cNvPicPr/>
          <p:nvPr/>
        </p:nvPicPr>
        <p:blipFill>
          <a:blip r:embed="rId2"/>
          <a:stretch/>
        </p:blipFill>
        <p:spPr>
          <a:xfrm>
            <a:off x="4995720" y="3962520"/>
            <a:ext cx="3811680" cy="238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7"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73A055-9B49-4431-ACF7-B730F15E5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3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41"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200E67-EAEF-42C1-8A3F-2A2C47BEC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4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4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8CA2F3-5E43-4A61-84FD-F93721DCB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2</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 </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92120" indent="-198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49" name=""/>
          <p:cNvGraphicFramePr/>
          <p:nvPr/>
        </p:nvGraphicFramePr>
        <p:xfrm>
          <a:off x="988920" y="4238640"/>
          <a:ext cx="7697880" cy="178128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0" name="TextBox 7"/>
          <p:cNvSpPr/>
          <p:nvPr/>
        </p:nvSpPr>
        <p:spPr>
          <a:xfrm>
            <a:off x="1638360" y="332424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February 18, </a:t>
            </a:r>
            <a:r>
              <a:rPr b="1" lang="en-US" sz="3200" spc="-1" strike="noStrike">
                <a:solidFill>
                  <a:srgbClr val="000000"/>
                </a:solidFill>
                <a:latin typeface="Times New Roman"/>
              </a:rPr>
              <a:t>March 12</a:t>
            </a:r>
            <a:r>
              <a:rPr b="1" lang="en-US" sz="3000" spc="-1" strike="noStrike">
                <a:solidFill>
                  <a:srgbClr val="000000"/>
                </a:solidFill>
                <a:latin typeface="Times New Roman"/>
                <a:ea typeface="Times New Roman"/>
              </a:rPr>
              <a:t>, 1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18E55F-1833-4879-87DD-458D96875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B8604C-CE94-4E7B-A33C-65DD4432E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56"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FEBDD6-CD82-4EB7-A10F-1D1ABE309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58"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60"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C9B3E7-321B-4542-B4F6-7926E995C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62"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63"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B22E0-786A-4CBE-AF5D-C89334B35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200" spc="-1" strike="noStrike">
                <a:solidFill>
                  <a:srgbClr val="000000"/>
                </a:solidFill>
                <a:latin typeface="Times New Roman"/>
              </a:rPr>
              <a:t>March 12</a:t>
            </a:r>
            <a:endParaRPr b="0" lang="en-US" sz="3200" spc="-1" strike="noStrike">
              <a:solidFill>
                <a:srgbClr val="000000"/>
              </a:solidFill>
              <a:latin typeface="Times New Roman"/>
            </a:endParaRPr>
          </a:p>
        </p:txBody>
      </p:sp>
      <p:sp>
        <p:nvSpPr>
          <p:cNvPr id="166" name="Rectangle 3"/>
          <p:cNvSpPr/>
          <p:nvPr/>
        </p:nvSpPr>
        <p:spPr>
          <a:xfrm>
            <a:off x="685800" y="1295280"/>
            <a:ext cx="7772400" cy="47246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about the way forward</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ference Time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8" name=""/>
          <p:cNvGraphicFramePr/>
          <p:nvPr/>
        </p:nvGraphicFramePr>
        <p:xfrm>
          <a:off x="988920" y="4238640"/>
          <a:ext cx="7697880" cy="134316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17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9"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71"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3517F5-1B13-473B-AE5A-4B59ED93D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73"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75"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ED25CD-007C-4220-BEAE-2924C3722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177"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78"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B1DF7-3FDE-4114-8476-C59E75F37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 about the way forward</a:t>
            </a:r>
            <a:endParaRPr b="0" lang="en-US" sz="3200" spc="-1" strike="noStrike">
              <a:solidFill>
                <a:srgbClr val="000000"/>
              </a:solidFill>
              <a:latin typeface="Times New Roman"/>
            </a:endParaRPr>
          </a:p>
        </p:txBody>
      </p:sp>
      <p:sp>
        <p:nvSpPr>
          <p:cNvPr id="1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343080" indent="-343080" algn="just">
              <a:spcAft>
                <a:spcPts val="6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Times New Roman"/>
              </a:rPr>
              <a:t>Based on that May F2F meeting potentially be canceled, the following could be discussed and considered:</a:t>
            </a:r>
            <a:endParaRPr b="0" lang="en-US" sz="20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Reach consensus </a:t>
            </a:r>
            <a:r>
              <a:rPr b="0" lang="en-US" sz="1800" spc="-1" strike="noStrike">
                <a:solidFill>
                  <a:srgbClr val="0000ff"/>
                </a:solidFill>
                <a:latin typeface="Times New Roman"/>
                <a:ea typeface="Times New Roman"/>
              </a:rPr>
              <a:t>within SENS SG </a:t>
            </a:r>
            <a:r>
              <a:rPr b="0" lang="en-US" sz="1800" spc="-1" strike="noStrike">
                <a:solidFill>
                  <a:srgbClr val="000000"/>
                </a:solidFill>
                <a:latin typeface="Times New Roman"/>
                <a:ea typeface="Times New Roman"/>
              </a:rPr>
              <a:t>about PAR and CSD (no motion, but e-poll SP on March 18)</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end the PAR and CSD to the 802.11 </a:t>
            </a:r>
            <a:r>
              <a:rPr b="0" lang="en-US" sz="1800" spc="-1" strike="noStrike">
                <a:solidFill>
                  <a:srgbClr val="0000ff"/>
                </a:solidFill>
                <a:latin typeface="Times New Roman"/>
                <a:ea typeface="Times New Roman"/>
              </a:rPr>
              <a:t>reflector</a:t>
            </a:r>
            <a:r>
              <a:rPr b="0" lang="en-US" sz="1800" spc="-1" strike="noStrike">
                <a:solidFill>
                  <a:srgbClr val="000000"/>
                </a:solidFill>
                <a:latin typeface="Times New Roman"/>
                <a:ea typeface="Times New Roman"/>
              </a:rPr>
              <a:t> for more people to review.</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chedule time in one of our </a:t>
            </a:r>
            <a:r>
              <a:rPr b="0" lang="en-US" sz="1800" spc="-1" strike="noStrike">
                <a:solidFill>
                  <a:srgbClr val="0000ff"/>
                </a:solidFill>
                <a:latin typeface="Times New Roman"/>
                <a:ea typeface="Times New Roman"/>
              </a:rPr>
              <a:t>conference calls </a:t>
            </a:r>
            <a:r>
              <a:rPr b="0" lang="en-US" sz="1800" spc="-1" strike="noStrike">
                <a:solidFill>
                  <a:srgbClr val="000000"/>
                </a:solidFill>
                <a:latin typeface="Times New Roman"/>
                <a:ea typeface="Times New Roman"/>
              </a:rPr>
              <a:t>(e.g., April 2) to have an “introduction to sensing”-like presentation (and send an </a:t>
            </a:r>
            <a:r>
              <a:rPr b="0" lang="en-US" sz="1800" spc="-1" strike="noStrike">
                <a:solidFill>
                  <a:srgbClr val="0000ff"/>
                </a:solidFill>
                <a:latin typeface="Times New Roman"/>
                <a:ea typeface="Times New Roman"/>
              </a:rPr>
              <a:t>invitation</a:t>
            </a:r>
            <a:r>
              <a:rPr b="0" lang="en-US" sz="1800" spc="-1" strike="noStrike">
                <a:solidFill>
                  <a:srgbClr val="000000"/>
                </a:solidFill>
                <a:latin typeface="Times New Roman"/>
                <a:ea typeface="Times New Roman"/>
              </a:rPr>
              <a:t> to the 802.11 list).  We can quickly go over the PAR and CSD.</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ubject to reconfirmation with WG leadership, run an </a:t>
            </a:r>
            <a:r>
              <a:rPr b="0" lang="en-US" sz="1800" spc="-1" strike="noStrike">
                <a:solidFill>
                  <a:srgbClr val="0000ff"/>
                </a:solidFill>
                <a:latin typeface="Times New Roman"/>
                <a:ea typeface="Times New Roman"/>
              </a:rPr>
              <a:t>electronic ballot </a:t>
            </a:r>
            <a:r>
              <a:rPr b="0" lang="en-US" sz="1800" spc="-1" strike="noStrike">
                <a:solidFill>
                  <a:srgbClr val="000000"/>
                </a:solidFill>
                <a:latin typeface="Times New Roman"/>
                <a:ea typeface="Times New Roman"/>
              </a:rPr>
              <a:t>to get WG approval. This is a </a:t>
            </a:r>
            <a:r>
              <a:rPr b="0" lang="en-US" sz="1800" spc="-1" strike="noStrike">
                <a:solidFill>
                  <a:srgbClr val="0000ff"/>
                </a:solidFill>
                <a:latin typeface="Times New Roman"/>
                <a:ea typeface="Times New Roman"/>
              </a:rPr>
              <a:t>WG vote </a:t>
            </a:r>
            <a:r>
              <a:rPr b="0" lang="en-US" sz="1800" spc="-1" strike="noStrike">
                <a:solidFill>
                  <a:srgbClr val="000000"/>
                </a:solidFill>
                <a:latin typeface="Times New Roman"/>
                <a:ea typeface="Times New Roman"/>
              </a:rPr>
              <a:t>and subject to a return requirement (50% of WG members must vote) + an approval requirement (&gt;75%)</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Times New Roman"/>
                <a:ea typeface="Times New Roman"/>
              </a:rPr>
              <a:t>Send to the </a:t>
            </a:r>
            <a:r>
              <a:rPr b="0" lang="en-US" sz="1800" spc="-1" strike="noStrike">
                <a:solidFill>
                  <a:srgbClr val="0000ff"/>
                </a:solidFill>
                <a:latin typeface="Times New Roman"/>
                <a:ea typeface="Times New Roman"/>
              </a:rPr>
              <a:t>EC</a:t>
            </a:r>
            <a:r>
              <a:rPr b="0" lang="en-US" sz="1800" spc="-1" strike="noStrike">
                <a:solidFill>
                  <a:srgbClr val="000000"/>
                </a:solidFill>
                <a:latin typeface="Times New Roman"/>
                <a:ea typeface="Times New Roman"/>
              </a:rPr>
              <a:t> by 29 May (deadline for July Plenary) </a:t>
            </a:r>
            <a:endParaRPr b="0" lang="en-US" sz="1800" spc="-1" strike="noStrike">
              <a:solidFill>
                <a:srgbClr val="000000"/>
              </a:solidFill>
              <a:latin typeface="Times New Roman"/>
            </a:endParaRPr>
          </a:p>
          <a:p>
            <a:pPr lvl="2" marL="628560" indent="-237960" algn="just">
              <a:spcAft>
                <a:spcPts val="601"/>
              </a:spcAft>
              <a:buClr>
                <a:srgbClr val="000000"/>
              </a:buClr>
              <a:buFont typeface="Times New Roman"/>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AB8A25-3A8E-4D58-869C-4FC5718D1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18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2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16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3300"/>
                </a:solidFill>
                <a:latin typeface="Times New Roman"/>
                <a:ea typeface="Times New Roman"/>
              </a:rPr>
              <a:t>April 30 </a:t>
            </a:r>
            <a:r>
              <a:rPr b="1" lang="en-US" sz="2400" spc="-1" strike="noStrike">
                <a:solidFill>
                  <a:srgbClr val="000000"/>
                </a:solidFill>
                <a:latin typeface="Times New Roman"/>
                <a:ea typeface="Times New Roman"/>
              </a:rPr>
              <a:t> (Thursday), 10:00am ET – 11:30am ET</a:t>
            </a: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ea typeface="Times New Roman"/>
              </a:rPr>
              <a:t>Note: All conflict with 11be (which requested after CAC). Discussing with 11be Chair, any suggestion?</a:t>
            </a:r>
            <a:endParaRPr b="0" lang="en-US" sz="20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EBDC28-B326-4429-8CCF-1356E98CC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February 18, March 12, 1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CA8E4A-FCE5-4DF6-ACB6-A45E956A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12FD0F-711E-4406-BAFD-18862A43E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6E857FB-9822-46F8-BA08-56A1989BF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9C7CE88-77BE-4633-8135-C66370226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8725C1-C945-4BFA-9E88-96BB30783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A240EB-4F52-4ECC-B81A-5F90CEE33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3-17T09:04:23Z</dcterms:modified>
  <cp:revision>426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8Lh7YRuFTjBTunZT0AI7vWSXeGFcd3c1+/cKt2tG0HhLLhl5PDCLJb0WZl5sgwoTR+8WRUfX
Yh2B4fNwhT7ozrkpVw1xrd/8GMAMdUnUDiPqO9z0v2z3a3elKzF3cOoYc/33x8X3s//s7wW0
hsnqXtID/JAPAB2+A8td/y5eYm7LR0/i/xEU0DdEVUvEC1z4C1sniTWmrFzpejwImF7zdl2v
m66TEQYxLnzeD0TgnF</vt:lpwstr>
  </property>
  <property fmtid="{D5CDD505-2E9C-101B-9397-08002B2CF9AE}" pid="3" name="_2015_ms_pID_7253431">
    <vt:lpwstr>6cEqx31jSAcNQcs2sJVs9Sw5vub0rOFe/iAiCBd+RzXdpq93ldJw8h
NW3csyq9g4ECr6nQq+pV1m7XtEX9AhanbjOHbxZyEX+T8SDW/3X3jXkgDEV5YgmlNSuWcPnt
Ha73BVsduOfnNsmsDj2pE7pks7W1oGtYiRtrZIxUSACGapvuCCEAxiSoAMqJo8coVjwxnU7L
kou+sQzu9YtAE8RG2x3vzim0H3ly4OJVU2ca</vt:lpwstr>
  </property>
  <property fmtid="{D5CDD505-2E9C-101B-9397-08002B2CF9AE}" pid="4" name="_2015_ms_pID_7253432">
    <vt:lpwstr>1CwoxxLwYUW9VY44j15A5Gs=</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78276095</vt:lpwstr>
  </property>
</Properties>
</file>