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7BEDFE-965B-41F3-80F4-ED1F1BD1E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DA263C-302D-4837-919F-7BF834B0C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0F6B9-E649-44C9-B2FD-A51A90AABF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688FCA-B590-4464-B40B-2CCB7D418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F999D0-2B11-4099-A3D5-FD7AB98A83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FA32F7-922C-4521-B6CB-EC0C6B9453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B95E1-C074-42FB-AF92-66BFA3117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886B4-EE2E-41AE-BB82-3323D7964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E4884-3807-4805-B5B9-852EEFC2E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B3B569-32E1-49CB-9595-4B8102F7C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948C7-316D-4361-BB0B-EDC87B25E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392068-9291-41A9-A07D-EC62441C8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0F384-75FE-40BF-8595-171B15E804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C6B73B-6A0B-41A7-B97C-0DB086865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339r0</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1560" y="320760"/>
            <a:ext cx="14439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February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59BBDB-86BC-4790-8794-91C7F28F4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February and March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2-1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FE24EBF-AC4C-4DE7-B20A-94BE046A5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E1ED81C-B9CE-459D-B95F-B94AA26E64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96220AB-9E4D-4875-9539-4FA569F003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123D39-EB1D-4EC4-A519-C2CE7C1A1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E0238D-DE2F-469B-AF05-0963A5411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February 18 </a:t>
            </a:r>
            <a:endParaRPr b="0" lang="en-US" sz="32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the meeting to order</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ent policy and logistic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target of SENS SG and call for contribution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WG motion result for the PAR in January closing plenar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a:t>
            </a:r>
            <a:r>
              <a:rPr b="1" lang="en-US" sz="1800" spc="-1" strike="noStrike">
                <a:solidFill>
                  <a:srgbClr val="000000"/>
                </a:solidFill>
                <a:latin typeface="Times New Roman"/>
              </a:rPr>
              <a:t>Study Group Timeline</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tion of submission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other business</a:t>
            </a: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440000" indent="-20556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17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E40925-5352-4939-AF65-8910F22E9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52E5DB-0D77-4F22-A34A-CE7064008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WG motion result for the PA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closing plenary </a:t>
            </a:r>
            <a:endParaRPr b="0" lang="en-US" sz="2800" spc="-1" strike="noStrike">
              <a:solidFill>
                <a:srgbClr val="000000"/>
              </a:solidFill>
              <a:latin typeface="Times New Roman"/>
            </a:endParaRPr>
          </a:p>
        </p:txBody>
      </p:sp>
      <p:sp>
        <p:nvSpPr>
          <p:cNvPr id="132" name="Rectangle 3"/>
          <p:cNvSpPr/>
          <p:nvPr/>
        </p:nvSpPr>
        <p:spPr>
          <a:xfrm>
            <a:off x="685800" y="1523880"/>
            <a:ext cx="7772400" cy="22100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motion for the PAR (19/2103r4) and CSD (20/42r1) passed in the SENS SG, some concern/comments were raised. And corresponding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revisions of PAR (19/2103r5) and CSD (20/42r2)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closing plenary, based on the motion for the PAR (19/2103r5), some editorial changes and timeline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new revision of PAR (19/2103r6)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tion result is shown  below</a:t>
            </a:r>
            <a:endParaRPr b="0" lang="en-US" sz="1800" spc="-1" strike="noStrike">
              <a:solidFill>
                <a:srgbClr val="000000"/>
              </a:solidFill>
              <a:latin typeface="Times New Roman"/>
            </a:endParaRPr>
          </a:p>
        </p:txBody>
      </p:sp>
      <p:sp>
        <p:nvSpPr>
          <p:cNvPr id="13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pic>
        <p:nvPicPr>
          <p:cNvPr id="134" name="Picture 8" descr="C:\Users\h00316112\AppData\Roaming\eSpace_Desktop\UserData\h00316112\imagefiles\0413DFAD-0491-4360-AFA0-BA38D9878D64.png"/>
          <p:cNvPicPr/>
          <p:nvPr/>
        </p:nvPicPr>
        <p:blipFill>
          <a:blip r:embed="rId1"/>
          <a:stretch/>
        </p:blipFill>
        <p:spPr>
          <a:xfrm>
            <a:off x="685800" y="3962520"/>
            <a:ext cx="3772080" cy="2385720"/>
          </a:xfrm>
          <a:prstGeom prst="rect">
            <a:avLst/>
          </a:prstGeom>
          <a:ln w="9360">
            <a:solidFill>
              <a:srgbClr val="000000"/>
            </a:solidFill>
            <a:miter/>
          </a:ln>
        </p:spPr>
      </p:pic>
      <p:pic>
        <p:nvPicPr>
          <p:cNvPr id="135" name="Picture 10" descr="C:\Users\h00316112\AppData\Roaming\eSpace_Desktop\UserData\h00316112\imagefiles\DE66E845-04B0-43F9-ADF5-BDC1FFFA669E.png"/>
          <p:cNvPicPr/>
          <p:nvPr/>
        </p:nvPicPr>
        <p:blipFill>
          <a:blip r:embed="rId2"/>
          <a:stretch/>
        </p:blipFill>
        <p:spPr>
          <a:xfrm>
            <a:off x="4995720" y="3962520"/>
            <a:ext cx="3811680" cy="238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7" name="灯片编号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D0D0AF-78A8-469A-B626-FCC1D367D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3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41" name="灯片编号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473FBC-3492-4EA4-8FFB-CB20E7695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4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4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26C17D-996E-4BBE-8F37-51760E08E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0</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49"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0"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February 18, </a:t>
            </a:r>
            <a:r>
              <a:rPr b="1" lang="en-US" sz="3200" spc="-1" strike="noStrike">
                <a:solidFill>
                  <a:srgbClr val="000000"/>
                </a:solidFill>
                <a:latin typeface="Times New Roman"/>
              </a:rPr>
              <a:t>March 10</a:t>
            </a:r>
            <a:r>
              <a:rPr b="1" lang="en-US" sz="3000" spc="-1" strike="noStrike">
                <a:solidFill>
                  <a:srgbClr val="000000"/>
                </a:solidFill>
                <a:latin typeface="Times New Roman"/>
                <a:ea typeface="Times New Roman"/>
              </a:rPr>
              <a:t>,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1B76FC-F20B-4FAC-82C7-20E1C919E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D3BFC8-C578-4B81-9A13-BBA830FE1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8C9568-C600-462A-965C-9EBF1C896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February 18, March 10,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9D0066-E2F7-42FD-9052-758F6464A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4E7BAF-0A1D-41CB-8922-ABEB0B9F6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AD25013-35DF-48FA-83E5-22B4F438DE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B9106B9-773C-4491-AADD-84DEDBE0B4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ECAD67-9C5F-41F7-B8DC-59EC0C054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00A0EF-FCAA-4E19-B20D-05C59AF5E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2-17T01:08:05Z</dcterms:modified>
  <cp:revision>425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8Lh7YRuFTjBTunZT0AI7vWSXeGFcd3c1+/cKt2tG0HhLLhl5PDCLJb0WZl5sgwoTR+8WRUfX
Yh2B4fNwhT7ozrkpVw1xrd/8GMAMdUnUDiPqO9z0v2z3a3elKzF3cOoYc/33x8X3s//s7wW0
hsnqXtID/JAPAB2+A8td/y5eYm7LR0/i/xEU0DdEVUvEC1z4C1sniTWmrFzpejwImF7zdl2v
m66TEQYxLnzeD0TgnF</vt:lpwstr>
  </property>
  <property fmtid="{D5CDD505-2E9C-101B-9397-08002B2CF9AE}" pid="3" name="_2015_ms_pID_7253431">
    <vt:lpwstr>6cEqx31jSAcNQcs2sJVs9Sw5vub0rOFe/iAiCBd+RzXdpq93ldJw8h
NW3csyq9g4ECr6nQq+pV1m7XtEX9AhanbjOHbxZyEX+T8SDW/3X3jXkgDEV5YgmlNSuWcPnt
Ha73BVsduOfnNsmsDj2pE7pks7W1oGtYiRtrZIxUSACGapvuCCEAxiSoAMqJo8coVjwxnU7L
kou+sQzu9YtAE8RG2x3vzim0H3ly4OJVU2ca</vt:lpwstr>
  </property>
  <property fmtid="{D5CDD505-2E9C-101B-9397-08002B2CF9AE}" pid="4" name="_2015_ms_pID_7253432">
    <vt:lpwstr>1CwoxxLwYUW9VY44j15A5Gs=</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78276095</vt:lpwstr>
  </property>
</Properties>
</file>