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CF9090-C1FC-4DB1-AA85-45EA99EE6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D301F-6C80-470F-9839-9F93BE5F5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95A37-67C5-4EB7-84F3-5D06CF11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8CE6D-7C24-4C9B-8969-A2539B603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61436-940D-4DD0-B931-12BE634A1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2DF8D-F7C5-4DBC-8D91-FC1D17418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A2CF9-2FF0-4478-A2B3-751DC9F36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CB2CF-0634-4A4B-A40E-2C577C09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B8B82-67D8-4BDF-9815-87A194C95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899C-DA18-4361-92F9-0A7366938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7BAA-EB5C-40B9-B43E-B5FA74CD3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0978-7635-4E6E-97CD-DC2ECF7E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AA8E-8664-4A15-A8D9-446F75330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6C21D0-4229-4DD4-916C-246285D96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2110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5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118C3C-DD7D-4CDC-B338-DF344500B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December 2019 and January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1-27</a:t>
            </a:r>
            <a:endParaRPr b="1" lang="en-US" sz="2000" spc="-1" strike="noStrike">
              <a:solidFill>
                <a:srgbClr val="000000"/>
              </a:solidFill>
              <a:latin typeface="Times New Roman"/>
            </a:endParaRPr>
          </a:p>
        </p:txBody>
      </p:sp>
      <p:sp>
        <p:nvSpPr>
          <p:cNvPr id="6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50237F4-BD27-46D8-B29D-04C02FFF2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2"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9156F5F-CF02-4146-BDD5-D5722419FC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1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21"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387AC8B-7256-4BF6-8330-C8BC427471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24"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2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2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27"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CC304A-6EC4-4693-8B43-61199EBA1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3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3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5F0C19-92DA-452C-8D6A-606A5493C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4 </a:t>
            </a:r>
            <a:endParaRPr b="0" lang="en-US" sz="3200" spc="-1" strike="noStrike">
              <a:solidFill>
                <a:srgbClr val="000000"/>
              </a:solidFill>
              <a:latin typeface="Times New Roman"/>
            </a:endParaRPr>
          </a:p>
        </p:txBody>
      </p:sp>
      <p:sp>
        <p:nvSpPr>
          <p:cNvPr id="135"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3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38"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9/2104</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ny Xiao Han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097F8F-A8D7-4350-A35F-657C94964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4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50D5AA-C006-4A30-9D8C-89618B864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18 </a:t>
            </a:r>
            <a:endParaRPr b="0" lang="en-US" sz="3200" spc="-1" strike="noStrike">
              <a:solidFill>
                <a:srgbClr val="000000"/>
              </a:solidFill>
              <a:latin typeface="Times New Roman"/>
            </a:endParaRPr>
          </a:p>
        </p:txBody>
      </p:sp>
      <p:sp>
        <p:nvSpPr>
          <p:cNvPr id="147"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4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50"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51"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E25328-652F-4230-8770-37EE753C8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AF2CB7-4C34-43BD-9041-AA3EABBAF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January 8 </a:t>
            </a:r>
            <a:endParaRPr b="0" lang="en-US" sz="3200" spc="-1" strike="noStrike">
              <a:solidFill>
                <a:srgbClr val="000000"/>
              </a:solidFill>
              <a:latin typeface="Times New Roman"/>
            </a:endParaRPr>
          </a:p>
        </p:txBody>
      </p:sp>
      <p:sp>
        <p:nvSpPr>
          <p:cNvPr id="159"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62"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63"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7DAC10-3B3E-45AF-A330-8334643CF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3"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ecember 4 &amp; 18, 2019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8,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p:txBody>
      </p:sp>
      <p:sp>
        <p:nvSpPr>
          <p:cNvPr id="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EED0EC-54C9-4B6A-83EF-D0CC99CBD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6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F3C0E8-CED9-42E0-849F-81D5079BE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December 4 &amp; 18, 2019, and January 8,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7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452933-82F1-4F58-8D3F-366828FA6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F96BBC-81D3-4613-91B1-9A0B6C7C6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8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19DCE44-03A2-444A-A1D0-87BABAE4E2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D38CD24-E155-40AE-952E-BC9A8606F9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9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9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CBAB0F-4E9E-4357-AD0B-4086FB7E4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0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2"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B59B7F-86CD-4EF2-9B73-F635A2AE6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0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2-05T01:24:06Z</dcterms:modified>
  <cp:revision>4200</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5248805</vt:lpwstr>
  </property>
</Properties>
</file>