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/>
          <p:nvPr/>
        </p:nvSpPr>
        <p:spPr>
          <a:xfrm>
            <a:off x="0" y="0"/>
            <a:ext cx="69336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hdr"/>
          </p:nvPr>
        </p:nvSpPr>
        <p:spPr>
          <a:xfrm>
            <a:off x="4086360" y="-115920"/>
            <a:ext cx="2195280" cy="42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dt" idx="37"/>
          </p:nvPr>
        </p:nvSpPr>
        <p:spPr>
          <a:xfrm>
            <a:off x="653760" y="97200"/>
            <a:ext cx="8269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 type="sldImg"/>
          </p:nvPr>
        </p:nvSpPr>
        <p:spPr>
          <a:xfrm>
            <a:off x="1152000" y="701280"/>
            <a:ext cx="4629240" cy="346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 type="ftr" idx="38"/>
          </p:nvPr>
        </p:nvSpPr>
        <p:spPr>
          <a:xfrm>
            <a:off x="5357880" y="8984880"/>
            <a:ext cx="923760" cy="12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defRPr>
            </a:lvl1pPr>
          </a:lstStyle>
          <a:p>
            <a: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 type="sldNum" idx="39"/>
          </p:nvPr>
        </p:nvSpPr>
        <p:spPr>
          <a:xfrm>
            <a:off x="3222720" y="8984880"/>
            <a:ext cx="5126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88241B4-4E12-4D4D-B1E5-A256D42E17E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Rectangle 8"/>
          <p:cNvSpPr/>
          <p:nvPr/>
        </p:nvSpPr>
        <p:spPr>
          <a:xfrm>
            <a:off x="722520" y="898524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Line 9"/>
          <p:cNvSpPr/>
          <p:nvPr/>
        </p:nvSpPr>
        <p:spPr>
          <a:xfrm>
            <a:off x="723960" y="8983800"/>
            <a:ext cx="5486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Line 10"/>
          <p:cNvSpPr/>
          <p:nvPr/>
        </p:nvSpPr>
        <p:spPr>
          <a:xfrm>
            <a:off x="647640" y="29700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2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Rectangle 3"/>
          <p:cNvSpPr/>
          <p:nvPr/>
        </p:nvSpPr>
        <p:spPr>
          <a:xfrm>
            <a:off x="69156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Rectangle 6"/>
          <p:cNvSpPr/>
          <p:nvPr/>
        </p:nvSpPr>
        <p:spPr>
          <a:xfrm>
            <a:off x="445248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7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EE127402-7403-4E9A-9764-AEC01982CF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2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1/0xxx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3"/>
          <p:cNvSpPr/>
          <p:nvPr/>
        </p:nvSpPr>
        <p:spPr>
          <a:xfrm>
            <a:off x="469080" y="97560"/>
            <a:ext cx="1197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ovember 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6"/>
          <p:cNvSpPr/>
          <p:nvPr/>
        </p:nvSpPr>
        <p:spPr>
          <a:xfrm>
            <a:off x="4618440" y="8985240"/>
            <a:ext cx="2402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Osama Aboul-Magd (Samsun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7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6A0B3C1-C36A-4340-89F6-C3EEA314DA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Date Placeholder 4"/>
          <p:cNvSpPr/>
          <p:nvPr/>
        </p:nvSpPr>
        <p:spPr>
          <a:xfrm>
            <a:off x="69156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Footer Placeholder 5"/>
          <p:cNvSpPr/>
          <p:nvPr/>
        </p:nvSpPr>
        <p:spPr>
          <a:xfrm>
            <a:off x="445248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78F8B3DC-F9A4-4E0A-9103-CF48F7BD0D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Date Placeholder 4"/>
          <p:cNvSpPr/>
          <p:nvPr/>
        </p:nvSpPr>
        <p:spPr>
          <a:xfrm>
            <a:off x="69156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Footer Placeholder 5"/>
          <p:cNvSpPr/>
          <p:nvPr/>
        </p:nvSpPr>
        <p:spPr>
          <a:xfrm>
            <a:off x="445248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4978582-2792-43F5-A9D7-A112507DD7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Date Placeholder 4"/>
          <p:cNvSpPr/>
          <p:nvPr/>
        </p:nvSpPr>
        <p:spPr>
          <a:xfrm>
            <a:off x="69156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Footer Placeholder 5"/>
          <p:cNvSpPr/>
          <p:nvPr/>
        </p:nvSpPr>
        <p:spPr>
          <a:xfrm>
            <a:off x="445248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E7D4D117-F306-4F5B-951B-452DF0EA91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Date Placeholder 4"/>
          <p:cNvSpPr/>
          <p:nvPr/>
        </p:nvSpPr>
        <p:spPr>
          <a:xfrm>
            <a:off x="69156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Footer Placeholder 5"/>
          <p:cNvSpPr/>
          <p:nvPr/>
        </p:nvSpPr>
        <p:spPr>
          <a:xfrm>
            <a:off x="445248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EF23DE82-CF96-4358-930D-489E6726DE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8A03-9A5D-401D-A96D-C04603155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A376-21CF-4C14-A74C-2E4EDDCE3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3D2B29-651C-47E5-BB1A-95947E929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015442-AAAD-4827-835E-6675CC1C7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2CDC39-6752-48C0-96B3-0C0C5DAFA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6FBC7C-EEDE-4335-B503-540511DE8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B3E936-086E-4D6A-8433-E36194DE3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F28969-933E-4BCF-A6A5-3C837C345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D765CA-A4AA-4333-B01F-D66822A60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82DBAE-F979-4D4A-B4AC-44DFA4F28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4A7B78-62B1-44A6-8CB3-F70E0CE46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B22F58-F29D-48B4-9CA9-9FCC10B27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F020-4349-4E76-B7A9-E77060C85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549336-FE77-4E89-9949-40645B380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2AF67D-F22C-4A5F-895A-AD843900C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74EAC2-2675-47AD-B695-ED93D37F7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B2FF7C-4C0B-4030-9D1E-F6D07769F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006E02-FDE6-4773-B76F-62969D825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125358-AF05-48CE-9CE9-872D0F6E7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E50712-A1A1-41DC-BD8C-7B1BE5CEB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D3E0B0-2DE6-4832-93D4-C7EE82DEC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898FDF-0558-4BDC-8C89-1E747D6CF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A32A93-5395-45BA-BCB6-A36A5DE8A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F27F-A532-4EED-A2D6-25F89DD0E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058FA5-0BF9-421F-B362-35582237C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BD11CB-AB3C-4E6D-9355-FD4B8D613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4164E0-A294-4430-B735-8596AC1B8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0F888D-CA82-4078-8C23-FC8D56324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9D7629-B1D0-471E-93B4-8F7CD0CCF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CB4F16-A6B2-4283-BF4C-4EE6CFF7C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445CCE-BB62-4724-9A24-7E36084E3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BAB38B-40BB-41C5-9F01-7179B6EE1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7B6520-264D-4A05-AE11-100A715A0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65156D-AD73-4F45-B42E-029892CA7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17393-54D8-45BF-9154-777A4415E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CFA3A1-F508-4C0B-9D2E-ACCE072FA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87C595-5C8B-4C6E-85A8-20B697428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CE091B-11C9-48E1-9586-824A795FD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72D5A0-2A05-4FD2-B1E9-C0089B1D6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7978F7-CE61-4CE4-9F93-557FBC9B6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91EEF3-2C56-4DBF-A80B-09752A535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20701F-EB32-4E61-924F-6CAD9BBCA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DD0A53-9F06-4404-AC81-B676D35C3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32597D-BC7B-4CCC-95E4-967F35CF0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CD1031-1C91-4EF6-B608-71D90FD70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0A571-EBB3-43FF-B7D7-8EFF8A408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67261D-C023-4EEC-A4C0-D377AB5A6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3B8447-278E-48BA-AF55-23B31AD0D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8C22CF-E35A-4BF4-A6C7-428255B4E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A36B4F-6280-4664-9EBE-BE2DEC0DB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DD9AF0-DC66-4B13-A54C-EA31D99CA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2768F-6A78-4632-A1AA-6DD7FA501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A63FF-08A0-4C81-A248-7AB020F02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78A01-E8FB-4706-9FB6-AF65368C3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0E6CB-B0F2-4CD2-B3C4-176952311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743CA-5A72-4C95-9CA7-656F86F66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44D9-7C83-422B-91E8-A1656DC28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9ED26-29DA-4574-BDAB-9D1084430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879E2-DD82-4C6E-8156-C4541614D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A3C3E-AE7F-418E-A6BD-172C530F3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58D6B-383F-4B42-81C5-4471F3339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7B86E-D1A1-4299-BD6B-AFCA9E4D7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08AC91-A1CC-4C1A-85A5-525A7812D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5BDB49-2485-43B5-8E8B-370A43F29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357504-5AF9-4519-AEA6-1F8C49ED5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E9FC21-9C6B-439C-8FE7-5BD428CD5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70B313-3F14-4012-BE32-D80D4DBAD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867E-4A82-4C72-8585-BDE9478B8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B5DA70-8203-4ADB-8C33-9E2CCA568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8071FE-18AD-4467-9BAD-70EE11C2B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F5DA71-D07A-4FFB-BEEF-2C47135F8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AD2150-B0E0-4EB1-97DB-B53D5FC2E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41669A-F7AA-471B-9726-428A9621D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14D5ED-8369-4058-9460-1646F03E9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74F316-1232-4E90-ACAF-B72DD8A26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F2F18E-CF9D-4E4B-81C1-39CD7EEB0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49BA5A-8765-4E6C-9721-EE048938C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91569D-96AD-43A4-85EB-3D42DEEB6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4006-B7A8-4BDC-8A60-6B5296C9D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8A08CB-84B0-4EBD-A607-938F4622B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3AD397-64EF-46E8-83A3-711E24D37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04D084-7CC9-494B-8121-6B0CF2257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ADD56C-F153-487E-A697-9C5316B1B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E2F30E-ED8C-4B02-B75E-75B191520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B04F45-96C2-4E64-8AC5-59A3067D4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5F4443-8DD3-45EF-BDDE-B47130CD5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8ED662-8D58-466A-AB1C-E127062F8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DB7D84-DDE2-4272-9CC7-04B094E66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9FD696-0560-46A7-BFC5-A34DBAAF8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1A66-1BC5-4C5D-83C1-4619EDF5A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FE5557-019A-426B-B905-DF560DB58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239A75-B048-4A26-BF31-5913D53AC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2F0F9F-AA3F-40C6-872F-0949F30D9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2C7E9F-9064-4257-AE41-308875707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F4155B-ECA2-48A2-AC2B-3798BBAE4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168FC7-54E4-4D09-9F91-3591A9C7B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F7208D-FFE2-4B29-AE16-57E707427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45892E-0BB7-47F9-A62C-A38D6C2BD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5FF101-5F95-4163-B163-EB7308136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70EC86-DA5B-4166-B69E-08F08DA1D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9CD3-9D36-443A-811C-92E086186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EEF522-F030-45EA-B72D-7FCC7C949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8293A5-A285-4BA9-8544-CAD5CE593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646293-C84F-4454-83D5-98FC550AA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3D5274-7A63-4C88-8F10-5F0DAE5F8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D8F178-7FDE-4F2D-A531-ADD4E26CD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330DD5-F1EC-467C-8161-AB98C1BF5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6565DC-5AFB-4A87-A8EC-4F9989E81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206331-CE2B-49FF-B856-4A7C94DDF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750805-CA57-432A-84F1-A57262728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EE9ED1-8BC6-4B21-860B-3C674B15E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AB58-79EE-4B7A-85BA-964FDF7AD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C6EE77-04B4-4F07-AA82-935A4C100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65A2E4-FD5A-4A2F-B127-BF417282F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E718D2-C50E-4BEF-8681-1E965E941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931905-47DC-4B33-AA70-DDCE20766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7AB9AA-54EE-40C7-8CA2-28897650A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67F827-4822-4E24-A7A3-3DE3D94D4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99DAB0-C3CF-4455-8EF2-268978092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B66DBA-64E3-4210-BCBC-1C15F52AE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3722D3-A52B-45D5-8B60-3E47A5764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055A0F-1B9A-45CA-85CB-ACF0506D2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7172-63B3-44DC-93DC-11076E25D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FA9ABD-66CF-439D-89C5-C9BA18D40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F32BF2-2707-4C17-B826-3E8BB9E9C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650B3D-81E4-4FCC-89A1-C4456B42F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122557-CB1D-440A-A750-39A36F075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FC5503-04E8-459E-9CAF-7F23D3DF1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4C235C-1328-4E94-BA46-BAE66B36A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431950-9A2D-4768-9A3A-E5BEB1FBF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1B8C36-14AE-49F3-8711-CAD5DDFDD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41720B-5406-4255-9588-1AC2CD6DD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6ABFEF-CB2A-4F30-A103-F4C31898E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7AFF-8AEC-49C9-BE99-0A6F4B8A4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001881-636D-40FC-9A85-677A766B1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86F491-4AF4-499B-8112-F6385D063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AEDC18-1EB5-4B17-848C-F1D5E67CE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50FEC1-870A-49DE-A504-09DC4FE46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1A688F-933B-461F-BAD9-590EF2D97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FFB1BA-46C8-4AF9-ACA0-CFEE3E876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C6F189-3868-4668-8234-5113DB0CD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25BC76-5249-4475-AAED-5F3EAA3B8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7BDA36-1012-4424-930B-ECE0DD2FC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0789CA-E60D-44DF-9BD0-E5784AFDE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96960" y="333000"/>
            <a:ext cx="157968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ptember 20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253A3052-053E-46F9-BD7A-3A586D45258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518904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19/2049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690480" y="6475320"/>
            <a:ext cx="92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sing Re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518904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19/2049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Rectangle 9"/>
          <p:cNvSpPr/>
          <p:nvPr/>
        </p:nvSpPr>
        <p:spPr>
          <a:xfrm>
            <a:off x="690480" y="6475320"/>
            <a:ext cx="92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sing Re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8"/>
          </p:nvPr>
        </p:nvSpPr>
        <p:spPr>
          <a:xfrm>
            <a:off x="696960" y="333000"/>
            <a:ext cx="157968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rch 20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9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sama Aboul-Magd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30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47958F57-EDD7-4D16-9B0E-BDA631839CD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518904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19/2049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Rectangle 9"/>
          <p:cNvSpPr/>
          <p:nvPr/>
        </p:nvSpPr>
        <p:spPr>
          <a:xfrm>
            <a:off x="690480" y="6475320"/>
            <a:ext cx="92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sing Re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1"/>
          </p:nvPr>
        </p:nvSpPr>
        <p:spPr>
          <a:xfrm>
            <a:off x="696960" y="333000"/>
            <a:ext cx="157968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rch 20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2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sama Aboul-Magd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B368501D-A19E-475F-B660-AE84DE6B71A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518904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19/2049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Rectangle 9"/>
          <p:cNvSpPr/>
          <p:nvPr/>
        </p:nvSpPr>
        <p:spPr>
          <a:xfrm>
            <a:off x="690480" y="6475320"/>
            <a:ext cx="92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sing Re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dt" idx="34"/>
          </p:nvPr>
        </p:nvSpPr>
        <p:spPr>
          <a:xfrm>
            <a:off x="696960" y="333000"/>
            <a:ext cx="157968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rch 20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 type="ftr" idx="35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sama Aboul-Magd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 type="sldNum" idx="36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7D3F742A-39BE-46A1-93AC-B38A2128809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518904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19/2049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690480" y="6475320"/>
            <a:ext cx="92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sing Re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96960" y="333000"/>
            <a:ext cx="157968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rch 20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4BB962A2-4B57-4FD2-AD17-3FCBF47A5B5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518904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19/2049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9"/>
          <p:cNvSpPr/>
          <p:nvPr/>
        </p:nvSpPr>
        <p:spPr>
          <a:xfrm>
            <a:off x="690480" y="6475320"/>
            <a:ext cx="92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sing Re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696960" y="333000"/>
            <a:ext cx="157968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rch 20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8C2981CD-E4B2-43E9-A5AB-263E37EFFE8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518904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19/2049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9"/>
          <p:cNvSpPr/>
          <p:nvPr/>
        </p:nvSpPr>
        <p:spPr>
          <a:xfrm>
            <a:off x="690480" y="6475320"/>
            <a:ext cx="92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sing Re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696960" y="333000"/>
            <a:ext cx="157968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rch 20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D565C0F4-0673-4434-9E93-167BEDDCCFD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518904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19/2049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9"/>
          <p:cNvSpPr/>
          <p:nvPr/>
        </p:nvSpPr>
        <p:spPr>
          <a:xfrm>
            <a:off x="690480" y="6475320"/>
            <a:ext cx="92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sing Re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3"/>
          </p:nvPr>
        </p:nvSpPr>
        <p:spPr>
          <a:xfrm>
            <a:off x="696960" y="333000"/>
            <a:ext cx="157968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rch 20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4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5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35DD9014-4216-4253-8154-06417E6F375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518904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19/2049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9"/>
          <p:cNvSpPr/>
          <p:nvPr/>
        </p:nvSpPr>
        <p:spPr>
          <a:xfrm>
            <a:off x="690480" y="6475320"/>
            <a:ext cx="92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sing Re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696960" y="333000"/>
            <a:ext cx="157968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sama Aboul-Magd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F53E4996-BC21-4E43-B040-506BC7947E6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518904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19/2049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9"/>
          <p:cNvSpPr/>
          <p:nvPr/>
        </p:nvSpPr>
        <p:spPr>
          <a:xfrm>
            <a:off x="690480" y="6475320"/>
            <a:ext cx="92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sing Re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9"/>
          </p:nvPr>
        </p:nvSpPr>
        <p:spPr>
          <a:xfrm>
            <a:off x="696960" y="333000"/>
            <a:ext cx="157968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rch 20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20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sama Aboul-Magd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21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63ED9D50-094A-4A12-8332-1E807646278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518904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19/2049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9"/>
          <p:cNvSpPr/>
          <p:nvPr/>
        </p:nvSpPr>
        <p:spPr>
          <a:xfrm>
            <a:off x="690480" y="6475320"/>
            <a:ext cx="92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sing Re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dt" idx="22"/>
          </p:nvPr>
        </p:nvSpPr>
        <p:spPr>
          <a:xfrm>
            <a:off x="696960" y="333000"/>
            <a:ext cx="157968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rch 20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ftr" idx="23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sama Aboul-Magd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sldNum" idx="24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7BE072C7-8AA2-4C40-91E5-5FC6BC6CA03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518904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19/2049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9"/>
          <p:cNvSpPr/>
          <p:nvPr/>
        </p:nvSpPr>
        <p:spPr>
          <a:xfrm>
            <a:off x="690480" y="6475320"/>
            <a:ext cx="92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sing Re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5"/>
          </p:nvPr>
        </p:nvSpPr>
        <p:spPr>
          <a:xfrm>
            <a:off x="696960" y="333000"/>
            <a:ext cx="157968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rch 20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6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sama Aboul-Magd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7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44215581-91B9-44A5-8B29-53A9FE23CF9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Date Placeholder 3"/>
          <p:cNvSpPr/>
          <p:nvPr/>
        </p:nvSpPr>
        <p:spPr>
          <a:xfrm>
            <a:off x="701280" y="334800"/>
            <a:ext cx="1532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vember 20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AB98D9B2-8063-45D6-B329-27AE67B906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sk Group AY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vember 2019 Closing Repor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e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2019-11-1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5" name="Object 11"/>
          <p:cNvGraphicFramePr/>
          <p:nvPr/>
        </p:nvGraphicFramePr>
        <p:xfrm>
          <a:off x="674640" y="2666880"/>
          <a:ext cx="7817040" cy="939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6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4640" y="2666880"/>
                    <a:ext cx="7817040" cy="9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7" name="Rectangle 12"/>
          <p:cNvSpPr/>
          <p:nvPr/>
        </p:nvSpPr>
        <p:spPr>
          <a:xfrm>
            <a:off x="685800" y="21337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uthor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D8DED575-08F2-47B7-87D5-85CD7EAA86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bstrac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s document is the closing report for Task Group AY for the November 2019 sessio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Footer Placeholder 4"/>
          <p:cNvSpPr/>
          <p:nvPr/>
        </p:nvSpPr>
        <p:spPr>
          <a:xfrm>
            <a:off x="5791320" y="6475320"/>
            <a:ext cx="2752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Date Placeholder 3"/>
          <p:cNvSpPr/>
          <p:nvPr/>
        </p:nvSpPr>
        <p:spPr>
          <a:xfrm>
            <a:off x="701280" y="334800"/>
            <a:ext cx="1532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vember 20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4B0A5321-E473-4CC3-8D7F-8F6908BBEF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Rectangle 2"/>
          <p:cNvSpPr/>
          <p:nvPr/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ork Comple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Rectangle 3"/>
          <p:cNvSpPr/>
          <p:nvPr/>
        </p:nvSpPr>
        <p:spPr>
          <a:xfrm>
            <a:off x="685800" y="1828800"/>
            <a:ext cx="77724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12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Resolved all the comments received from the third recirculation working group technical letter ballot, LB246, on Draft 5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12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No further recirculation ballot is required as no must-be-satisfied comments were recei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12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Approved a motion requesting Working Group and IEEE 802 EC approval to forward P802.11ay D5.0 to SA ball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12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Reviewed 1 technical con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12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12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12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12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12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12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12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Date Placeholder 3"/>
          <p:cNvSpPr/>
          <p:nvPr/>
        </p:nvSpPr>
        <p:spPr>
          <a:xfrm>
            <a:off x="701280" y="334800"/>
            <a:ext cx="1532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vember 20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057E7100-B6CB-4EAB-BDB9-5FDF42699A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Rectangle 2"/>
          <p:cNvSpPr/>
          <p:nvPr/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imeline upd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changes are shown in re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Date Placeholder 3"/>
          <p:cNvSpPr/>
          <p:nvPr/>
        </p:nvSpPr>
        <p:spPr>
          <a:xfrm>
            <a:off x="701280" y="334800"/>
            <a:ext cx="1532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vember 20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Rectangle 3"/>
          <p:cNvSpPr/>
          <p:nvPr/>
        </p:nvSpPr>
        <p:spPr>
          <a:xfrm>
            <a:off x="762120" y="1839960"/>
            <a:ext cx="7772400" cy="44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019/11: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ek EC approval for SA letter ball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3300"/>
              </a:buClr>
              <a:buFont typeface="Times New Roman"/>
              <a:buChar char="•"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2020/03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itial SA technical letter ballot (Draft 5.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2020/06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rst recirculation SA letter ballot (Draft 6.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2020/08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cond Recirculation SA Ballot (Draft 7.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2020/09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hird Recirculation SA Ballot (Draft 7.0 unchange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2020/09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l 802.11 WG approv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2020/1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l EC approv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2020/1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vCom &amp; Standards Board approv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71BE6523-503A-4264-BF77-F9D3B57348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als for January 2020 interi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Rectangle 3"/>
          <p:cNvSpPr/>
          <p:nvPr/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12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chnical pres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12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imeline review/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12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12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12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Date Placeholder 3"/>
          <p:cNvSpPr/>
          <p:nvPr/>
        </p:nvSpPr>
        <p:spPr>
          <a:xfrm>
            <a:off x="729720" y="334800"/>
            <a:ext cx="1532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vember 20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5866AD9A-FA84-4504-8C06-D38CB504DB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Rectangle 2"/>
          <p:cNvSpPr/>
          <p:nvPr/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leconference Schedu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Rectangle 3"/>
          <p:cNvSpPr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12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12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12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12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Date Placeholder 3"/>
          <p:cNvSpPr/>
          <p:nvPr/>
        </p:nvSpPr>
        <p:spPr>
          <a:xfrm>
            <a:off x="701280" y="334800"/>
            <a:ext cx="1532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vember 20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7T18:10:23Z</dcterms:created>
  <dc:creator>Edward Au</dc:creator>
  <dc:description/>
  <cp:keywords>November 2019</cp:keywords>
  <dc:language>en-US</dc:language>
  <cp:lastModifiedBy>Edward Au</cp:lastModifiedBy>
  <cp:lastPrinted>2014-11-04T15:04:57Z</cp:lastPrinted>
  <dcterms:modified xsi:type="dcterms:W3CDTF">2019-11-12T21:44:35Z</dcterms:modified>
  <cp:revision>2060</cp:revision>
  <dc:subject>Task Group AY September 2015 closing report</dc:subject>
  <dc:title>11-19/2049r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ms_pID_725343">
    <vt:lpwstr>(12)O48q+nWDiKNAVXoAwq58w7ATF5BZpxUzus1FEuepahc6BRLUWdfXeHQFTCUY0LJynFgfmRNUPZlAVy+j0r6pbTTT4EXTIDQn++fDAJzW+wNWbLiJe8Z4f4WxdeblmkwEZYVIjqjQH/zBS5y6b9GoioXTXjFlVZ7xPu5xRU0WiDXzU0e3oG78RYbPZ2aHX/hl9SFYOtYdUMQjNw+W6g45GYePd7oGmr8CiOcEr8o5DLsyXdeT</vt:lpwstr>
  </property>
  <property fmtid="{D5CDD505-2E9C-101B-9397-08002B2CF9AE}" pid="3" name="_ms_pID_7253431">
    <vt:lpwstr>hBtTL66MZvP2f/KaV3adKT94KHNJID0xypYHmm25hGzk/ETif8Sj8xBGFsYnZVfYQOQ/wAyM9jGI1mxvLrml8FSLl4bDbfLtpebXgH+6bsglE2sjb5/6PLqZ6vrPMuq4xHCeAFploXk9GR4pqeBSsTI3ryAIkLOeZIHu3OlyhiIUHAYFFjusCknP+OLaVPfpnqpJjopJQHwudTzey6vtimu1b8SZqaoMzXoWNM8jqNR1+tnd</vt:lpwstr>
  </property>
  <property fmtid="{D5CDD505-2E9C-101B-9397-08002B2CF9AE}" pid="4" name="_ms_pID_72534310">
    <vt:lpwstr>kiAeZ3SViGiZnriBbU58KYt1RpZ8eBinUdFbRfYxQXRkzDWwNQewHtw75pcA6cREPLuI2SAbxHVYSR3ZUQ5zzjYwte9tx/Sz0XORHKyOcmsIT5gncnPVLYLsDnTA2iOGX/DUw8XNZoQ9LYZzW9Y+ux8R1UZoLQv4XUK12L129g9SBWNmAOm2sZnFbfrpXSC/kozVB/gOTHDLzacdjMJ1j+FvpemlYvFkaW2xdXn6gHIjaUtI</vt:lpwstr>
  </property>
  <property fmtid="{D5CDD505-2E9C-101B-9397-08002B2CF9AE}" pid="5" name="_ms_pID_72534310_00">
    <vt:lpwstr>_ms_pID_72534310</vt:lpwstr>
  </property>
  <property fmtid="{D5CDD505-2E9C-101B-9397-08002B2CF9AE}" pid="6" name="_ms_pID_72534311">
    <vt:lpwstr>w8PjNg==</vt:lpwstr>
  </property>
  <property fmtid="{D5CDD505-2E9C-101B-9397-08002B2CF9AE}" pid="7" name="_ms_pID_72534311_00">
    <vt:lpwstr>_ms_pID_72534311</vt:lpwstr>
  </property>
  <property fmtid="{D5CDD505-2E9C-101B-9397-08002B2CF9AE}" pid="8" name="_ms_pID_7253431_00">
    <vt:lpwstr>_ms_pID_7253431</vt:lpwstr>
  </property>
  <property fmtid="{D5CDD505-2E9C-101B-9397-08002B2CF9AE}" pid="9" name="_ms_pID_7253432">
    <vt:lpwstr>x8ME0DQ2PpRh3avrRbfrZv56P6DdLEWGgiSMf+uDB4pq8mzhbhG6zPVPz3X1HS7rV0q5VF4keEsOSPp/KUMahD6kIQ6nI8qma02y7yusddScuZyMKuYK7AFTacu2BRKKxw82Xzx/b9m828jjjbhdYp08I8L82pMlPMiTjrFCpVp1AC8y6wfo3GM3bJVjc7D4DG5rJI1R0MXpzIiQOzKrXn0tHb6SOvbzeZuVqelsG00qCwte</vt:lpwstr>
  </property>
  <property fmtid="{D5CDD505-2E9C-101B-9397-08002B2CF9AE}" pid="10" name="_ms_pID_7253432_00">
    <vt:lpwstr>_ms_pID_7253432</vt:lpwstr>
  </property>
  <property fmtid="{D5CDD505-2E9C-101B-9397-08002B2CF9AE}" pid="11" name="_ms_pID_7253433">
    <vt:lpwstr>DeUnBJ7jXkhDFSfx2mbaZLiRTmabchORs5UcQM7t6iy9W9V5x0aJrpdekEha9ev1v7ztBtDiSNiz0nb5TnbmoOjSO9dSTPtxKJtkBk0VOT8v8uSIsc13cQc0DfmbMnZDCw/73NT8fGNvpvuxnOABvrA90Ua7RN1L2t9H8pOjEZKxCOmcGK2xRY5PojaZXHShwppauFNrvLHwrK2A1xMWv2Hy/8UBtsBI7RPOw+pkMh3CoR5h</vt:lpwstr>
  </property>
  <property fmtid="{D5CDD505-2E9C-101B-9397-08002B2CF9AE}" pid="12" name="_ms_pID_7253433_00">
    <vt:lpwstr>_ms_pID_7253433</vt:lpwstr>
  </property>
  <property fmtid="{D5CDD505-2E9C-101B-9397-08002B2CF9AE}" pid="13" name="_ms_pID_7253434">
    <vt:lpwstr>9t84MRtTx6Thnshgwp5BWq4UiuH84Eiujfe39Icajo8bMu+OO+aJRKLepkNrNUE99MU7YuJd+fFCg3aweaBTnq2fGfvMW7Ut/bQu8RC1FTVvRRLGOQlyb7hYMxC9aIRdVBZ6p18/5pQrL2cu4rhCKSpebJkgn8YLAtFbLQvYKXu93YKEYLjKpDwJeP+CyI8vT062JGalwlQ3Yvee3IDqJW1yqOBg24U7zWL0L3MKhhrvO8f0</vt:lpwstr>
  </property>
  <property fmtid="{D5CDD505-2E9C-101B-9397-08002B2CF9AE}" pid="14" name="_ms_pID_7253434_00">
    <vt:lpwstr>_ms_pID_7253434</vt:lpwstr>
  </property>
  <property fmtid="{D5CDD505-2E9C-101B-9397-08002B2CF9AE}" pid="15" name="_ms_pID_7253435">
    <vt:lpwstr>6GWTJDqz29S7smRvZQ2d6O2tevCrNSUYcO/TE5kl465CI3u3agCbKz/IqAI6BCDNXFzeHpTc0L65mbokTOrPcULOX23R2vtnlJnGDo1mTjdsWF4b4qPHz0R58sXuSVXhknyPvskulsySMkLGliq6rC8WkcO5aBCH/kRw9eAT1jvX2qCdNVwm1UhsJZec74rp824gmFvr6KutP18IGVz5uhur7VnixQSUGNWBIVj552MkbME6</vt:lpwstr>
  </property>
  <property fmtid="{D5CDD505-2E9C-101B-9397-08002B2CF9AE}" pid="16" name="_ms_pID_7253435_00">
    <vt:lpwstr>_ms_pID_7253435</vt:lpwstr>
  </property>
  <property fmtid="{D5CDD505-2E9C-101B-9397-08002B2CF9AE}" pid="17" name="_ms_pID_7253436">
    <vt:lpwstr>sTeVGnCQ0WCLcu3MQHuO0TFinWdHluh2Vf6zXtBjuRebL8xr6suQUaNHGWcf621zJRFmh33DmaFN7MhZOreGlD6ucG2hrcCFhIUw1L/vg/10yQu6cia0ltRDyoV9ZARFiNAqXnGHWnwNjirxWaWwRuMcte7s5PAnIc7KUTz33edbdJXdaI39osewTu48zvXD5Ap8Q0zJ809EcnCIXc+WtGKSzpnNNWwFyVUPx3CFyuEpL4Pj</vt:lpwstr>
  </property>
  <property fmtid="{D5CDD505-2E9C-101B-9397-08002B2CF9AE}" pid="18" name="_ms_pID_7253436_00">
    <vt:lpwstr>_ms_pID_7253436</vt:lpwstr>
  </property>
  <property fmtid="{D5CDD505-2E9C-101B-9397-08002B2CF9AE}" pid="19" name="_ms_pID_7253437">
    <vt:lpwstr>Dm3MIKDygnrlJgGYaKT7hvJiY3AsvZDFcRpNIqaF2iH+3iYHuJDWGNqjQFQTnPnIW4L7Ph3g4wZJ6lvGXdrp7GMSeF0/HbFbONKSiB6fo3sjR58WECrD3iyflR3pBaDoQwN398Hqp9MUjYgpTKwoV9UJBG1HMAxflrQaAv6/QXkRlJDGoKn90YQTAs+RxuWobh62wp6uacyFPhO3dxEgde63/NbE/BFnXQtf45PCGNa3KvlH</vt:lpwstr>
  </property>
  <property fmtid="{D5CDD505-2E9C-101B-9397-08002B2CF9AE}" pid="20" name="_ms_pID_7253437_00">
    <vt:lpwstr>_ms_pID_7253437</vt:lpwstr>
  </property>
  <property fmtid="{D5CDD505-2E9C-101B-9397-08002B2CF9AE}" pid="21" name="_ms_pID_7253438">
    <vt:lpwstr>2TW/xbkhJGEaCFDDLT5IDAVYF7wCtVb86KgY7RouYgbTiiRUOUZdvQgYasRYQjRRQHq3j7PEJ5m9aiErVUdxB14eSEqi39a6X/0IWvo/Tl6lOouA5yKfuJr+AnxG9iCUEzuOlA5YtCxXAL38I3f/xKvhMKnXvJsA3IDAAIj0TdpHkqeEjGqdZaLJun9BFA8ui4iGfsGtGbd83Tu9xvBJhy61UCXLzIC1/3e8A7uQIj70Y9vE</vt:lpwstr>
  </property>
  <property fmtid="{D5CDD505-2E9C-101B-9397-08002B2CF9AE}" pid="22" name="_ms_pID_7253438_00">
    <vt:lpwstr>_ms_pID_7253438</vt:lpwstr>
  </property>
  <property fmtid="{D5CDD505-2E9C-101B-9397-08002B2CF9AE}" pid="23" name="_ms_pID_7253439">
    <vt:lpwstr>y6kFNTjsH2mE8f1UM95zogrbUuwzLzv11JqPEndS5UH5Lo8hJp1y9mBWg137eLLAXkxWIT1wLg0+p/ZEkq2ar/3u10yNvrddGtCMOn+Mik/A6YEfsGhiacDa6gq2VTnIhFya5g2Un2Qd5eq5mxnZth6Wic1AwgAKLTlzgAodJEMyHfuT91df79HCc/2kG/biuHnoxtPvJnwn+VOSQPxc/3X08hy+h9J1u9JNx0xL2/GBk3Jq</vt:lpwstr>
  </property>
  <property fmtid="{D5CDD505-2E9C-101B-9397-08002B2CF9AE}" pid="24" name="_ms_pID_7253439_00">
    <vt:lpwstr>_ms_pID_7253439</vt:lpwstr>
  </property>
  <property fmtid="{D5CDD505-2E9C-101B-9397-08002B2CF9AE}" pid="25" name="_ms_pID_725343_00">
    <vt:lpwstr>_ms_pID_725343</vt:lpwstr>
  </property>
  <property fmtid="{D5CDD505-2E9C-101B-9397-08002B2CF9AE}" pid="26" name="sflag">
    <vt:lpwstr>1431634268</vt:lpwstr>
  </property>
</Properties>
</file>