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C5C6B4-A105-4ACB-AE34-844F0A5F4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5ED836-29AD-4BEE-B9EA-92EC8979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4690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618440" y="8985240"/>
            <a:ext cx="24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ama Aboul-Magd (Sams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617136-44CC-42F4-AC8A-A1AE982A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C48AC9-FF3A-44CE-A561-047AB375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F6163F-8802-4A83-BB61-7B336312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F81361-B737-4507-A675-97766FD8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4"/>
          <p:cNvSpPr/>
          <p:nvPr/>
        </p:nvSpPr>
        <p:spPr>
          <a:xfrm>
            <a:off x="69156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5"/>
          <p:cNvSpPr/>
          <p:nvPr/>
        </p:nvSpPr>
        <p:spPr>
          <a:xfrm>
            <a:off x="445248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992FA4-92B2-47C2-A724-C3BDB78C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DC5-9F5F-438D-B177-E77C388C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E3B-0B49-4637-8EAE-E2205C65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13794-BA61-4674-9FEE-E817E4A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F69E-6FB2-4D2C-8E36-4326BB4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E93A5-506B-4636-9D45-9B537D7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86EF0-5DB2-4046-AED7-E7130F58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8EAD-C645-4607-B7CB-0F2D2A1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B743E-D672-4318-8E38-7956AE7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8B5AB-EA03-4D20-9D66-5E73B70C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DB1A-7E86-4017-8191-C5A4C83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5CD6C-D4EA-420A-A4F2-EE8B8E83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5688F-D75E-43FB-AA0B-BEB87DDF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396-9578-4737-B807-4628B4FB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1469B-1A7C-42B7-8FAE-0BA531D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ACEFB-8B62-4257-9697-B29D72A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83BFB-3732-4C0A-95CC-75D2D927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7768E-E2BC-4D61-89D6-4F0DF34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E3659-6925-42A1-BCDD-63D7785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64759-1FA5-4175-BBFC-BE79A3C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CB20A-8B4C-42ED-B6FA-5BE2F3D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8E1D9-72B3-4746-9A06-24B8A45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4DBF8-24A0-4BE4-AB32-20F5D9E7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FC121-1A2D-4227-A3AA-191C5B4E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8C7-D8DB-46E2-BAC5-17251FDB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0EF10-87B5-4303-8A6A-09F17CB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8EF2-B5C6-418F-BFCE-FF990094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782B-D1CB-4BE6-971A-A750A47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CABC5-FFF5-4D99-84F0-2BC9240C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78D2-2D1D-4D7F-A0FC-0BAA8FC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D8D88-5A7D-40C5-A25F-CE16D6D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D7CA5-524D-4107-8E11-BDB1B62E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693DC-E893-4F6C-B0FA-230A1B3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23DC-4EDF-46B5-956D-5E70BED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3890A-3CB5-4BB7-A9FB-3F16164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BBDA-AAA2-4297-8017-302308B2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A646-DB2E-47C9-8F4B-A65B24B2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742D-17C2-4154-B554-4F0586F9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B38BF-FDE7-4FBD-8321-25345C1F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FE9EA-BCC2-4B7E-801A-3083FC13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34EA2-0073-4ECA-A9CE-F0C1BCC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51E65-15DF-42F5-BACF-8A06E71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55ECA-FBE1-470A-B110-0463F10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91F8F-917B-4973-9A8E-BC200E2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B6499-768C-46D6-B05F-949FAACC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D72FD-CF03-4D13-A4C7-23A6BB2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258A-397D-4D75-924D-8E864A05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45678-EA5E-4D7B-A0FD-455247A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34273-62B3-465D-83E4-6192A3C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6C0BE-EC02-4B3D-9C9E-65C8B85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35DB8-0D5F-4063-8E11-9F841B86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45518-6EC2-436F-98FE-57764119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79F9-A38E-4CAD-B7AD-FC924325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D89-CE94-4D2E-A68D-47904F8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890-4FBF-40CF-8204-D1B646D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DE9-470B-43E4-B503-B7A8CE9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0960-7D01-4483-B434-5305975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AEA-F35A-4511-970F-17897C14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4835-375F-48DD-811B-BA91C19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F13-7877-4215-BA92-DBBAD51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0A4E-70C9-4BAD-8811-FF7F70F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E1A5-DB6E-472E-8244-6F8A5BB6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F764-5F01-4FD1-87F1-29704364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46CB-9D66-43D2-AFF9-032B74C4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E6AF-6D42-42A3-939A-EC82C1B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A030-8B77-4B3F-A89F-82856FA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9493-3234-47A8-B9B5-68424F9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970B-8515-475C-A9EC-3A6C689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943-B75D-4E7C-95B2-0A0AA459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DA3B-ABF2-49FD-A3AE-487661ED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61C1-DBFB-4F43-AC9F-B1F3113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3C24-1753-4575-90AB-7D17F42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67E1-B357-43EB-AA89-9AA9E87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0341-4A88-4046-A113-ADE1E57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3FAB-1655-4B43-B74A-3F18F4F2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971C-31FA-4512-B4A5-308C68DD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EC60-A779-4FCC-82F3-815E06B7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756A-E787-4D2E-A41D-A5AB3541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B124-8ACC-46E4-87AF-EF53AA1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B78-95DE-48CF-B69A-6FF6140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671A-1B3D-4925-BA56-5446C6B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B3BC-6CC9-4265-82A6-BA67A30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41B1-655C-4EA9-A0A0-B050D83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0C4D-A5C0-49C3-9B86-7C0F98BB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4B2C-1DC4-46DE-B6C0-9A47E1A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C881-63F3-44AE-A34D-D352595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CBAE-58A8-42DC-8A69-061843DA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66AA-A95A-4F02-97C2-1584BDC0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0746-7A93-482B-9296-23B8FA43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D506-0322-4AC6-9CAE-5A97FE98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4C3-9C81-46C8-B457-4E3E22A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A1F6-61E2-43ED-B2EB-FC59AB8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13C2-5DF5-45AF-A0E5-2CD542D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B8C9-5975-4B64-B525-F325DCA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472C-5A27-4ED4-8CB1-70C9306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A4F0-F6EA-40CE-A8C6-D114F4F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4E83-54C2-4C4E-B440-D2B400E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B413-5193-4FAB-BA6B-459FA16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CB55-374D-40C9-A18F-E59B32A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F2BF-645A-4902-9307-6EE601B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7301-1A01-4ED4-81D4-6C73AE0A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1EE-3251-465E-AEF7-AE31ADF8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5455-142F-4D3C-AF09-7E11B936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74BA-4DBD-46D4-8AE4-E589E7A3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3F8D-93BD-42E3-97E7-A6993078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CD98-38AF-4A28-AA06-11F6647F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7DA3B-2AFE-48A7-B924-50FF708A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3152-D740-420A-84DC-886E518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12D5-2008-4C42-9AB1-EEF5925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9A2E9-30C4-4540-953E-27D177E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3693-4056-4F9E-80B5-1820F94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0498-4890-4D02-9948-E2EB62E1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5BA-2D2E-4EBB-826B-9256F7B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7036-3912-4D94-9337-94EFBDD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F4C0-9D28-42E0-858E-261237A0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CE2F-BA57-4AEB-BA89-E1338C0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0A95C-2D1C-4D8B-8E0F-6A5B8FAC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39FC-9021-4FF6-8D4D-C8A1687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D363A-F7DD-41A9-B31C-CB3B9E1B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3BC3-A6D5-4AE2-91E4-7DBCD4C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D3CD-3C40-4965-9019-E7C85DC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DFE8-C6D3-4F39-B46E-C8A60D8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E03C-16A4-4EBE-8B5A-263C17F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E11-56C9-470B-9FFB-AB8DFE5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4F93-68A5-44EA-9B5F-04AC1C3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6FE1-1A04-4A41-AE54-BEF2315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5977A-C4A7-4E26-9ADF-3B162B0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E3FB0-8B88-439E-9ABA-367B8C70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D6171-93BD-412F-8C3C-1B5B717E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7905-9F22-4D38-B415-765D126D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7E4A7-E250-4FDA-BBF7-A4BD80F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600E-A0C8-4A40-A102-3776A37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9469-AD3D-4F36-867E-ACFB73A8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061B-5D91-4952-B703-B985821C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411-BECE-4C5E-B79D-B2AD2CA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775A-42B5-4E85-B09F-D99592B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7FEE-DD51-4E74-9BCF-004C036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6DAB-0D2E-43FD-BAD9-6B9CA63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90F7-02A9-40CB-B1A1-5327408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0763-6365-4ABC-8882-1104DFE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19E2-D0CD-4A7C-931F-BF32BC3A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D0B71-A6CE-4A0B-A778-98345FD5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88503-1B2F-434E-AADC-2FA4DF5E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66A0-220A-405F-9D5D-552B411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67543-87C4-40D2-8DD4-FC36CAF8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CAF5E1-AA23-44CB-B578-89C9E235D7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92D700-6D68-433A-A038-44697BE6E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1EEC18-2D83-4498-94A1-A348151A62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9C766E-281D-43F5-BD5A-743E75B67F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557EF7-7D7D-46A9-AB72-1F265A303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9B1C8E-D269-46EF-B7FE-DC4A0841AC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C09BE6-619D-4F1D-929F-53A66A971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FFB048-D7D1-4588-98A0-B13182584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6C5088-0554-4DC5-862F-F53AA1B4E4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26E4BB-84CA-423E-A8CA-F18C2CFF46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378E0D-8DCE-432A-86D3-58048AA73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890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2049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90480" y="647532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ama Aboul-Magd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8564BB-25DA-4BDD-AD13-63E2402EE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9B9C7C-815F-4701-A693-F211D7CF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 Group A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mber 2019 Closing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9-11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74640" y="2666880"/>
          <a:ext cx="7817040" cy="9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666880"/>
                    <a:ext cx="781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7FD935-7B02-4549-9D5B-7A68F44C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 is the closing report for Task Group AY for the November 2019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5791320" y="6475320"/>
            <a:ext cx="27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B0AEED-C2F5-49C7-B79B-66F71321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solved all the comments received from the third recirculation working group technical letter ballot, LB246, on Draft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further recirculation ballot is required as no must-be-satisfied comments we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pproved a motion requesting Working Group and IEEE 802 EC approval to forward P802.11ay D5.0 to SA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viewed 1 technical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D6D7C7-E2DB-4C3F-8253-747FEFEA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lin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hanges are shown in 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62120" y="1839960"/>
            <a:ext cx="77724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9/11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ek EC approval for SA letter bal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020/0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SA technical letter ballot (Draft 5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recirculation SA letter ballot (Draft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Recirculation SA Ballot (Draft 7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Recirculation SA Ballot (Draft 7.0 uncha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802.11 WG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EC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20/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Com &amp; Standards Board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D1F9F1-486C-4FF8-8FE4-FDD261DB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s for January 2020 inte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review/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297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9DB878-8134-41B9-9609-375768EA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November 2019</cp:keywords>
  <dc:language>en-US</dc:language>
  <cp:lastModifiedBy>Edward Au</cp:lastModifiedBy>
  <cp:lastPrinted>2014-11-04T15:04:57Z</cp:lastPrinted>
  <dcterms:modified xsi:type="dcterms:W3CDTF">2019-11-12T21:44:35Z</dcterms:modified>
  <cp:revision>2060</cp:revision>
  <dc:subject>Task Group AY September 2015 closing report</dc:subject>
  <dc:title>11-19/2049r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3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4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5" name="_ms_pID_72534310_00">
    <vt:lpwstr>_ms_pID_72534310</vt:lpwstr>
  </property>
  <property fmtid="{D5CDD505-2E9C-101B-9397-08002B2CF9AE}" pid="6" name="_ms_pID_72534311">
    <vt:lpwstr>w8PjNg==</vt:lpwstr>
  </property>
  <property fmtid="{D5CDD505-2E9C-101B-9397-08002B2CF9AE}" pid="7" name="_ms_pID_72534311_00">
    <vt:lpwstr>_ms_pID_72534311</vt:lpwstr>
  </property>
  <property fmtid="{D5CDD505-2E9C-101B-9397-08002B2CF9AE}" pid="8" name="_ms_pID_7253431_00">
    <vt:lpwstr>_ms_pID_7253431</vt:lpwstr>
  </property>
  <property fmtid="{D5CDD505-2E9C-101B-9397-08002B2CF9AE}" pid="9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0" name="_ms_pID_7253432_00">
    <vt:lpwstr>_ms_pID_7253432</vt:lpwstr>
  </property>
  <property fmtid="{D5CDD505-2E9C-101B-9397-08002B2CF9AE}" pid="11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2" name="_ms_pID_7253433_00">
    <vt:lpwstr>_ms_pID_7253433</vt:lpwstr>
  </property>
  <property fmtid="{D5CDD505-2E9C-101B-9397-08002B2CF9AE}" pid="13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4" name="_ms_pID_7253434_00">
    <vt:lpwstr>_ms_pID_7253434</vt:lpwstr>
  </property>
  <property fmtid="{D5CDD505-2E9C-101B-9397-08002B2CF9AE}" pid="15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6" name="_ms_pID_7253435_00">
    <vt:lpwstr>_ms_pID_7253435</vt:lpwstr>
  </property>
  <property fmtid="{D5CDD505-2E9C-101B-9397-08002B2CF9AE}" pid="17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18" name="_ms_pID_7253436_00">
    <vt:lpwstr>_ms_pID_7253436</vt:lpwstr>
  </property>
  <property fmtid="{D5CDD505-2E9C-101B-9397-08002B2CF9AE}" pid="19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0" name="_ms_pID_7253437_00">
    <vt:lpwstr>_ms_pID_7253437</vt:lpwstr>
  </property>
  <property fmtid="{D5CDD505-2E9C-101B-9397-08002B2CF9AE}" pid="21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2" name="_ms_pID_7253438_00">
    <vt:lpwstr>_ms_pID_7253438</vt:lpwstr>
  </property>
  <property fmtid="{D5CDD505-2E9C-101B-9397-08002B2CF9AE}" pid="23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4" name="_ms_pID_7253439_00">
    <vt:lpwstr>_ms_pID_7253439</vt:lpwstr>
  </property>
  <property fmtid="{D5CDD505-2E9C-101B-9397-08002B2CF9AE}" pid="25" name="_ms_pID_725343_00">
    <vt:lpwstr>_ms_pID_725343</vt:lpwstr>
  </property>
  <property fmtid="{D5CDD505-2E9C-101B-9397-08002B2CF9AE}" pid="26" name="sflag">
    <vt:lpwstr>1431634268</vt:lpwstr>
  </property>
</Properties>
</file>