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E59EF5-40AD-48EF-BF52-002554D87B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E349CF-048B-43C9-8FB7-056A5AE1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AB45FC-0814-4FE3-8E8E-B476AC0A7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9F4C0E-AF62-44F0-A3A7-39DA20A18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DAFD91-7580-4B0E-8D01-990BD4504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01E8FC-3656-4BDD-8C3E-D76D40EB1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586A2E-4E7B-453D-AE79-2B61DD32A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AF5AE9-FC20-4FB2-99D1-FEFCEBA6A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485C29-6C35-4110-853C-A8EC9E852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865D20-DA60-42F3-973A-B6617449F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47B-04F3-4B20-8D2D-9E0F11B5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7AF-6EC1-4A10-B379-61464A10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20E3A-992C-4249-A870-978ABD79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6D430-89C2-4B9F-9A34-085A459B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A4EB3-303D-4057-9533-33DAC45D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945DB-3B5C-4C2C-AC28-AF5731F8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8C6D1-A804-4171-96F3-7EB15AD5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15EF1-0862-4259-97D0-08F8D6C4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628A5-DD0B-4785-9804-AC8A274F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EEE70-968F-40F9-B1A3-D749AC5F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59185-8CA5-49F1-962F-4EE5F929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DF6A0-CEE3-43AA-B955-F0172FB2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D51-A6F9-47AD-B0E9-4F8659DD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45965-3CD5-4669-B75A-FF4FE2E3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42470-FA69-4E25-82B6-8186F3AF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0C570-280E-4C9C-96DD-769648AD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86F15-FF6F-4045-BD23-FC91BA37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C6340-8642-40CB-9EC7-1FA47B53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5288E-2335-40B9-9C13-BF9A24A9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5342E-F663-498B-92B4-CEA9C0C3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20E1F-17E8-426C-BDCC-91919930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3C225-26DF-4F7A-8040-C82F41E1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76F9D-2778-4996-81A3-EC0F96F7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894-00A4-44CD-A771-9A98F766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338E2-DAFA-4E3E-94B5-18C35E0B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02FC6-768B-4307-B6E9-A9078D6D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5F8C0-4633-451B-8BE0-5BD8D50B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41D57-DF60-4E65-B719-6D755EA1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0DD4E-2382-4608-A386-587991B8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A7461-F551-4CA0-B50E-87DF4D26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0411B-EDA0-43C1-82DA-C6BB328A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E8417-72FE-40FF-918F-5114D120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3F7A5-853D-483A-81EC-6B136016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4418C-7F05-4822-9C91-2814A02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8412-9CB7-4817-B4CF-0BB294FB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D09A4-17AE-4943-ADBD-94179BB2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7D4CB-B937-4F50-B1FB-042962C3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900FE-6816-4207-94DE-2C670E76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892CD-F920-428B-980F-230CA860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05D0D-2977-44EA-A315-BB886FC9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67D7A-8F54-407E-A630-11201571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F5BF5-D999-4C56-87FC-A8371DE1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9BDD4-0DAB-4569-803F-F2C0DB3A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EAD6E-4236-4987-A8E2-09955894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52E45-0727-49F9-AA23-7B1D4989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1AD6-E8E9-478D-B32F-42D4AD64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3548B-7DC0-453A-946D-839871AC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B4BBC-1D94-4EDA-A220-446C8F2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DDF83-5966-4FEF-9E52-29FB0DC0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DF9C5-4A31-4333-B773-93B45A20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F235A-2461-46A8-AFE5-47746F9B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B5B9-906A-4BA4-A0B9-0D6FC713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27F0-16E0-4E8C-A98F-D13BB157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36EF-1C07-4A0F-909F-2CF6EE11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154D-4821-41BE-BDE6-85BD39A7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1649-17C5-402E-9098-C3A8827E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020-9506-480E-B480-B56C0C69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ADCB-98FA-4B99-9526-EDD56DEB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A8AD-63A0-4927-8A7D-1D45513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6F61-C5A7-4788-A516-0D992184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363C-EC67-43C6-AE0E-7EA70618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37C4-C55C-4DCB-A9DC-78886E74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7ECA-938A-46DE-892F-03B8A699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32E1-A4AF-4041-96F7-482E97A9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3C52-B179-41DF-AEA2-5FD2BF29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B645-26D3-47D4-BF6D-0ECA1189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32AE-15CF-4900-A809-DB160ED6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FA7-3AAE-43EC-82B9-30379A4F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5905E-B15A-4BB8-BF1F-0FE9FD1E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FC39-7652-4FA6-8522-C774D56F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E3C9-4E5B-409E-A622-9EABB783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037D-A0FD-4E77-BB89-A622618E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9715-7896-4EDE-97FD-697C5923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20A1-9D0C-470E-AC0D-FC83EFEB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471D-A298-496D-855B-D324A7E8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200F-B98B-40A1-B93E-3A760DD9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3C832-D0E0-437B-AF35-2DD15175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5469-EF10-4337-A3A5-53E429D8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0F8-2418-4FF4-B072-F89D74B9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02CD-0EFD-45EE-87C4-BD220BD8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B4993-DB13-4A7A-8111-F2CEB460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84964-DECD-42F8-B396-56334129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3416-FDC7-4BA6-9480-56D96DF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FE185-BAEC-4AA8-B6D5-9E1482C6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A263-BCF3-44E4-97BE-F1221AC7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C1257-60AC-4762-A897-7D19BBA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A7CD1-7102-4B61-8221-D0144B5D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683C0-D840-4ECB-818E-902ACDF1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EE9F4-5FF9-4BB4-BF25-F6F17773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2F7-CE04-4F0B-A30B-BDDB3C46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3CE08-EE4A-47A2-B83F-B6D5288E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43C68-9171-47B1-9F57-144F5E3E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04799-DC82-4A73-B261-4CE36652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0EBCA-DD7F-45B5-AA45-11D218EE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FF00-D723-40AB-A7FB-3C96A08F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EF10-3E19-40D6-885D-13C7C840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2C92F-5BF6-404B-8CA5-6E92BEEF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7378E-167D-4FB1-AAC9-2D3D0509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870A-D03F-481F-B190-DF59D4CE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4AF46-519C-452B-8EB2-99EBCB75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C0B-42EB-4A1E-998E-B04BABB8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2F844-AD32-4B74-9432-84E263BC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AE38-FE79-4443-ABFB-EFF0F4C0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57FDB-62EB-4315-928C-E913E459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A6494-1A56-46C2-BDAC-CD8DAB6A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EBEA-51BB-42A5-8657-B18397B6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360C7-EF7E-465D-8078-8DBD8A93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6CA53-99B7-4C61-9297-F54E6664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87E1F-346D-4A1B-BCF6-AB571B57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41CC0-A88D-48C6-8A93-5C86AA5F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43372-14AF-4688-B9E7-0D053572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090-7B17-407B-9A49-8448414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BD141-B9F3-4827-BC7B-31B0238A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119F8-A26C-4095-90D0-B2CF459A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E6EFA-A3A7-467A-B7DC-263447EA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5A17F-4A9D-414D-AA0E-46B2739E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E4B0C-BC43-4C30-819F-A6B657B7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53A8-08B5-45DB-B4F7-E8281B7B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79E45-4AD8-48BD-B7AF-8E0FBAC7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0C504-B1D3-45EE-AB56-393F0524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34126-C6B2-4AD8-AA5C-7B2F5E38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1AB41-E286-4F75-B028-1AE8D84C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A47-9EDE-4705-9107-8EF7460D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6E63D-A30E-40CF-B65A-E107133D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E29F4-A6FB-44BA-B0C3-57E8108A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4809B-C775-4334-A186-CF5E22F7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3E5AB-177E-4D20-8260-8E4AA395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6B40E-AEEB-4BD3-AD1D-53E22AF9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58391-BB1E-47D6-A61A-B17D9C37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C5ED-DF08-40B2-8E84-99CE0DA8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51116-1E70-4B84-A19E-82319373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EED9C-BF92-42EA-BF42-EA1DFBD1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F9369-A21E-4BDA-B715-E6371297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BFD-F8A4-49FA-B017-9DCD1B71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20900-45D3-431B-8DEE-BC60E839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98714-A252-4801-B6E8-4B944C3D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5EC77-539E-4689-A92B-36834131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3837C-A027-493E-BD60-0EFA1727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ECC74-5D05-4D88-ACF6-1D12E674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B9044-B4F0-49F7-BD6A-2264C0B6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78BA2-222B-47AB-9879-938D4077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1E5F2-ABFE-46E9-9783-7D17D830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B5440-228E-472F-AF40-A9352FE9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70204-A2E5-4E92-8A58-59B42C1F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0E2A67-9C3D-4303-83A3-ED28ACB6A9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86EB99-10C5-4CF9-9E7B-DE937DED77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86278B-C6DF-473E-B32C-6BBE68FE52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78EC62-A7EB-47F1-B535-DD2FFD6A2F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4B358F-7CAE-49C7-AD45-A3DEC3C9F5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9AE8CE-C10F-44C1-8772-43706CD70D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08C9FE5-2B72-4F7D-86B4-CC82FAF63E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FE4361-DBDA-4BAF-B965-1D3EA6E840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D578F73-AA44-4178-84A2-83F1FD4128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AED8C2-A3B0-4D5F-A6E7-9B2B248634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752BEB-170F-4E83-855B-D3CF750D29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A2FE4C6-34BB-42FC-879D-54C72F4FD9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42C84C-242B-4BC1-B471-D3021CA66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6-2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7F76D3-7735-46F2-8116-354DF8EEC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PoCs and authors of the comment resolution submissions and a few volunteers have kindly aided the technical editor in one way or another during the development of the draft P802.11be amend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97DD88-C9CB-4D65-BA86-C000D6CBE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19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1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48B0B2-D3F6-4878-B210-711796BA8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404BC8-3814-49F6-ABEB-FA03595E3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96960" y="1600200"/>
          <a:ext cx="7761240" cy="471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618450-1E4A-499E-916E-1FD0479DA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55B23B-83D8-4D88-BAE2-7F70DF372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ignment with baselin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line (Draft 802.11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x-2021, IEEE 802.11ay-2021, and IEEE 802.11ba-2021 are expected to be rolled in to the baseline in the next couple of month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will align the contents of the draft with the baseline in late 2021/early 202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az (Draft 802.11az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az is expected to begin its initial SA ballot in March 2022 and submit the proposed standard to IEEE SA RevCom in September 2023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plans to align the contents of the draft with the Tgaz draft in late 2022/early 202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8B84C78-97FF-4AA4-994A-50FA50A3A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ne 26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85800" y="1676520"/>
          <a:ext cx="7772400" cy="4765680"/>
        </p:xfrm>
        <a:graphic>
          <a:graphicData uri="http://schemas.openxmlformats.org/drawingml/2006/table">
            <a:tbl>
              <a:tblPr/>
              <a:tblGrid>
                <a:gridCol w="1219320"/>
                <a:gridCol w="6553080"/>
              </a:tblGrid>
              <a:tr h="331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54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 potential changes to the Specification Framework Document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8r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9r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33EF5D-0683-409D-BEB4-07CE532D7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ne 26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6-28T12:39:11Z</dcterms:modified>
  <cp:revision>8966</cp:revision>
  <dc:subject>Task Group AY November 2015 Meeting Agenda</dc:subject>
  <dc:title>TGbe Edito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