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2A3E70F-D867-4D85-9BF3-93D4FC045D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248352-EED8-4643-9F5C-E48D2225E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E87144-8092-4DC5-8F0C-2F1A87157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063827C-3384-4202-A171-70248AB8B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7C771B-9F35-4E3C-95AA-A12C55807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7A42D36-4808-4B2D-A557-E8F970367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340C245-DEF7-4E34-B033-C6E54AF7E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F9ACEE-751F-4BEF-82FE-9BA240AA7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6D1C4B5-2B42-4E53-8909-0FD7A2FB1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7EA6FFD-8406-47F9-8F80-77340F50D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A7A-8B71-4932-8133-DB6D3FFB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685C-0334-4CB6-A3ED-347DE1BC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73672-79D4-4932-877E-79F6BEA8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65D20-F27E-4B6A-B37F-C48DC24D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AC733-E6C0-4157-AE9A-B5010705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AC18B-41DB-4247-8BCC-46D2B2C8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43558-C075-4CB9-A658-60679689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3777A-0A5D-40C8-A814-8336C122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72F97-0E4F-4B44-B761-51B1D5B6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A1298-5F9D-4050-8D71-5C27A65D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AF9F0-B812-4A52-900D-F1BF8317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9947E-A34C-41E2-80AC-2B00A881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ADD-65AE-49E9-B2DB-D3E649A9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7945F-4E00-4E13-8C5C-A5A109C8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176A5-5299-4B05-9761-29B38416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CC766-1109-4300-8B04-402FE468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018D2-D49C-4AD4-8BA3-E2E6820D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510E5-8B74-4ABD-B13C-660E4E89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8B53A-5653-4B2C-8F8F-FE51AA28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58F3F-4830-4634-8765-7BE299D9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5B1C4-44ED-4642-B76B-4221221D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D033F-705A-43FF-81CF-29DFCFAF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52149-69A3-4E58-9E7B-ECD84970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02E-9ABE-42A8-A547-5AE788F0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C5941-E292-4626-A3A8-F85B637D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94665-AD67-4D3B-8E25-5326D91B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AA37A-E11D-45F2-9EC9-BCA18FEF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0A137-0689-43F6-842B-55F99705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44F4B-1FD8-4A10-97D7-1899FE69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44A23-521F-4B65-B2F4-876FA3E7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F2CD5-2E8A-44DE-B58D-7710BB33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3EBDD-3987-493C-8B0E-2AE6C517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85E58-1B9F-4688-A75B-38845B4F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75781-76BC-42F1-B2F8-A9FBFE57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0529-DE2E-4EDF-B896-00796B70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A762E-4D2F-4B64-9749-BA68C8D0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F7E68-82AB-4260-A32E-2613B552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DC0F8-3E2B-4043-8760-B3C8CEE4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625BC-DADD-4EB7-86E1-EE4DAE7B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138F2-4AD1-4476-97E7-0AA7AD3E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4AFED-5667-4619-8D67-1EA96AA2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C17F9-6393-44D6-AD30-31CDD330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4E720-AD6F-416A-BB12-68071845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6E1F1-2B0E-41AE-A0CA-86E20790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D41BD-193D-4F43-BB7C-39C8AB97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279F-380B-4140-9831-03CE4B14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E011B-1BCF-49C0-A52C-7D09C1B0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29741-1E95-4DDC-8E00-9A004EC1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C0450-09D6-4283-9380-8AFD113E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24E2F-2334-4C07-A973-AB4809B2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95FB7-9040-4F9C-948B-6E61FA8A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78FD-9669-4EE3-BBA2-A9FDF76A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339E-499A-4CA9-AA70-BAB378DC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93C5-A99E-462D-8EBD-67CE0A49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29BB-898E-41A6-AB67-1F9DECA3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E31E-4C8D-4CDF-8172-6561B3C0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C09-5776-4E86-B780-BAC09B8B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3326-F3BB-433C-B51C-A697C577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4F9A-EF49-4ED7-A4C8-C9B0BC31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787F-D327-42F8-AF1B-BF95296A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1541-EB7B-474A-8F86-E44982FB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3FB9-D4EF-488B-9636-D2D9EACD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2DCD1-4319-41BE-9081-CBB3AD9B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80EB5-6D70-457C-95A4-D80863CF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347B5-3099-4453-B193-54B18DC0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C9C5F-0CC3-425B-965B-52866352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7C5CF-6E1F-443C-A58E-C72197C6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85A-AE4D-47D7-A71E-6B28586C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BA22F-E80E-44C3-8756-970B029B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AD10C-57CB-4368-85AA-A4A032BA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74864-B9CF-4995-B7DC-14FCCEFA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B79CC-CB81-4E71-87E2-19229375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41AA-8B64-44A8-9742-810ABC82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2A38D-BFFF-4836-AB52-3F8BB56B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EBA07-6178-4D01-8B48-3DE5772B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2C10A-D9C7-4C2E-AB12-18A19697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B8418-310C-40E2-A99E-EE207139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056D3-FA1F-4CE7-B7A3-F12E0F85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53B-A2A2-4862-965B-91761366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1568D-1FEA-4990-8B21-4D242122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B7D6D-4F0D-42D0-A039-296CF650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A90A6-3058-4407-B5DF-D9498430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9CD1D-74A8-419E-A971-CACE9A1D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6260B-C2B3-4EA3-B078-96D53924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B6D17-734B-49AA-804D-22BF85CE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4BDC2-0571-4391-95E0-2695C6D1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B4CFD-3387-4709-B967-9B0DBDB3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31789-8564-4B94-B744-9A4C9463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7C9D0-5A91-4D92-BB66-CC803858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8DC7-6121-4430-BFC7-08147180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0E225-C378-4A49-A828-A84D26C6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34285-586D-4495-9BA7-EE04D073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CAD9A-7C72-4421-9093-2413F23E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A0340-EBB1-4DA8-B3F5-A6A4A059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1D191-C0DC-4A68-9E3C-D1A61CF8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7719F-1E20-415F-A152-251DF258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149DD-A824-4DEF-AC3E-2A8D5A31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D1BDB-70F6-45D6-80BE-BEE06463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723A4-F7CB-48B9-A9C1-25D9F21A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FC8FE-87B5-4754-B1C7-AA49BB00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262-4E7E-4CFF-99B0-A0C9BBD9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D23F8-91DE-4840-8D72-EA09A348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BED9C-1057-4848-8DC4-9A4FD791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7D06A-9BB8-4A10-8242-EE759F9E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3827F-FBC0-4BC7-A0D5-9748F4F2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853FC-C4BF-4482-A154-8FC03F9F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5A10D-7442-4173-B0BC-093981EB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FCC02-8E0D-4108-8CAC-E81A720B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100F5-D08D-41A7-85BC-E9956C89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21582-1CD6-413D-9EF5-AEA52FD2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DAE7D-21EE-486F-8758-6B7BA5AA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6B8-CE41-4C4C-8222-7A51E5CA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C5947-929F-4109-84AD-50B7D0D6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27B4E-7C82-42B2-8BBC-5BE38560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78332-CFD9-4ACD-9DB7-CF287D87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B878A-BED0-4006-8FE6-9D807311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811E9-5DD1-48EF-BCAA-818AA6FE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89EAB-E064-41E2-8A18-1D46AA1B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37C11-66DE-4F9F-AF41-8118A1B0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3A35B-F087-4186-951B-5743777E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4D3E7-750B-42F4-ABE2-E30546EB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93B3D-F9B1-442C-B3A0-FC2241DA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512-33D2-4A91-846F-ACA3F8C3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F51F2-4E5C-4EA5-A537-2296DC93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EEDA3-8CE5-4DA7-A849-BE2DD2F3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34D5E-096F-4BB1-9386-B525F0FA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27658-93C8-466D-AC07-FB064B70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0926D-0AA1-4976-84BF-2C3C9C7E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96886-AF78-4B35-A0B2-2C52703B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68B21-93A0-4145-AFBF-5458A8EE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62A67-1C44-444A-9403-F0C50CB9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34210-FE5D-4995-808A-75C00923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7AB40-BFE7-4CD7-B722-909191D0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A0CB-B307-4268-A0C0-740A246C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5B453-2DC9-4BFA-93C0-8848E28A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D449A-6190-45C1-A57A-0F2D4820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6DC02-F2EC-4E2C-A482-87FFF82F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E3CA8-1CFB-47D4-AAE1-18631CA5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8E4EA-8502-4011-A6F5-2450DD2D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D0A27-55D4-4E15-8580-8B8FAECB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66756-32C6-41E7-9E4B-E1EE67AA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258A3-4C0C-46FA-8DF9-FECEDA03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E9A8E-0EE2-410F-B863-1E616F93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37AF1-FB77-4406-871C-7474BD14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36105E5-0C87-4EAD-987C-C5E09844EA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41E28AE-9FBF-43E6-BDE2-13E71901BF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9E4964C-26F0-4322-9CD9-885DBD4FCF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713874-0506-4919-B9F3-EFECAEE0D7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B1608F6-8CF7-4743-BC68-44FE2307D4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7964FD5-0DAB-4D86-96E1-A3EFCAE33E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BE23B2D-B408-4529-BC8C-806EE0C8FD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28224CE-6F1D-4EC8-9F49-ED4B9F9D5D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41FE928-031A-40F2-9031-3C22CF4EA3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C9917C9-3F07-4BFF-B4D6-87E4DE03E0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8700157-6ECE-4AAC-8F10-99EB48B0E9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E287ED7-D607-4D3F-8F13-062EE63ADB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9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91F9D2E-5965-4635-BF8E-DFE1D55D1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1-06-2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8ED8BF-124D-4B97-B9E2-9B8C736B7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PoCs and authors of the comment resolution submissions and a few volunteers have kindly aided the technical editor in one way or another during the development of the draft P802.11be amend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7009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635CAFA-C0CD-4273-83CF-40BFADA93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9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72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19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61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A346212-C0DD-4145-96C9-D39053D31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9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96960" y="1600200"/>
          <a:ext cx="7761240" cy="444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9BE8B65-D1BA-4940-B787-A9B534386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9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696960" y="1600200"/>
          <a:ext cx="7761240" cy="471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E589068-5043-462B-8E0A-C22EA6719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7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Assessment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09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 comments are received, including 4 from 802.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37F5463-6438-41D9-B49A-D90EB3E4B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ignment with baseline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7009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line (Draft 802.11-2023 stand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ax-2021, IEEE 802.11ay-2021, and IEEE 802.11ba-2021 are expected to be rolled in to the baseline in the next couple of month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be Editor will align the contents of the draft with the baseline in late 2021/early 202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az (Draft 802.11az-2023 stand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az is expected to begin its initial SA ballot in March 2022 and submit the proposed standard to IEEE SA RevCom in September 2023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be Editor plans to align the contents of the draft with the Tgaz draft in late 2022/early 202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C757999-5E3C-48D1-8E92-7ACC3B63E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June 26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Date Placeholder 3"/>
          <p:cNvSpPr/>
          <p:nvPr/>
        </p:nvSpPr>
        <p:spPr>
          <a:xfrm>
            <a:off x="7009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685800" y="1676520"/>
          <a:ext cx="7772400" cy="4765680"/>
        </p:xfrm>
        <a:graphic>
          <a:graphicData uri="http://schemas.openxmlformats.org/drawingml/2006/table">
            <a:tbl>
              <a:tblPr/>
              <a:tblGrid>
                <a:gridCol w="1219320"/>
                <a:gridCol w="6553080"/>
              </a:tblGrid>
              <a:tr h="331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8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262r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 framework for TGb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4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755r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motions related to the contents of the TGbe specification framework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549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66r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4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1935r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 potential changes to the Specification Framework Document:  Part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80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997r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46r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:  Part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8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935r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80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223r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4 comm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80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/1018r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EEE 802.11be CC36 comm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/1019r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EEE 802.11be CC37 comments on Coexistence Assessment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F6F1C49-157D-49C9-A6F4-6DFFC70AC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June 26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Date Placeholder 3"/>
          <p:cNvSpPr/>
          <p:nvPr/>
        </p:nvSpPr>
        <p:spPr>
          <a:xfrm>
            <a:off x="700920" y="334800"/>
            <a:ext cx="98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e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to 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the contents of the SFD are summarized in the latest version of 20/1935. Results of motions are summarized in the latest version of 19/17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PDT and PDT-TBD texts are summarized in the latest version of 21/054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the straw polls related to the comment resolution submissions are summarized in the meeting minutes.  Results of the motions  are summarized in the “TGbe Motions List for Teleconferenc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1-06-28T12:39:11Z</dcterms:modified>
  <cp:revision>8966</cp:revision>
  <dc:subject>Task Group AY November 2015 Meeting Agenda</dc:subject>
  <dc:title>TGbe Editor'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