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4086360" y="-115920"/>
            <a:ext cx="2195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147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5040"/>
            <a:ext cx="104148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3646440" y="8985240"/>
            <a:ext cx="263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B7EBE9C-BEA7-41F9-B7DA-F7F86FD6D6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3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AFC4988-7C2E-4DFE-B405-F3EC2F142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2A4E35C-6C83-4EDC-861D-29E8FE287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3D78427-16A6-45F0-A6AA-B7974DB95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686D011-2761-4713-ABFF-42E3B9478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3755425-9611-40F7-B230-8AE556B1D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7F755D5-D26E-4DA4-A9B8-E1644DA57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68FE1C4-E1F9-46FE-BA06-B90220116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D485-49A6-4860-ACE8-34F82D9F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C9A4-FAFB-47B5-9EF3-6CCBA3CB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DBEF87-384D-433E-9CFB-6BD021F7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EFE5F-8738-4826-B15F-D52DAC35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E25EE5-6414-4F2C-8166-ED212135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046BEF-3F6C-461A-99E5-30364D14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55B826-CD51-45CE-8862-E63DAB5F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6F29A5-FA49-4939-9EE4-55D9A21B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DCB2C2-D5D9-4739-BAB1-45C5C7F3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22689-03AF-40AD-A218-2745709E0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EDFBF-DF2A-45BF-A4F7-C88D8E871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BDEBC-2A62-4D8F-B178-0A498C614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7083-6A6D-4710-92ED-CB042A654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1D9834-B9DE-4CA5-89B3-EEA62857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CAF33A-563D-4AAF-8D0C-1F7031BE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932152-4477-4D72-9C62-0B9353A3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70B331-CBF9-4D3D-8BEA-343276F7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05A5B-4275-4F0B-A8B4-7736E80B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ACEEBE-2935-4EE6-9453-EA0DB8D3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07D569-7EE7-4155-93A2-CDC5FD86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AEBDDD-70E6-4DCA-911A-042858A6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1B7D0-1930-413D-B6FC-D6AF8AA4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1B8DB9-8A91-4B29-9F36-FFB2A73DA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EB0F-2520-45D5-BC8E-41F3E3B20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2042C-B265-4976-AE59-CF0E00A04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747B1-734F-4E2B-8F91-0E4711D66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8281D-4FD7-46F7-9C15-020297FF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A2FC6-4336-4C8E-8CFF-732701BC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C942B-95C4-4E43-87B4-64091FA1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444DC-1B65-440B-AC82-4347E141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950C9-E99F-4874-80C2-6FF9931C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E7DD8-2B9A-4D41-8EEA-0BEE1520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29F07-4C1C-4521-BADC-1014BE94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84D9D-A8E3-4F90-A9EB-31A2B42F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5CA6-BCA9-4BD4-858B-8E1C0B4DE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04C19-9A2D-4707-9A07-5D573470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F5A82-72AE-4130-8BB8-47916FBBB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8A32B-90DC-4324-8C8A-95274ED36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2D2562-F178-4791-888A-4D497727B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1F76DA-94C3-48C3-A6D3-FAE5EE2C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4AD937-21A7-458B-9D44-F62B7124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400706-ED02-4AA7-A77B-05AA065A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ED727C-5AE2-4EC4-BD62-59FC966B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EBB56D-B321-4195-A931-930B5702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50E836-D26E-4B1C-BD6E-58D31B04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FA50-BE85-4B49-BBA9-F403E891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4DBD4-FD85-49DF-9F7C-2D81407E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9F9019-10D1-460A-B8EA-74F228D8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341320-81E5-4798-93BC-14364F4C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188797-C24B-49E8-9938-5D6682A48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88737D-9013-44A8-9DDC-D4473ABB8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D26C-9D30-48A3-8F99-E638224E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F803-5985-4E2C-BD2F-9C9E2C6E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66E5-6EB7-4C5C-99FC-FAFA4F60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A585-7A75-406F-B8C2-8394F78F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CD9A-6F85-4A55-9539-1F45882C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1DC1-51EA-4255-BEA6-CBA1B467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2F81-24EB-4933-AA60-81652D3C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6ED7-F9BC-4A3C-B654-8C2EC810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74B7-E997-4C9F-B2B1-A68ADE7B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5AA5-8A4B-4184-9903-B50E39B5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83CF-BB6D-493C-856D-BFCC2C6D2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B618A-F323-4080-ADAB-39592C444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4A638-9479-4C70-BA1C-217B83B6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70CBD-0724-4B17-8293-0440E992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FAE05-1B5A-454D-9BE0-E1E35F13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658E3-35FF-4C57-9867-CAF30713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29B3-C437-4502-81AB-8263DE01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2B3F4-690B-46E2-B4E0-C31812E9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073FB-4904-4059-99ED-AB2F912F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ED96F-C8ED-4376-B954-BA75ACEC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F7202-2A89-4E70-9D13-E22B48F6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A885E-95EA-4151-9F80-4B966158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B07A9-9C1D-4DE4-BEF2-A13B38EC6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F3274-927F-4BA1-BC7E-C5308FC4D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EC4CD-B15B-43AA-ABC0-FB0967185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B4D05-C0D5-4685-883C-F7AA84AB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2D69A-2A96-4A7D-BC53-AC4B316B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37B7-93B5-4E94-9DA5-50AAA41C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6FF88-5AB5-4B6A-BF16-1BBBD220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3AF3D-FF50-4EA9-89B4-DC7D2D32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6CCEB-ACC0-464C-9276-2DC7F44A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9A484-0A0A-408A-98FB-D7B03319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7FEBC-78C6-4FDF-9EB1-AFA03EA6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7AD8E-5F5F-47CB-8CCE-11CAD054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27AF0-5A12-4673-968E-7AC0BD2B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34FE3-788F-4491-883F-2BC4C8F3C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9A0D1-5F5E-4C1F-B418-C344F922B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C991C-0DAA-4B19-B28E-627A47DF6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25A9-FFB9-42B6-9FF3-8BBBD824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8E5EC-6CFE-48C9-BCCF-F3E02265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52160-4CD7-4C94-801D-7B14DF05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4209E-9AE0-4DC9-B034-7E1AD366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A24EA-342F-40D8-8E8B-5CEF5328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7F03D-C3A7-49B2-8B0C-3CDAD999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E1E4C-0DC3-4B96-ABE3-702D6910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7E142-550F-400A-A8CB-A684F095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7BBC4-0B25-4FE5-8C0F-FF49A7D6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763FC-3AA4-4F18-85D6-C9F39A14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0D0A1-24AB-487B-B671-5B55E78B7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8187-4DCE-4594-A65A-7BF85E0B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66FEB-3E05-4ECF-88DD-AB6E584A2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8530D-6FB1-402B-A31F-8F991CF95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A0340-D99D-4816-855E-A03646DC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5D9B9-43FA-4B4E-97E7-F6B9CD83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409D1-7DE2-4282-817D-15E04584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B97BF-5CD0-4EAE-9F45-B598B9B6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74498-9963-4BC1-AF8F-25B74168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BE120-58F9-4869-AE24-6C77770A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1A8C6-E970-4BB8-AE95-32F923BA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9B71C-8B6F-4C4E-B574-64B1C645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BD7D-7AE5-4533-80CD-0DC421DF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7051D-76EF-4587-8F09-02CF0E20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A6291-FD3A-4CD3-8A27-B65AA9874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44E4F-D19F-496C-9171-170035419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1BFE8-43A4-4374-B634-B7E1F4C24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75BE5-E9E9-49FD-AA91-7FDA62BE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8483E-300A-4BEE-9056-84488ADF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3BD6D-FD38-4BB3-93B7-CD2A6BC4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5466B-D13E-4B0A-BD30-EF2648D0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0E12F-3E1A-4EE2-94CA-A676E568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13EF5-BA93-4177-B111-6E36934E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6B57-84F5-49FA-ADF3-C44CE06B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5C026-BF12-432C-B9B7-9DC0BCD3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78074-0C62-4CC8-A8B3-11B5762F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9A94E-EA30-43EF-A6F0-A0E2B6A7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EC753-0454-48CF-B728-CE538B621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A5558-2F78-4F4D-A9F8-33D7CC09E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02CEB-980E-4927-8C02-5118268F9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A708A-020D-4F08-96A4-AA17E678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59C38-9BB9-43EC-835C-749C3F84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6C2B6-DBD6-496B-B752-FB80AC82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41012-478F-41AC-AB86-1D1965ED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CE2A-12E8-4D6F-8049-2B517AB8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C6E39-2FC9-4AA8-8724-2B3B72F9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212DD-72A3-4A42-82F2-6E58598F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84944-FCC8-43E6-9456-2735AF33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280C0-CB82-4633-8D6C-4C2706FA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FF285-DE59-48EA-9432-9138D1BA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81614-A76D-4DBA-9F02-13257A5F0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5FE08-CCEF-4FD9-9398-3C03FC9FC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B71A4-76C5-4046-A076-7696E1DA3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6BD89F-1B2C-4D0E-AA05-05DB2C21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B856F-366A-4A65-807C-2A58282C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3000"/>
            <a:ext cx="9684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E105CAD-7316-4CB3-861D-1CB96D4784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E2E2E53-F931-43C3-8417-4430CBD45E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D3C1D43-B833-4819-8496-C848FC9392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C89933C-E048-48A3-A03D-333C8E22D0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67486C8-1D26-4965-9529-CC5CF41305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35D9F49-ABE4-4A6C-8C92-69B5328343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CC82BB0-D018-4931-96F2-34FD0E6126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CA57B5A-EAA9-4BDA-9217-268F8BF800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FB2E998-9718-4104-985E-A0E6F14D92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27E8D50-CDA8-4F70-B6A8-344D5EFE8A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59AF0CA-D533-43B2-946C-E030942F11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E0BB7FF-2052-4F6D-9625-5E81639D29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8ECB674-EF50-449F-9918-6FC86E038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be Editor’s Repor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21-05-1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1"/>
          <p:cNvGraphicFramePr/>
          <p:nvPr/>
        </p:nvGraphicFramePr>
        <p:xfrm>
          <a:off x="669960" y="2668680"/>
          <a:ext cx="7804080" cy="10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668680"/>
                    <a:ext cx="78040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12"/>
          <p:cNvSpPr/>
          <p:nvPr/>
        </p:nvSpPr>
        <p:spPr>
          <a:xfrm>
            <a:off x="6858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696EBB2-2674-4D3C-A1B7-2B07DAB51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knowled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ll PoCs and authors of the comment resolution submissions and a few volunteers have kindly aided the technical editor in one way or another during the development of the draft P802.11be amend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97406B7-A2FA-4871-9495-79337103C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us of Comment Collection 3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us of comment resolution as of  May 12, 202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01 comments are resol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35 ACCEP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03 REVI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3 REJ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37 comments pending for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65 Techn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42 Edi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C332582-204D-4ADB-8BD4-CAEDDBC68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holder subcl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.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ME SAP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.3.13.1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acon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.6.1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HT subchannel selective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.9.1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.9.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 operation with non-SRG OBSS PD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.9.3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 operation with SRG OBSS PD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.9.4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justment of OBSS PD and transmit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.15.1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.15.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.15.3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nnel sou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.15.4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ordinate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.4.36a.1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HT MAC 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2DBD86A-C5BF-4BAB-B5F1-2143BA093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holder MI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11AAROptionImplem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11EHTEMLSROptionImplem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11EHTEMLMROptionImplem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11EHTNSEPPriorityAccessActiv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11EHTOMIOptionImplem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11MLDAssociationSAQueryMaximumTime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11MultiLinkActiv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11NonAPStationAuthNSEPPriorityAccess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11RestrictedTWTOptionImplem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11TXOPSharingTFOptionImplem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11SoftAPMLDImplem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11SRSOptionImplem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11SupportedEMLMRRxN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11SupportedEMLMRTxN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BA849D3-DCE1-4563-BC39-F6A131016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ditor’s documents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s of May 12, 202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685800" y="1676520"/>
          <a:ext cx="7772400" cy="4003560"/>
        </p:xfrm>
        <a:graphic>
          <a:graphicData uri="http://schemas.openxmlformats.org/drawingml/2006/table">
            <a:tbl>
              <a:tblPr/>
              <a:tblGrid>
                <a:gridCol w="1219320"/>
                <a:gridCol w="6553080"/>
              </a:tblGrid>
              <a:tr h="331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C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t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8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262r2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fication framework for TGb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548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755r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motions related to the contents of the TGbe specification framework docu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549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566r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straw polls and potential changes to the Specification Framework Docu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548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1935r2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straw polls and  potential changes to the Specification Framework Document:  Part 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80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997r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spec text volunteers and statu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503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0546r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spec text volunteers and status:  Part 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8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935r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Editor’s repor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9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0223r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EEE 802.11be CC34 commen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7894EF3-6A2C-4354-A2CD-B1E99B016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ditor’s documents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s of May 12, 202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 to 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straw polls related to the contents of the SFD are summarized in the latest version of 20/1935. Results of motions are summarized in the latest version of 19/175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straw polls related to PDT and PDT-TBD texts are summarized in the latest version of 21/054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the straw polls related to the comment resolution submissions are summarized in the meeting minutes.  Results of the motions  are summarized in the “TGbe Motions List for Teleconferences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8:10:23Z</dcterms:created>
  <dc:creator>Edward Au</dc:creator>
  <dc:description/>
  <cp:keywords>Contribution</cp:keywords>
  <dc:language>en-US</dc:language>
  <cp:lastModifiedBy>Edward Au</cp:lastModifiedBy>
  <cp:lastPrinted>2014-11-04T15:04:57Z</cp:lastPrinted>
  <dcterms:modified xsi:type="dcterms:W3CDTF">2021-05-13T10:48:20Z</dcterms:modified>
  <cp:revision>8925</cp:revision>
  <dc:subject>Task Group AY November 2015 Meeting Agenda</dc:subject>
  <dc:title>TGbe Editor'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change">
    <vt:lpwstr/>
  </property>
  <property fmtid="{D5CDD505-2E9C-101B-9397-08002B2CF9AE}" pid="3" name="_full-control">
    <vt:lpwstr/>
  </property>
  <property fmtid="{D5CDD505-2E9C-101B-9397-08002B2CF9AE}" pid="4" name="_ms_pID_725343">
    <vt:lpwstr>(12)O48q+nWDiKNAVXoAwq58w7ATF5BZpxUzus1FEuepahc6BRLUWdfXeHQFTCUY0LJynFgfmRNUPZlAVy+j0r6pbTTT4EXTIDQn++fDAJzW+wNWbLiJe8Z4f4WxdeblmkwEZYVIjqjQH/zBS5y6b9GoioXTXjFlVZ7xPu5xRU0WiDXzU0e3oG78RYbPZ2aHX/hl9SFYOtYdUMQjNw+W6g45GYePd7oGmr8CiOcEr8o5DLsyXdeT</vt:lpwstr>
  </property>
  <property fmtid="{D5CDD505-2E9C-101B-9397-08002B2CF9AE}" pid="5" name="_ms_pID_7253431">
    <vt:lpwstr>hBtTL66MZvP2f/KaV3adKT94KHNJID0xypYHmm25hGzk/ETif8Sj8xBGFsYnZVfYQOQ/wAyM9jGI1mxvLrml8FSLl4bDbfLtpebXgH+6bsglE2sjb5/6PLqZ6vrPMuq4xHCeAFploXk9GR4pqeBSsTI3ryAIkLOeZIHu3OlyhiIUHAYFFjusCknP+OLaVPfpnqpJjopJQHwudTzey6vtimu1b8SZqaoMzXoWNM8jqNR1+tnd</vt:lpwstr>
  </property>
  <property fmtid="{D5CDD505-2E9C-101B-9397-08002B2CF9AE}" pid="6" name="_ms_pID_72534310">
    <vt:lpwstr>kiAeZ3SViGiZnriBbU58KYt1RpZ8eBinUdFbRfYxQXRkzDWwNQewHtw75pcA6cREPLuI2SAbxHVYSR3ZUQ5zzjYwte9tx/Sz0XORHKyOcmsIT5gncnPVLYLsDnTA2iOGX/DUw8XNZoQ9LYZzW9Y+ux8R1UZoLQv4XUK12L129g9SBWNmAOm2sZnFbfrpXSC/kozVB/gOTHDLzacdjMJ1j+FvpemlYvFkaW2xdXn6gHIjaUtI</vt:lpwstr>
  </property>
  <property fmtid="{D5CDD505-2E9C-101B-9397-08002B2CF9AE}" pid="7" name="_ms_pID_72534310_00">
    <vt:lpwstr>_ms_pID_72534310</vt:lpwstr>
  </property>
  <property fmtid="{D5CDD505-2E9C-101B-9397-08002B2CF9AE}" pid="8" name="_ms_pID_72534311">
    <vt:lpwstr>w8PjNg==</vt:lpwstr>
  </property>
  <property fmtid="{D5CDD505-2E9C-101B-9397-08002B2CF9AE}" pid="9" name="_ms_pID_72534311_00">
    <vt:lpwstr>_ms_pID_72534311</vt:lpwstr>
  </property>
  <property fmtid="{D5CDD505-2E9C-101B-9397-08002B2CF9AE}" pid="10" name="_ms_pID_7253431_00">
    <vt:lpwstr>_ms_pID_7253431</vt:lpwstr>
  </property>
  <property fmtid="{D5CDD505-2E9C-101B-9397-08002B2CF9AE}" pid="11" name="_ms_pID_7253432">
    <vt:lpwstr>x8ME0DQ2PpRh3avrRbfrZv56P6DdLEWGgiSMf+uDB4pq8mzhbhG6zPVPz3X1HS7rV0q5VF4keEsOSPp/KUMahD6kIQ6nI8qma02y7yusddScuZyMKuYK7AFTacu2BRKKxw82Xzx/b9m828jjjbhdYp08I8L82pMlPMiTjrFCpVp1AC8y6wfo3GM3bJVjc7D4DG5rJI1R0MXpzIiQOzKrXn0tHb6SOvbzeZuVqelsG00qCwte</vt:lpwstr>
  </property>
  <property fmtid="{D5CDD505-2E9C-101B-9397-08002B2CF9AE}" pid="12" name="_ms_pID_7253432_00">
    <vt:lpwstr>_ms_pID_7253432</vt:lpwstr>
  </property>
  <property fmtid="{D5CDD505-2E9C-101B-9397-08002B2CF9AE}" pid="13" name="_ms_pID_7253433">
    <vt:lpwstr>DeUnBJ7jXkhDFSfx2mbaZLiRTmabchORs5UcQM7t6iy9W9V5x0aJrpdekEha9ev1v7ztBtDiSNiz0nb5TnbmoOjSO9dSTPtxKJtkBk0VOT8v8uSIsc13cQc0DfmbMnZDCw/73NT8fGNvpvuxnOABvrA90Ua7RN1L2t9H8pOjEZKxCOmcGK2xRY5PojaZXHShwppauFNrvLHwrK2A1xMWv2Hy/8UBtsBI7RPOw+pkMh3CoR5h</vt:lpwstr>
  </property>
  <property fmtid="{D5CDD505-2E9C-101B-9397-08002B2CF9AE}" pid="14" name="_ms_pID_7253433_00">
    <vt:lpwstr>_ms_pID_7253433</vt:lpwstr>
  </property>
  <property fmtid="{D5CDD505-2E9C-101B-9397-08002B2CF9AE}" pid="15" name="_ms_pID_7253434">
    <vt:lpwstr>9t84MRtTx6Thnshgwp5BWq4UiuH84Eiujfe39Icajo8bMu+OO+aJRKLepkNrNUE99MU7YuJd+fFCg3aweaBTnq2fGfvMW7Ut/bQu8RC1FTVvRRLGOQlyb7hYMxC9aIRdVBZ6p18/5pQrL2cu4rhCKSpebJkgn8YLAtFbLQvYKXu93YKEYLjKpDwJeP+CyI8vT062JGalwlQ3Yvee3IDqJW1yqOBg24U7zWL0L3MKhhrvO8f0</vt:lpwstr>
  </property>
  <property fmtid="{D5CDD505-2E9C-101B-9397-08002B2CF9AE}" pid="16" name="_ms_pID_7253434_00">
    <vt:lpwstr>_ms_pID_7253434</vt:lpwstr>
  </property>
  <property fmtid="{D5CDD505-2E9C-101B-9397-08002B2CF9AE}" pid="17" name="_ms_pID_7253435">
    <vt:lpwstr>6GWTJDqz29S7smRvZQ2d6O2tevCrNSUYcO/TE5kl465CI3u3agCbKz/IqAI6BCDNXFzeHpTc0L65mbokTOrPcULOX23R2vtnlJnGDo1mTjdsWF4b4qPHz0R58sXuSVXhknyPvskulsySMkLGliq6rC8WkcO5aBCH/kRw9eAT1jvX2qCdNVwm1UhsJZec74rp824gmFvr6KutP18IGVz5uhur7VnixQSUGNWBIVj552MkbME6</vt:lpwstr>
  </property>
  <property fmtid="{D5CDD505-2E9C-101B-9397-08002B2CF9AE}" pid="18" name="_ms_pID_7253435_00">
    <vt:lpwstr>_ms_pID_7253435</vt:lpwstr>
  </property>
  <property fmtid="{D5CDD505-2E9C-101B-9397-08002B2CF9AE}" pid="19" name="_ms_pID_7253436">
    <vt:lpwstr>sTeVGnCQ0WCLcu3MQHuO0TFinWdHluh2Vf6zXtBjuRebL8xr6suQUaNHGWcf621zJRFmh33DmaFN7MhZOreGlD6ucG2hrcCFhIUw1L/vg/10yQu6cia0ltRDyoV9ZARFiNAqXnGHWnwNjirxWaWwRuMcte7s5PAnIc7KUTz33edbdJXdaI39osewTu48zvXD5Ap8Q0zJ809EcnCIXc+WtGKSzpnNNWwFyVUPx3CFyuEpL4Pj</vt:lpwstr>
  </property>
  <property fmtid="{D5CDD505-2E9C-101B-9397-08002B2CF9AE}" pid="20" name="_ms_pID_7253436_00">
    <vt:lpwstr>_ms_pID_7253436</vt:lpwstr>
  </property>
  <property fmtid="{D5CDD505-2E9C-101B-9397-08002B2CF9AE}" pid="21" name="_ms_pID_7253437">
    <vt:lpwstr>Dm3MIKDygnrlJgGYaKT7hvJiY3AsvZDFcRpNIqaF2iH+3iYHuJDWGNqjQFQTnPnIW4L7Ph3g4wZJ6lvGXdrp7GMSeF0/HbFbONKSiB6fo3sjR58WECrD3iyflR3pBaDoQwN398Hqp9MUjYgpTKwoV9UJBG1HMAxflrQaAv6/QXkRlJDGoKn90YQTAs+RxuWobh62wp6uacyFPhO3dxEgde63/NbE/BFnXQtf45PCGNa3KvlH</vt:lpwstr>
  </property>
  <property fmtid="{D5CDD505-2E9C-101B-9397-08002B2CF9AE}" pid="22" name="_ms_pID_7253437_00">
    <vt:lpwstr>_ms_pID_7253437</vt:lpwstr>
  </property>
  <property fmtid="{D5CDD505-2E9C-101B-9397-08002B2CF9AE}" pid="23" name="_ms_pID_7253438">
    <vt:lpwstr>2TW/xbkhJGEaCFDDLT5IDAVYF7wCtVb86KgY7RouYgbTiiRUOUZdvQgYasRYQjRRQHq3j7PEJ5m9aiErVUdxB14eSEqi39a6X/0IWvo/Tl6lOouA5yKfuJr+AnxG9iCUEzuOlA5YtCxXAL38I3f/xKvhMKnXvJsA3IDAAIj0TdpHkqeEjGqdZaLJun9BFA8ui4iGfsGtGbd83Tu9xvBJhy61UCXLzIC1/3e8A7uQIj70Y9vE</vt:lpwstr>
  </property>
  <property fmtid="{D5CDD505-2E9C-101B-9397-08002B2CF9AE}" pid="24" name="_ms_pID_7253438_00">
    <vt:lpwstr>_ms_pID_7253438</vt:lpwstr>
  </property>
  <property fmtid="{D5CDD505-2E9C-101B-9397-08002B2CF9AE}" pid="25" name="_ms_pID_7253439">
    <vt:lpwstr>y6kFNTjsH2mE8f1UM95zogrbUuwzLzv11JqPEndS5UH5Lo8hJp1y9mBWg137eLLAXkxWIT1wLg0+p/ZEkq2ar/3u10yNvrddGtCMOn+Mik/A6YEfsGhiacDa6gq2VTnIhFya5g2Un2Qd5eq5mxnZth6Wic1AwgAKLTlzgAodJEMyHfuT91df79HCc/2kG/biuHnoxtPvJnwn+VOSQPxc/3X08hy+h9J1u9JNx0xL2/GBk3Jq</vt:lpwstr>
  </property>
  <property fmtid="{D5CDD505-2E9C-101B-9397-08002B2CF9AE}" pid="26" name="_ms_pID_7253439_00">
    <vt:lpwstr>_ms_pID_7253439</vt:lpwstr>
  </property>
  <property fmtid="{D5CDD505-2E9C-101B-9397-08002B2CF9AE}" pid="27" name="_ms_pID_725343_00">
    <vt:lpwstr>_ms_pID_725343</vt:lpwstr>
  </property>
  <property fmtid="{D5CDD505-2E9C-101B-9397-08002B2CF9AE}" pid="28" name="_readonly">
    <vt:lpwstr/>
  </property>
  <property fmtid="{D5CDD505-2E9C-101B-9397-08002B2CF9AE}" pid="29" name="sflag">
    <vt:lpwstr>1555359667</vt:lpwstr>
  </property>
</Properties>
</file>