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E5097E-DE07-40DB-9BB6-7FADB9C30F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AA3DC7-63C5-4BBF-96E5-C63DB7C88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0587F4-32DF-4F40-B0E0-25E1653E7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8C515A-B125-40ED-9E14-958C7AF5F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75E1FF-8E56-445C-8E33-3025F0ABD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032C2C-24D5-43DE-9C22-26C78CAEC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8CBD82-8295-48D4-A49D-33264D92B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E8E9A9-9936-4E5E-9FEF-6EA8E1CF4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246-8345-44DF-B3CE-25939D76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F53-4515-4A34-AF67-37701E67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A0D48-42C9-4200-A199-E8806F90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DBEB2-704B-4C6D-B1E9-23F48BD1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2DD6F-CAFB-4443-B52E-18F7EFB5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45B0C-DBAC-44C9-96CB-59E4B755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65322-A180-431A-91A3-FA3EA5E3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F0A82-8C2C-46B8-9465-27F9BEA9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0BBC7-976B-4338-A31D-011ED3D2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CB2A7-1F14-4192-9BC3-B26EF3F3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617A4-E860-411D-9127-1FEA6B74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3D1ED-224D-46C3-A3FA-C174A61B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A20-3CF7-491B-B58D-DD7845F9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0F2CE-E2B5-4221-BC0A-8F05687B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3F183-DB2F-4B49-8B14-BE284E67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38B4F-5F24-4A1F-B285-5D6D1E3A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FCC81-3540-40E5-BBE3-B7CBBA0E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5575D-98E6-479C-B6ED-9AF8162C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88CB9-0D49-4AEA-A292-6E790EC7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C6C9E-171D-467F-BA4D-A17BE221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D4316-E903-4A66-96E3-38CA179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1E827-08C8-4FAB-B001-8C73F740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46177-C2FB-45B5-863E-2E3B3324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DF2-DF49-4915-94FB-7C1DAB1C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BFA00-BA52-489B-8B9B-2DD08399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0B248-17A6-494F-B5E2-EB141D86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3BAB7-7E30-45F6-9BB7-10ABDBF0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6C4BE-CB79-49DF-97AD-3685F11C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33F48-6277-4159-B232-7D14CD05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50637-5F06-4760-9B9B-3A569A2F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3FBFC-F60D-412E-9B2C-49A35397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FD525-299C-474B-ABD1-272A95BC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BE129-5432-44D5-9CB6-B79FCDAD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94143-C45F-459E-B688-038B4D76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28BC-3C41-4329-B40F-7074C4A4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D8C02-45FA-47F8-ABE0-CC4BD673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DF349-E8E3-410B-89DC-68D486D6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87336-25ED-41B6-9F49-A2624E28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71BFB-227C-4E5B-B583-311BE7DC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71A42-EF48-45E1-9325-6377C5CF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745A9-62E9-444A-97B3-A3C6F5D5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2E277-B402-4CAF-ABD2-3F86B1EC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A114C-F67F-48C9-A039-F44B252C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2BC79-4D52-4528-A3EB-38999AE8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A735E-25F7-4B97-A6C9-CB23B4F8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9C07-812E-4CEA-9D55-EB7D1167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0D17C-EF2B-4B06-9933-D8541AAA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1B803-21A1-4D03-91E6-4D09A483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0A3DD-BEB5-4A98-9D81-7F52FC33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87301-69BE-4E33-A408-3382E783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9A8CE-5115-4AF8-80E7-21D8FB4B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5A9F-9898-4E22-8944-CB52F7BE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B9EE-9463-48EB-89EB-0527EAA8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568F-8E4C-44BB-983A-8AA8A7AC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7F67-0B31-469F-9D7F-F7859827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0C5F-4D10-4FE0-9352-1FBB8D08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A31-6BDC-48E3-AE8B-2499827E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A16F-FEBC-4EAB-A303-E9066FE9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6587-8E0C-4334-A476-9009578C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2D64-3E4B-4F63-8EFF-85EC6F25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D6BD-A26E-411D-8D59-B8BB8C37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D759-36FA-4B83-9E6A-4C927BCD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2F3BE-37A2-4863-ACBB-BA548E9E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E5D7-EE9D-408E-97A4-94175F66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5622-A50E-486E-AF1E-9C1EE737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8BF0C-A991-4949-A11C-CE7877B2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36F7-70F6-4707-8B45-C9B561C2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6FE-2E2E-41AE-A3E9-60E8032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0A81-8892-4932-8AB7-F703AE36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7E118-964D-4A6B-8B79-3FE95061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AE4B1-445B-46B2-9928-0477B07B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9BD5-66A8-4155-8002-B66FB54B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EB73E-6CA5-4143-959D-E01C4712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43C9-5642-45F7-8F19-E3E720AB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09735-1050-4B64-AB72-EC18620C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0C70-E231-4C8A-8D4F-4B40B4D1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42E2B-C000-4DAD-9D33-124F8BE3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600E-0B27-4D04-8F7D-D4AE58A1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3FE-B082-4FE4-9051-762BA614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F8FDF-3B8F-4BA7-A896-C40DEAF9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9EE86-C5B8-482E-96A5-FD3F6855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917BB-8DF4-4B02-A42E-03BF1F1B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2EB9-D918-4396-959D-CE8B649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D3FC8-4036-4259-85CA-6E5577C3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441D5-B81A-43A5-BA3E-4086ED53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EEA37-66E7-48D3-8F23-45F63DC9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F558A-E217-4840-95C6-2D16559B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F8C6-1A06-49FF-9E0D-BAE8142A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E41C5-EEDF-4879-A195-523CF546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9D6-BE52-47D6-8F3F-BA412BC9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5349A-5C6D-4615-9A95-107E3E2C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AA86A-91DE-4052-A8AD-CFCAD396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48D1C-AF82-43D4-8CAA-6234E689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0C78E-BF51-406B-A17E-FA7B2736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A998F-7E82-456A-9AAC-9A2C650A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CE0BF-30B6-4AC2-BEC4-37190504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C0C1D-CFA1-43BA-8258-0B0A663A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83480-0374-438E-8224-7AD47826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65C3-EEA5-4B10-8CB3-4F651EA2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7829A-16A8-4175-8F0D-C6D35769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9E6-FCF4-4D0A-8821-8D42E1D1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94BA4-B918-4A7D-B242-BC000568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4754F-CF61-4A4D-B419-48E38E1B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662A-F94E-4967-83AC-9EDFBF09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D6B23-939A-4FC3-8958-A98D3B6A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A61F5-95FE-4D38-8AAE-40CDADD0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71E9A-7D9E-40CC-84F9-EF5D5DBA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596B1-A99C-4890-A963-8A4A0306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C0D63-5401-4184-B175-1E235AFE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80C78-F399-45FD-8D97-E998B01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9CD12-7841-46A5-8311-6A0B233B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1A4-0BAA-4A4E-8C5E-FDFE223F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2FB04-8B2A-4F3E-A640-4EA62A70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F4371-94A0-44AF-9848-E5DDA4E8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6285C-3502-4DF5-BCBA-2BCAA77F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7B027-94DF-4B30-99BB-06220F6E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EED0F-9BD5-4785-B15F-84DBCD2F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83ED8-DD03-405D-9D38-C55DE2F9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D4536-08D2-444D-B7A1-87FF74C9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3BBCF-45E2-4A5C-920E-F4D47271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194DB-905B-44F9-8B77-4544EF5E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3734F-46CD-48A4-AA36-9F5A1FD2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351-C202-4900-98B9-5CC1EF34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F7AED-8045-4431-A228-47FE11AF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562DE-BA16-4C61-BA3E-77A906FE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6D97D-10D1-4280-ABB6-985ACB5D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BC655-D43F-4EB8-9A59-CD7924BF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BB1A2-0704-4428-9424-EEF8A507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A20CA-A1FE-4192-B3C0-B9937529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73B1E-6F84-4AAF-957F-57A84B16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16345-7935-45BF-9EC0-FF671694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D72DF-7AA3-4375-8553-3258BC71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F2E41-6959-46AF-B5FD-1DCDBA16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9AC-C7F5-4246-8BAE-08BCE511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98246-1AE6-4F18-AF60-95750CBC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7885D-92C3-4F67-A56B-AEA06B7A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06185-6D82-4AAD-9750-A09DF432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412AD-74F6-45D1-9138-18C05788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36E01-B7B9-4FD8-8495-1D7BD5B4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7C164-A76E-487E-BF49-69E7F92F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7FA31-566C-4466-AA86-AD5FAADF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DFCBF-1B8B-4565-96F9-A7C7AD2A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53468-3DAC-4577-A150-4E3EC81F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F2C56-AE3E-400E-A05D-035EC50D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9684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2EC9FD-4FC1-4B99-A7E2-AC788C5A99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3FB5C2-7CCC-47E2-AC73-52D557DDFE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C40D8B-3730-436F-91BF-BFDE896203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F81CFD0-AA5F-4CE0-B6F6-70A5D1978E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FA60C35-2586-4795-BF9E-0F9F33E71C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0275DF-AC29-4B15-94DF-2566B62C6E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09159E-88E9-4BD2-AFF1-71CDC12BED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19467D-56D4-4401-B635-D51A0861D2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DEA4C12-5F63-4E8B-9415-112DC50012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2E9BD6-7978-46E6-BBA7-FF175C4A9B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B7AF27-EEF2-4BA8-89B4-6F713286E5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684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C0407CE-DCB8-40F9-90D8-8C41C788C9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A71473-2F72-44D7-BADD-595BA7AD2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5-1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D7EC52-FF35-460A-A878-B44C8BA2B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PoCs and authors of the comment resolution submissions and a few volunteers have kindly aided the technical editor in one way or another during the development of the draft P802.11be amend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E3BDA9-D518-47ED-A964-C84D750A8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Comment Collection 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of comment resolution as of  May 12, 20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01 comments are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5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3 REV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3 REJ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37 comment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5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2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D64A839-F914-4C9A-869D-EBA0455C0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holder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ME SAP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3.13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con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6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HT subchannel selective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operation with non-SRG OBSS P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operation with SRG OBSS P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9.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ment of OBSS PD and transmit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so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.15.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e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4.36a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HT MAC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732E53B-691F-402C-9384-77CE3A2FA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holder MI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AAR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EMLSR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EMLMR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NSEPPriorityAccessActiv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EHTOMI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MLDAssociationSAQueryMaximumTime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MultiLinkActiv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NonAPStationAuthNSEPPriorityAccess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RestrictedTWT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TXOPSharingTF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oftAPMLD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RSOption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upportedEMLMRRx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11SupportedEMLMRTx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72723C-EB7C-42D8-85BE-9BF861200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2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85800" y="1676520"/>
          <a:ext cx="7772400" cy="4003560"/>
        </p:xfrm>
        <a:graphic>
          <a:graphicData uri="http://schemas.openxmlformats.org/drawingml/2006/table">
            <a:tbl>
              <a:tblPr/>
              <a:tblGrid>
                <a:gridCol w="1219320"/>
                <a:gridCol w="6553080"/>
              </a:tblGrid>
              <a:tr h="331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54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 potential changes to the Specification Framework Document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60410B-5D6E-4872-B5F8-84641609C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2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5-13T10:48:20Z</dcterms:modified>
  <cp:revision>8925</cp:revision>
  <dc:subject>Task Group AY November 2015 Meeting Agenda</dc:subject>
  <dc:title>TGbe Editor'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