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7733DA-C5E3-4B2F-A720-4EFC4C4AD5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CA28509-E5F3-4E71-B8F3-D00B52008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00F32C-CDE2-4B4C-B6D5-4CFAFB9AB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F908A2-3B95-4399-B081-99D5168C6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D9AEE7D-ED5E-42DD-A65B-6AC311D3B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511C41-C3FE-4FD4-8FE1-47C873CAB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83551E-FDD9-4346-AEB4-E993A0A50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156795-B1D1-438D-B952-EE53E8AB9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14D-4A76-42AB-A381-A0B2731D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467-59E3-4ACC-A693-9B6449F3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52539-EF68-444E-ADA7-890D78B6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BB6C2-ACBF-4A14-B397-1E46C115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C4FD9-BB50-4BA6-A12D-D682AA06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9E980-57D9-4E69-B146-1E16DEDE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195CD-559A-459B-B4E9-25CBF484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8498E-FB27-4AD9-BBE8-85C697F5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F7D4C-D39D-40B8-89EA-79538FA7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18223-A760-4F4E-A45D-481A24FD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6BFD0-F246-4AE1-A6EA-A1AC8442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F3A17-D6F4-4C30-B0ED-056F8B86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F36-8EB5-4BE8-A64D-16A36EC4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F53BE-6746-4428-87F1-95140096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BB102-C953-44A9-BD1C-41E011D6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3776F-F614-4F96-8383-68D4B01D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9D9CE-BDFA-4534-84A2-DB707255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0C23D-D2F8-459A-BCA3-F8CF2175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C8200-393D-430E-9F0D-8713A7F6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FEACD-4852-462A-A662-FAEC765A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BDE61-4FA9-43A2-8C68-1A7F3211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5F41F-ABAB-42AD-9F6C-4E922A3D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982CD-584D-4C4D-81A0-545C7C19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937-DA00-4F72-B5B2-04683E07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0706C-D7FF-442C-9D68-EDBD1C44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135B1-6C46-46C7-ADA1-3373514F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82F4B-275C-4903-B642-C662A51E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34741-F70A-4275-8FE9-9F27DFD6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DCFA8-3A4A-4FF0-9DAE-93338B19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B38CA-40A1-4741-B0B4-A3961141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CF2E2-E30F-479D-BC85-F7C6F1D2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5FDB9-D900-4512-810B-5E1BB639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56448-EAED-4D68-8BBA-3CFCF496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D80C5-579C-44EE-AFF5-3935C456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8938-DD2A-44FD-B44C-6CED76D4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A1D02-BFD4-411D-AA20-A5CE4BF2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F610B-87FC-4EE7-9208-36308A53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25E7B-63EC-4A46-8B01-33FABAD4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5F110-268F-4DF4-96F0-41B24393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ABBEB-0238-4043-9581-344896E5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12D41-3765-492F-8644-E108CBD9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F6BD4-6D80-475B-BA16-85BCEFAA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BC159-4647-4539-9A89-DE4C373B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0B434-6936-4A8D-912A-75473480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69262-E159-4A24-96ED-1ACF3CCB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0B6B-7C6D-47FB-B324-234EBE1A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F123E-ACD1-4E92-B45E-CD41A9DB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786A9-E3D1-4CA6-8876-3DF7E72F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C8540-40FE-48FA-92F7-D48009D6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5760E-C477-4EE3-8C6E-8D43C4F6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8B798-2616-44B1-92DB-0BE8BC1D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FF65-CC4C-439B-AD7B-A5F3B57A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49D4-00B4-413E-8D84-9E530CD5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A47E-B0B4-46A0-BEF6-6F5A3852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FD62-EAF3-4571-B7D0-C919C875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E3C4-3304-411C-80B3-4A618589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4AF-8DD2-47C1-98FA-4FF7D7E9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B0CF-1B6A-4ABC-B90D-080DA338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6A97-8A1C-456F-9D54-6A79EF2E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B306-9A27-45F6-B9D0-62456B6C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7481-85F1-42BB-80B7-A105F857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51CB-11CE-4A13-94B6-A13BAB08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52DD-1E36-4AD1-AB96-1C01F0A6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A65A8-E36A-4357-93AF-FD0D2963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CBD0-40E0-4FA7-B250-8823C36B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88BF-C7E2-4F93-B1A6-4B3DDA2D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465C-35C9-4BB8-BB58-20360A0C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F90-BB31-4C92-950C-6ECFC8B8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AF1C-E036-432B-9D56-06D5176E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2176-2C00-4EDA-987F-3BB46833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3D0A-A8F3-4B2A-9F00-A87BB2FF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2699-38EE-4666-8931-8806AAC1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59DD7-FECA-4CED-9340-EF82A3AA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28752-1B58-47DC-BA50-687BD9B1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8D21B-15A7-4D45-9A69-4A5E6203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0FDB6-CA79-46C0-9320-D5456C98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A05D3-5351-461A-AD0F-7399502F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37C99-9C17-4D54-9254-B7B8437F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5B7-9C40-442C-8BEE-476D5BD3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F54C8-B3BA-4142-9C95-7128BF73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C2CDE-2A99-437C-8B86-4AB694EC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CD8A-FCDB-4703-A7E5-59CCD6C7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1F77D-1350-4037-9A94-55BBE7FC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64AD6-F65F-42D5-B34C-214DA147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96448-12B6-4053-9F8C-4059CFEE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A39DF-03F3-451B-B2F2-F8195EE2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BD38C-60F5-4AF4-A2DD-E0E716C5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B30B4-D594-467A-969D-A8CAB43E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F9FFF-9597-4780-B446-FC253BE7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E2C-733A-41F3-89C8-B7887332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63056-EEC9-4E8C-96AF-F413B29F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13B9E-5725-4A22-AC09-70ADD9D1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A7A0F-5969-4B3A-8DE5-4B39ED2E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1BC5B-0D07-4014-9487-52862818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A0F21-650E-43D6-B4AE-9694FF96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6B4AF-734B-4C95-A38A-91CFBDDB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C9D96-DDB9-42F4-904F-F42404C4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BA858-8A70-4202-9564-CDFFB9CF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27738-F308-4A58-9A15-6DA149D8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46E6-9557-490B-904A-9A5DD06C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F55-14E7-49A8-BE6F-2AEA4D45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5321-5EB0-4A38-BB4B-AFFC8E07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9EFD6-27AD-492E-9E79-F4ABC17C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9C360-E697-4A6D-9903-A351EDC7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24D3A-43C2-44CE-B75C-E3B0A7C3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52C16-36FF-48E4-A5E5-3607A66E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A4D24-C45C-4601-8622-761C6DB0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B2E7-8C79-400C-9DFF-51601AA9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8E4F4-EF6D-43B8-856F-C6EDF71B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45F57-3451-4D10-99E0-49892ABA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F79C4-21F2-4CC6-A8BB-5AC3633A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97F-0F50-453A-A3C0-22873F9D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2DA7B-0429-4DAE-8476-5A90052B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C973B-979D-4487-8177-F9445D02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F662E-BF12-44EA-BDD6-FF7D7DE9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24C3C-2E00-4398-89BE-E1832B2A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FC98A-D24E-483D-85A1-0442D600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78B3F-74A2-4996-B51D-7C0FAD23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537E0-9C15-425F-B1C5-ABF1D7E2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14F48-39C9-4DEE-BE8E-738714E2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8A662-9323-442D-AD13-EA94328A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FD5D5-77D5-46E0-B423-F6088904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541-0BF1-4FA0-8131-2ED5E0D8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F732A-B67B-47DB-8190-2BB84D88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26546-0D1C-45EB-99EA-55ED679D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91BFE-7B28-42AB-9737-FBB3B07D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09A3A-771C-4316-A47F-B8DB13F7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75B1E-C4D9-4CA2-82B7-C7801619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E46D5-4F65-4761-9847-B643EDBA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49969-DC71-4E15-8BC6-64A4132E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4FC08-08CA-4D91-92CE-290DD2A4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6F6D0-031F-4E25-AAB9-1C983E60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3FD43-3130-4DCF-A22B-5A879B7E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2D7-18D6-42AF-83AC-D66B0535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564BF-790D-4EB4-A19B-102AABE9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AF4C1-E8FA-4AD7-8872-87CEC7ED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896BA-74B9-4321-BB22-78CAF10E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A05FA-B27D-4F49-94E8-83D8F7E9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C77EF-B36D-4DD2-A224-75B85A6A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BD7BF-841F-47FD-92A3-C8A04E92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1AB86-B42B-4C92-8E95-F3D5ECF1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67E93-2F4D-431D-AFA4-5F10ED7F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74FD1-063C-44B4-A719-607FE999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87B94-A6B2-452E-860E-9FDC8531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017D609-0F7B-4A99-8102-B506874654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B6284B-2282-43E3-A5BD-7C6D8661F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3B6095-C0A5-4A57-B266-2F42F1395C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CC59A8-C075-40F9-9DCC-2ADDA22867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266E26A-EBAC-497D-883E-89104BDD9C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8DAC6F-C8F2-4EB8-9E74-9D5C5599D1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C1DEBE-E005-4DD6-B28E-0E8CC770BB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B58F3CE-6EF8-465F-9941-3034288888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ADC7767-61CA-42D6-A630-702929B70F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23DE2A-BF7B-4153-B6E6-438154E5F7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275F67C-1835-4058-8F2B-147C9E9BBB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014A5E-06B8-4D38-8B8C-EE310B6FF0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C1118A-63B9-4696-B99F-A65B70686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5-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8121CC4-D7F2-4220-A140-57C3EC0E0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PoCs and authors of the comment resolution submissions and a few volunteers have kindly aided the technical editor in one way or another during the development of the draft P802.11be amend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B49111-B506-45D0-88B0-3CAC3126B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of Comment Collection 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of comment resolution as of  May 11, 20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02 comments are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5 AC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4 REV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3 REJ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3 comments ready for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63 comment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6498B3E-E4CA-44AB-B7BB-D641E4DFE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holder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ME SAP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3.13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con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6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HT subchannel selective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operation with non-SRG OBSS P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operation with SRG OBSS P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ment of OBSS PD and transmit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so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e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4.36a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HT MAC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00C1DA-30CC-4745-B7B1-7D635F12D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holder MI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AAR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EMLSR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EMLMR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NSEPPriorityAccessActiv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OMI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MLDAssociationSAQueryMaximumTime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MultiLinkActiv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NonAPStationAuthNSEPPriorityAccess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RestrictedTWT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TXOPSharingTF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oftAPMLD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RS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upportedEMLMRRx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upportedEMLMRTx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900C184-5D4D-4E78-BB5D-F4DAE1116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1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685800" y="1676520"/>
          <a:ext cx="7772400" cy="4003560"/>
        </p:xfrm>
        <a:graphic>
          <a:graphicData uri="http://schemas.openxmlformats.org/drawingml/2006/table">
            <a:tbl>
              <a:tblPr/>
              <a:tblGrid>
                <a:gridCol w="1219320"/>
                <a:gridCol w="6553080"/>
              </a:tblGrid>
              <a:tr h="331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54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 potential changes to the Specification Framework Document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B4EA18-8B9B-49F8-9AA2-417DBD1A7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1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5-12T00:46:40Z</dcterms:modified>
  <cp:revision>8921</cp:revision>
  <dc:subject>Task Group AY November 2015 Meeting Agenda</dc:subject>
  <dc:title>TGbe Editor'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