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53F0DB-A1A1-4107-ADC5-40EEF279E4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1D41F61-8032-4A89-AA49-F9C59EE54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C72152C-A031-44DF-BA86-B590DD051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F85CD3-724D-44FE-8912-8E038FFC8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D70C675-7643-4B59-9F0B-044EFD7C1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26B5912-0F3B-4FC7-9D4E-9029C026B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6EB145E-CEE9-45A5-B3A2-E31ABC6B6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F776F79-689B-422B-99B7-72849123D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963-D993-47E3-B833-CABD1519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8BF2-1DD0-4649-BDF2-F5E2A26E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70BEA-6AA1-4772-8A6C-B441F0C4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2917E-0FA8-43C0-8465-77B3039B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6E249-BA6C-4755-A76A-D74B4218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50B7C-E364-4F72-A52A-A66F7F25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E090A-92EE-4A04-A530-29A513C5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C1E1D-9ACC-4A04-AD8D-1FF32C6E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1B594-15BE-492D-B7AF-F7CC8879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1621C-B257-4116-9D42-C745D03D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2B717-8096-45FA-895E-CF5A2B84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B1048-CDEF-4178-BFC1-B15E46F4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E846-8C8D-428E-BA07-082CCCFA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CF374-9E98-467D-A16E-280E514F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329EE-8D18-49D4-999E-D0F92AD6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F6CCA-5D8E-4CC4-96A4-86DFD00C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193CE-2DA0-4D15-A3B1-0D4E54EF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C130A-DC72-421E-A5D5-8693381C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21ED3-C233-4220-9007-ACBA016B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FD345-2564-4B12-9239-E1CF3110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1B050-E4B9-4030-889D-168D9131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92B0A-3C60-46F5-8207-3F97628D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7859C-51EF-41D9-9087-7BC25996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A31-1289-4D95-A8F0-0697EA29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09453-AECE-4A60-A24C-1FDD6C1A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FEEEE-2688-4700-9DAE-508B7481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A4C19-4F5B-4501-9615-387C6DD4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A92C8-9F19-4A9B-A2C0-758ED2D8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090A7-2D15-4A45-B377-73934601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E9C3D-BF32-407A-9382-E5B1D8D2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1E284-7747-4420-B3C5-1B1107D9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AF471-3088-4FB4-9519-7C0138F1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903ED-0384-44E8-BFF6-D062E345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B420E-3858-4CAF-B9A6-508CD4ED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11BE-C485-4C0B-BB7F-E43A778A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DB292-1E27-4DDE-886D-7EB9BC2A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18952-3717-47DA-A3A5-D0CED66D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99007-0BDE-4CFB-A5F0-46A82D1A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FED50-2A90-499D-A8E4-01A7816D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EE95E-AF8D-4C5F-BB51-FCA72DCD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80AAE-4288-448E-A315-0C667FE3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4D823-0577-4EDC-BB97-5F6265D9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DE371-0A5D-46A7-94C9-8AAB1A0E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A85BB-AF36-44D8-9FDB-18FAD288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1F059-BD04-4371-A414-40603070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4BF9-B8C8-462B-859A-83AB8FBA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1FA10-3596-4C50-9513-EACADE62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6B29F-B1BF-4039-B80C-A8164DEE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2C363-6147-4719-A464-572F915F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2C3EA-5DE0-4BAE-B2B9-C3A25C02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4A15F-5DFA-43C3-AE8F-892FAA1A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FF43-2247-44DB-ACFD-6B3C9277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1321-4735-4743-B1DF-D5E48D09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81D1-9394-4CBE-B86D-6C989842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08AF-CFC0-49FD-A5B8-9F140488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658D-5C76-4725-BBBC-F97517AB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253-F2E4-4F29-A37A-3E6B31B2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D64D-2C40-48AE-9D1F-A64199B9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6320-C8C4-4407-A520-A20497DB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0F54-A558-4311-B263-0CF17518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06D4-5D7C-4BFA-9E21-EF5C9D64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7129-55C1-405B-88FE-4700F0DB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D5883-6948-4318-B454-9FF77CC2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9E817-5D14-4ED5-8F84-473D3307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1430B-A804-49E4-AEB7-ED369B9D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87811-F182-4F7C-8226-8856D5E4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E3074-B16A-4F4F-AAB3-C1B7B280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1B3-337E-46D8-8DB2-5770C03C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E647-89E4-4358-B20A-54652994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6296-D0C2-4452-9E9B-08C229D0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F9A0-57A0-442E-97AD-768152B7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D9058-C436-4E96-8DE0-549DE95E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3AD8-3A37-4386-8A28-27D220E9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53B39-19B6-40C3-95C5-BC8342D5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D26C2-9ED1-4752-BBDA-F349ABD2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E6336-C264-402C-987E-42BEF550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C1B0B-0892-4F62-9358-02BE5AEC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EFD2D-60DA-4BA7-A740-D0E4BD8A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601-5F2F-4988-8337-1F147F05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7518E-1A9D-4810-BD4A-2811A37B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7A902-A52D-41D7-A4DC-C419AEB5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DA998-899C-4A40-947E-4C5C722A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ED9A9-FB0A-42A9-BCE6-6A54576C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B1273-9A58-4820-BF4B-E7DC40CA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17A65-BB2F-4E38-976B-F6C476D3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6C7A8-B500-4522-ABB6-B59E4F8D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26B6F-1E29-4590-8F49-1F333942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9C472-F87E-46C5-AF4E-5236E124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969C3-4377-4A21-B549-399A0F25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C3B-147D-4210-8733-2516F546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6BF75-3B81-4F11-B93C-137664D5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FF31F-9DCD-4C62-B009-1AE23644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8BE1E-966A-4566-8B2B-93752724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F8355-849A-4D31-A51B-AD9F1DC8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FE73D-6BC8-4B29-9D7D-42E014EA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53E9A-5D2D-4531-A99F-1B2D9470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AAC58-AD40-45A2-942C-8FE4D500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0DE82-67AE-479E-8CAD-6331B800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1618F-1A11-4A24-80F8-9E0AD27C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74066-CB01-46A8-BFD2-0EC056BE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1AF8-DE31-4429-8486-188BCFD1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B2409-2490-4EAC-9AB8-028714C2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964C6-108D-490A-9177-91D1A650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4A566-55D5-4824-9EB4-3DE5C41B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03BB2-DA17-4F18-AC59-328CBD0F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95874-764F-43B2-8509-3E039078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9106C-A421-4ECB-BF44-DBA24529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F470D-EDB8-4857-9341-3579D0FA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976AB-8F0F-4474-A0CE-E701A074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C4A3F-DB5D-4219-94E2-27FD2EAD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12541-B66B-4FEF-93FE-6A422393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DEC-D38E-4A80-9A90-9DC1D168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BDCAF-7086-4E81-A7AD-826E5DF4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E85E1-0FDA-44B5-A1F6-A2E59781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9CFE5-CBE1-46D8-8519-5DC8D21A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185E7-F518-491B-A0EE-273DCFDF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3924C-544E-42B7-9D4B-7C3457FF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FD148-4B4D-4275-8625-183C77B0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99B6D-11F6-4E44-8080-4D5265FA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D30CC-88D5-4F08-8382-75CAB6FD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9CDA5-F10E-4CEF-AC9E-41A5BEC7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473B2-853D-4043-809F-E18ADEE1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262-4FFE-4807-B1E7-CE10F127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99D39-6AA2-4363-8B86-073A5E7D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811E6-5AB1-4A50-8D3C-D0D9F2BE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7EE11-87D8-4CCD-AB92-6D2BFA4D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B1C9B-9FC5-4A0A-AC0D-9F2C8455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C81BC-B6E9-418E-858C-45C866A7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FA954-1B85-4F4A-B147-E2818DCF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15A91-E3DE-42D9-8EE6-A38F5750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C4096-B00E-476C-BFBE-90D19702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CC832-9AD7-445F-B279-CAA795C4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C54E8-6D9A-434C-B007-FF18819A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D014-77C3-4989-A012-EEA353CD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239BE-FFE4-4CA1-A91B-D1186096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99F44-D5BA-4DAB-8AB6-C593F160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5855F-ED6D-488E-9535-ACF77A6B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696D4-4E2E-4BA7-9670-1C180D55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C7CE0-D23C-4592-8601-C3F617F6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5765A-AC2E-4B6C-BFBA-18FA9F20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3F0F9-24C6-4C36-9AD8-4E789BAD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524AC-2329-4B88-93AC-231E71F5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ADA33-B162-4854-BEEF-0FF0D115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4CBAE-CD1D-480C-B867-6D497287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FB3653A-D663-42F6-AC72-26D0706CCE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C05FDA4-4372-4EDA-B8D3-6BF3442349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08F27AD-224C-46AF-B73E-51A06C3963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2879548-129B-4244-B8BF-2A54A00C13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988F49C-33A7-48E0-B74C-85132949C3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207C70-16A0-4361-AB4A-BE9DFF61F2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83B9FE7-1C8D-4C4B-B7F4-DEA244451D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39856C1-7FFD-4697-9794-D73921C6EF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01C6312-6C2C-4D47-AD42-2C442E1494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D7709D8-5350-450E-BEE7-CAB072E509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44A5DF0-DD91-4B98-9292-B8E88ADB31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FC90C00-09DC-4BFB-92B9-69AA080245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BDF709F-5517-4AFF-89FC-13186232A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1-05-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14BEF43-1913-4F83-96FA-235D51686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PoCs and authors of the comment resolution submissions and a few volunteers have kindly aided the technical editor in one way or another during the development of the draft P802.11be amend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98A4644-B3F6-4446-BAC7-1022BF196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s of Comment Collection 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 of comment resolution as of  May 11, 202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02 comments are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5 ACCE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4 REV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3 REJ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3 comments ready for 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63 comments pending for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D5DF3E-E02E-4F8D-A01B-4573844A9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holder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ME SAP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3.13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con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6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HT subchannel selective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9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9.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operation with non-SRG OBSS P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9.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operation with SRG OBSS P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9.4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ment of OBSS PD and transmit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15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15.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15.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nel so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15.4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te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4.36a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HT MAC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5D4130C-6442-4800-AC86-922FA66C1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holder MI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AAR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EHTEMLSR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EHTEMLMR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EHTNSEPPriorityAccessActiv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EHTOMI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MLDAssociationSAQueryMaximumTime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MultiLinkActiv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NonAPStationAuthNSEPPriorityAccess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RestrictedTWT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TXOPSharingTF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SoftAPMLD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SRS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SupportedEMLMRRx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SupportedEMLMRTx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56450A-E298-426C-AC45-50442F6F6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y 11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685800" y="1676520"/>
          <a:ext cx="7772400" cy="4003560"/>
        </p:xfrm>
        <a:graphic>
          <a:graphicData uri="http://schemas.openxmlformats.org/drawingml/2006/table">
            <a:tbl>
              <a:tblPr/>
              <a:tblGrid>
                <a:gridCol w="1219320"/>
                <a:gridCol w="6553080"/>
              </a:tblGrid>
              <a:tr h="331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4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549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4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 potential changes to the Specification Framework Document:  Part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9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B5DA720-A806-4979-9782-691917E23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y 11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1-05-12T00:46:40Z</dcterms:modified>
  <cp:revision>8921</cp:revision>
  <dc:subject>Task Group AY November 2015 Meeting Agenda</dc:subject>
  <dc:title>TGbe Editor'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