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7A9BD9-A6DE-457C-BB1B-0C1324124E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D27816-0445-4F90-942C-918CA2FFE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478048-9A93-47D6-AEC6-7BBDB69AD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1C07CC-44A6-4528-B4E8-4163092AA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08229C-D6E9-43A7-B676-AF10D4BED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77A60C-2F85-408F-A86C-96245D67F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476DCF-D775-4FB8-A7E9-6CC4E9331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645868-335B-4B94-A2A7-07B15048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452AE0-0577-49C5-8BD5-F7D88C59D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416503-D38B-4C96-9217-3C72EAA91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328-D622-4BEB-B75B-D7C1E2D8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B1F-95A0-4FBE-B466-9D36B4EA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F784C-F83D-4901-B7D9-7AC21CBC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AE788-1E89-49C1-9476-5B000B71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06FEF-3388-4DE7-9C9F-BDFBC71C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C8B44-2627-43BD-A34C-322E8F9C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E8E31-0670-4666-8C2D-374D7566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0C9B2-4AB7-4008-93B0-4C8D081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53A71-0535-429B-AD28-727610DC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F1724-8D0E-40C2-B8C9-78AA0C4E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BDE52-0BC2-41B8-84BB-E29ACFD6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9B605-5A7C-4CA1-9DCD-1AB89206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013-B71E-464D-9EEC-87B28930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463D9-4BA4-4B65-BC27-0568DEA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2D456-0086-4CDE-B5F5-868949BB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56218-8924-4425-B7BA-293B5C21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9105C-8D8D-4BB9-9CB6-EFED72C6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C3021-BB34-4EFE-91EB-25AACE41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37E10-EDEA-42B2-8DFA-758E1C45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DAD71-B191-40F4-B07A-53E7D3B2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CBA58-4743-437F-970E-0CA87AEC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3662C-0642-4A1F-8417-AEFD4288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63E5B-A115-4667-B391-2C8848EE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0DD-D853-4E63-AECE-7CB540B6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B6D78-47D0-4036-8759-551E52DA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B6FA9-8B20-4F05-80F0-6B13661F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D4B2E-A9E1-491F-BADF-3946A375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339F0-AACD-4F6A-9BB1-80A0A357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6FC74-762E-49F9-8722-EBFE3D3E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35B02-0BBC-4C8B-A1E1-B451A0B5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5EAF0-CC6A-409B-ACD7-72E7C533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B0488-9F61-47C6-9FA5-4178477E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862BC-6DE2-47C8-A542-B8F884B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422EE-D2CB-4E86-AD4A-78F1C5FD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920-7303-499A-8087-8262DC1A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45F5B-A7E9-440E-BCA0-259FE575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2BD29-E828-4AC7-B9FD-22041DF5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5C0D7-8690-4049-8DF9-E9A20934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81B01-6F5B-4979-90F2-9F822948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47DEB-6376-4B16-BD01-67D67365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771B0-8D71-4C8C-9238-C43618C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2872F-891E-4BAF-A688-9B5D56D8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FD208-1166-49BB-89F5-7750092C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91806-EB2E-4F61-AFCC-682956D2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10045-3B15-4E9F-B485-A796019B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44F-CFE0-4D91-B218-4AF6558D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A6FDE-8CA1-466C-B9EF-2D6D00AA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1B7B2-2BCB-4B42-ABBC-4C99BDE8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D86E6-ED15-4281-883A-742583C4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71D09-58A2-4689-9F57-179E580F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F6903-3D88-4F5B-BB65-C2E7906A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F344-E4B1-40A3-8856-7BC5A4AE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7D7C-07CF-47BD-A7A2-9BE9171C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2975-B68B-40B1-8003-B741C3CB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3E41-A606-4B16-8878-108BB3BF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0881-43FC-438E-AF2B-1EF9616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25E-434D-45AA-97CB-242C75BC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FB12-3C81-4856-A79A-4BAFE2C2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145-9D05-4D68-AAEA-40C6E290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5609-5E15-4C5D-A793-A700FD60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B7CB-94B3-4AC5-A84C-D982A40E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616E-0A54-47FC-B192-08FCFADF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A189-A5F3-4C77-B816-D888A455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21FA-C74C-4F5F-B6EA-4427AD5D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F6FB-E063-49E6-8459-0A83E21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CE95-52B9-4716-AA75-73A9394A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1407-D9DE-489E-B4E1-95374A1D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F21-4E0D-4EF9-9519-82A8B427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A394-0D14-48A2-AE3C-D7784F01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8DC9-0869-40C3-8AA2-48595C0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409B-4132-4C58-9B23-A160B93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0441-5879-4B6D-8379-6188C7F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1D4F-2BD6-4064-9AFF-F42B047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638B-9368-43B0-913D-9C63FA42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6BE8-C9F1-4C63-80F1-2E05605C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CE167-D364-4F63-9DAF-00534751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9BC9D-4C97-48D9-8526-28B2977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48A6-5916-407D-A571-BF72FA5B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75C-1E91-4029-AAE2-76BDB981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35BD-AF19-4EF3-8DA6-39ED180C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8189-04F3-40AD-BB9A-D689277B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CDBA-23C6-481E-89EF-BA7A128F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D9319-F46A-42B0-AAF0-4EFE9E3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D975-5415-4118-B77D-23E6076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EB2FA-79AB-47EF-BEB3-BBC35340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D39A6-7526-4381-ABFF-5D754E6F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B028-3FAA-456D-9B87-6E627B8D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196BC-B6E8-4180-B4C3-5DDFBDB2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2175-3330-4746-B3E5-66EBA9CD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8B1-934E-40E0-88CA-69052EB2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1782A-88B9-44CC-AEAF-2B11BD03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27083-B6B7-4943-8547-8FDCC5D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6DEE2-F487-4BB0-AEC0-5EE2EF0F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33397-D63C-43D5-B1AD-E1A6378A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A80C-9260-4A4E-917C-66047BBE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9F97B-EF79-4CC5-8144-5A68DC9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D2DA2-16CD-474E-A891-077C15E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39EE5-7E39-4F39-8629-34313E8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C8B2-9173-4A97-98D5-641D5698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1A7C7-0639-4129-94C8-39DBE063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1C5-C496-4048-9F66-25EA8A77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A4DC1-E19B-457F-AA5E-12AF6AB4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2C67-3E94-4DCE-8DE9-547D4AAF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9C125-4D8F-4346-9EFF-1F75076F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7928F-DB4E-4586-9EFC-64DF4DE7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26A2D-5697-4668-846F-BC1BC9F9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FC4A0-FD08-4A3F-AAD4-B8876A4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D5DB-A7D5-4972-895C-206D795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C863-9244-4E6F-978B-FEB4681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8860A-30AC-4A73-80E7-B361433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7AA55-7617-4821-A5B9-2B68BE28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762-7EEB-4FB6-B3B3-DD79793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4BC3-8178-44F0-B568-CC332DC0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0B91A-B7C3-4AA6-8979-104BD4DE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AB214-F955-46DF-BD07-D88586FB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49C5-B63E-40ED-9034-CCD07A0E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09C35-14B7-4D00-8234-AA12F47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D2D46-C6E8-4BCA-97A0-98527693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4A24F-E9D0-4DC7-ABB8-D5829A83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27C8-F1AE-42DE-82BC-44106F4D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0EED5-EF87-4CF7-94B9-C84F71E5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C1C2C-8039-4A9A-B473-1EEAAAB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EAB-F100-49E1-8ACE-A6E736E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8A49-9705-421C-8A65-CEE36A37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C3134-21D4-41ED-A803-70E7DA9F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8FFE5-F43B-4392-80A4-A80ECCE1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B814A-03D2-4A11-AF55-7ACDD071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E3A44-E733-4B7B-8048-213D2F95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77F75-C467-4CC6-A293-7EA4BDE3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7A2A2-E4A1-4C43-9ED0-92A9B51B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22E6-9C3D-44FE-89F5-500583C9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9083D-B0DC-47D8-BAAD-634D7E87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40F29-6C40-41C7-8A7F-EEA2CD00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4EB-EBAF-43DD-BFA2-143C9394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357D9-624D-450D-A61D-ADFC568C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449A4-9F3F-43D2-8ECB-16A2173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CEDDD-C854-4015-98A0-92FB916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70260-FFD3-4678-AEBE-D5F56D4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91278-7D54-45E6-8D3B-581549A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8753A-A05F-495D-9DB7-31F37E56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3F10F-4453-4CBE-BAB9-DC52B3D1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659A1-8253-4BF3-933B-EC177EC8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910C-D7A6-465B-A997-7D1A233F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26B93-28C5-48F9-BC85-ADAAC70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26CBB1-A073-4C1C-842C-332AA5AF0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C21EA5-6CF3-4656-AB34-5A84714713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400434-389C-45FB-A17F-AEEC6E72B2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800CAF6-65E5-43ED-A376-3A031AFA4C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6575C9-9F23-4BD3-B338-A00543DBBA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DB060C-F1AD-4698-80D8-80590FFD22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46C0C8-97C2-4D37-B1F6-EF98F33A64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FE5B4B-9E99-4379-8DEB-5934010F8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8450D4-32B4-4FDA-9D0E-0F1240E18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D50517-B545-4F09-BFFE-1C4EFF961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61CA69-80BA-4FC4-9CE0-9D17F6B681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DD6299-E909-4E82-8335-4E9E155B8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7E5AA5-505C-4526-B460-FDD7AD71D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3-3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FEA27F-9BF9-4308-B3D1-C474C5CB2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and authors of the comment resolution submission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0AECCE-9795-43AD-A93B-F72E073D4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0.4 published on March 19, 20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1" descr=""/>
          <p:cNvPicPr/>
          <p:nvPr/>
        </p:nvPicPr>
        <p:blipFill>
          <a:blip r:embed="rId1"/>
          <a:srcRect l="0" t="0" r="4243" b="0"/>
          <a:stretch/>
        </p:blipFill>
        <p:spPr>
          <a:xfrm>
            <a:off x="609480" y="2028960"/>
            <a:ext cx="78472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886433-8AD3-4005-867B-871D2CE8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 of TBDs in D0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828800" y="1800360"/>
          <a:ext cx="5486400" cy="3990960"/>
        </p:xfrm>
        <a:graphic>
          <a:graphicData uri="http://schemas.openxmlformats.org/drawingml/2006/table">
            <a:tbl>
              <a:tblPr/>
              <a:tblGrid>
                <a:gridCol w="1041480"/>
                <a:gridCol w="1111320"/>
                <a:gridCol w="1110960"/>
                <a:gridCol w="1111320"/>
                <a:gridCol w="1111320"/>
              </a:tblGrid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use 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nnex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F5FCA7-84FB-44FD-B773-D6764A22E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of Comment Collection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comment resolution as of March 31, 20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7 comments are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4 REV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3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92 comments ready for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existing CIDs (from those 417 comments) ready for re-m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29 comments pending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Object 1" descr=""/>
          <p:cNvPicPr/>
          <p:nvPr/>
        </p:nvPicPr>
        <p:blipFill>
          <a:blip r:embed="rId1"/>
          <a:stretch/>
        </p:blipFill>
        <p:spPr>
          <a:xfrm>
            <a:off x="7396200" y="2895480"/>
            <a:ext cx="9144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1C4CA8-7C5E-41D0-9DD9-F76995A3B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ssignment of editorial 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been reviewing the editorial comments (starting from clause 36) in the past few days and have started reassigning the comments I believe are more technical in nature to the PoCs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reassignment will be carried for clause 35 and the remaining clauses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596789-EC50-465E-97C1-A5AA67A53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possible, please use specification text in D0.3/D0.4, instead of using your prior submissions, to prepare your PDT/PDT-TBD/CR texts.  It will minimize the chance any necessary text be unintentionally removed or in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EF78EB-C092-4172-917F-F200933C9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rch 31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85800" y="1676520"/>
          <a:ext cx="7772400" cy="4003560"/>
        </p:xfrm>
        <a:graphic>
          <a:graphicData uri="http://schemas.openxmlformats.org/drawingml/2006/table">
            <a:tbl>
              <a:tblPr/>
              <a:tblGrid>
                <a:gridCol w="1219320"/>
                <a:gridCol w="6553080"/>
              </a:tblGrid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54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48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 potential changes to the Specification Framework Document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66311C-AC22-4414-82A8-4A54F14D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rch 31, 2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3-31T13:20:24Z</dcterms:modified>
  <cp:revision>8909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