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C0814E-BE70-4E27-95CE-0E072B8DA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D2DC06-6304-40A6-82BB-EF293412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0A56CF-07F1-4FBE-9A9B-FF842F19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5586B0-9245-47C8-96B3-C1619A8F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6DDC3B-F761-4485-841A-6B838648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2BDF98-3DFE-4C1B-A677-2FD448A3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DFCD0A-658F-4CC0-ABEB-C5EA6BBF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664043-A0A8-4654-A234-1037E574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9966AE-A5F0-4CDD-B5FA-D51695C4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4CC0F4-AB0E-4D92-8991-534E29CC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814-F798-4AB9-8B60-9118C5FC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880-0A23-43A3-BFDB-9BB2672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C6664-DBC9-4B63-AB3C-1427AD1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9BFB-F858-4088-9C2F-D5F9DD6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888B5-8B1F-4A44-868A-579A75B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A6299-B55A-40A7-AD4C-BE3D3D9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20A4-4B10-4937-B639-7DF04C1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19440-EA21-4B00-923B-F335DED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747D-28C7-41E4-8416-F10861C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C0BDD-55E3-4E8D-99A0-3D4FA741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C64D-49B3-4770-9DE7-3BBF6A6F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8B6B5-F887-4ADE-8BAC-DAE80F1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576-A950-40A8-87E4-974F8D2F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E71D-AB57-47AC-96F7-76657E1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64E95-F3DD-43D4-B947-4260950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3B2BF-BE94-41B8-8240-FE707BB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F248F-A394-49B2-B259-5FB7851B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39C9A-8C76-413B-81D0-797F586D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D9220-F49E-49C3-8E9A-35E9E19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85005-4A1A-49A7-AB5E-4753FDE1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00D5-3AD4-41FB-B2FC-4C47C4F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98CF-9304-4183-9B32-22D9279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36C8B-992E-477A-95E9-36A76A55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F25-B32E-41F7-BEE1-1BB5018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06B0-9542-45B2-AFFF-0AF9DFA1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EAED-9163-4B7F-ADBA-744A49BA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DF7B-6DAD-4EDE-8CEF-59746E1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EFE1-211C-46A4-9C50-FD63CBA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2B89-6562-4342-91E3-69CA0E6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D848D-3EA9-4869-8032-B5F8A0C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DF2CB-5F73-4393-A892-B76BCD33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640C-CA57-4759-B1D4-7EA2270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130F-B722-43D4-8B14-B6D7F75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F68A0-FBDB-4122-AB53-4AA7A76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1C5-BC62-4B03-8151-776A77E3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B70C-9939-4431-90A7-501B54BD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2EAE-F91C-4845-874E-3314FA3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6C57-E634-4093-B861-3A25A73B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02F0F-C152-499D-AFED-53DB4445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C6A04-65D7-4C2A-A3C7-EF62079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838F0-9959-4F7A-9366-32E66CE8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8F62F-387D-4135-80CA-EF1BCF3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EC80A-8521-4A1F-A5C3-C7FA0BE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A9B94-D07E-4716-869E-25D85649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4C0D0-48D7-4DE3-AE1C-EC7879D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3FC3-F482-46A0-9D9D-0250B831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99A2C-3EB2-4361-8884-157EC73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C9E52-3508-41DB-AE1C-C25B3C1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B4910-53E8-4FEF-BBE9-6EB7CC9A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1BB73-777C-435C-A2A5-3FE3D7B7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E30E9-6411-4A36-BA31-64C486B8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811-64CE-4B78-8F80-5206E2B4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AC3-5ABD-402E-92D8-4E4006D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B761-B5B6-46BB-8F9C-A8A8387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C79-9419-430E-B528-CB38D94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60B3-4DEC-458B-B614-9D956CE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256-0BE5-487F-B013-9EF09BA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6E3F-A34A-4DDE-A4EC-EE9A02E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1F51-4305-4958-BDEE-E49D301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434-4FE6-4AEB-9261-F9253598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C33B-13AD-4742-AA2B-1076100B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0669-AC8E-4A26-9664-52147897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A031-2F69-4127-B6A3-30CA027F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2A1D-2453-4FAA-8B23-95C923D0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F26C-ABED-4381-AF77-657DBBE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C890-F34E-4C5A-8808-9602754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D1E2-5581-48DF-BCA7-F752A12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19B-8375-4568-BC71-76DE214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6D09-B64D-46A1-84CB-A30CCBE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85B6-9BEA-499A-86AD-D33BCD5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A55B-920A-4BC3-9EE4-A9118B5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FD3B-C80C-4BB9-B7E9-E6CDCFB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EA12-229C-46D5-8B53-3951F53B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0A1F-9622-460F-92F3-C401707C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E48A-C02B-4902-8E7B-84C9667B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5CE2-3E10-46CC-8B7A-01BD289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3590-57F3-4EFE-8EB5-CFFD7F22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BAE1-74F3-4E94-B86A-3B889FA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F00-48C1-451D-B282-6943F01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E43F-1D21-4013-9CAC-20A78E3B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ABE1-501B-4176-AE1D-E12EEBB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F52D-2777-422D-BD0A-24252A1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2EAB-72F1-4791-AFD0-16257F2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192C-8CAB-4952-B6AF-DD2311B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D9DD-502B-49FA-99DD-7A4794B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9A79-0379-43D7-9B0B-B77E1BCA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27F0-9C67-42D9-8A7C-2D6F901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079F-BAB0-4402-981B-CBE64E7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5009-3994-4F65-A39C-20235FBF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EF4-6CC7-4355-8D23-9C85B1E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AF3E-27F1-407D-954F-7561798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38FF-6978-4687-A339-B3F4EB3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393E-D205-4805-B8C8-01369D8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946F-0149-4771-A158-F0C7BF5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7C13-38FD-477C-BB26-96B3FD1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34F0-6630-437D-B5D8-6756C89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0716-37D0-49BC-8CB7-9D756D8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038C-CB62-4684-8549-F5D8C2F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2E4E-8B16-4AA6-93A8-065DBAD6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7876-910A-4C83-9A94-446119B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0B8-26D7-4869-993D-00846F3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28D2-7954-4BC5-8835-BC3E4D55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A574-851C-46B7-A4E5-2482661C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4AEC4-C309-4D84-8848-B070DFB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E66A-4CD2-4506-AFA8-8B0F20B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E7EE-CE10-4306-B339-5D7989D1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EA5B-9BC4-4A65-8B62-C850499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C2066-D97C-4578-B8E9-5E2E9519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481C-D278-4C7D-8A38-F5CDEC5D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463D-CB30-4602-986D-A5B3A19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A81F-8ECF-4DA2-815C-A0889C7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63A-43B7-48D8-84FB-2EEC552D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373F-5AF6-4748-A967-C8C1E4E9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A29B-F508-49B5-BBB0-6C46CBE3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CA4A7-A65B-42ED-B5F8-BB2DF6EB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56EA-D9D5-4B80-94B9-A941736F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E73B-A544-4F7E-BE52-3B4BD71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65A5-9519-4344-B6F9-6DDB8DB9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656A-01B5-45DE-BC5D-AC13415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EB2A-1D27-4C92-BF1E-03CE40CA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3A88-C3E5-4EF1-9222-4B26B21B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8071-69E1-48CD-9312-57296F2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30F-73E7-4611-8DBB-51B04DC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D7DC-4FA5-434B-B6D7-55FFB04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0CAA-71B3-4576-BD58-56F5371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A0A6-AFDF-4E34-BC61-BC54F69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E770-79FC-4F2B-9B5D-187CCAE9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A82D-B3B6-4B8D-A686-C8B41914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466A-89BE-4680-BD26-CAB19722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D182-65C8-45E5-B832-129DA080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8C3DE-E568-407F-8F24-4E10B923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CD49A-3F7A-4C82-BCB8-9AF8FD81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4010-4C2A-409D-B9DE-A96D37CE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B60-097F-436C-9147-651EDA3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9027-BCE8-4E93-A70F-15E4ECA2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9B66-8ADC-4077-BADC-441AE96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F3F83-38B6-48CF-B321-A54C778C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B435-A0A1-4AB0-B169-08D0B43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BC87-2FF0-4097-AAEC-4958536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6D71-0352-4834-B3FE-7632011B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37EB4-4DBC-4C4E-858D-C7069E4E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68FD0-9BE5-4025-823F-7E166127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029FE-3CB0-4FB2-8F1D-3B54C5F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E50EA-A704-46C3-8613-F6188E0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FFCC48-2254-43D6-ACB3-1D4DDA260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68F057-52DC-4B8A-8A75-09D63739A6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9EC5C0-49F8-4171-89DF-3C4775591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E08680-37CE-4B10-B745-C2FAE0060E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1F2632-AB1F-45B6-ACD3-E888109A3E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7CB5B4-75CC-4E6F-9C5A-9EF874722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7E0589-2403-40E6-A93C-FB7C7A6B7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7594FC-5DD1-4469-97AA-0EFEB87BD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F00AB7-8C93-4B01-A5CD-D5126731E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F93630-BEA0-49D4-B2EF-599CB1882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2A5366-2D5B-43B5-A988-A407A6204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9B235E-34BC-4E57-B8BE-02DE15E61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061694-C6B2-4097-BE7D-9C1B8334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3-3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B27F51-F892-4993-A167-83BD47D9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2AD8D6-0F91-45BC-9EBB-04DC84473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0.4 published on March 19, 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1" descr=""/>
          <p:cNvPicPr/>
          <p:nvPr/>
        </p:nvPicPr>
        <p:blipFill>
          <a:blip r:embed="rId1"/>
          <a:srcRect l="0" t="0" r="4243" b="0"/>
          <a:stretch/>
        </p:blipFill>
        <p:spPr>
          <a:xfrm>
            <a:off x="609480" y="2028960"/>
            <a:ext cx="78472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5FFCB0-1F50-4324-A241-1714B3E0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of TBDs in D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28800" y="1800360"/>
          <a:ext cx="5486400" cy="3990960"/>
        </p:xfrm>
        <a:graphic>
          <a:graphicData uri="http://schemas.openxmlformats.org/drawingml/2006/table">
            <a:tbl>
              <a:tblPr/>
              <a:tblGrid>
                <a:gridCol w="1041480"/>
                <a:gridCol w="1111320"/>
                <a:gridCol w="1110960"/>
                <a:gridCol w="1111320"/>
                <a:gridCol w="1111320"/>
              </a:tblGrid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nex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E761B6-34EC-43E0-A134-0C1A16C1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March 31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7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4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92 comment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existing CIDs (from those 417 comments) ready for re-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29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Object 1" descr=""/>
          <p:cNvPicPr/>
          <p:nvPr/>
        </p:nvPicPr>
        <p:blipFill>
          <a:blip r:embed="rId1"/>
          <a:stretch/>
        </p:blipFill>
        <p:spPr>
          <a:xfrm>
            <a:off x="7396200" y="2895480"/>
            <a:ext cx="9144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C7DBE5-39DB-4ECA-BB43-F7C8DE2A0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ssignment of editorial 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been reviewing the editorial comments (starting from clause 36) in the past few days and have started reassigning the comments I believe are more technical in nature to the PoC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reassignment will be carried for clause 35 and the remaining clauses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40BD21-CBD2-423C-B1EB-CC4D1DE6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possible, please use specification text in D0.3/D0.4, instead of using your prior submissions, to prepare your PDT/PDT-TBD/CR texts.  It will minimize the chance any necessary text be unintentionally removed or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8B780B-A813-4B5B-8B52-7A202433F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3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8B2CB8-C440-46EA-8D36-3DBFBACF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3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3-31T13:20:24Z</dcterms:modified>
  <cp:revision>8909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