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665742-5EEC-40ED-AB36-CF8222FCD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4F649D-03C4-4C7E-A9D5-326E639F5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A7D7AF-730E-459B-AF8E-00D9D9DA4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DFE774-E642-4F4A-963B-461CAD223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15C11F2-93EA-4587-9356-B8BF24DBF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98F212-0CED-4777-B21D-88E10AC83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DA8CD1-CD99-4621-90E5-41AB50A00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675-844C-4C48-AB79-E30F0C83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63A-3148-46DD-85C0-43E9C870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A6213-9947-4A7E-997B-B95054E1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B5C6B-2AF1-40C5-9365-7D8564BE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07958-E2F7-4B16-A540-C9E029F3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17BEB-0F36-4CE0-B945-F1A6D8E7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CA43C-18C9-4BD1-800B-2AC0A820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64C0D-8DE2-4CC2-8EE0-1A917EBF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F01D0-895B-4A98-A6E0-75E06B71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FD668-A888-481B-ADBB-21DEC941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AC170-2183-4F15-8893-69E6EB76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0C518-A92A-4E04-9DBD-BE2A9BAA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959-ED55-4980-BAF6-7E39443D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F029F-BFBC-43EA-A5AB-4711AA1D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0E4BD-828A-41BC-83C9-9CCD286E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F2B14-C9C9-4CE1-9D32-4F52B827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D7AC6-9BB7-47A5-ABC1-DF39F193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3736A-97FC-439B-9FFD-49BE2957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E0301-4183-4FAB-A1B6-348E5C35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DA409-3EAB-470D-8454-46DBBAA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BCA4E-6B8B-4878-9221-3503FD4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E790C-5928-4177-AAAB-1A781E6C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C243A-AE38-4E49-A113-55E6AD6D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52D-0682-422E-861F-3ABB356E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E21B1-4258-4A57-9813-7FD106F5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4D49-4697-4446-8ADC-77AC7BB8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F1A96-E198-427B-831C-AD60B799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E1FDC-6E6C-46BA-9B1A-BC51797C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36583-A637-4A38-89D3-491D2D23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33D2-199B-45B4-ABD9-D1D293C1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65DB3-34F7-4CF8-B880-AF0B513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073B9-E69A-4E2A-9285-70B6BC13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EE4EC-BC26-497D-A3CA-A4294BF2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A0A7E-DE84-4A95-8AD2-D82BF93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FD3B-B874-4C86-8362-B6413F0D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20A53-8BF8-4457-B8A5-C52ED55D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FDAEF-C7DB-46E2-8C43-40FFC3C3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603A9-CA56-4394-AF49-62F3351E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E21D2-047A-43F4-B562-A13E38CC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66C69-9722-4FFF-AA32-2BF3B529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7E5C4-E7EA-4193-AB71-5DDE42F5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A6615-3610-4CDD-A398-2921B53C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0DAE1-641F-4331-82F6-D3F96BF5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07328-6B40-45A4-A0BE-250FBADB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60515-B672-468A-AFEC-7A3A0FE6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94C8-D01F-4884-94F5-49243077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5921F-A36A-4260-8797-6FDEF534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B24F4-82B9-4834-9510-A169AAA5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338CE-D9BD-46FE-AC15-12E40741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96F14-E0EA-4319-8840-A20CB1B3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CB8F3-EF80-451F-BA6F-00CBBA13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34A6-42DB-46D1-B7E4-A784FD7C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09D1-2665-4BF6-925D-A1B9E316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25C4-145B-4BFB-982F-28D54B55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A6F1-3982-4669-B35C-87E44CCB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332D-FA49-4946-9767-A3994364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55F-62C5-4347-A0CE-57C2C3E4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CC4E-3D2A-4B32-A092-28E06245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1EA0-24B3-4F44-8188-E94A0E12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56B7-F56B-458D-A92E-395F375D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F3FD-99BA-451E-990F-FCCCD1A7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C607-412D-40E0-8DFA-E569BC13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83B5-9E7C-443F-A12F-26407F30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1E49-F653-4C42-AA61-15B88AE1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5B78-DA24-4875-98DF-655F007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3F75-5C6F-4E5C-999D-40AEE426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0231-7EEF-4116-8C6B-6EE9F278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455-55C1-4505-892B-2EEAE61B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97AF-E26E-4523-97F6-325EED37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3659-6361-4527-B0A4-3960168F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D91A-BA6D-44A7-A8B6-D9CF9081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7D66-BD17-48BE-B2A0-FFA51DCD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99B3-B78B-4DD8-BC05-0352F304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F4A0-9EA9-49A9-98D7-BBC8F0E7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23F8-C6D6-4481-A99E-D3FC26D5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BA2E-679A-48B2-9D3D-A2895FC5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D67F-6DF9-4B65-B56B-B51BC2B6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4C43-567C-4313-96CD-E657B576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D5C-8AC9-4B18-BD06-3BF9D3FE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C0898-0E9E-4BAC-87F8-E5FB6117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F586-9DDD-41FA-AEE6-228808B8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8CF0C-451C-4A87-A480-184E3561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F042-0EF4-4577-B8CC-52A9BAC9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D780-671F-47B7-B9D1-12562227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ACEB-2E9F-4DAD-9FFD-80821018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29CDB-C2F7-438B-9F5E-379C21C2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234A-E321-4733-92B4-FB2399C1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B8C9-D14E-4C3C-8AF6-D94AD0D6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060A5-C40B-4E6A-ABA3-142E784D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330-E651-4801-839F-8B4B3A39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C7A5-204A-4F78-B3C7-C03B8183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BBEE-B6BA-4F1E-BFCE-D32E4707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15C0-C80B-4C9D-9C3F-47D516FF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CD9B-1DBD-452C-8F7E-F7F8CF04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C3C3-5BF4-466C-91C1-9D0094CA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FE4C8-C3A7-4A90-BA65-C273947B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6333B-723B-430C-B512-E3F7045B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3D2A-52D0-44C1-9AFF-2844D81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B0D4E-41C1-497D-AF3C-2E709D51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C60C2-9FBD-4754-B8DE-1BE889AA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227-74B4-4A51-9504-39CEE5E3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2D663-86BE-49A5-8536-9F46D297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A163F-7CB0-4855-B2DE-FF694319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8F92E-5639-4016-9A8F-86ADA8F3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1D937-B4BF-48A0-8164-7E945F36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2F221-EF05-4582-94B1-6D057180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F4DB6-6E93-4F21-9253-1DC7AEC5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29160-A8B0-4491-9C68-D4D93E97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602B0-7106-4B17-917C-B42287D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072E9-5307-4981-991C-F2E80FA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14BC7-79C3-4C65-9584-591FC672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5DC-3419-4130-82EA-A901E67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6FA1-C592-4394-BA67-958EFD83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A1DA8-8F8F-4881-A702-4332F5F8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C45CA-BE28-463F-AA89-22FCDCBB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FB2B0-EB20-41AB-8BAF-D7BDC57D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9F42C-0148-4539-B590-530157F5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83B57-D1DA-4843-BCAD-646BD95E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C2A2E-9DAE-416B-BE5A-EA35B5C1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9B52D-889F-4814-B5E0-6AA9620E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3CC35-1C14-416D-A1DA-6608A283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A9522-DA2C-4625-B403-333598D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E07-9586-47EB-BA0D-8CDDB92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9B902-FC31-4560-98A5-13AC3F9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05D39-6150-42E1-96BD-C8D92B0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8779D-F370-4F83-9147-FD36692B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E964F-1838-4C31-A067-4EE1B7C6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AA116-9BCF-4DBC-B3D6-B42E1710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1A0E0-33DE-4E1B-8291-4F4286DC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B1E01-30DA-44F8-8929-67C0762C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4A0ED-2BFE-4D08-8590-39DDB40E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8F1EE-D191-4BE7-A5B3-2F64614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1DD22-2217-4F26-AAD0-5F705529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DA5-7966-4937-81D4-A6229B89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36C11-29EC-41B9-BA52-C70035C1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303B0-EE97-4EE2-82B9-4E54A3A7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332FC-B2BB-4918-ABC0-C6334CC1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2B2E6-E1DA-402C-9214-5C3415E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4FCFF-B163-4189-B237-DF4B775E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728BD-124E-4447-90B5-B4D1AE50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68440-91CF-4BB1-84F9-B5F117DA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BD46F-5EAA-45E7-ACCC-1265991F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7569F-873C-43F0-90CF-887D792E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F229E-7B99-415C-83D7-8CC22255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34342B-15B5-4E11-90E8-B0EE5BBF68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E52ECD-EB4D-4111-BAE9-6A8847EFB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5CCF3F-F9F6-44F0-9705-F5B5B0179D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45272B-CEFD-42D3-A071-8C34090499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0FB29A-58BD-4552-B710-CDCCA22CEF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143792-DA74-45BD-A481-73C6631386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67CD87-EEF5-4DD9-8EBD-81B0CA4E17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C086AF-D360-49BD-85D2-90CD6C25B4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B7801D-DDE0-4755-9BBD-7DAECAD0D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669D2B-DF5A-4CFD-A145-47241754D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0A2935-D58C-42F1-90F9-668BDBFA52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FA723D-E76F-40F9-8E1D-C4D83C9FD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23D834-FD96-496E-8379-4DEA784CF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2-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4F4918B-1EDC-471B-96A9-66AC1D3F0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AC29681-519D-44DC-9426-208012395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4 on D0.3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ation:  15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9, 2021 to February 3,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returns:  145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7 of them contribute at least one com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number of comments:  24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FED848-A759-4BB5-851B-A29873113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4 on D0.3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523880"/>
          <a:ext cx="7761240" cy="4449960"/>
        </p:xfrm>
        <a:graphic>
          <a:graphicData uri="http://schemas.openxmlformats.org/drawingml/2006/table">
            <a:tbl>
              <a:tblPr/>
              <a:tblGrid>
                <a:gridCol w="1940040"/>
                <a:gridCol w="1941480"/>
                <a:gridCol w="1939680"/>
                <a:gridCol w="19400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B0C226-08E6-4595-848E-609C05C00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4 on D0.3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96960" y="1523880"/>
          <a:ext cx="7761240" cy="3708360"/>
        </p:xfrm>
        <a:graphic>
          <a:graphicData uri="http://schemas.openxmlformats.org/drawingml/2006/table">
            <a:tbl>
              <a:tblPr/>
              <a:tblGrid>
                <a:gridCol w="1940040"/>
                <a:gridCol w="1941480"/>
                <a:gridCol w="1939680"/>
                <a:gridCol w="1940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pe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D5D651-C794-41B3-BACB-96054DB69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4 on D0.3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10:00am ET, February 8, 2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assignment to PoCs and volunteers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 and MAC ad-hocs on February 8, 2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sure that the assignment is acc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for volunteers for the remaining open C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int call on February 18, 2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sure that the assignment on joint topics is acc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for volunteers for any remaining open 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2-08T14:01:34Z</dcterms:modified>
  <cp:revision>8842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