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086360" y="-115920"/>
            <a:ext cx="2195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147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3760" y="95040"/>
            <a:ext cx="104148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646440" y="8985240"/>
            <a:ext cx="263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CFCDE1-7D4C-400F-ACE5-9C6DB1A289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D1E53E-2DE3-4134-B4EB-CE3E0CFD5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55BEBC-ADBF-44FD-AAE7-7796F0871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91F6FB-00E2-4495-AF47-D7BE0DBE4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5C9AB3-2694-4610-BB1E-8924577FD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2498EB-EC5A-421C-A642-AC6CC325C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Header Placeholder 3"/>
          <p:cNvSpPr/>
          <p:nvPr/>
        </p:nvSpPr>
        <p:spPr>
          <a:xfrm>
            <a:off x="40842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5/04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Date Placeholder 4"/>
          <p:cNvSpPr/>
          <p:nvPr/>
        </p:nvSpPr>
        <p:spPr>
          <a:xfrm>
            <a:off x="7988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5"/>
          <p:cNvSpPr/>
          <p:nvPr/>
        </p:nvSpPr>
        <p:spPr>
          <a:xfrm>
            <a:off x="3596760" y="8985240"/>
            <a:ext cx="27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dward Au (Marvell Semicondu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6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B718EA-EFD1-4662-8689-DC64A475D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CFC-7A53-4130-A760-0C41AD78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9DD-03CB-4B03-8752-ED1FAA99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22CA2-9426-4784-AB6F-83B4DE55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4E9D5-F895-40E7-948D-819C48CB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C180F-A655-482B-8142-26DAE675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CBB7A-9588-4E5F-A42A-EC018BD7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22F9C-ACCF-473E-8EBD-6E7FD592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50E17-F73E-4C87-8EF6-8BD59FB2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9DA3F-71C6-42F9-99C0-8DD39BF1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CC01C-FC2E-479D-8A94-ECC992EC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844DE-8169-4250-8E9A-B032C66B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EFC74-F1DD-4126-AFBD-A7249303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5E6-3741-43C4-A81D-434AFBCF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B08D0-620C-413C-895F-EEC92D5B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A6030-244A-44BA-B2FF-567E198E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5244E-5764-40CA-AE5C-0C4B03F7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120C3-D9EE-4EA3-B95B-F0A672FF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2053F-90B7-40B1-B47A-888B8CBF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B0CC6-BA03-43B7-B727-CB078770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A1459-98A0-4E72-A88C-9357B7F9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6ACA5-94FE-4C9F-B65F-B793E886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9A7C3-B505-4234-9D5A-F064523F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FBC10-9EFF-4AF1-B52F-E89B4D69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471-CBB7-4761-A419-26083336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6D17F-4431-4BC6-9976-21730E50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14EB1-DC74-488F-967B-78D186D2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17883-E782-440E-AD48-F7180E51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A98D7-00B8-4A89-B732-4BCBF394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1D47C-AA88-40AC-9A58-63AD40CC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1EC6D-58E5-41E0-B9BA-FF3DE198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5FBF7-A58C-4568-8B76-56A86BFA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882FF-A2DB-4C90-AF1F-A566B980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9002C-0DCD-4BA8-BAAE-A0B32CBB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AA8D3-8563-46E6-ACC4-2B9D1274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D818-D7CE-4923-A2C1-E56EF689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2DD3F-FB4B-499F-B271-E1B9F4F3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3F1E4-43EA-4CA2-841A-FA4D44C8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AB60A-6340-4FB0-9397-D0E52400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A6E2A-0630-4329-BCC1-95CCC47E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BD829-1E71-4D7A-8725-B5D7A5D7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233B8-1AEE-4598-BDD5-E91735FB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FF605-45B9-470E-AC2C-D45319C7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766AF-DFE8-4065-AAD8-E9D25438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42BC4-AFB3-42F0-A980-81DD1CB6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484EF-81A5-4661-98F8-29443851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F382-66B8-4A3A-AA40-A47231D8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CCCE5-D752-4DB3-9DFA-B5CD7CD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25B7A-E578-41FB-B847-0FEA303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4B071-D0AE-4DAC-B53A-4AFC5FA6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1A6A3-3312-42D8-B0FA-8C1FB227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EE6AA-5666-4E88-87B1-B5562B24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C46F-6FF1-418A-A6BA-46896B76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0CAE-6F55-46BF-8914-7CF4AECD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70ED-CF15-4CBF-AF9E-F7DB7DAF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0A88-3813-411F-B8A7-006D6C64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102E-3816-486C-AC91-4B4BC153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F13-6F7B-4869-9A39-040CA190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A7EF-8503-4067-9F01-5D7032B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A94E-C4D3-47E4-9426-CA3D2812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EC24-1186-42E5-AF86-B471F037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AA8D-940E-4EBD-851C-899D6A4A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CD3D-A65E-43E6-9BE3-1F3CD969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897B-1582-47BB-979B-7F91F4DE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5E1E-3292-44FB-9B55-4F3071CD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1DB3-DD55-40B3-9BBD-0BC94330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E271-CF09-4E52-9066-983C444C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A06E-7D4E-45D0-B677-B890D271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6D5-1310-4489-AF57-377A52B4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316E3-C811-477C-8C23-534B022C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4438-7A37-49A6-B2E4-AF941CF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CAC2-9572-4D40-A289-9DE48F2B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B76F-D414-4ACE-BB27-6E2EAD80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65C7-99E3-4F5B-8ACD-C7E53FF6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34A5-DDA7-42E7-B52A-33CEB7C1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3B14-7B79-436B-806D-974112E3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45601-4D90-4D40-80E9-421C0599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102B-F693-4FEC-9C94-77BC523E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70637-5A17-49EA-BD7C-B921147D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FDF-CD93-4697-A0D9-7C424E2A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8113-7E79-4BBB-93A7-043CA7A1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981C-5236-425B-AFFA-D32FBD85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915D-BF87-45DE-9A32-E5E54B3E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06BB-8069-4E75-A953-1567D098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CDF18-5BDC-4BAD-B4AC-1E573B86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1DF21-9FF1-4EF5-A494-89C88289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98B9-9758-4EEA-AA52-25BA13F8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0E35-7DCE-411E-A381-5CB3A8EA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29E2-2A09-40E2-B1F2-25DE3CFB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68A6-7F9D-452D-B041-340CAE5C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BE5-096E-484E-99F8-22DE6D5B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3248-4E19-48D9-AB1C-86741279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581D-19D4-4F56-8D44-F6344174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9CB0-320F-4829-A7C1-950A266A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A63D-4A8B-40B0-996C-B17FC72D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FA51-ABEF-4DF3-ABF6-417CBF68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C805E-8F1D-4146-821D-4A30B12F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1F645-4F69-4174-A820-7C77E576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C02B5-6BE3-4DB6-82A8-82070ED2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7CB4D-5DFE-4D32-8169-D1FD5BE0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D0A6-C146-4E58-B81D-59E8FF40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A4F-30AE-4D4D-9C93-68985422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3CC77-472E-4ECD-963C-84685625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74D8B-4FDD-4879-A27F-9054407D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F0D1A-AB89-4179-B4CF-5884214C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CA96D-C795-489E-A723-F6F75C78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3CC49-62F1-44F2-9C59-A00F69C2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72B7-737A-4858-8DCD-59312A58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CC5BB-45B2-478E-95B1-84D7E067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E324E-C870-46F5-8A1C-30ECF78D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71669-9CFC-4EE6-AE86-CFC7CC3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032C9-64C7-44B6-A558-5BE4C4A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AF6-88C0-4E17-91B8-C8CA22A8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00227-E6A1-4704-B9F2-7DE083A1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262B1-D899-45FC-8EAC-A49F4C84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A4E70-0DBA-4CFD-8E1B-6B3B1EFB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A1DE9-E7E2-4B66-8165-5AC62BAD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49112-3D1D-4097-9E65-087D453D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E09C5-A66D-4DCB-A447-8F4BC054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60A1E-33BE-4131-9C5A-E33D5795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97284-8748-4EA1-938F-25E8E852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74B4E-96C0-4024-9FD1-513BFB59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7A1B0-8DD3-47F5-A643-E7827C29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493-014F-430C-BFC3-D6C84687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01E6E-3179-495C-9087-0F824A9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98E4C-B652-429E-A6A5-E5CA5E47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8E6C-3202-4BBF-BC21-E9659A05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9C2D0-11F7-4F35-B234-79A55288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95F80-66ED-436A-B563-CE4D2A52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10D84-6110-4BF9-9CA9-2F09D707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1ABC-A5B6-48F7-8571-FF51F0DD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5199C-EFB9-4BAD-ACB8-A9E4F63E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7BE2E-7F53-4543-A04F-474F6E33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4930A-08A5-4FE9-A8E2-6BD5FBFD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7D7-C6F7-4091-8B1C-B0A3C73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EB76D-5573-484A-9645-32F7847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EF2C0-76A7-46AF-87EF-F3D1293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A1DF5-0DCD-4C77-86CC-16B2A710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AF247-1000-4E77-89F7-6775CEFD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48798-F100-49EF-AC05-327ECEE6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B3266-CAA7-45B2-B8BE-1F0414FF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EB92F-0AFC-4339-ADCF-2B3089B9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F5693-9D5B-481F-A046-9555621E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9A0F8-7AD7-4D2F-9198-44B4852F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E19EB-DF5D-49FA-97E5-E6886FA6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7F3355-6A23-4535-A644-A8F563DE25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B39A72-B5D6-4C8D-A64F-16D2AB05D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E1F460-105F-4E19-96E5-824C3EC4C5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1ACF16-7AAD-4874-83CA-D908B89478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E0C47F-9658-4059-81FA-EDE6A6EF45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C5FEEC-F4C2-4B8C-B844-C86A111349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301195-7E85-41AB-BF4F-F9F34852D3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5EA65B5-E66E-47FA-BE7B-0BFFF7DF0C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6E720E-A28D-4C17-9DC4-2A968FB051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1C39F3-9571-4A66-B096-6316BE0188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AB218C-723B-47F2-B93C-3DE2178EBC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054760" y="3063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1-19/1935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91320" y="6475320"/>
            <a:ext cx="2752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89A24F-133B-4088-99F0-F7C11FBB1C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CD7F2C-55E5-4A50-B151-0AE458E4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be Editor’s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21-02-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669960" y="2668680"/>
          <a:ext cx="7804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668680"/>
                    <a:ext cx="7804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6858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53CF24-748C-4877-8610-D92C8F58F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PoCs have kindly aided the technical editor in one way or another during the development of the draft P802.11be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8FC1F0-2990-4BF6-8AE6-5D1B5B25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4 on D0.3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ation:  15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19, 2021 to February 3,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returns:  145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7 of them contribute at least one com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number of comments:  24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30F1D4-B259-421F-9462-C1FBCB08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4 on D0.3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96960" y="1523880"/>
          <a:ext cx="7761240" cy="4449960"/>
        </p:xfrm>
        <a:graphic>
          <a:graphicData uri="http://schemas.openxmlformats.org/drawingml/2006/table">
            <a:tbl>
              <a:tblPr/>
              <a:tblGrid>
                <a:gridCol w="1940040"/>
                <a:gridCol w="1941480"/>
                <a:gridCol w="1939680"/>
                <a:gridCol w="19400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BD756C-ECC7-4657-B7CA-68E648E9F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4 on D0.3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696960" y="1523880"/>
          <a:ext cx="7761240" cy="3708360"/>
        </p:xfrm>
        <a:graphic>
          <a:graphicData uri="http://schemas.openxmlformats.org/drawingml/2006/table">
            <a:tbl>
              <a:tblPr/>
              <a:tblGrid>
                <a:gridCol w="1940040"/>
                <a:gridCol w="1941480"/>
                <a:gridCol w="1939680"/>
                <a:gridCol w="1940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ex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pe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AAEA56B-F7D5-46CD-83DD-78B924C9C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Collection 34 on D0.3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6248520" y="6475320"/>
            <a:ext cx="22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Au (Huawei Technolog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10:00am ET, February 8, 2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assignment to PoCs and volunteers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 and MAC ad-hocs on February 8, 2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sure that the assignment is acc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for volunteers for the remaining open C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int call on February 18, 2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sure that the assignment on joint topics is acc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for volunteers for any remaining open 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8:10:23Z</dcterms:created>
  <dc:creator>Edward Au</dc:creator>
  <dc:description/>
  <cp:keywords>Contribution</cp:keywords>
  <dc:language>en-US</dc:language>
  <cp:lastModifiedBy>Edward Au</cp:lastModifiedBy>
  <cp:lastPrinted>2014-11-04T15:04:57Z</cp:lastPrinted>
  <dcterms:modified xsi:type="dcterms:W3CDTF">2021-02-08T14:01:34Z</dcterms:modified>
  <cp:revision>8842</cp:revision>
  <dc:subject>Task Group AY November 2015 Meeting Agenda</dc:subject>
  <dc:title>TGbe Editor'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change">
    <vt:lpwstr/>
  </property>
  <property fmtid="{D5CDD505-2E9C-101B-9397-08002B2CF9AE}" pid="3" name="_full-control">
    <vt:lpwstr/>
  </property>
  <property fmtid="{D5CDD505-2E9C-101B-9397-08002B2CF9AE}" pid="4" name="_ms_pID_725343">
    <vt:lpwstr>(12)O48q+nWDiKNAVXoAwq58w7ATF5BZpxUzus1FEuepahc6BRLUWdfXeHQFTCUY0LJynFgfmRNUPZlAVy+j0r6pbTTT4EXTIDQn++fDAJzW+wNWbLiJe8Z4f4WxdeblmkwEZYVIjqjQH/zBS5y6b9GoioXTXjFlVZ7xPu5xRU0WiDXzU0e3oG78RYbPZ2aHX/hl9SFYOtYdUMQjNw+W6g45GYePd7oGmr8CiOcEr8o5DLsyXdeT</vt:lpwstr>
  </property>
  <property fmtid="{D5CDD505-2E9C-101B-9397-08002B2CF9AE}" pid="5" name="_ms_pID_7253431">
    <vt:lpwstr>hBtTL66MZvP2f/KaV3adKT94KHNJID0xypYHmm25hGzk/ETif8Sj8xBGFsYnZVfYQOQ/wAyM9jGI1mxvLrml8FSLl4bDbfLtpebXgH+6bsglE2sjb5/6PLqZ6vrPMuq4xHCeAFploXk9GR4pqeBSsTI3ryAIkLOeZIHu3OlyhiIUHAYFFjusCknP+OLaVPfpnqpJjopJQHwudTzey6vtimu1b8SZqaoMzXoWNM8jqNR1+tnd</vt:lpwstr>
  </property>
  <property fmtid="{D5CDD505-2E9C-101B-9397-08002B2CF9AE}" pid="6" name="_ms_pID_72534310">
    <vt:lpwstr>kiAeZ3SViGiZnriBbU58KYt1RpZ8eBinUdFbRfYxQXRkzDWwNQewHtw75pcA6cREPLuI2SAbxHVYSR3ZUQ5zzjYwte9tx/Sz0XORHKyOcmsIT5gncnPVLYLsDnTA2iOGX/DUw8XNZoQ9LYZzW9Y+ux8R1UZoLQv4XUK12L129g9SBWNmAOm2sZnFbfrpXSC/kozVB/gOTHDLzacdjMJ1j+FvpemlYvFkaW2xdXn6gHIjaUtI</vt:lpwstr>
  </property>
  <property fmtid="{D5CDD505-2E9C-101B-9397-08002B2CF9AE}" pid="7" name="_ms_pID_72534310_00">
    <vt:lpwstr>_ms_pID_72534310</vt:lpwstr>
  </property>
  <property fmtid="{D5CDD505-2E9C-101B-9397-08002B2CF9AE}" pid="8" name="_ms_pID_72534311">
    <vt:lpwstr>w8PjNg==</vt:lpwstr>
  </property>
  <property fmtid="{D5CDD505-2E9C-101B-9397-08002B2CF9AE}" pid="9" name="_ms_pID_72534311_00">
    <vt:lpwstr>_ms_pID_72534311</vt:lpwstr>
  </property>
  <property fmtid="{D5CDD505-2E9C-101B-9397-08002B2CF9AE}" pid="10" name="_ms_pID_7253431_00">
    <vt:lpwstr>_ms_pID_7253431</vt:lpwstr>
  </property>
  <property fmtid="{D5CDD505-2E9C-101B-9397-08002B2CF9AE}" pid="11" name="_ms_pID_7253432">
    <vt:lpwstr>x8ME0DQ2PpRh3avrRbfrZv56P6DdLEWGgiSMf+uDB4pq8mzhbhG6zPVPz3X1HS7rV0q5VF4keEsOSPp/KUMahD6kIQ6nI8qma02y7yusddScuZyMKuYK7AFTacu2BRKKxw82Xzx/b9m828jjjbhdYp08I8L82pMlPMiTjrFCpVp1AC8y6wfo3GM3bJVjc7D4DG5rJI1R0MXpzIiQOzKrXn0tHb6SOvbzeZuVqelsG00qCwte</vt:lpwstr>
  </property>
  <property fmtid="{D5CDD505-2E9C-101B-9397-08002B2CF9AE}" pid="12" name="_ms_pID_7253432_00">
    <vt:lpwstr>_ms_pID_7253432</vt:lpwstr>
  </property>
  <property fmtid="{D5CDD505-2E9C-101B-9397-08002B2CF9AE}" pid="13" name="_ms_pID_7253433">
    <vt:lpwstr>DeUnBJ7jXkhDFSfx2mbaZLiRTmabchORs5UcQM7t6iy9W9V5x0aJrpdekEha9ev1v7ztBtDiSNiz0nb5TnbmoOjSO9dSTPtxKJtkBk0VOT8v8uSIsc13cQc0DfmbMnZDCw/73NT8fGNvpvuxnOABvrA90Ua7RN1L2t9H8pOjEZKxCOmcGK2xRY5PojaZXHShwppauFNrvLHwrK2A1xMWv2Hy/8UBtsBI7RPOw+pkMh3CoR5h</vt:lpwstr>
  </property>
  <property fmtid="{D5CDD505-2E9C-101B-9397-08002B2CF9AE}" pid="14" name="_ms_pID_7253433_00">
    <vt:lpwstr>_ms_pID_7253433</vt:lpwstr>
  </property>
  <property fmtid="{D5CDD505-2E9C-101B-9397-08002B2CF9AE}" pid="15" name="_ms_pID_7253434">
    <vt:lpwstr>9t84MRtTx6Thnshgwp5BWq4UiuH84Eiujfe39Icajo8bMu+OO+aJRKLepkNrNUE99MU7YuJd+fFCg3aweaBTnq2fGfvMW7Ut/bQu8RC1FTVvRRLGOQlyb7hYMxC9aIRdVBZ6p18/5pQrL2cu4rhCKSpebJkgn8YLAtFbLQvYKXu93YKEYLjKpDwJeP+CyI8vT062JGalwlQ3Yvee3IDqJW1yqOBg24U7zWL0L3MKhhrvO8f0</vt:lpwstr>
  </property>
  <property fmtid="{D5CDD505-2E9C-101B-9397-08002B2CF9AE}" pid="16" name="_ms_pID_7253434_00">
    <vt:lpwstr>_ms_pID_7253434</vt:lpwstr>
  </property>
  <property fmtid="{D5CDD505-2E9C-101B-9397-08002B2CF9AE}" pid="17" name="_ms_pID_7253435">
    <vt:lpwstr>6GWTJDqz29S7smRvZQ2d6O2tevCrNSUYcO/TE5kl465CI3u3agCbKz/IqAI6BCDNXFzeHpTc0L65mbokTOrPcULOX23R2vtnlJnGDo1mTjdsWF4b4qPHz0R58sXuSVXhknyPvskulsySMkLGliq6rC8WkcO5aBCH/kRw9eAT1jvX2qCdNVwm1UhsJZec74rp824gmFvr6KutP18IGVz5uhur7VnixQSUGNWBIVj552MkbME6</vt:lpwstr>
  </property>
  <property fmtid="{D5CDD505-2E9C-101B-9397-08002B2CF9AE}" pid="18" name="_ms_pID_7253435_00">
    <vt:lpwstr>_ms_pID_7253435</vt:lpwstr>
  </property>
  <property fmtid="{D5CDD505-2E9C-101B-9397-08002B2CF9AE}" pid="19" name="_ms_pID_7253436">
    <vt:lpwstr>sTeVGnCQ0WCLcu3MQHuO0TFinWdHluh2Vf6zXtBjuRebL8xr6suQUaNHGWcf621zJRFmh33DmaFN7MhZOreGlD6ucG2hrcCFhIUw1L/vg/10yQu6cia0ltRDyoV9ZARFiNAqXnGHWnwNjirxWaWwRuMcte7s5PAnIc7KUTz33edbdJXdaI39osewTu48zvXD5Ap8Q0zJ809EcnCIXc+WtGKSzpnNNWwFyVUPx3CFyuEpL4Pj</vt:lpwstr>
  </property>
  <property fmtid="{D5CDD505-2E9C-101B-9397-08002B2CF9AE}" pid="20" name="_ms_pID_7253436_00">
    <vt:lpwstr>_ms_pID_7253436</vt:lpwstr>
  </property>
  <property fmtid="{D5CDD505-2E9C-101B-9397-08002B2CF9AE}" pid="21" name="_ms_pID_7253437">
    <vt:lpwstr>Dm3MIKDygnrlJgGYaKT7hvJiY3AsvZDFcRpNIqaF2iH+3iYHuJDWGNqjQFQTnPnIW4L7Ph3g4wZJ6lvGXdrp7GMSeF0/HbFbONKSiB6fo3sjR58WECrD3iyflR3pBaDoQwN398Hqp9MUjYgpTKwoV9UJBG1HMAxflrQaAv6/QXkRlJDGoKn90YQTAs+RxuWobh62wp6uacyFPhO3dxEgde63/NbE/BFnXQtf45PCGNa3KvlH</vt:lpwstr>
  </property>
  <property fmtid="{D5CDD505-2E9C-101B-9397-08002B2CF9AE}" pid="22" name="_ms_pID_7253437_00">
    <vt:lpwstr>_ms_pID_7253437</vt:lpwstr>
  </property>
  <property fmtid="{D5CDD505-2E9C-101B-9397-08002B2CF9AE}" pid="23" name="_ms_pID_7253438">
    <vt:lpwstr>2TW/xbkhJGEaCFDDLT5IDAVYF7wCtVb86KgY7RouYgbTiiRUOUZdvQgYasRYQjRRQHq3j7PEJ5m9aiErVUdxB14eSEqi39a6X/0IWvo/Tl6lOouA5yKfuJr+AnxG9iCUEzuOlA5YtCxXAL38I3f/xKvhMKnXvJsA3IDAAIj0TdpHkqeEjGqdZaLJun9BFA8ui4iGfsGtGbd83Tu9xvBJhy61UCXLzIC1/3e8A7uQIj70Y9vE</vt:lpwstr>
  </property>
  <property fmtid="{D5CDD505-2E9C-101B-9397-08002B2CF9AE}" pid="24" name="_ms_pID_7253438_00">
    <vt:lpwstr>_ms_pID_7253438</vt:lpwstr>
  </property>
  <property fmtid="{D5CDD505-2E9C-101B-9397-08002B2CF9AE}" pid="25" name="_ms_pID_7253439">
    <vt:lpwstr>y6kFNTjsH2mE8f1UM95zogrbUuwzLzv11JqPEndS5UH5Lo8hJp1y9mBWg137eLLAXkxWIT1wLg0+p/ZEkq2ar/3u10yNvrddGtCMOn+Mik/A6YEfsGhiacDa6gq2VTnIhFya5g2Un2Qd5eq5mxnZth6Wic1AwgAKLTlzgAodJEMyHfuT91df79HCc/2kG/biuHnoxtPvJnwn+VOSQPxc/3X08hy+h9J1u9JNx0xL2/GBk3Jq</vt:lpwstr>
  </property>
  <property fmtid="{D5CDD505-2E9C-101B-9397-08002B2CF9AE}" pid="26" name="_ms_pID_7253439_00">
    <vt:lpwstr>_ms_pID_7253439</vt:lpwstr>
  </property>
  <property fmtid="{D5CDD505-2E9C-101B-9397-08002B2CF9AE}" pid="27" name="_ms_pID_725343_00">
    <vt:lpwstr>_ms_pID_725343</vt:lpwstr>
  </property>
  <property fmtid="{D5CDD505-2E9C-101B-9397-08002B2CF9AE}" pid="28" name="_readonly">
    <vt:lpwstr/>
  </property>
  <property fmtid="{D5CDD505-2E9C-101B-9397-08002B2CF9AE}" pid="29" name="sflag">
    <vt:lpwstr>1555359667</vt:lpwstr>
  </property>
</Properties>
</file>