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147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5040"/>
            <a:ext cx="10414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646440" y="8985240"/>
            <a:ext cx="263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103587C-BACE-4D20-9F34-B2DB03BE7F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3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6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5D1A8C2-E8A1-4DE5-9695-A0E0963DA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0B8D568-0518-4226-8F55-1FBEAAB79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DD54F6F-F0DF-4E3C-A86B-D2CEF621D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D51CBB9-F77D-4BC9-83BF-EFE797D67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2439691-4B48-4463-9FD6-2536A7770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5A5952C-631D-49FF-ADA4-7BF19A8CA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5DC4987-D6D8-491B-AE71-E39E20D3A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9680-1794-4DF5-A299-ECEEC2964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0F42-8C69-4B99-8C55-0E31DC56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9C2880-9046-47AB-8763-F2B9F355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A7F6DA-23CD-4308-9DF7-FC9C25CB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770850-A62E-4355-A754-23D53C65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E95F6-0E47-4718-A5E9-B8078D98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86286-F065-455D-ACC2-DFDEB930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CC8B48-87CB-4D68-AD4B-871C8647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BB64E-34BD-4ADA-918D-508FEC56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44942-20C6-4DFF-9FF0-34BD9ED32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D98E6-1EAD-4BCB-A4F4-8D8916471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DB75A-47F9-43E0-A798-CC5621883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BF82-B493-42CA-BD94-60BF70E42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8F0B0-BE6D-4DC6-8B33-F2D23FEB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D6E4D-CCDD-45E8-B606-F8200960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9E221D-7E91-4966-81B8-1BEB2A21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291E1-2EBE-4590-95F4-B57E6F44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97450-73C0-4EA2-B7ED-90D05CB8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1B269-F9F9-4510-A4C6-F2C1B349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CC40C1-57E4-4CC3-863A-DBCC0009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127E8-78E8-4B97-B346-652ACCE0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0DA701-43F8-43BD-A9E8-4950A76B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1029B5-72BF-47BF-876B-FAF1F1973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FF8A-8423-49D3-B9BF-97C0A84DD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61EAC2-5F69-4388-AA5F-B50A0614A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C8FC0-3A9D-4FF5-9FF3-B91FA21AC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04907-4BA0-422C-B4D0-075237AD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9BF95-9DDA-46B7-B5BF-1ABB7B8C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574B8-1B2D-4C51-B37A-78012F41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0DFD5-AA79-4B64-A681-0211F3BC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BDFCC-1013-4265-9FC0-3F0EBAA1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4451C-E83F-4B2D-AD6F-BA34DB73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E4FDB-539D-4DA0-A573-0945F211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FB66C-4283-45B4-BDB6-154CB56A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389C-B1A7-4152-BC38-C1D2B34FD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9DD51-20F5-49F9-9101-7A879DDA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70335-5E8E-47FE-860F-05513722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3C636-9858-4C16-8E77-67017629A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66CAB7-0110-4A34-937D-4859FA5AE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33B387-1018-4D42-A128-2D7916AF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4E96F4-F07E-41D3-8D36-A6B8B38E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BF23B7-F43C-4838-8F72-D301B672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95FA5F-9AA6-4B90-8B89-51983C33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CA4B75-2659-4958-B8B1-7AC4F1A4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0602A6-F0EE-47F9-8392-2CE44DF7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65C1-0907-42AC-B35D-DE590B6D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92F0BD-CB7C-4FED-8C8F-D7D3EA6A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72921F-8ACD-4B02-B4DC-686C31D0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52661F-C122-4809-9E40-34074450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A1A4E5-EBA3-4211-A477-76A455439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AE4536-7697-4053-9EB6-5B88186D4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E548-E772-4C97-955A-37F84024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0430-2C24-4C25-9653-1105C8CB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8148-D148-4678-A163-5D320202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8864-EDE5-4053-B60F-4C1B6E18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196F-E63B-4BD6-9E41-82B52C92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F842-60C8-4542-A8AC-D8DE9012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03EE-7C34-46AD-8239-768925EB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930B-7048-4AA9-B401-A352679D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99B6-89E9-4E30-B5F9-C110A8C7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A7C1-8503-42D4-A02A-DE2CC745C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DCCC-92AC-4290-A373-FAFD0D73C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01CDC-E596-4A29-BD95-8DE2BF07E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CBD97-A25B-447C-833D-4F8EBB3C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824E2-B412-4313-B3CF-75E92969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5BE39-8052-4F5D-81D0-FFBE9E29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DBE34-1336-45BD-918F-162D5189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42CC-0AE9-4417-9C27-781888BF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D9A67-565E-40C9-BAB3-3FD5CD59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8901C-7499-49E3-BB0A-C807F308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FBAE1-EA60-4B33-BCFB-98FDABB7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2345A-C66D-4C49-BE6D-23EC4D64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0A5B7-0D1D-4DFC-B60F-7F507BBB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37AEE-B738-4B83-9921-1D160F8DA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31525-D05B-4A68-B838-70886F302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34D2D-F6F5-45D2-986E-3B9D358DD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1DB3F-FD86-4B07-9956-DAF1D01B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7678A-EFC8-4C69-B812-BCC45E9C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B376-BB68-45EE-B6D2-C3A58ACF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FEC1B-6CEE-4DF9-80F3-EC6DC754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C7C81-49B1-45F4-A19C-9F84861A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853B3-669C-4A8C-B1DA-ABCC116A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FE3F9-75C3-4E68-8244-28F8BC5B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EC384-B869-4BA1-B889-125400ED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6A3CA-DD89-426D-A589-1C4C4651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36B15-AD13-433F-9C87-D2BD4458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6BC65-933A-4156-BECE-BB74EF9FD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44E33-2D58-4A2C-A764-2F028445F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6F6EF-03C7-46D8-9E15-1E375C5B3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2525-2990-460C-8880-1DF079FB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B6F19-0AB2-42B8-A939-B7A5E03D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EF6D5-87F4-4C10-BAAF-A4B85D90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5582F-CCD3-4309-8593-E611691E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3D21E-6AB4-4E66-9705-0C324074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D6194-EED1-4ADA-A367-DFBBB95B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51E5C-91E0-4DC1-86D5-B9548876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1F5F3-2BD4-422C-B7A0-1E97220A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E41CC-77ED-4BFA-86F5-DA377E95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77F9B-55FC-4A79-90F9-CD192D1D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55A86-5B6A-4037-8502-4808547CB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79A2-8B1E-4A70-904C-8ED5B707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FA152-8E83-4797-AB5A-20797E429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884C0-0731-4381-9D25-A5E1CF506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A38BD-E10E-48C5-9E8E-E31FBDD6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79688-3017-495C-BF7A-7016612C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82448-2DAD-4F91-8EEA-6F03226A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D980F-EBB6-4D84-937D-96AF8446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09715-7A31-4203-999D-79C5E7C1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6A4F2-6C2F-4C94-8274-9CD3BAED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FA89D-5857-453F-8B85-96660329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FF2CF-C12A-4C7A-9D89-3705779C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BA6B-E6FE-4F0C-8E55-3D132C97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ABB81-185E-4337-AC6C-94F9DC47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49231-4A89-4F4C-A764-A85CD3561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550D9-0804-4578-A6BE-97814ACEA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4B2A6-CCA6-476D-9C79-D12B7EA34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985C0-B094-4230-8975-05A17805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E203B-6803-408E-860C-90C3C2E9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BF5B5-26B5-4DE2-B9E0-A53D093C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929E0-48EC-4DE3-BAF9-8F790FB3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C876E-5A0A-481E-B025-73DAB837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EA7A5-B092-4B3B-9913-1BEFCD64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5F3C-1FFD-4170-9800-54A06548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E8D40-F79E-4ABA-AF52-4C5E7685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665F2-9770-4CB2-BC9E-F50F404C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EA2CB-5CD5-4A54-AA74-954E0975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2AA42-B827-4864-A134-2BE0E99B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5F720-981B-4779-9096-FC86C2B1B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F90E6-9F34-484E-A7CE-688D4F962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CDD54-AD9C-4326-8216-6812EA03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036B4-2BEB-49C6-85EB-043D0CF6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E0223-0439-4417-AB80-4F413B5E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9AC85-3C66-4B90-8201-2BCB5ABB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0B44-80C9-459D-834E-501F2247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D1A59-F57B-484A-A45D-EEE65454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1E9B4-5CB9-4D91-9498-8A674E89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BD97D-88A9-49F4-A4D6-203CCF51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FC0F4-9078-48B5-940C-EF419311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576CA-771E-4620-AD7A-D530B4AF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ED0FC-27DB-4A01-BE0F-68F57BE72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14EB5-C774-4C53-AF89-D4C8785D5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B599C-B0F7-47CE-AEA3-0614E4CD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F199F-430F-40F6-B4D3-82F9129F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0B0D85-E0A3-4300-925C-9ECA1E3A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1541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D03C90F-44DF-451D-8135-CCAB9E2BAF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960" y="333000"/>
            <a:ext cx="1541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C5CF167-7447-429D-A6E0-1BE91886CD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960" y="333000"/>
            <a:ext cx="1541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3E44360-7C86-4E48-939E-7CD5832FE7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960" y="333000"/>
            <a:ext cx="1541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D50D8D2-42C5-4865-9593-C29E81632F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960" y="333000"/>
            <a:ext cx="1541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D996D2C-7EEF-4E64-820E-5196F431B3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960" y="333000"/>
            <a:ext cx="1541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596B45B-B3D1-48F5-BE6D-ABAD7952A7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960" y="333000"/>
            <a:ext cx="1541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67F964A-E3D4-44A0-8FBA-4B7B770965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960" y="333000"/>
            <a:ext cx="1541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49264E4-BE68-475F-8511-C95D93A35A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960" y="333000"/>
            <a:ext cx="1541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CDECF67-D36A-4F5B-9382-ECE906C490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960" y="333000"/>
            <a:ext cx="1541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BC539AC-7D00-4A57-A9A8-8CA92A65F2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960" y="333000"/>
            <a:ext cx="1541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5F82C4C-506F-4002-8227-8FB99F6A16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960" y="333000"/>
            <a:ext cx="1541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A2E0662-E256-45CF-8FA3-4DA336B76E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9/11-19-1262-04-00be-specification-framework-for-tgbe.docx" TargetMode="External"/><Relationship Id="rId2" Type="http://schemas.openxmlformats.org/officeDocument/2006/relationships/hyperlink" Target="https://mentor.ieee.org/802.11/dcn/19/11-19-1755-00-00be-compendium-of-motions-related-to-the-contents-of-the-tgbe-specification-framework-document.pptx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09/11-09-1034-14-0000-802-11-editorial-style-guide.docx" TargetMode="External"/><Relationship Id="rId2" Type="http://schemas.openxmlformats.org/officeDocument/2006/relationships/hyperlink" Target="https://standards.ieee.org/content/dam/ieee-standards/standards/web/documents/other/sb_om.pdf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FBF3E41-604A-4653-808D-4D1AF464E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be Editor’s Repor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9-11-1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669960" y="2668680"/>
          <a:ext cx="780408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668680"/>
                    <a:ext cx="7804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6858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D28D4E2-418C-4C3D-BE16-6B01C29CF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us of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ecification Framework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test version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19/1262r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corporated motions 1, 6, 9, 10, and 11 approved in the September 2019 interi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endium of mo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19/1755r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ummarizes all motions (including approved, failed, and tabled) related t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ntents of the specification framework document (SFD) for the task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Date Placeholder 3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F581131-CCE7-44F7-AAAD-201CE216E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ggestion on proposed text for SF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re is no editorial style guide for SF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re is only an editorial style guide for 802.11 standards and amendments (</a:t>
            </a:r>
            <a:r>
              <a:rPr b="0" lang="en-GB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09/1034r1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re is also a section in IEEE-SA Standards Board Operations Manual (</a:t>
            </a:r>
            <a:r>
              <a:rPr b="0" lang="en-GB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latest version:  January 2019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, namely Section 6.4, which is related to the document structure of an IEEE-SA standar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owever, it is highly encouraged if any proposed text for SFD follows the editorial style guide for 802.11 and IEEE-SA SB Operations Manual whenever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 from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sistency internally for the development of SFD and the 802.11be-2023 amendment and consistency with the baseline standards (802.11-2020 standar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Date Placeholder 3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EB484F2-BCA6-4970-AD35-5AC477A06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cted recommended practices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rmative verb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ll, should, m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-normative verb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, m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s and footno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Date Placeholder 3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Picture 6" descr=""/>
          <p:cNvPicPr/>
          <p:nvPr/>
        </p:nvPicPr>
        <p:blipFill>
          <a:blip r:embed="rId1"/>
          <a:srcRect l="0" t="42362" r="0" b="0"/>
          <a:stretch/>
        </p:blipFill>
        <p:spPr>
          <a:xfrm>
            <a:off x="1371600" y="3809880"/>
            <a:ext cx="65530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25A6ACF-EE9A-4696-8F11-AF63A437D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cted recommended practices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ame forma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differences between bit-aligned and octet-aligned form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 any frame format in terms of the “table” function in Ms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Date Placeholder 3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Group 1"/>
          <p:cNvGrpSpPr/>
          <p:nvPr/>
        </p:nvGrpSpPr>
        <p:grpSpPr>
          <a:xfrm>
            <a:off x="2533680" y="3352680"/>
            <a:ext cx="4076640" cy="3048120"/>
            <a:chOff x="2533680" y="3352680"/>
            <a:chExt cx="4076640" cy="3048120"/>
          </a:xfrm>
        </p:grpSpPr>
        <p:pic>
          <p:nvPicPr>
            <p:cNvPr id="580" name="Picture 7" descr=""/>
            <p:cNvPicPr/>
            <p:nvPr/>
          </p:nvPicPr>
          <p:blipFill>
            <a:blip r:embed="rId1"/>
            <a:stretch/>
          </p:blipFill>
          <p:spPr>
            <a:xfrm>
              <a:off x="2571120" y="5029200"/>
              <a:ext cx="40392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Picture 8" descr=""/>
            <p:cNvPicPr/>
            <p:nvPr/>
          </p:nvPicPr>
          <p:blipFill>
            <a:blip r:embed="rId2"/>
            <a:stretch/>
          </p:blipFill>
          <p:spPr>
            <a:xfrm>
              <a:off x="2533680" y="3352680"/>
              <a:ext cx="4001040" cy="1371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7BBA67D-31EB-4330-8097-6EFB99971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cted recommended practices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aw any figure other than frame format by using vis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ar the end of the Standards Association (SA) ballot, editors need to format all figures in “emf” forma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recommended to upload your visio into IEEE 802.11 mentor or embed your visio file in your submission, e.g.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Date Placeholder 3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Picture 2" descr=""/>
          <p:cNvPicPr/>
          <p:nvPr/>
        </p:nvPicPr>
        <p:blipFill>
          <a:blip r:embed="rId1"/>
          <a:srcRect l="0" t="64507" r="37500" b="25123"/>
          <a:stretch/>
        </p:blipFill>
        <p:spPr>
          <a:xfrm>
            <a:off x="914400" y="4114800"/>
            <a:ext cx="77724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1281381-1210-4B56-8869-280792613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cted recommended practices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al “absolute” verbiage (from IEEE-SA M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ease review the text for any explicit or implicit guarantees made within the document, especially those that are safety relat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oid making guarantees if there is a possibility of unforeseen situations or circumstances altering an outcom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xample, words such as “ensure,” “guarantee,” “maximize,” minimize,” etc., should be modified, if they a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ccura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titutions might include “reduce” or “improve.” For example, “to ensure safety” might be changed to “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 safety” or “to prevent” might be changed to “to reduce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Date Placeholder 3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dward Au</dc:creator>
  <dc:description/>
  <cp:keywords>Contribution</cp:keywords>
  <dc:language>en-US</dc:language>
  <cp:lastModifiedBy>Edward Au</cp:lastModifiedBy>
  <cp:lastPrinted>2014-11-04T15:04:57Z</cp:lastPrinted>
  <dcterms:modified xsi:type="dcterms:W3CDTF">2019-11-10T21:42:53Z</dcterms:modified>
  <cp:revision>8803</cp:revision>
  <dc:subject>Task Group AY November 2015 Meeting Agenda</dc:subject>
  <dc:title>TGbe Editor'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change">
    <vt:lpwstr/>
  </property>
  <property fmtid="{D5CDD505-2E9C-101B-9397-08002B2CF9AE}" pid="3" name="_full-control">
    <vt:lpwstr/>
  </property>
  <property fmtid="{D5CDD505-2E9C-101B-9397-08002B2CF9AE}" pid="4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5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6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7" name="_ms_pID_72534310_00">
    <vt:lpwstr>_ms_pID_72534310</vt:lpwstr>
  </property>
  <property fmtid="{D5CDD505-2E9C-101B-9397-08002B2CF9AE}" pid="8" name="_ms_pID_72534311">
    <vt:lpwstr>w8PjNg==</vt:lpwstr>
  </property>
  <property fmtid="{D5CDD505-2E9C-101B-9397-08002B2CF9AE}" pid="9" name="_ms_pID_72534311_00">
    <vt:lpwstr>_ms_pID_72534311</vt:lpwstr>
  </property>
  <property fmtid="{D5CDD505-2E9C-101B-9397-08002B2CF9AE}" pid="10" name="_ms_pID_7253431_00">
    <vt:lpwstr>_ms_pID_7253431</vt:lpwstr>
  </property>
  <property fmtid="{D5CDD505-2E9C-101B-9397-08002B2CF9AE}" pid="11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2" name="_ms_pID_7253432_00">
    <vt:lpwstr>_ms_pID_7253432</vt:lpwstr>
  </property>
  <property fmtid="{D5CDD505-2E9C-101B-9397-08002B2CF9AE}" pid="13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4" name="_ms_pID_7253433_00">
    <vt:lpwstr>_ms_pID_7253433</vt:lpwstr>
  </property>
  <property fmtid="{D5CDD505-2E9C-101B-9397-08002B2CF9AE}" pid="15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6" name="_ms_pID_7253434_00">
    <vt:lpwstr>_ms_pID_7253434</vt:lpwstr>
  </property>
  <property fmtid="{D5CDD505-2E9C-101B-9397-08002B2CF9AE}" pid="17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8" name="_ms_pID_7253435_00">
    <vt:lpwstr>_ms_pID_7253435</vt:lpwstr>
  </property>
  <property fmtid="{D5CDD505-2E9C-101B-9397-08002B2CF9AE}" pid="19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20" name="_ms_pID_7253436_00">
    <vt:lpwstr>_ms_pID_7253436</vt:lpwstr>
  </property>
  <property fmtid="{D5CDD505-2E9C-101B-9397-08002B2CF9AE}" pid="21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2" name="_ms_pID_7253437_00">
    <vt:lpwstr>_ms_pID_7253437</vt:lpwstr>
  </property>
  <property fmtid="{D5CDD505-2E9C-101B-9397-08002B2CF9AE}" pid="23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4" name="_ms_pID_7253438_00">
    <vt:lpwstr>_ms_pID_7253438</vt:lpwstr>
  </property>
  <property fmtid="{D5CDD505-2E9C-101B-9397-08002B2CF9AE}" pid="25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6" name="_ms_pID_7253439_00">
    <vt:lpwstr>_ms_pID_7253439</vt:lpwstr>
  </property>
  <property fmtid="{D5CDD505-2E9C-101B-9397-08002B2CF9AE}" pid="27" name="_ms_pID_725343_00">
    <vt:lpwstr>_ms_pID_725343</vt:lpwstr>
  </property>
  <property fmtid="{D5CDD505-2E9C-101B-9397-08002B2CF9AE}" pid="28" name="_readonly">
    <vt:lpwstr/>
  </property>
  <property fmtid="{D5CDD505-2E9C-101B-9397-08002B2CF9AE}" pid="29" name="sflag">
    <vt:lpwstr>1555359667</vt:lpwstr>
  </property>
</Properties>
</file>