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137" name="PlaceHolder 2"/>
          <p:cNvSpPr>
            <a:spLocks noGrp="1"/>
          </p:cNvSpPr>
          <p:nvPr>
            <p:ph type="dt" idx="10"/>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F94BCC4-FE50-40D1-820B-4E18379928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pted with unanimous consens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pted with unanimous consens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3429-DE26-4F68-BD05-B1394629C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08CB5-00A5-446B-928B-D173B7B9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DE277-5A39-47DD-A2F1-9E23C22E9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6B2EC-0885-4CA6-8B98-AB6736BE0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0EC03-166B-4A97-A9CC-78F86BA84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588E1-90EB-42E3-AEF8-C2869F529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BBBC1-E90A-4A6E-94D7-AE4DB8939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08E3-FBC9-4D84-BFF1-BE2BDDBC4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6F2C7-BA1C-46BB-94F4-9A83223F5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8AB33-4996-4CF0-8AA4-33B3513A5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BAAAA-2C86-4B31-B3CE-192C9242C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3A81E-C28E-4496-BCFC-0A69D323E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38C19-A756-407A-85F0-90C37D585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39914-FB2F-450B-95D8-A2FEF16FF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E62DE-E986-40CF-82BA-845DB0324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973CD-4EF1-4B8E-8363-95AFAFB3C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2482D-B7D5-4929-ABB4-AECB4E9AA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02F6D-4381-4FCD-87E1-40DAB1BEE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F47AF-BC34-45D9-92C7-27B3C017C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51BFA-6F43-44DC-B915-B4623DCF3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12DE6-979A-4228-87FE-37D1E833B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8BF4C1-845C-4A36-922F-F48CEB902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AAD9F-1865-4531-851D-2A9320A05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797B3-6A05-4432-A497-B5EA996B3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9A562-BC42-445A-BECD-1DDF9508B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21645-4083-4C42-B90B-EFAEBC326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32996-777B-4775-A9DD-14E61A51C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58F83-90EC-4916-A42F-2A9FCF645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6F6660-03E9-4CB3-B5DA-2B648E44F9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9414EC-D83B-4809-A2B2-5CFF7313E4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B763-45FF-482B-989B-7A3872B5E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EF15-8599-4517-84D4-7D6D0469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745DC-1172-47E1-B07D-DBF4E6ECC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E78A-17D1-4227-BCF3-45B2847EB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2DCB5-F8EB-45DF-B67D-0F8CB47A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E8FBB-8210-40DF-B9C5-C1FF1D07C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A13AB88-35B8-42F7-A3A7-33CB8FBBF1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2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27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3B3102D-03DB-4A9C-975E-AB120CB307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27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1A25A6-55BF-45B0-9DA4-96C190B580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9/11-19-1033-02-00bd-tgbd-june-july-2019-teleconference-minutes.docx" TargetMode="External"/><Relationship Id="rId2" Type="http://schemas.openxmlformats.org/officeDocument/2006/relationships/hyperlink" Target="https://mentor.ieee.org/802.11/dcn/19/11-19-1033-02-00bd-tgbd-june-july-2019-teleconference-minutes.docx" TargetMode="External"/><Relationship Id="rId3" Type="http://schemas.openxmlformats.org/officeDocument/2006/relationships/hyperlink" Target="https://mentor.ieee.org/802.11/dcn/19/11-19-1033-02-00bd-tgbd-june-july-2019-teleconference-minutes.docx" TargetMode="External"/><Relationship Id="rId4" Type="http://schemas.openxmlformats.org/officeDocument/2006/relationships/hyperlink" Target="https://mentor.ieee.org/802.11/dcn/19/11-19-1033-02-00bd-tgbd-june-july-2019-teleconference-minutes.docx" TargetMode="External"/><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4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D57B40-E769-499B-B397-A93785362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November 2019 agenda</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0-08</a:t>
            </a:r>
            <a:endParaRPr b="1" lang="en-US" sz="2000" spc="-1" strike="noStrike">
              <a:solidFill>
                <a:srgbClr val="000000"/>
              </a:solidFill>
              <a:latin typeface="Times New Roman"/>
            </a:endParaRPr>
          </a:p>
        </p:txBody>
      </p:sp>
      <p:sp>
        <p:nvSpPr>
          <p:cNvPr id="15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15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1926F82-94A5-4D83-8601-B34304FEF1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endParaRPr b="0" lang="en-US" sz="1200" spc="-1" strike="noStrike">
              <a:solidFill>
                <a:srgbClr val="000000"/>
              </a:solidFill>
              <a:latin typeface="Times New Roman"/>
            </a:endParaRPr>
          </a:p>
          <a:p>
            <a:pPr lvl="1" marL="743040" indent="0" algn="just">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04"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20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C937578-EA76-41F8-A24A-A0A53CF8F7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1" lang="en-US" sz="2000" spc="-1" strike="noStrike">
              <a:solidFill>
                <a:srgbClr val="000000"/>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1" lang="en-US" sz="20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1" lang="en-US" sz="1600" spc="-1" strike="noStrike">
              <a:solidFill>
                <a:srgbClr val="000000"/>
              </a:solidFill>
              <a:latin typeface="Times New Roman"/>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1" lang="en-US" sz="2000" spc="-1" strike="noStrike">
              <a:solidFill>
                <a:srgbClr val="000000"/>
              </a:solidFill>
              <a:latin typeface="Times New Roman"/>
            </a:endParaRPr>
          </a:p>
          <a:p>
            <a:pPr marL="343080" indent="0" algn="just">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1" lang="en-US" sz="16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1" lang="en-US" sz="2000" spc="-1" strike="noStrike">
              <a:solidFill>
                <a:srgbClr val="000000"/>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1" lang="en-US" sz="2000" spc="-1" strike="noStrike">
              <a:solidFill>
                <a:srgbClr val="000000"/>
              </a:solidFill>
              <a:latin typeface="Times New Roman"/>
            </a:endParaRPr>
          </a:p>
          <a:p>
            <a:pPr marL="343080"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22-0000-802-11-operations-manual.docx</a:t>
            </a:r>
            <a:r>
              <a:rPr b="1" lang="nl-NL"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210"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1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1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0F0070-6058-478C-8FD1-609D86AF5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21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 a recommendation to the 802.11 WG for the next step of SENS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d on the consensus of recommendation from the  SENS TIG, the TIG chair, on behalf of the TIG, will give a presentation and run a motion, during the closing plenary.</a:t>
            </a:r>
            <a:endParaRPr b="0" lang="en-US" sz="2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1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3A0FF1-E9DC-4482-8914-EF18A7375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schedule</a:t>
            </a:r>
            <a:endParaRPr b="0" lang="en-US" sz="3200" spc="-1" strike="noStrike">
              <a:solidFill>
                <a:srgbClr val="000000"/>
              </a:solidFill>
              <a:latin typeface="Times New Roman"/>
            </a:endParaRPr>
          </a:p>
        </p:txBody>
      </p:sp>
      <p:sp>
        <p:nvSpPr>
          <p:cNvPr id="2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2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22" name=""/>
          <p:cNvGraphicFramePr/>
          <p:nvPr/>
        </p:nvGraphicFramePr>
        <p:xfrm>
          <a:off x="685800" y="1758960"/>
          <a:ext cx="7772400" cy="3193920"/>
        </p:xfrm>
        <a:graphic>
          <a:graphicData uri="http://schemas.openxmlformats.org/drawingml/2006/table">
            <a:tbl>
              <a:tblPr/>
              <a:tblGrid>
                <a:gridCol w="1554120"/>
                <a:gridCol w="1554120"/>
                <a:gridCol w="1555920"/>
                <a:gridCol w="1554120"/>
                <a:gridCol w="1554120"/>
              </a:tblGrid>
              <a:tr h="587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512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 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555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 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 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512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 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3524F3-0CFE-4F97-992A-7093B975F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 for each session</a:t>
            </a:r>
            <a:endParaRPr b="0" lang="en-US" sz="3200" spc="-1" strike="noStrike">
              <a:solidFill>
                <a:srgbClr val="000000"/>
              </a:solidFill>
              <a:latin typeface="Times New Roman"/>
            </a:endParaRPr>
          </a:p>
        </p:txBody>
      </p:sp>
      <p:sp>
        <p:nvSpPr>
          <p:cNvPr id="2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2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27" name="Rectangle 3"/>
          <p:cNvSpPr/>
          <p:nvPr/>
        </p:nvSpPr>
        <p:spPr>
          <a:xfrm>
            <a:off x="696960" y="1224000"/>
            <a:ext cx="3875040" cy="507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 PM2, 16:00am – 18:00pm</a:t>
            </a:r>
            <a:endParaRPr b="0" lang="en-US" sz="18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Meeting to order</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policy and logistics</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da items for the week</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submiss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da setting for each sess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 presentat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ss</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PM2, 16:00am – 18:00pm</a:t>
            </a:r>
            <a:endParaRPr b="0" lang="en-US" sz="18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Meeting to order</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policy and logistics</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 presentation</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ss</a:t>
            </a:r>
            <a:endParaRPr b="0" lang="en-US" sz="1600" spc="-1" strike="noStrike">
              <a:solidFill>
                <a:srgbClr val="000000"/>
              </a:solidFill>
              <a:latin typeface="Times New Roman"/>
            </a:endParaRPr>
          </a:p>
        </p:txBody>
      </p:sp>
      <p:sp>
        <p:nvSpPr>
          <p:cNvPr id="228" name="Rectangle 3"/>
          <p:cNvSpPr/>
          <p:nvPr/>
        </p:nvSpPr>
        <p:spPr>
          <a:xfrm>
            <a:off x="4875120" y="1224000"/>
            <a:ext cx="366876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AM2, 10:30am – 12:30pm</a:t>
            </a:r>
            <a:endParaRPr b="0" lang="en-US" sz="18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Meeting to order</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policy and logistics</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 presentation</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a recommendation to the 802.11 WG for the next step of SENS TIG</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other business</a:t>
            </a:r>
            <a:endParaRPr b="0" lang="en-US" sz="1600" spc="-1" strike="noStrike">
              <a:solidFill>
                <a:srgbClr val="000000"/>
              </a:solidFill>
              <a:latin typeface="Times New Roman"/>
            </a:endParaRPr>
          </a:p>
          <a:p>
            <a:pPr lvl="1" marL="743040" indent="-285840" algn="just">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our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B3624F-11DB-4277-8075-EB527AE21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ical Submissions for the Week</a:t>
            </a:r>
            <a:endParaRPr b="0" lang="en-US" sz="3200" spc="-1" strike="noStrike">
              <a:solidFill>
                <a:srgbClr val="000000"/>
              </a:solidFill>
              <a:latin typeface="Times New Roman"/>
            </a:endParaRPr>
          </a:p>
        </p:txBody>
      </p:sp>
      <p:sp>
        <p:nvSpPr>
          <p:cNvPr id="23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3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33" name="TextBox 6"/>
          <p:cNvSpPr/>
          <p:nvPr/>
        </p:nvSpPr>
        <p:spPr>
          <a:xfrm>
            <a:off x="1638360" y="13716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graphicFrame>
        <p:nvGraphicFramePr>
          <p:cNvPr id="234" name=""/>
          <p:cNvGraphicFramePr/>
          <p:nvPr/>
        </p:nvGraphicFramePr>
        <p:xfrm>
          <a:off x="714240" y="2362320"/>
          <a:ext cx="7772400" cy="3308400"/>
        </p:xfrm>
        <a:graphic>
          <a:graphicData uri="http://schemas.openxmlformats.org/drawingml/2006/table">
            <a:tbl>
              <a:tblPr/>
              <a:tblGrid>
                <a:gridCol w="809640"/>
                <a:gridCol w="1752840"/>
                <a:gridCol w="4208400"/>
                <a:gridCol w="100152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48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9/</a:t>
                      </a:r>
                      <a:r>
                        <a:rPr b="0" lang="en-US" sz="1000" spc="-1" strike="noStrike">
                          <a:solidFill>
                            <a:srgbClr val="ff0000"/>
                          </a:solidFill>
                          <a:latin typeface="Times New Roman"/>
                        </a:rPr>
                        <a:t>????</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el Allegue (Aerial)</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Fi Sensing: Technical Feasibility, Standardization Gaps</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 mins</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340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0304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9/1815</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udio da Silva (Intel)</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LAN Sensing - Future Steps and Recommendation</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mins</a:t>
                      </a:r>
                      <a:endParaRPr b="0" lang="en-US" sz="1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0268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35" name="Rectangle 3"/>
          <p:cNvSpPr/>
          <p:nvPr/>
        </p:nvSpPr>
        <p:spPr>
          <a:xfrm>
            <a:off x="685800" y="5838840"/>
            <a:ext cx="7772400" cy="593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s for November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234697-5074-4AD5-A79B-62827CA62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3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PM2, 16:00am – 18:00pm</a:t>
            </a:r>
            <a:endParaRPr b="0" lang="en-US" sz="36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076259-97A0-42A0-8C61-A21B88139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2, 16:00am – 18:00pm</a:t>
            </a:r>
            <a:endParaRPr b="0" lang="en-US" sz="3200" spc="-1" strike="noStrike">
              <a:solidFill>
                <a:srgbClr val="000000"/>
              </a:solidFill>
              <a:latin typeface="Times New Roman"/>
            </a:endParaRPr>
          </a:p>
        </p:txBody>
      </p:sp>
      <p:sp>
        <p:nvSpPr>
          <p:cNvPr id="2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items for the week</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 SENS TIG teleconference call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the SENS TIG motion and call for contributio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ss</a:t>
            </a:r>
            <a:endParaRPr b="0" lang="en-US" sz="2400" spc="-1" strike="noStrike">
              <a:solidFill>
                <a:srgbClr val="000000"/>
              </a:solidFill>
              <a:latin typeface="Times New Roman"/>
            </a:endParaRPr>
          </a:p>
        </p:txBody>
      </p:sp>
      <p:sp>
        <p:nvSpPr>
          <p:cNvPr id="24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4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531040-AFC0-4FD1-B1C0-C6176C842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e SENS TIG teleconference call meeting minutes</a:t>
            </a:r>
            <a:endParaRPr b="0" lang="en-US" sz="3200" spc="-1" strike="noStrike">
              <a:solidFill>
                <a:srgbClr val="000000"/>
              </a:solidFill>
              <a:latin typeface="Times New Roman"/>
            </a:endParaRPr>
          </a:p>
        </p:txBody>
      </p:sp>
      <p:sp>
        <p:nvSpPr>
          <p:cNvPr id="24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the SENS TIG October 2019 teleconference call meeting minutes as below:</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mentor.ieee.org/802.11/dcn/19/11-19-1756-00-SENS-topic-interest-group-on-wlan-sensing-october-9th-2019-teleconference-meeting-minutes.docx</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s</a:t>
            </a:r>
            <a:r>
              <a:rPr b="0" lang="en-US" sz="2000" spc="-1" strike="noStrike" u="sng">
                <a:solidFill>
                  <a:srgbClr val="0066ff"/>
                </a:solidFill>
                <a:uFillTx/>
                <a:latin typeface="Times New Roman"/>
                <a:hlinkClick r:id="rId4"/>
              </a:rPr>
              <a:t>://mentor.ieee.org/802.11/dcn/19/11-19-1813-00-SENS-wlan-sensing-tig-october-30th-2019-teleconference-meeting-minutes.docx</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econded:</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4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779CB1-E890-4537-AC4E-FE7DE256A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5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5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TIG </a:t>
            </a:r>
            <a:br>
              <a:rPr sz="3600"/>
            </a:br>
            <a:endParaRPr b="1" lang="en-US" sz="3600" spc="-1" strike="noStrike">
              <a:solidFill>
                <a:srgbClr val="000000"/>
              </a:solidFill>
              <a:latin typeface="Times New Roman"/>
            </a:endParaRPr>
          </a:p>
        </p:txBody>
      </p:sp>
      <p:sp>
        <p:nvSpPr>
          <p:cNvPr id="153"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Kona, HI, US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0-15, 2019</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02563B-A9AC-4BD3-9AFE-654ABE24A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83E103-240E-4054-AD83-26503C63B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5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5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2, 16:00am – 18:00pm</a:t>
            </a:r>
            <a:endParaRPr b="0" lang="en-US" sz="36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9E7E2F-BFF8-4548-80A0-C26F62578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uesday </a:t>
            </a:r>
            <a:r>
              <a:rPr b="1" lang="en-US" sz="3200" spc="-1" strike="noStrike">
                <a:solidFill>
                  <a:srgbClr val="000000"/>
                </a:solidFill>
                <a:latin typeface="Times New Roman"/>
              </a:rPr>
              <a:t>PM2, 16:00am – 18:00pm</a:t>
            </a:r>
            <a:endParaRPr b="0" lang="en-US" sz="3200" spc="-1" strike="noStrike">
              <a:solidFill>
                <a:srgbClr val="000000"/>
              </a:solidFill>
              <a:latin typeface="Times New Roman"/>
            </a:endParaRPr>
          </a:p>
        </p:txBody>
      </p:sp>
      <p:sp>
        <p:nvSpPr>
          <p:cNvPr id="2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Meeting to ord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policy and logistic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present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ss</a:t>
            </a:r>
            <a:endParaRPr b="0" lang="en-US" sz="2800" spc="-1" strike="noStrike">
              <a:solidFill>
                <a:srgbClr val="000000"/>
              </a:solidFill>
              <a:latin typeface="Times New Roman"/>
            </a:endParaRPr>
          </a:p>
        </p:txBody>
      </p:sp>
      <p:sp>
        <p:nvSpPr>
          <p:cNvPr id="26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6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C68776-C9AD-4791-92E5-B327B7273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6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6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AM2, 10:30am – 12:30pm</a:t>
            </a:r>
            <a:endParaRPr b="0" lang="en-US" sz="3600" spc="-1" strike="noStrike">
              <a:solidFill>
                <a:srgbClr val="000000"/>
              </a:solidFill>
              <a:latin typeface="Times New Roman"/>
            </a:endParaRPr>
          </a:p>
          <a:p>
            <a:pPr lvl="1" marL="743040" indent="-285840" algn="ct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D84DBD-3162-4362-9D3E-79BAE1FC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rsday AM2, 10:30am – 12:30pm</a:t>
            </a:r>
            <a:endParaRPr b="0" lang="en-US" sz="3200" spc="-1" strike="noStrike">
              <a:solidFill>
                <a:srgbClr val="000000"/>
              </a:solidFill>
              <a:latin typeface="Times New Roman"/>
            </a:endParaRPr>
          </a:p>
        </p:txBody>
      </p:sp>
      <p:sp>
        <p:nvSpPr>
          <p:cNvPr id="27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Meeting to ord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policy and logistic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present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recommendation to the 802.11 WG for the next step of SENS TI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ourn</a:t>
            </a:r>
            <a:endParaRPr b="0" lang="en-US" sz="2800" spc="-1" strike="noStrike">
              <a:solidFill>
                <a:srgbClr val="000000"/>
              </a:solidFill>
              <a:latin typeface="Times New Roman"/>
            </a:endParaRPr>
          </a:p>
        </p:txBody>
      </p:sp>
      <p:sp>
        <p:nvSpPr>
          <p:cNvPr id="27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82DFAF-0A20-4375-82CD-6459AF8BA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Rectangle 2"/>
          <p:cNvSpPr/>
          <p:nvPr/>
        </p:nvSpPr>
        <p:spPr>
          <a:xfrm>
            <a:off x="685800" y="533520"/>
            <a:ext cx="7772400" cy="167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 a recommendation to the 802.11 WG for the next step of SENS TIG</a:t>
            </a:r>
            <a:endParaRPr b="0" lang="en-US" sz="3200" spc="-1" strike="noStrike">
              <a:solidFill>
                <a:srgbClr val="000000"/>
              </a:solidFill>
              <a:latin typeface="Times New Roman"/>
            </a:endParaRPr>
          </a:p>
        </p:txBody>
      </p:sp>
      <p:sp>
        <p:nvSpPr>
          <p:cNvPr id="275" name="Rectangle 3"/>
          <p:cNvSpPr/>
          <p:nvPr/>
        </p:nvSpPr>
        <p:spPr>
          <a:xfrm>
            <a:off x="685800" y="2514600"/>
            <a:ext cx="7924680" cy="38862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is your preference on the next step of SENS TIG? </a:t>
            </a:r>
            <a:endParaRPr b="0" lang="en-US" sz="2400" spc="-1" strike="noStrike">
              <a:solidFill>
                <a:srgbClr val="000000"/>
              </a:solidFill>
              <a:latin typeface="Times New Roman"/>
            </a:endParaRPr>
          </a:p>
          <a:p>
            <a:pPr lvl="1" marL="857160" indent="-457200" algn="just">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with the TIG until the next session; or</a:t>
            </a:r>
            <a:endParaRPr b="0" lang="en-US" sz="2000" spc="-1" strike="noStrike">
              <a:solidFill>
                <a:srgbClr val="000000"/>
              </a:solidFill>
              <a:latin typeface="Times New Roman"/>
            </a:endParaRPr>
          </a:p>
          <a:p>
            <a:pPr lvl="1" marL="857160" indent="-457200" algn="just">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te the TIG with no further work; or</a:t>
            </a:r>
            <a:endParaRPr b="0" lang="en-US" sz="2000" spc="-1" strike="noStrike">
              <a:solidFill>
                <a:srgbClr val="000000"/>
              </a:solidFill>
              <a:latin typeface="Times New Roman"/>
            </a:endParaRPr>
          </a:p>
          <a:p>
            <a:pPr lvl="1" marL="857160" indent="-457200" algn="just">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te the TIG and request formation of a SG to develop a PAR and CS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sult: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7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D21074-086D-4826-928C-AD356922F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TIG agenda for the </a:t>
            </a:r>
            <a:r>
              <a:rPr b="1" lang="en-US" sz="2400" spc="-1" strike="noStrike">
                <a:solidFill>
                  <a:srgbClr val="0000ff"/>
                </a:solidFill>
                <a:latin typeface="Times New Roman"/>
              </a:rPr>
              <a:t>November 2019 plenary sess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1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1F58A6C-F9F3-4108-A27E-B89C8B7256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685800" y="129528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0" lang="en-US" sz="18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0" lang="en-US" sz="18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0" lang="en-US" sz="18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imat.ieee.org/my-site/hom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register before logging attendance</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log attendance during each 2-hour session</a:t>
            </a:r>
            <a:endParaRPr b="0" lang="en-US" sz="16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your badges are correct </a:t>
            </a:r>
            <a:endParaRPr b="0" lang="en-US" sz="18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0" lang="en-US" sz="1800" spc="-1" strike="noStrike">
              <a:solidFill>
                <a:srgbClr val="000000"/>
              </a:solidFill>
              <a:latin typeface="Times New Roman"/>
            </a:endParaRPr>
          </a:p>
          <a:p>
            <a:pPr lvl="1" marL="63036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3036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3036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30360" indent="-28584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2300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0" lang="en-US" sz="18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166" name="Rectangle 2"/>
          <p:cNvSpPr/>
          <p:nvPr/>
        </p:nvSpPr>
        <p:spPr>
          <a:xfrm>
            <a:off x="609480" y="533520"/>
            <a:ext cx="7925040" cy="82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7B5672A-2819-4D4A-B0D1-3E8895417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Gothic"/>
              </a:rPr>
              <a:t> </a:t>
            </a:r>
            <a:r>
              <a:rPr b="1" lang="en-US" sz="2800" spc="-1" strike="noStrike">
                <a:solidFill>
                  <a:srgbClr val="000000"/>
                </a:solidFill>
                <a:latin typeface="Times New Roman"/>
                <a:ea typeface="MS Gothic"/>
              </a:rPr>
              <a:t>Following 5 slides</a:t>
            </a:r>
            <a:endParaRPr b="0" lang="en-US" sz="2800" spc="-1" strike="noStrike">
              <a:solidFill>
                <a:srgbClr val="000000"/>
              </a:solidFill>
              <a:latin typeface="Times New Roman"/>
            </a:endParaRPr>
          </a:p>
          <a:p>
            <a:pPr marL="230040" indent="-230040"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p:txBody>
      </p:sp>
      <p:sp>
        <p:nvSpPr>
          <p:cNvPr id="1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17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A9A53C9-0826-47C1-AFFB-0BA6F35F7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17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94D0185-120A-47A6-8222-3B856936E8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85"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18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1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4A2EE6-C16E-435D-A72C-DC3501A61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1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AFDA0D-C0EB-42AA-9859-3C2B503AA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9</a:t>
            </a:r>
            <a:endParaRPr b="0" lang="en-US" sz="1800" spc="-1" strike="noStrike">
              <a:solidFill>
                <a:srgbClr val="000000"/>
              </a:solidFill>
              <a:latin typeface="Times New Roman"/>
            </a:endParaRPr>
          </a:p>
        </p:txBody>
      </p:sp>
      <p:sp>
        <p:nvSpPr>
          <p:cNvPr id="20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201"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1-01T09:19:43Z</dcterms:modified>
  <cp:revision>4198</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2225199</vt:lpwstr>
  </property>
</Properties>
</file>