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137" name="PlaceHolder 2"/>
          <p:cNvSpPr>
            <a:spLocks noGrp="1"/>
          </p:cNvSpPr>
          <p:nvPr>
            <p:ph type="dt" idx="10"/>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C394E09-65F6-44C5-854B-B10F49037F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pted with unanimous consens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pted with unanimous consens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6CD1-B905-48F5-90EB-45D179E6A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B549-A99C-452B-A51F-09BB9F439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A1D8F-4F6A-4604-8D73-54C126C70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C2957-CF4C-4855-A30C-58A38140E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29A20-5A00-4ECE-8028-9A26DCA73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16AE7-2575-4375-8CB8-22C13BC73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EF587-1F7C-4AEF-94B8-7CABAB278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0066C-4372-4564-8C43-D26B5C1E9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D0A68-DE8F-49CE-A736-C6E146FF7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FE18C-0DA9-466E-8CAD-E0F52869D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759FE-7C10-49E5-8E81-5DC85C2DB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E55C-463E-4E1B-BE9A-52DFF991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8580C-3F03-4547-A896-92E18C169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F4F8E-4602-438C-BEBC-F91D28655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D82BC-397F-448B-898C-E03AE52D0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5EDD5-63C3-48EF-BCA6-CDAF0FC59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AF7A4-79D7-4707-B378-47CE3C878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8E019-1E12-4736-8671-22900ED2E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2865A-4C62-4926-B7ED-F6DF7CD10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7A037-95CA-4B77-9606-6F136DB1A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20B7A-4E76-4327-A16B-A4577616C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2320D-6BF5-43A8-B33F-A3BA85D22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FB7E-FAD7-480C-9F9A-734737C9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01DC1-CD2A-4BAF-BEB6-3BF6F328B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B9A9A-5D89-47F5-8B9D-25457363C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A4240-AA79-4F02-9906-115E8FE77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BE888-A900-42C2-86A5-D879615A2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7F9CC-3534-4E17-8E06-D9AD13D44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63883-02E5-4451-AD20-2643D248C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E1E0B5-E0EC-4E93-9A3E-0E72E28920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0CBC6-A623-47E4-9A6E-5A5AB199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4FEC-9AFD-4D96-9809-FCF0E353C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2526A-5594-4388-BF84-5FBCC4F9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C3C2-27C9-4E49-9F7B-7AB2D4193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441B2-B9AD-4543-B0DA-E4CAE19E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183E-0809-43E1-B71C-03F3DC8D1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011FD6-258D-46A0-B6B9-5258EA465B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93B596-9B04-4D48-8F15-5B92D3775A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356DE97-E8A2-4208-A83E-84F464593A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033-02-00bd-tgbd-june-july-2019-teleconference-minutes.docx" TargetMode="External"/><Relationship Id="rId2" Type="http://schemas.openxmlformats.org/officeDocument/2006/relationships/hyperlink" Target="https://mentor.ieee.org/802.11/dcn/19/11-19-1033-02-00bd-tgbd-june-july-2019-teleconference-minutes.docx" TargetMode="External"/><Relationship Id="rId3" Type="http://schemas.openxmlformats.org/officeDocument/2006/relationships/hyperlink" Target="https://mentor.ieee.org/802.11/dcn/19/11-19-1033-02-00bd-tgbd-june-july-2019-teleconference-minutes.docx" TargetMode="External"/><Relationship Id="rId4" Type="http://schemas.openxmlformats.org/officeDocument/2006/relationships/hyperlink" Target="https://mentor.ieee.org/802.11/dcn/19/11-19-1033-02-00bd-tgbd-june-july-2019-teleconference-minutes.docx" TargetMode="External"/><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4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E02A57-8AC2-4779-896F-7C478A13A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November 2019 agenda</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8</a:t>
            </a:r>
            <a:endParaRPr b="1" lang="en-US" sz="2000" spc="-1" strike="noStrike">
              <a:solidFill>
                <a:srgbClr val="000000"/>
              </a:solidFill>
              <a:latin typeface="Times New Roman"/>
            </a:endParaRPr>
          </a:p>
        </p:txBody>
      </p:sp>
      <p:sp>
        <p:nvSpPr>
          <p:cNvPr id="15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5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E354A18-334B-4043-88C6-BA20755791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0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20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4D97F13-D7EF-4D89-A095-20CB011C8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1" lang="en-US" sz="2000" spc="-1" strike="noStrike">
              <a:solidFill>
                <a:srgbClr val="000000"/>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1" lang="en-US" sz="20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1" lang="en-US" sz="1600" spc="-1" strike="noStrike">
              <a:solidFill>
                <a:srgbClr val="000000"/>
              </a:solidFill>
              <a:latin typeface="Times New Roman"/>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1" lang="en-US" sz="2000" spc="-1" strike="noStrike">
              <a:solidFill>
                <a:srgbClr val="000000"/>
              </a:solidFill>
              <a:latin typeface="Times New Roman"/>
            </a:endParaRPr>
          </a:p>
          <a:p>
            <a:pPr marL="34308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1" lang="en-US" sz="2000" spc="-1" strike="noStrike">
              <a:solidFill>
                <a:srgbClr val="000000"/>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1" lang="en-US" sz="2000" spc="-1" strike="noStrike">
              <a:solidFill>
                <a:srgbClr val="000000"/>
              </a:solidFill>
              <a:latin typeface="Times New Roman"/>
            </a:endParaRPr>
          </a:p>
          <a:p>
            <a:pPr marL="343080"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10"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79EB0B-3D87-40AE-AFD3-F7D8B7B49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2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 a recommendation to the 802.11 WG for the next step of SENS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d on the consensus of recommendation from the  SENS TIG, the TIG chair, on behalf of the TIG, will give a presentation and run a motion, during the closing plenary.</a:t>
            </a:r>
            <a:endParaRPr b="0" lang="en-US" sz="2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1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C14B47-781D-402D-AFC3-FBCD7B86B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schedule</a:t>
            </a:r>
            <a:endParaRPr b="0" lang="en-US" sz="3200" spc="-1" strike="noStrike">
              <a:solidFill>
                <a:srgbClr val="000000"/>
              </a:solidFill>
              <a:latin typeface="Times New Roman"/>
            </a:endParaRPr>
          </a:p>
        </p:txBody>
      </p:sp>
      <p:sp>
        <p:nvSpPr>
          <p:cNvPr id="2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22" name=""/>
          <p:cNvGraphicFramePr/>
          <p:nvPr/>
        </p:nvGraphicFramePr>
        <p:xfrm>
          <a:off x="685800" y="1758960"/>
          <a:ext cx="7772400" cy="3193920"/>
        </p:xfrm>
        <a:graphic>
          <a:graphicData uri="http://schemas.openxmlformats.org/drawingml/2006/table">
            <a:tbl>
              <a:tblPr/>
              <a:tblGrid>
                <a:gridCol w="1554120"/>
                <a:gridCol w="1554120"/>
                <a:gridCol w="1555920"/>
                <a:gridCol w="1554120"/>
                <a:gridCol w="1554120"/>
              </a:tblGrid>
              <a:tr h="587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55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 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 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46134B-F82F-4F6F-B42C-FD9B5AA59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2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2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27" name="Rectangle 3"/>
          <p:cNvSpPr/>
          <p:nvPr/>
        </p:nvSpPr>
        <p:spPr>
          <a:xfrm>
            <a:off x="696960" y="1224000"/>
            <a:ext cx="3875040" cy="507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 PM2, 16:00am – 18:0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da items for the week</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submiss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da setting for each sess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s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PM2, 16:00am – 18:0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ss</a:t>
            </a:r>
            <a:endParaRPr b="0" lang="en-US" sz="1600" spc="-1" strike="noStrike">
              <a:solidFill>
                <a:srgbClr val="000000"/>
              </a:solidFill>
              <a:latin typeface="Times New Roman"/>
            </a:endParaRPr>
          </a:p>
        </p:txBody>
      </p:sp>
      <p:sp>
        <p:nvSpPr>
          <p:cNvPr id="228" name="Rectangle 3"/>
          <p:cNvSpPr/>
          <p:nvPr/>
        </p:nvSpPr>
        <p:spPr>
          <a:xfrm>
            <a:off x="4875120" y="1224000"/>
            <a:ext cx="366876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AM2, 10:30am – 12:3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a recommendation to the 802.11 WG for the next step of SENS TIG</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other business</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our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0F6752-139D-470D-BB03-9905DDD91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ical Submissions for the Week</a:t>
            </a:r>
            <a:endParaRPr b="0" lang="en-US" sz="3200" spc="-1" strike="noStrike">
              <a:solidFill>
                <a:srgbClr val="000000"/>
              </a:solidFill>
              <a:latin typeface="Times New Roman"/>
            </a:endParaRPr>
          </a:p>
        </p:txBody>
      </p:sp>
      <p:sp>
        <p:nvSpPr>
          <p:cNvPr id="23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33" name="TextBox 6"/>
          <p:cNvSpPr/>
          <p:nvPr/>
        </p:nvSpPr>
        <p:spPr>
          <a:xfrm>
            <a:off x="1638360" y="13716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graphicFrame>
        <p:nvGraphicFramePr>
          <p:cNvPr id="234" name=""/>
          <p:cNvGraphicFramePr/>
          <p:nvPr/>
        </p:nvGraphicFramePr>
        <p:xfrm>
          <a:off x="714240" y="2362320"/>
          <a:ext cx="7772400" cy="3308400"/>
        </p:xfrm>
        <a:graphic>
          <a:graphicData uri="http://schemas.openxmlformats.org/drawingml/2006/table">
            <a:tbl>
              <a:tblPr/>
              <a:tblGrid>
                <a:gridCol w="809640"/>
                <a:gridCol w="1752840"/>
                <a:gridCol w="4208400"/>
                <a:gridCol w="100152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48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9/</a:t>
                      </a:r>
                      <a:r>
                        <a:rPr b="0" lang="en-US" sz="1000" spc="-1" strike="noStrike">
                          <a:solidFill>
                            <a:srgbClr val="ff0000"/>
                          </a:solidFill>
                          <a:latin typeface="Times New Roman"/>
                        </a:rPr>
                        <a:t>????</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el Allegue (Aerial)</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Sensing: Technical Feasibility, Standardization Gap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 min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9/1815</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udio da Silva (Intel)</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LAN Sensing - Future Steps and Recommendation</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min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268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35" name="Rectangle 3"/>
          <p:cNvSpPr/>
          <p:nvPr/>
        </p:nvSpPr>
        <p:spPr>
          <a:xfrm>
            <a:off x="685800" y="5838840"/>
            <a:ext cx="7772400" cy="593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 for November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53906C-A74F-4C16-8230-6E73B601C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3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PM2, 16:00am – 18:00pm</a:t>
            </a:r>
            <a:endParaRPr b="0" lang="en-US" sz="36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7C69AE-6B41-428A-A9AA-DA529504D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2, 16:00am – 18:00pm</a:t>
            </a:r>
            <a:endParaRPr b="0" lang="en-US" sz="3200" spc="-1" strike="noStrike">
              <a:solidFill>
                <a:srgbClr val="000000"/>
              </a:solidFill>
              <a:latin typeface="Times New Roman"/>
            </a:endParaRPr>
          </a:p>
        </p:txBody>
      </p:sp>
      <p:sp>
        <p:nvSpPr>
          <p:cNvPr id="2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 SENS TIG teleconference call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the SENS TIG motion and call for contributio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ss</a:t>
            </a:r>
            <a:endParaRPr b="0" lang="en-US" sz="2400" spc="-1" strike="noStrike">
              <a:solidFill>
                <a:srgbClr val="000000"/>
              </a:solidFill>
              <a:latin typeface="Times New Roman"/>
            </a:endParaRPr>
          </a:p>
        </p:txBody>
      </p:sp>
      <p:sp>
        <p:nvSpPr>
          <p:cNvPr id="2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2227EF-BB6D-4B82-807B-62F0DF56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e SENS TIG teleconference call meeting minutes</a:t>
            </a:r>
            <a:endParaRPr b="0" lang="en-US" sz="3200" spc="-1" strike="noStrike">
              <a:solidFill>
                <a:srgbClr val="000000"/>
              </a:solidFill>
              <a:latin typeface="Times New Roman"/>
            </a:endParaRPr>
          </a:p>
        </p:txBody>
      </p:sp>
      <p:sp>
        <p:nvSpPr>
          <p:cNvPr id="24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SENS TIG October 2019 teleconference call meeting minutes as belo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mentor.ieee.org/802.11/dcn/19/11-19-1756-00-SENS-topic-interest-group-on-wlan-sensing-october-9th-2019-teleconference-meeting-minutes.docx</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s</a:t>
            </a:r>
            <a:r>
              <a:rPr b="0" lang="en-US" sz="2000" spc="-1" strike="noStrike" u="sng">
                <a:solidFill>
                  <a:srgbClr val="0066ff"/>
                </a:solidFill>
                <a:uFillTx/>
                <a:latin typeface="Times New Roman"/>
                <a:hlinkClick r:id="rId4"/>
              </a:rPr>
              <a:t>://mentor.ieee.org/802.11/dcn/19/11-19-1813-00-SENS-wlan-sensing-tig-october-30th-2019-teleconference-meeting-minutes.docx</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ed:</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939531-8F46-4D59-87D2-F394B08B1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5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5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Kona, HI, US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0-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69121B-C64C-4777-8F32-D2883F7EC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1C94E7-1578-4ED3-940D-FF3BDCB84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5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5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am – 18:00pm</a:t>
            </a:r>
            <a:endParaRPr b="0" lang="en-US" sz="36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E8F19A-0C88-415A-B217-FF790C634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uesday </a:t>
            </a:r>
            <a:r>
              <a:rPr b="1" lang="en-US" sz="3200" spc="-1" strike="noStrike">
                <a:solidFill>
                  <a:srgbClr val="000000"/>
                </a:solidFill>
                <a:latin typeface="Times New Roman"/>
              </a:rPr>
              <a:t>PM2, 16:00am – 18:00pm</a:t>
            </a:r>
            <a:endParaRPr b="0" lang="en-US" sz="3200" spc="-1" strike="noStrike">
              <a:solidFill>
                <a:srgbClr val="000000"/>
              </a:solidFill>
              <a:latin typeface="Times New Roman"/>
            </a:endParaRPr>
          </a:p>
        </p:txBody>
      </p:sp>
      <p:sp>
        <p:nvSpPr>
          <p:cNvPr id="2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Meeting to ord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policy and logistic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present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ss</a:t>
            </a:r>
            <a:endParaRPr b="0" lang="en-US" sz="2800" spc="-1" strike="noStrike">
              <a:solidFill>
                <a:srgbClr val="000000"/>
              </a:solidFill>
              <a:latin typeface="Times New Roman"/>
            </a:endParaRPr>
          </a:p>
        </p:txBody>
      </p:sp>
      <p:sp>
        <p:nvSpPr>
          <p:cNvPr id="26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6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A23EE3-62B4-4E40-A4C6-F811A1BF3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6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AM2, 10:30am – 12:30pm</a:t>
            </a:r>
            <a:endParaRPr b="0" lang="en-US" sz="3600" spc="-1" strike="noStrike">
              <a:solidFill>
                <a:srgbClr val="000000"/>
              </a:solidFill>
              <a:latin typeface="Times New Roman"/>
            </a:endParaRPr>
          </a:p>
          <a:p>
            <a:pPr lvl="1" marL="743040" indent="-285840" algn="ct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C0C719-7330-4829-8037-D012AEA80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rsday AM2, 10:30am – 12:30pm</a:t>
            </a:r>
            <a:endParaRPr b="0" lang="en-US" sz="3200" spc="-1" strike="noStrike">
              <a:solidFill>
                <a:srgbClr val="000000"/>
              </a:solidFill>
              <a:latin typeface="Times New Roman"/>
            </a:endParaRPr>
          </a:p>
        </p:txBody>
      </p:sp>
      <p:sp>
        <p:nvSpPr>
          <p:cNvPr id="2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Meeting to ord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policy and logistic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present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recommendation to the 802.11 WG for the next step of SENS TI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ourn</a:t>
            </a:r>
            <a:endParaRPr b="0" lang="en-US" sz="2800" spc="-1" strike="noStrike">
              <a:solidFill>
                <a:srgbClr val="000000"/>
              </a:solidFill>
              <a:latin typeface="Times New Roman"/>
            </a:endParaRPr>
          </a:p>
        </p:txBody>
      </p:sp>
      <p:sp>
        <p:nvSpPr>
          <p:cNvPr id="27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69721C-2711-4F76-826D-255B8738D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Rectangle 2"/>
          <p:cNvSpPr/>
          <p:nvPr/>
        </p:nvSpPr>
        <p:spPr>
          <a:xfrm>
            <a:off x="685800" y="533520"/>
            <a:ext cx="7772400" cy="167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 a recommendation to the 802.11 WG for the next step of SENS TIG</a:t>
            </a:r>
            <a:endParaRPr b="0" lang="en-US" sz="3200" spc="-1" strike="noStrike">
              <a:solidFill>
                <a:srgbClr val="000000"/>
              </a:solidFill>
              <a:latin typeface="Times New Roman"/>
            </a:endParaRPr>
          </a:p>
        </p:txBody>
      </p:sp>
      <p:sp>
        <p:nvSpPr>
          <p:cNvPr id="275" name="Rectangle 3"/>
          <p:cNvSpPr/>
          <p:nvPr/>
        </p:nvSpPr>
        <p:spPr>
          <a:xfrm>
            <a:off x="685800" y="2514600"/>
            <a:ext cx="7924680" cy="38862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is your preference on the next step of SENS TIG? </a:t>
            </a:r>
            <a:endParaRPr b="0" lang="en-US" sz="24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with the TIG until the next session; or</a:t>
            </a:r>
            <a:endParaRPr b="0" lang="en-US" sz="20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te the TIG with no further work; or</a:t>
            </a:r>
            <a:endParaRPr b="0" lang="en-US" sz="20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te the TIG and request formation of a SG to develop a PAR and CS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sult: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7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F26E51-89FF-4F20-9F26-743E473B2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for the </a:t>
            </a:r>
            <a:r>
              <a:rPr b="1" lang="en-US" sz="2400" spc="-1" strike="noStrike">
                <a:solidFill>
                  <a:srgbClr val="0000ff"/>
                </a:solidFill>
                <a:latin typeface="Times New Roman"/>
              </a:rPr>
              <a:t>November 2019 plenary sess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A876789-F9B1-4932-8D4A-6C176AC0CB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29528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0" lang="en-US" sz="18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imat.ieee.org/my-site/ho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register before logging attendance</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log attendance during each 2-hour session</a:t>
            </a:r>
            <a:endParaRPr b="0" lang="en-US" sz="16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your badges are correct </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0" lang="en-US" sz="18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30360" indent="-28584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0" lang="en-US" sz="18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66" name="Rectangle 2"/>
          <p:cNvSpPr/>
          <p:nvPr/>
        </p:nvSpPr>
        <p:spPr>
          <a:xfrm>
            <a:off x="609480" y="533520"/>
            <a:ext cx="7925040" cy="82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23C1673-526F-4A1B-9D3F-3813DCBA32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Gothic"/>
              </a:rPr>
              <a:t> </a:t>
            </a:r>
            <a:r>
              <a:rPr b="1" lang="en-US" sz="2800" spc="-1" strike="noStrike">
                <a:solidFill>
                  <a:srgbClr val="000000"/>
                </a:solidFill>
                <a:latin typeface="Times New Roman"/>
                <a:ea typeface="MS Gothic"/>
              </a:rPr>
              <a:t>Following 5 slides</a:t>
            </a:r>
            <a:endParaRPr b="0" lang="en-US" sz="2800" spc="-1" strike="noStrike">
              <a:solidFill>
                <a:srgbClr val="000000"/>
              </a:solidFill>
              <a:latin typeface="Times New Roman"/>
            </a:endParaRPr>
          </a:p>
          <a:p>
            <a:pPr marL="230040" indent="-230040"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
        <p:nvSpPr>
          <p:cNvPr id="1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7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7E9835F-EF36-4806-A532-132EA13FA1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7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8B41212-B30A-41DA-9EE2-7EB384FEEB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85"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8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7B9639-4763-49CE-960D-666BCDBD4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1F99B6-6BCE-4FFD-9CD8-8CBECC752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0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1-01T09:19:43Z</dcterms:modified>
  <cp:revision>419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2225199</vt:lpwstr>
  </property>
</Properties>
</file>