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21886-E8DE-4470-B642-E61DB3030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C12DF-FA32-4D40-8389-D82E16160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551B1-38FA-441E-926A-A6CE95364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32FA1-3C1D-4CDF-813F-5EABAB760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507A5-7DB3-4EE6-81E5-1AADC6A85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55AC8-F0A3-4C15-AF8D-158212C09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583E0-65D9-4371-B2A7-141DAC918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0476E-3808-4264-B57B-8994AF759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001DA-9F75-4897-A358-9548E1AE2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86372-E1A9-4173-9BC6-FD769C359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EE3BF-9D8F-4128-9317-C7C928FFA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775B4-FBED-4A63-ABD1-156EBD38D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0DAE5-5B30-4A6C-A5E6-8A568A7A9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0B073-6687-4E94-928C-9F621F447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B05F6-3AE4-4743-83BF-AADA54EBD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766C9-CD48-4B55-BCD6-F7A753CAA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AD2AD-349E-4F6A-B6B3-766E1DE93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C7A4A6-EA85-4DDD-BAF4-9C0640CD2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8CD2F8-D79F-4AAE-BCCD-C6F123632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EF78AF-6A43-46C4-814C-7685D9CBB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4C321-AC61-4C0A-9046-C04AE7774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51B3C8-3F33-43C9-95EA-A5D7812A7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6D1EA-2EB0-44B0-96EF-40CA83687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3861DD-658B-421B-9CCB-776CEF5F50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EBF53-0D79-4FC6-8D6D-D4BDB9B48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E5B16-29B8-4DAA-936D-F7C319097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C2F21-7767-499C-B2EF-6E07C153B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42E398-935F-4123-B489-63CF677C0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DD40D6-B7C6-4F6A-8AC5-E54CAE3A0D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9E32B5-7D21-4C25-AEA4-27017A301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05707-F485-47A3-A7AB-14A4E3ED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86427-C7A2-4387-B716-09015AB40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06BD8-00A5-4360-935C-83CE7AB2F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69F0C-E47D-4D01-B5F2-7BA310066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12385-D8E7-41E1-9CE2-F2347CAC4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34DD-3ED7-4CBF-9E72-3E687C6A9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3222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859DB87-7118-4DDB-A2D4-72E5EECDD6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32228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430BFEF-07BE-496E-95D6-72B150B0B2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32228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CF4CA2-275D-4FD2-9376-98CDFFFDDB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3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C4F361-FC13-4B7E-A970-AC4C32C56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TIG October 2019, teleconference call agenda</a:t>
            </a:r>
            <a:endParaRPr b="1" lang="en-US" sz="3200" spc="-1" strike="noStrike">
              <a:solidFill>
                <a:srgbClr val="000000"/>
              </a:solidFill>
              <a:latin typeface="Times New Roman"/>
            </a:endParaRPr>
          </a:p>
        </p:txBody>
      </p:sp>
      <p:sp>
        <p:nvSpPr>
          <p:cNvPr id="13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0-09</a:t>
            </a:r>
            <a:endParaRPr b="1" lang="en-US" sz="2000" spc="-1" strike="noStrike">
              <a:solidFill>
                <a:srgbClr val="000000"/>
              </a:solidFill>
              <a:latin typeface="Times New Roman"/>
            </a:endParaRPr>
          </a:p>
        </p:txBody>
      </p:sp>
      <p:sp>
        <p:nvSpPr>
          <p:cNvPr id="14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14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03E4FD3-4EF8-4B3C-AC29-EC4D96E37D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endParaRPr b="0" lang="en-US" sz="1200" spc="-1" strike="noStrike">
              <a:solidFill>
                <a:srgbClr val="000000"/>
              </a:solidFill>
              <a:latin typeface="Times New Roman"/>
            </a:endParaRPr>
          </a:p>
          <a:p>
            <a:pPr lvl="1" marL="743040" indent="0" algn="just">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92"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9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19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33E845-822B-45D2-80BB-2132B4F10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00"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472AD3-7445-441E-A8F0-C24078E6E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9</a:t>
            </a:r>
            <a:endParaRPr b="0" lang="en-US" sz="3200" spc="-1" strike="noStrike">
              <a:solidFill>
                <a:srgbClr val="000000"/>
              </a:solidFill>
              <a:latin typeface="Times New Roman"/>
            </a:endParaRPr>
          </a:p>
        </p:txBody>
      </p:sp>
      <p:sp>
        <p:nvSpPr>
          <p:cNvPr id="20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SENS TIG motion and call for contribution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05"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graphicFrame>
        <p:nvGraphicFramePr>
          <p:cNvPr id="206" name=""/>
          <p:cNvGraphicFramePr/>
          <p:nvPr/>
        </p:nvGraphicFramePr>
        <p:xfrm>
          <a:off x="988920" y="3360600"/>
          <a:ext cx="7697880" cy="19591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2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i Du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 Models for WLAN sensing</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401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26</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ihong Zhang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Market Potential and Technical Feasibility about WLAN Sensing</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01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4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ar Au (Origin Wireles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sensing: use cases, feasibility, standardization</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0A9FDE-11CD-4960-9F7D-16D85CF73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1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2F73D5-0904-4F87-85D8-76DA8E305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0</a:t>
            </a:r>
            <a:endParaRPr b="0" lang="en-US" sz="3200" spc="-1" strike="noStrike">
              <a:solidFill>
                <a:srgbClr val="000000"/>
              </a:solidFill>
              <a:latin typeface="Times New Roman"/>
            </a:endParaRPr>
          </a:p>
        </p:txBody>
      </p:sp>
      <p:sp>
        <p:nvSpPr>
          <p:cNvPr id="2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SENS TIG motion and call for contribution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1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graphicFrame>
        <p:nvGraphicFramePr>
          <p:cNvPr id="217" name=""/>
          <p:cNvGraphicFramePr/>
          <p:nvPr/>
        </p:nvGraphicFramePr>
        <p:xfrm>
          <a:off x="988920" y="3360600"/>
          <a:ext cx="7697880" cy="19591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01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69</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I-based Wi-Fi Sensing: Results and Standardization Challenge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7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and Proximity Detection Using WLAN Sensing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a:t>
                      </a:r>
                      <a:r>
                        <a:rPr b="0" lang="en-US" sz="1200" spc="-1" strike="noStrike">
                          <a:solidFill>
                            <a:srgbClr val="ff0000"/>
                          </a:solidFill>
                          <a:latin typeface="Times New Roman"/>
                        </a:rPr>
                        <a:t>??</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el Allegue (Aeria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BB7EB3-33BF-4FA1-8167-B72B98FBF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2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2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TIG </a:t>
            </a:r>
            <a:br>
              <a:rPr sz="3600"/>
            </a:br>
            <a:endParaRPr b="1" lang="en-US" sz="3600" spc="-1" strike="noStrike">
              <a:solidFill>
                <a:srgbClr val="000000"/>
              </a:solidFill>
              <a:latin typeface="Times New Roman"/>
            </a:endParaRPr>
          </a:p>
        </p:txBody>
      </p:sp>
      <p:sp>
        <p:nvSpPr>
          <p:cNvPr id="143"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October 9, 30,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B03FA6-5EDD-49C7-A0E6-B0C5836EA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4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2F202C-5B08-453B-9A06-25320CA32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TIG agenda items for the teleconference calls on </a:t>
            </a:r>
            <a:r>
              <a:rPr b="1" lang="en-US" sz="2400" spc="-1" strike="noStrike">
                <a:solidFill>
                  <a:srgbClr val="0000ff"/>
                </a:solidFill>
                <a:latin typeface="Times New Roman"/>
              </a:rPr>
              <a:t>October 9 and 30, 2019</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1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5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7D56AF-2984-4C14-84EC-E243625EC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1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15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F5FC7C-5647-4B1F-8D44-4B4B26C5B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5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16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027864F-B986-48BD-AF3A-DF86813F12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16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68"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89BB3DD-5C8B-40BB-9C8F-22817F18D1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17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7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1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FFCE92-859F-454E-AD2C-F5555900F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2"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B4DCD0-10ED-4F93-B23B-AC5F12C7D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8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9"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0-22T02:24:14Z</dcterms:modified>
  <cp:revision>4180</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1620188</vt:lpwstr>
  </property>
</Properties>
</file>