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CEFC8-D093-43C7-BB69-14E9502E9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85546-BEF8-4685-87E0-4ECE9F164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A37AD-1244-495C-9287-C262D38CE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5901C-2716-4CF6-8D93-42519057E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9F8BA-0A80-43E6-BC1E-1A9F457D7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EAD91-065F-4DAC-9681-3A56B2490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C6056-38F2-4910-9EA8-262394A62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51DA0-9BF2-45CF-9205-77CDC4CAE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3CB3-C8E5-4AB0-9DDF-9A107FD51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DC912-CE3C-4827-9B63-AAC5C42FF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EEF7-D07B-47BD-A901-282027062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7C9B-BF45-4403-B21E-46C63F78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D2C6F-34F3-48FF-8D5B-FA9DFB5B4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BA00-F534-4244-AEFC-72B40B864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3AE30-C796-49A1-86EF-2744F20C6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C86FE-D79F-4BBC-B94B-0C2FF69BB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20638-B532-4124-8FEF-18FD06AF6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108429-35AE-4C40-BAFB-B4D7EE1965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98DFA-DB67-4B5D-866B-6FB4E33CD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7E5A7-9309-43E1-8C23-ECC377149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3D342-CA08-426B-B608-E94ACF265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A2DC2-F1E6-4AFF-B33D-3363BFB71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9590-08A0-44D4-AA26-F618CDA5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A37CD-0E6A-4982-8361-662A2BC3D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E68E6-832E-4D1B-8CE7-BF2AF9227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86B8A-C24E-4891-82A0-AE447D0F2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47017-2726-4BBA-9171-9F5DA6E2A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B8608-43F4-4BCC-89E9-4F399B321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008C8A-016D-4DD9-A970-D7C0BE3CB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A8743-E1D6-4786-844C-39D1FC3D4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C9C5A-57F8-484E-9447-DEA4345C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0A9A-1EEC-4EA6-88B6-EC4CE7845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D116F-0B49-42B4-A160-CA2295035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8577-16FC-4551-B91E-59727F29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CD2F-7C61-445D-B45D-5209D4B8B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24F2-2548-4839-8FC3-71C87D7D9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3222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68304BA-8F7E-4621-8B99-E83D2DD13F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12C26E-CF73-49B7-8218-E3A20E322F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5815279-380A-4744-AC67-B134B43703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3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E6D11A-5571-4D51-A49B-D5F234FB7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October 2019, teleconference call agenda</a:t>
            </a:r>
            <a:endParaRPr b="1" lang="en-US" sz="3200" spc="-1" strike="noStrike">
              <a:solidFill>
                <a:srgbClr val="000000"/>
              </a:solidFill>
              <a:latin typeface="Times New Roman"/>
            </a:endParaRPr>
          </a:p>
        </p:txBody>
      </p:sp>
      <p:sp>
        <p:nvSpPr>
          <p:cNvPr id="13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0-09</a:t>
            </a:r>
            <a:endParaRPr b="1" lang="en-US" sz="2000" spc="-1" strike="noStrike">
              <a:solidFill>
                <a:srgbClr val="000000"/>
              </a:solidFill>
              <a:latin typeface="Times New Roman"/>
            </a:endParaRPr>
          </a:p>
        </p:txBody>
      </p:sp>
      <p:sp>
        <p:nvSpPr>
          <p:cNvPr id="14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14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B1785CF-0B32-4C4A-9DFF-E74CDE2627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endParaRPr b="0" lang="en-US" sz="1200" spc="-1" strike="noStrike">
              <a:solidFill>
                <a:srgbClr val="000000"/>
              </a:solidFill>
              <a:latin typeface="Times New Roman"/>
            </a:endParaRPr>
          </a:p>
          <a:p>
            <a:pPr lvl="1" marL="743040" indent="0" algn="just">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9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9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1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C6D052-119A-4A5F-87B0-75FCD1773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476FE6-E898-4B78-B8E1-94A957DD6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9</a:t>
            </a:r>
            <a:endParaRPr b="0" lang="en-US" sz="3200" spc="-1" strike="noStrike">
              <a:solidFill>
                <a:srgbClr val="000000"/>
              </a:solidFill>
              <a:latin typeface="Times New Roman"/>
            </a:endParaRPr>
          </a:p>
        </p:txBody>
      </p:sp>
      <p:sp>
        <p:nvSpPr>
          <p:cNvPr id="20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5"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06" name=""/>
          <p:cNvGraphicFramePr/>
          <p:nvPr/>
        </p:nvGraphicFramePr>
        <p:xfrm>
          <a:off x="988920" y="3360600"/>
          <a:ext cx="7697880" cy="1897200"/>
        </p:xfrm>
        <a:graphic>
          <a:graphicData uri="http://schemas.openxmlformats.org/drawingml/2006/table">
            <a:tbl>
              <a:tblPr/>
              <a:tblGrid>
                <a:gridCol w="809640"/>
                <a:gridCol w="1752840"/>
                <a:gridCol w="4208400"/>
                <a:gridCol w="927000"/>
              </a:tblGrid>
              <a:tr h="46368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924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i Du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 Models for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6</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ihong Zhang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Market Potential and Technical Feasibility about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D2E18E-B9E8-405E-B048-2D4B3FD4F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9F47A2-0521-4673-BF36-586B6CE0D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0</a:t>
            </a:r>
            <a:endParaRPr b="0" lang="en-US" sz="3200" spc="-1" strike="noStrike">
              <a:solidFill>
                <a:srgbClr val="000000"/>
              </a:solidFill>
              <a:latin typeface="Times New Roman"/>
            </a:endParaRPr>
          </a:p>
        </p:txBody>
      </p:sp>
      <p:sp>
        <p:nvSpPr>
          <p:cNvPr id="2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BA775F-485B-4A7F-9D42-A784EB8BD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2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TIG </a:t>
            </a:r>
            <a:br>
              <a:rPr sz="3600"/>
            </a:br>
            <a:endParaRPr b="1" lang="en-US" sz="3600" spc="-1" strike="noStrike">
              <a:solidFill>
                <a:srgbClr val="000000"/>
              </a:solidFill>
              <a:latin typeface="Times New Roman"/>
            </a:endParaRPr>
          </a:p>
        </p:txBody>
      </p:sp>
      <p:sp>
        <p:nvSpPr>
          <p:cNvPr id="143"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October 9, 30,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F25807-8307-4357-84E4-2AB6F6848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4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7E9C66-F715-49C6-BA52-E999D5B82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TIG agenda items for the teleconference calls on </a:t>
            </a:r>
            <a:r>
              <a:rPr b="1" lang="en-US" sz="2400" spc="-1" strike="noStrike">
                <a:solidFill>
                  <a:srgbClr val="0000ff"/>
                </a:solidFill>
                <a:latin typeface="Times New Roman"/>
              </a:rPr>
              <a:t>October 9 and 30, 2019</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1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84EE51-2703-4AFD-8606-A849474DB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Tony.hanxiao@huawei.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1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15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290011-B6E8-41EF-BDF4-7ABBA46A3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5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16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24B3DBC-CCFD-497E-8968-DA3565C49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6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53783D7-8E18-49E7-95FE-04EFC0CD5E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17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7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1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F416D4-FBFC-4C26-9D47-913A10F08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3EC01C-C93E-47DB-86B7-20D8C8946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0-08T02:27:34Z</dcterms:modified>
  <cp:revision>4174</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0497446</vt:lpwstr>
  </property>
</Properties>
</file>