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A68B0-23E2-4B01-9656-C59AD10AE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F4FCE-BD08-4385-B951-507EC3E87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A147C-31D6-402D-A9F4-AAD5D1BA1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5DCEB-8204-45F9-9183-17C395184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FD123-7251-4AB1-896F-5E14DBC95A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732D7-3A48-4742-B38B-BA3569A18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0E949-27C6-4318-AA1F-480A12C22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9649A-09C6-4325-A4EB-87261DF2C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135AC-D319-4C1F-8D17-BAB5E0766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6BF6F-80C7-49E9-A501-1F6BCB64A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BA333-F84A-4FE3-846A-77EE2030C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8BA70-310E-4F2A-A84F-09318172B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96AE5-9271-4178-AE8D-F0014F1B9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9DF9D-B65B-4720-A956-3914FB64E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1D143-61B6-4E9C-B450-4FA3B4FB3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8FAE24-F148-4B32-9D75-BB85B791C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23D695-F2D0-43D9-A7BB-AF21EDA70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CEA7C6-4536-4CF0-A888-C44CC17F48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A84970-9588-4A94-B4F8-AA4E2962B9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143489-8AAB-4A44-956C-B3EEF85DE3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6ACA47-F8F8-4278-B1A8-97C455EF9D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FE0B98-3F75-46D8-B8C9-B4BD81833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39985-2B48-412B-8548-99FF885B0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12669E-26C0-4184-9DE0-299D1C8627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5FCFBC-E4DA-4B83-BB4F-2643BD726E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D4BA2F-9A29-4FC2-B491-927A28BD25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7E08AA-4C89-43C9-9FDD-019413A3A6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BD98D4-0924-4325-B67C-3218B6FB9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B463CE-9F2B-4AA4-AE62-E5B71C5824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B2040E-4CF3-45E9-A1E5-2AFD401768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05D4C-9477-4730-97FD-352FF4238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868E1-D850-4198-9491-8859AAFA2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2856D-51C2-490F-83FF-6ECF6EB88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F9AB7-A4DB-4234-840E-3A4B60D48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90F85-8B3B-4D61-A083-300B520AC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54D03-B3F4-4C37-9424-8BA33D6B5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3222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y Xiao Han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58AD1DA-E612-4B1F-A327-26D01B103A4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716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716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32228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y Xiao Han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DE62A99-0C62-48B6-B7D7-01163FFFD8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716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32228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y Xiao Han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6A42BCA-5EFD-4F96-AE3E-81F5764F07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mailto:Tony.hanxiao@huawei.com" TargetMode="External"/><Relationship Id="rId2" Type="http://schemas.openxmlformats.org/officeDocument/2006/relationships/hyperlink" Target="http://mentor.ieee.org/" TargetMode="External"/><Relationship Id="rId3" Type="http://schemas.openxmlformats.org/officeDocument/2006/relationships/hyperlink" Target="mailto:jrosdahl@ieee.org" TargetMode="External"/><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hyperlink" Target="mailto:patcom@ieee.org" TargetMode="External"/><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36"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366A73-BC64-4DD8-92E8-05409ED01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380880" y="9140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LAN sensing TIG October 2019, teleconference call agenda</a:t>
            </a:r>
            <a:endParaRPr b="1" lang="en-US" sz="3200" spc="-1" strike="noStrike">
              <a:solidFill>
                <a:srgbClr val="000000"/>
              </a:solidFill>
              <a:latin typeface="Times New Roman"/>
            </a:endParaRPr>
          </a:p>
        </p:txBody>
      </p:sp>
      <p:sp>
        <p:nvSpPr>
          <p:cNvPr id="139" name="PlaceHolder 2"/>
          <p:cNvSpPr>
            <a:spLocks noGrp="1"/>
          </p:cNvSpPr>
          <p:nvPr>
            <p:ph/>
          </p:nvPr>
        </p:nvSpPr>
        <p:spPr>
          <a:xfrm>
            <a:off x="685800" y="25909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10-09</a:t>
            </a:r>
            <a:endParaRPr b="1" lang="en-US" sz="2000" spc="-1" strike="noStrike">
              <a:solidFill>
                <a:srgbClr val="000000"/>
              </a:solidFill>
              <a:latin typeface="Times New Roman"/>
            </a:endParaRPr>
          </a:p>
        </p:txBody>
      </p:sp>
      <p:sp>
        <p:nvSpPr>
          <p:cNvPr id="140" name="Rectangle 12"/>
          <p:cNvSpPr/>
          <p:nvPr/>
        </p:nvSpPr>
        <p:spPr>
          <a:xfrm>
            <a:off x="685800" y="31240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graphicFrame>
        <p:nvGraphicFramePr>
          <p:cNvPr id="141" name=""/>
          <p:cNvGraphicFramePr/>
          <p:nvPr/>
        </p:nvGraphicFramePr>
        <p:xfrm>
          <a:off x="838080" y="3672000"/>
          <a:ext cx="7620120" cy="823680"/>
        </p:xfrm>
        <a:graphic>
          <a:graphicData uri="http://schemas.openxmlformats.org/drawingml/2006/table">
            <a:tbl>
              <a:tblPr/>
              <a:tblGrid>
                <a:gridCol w="1524240"/>
                <a:gridCol w="1203120"/>
                <a:gridCol w="2165400"/>
                <a:gridCol w="801720"/>
                <a:gridCol w="1925640"/>
              </a:tblGrid>
              <a:tr h="274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am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filiatio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ddres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hon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ma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ny Xiao Ha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awei Technologies Co., Lt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3, Huawei Base, Shenzhen, Chin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ony.hanxiao@huawei.com </a:t>
                      </a:r>
                      <a:endParaRPr b="0" lang="en-US" sz="11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42CD573-C53C-4859-B4ED-B91BDF7441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43080" indent="-3430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endParaRPr b="0" lang="en-US" sz="1200" spc="-1" strike="noStrike">
              <a:solidFill>
                <a:srgbClr val="000000"/>
              </a:solidFill>
              <a:latin typeface="Times New Roman"/>
            </a:endParaRPr>
          </a:p>
          <a:p>
            <a:pPr lvl="1" marL="743040" indent="0" algn="just">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92"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93"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
        <p:nvSpPr>
          <p:cNvPr id="19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87C271-58BA-4A83-BEB2-DC0003ADA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9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FAQ </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standards.ieee.org/board/pat/faq.pdf</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losure of Affiliation</a:t>
            </a:r>
            <a:endParaRPr b="0" lang="en-US" sz="24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2"/>
              </a:rPr>
              <a:t>http://standards.ieee.org/faqs/affiliationFAQ.html</a:t>
            </a:r>
            <a:endParaRPr b="0" lang="en-US" sz="1800" spc="-1" strike="noStrike">
              <a:solidFill>
                <a:srgbClr val="000000"/>
              </a:solidFill>
              <a:latin typeface="Times New Roman"/>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i-Trust Guidelines </a:t>
            </a:r>
            <a:endParaRPr b="0" lang="en-US" sz="2400" spc="-1" strike="noStrike">
              <a:solidFill>
                <a:srgbClr val="000000"/>
              </a:solidFill>
              <a:latin typeface="Times New Roman"/>
            </a:endParaRPr>
          </a:p>
          <a:p>
            <a:pPr marL="343080" indent="-34308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3"/>
              </a:rPr>
              <a:t>http://standards.ieee.org/resources/antitrust-guidelines.pdf</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of Ethics</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4"/>
              </a:rPr>
              <a:t>http://www.ieee.org/web/membership/ethics/code_ethics.htm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Working Group Operations Manual </a:t>
            </a:r>
            <a:endParaRPr b="0" lang="en-US" sz="2400" spc="-1" strike="noStrike">
              <a:solidFill>
                <a:srgbClr val="000000"/>
              </a:solidFill>
              <a:latin typeface="Times New Roman"/>
            </a:endParaRPr>
          </a:p>
          <a:p>
            <a:pPr marL="343080" indent="-34308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66ff"/>
                </a:solidFill>
                <a:uFillTx/>
                <a:latin typeface="Times New Roman"/>
                <a:hlinkClick r:id="rId5"/>
              </a:rPr>
              <a:t>https://mentor.ieee.org/802.11/dcn/14/11-14-0629-22-0000-802-11-operations-manual.docx</a:t>
            </a:r>
            <a:r>
              <a:rPr b="1" lang="nl-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9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00"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03920F-5604-4A84-81B6-4FB68E88E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9</a:t>
            </a:r>
            <a:endParaRPr b="0" lang="en-US" sz="3200" spc="-1" strike="noStrike">
              <a:solidFill>
                <a:srgbClr val="000000"/>
              </a:solidFill>
              <a:latin typeface="Times New Roman"/>
            </a:endParaRPr>
          </a:p>
        </p:txBody>
      </p:sp>
      <p:sp>
        <p:nvSpPr>
          <p:cNvPr id="20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SENS TIG motion and call for contribution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05"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graphicFrame>
        <p:nvGraphicFramePr>
          <p:cNvPr id="206" name=""/>
          <p:cNvGraphicFramePr/>
          <p:nvPr/>
        </p:nvGraphicFramePr>
        <p:xfrm>
          <a:off x="988920" y="3360600"/>
          <a:ext cx="7697880" cy="1897200"/>
        </p:xfrm>
        <a:graphic>
          <a:graphicData uri="http://schemas.openxmlformats.org/drawingml/2006/table">
            <a:tbl>
              <a:tblPr/>
              <a:tblGrid>
                <a:gridCol w="809640"/>
                <a:gridCol w="1752840"/>
                <a:gridCol w="4208400"/>
                <a:gridCol w="927000"/>
              </a:tblGrid>
              <a:tr h="46368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924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9/1725</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i Du (Huawei)</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ge Models for WLAN sensing</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40140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9/1726</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ihong Zhang (Huawei)</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Market Potential and Technical Feasibility about WLAN Sensing</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0340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0304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0340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0304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EAD62C-1C97-43F7-AF71-EE59F022D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TIG moti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2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rove formation of a WLAN sensing (SENS) TIG to investigate use cases, requirements, technical approaches and changes to the 802.11 standard to support WLAN sensing. </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IG is to bring a recommendation to the 802.11 WG at the November 2019 session to either</a:t>
            </a:r>
            <a:endParaRPr b="0" lang="en-US" sz="16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 with the TIG until the next session;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with no further work;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and request formation of a SG to develop a PAR and CSD</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d: Carlos Cordeiro</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onded: Jim Lansford</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123/0/8</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Broad Market Potential; Technical feasibility; Measurement and evaluation results; Technology and standardization gaps to support WLAN sensing; Any other business </a:t>
            </a:r>
            <a:endParaRPr b="0" lang="en-US" sz="18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1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D049BD-F357-4093-8330-887959607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0</a:t>
            </a:r>
            <a:endParaRPr b="0" lang="en-US" sz="3200" spc="-1" strike="noStrike">
              <a:solidFill>
                <a:srgbClr val="000000"/>
              </a:solidFill>
              <a:latin typeface="Times New Roman"/>
            </a:endParaRPr>
          </a:p>
        </p:txBody>
      </p:sp>
      <p:sp>
        <p:nvSpPr>
          <p:cNvPr id="21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SENS TIG motion and call for contribution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1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B9DD8E-26E8-4556-8401-01902900D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TIG moti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21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rove formation of a WLAN sensing (SENS) TIG to investigate use cases, requirements, technical approaches and changes to the 802.11 standard to support WLAN sensing. </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IG is to bring a recommendation to the 802.11 WG at the November 2019 session to either</a:t>
            </a:r>
            <a:endParaRPr b="0" lang="en-US" sz="16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 with the TIG until the next session;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with no further work;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and request formation of a SG to develop a PAR and CSD</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d: Carlos Cordeiro</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onded: Jim Lansford</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123/0/8</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Broad Market Potential; Technical feasibility; Measurement and evaluation results; Technology and standardization gaps to support WLAN sensing; Any other business </a:t>
            </a:r>
            <a:endParaRPr b="0" lang="en-US" sz="18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2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WLAN sensing TIG </a:t>
            </a:r>
            <a:br>
              <a:rPr sz="3600"/>
            </a:br>
            <a:endParaRPr b="1" lang="en-US" sz="3600" spc="-1" strike="noStrike">
              <a:solidFill>
                <a:srgbClr val="000000"/>
              </a:solidFill>
              <a:latin typeface="Times New Roman"/>
            </a:endParaRPr>
          </a:p>
        </p:txBody>
      </p:sp>
      <p:sp>
        <p:nvSpPr>
          <p:cNvPr id="143"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October 9, 30,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Tony Xiao Han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retary: Claudio da Silva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81389E-BDA8-48F2-A677-1F561DF9C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4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7E02ED-61E3-409B-B78C-85CE7DBF4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LAN sensing TIG agenda items for the teleconference calls on </a:t>
            </a:r>
            <a:r>
              <a:rPr b="1" lang="en-US" sz="2400" spc="-1" strike="noStrike">
                <a:solidFill>
                  <a:srgbClr val="0000ff"/>
                </a:solidFill>
                <a:latin typeface="Times New Roman"/>
              </a:rPr>
              <a:t>October 9 and 30, 2019</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15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5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F22A63-AC39-469B-B2BE-C21ABF035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3000"/>
          </a:bodyPr>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announce your affiliation when you first address the group during a meeting slot</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Phones to be silent or Off</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ndance recording procedures</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send an email to the addresses below to have your attendance recorded:</a:t>
            </a:r>
            <a:endParaRPr b="0" lang="en-US" sz="1600" spc="-1" strike="noStrike">
              <a:solidFill>
                <a:srgbClr val="000000"/>
              </a:solidFill>
              <a:latin typeface="Times New Roman"/>
            </a:endParaRPr>
          </a:p>
          <a:p>
            <a:pPr lvl="1" marL="69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Tony.hanxiao@huawei.com</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ation</a:t>
            </a:r>
            <a:endParaRPr b="1" lang="en-US" sz="18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mentor.ieee.org</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t>
            </a:r>
            <a:r>
              <a:rPr b="0" lang="en-US" sz="1600" spc="-1" strike="noStrike">
                <a:solidFill>
                  <a:srgbClr val="0000ff"/>
                </a:solidFill>
                <a:latin typeface="Times New Roman"/>
              </a:rPr>
              <a:t>SENS TIG/SG</a:t>
            </a:r>
            <a:r>
              <a:rPr b="0" lang="en-US" sz="1600" spc="-1" strike="noStrike">
                <a:solidFill>
                  <a:srgbClr val="000000"/>
                </a:solidFill>
                <a:latin typeface="Times New Roman"/>
              </a:rPr>
              <a:t>” for submission</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plan to make a submission, be sure it does not contain company logos or advertising</a:t>
            </a:r>
            <a:endParaRPr b="0" lang="en-US" sz="1600" spc="-1" strike="noStrike">
              <a:solidFill>
                <a:srgbClr val="000000"/>
              </a:solidFill>
              <a:latin typeface="Times New Roman"/>
            </a:endParaRPr>
          </a:p>
          <a:p>
            <a:pPr lvl="1" marL="690840" indent="-2656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ocuments are prepared by individuals, not companies</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s on Voting status, Ballot pool, Access to Reflector, Documentation,  Member’s Area</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ct Jon Rosdahl –  </a:t>
            </a:r>
            <a:r>
              <a:rPr b="0" lang="en-US" sz="1600" spc="-1" strike="noStrike" u="sng">
                <a:solidFill>
                  <a:srgbClr val="0066ff"/>
                </a:solidFill>
                <a:uFillTx/>
                <a:latin typeface="Times New Roman"/>
                <a:hlinkClick r:id="rId3"/>
              </a:rPr>
              <a:t>jrosdahl@ieee.org</a:t>
            </a:r>
            <a:endParaRPr b="0" lang="en-US" sz="1600" spc="-1" strike="noStrike">
              <a:solidFill>
                <a:srgbClr val="000000"/>
              </a:solidFill>
              <a:latin typeface="Times New Roman"/>
            </a:endParaRPr>
          </a:p>
        </p:txBody>
      </p:sp>
      <p:sp>
        <p:nvSpPr>
          <p:cNvPr id="15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Protocol, Attendance, Voting &amp; Document Status</a:t>
            </a:r>
            <a:endParaRPr b="0" lang="en-US" sz="2400" spc="-1" strike="noStrike">
              <a:solidFill>
                <a:srgbClr val="000000"/>
              </a:solidFill>
              <a:latin typeface="Times New Roman"/>
            </a:endParaRPr>
          </a:p>
        </p:txBody>
      </p:sp>
      <p:sp>
        <p:nvSpPr>
          <p:cNvPr id="15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5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757D68-2CE8-4C0B-BB78-2D0E30770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Gothic"/>
              </a:rPr>
              <a:t>  </a:t>
            </a:r>
            <a:r>
              <a:rPr b="1" lang="en-US" sz="2400" spc="-1" strike="noStrike">
                <a:solidFill>
                  <a:srgbClr val="000000"/>
                </a:solidFill>
                <a:latin typeface="Times New Roman"/>
                <a:ea typeface="MS Gothic"/>
              </a:rPr>
              <a:t>Following 5 slides</a:t>
            </a:r>
            <a:endParaRPr b="0" lang="en-US" sz="2400" spc="-1" strike="noStrike">
              <a:solidFill>
                <a:srgbClr val="000000"/>
              </a:solidFill>
              <a:latin typeface="Times New Roman"/>
            </a:endParaRPr>
          </a:p>
          <a:p>
            <a:pPr algn="just">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0" lang="en-US" sz="3200" spc="-1" strike="noStrike">
              <a:solidFill>
                <a:srgbClr val="000000"/>
              </a:solidFill>
              <a:latin typeface="Times New Roman"/>
            </a:endParaRPr>
          </a:p>
        </p:txBody>
      </p:sp>
      <p:sp>
        <p:nvSpPr>
          <p:cNvPr id="16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6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1DFDF7B-BD83-488A-BD57-857C344A66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16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68"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D88599C-DEC7-4339-8C4C-03ADFA8FE7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gn="just">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a:t>
            </a:r>
            <a:r>
              <a:rPr b="1" lang="en-US" sz="1800" spc="-1" strike="noStrike" u="sng">
                <a:solidFill>
                  <a:srgbClr val="0066ff"/>
                </a:solidFill>
                <a:uFillTx/>
                <a:latin typeface="Times New Roman"/>
                <a:hlinkClick r:id="rId1"/>
              </a:rPr>
              <a:t>patcom@ieee.org</a:t>
            </a:r>
            <a:r>
              <a:rPr b="1" lang="en-US" sz="1800" spc="-1" strike="noStrike">
                <a:solidFill>
                  <a:srgbClr val="000000"/>
                </a:solidFill>
                <a:latin typeface="Times New Roman"/>
              </a:rPr>
              <a:t>);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1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17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7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gn="just">
              <a:lnSpc>
                <a:spcPct val="80000"/>
              </a:lnSpc>
              <a:spcBef>
                <a:spcPts val="451"/>
              </a:spcBef>
              <a:spcAft>
                <a:spcPts val="901"/>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1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E6842F-1459-45F7-A623-ECAF1676F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8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82"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3"/>
              </a:rPr>
              <a:t>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a:t>
            </a:r>
            <a:r>
              <a:rPr b="1" lang="en-US" sz="1800" spc="-1" strike="noStrike" u="sng">
                <a:solidFill>
                  <a:srgbClr val="0066ff"/>
                </a:solidFill>
                <a:uFillTx/>
                <a:latin typeface="Times New Roman"/>
                <a:ea typeface="Calibri"/>
                <a:hlinkClick r:id="rId4"/>
              </a:rPr>
              <a:t>patcom@ieee.org</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1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CDB93E-C1A9-4212-A58F-F6C449003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8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89"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Hanxiao (Tony, CT Lab)</cp:lastModifiedBy>
  <cp:lastPrinted>2014-11-04T15:04:57Z</cp:lastPrinted>
  <dcterms:modified xsi:type="dcterms:W3CDTF">2019-10-08T02:27:34Z</dcterms:modified>
  <cp:revision>4174</cp:revision>
  <dc:subject>Task Group AY November 2015 Meeting Agenda</dc:subject>
  <dc:title>19/0543r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2)Q5RkLuYDr/zNr4SZcf+m6kPfpkB2weRTvxehFDQjn0r4Mn0xmeR915QCg0hBIPT9RPYXbypS
FB3v5SGg8U7DRqz+j72kroUXf+IpYpMqxnryTSNkGZcWmA2nfcUI+A5Dbp/m8UaG7mGXXjdd
3ZzESiZlm6fxxs4JlZnCLFK/fsidRGhxQ/tkLQcYaKb1CVJJFo8b83TQ2F84tYZ8cFmb+tP0
JYT+rm0Kx53ArSCXge</vt:lpwstr>
  </property>
  <property fmtid="{D5CDD505-2E9C-101B-9397-08002B2CF9AE}" pid="3" name="_2015_ms_pID_7253431">
    <vt:lpwstr>3YllQ10sQkY4UAYi/wiPdu8ovrVozgRBbWQ5r9C8typGynUMa5zgTn
nxqslj7GoNSWt1JHygB1pSMXKFK5JkKpWCGNmlcrg8zY/kuEN6WXMh/xj/3Ayidk2XMdvYKq
kZIsKphWa2cVEPpHTIvxg9Lx+Jy7HzKD0cK6uzsC/7l3RRX1JJbHmJswb1ElAAf/utk=</vt:lpwstr>
  </property>
  <property fmtid="{D5CDD505-2E9C-101B-9397-08002B2CF9AE}" pid="4" name="_change">
    <vt:lpwstr/>
  </property>
  <property fmtid="{D5CDD505-2E9C-101B-9397-08002B2CF9AE}" pid="5" name="_full-control">
    <vt:lpwstr/>
  </property>
  <property fmtid="{D5CDD505-2E9C-101B-9397-08002B2CF9AE}" pid="6"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7"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8"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9" name="_ms_pID_72534310_00">
    <vt:lpwstr>_ms_pID_72534310</vt:lpwstr>
  </property>
  <property fmtid="{D5CDD505-2E9C-101B-9397-08002B2CF9AE}" pid="10" name="_ms_pID_72534311">
    <vt:lpwstr>w8PjNg==</vt:lpwstr>
  </property>
  <property fmtid="{D5CDD505-2E9C-101B-9397-08002B2CF9AE}" pid="11" name="_ms_pID_72534311_00">
    <vt:lpwstr>_ms_pID_72534311</vt:lpwstr>
  </property>
  <property fmtid="{D5CDD505-2E9C-101B-9397-08002B2CF9AE}" pid="12" name="_ms_pID_7253431_00">
    <vt:lpwstr>_ms_pID_7253431</vt:lpwstr>
  </property>
  <property fmtid="{D5CDD505-2E9C-101B-9397-08002B2CF9AE}" pid="13"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4" name="_ms_pID_7253432_00">
    <vt:lpwstr>_ms_pID_7253432</vt:lpwstr>
  </property>
  <property fmtid="{D5CDD505-2E9C-101B-9397-08002B2CF9AE}" pid="15"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6" name="_ms_pID_7253433_00">
    <vt:lpwstr>_ms_pID_7253433</vt:lpwstr>
  </property>
  <property fmtid="{D5CDD505-2E9C-101B-9397-08002B2CF9AE}" pid="17"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8" name="_ms_pID_7253434_00">
    <vt:lpwstr>_ms_pID_7253434</vt:lpwstr>
  </property>
  <property fmtid="{D5CDD505-2E9C-101B-9397-08002B2CF9AE}" pid="19"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20" name="_ms_pID_7253435_00">
    <vt:lpwstr>_ms_pID_7253435</vt:lpwstr>
  </property>
  <property fmtid="{D5CDD505-2E9C-101B-9397-08002B2CF9AE}" pid="21"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2" name="_ms_pID_7253436_00">
    <vt:lpwstr>_ms_pID_7253436</vt:lpwstr>
  </property>
  <property fmtid="{D5CDD505-2E9C-101B-9397-08002B2CF9AE}" pid="23"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4" name="_ms_pID_7253437_00">
    <vt:lpwstr>_ms_pID_7253437</vt:lpwstr>
  </property>
  <property fmtid="{D5CDD505-2E9C-101B-9397-08002B2CF9AE}" pid="25"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6" name="_ms_pID_7253438_00">
    <vt:lpwstr>_ms_pID_7253438</vt:lpwstr>
  </property>
  <property fmtid="{D5CDD505-2E9C-101B-9397-08002B2CF9AE}" pid="27"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8" name="_ms_pID_7253439_00">
    <vt:lpwstr>_ms_pID_7253439</vt:lpwstr>
  </property>
  <property fmtid="{D5CDD505-2E9C-101B-9397-08002B2CF9AE}" pid="29" name="_ms_pID_725343_00">
    <vt:lpwstr>_ms_pID_725343</vt:lpwstr>
  </property>
  <property fmtid="{D5CDD505-2E9C-101B-9397-08002B2CF9AE}" pid="30" name="_readonly">
    <vt:lpwstr/>
  </property>
  <property fmtid="{D5CDD505-2E9C-101B-9397-08002B2CF9AE}" pid="31" name="sflag">
    <vt:lpwstr>1570497446</vt:lpwstr>
  </property>
</Properties>
</file>