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BEF641D-AD94-4B73-A760-FAF655B225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AA618C-137D-4460-B4C9-84182902F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2E7EF3-FEAD-4B6B-B2CA-EDB3D0704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B5C96B-DF1E-4751-976F-9A307239E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7D861D-5FF6-419D-8470-2E054DB76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01D455B-668E-4584-8065-C8899C8417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5D5F30D-4314-4148-AF1E-1FE3CDA56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3618C0F-3461-4F34-9181-EC37B5A27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E36D417-F99A-4BA0-BCFA-15247139A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CFC727-382C-4F7A-89B4-F80B03793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3437E0-76F8-44BC-B2A3-7B37C7F9B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564C06-95A3-4ED0-ABFB-7A2BE9953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D12AD-E412-4579-9B6D-D0BA307E7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42867-1DB8-46A8-822F-983BEB0B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D5DDC6-8B0F-45DE-AA89-75644CFFC4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C3CF9-7F77-41F5-9620-65EEEA300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E942C-BF5C-42C3-804C-3DB904C922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5D719-B790-4A52-BD51-B07725CFB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0CEF0-829D-425C-8465-C50437DAD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1C76C-3384-4AC1-8C87-D759BC63D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77D3DF-A0EE-4DCB-AF0E-D09F86BBD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FAA27C-2710-4110-A0DB-CDD2D58151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BB3642-4271-419D-8D24-A3316701BD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D4D57E-A4EC-4907-8E9B-F8577E874C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F6797-E3BC-488C-AEDB-B3F72F7A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C19BA4-B7BE-4C36-8C0E-BD6116D6B2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D30686-B527-4D87-92FF-8D086182DD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D40C15-E43B-4DB8-8DD5-2AD006302B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591ABC-FD8D-4AA6-BD65-D5564208DF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0ED871-1230-4AF5-BEF6-AAEBD55B86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51073D-279B-4C4C-BD47-82F0156A60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E594B2-2698-485C-81D7-912BF45DE5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CC44D-8C04-4139-A064-6E30616CD6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10A174-514E-47B2-BD23-DEA8C9EACF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1D914F-F4FA-46B5-BA67-E5785CF14E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8F200-1AA7-4124-9FD5-20940BE2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CF7136-C580-419C-9B27-959A421B49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20CFE0-EE20-4170-B940-8562331498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89E329-7381-43FA-BDBA-73F738223F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87E4A8-99A1-4D2D-BEAF-805667A4EE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2009C2-A4B6-4776-BCFC-FCCB48533D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218471-F861-4CE2-B9F6-54685EBD5E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B66FE7-ADFC-47FC-B284-F1A6CA195F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3152A8-E67A-40AA-8594-FF8479A332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E9BDCA-4B9F-494D-8A1F-DD0D33E529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0A92A-D5FD-4C9E-89CA-5B6FBB507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8022D-4C61-4E6C-9DFE-AF247D3D6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9BC46A-C2F0-4518-9678-19E0615804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AF5980-4F09-4E6B-A83F-28B95E2AF8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BB2666-80CA-402C-B8B8-D084560B0C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A3FBE7-106D-4981-B258-20EAA50C6C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40AB60-AB5B-4FEB-AA39-28BEAD8498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B17028-3002-4517-8D92-A0BEB4FCF9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5F197E-D891-45F1-8193-35269F6503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72FFB9-C7BD-4EEB-972C-61A2C4DF56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C8281F-48EE-4CA9-926C-E285EB0567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297868-785F-4106-9F51-F1AE9CF25F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883AF-B66D-4858-AF6C-769D81E64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82E7EF-8FB1-429B-ABD9-906B5781E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CE46DD-0A75-42CB-B23E-092317FA24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38B25F-4806-4395-B766-34479EE0FF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C2E5E0-527B-4577-93B1-67CBAECAC1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6D227A-AD56-4D2E-8848-849A18069D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23648-F340-4BFA-A0A7-172B20684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E0723-3F3B-4D44-87EC-84271D465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8D6FD-6FBA-419A-BE50-348849178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51991-73E2-48D0-843E-B48BD3C01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8340-EBA0-486F-A1FE-A90AC55D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7F30-7E4B-447F-AE54-142E4F94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342C9-FDE0-47E3-8A0F-9E3A60818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869C9-39D8-4EC5-9DD5-1589F5359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067FD-4151-4CDA-BF5C-F02D0F5D0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6DB87-1917-4A88-BA1A-87FF48D60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E7EA9-981D-47A8-A0BA-DEE9BE8F9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51F4AD-5ADC-4A89-B975-2E5740059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C47E0-A3E3-4E34-ABC3-3E6A393FC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2FBCB-876A-4020-9FB7-3BE0BFC26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BA836-AAB6-4979-85FB-B0D35510D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05819-567D-4887-A403-5DD939BA8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0DCF8-1E0E-42AA-9F8E-403C2166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6ECDF-91E7-41EB-BABD-BAD517265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F82C5-3695-4765-BC34-51D3A48C3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70BEC-7CA2-444D-A546-71CB2DEF9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0EB45-0BA0-4C99-978C-40374DD9B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5C3E2-4674-4E32-BC61-DB9355BE2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E0D6A-2495-47D2-B54F-C3D495EFF2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0F4973-F969-4393-B374-EC82B60B1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76955C-53B6-4012-A661-E25A748EB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C96AAB-AF70-46D6-B1CA-76D2DCE42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FB168C-7F24-44FB-992A-38A87EC9B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3787F-89EF-4E15-A13F-DE0EC87A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2B47D-070C-449A-AAF0-7DBE617FA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5EB2C-7BD1-45C8-BD31-851D5E68E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ED715-E5B4-40CC-B427-8F1AF0E90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0B5C7-25A9-44C9-877E-95A2E0A85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AD0F7-A452-4DD2-BEC5-53F38C707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417E7-EF85-4562-A5EA-CCC469214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79320-13D9-4EA9-AD16-698BFBBB9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51B01C-B703-48FF-A638-286BBFDA57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49FB9E-767C-47E2-A884-1E3A669785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BCE1BE-8971-451D-81CF-D48FCB3E8A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2975-9A00-4D10-8E78-CE7A24FFD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C804E-0514-44A9-A943-FB7495758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BEA82-D151-4528-A215-ED662443B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49069-53D3-48C9-9C56-E7F0F45FA4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06717-D149-4DF1-9CD0-74651A0AE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16AAE-2A2A-45DE-A56D-4AD66A848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AF6FF-BD96-4A79-B016-851C56D13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C704F-676D-45B0-AFF6-C97268C4B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94E62-8263-481D-B263-64348DB35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9F3B4-F491-43F0-8987-1417907F5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44CC9-B28B-43FA-BC89-EB9D66AE79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EB301-7B5B-470A-A6B1-13EA75B9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96134A-4B1A-40CD-AB6E-3943CB7E1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14CE6-217C-44CF-9B40-12B3F61C5F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8332D-531C-4A3B-AC11-61ACE322D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14CD2-2450-4895-8747-BD7BB123F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B05D9-CBDB-436E-8696-5C8F45F5C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2809E-5B51-48CF-8805-BD5AD84E1B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A7D42-4BD6-4B73-8E42-BF97CF3B9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FA1A1-46EF-4B8B-8047-06BE5B0A2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653D9-97C1-4798-8E04-3BCB216B4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AC13D-BF92-4736-B7FA-663492105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CFDE-584E-4A53-B288-64E50DC6C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090DE-4278-44B6-9E89-CDE0D3678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827DAC-19D3-4408-8B0A-D44BD18FB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6D940-6725-4730-933E-5110A966A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4EE72B-CDF2-4B4B-A800-2B8B063243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33681-A0F8-4A3F-ABF2-78CE9169F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3BEF2-8B6B-4418-881C-A6B23A433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AFED5-BB86-40AA-ABE0-D557353EA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96DF8-E2E7-416C-A163-BA3B2E93D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9E75C-BDCB-4A8A-B904-41327D8A9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8900F-9126-45D2-B54F-A7B8E69FD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860F-3CD6-4BC2-A01B-60047038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8767C-F1EE-4CBB-91F8-A476CAAF8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EE14F-7A53-470A-9951-EC7A41583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413CE-2189-4A70-BBAA-682194232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622388-B3EA-4F50-9863-41DC297350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160F38-244B-4C9C-BEFA-913309CCE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95522-2D11-44D8-A376-EFFAF97444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59D2D-EE3D-41DF-B4F8-021EB43EF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259FD-8FBA-4DAA-B09B-0A781E2C2F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2A6D1-38EE-437F-BE51-063A20D1C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A4981A-3D52-44F6-AEF5-85C704E04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FAC2-1490-48A1-ADC9-B7DAA3CD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63CA48-66D8-4885-9538-23AD30746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07007-E0B7-4B43-B1B7-8852C2854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74EED-8185-4858-87CC-00BC89FD1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457FF-46C4-4A31-8D8C-3A524F242C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B2E490-376F-46D4-A501-E0C660084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1E3BDD-6C41-434F-B4E9-6B35D17633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37922-D45C-4516-A041-5DA9803392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4FE6A7-63A0-4F38-B490-0707C59546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D5A9C-3875-4BBE-9877-C4ACEC5A0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D90B9-3DE7-4BB4-BB54-0B04D6215A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C7833A-F838-490A-968C-B6868BC12E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B0AACF2-E203-4BB5-91B4-632CB4325C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7F5B0E-2596-407E-9966-1882E61537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E2EE84-1C70-4CC8-B6AA-4B2C3CB370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810E34-46D2-4930-97D6-8D6CC93242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0E69DC-2934-4C96-9232-358627166C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3ADBA9-3BC2-47CD-B9C1-CCBC10ACED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D58302-2020-4F3C-A5DE-99AA42FCD0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CC0829-4861-4C8C-9999-586B75E2CF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44492F-BDBF-4C46-9ED4-5B9841DD62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F653B0-9EE3-4690-BF59-4A0EB0B355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2D037F-0F38-40FA-86D6-81FAC393FB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 TargetMode="External"/><Relationship Id="rId2" Type="http://schemas.openxmlformats.org/officeDocument/2006/relationships/hyperlink" Target="https://standards.ieee.org/about/policies/opman" TargetMode="External"/><Relationship Id="rId3" Type="http://schemas.openxmlformats.org/officeDocument/2006/relationships/hyperlink" Target="https://standards.ieee.org/about/policies/opman" TargetMode="External"/><Relationship Id="rId4" Type="http://schemas.openxmlformats.org/officeDocument/2006/relationships/hyperlink" Target="http://standards.ieee.org/about/sasb/patcom/materials.html" TargetMode="External"/><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C120C3-767B-471E-9035-6AC751FA5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eptember 4,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9-0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1E32A7-22D1-4947-B15D-C7EBC9FAF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update:  D4.1 is posted</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5 is updated from Accepted to Revised with the following resolution:  Replace Table 9-234 with Table 9-256.</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6 is updated from Accepted to Revised with the following resolution:  Replace Table 9-235 with Table 9-257.</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otion will be considered in the September interim for these updates.</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67r0,</a:t>
            </a:r>
            <a:r>
              <a:rPr b="0" lang="zh-CN" sz="1400" spc="-1" strike="noStrike">
                <a:solidFill>
                  <a:srgbClr val="000000"/>
                </a:solidFill>
                <a:latin typeface="Times New Roman"/>
              </a:rPr>
              <a:t> </a:t>
            </a:r>
            <a:r>
              <a:rPr b="0" lang="en-GB" sz="1400" spc="-1" strike="noStrike">
                <a:solidFill>
                  <a:srgbClr val="000000"/>
                </a:solidFill>
                <a:latin typeface="Times New Roman"/>
              </a:rPr>
              <a:t>Revised resolution of CID5061</a:t>
            </a:r>
            <a:r>
              <a:rPr b="0" lang="en-US" sz="1400" spc="-1" strike="noStrike">
                <a:solidFill>
                  <a:srgbClr val="000000"/>
                </a:solidFill>
                <a:latin typeface="Times New Roman"/>
              </a:rPr>
              <a:t>, Solomin Trainin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40r0,</a:t>
            </a:r>
            <a:r>
              <a:rPr b="0" lang="zh-CN" sz="1400" spc="-1" strike="noStrike">
                <a:solidFill>
                  <a:srgbClr val="000000"/>
                </a:solidFill>
                <a:latin typeface="Times New Roman"/>
              </a:rPr>
              <a:t> </a:t>
            </a:r>
            <a:r>
              <a:rPr b="0" lang="en-US" sz="1400" spc="-1" strike="noStrike">
                <a:solidFill>
                  <a:srgbClr val="000000"/>
                </a:solidFill>
                <a:latin typeface="Times New Roman"/>
              </a:rPr>
              <a:t>Proposed resolution to CID 5058, Solomin Trainin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for the September interim</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fer to keep Tuesday AM2, and cancel Wednesday AM1, if all CIDs are resolved by this call</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ntribution.</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draft readiness for the third recirculation WG letter ballot.</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eptember 4,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2BA77F-BBAE-4067-92A7-F5013A71F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9AD7DB-9ABB-4B63-B50D-8EE3515F3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September 4,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8DB9453-DC13-4399-B660-53684143D2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F5602D9-2A14-4017-9BDA-296B12BB85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CC97CE-4222-410C-AC9A-CAD8C1D41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a:t>
            </a:r>
            <a:r>
              <a:rPr b="1" lang="en-US" sz="1800" spc="-1" strike="noStrike" u="sng">
                <a:solidFill>
                  <a:srgbClr val="0066ff"/>
                </a:solidFill>
                <a:uFillTx/>
                <a:latin typeface="Times New Roman"/>
                <a:hlinkClick r:id="rId3"/>
              </a:rPr>
              <a:t>standards.ieee.org/about/policies/opman</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4"/>
              </a:rPr>
              <a:t>http://standards.ieee.org/about/sasb/patcom/material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054CA4-E3F4-402F-A929-6EA91C1F7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A1F2B7C-C20A-4344-A868-E21ECF19A0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a:t>
            </a:r>
            <a:r>
              <a:rPr b="0" lang="en-US" sz="1200" spc="-1" strike="noStrike">
                <a:solidFill>
                  <a:srgbClr val="000000"/>
                </a:solidFill>
                <a:latin typeface="Times New Roman"/>
              </a:rPr>
              <a:t> section 5.2.1)</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2776F-C3A7-4C06-BF49-8FC6A355A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September 4 2019</cp:keywords>
  <dc:language>en-US</dc:language>
  <cp:lastModifiedBy>Edward Au</cp:lastModifiedBy>
  <cp:lastPrinted>2014-11-04T15:04:57Z</cp:lastPrinted>
  <dcterms:modified xsi:type="dcterms:W3CDTF">2019-09-03T16:49:51Z</dcterms:modified>
  <cp:revision>4220</cp:revision>
  <dc:subject>Task Group AY November 2015 Meeting Agenda</dc:subject>
  <dc:title>19/1476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