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FAE47A6D-DF39-42E6-A389-B527F91CE6A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C04569C-5F77-4737-A1A4-33C3C9EEEC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54160" y="701640"/>
            <a:ext cx="4626000" cy="3468600"/>
          </a:xfrm>
          <a:prstGeom prst="rect">
            <a:avLst/>
          </a:prstGeom>
          <a:ln w="0">
            <a:noFill/>
          </a:ln>
        </p:spPr>
      </p:sp>
      <p:sp>
        <p:nvSpPr>
          <p:cNvPr id="6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4160" y="701640"/>
            <a:ext cx="4626000" cy="3468600"/>
          </a:xfrm>
          <a:prstGeom prst="rect">
            <a:avLst/>
          </a:prstGeom>
          <a:ln w="0">
            <a:noFill/>
          </a:ln>
        </p:spPr>
      </p:sp>
      <p:sp>
        <p:nvSpPr>
          <p:cNvPr id="6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8F4D20F-A9A5-49DB-BFC3-AFCE15504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54160" y="701640"/>
            <a:ext cx="4626000" cy="3468600"/>
          </a:xfrm>
          <a:prstGeom prst="rect">
            <a:avLst/>
          </a:prstGeom>
          <a:ln w="0">
            <a:noFill/>
          </a:ln>
        </p:spPr>
      </p:sp>
      <p:sp>
        <p:nvSpPr>
          <p:cNvPr id="6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47654BF-E578-4BAA-AB1D-6733A4BEB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6A45950-A50B-4DB1-B8FC-F35AB3A48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54160" y="701640"/>
            <a:ext cx="4626000" cy="3468600"/>
          </a:xfrm>
          <a:prstGeom prst="rect">
            <a:avLst/>
          </a:prstGeom>
          <a:ln w="0">
            <a:noFill/>
          </a:ln>
        </p:spPr>
      </p:sp>
      <p:sp>
        <p:nvSpPr>
          <p:cNvPr id="6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062C3B9D-1559-4141-BEC2-FC32DB1A4B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1147680" y="696960"/>
            <a:ext cx="4640400" cy="3479760"/>
          </a:xfrm>
          <a:prstGeom prst="rect">
            <a:avLst/>
          </a:prstGeom>
          <a:ln w="0">
            <a:noFill/>
          </a:ln>
        </p:spPr>
      </p:sp>
      <p:sp>
        <p:nvSpPr>
          <p:cNvPr id="63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3"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D7FFF3A-9D03-4447-9415-C643E8D9CC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47680" y="696960"/>
            <a:ext cx="4640400" cy="3479760"/>
          </a:xfrm>
          <a:prstGeom prst="rect">
            <a:avLst/>
          </a:prstGeom>
          <a:ln w="0">
            <a:noFill/>
          </a:ln>
        </p:spPr>
      </p:sp>
      <p:sp>
        <p:nvSpPr>
          <p:cNvPr id="63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E56312E-2DE7-4AF4-859E-0FF1355824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154160" y="701640"/>
            <a:ext cx="4626000" cy="3468600"/>
          </a:xfrm>
          <a:prstGeom prst="rect">
            <a:avLst/>
          </a:prstGeom>
          <a:ln w="0">
            <a:noFill/>
          </a:ln>
        </p:spPr>
      </p:sp>
      <p:sp>
        <p:nvSpPr>
          <p:cNvPr id="6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69DF3B2-00F3-401E-AA0A-49629637D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54160" y="701640"/>
            <a:ext cx="4626000" cy="3468600"/>
          </a:xfrm>
          <a:prstGeom prst="rect">
            <a:avLst/>
          </a:prstGeom>
          <a:ln w="0">
            <a:noFill/>
          </a:ln>
        </p:spPr>
      </p:sp>
      <p:sp>
        <p:nvSpPr>
          <p:cNvPr id="6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44"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45"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4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DD496C-D2F8-4995-8EDC-C35ACD74C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54160" y="701640"/>
            <a:ext cx="4626000" cy="3468600"/>
          </a:xfrm>
          <a:prstGeom prst="rect">
            <a:avLst/>
          </a:prstGeom>
          <a:ln w="0">
            <a:noFill/>
          </a:ln>
        </p:spPr>
      </p:sp>
      <p:sp>
        <p:nvSpPr>
          <p:cNvPr id="64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6E807B-2AE1-4283-9CB6-FF3716B6F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5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5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5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3081057-443E-4E56-8CCE-868EE736E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54160" y="701640"/>
            <a:ext cx="4626000" cy="3468600"/>
          </a:xfrm>
          <a:prstGeom prst="rect">
            <a:avLst/>
          </a:prstGeom>
          <a:ln w="0">
            <a:noFill/>
          </a:ln>
        </p:spPr>
      </p:sp>
      <p:sp>
        <p:nvSpPr>
          <p:cNvPr id="6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EA00A-F702-402D-8892-8B40FE72E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C83A6-5A83-48FA-8F2E-D6E4F90B0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032364-0DCB-474E-87AB-D6CC784AF5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94EDF0-7731-4AF9-B16A-C203403334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9FDF1A-1893-48FC-9226-ACD9C165AF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C634DC-4872-4C3C-8519-25320CC7B7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D889B5-FAF8-4B05-997D-52903074A3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E0AC62-D0F2-43E9-83A1-68FCB719DD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B7AB0C-8C4B-4F8B-A3F2-83CC30B5F5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CB6006-902C-4FFE-81AF-9E9B7E5050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8CB56C-E60C-4F3E-9ADD-DBF0D261E2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9DD5FA6-DA99-4BFA-80DF-18A7F4B6437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BBBEC-B51B-46F7-9A1E-22C7C732E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F06581-F62E-43EB-96AC-C5D15DB1DC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00D3D38-4964-46CE-8DC1-4BC460D380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FB9ADC-2098-4A1E-B4E5-FE9D463C0F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5D8EA4-C0E6-49B2-BA02-C647383983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A49981-E48D-4DD9-BAD8-F47F9BEF32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7485DD-9818-4079-AF0D-6A08B8BF1E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FE44D8-B356-4B26-B638-9A203EF9BA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6E4B5B-0B11-4B60-B1B3-894AE540FE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2EB914-FA2C-4A66-8519-905045941C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CF3CC45-9943-4205-BB0E-D35C23DAE61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C3A9C-80A8-43F9-8525-F1F4206F6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425AE8A-0C7E-4A5A-AB6B-A41A2ECC5D8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9C054D6-3CBB-41C2-A7AD-6037C6C1068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8D032D-DDAC-40B1-8395-E684BFA147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79F8F5-69FA-4A84-8B79-E863D5BDBE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D892AF-C66D-4BAC-96D1-D2DD190247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77229BA-7204-407B-926F-E9CE6740F0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6BA1665-E1B7-4F46-AABB-29409139C0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A41EE4-9BF9-4E92-A62E-6EFF735B71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8DD8AE-8E06-4E7E-8C13-CCA129E0B2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FC1B7A-7030-410E-9BD5-E6C2DB0400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DF0995-125A-4ABF-88BF-475BB71F5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34096F-A237-48D0-94D9-9B4BC366C8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F8E04FA-C947-42AB-92E2-C1FFFEACA3D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3E8BCB8-8D85-4F5E-A631-67ADDC63ABC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61CD0A2-556A-495A-AA27-43DAD79A954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EB9252-3586-42C2-9804-E8B857D7C3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8DD7B5-D328-4FAE-9ACC-D6CE6F6ADB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02CA50-48D7-48B0-9EEF-32F029E011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2C9ED1-9DD1-49F6-BB37-C2527496052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A290F3-7B8F-45DB-B6C5-DFA8BB4390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ECFBB6-FB21-4404-BF40-945C1B2BAE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25A69-BD50-4C0D-81E7-63EADFDED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2B562A-6A92-438F-B193-B779BCF472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53F2F6-5A1C-4E35-B8D7-8B7B93568C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F53B81-F342-4CAC-AB0C-ED5F77A2A6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5DF1CE0-E434-4EC6-9711-FA2219FCB09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647E147-66E5-4C57-8743-51141B74786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405D6-6C1A-463F-B98E-24AF760DE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3AA64-0D02-49F1-8167-5AA21A2DC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1C058-174E-4A67-9496-4399480B1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D0736-93C5-43C5-A429-102880AE8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27BAD-64FD-4406-A530-CAC2AEFE0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CDB87-822B-489F-9D25-2566E1F4F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153AE-4ED8-4B75-92E1-5CD77483B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6D584-89BD-49C6-AB27-14F7325F5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24708-E508-44A2-9259-8E9DBB11E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997C37-D3C6-475F-9DF0-E057EBE74A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1A8D36-B995-4D48-82BF-8BF7C901AD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26D4D1-013C-40E0-87C4-9D23C5BD34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C1EF48-E7D4-448B-B809-C14BF2FF04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1A66F7-236A-4A46-939D-1C2F5E4D15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D6A13D-A4E3-4514-9550-6A734F48BF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85F5A5-59A1-40BC-8C07-9928DD3F19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DCE7D-0FB6-4AFA-9FA4-0370996F6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214E78-0B3B-4354-9EF1-D1ACB56BA2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5DF461-3B8F-4E85-A2E4-8B095AFA4B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E9D7D3-1B75-4C4C-AB0B-3CC9D324F1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76CB55-6E11-407C-A1F9-F4435819C3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999740-63FB-4367-8964-536EA73FA2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ED1823-3FB5-4B01-82F1-31AD9EB6D3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3258BB-5894-45BC-A275-CAD16CBF7D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A00150-513C-4938-8FB9-736351250F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58B392-E015-4976-8540-AA6BBC2118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F6DD2D-EC69-47B7-907C-D765EBDD3F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2AD24-E33F-4A01-B410-19BD56E9D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E7F25D-AFE7-4C94-A721-B258224EA2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8746C6-380A-43E9-9EB3-0755ED84BE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2A97F1-0045-4042-9D71-43B1305201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85CE40-1329-4819-8B10-53964D1456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7ABC19-1E73-4C69-A443-0E3CF6A0B4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DA7571-0AF3-4486-9649-6C1D05B71F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748911-4020-485E-8D82-CC22676E11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929591-A825-44D0-9EEF-1353AC14A8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1DCADE-6597-4B54-8C46-6A7A8220B1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D88BA7-F7DC-4C93-AB7A-D28E79DA5C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AAD9C-B1BE-4DDC-9E9A-041664C11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6E985E-E077-45DA-BEC1-4A812026E3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24B668-1B44-45E2-9519-453B215CBD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DE210E-ACAB-4523-8392-0FD7CDEC4A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909778-221D-4604-BAE4-380C5B2186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CD1A81-20A5-4201-9A8C-10D2AB4E16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879D4D-9296-4E2E-ACAB-AE947A57E9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90CA58-3FEB-46AA-BD60-4B57EEBF08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0908D3-6FFB-4156-B557-EAD2239364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DB1E99-45A2-4877-9CB0-156FD8482E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35B361-21CF-49E8-9F0D-C38F09AA78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035F1-B49D-4A51-A607-4271FECCA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7171F5-2421-4710-9F59-00053DC0C2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7B7FCF-30AA-4EAB-9A55-3F35ABE161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105F8A-EC6C-4E74-8108-62D2154816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C73CD8-B927-4FE4-9078-EBFF97676B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EC2766-4450-4BE3-8942-D5155BD3DE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7ED6C9-DA16-4E69-A9BC-214269D555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C45B6E-00FA-4B12-80E6-27D516304D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E03D5C-3AA0-4D46-9B26-4793B34B4A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CCA307-4EA8-4A2F-B39D-AA0F57B556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96ECCC-A220-4C80-8AB8-5A5D538336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561C0-70A7-4978-92D7-2A53D54D9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A442C6-A9F2-413C-985D-C1458E42B2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E8BB2A-0BF0-447F-92AD-CA4F620844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2C81F7-7BFA-46A5-BD41-52680EAABF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EBBD44-ABBC-4D69-9CD5-E2D4D3DFFA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1BF667-A0C2-4B53-B517-AAD71D468C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1CC096-171D-4205-BC3A-99D541B95B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F68C7E-0E1E-4EB8-A47E-AE343016D3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585C3A-86DE-4CAF-B134-AB154A9D01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EC5560-1FBE-4DAD-8D37-E641F4B04E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6890DB-C8B6-4209-96E1-4BB9ECD484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059CE-163D-449D-BF31-FE3C12D7F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044C0A-B195-499C-B65B-1057024EE8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43FBD1-33CA-44D0-B432-563BF9E300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20072F-F074-4653-B134-53D638FF65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CEDE97-AD46-4234-80E1-71168ADA53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E011CE-AD7A-4550-8145-878ED043F8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284E63-54B0-4430-B059-E2FF140FAF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3326B1-913A-44BA-BCD1-14A3BF8235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8491F7-CC2A-493B-9E46-59E4DD38BA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3D456C-81BF-4437-A090-60DF1E07E0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098340-D724-4EA3-B3BD-02193599CC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1AC75-81CA-48ED-8BA1-815E42A1F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581729-6321-4CF5-A87E-C287D81E9C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9BDF44-196F-45BF-805D-27E03394C2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B6908B-6F7E-4526-9D11-93E76E5A52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8EB49C-DB82-4888-B7BA-1D0A601C57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16951D-6336-4A68-A2FB-643AF5F188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E1A12F-F38F-4841-8552-844E6F911B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26E887-DF81-45F3-88C8-B0FF3F78D2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5F00D4-5736-4243-9AD8-7AB6584642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853982-B711-4246-9132-B5CF2AEF11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44DEDB-7237-4909-AE07-68912484BB8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CA312AD-0745-4CFC-8435-C3C5BDFBF7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1C42A82-1F3E-441B-BA63-0C2A22DFEF3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6CDA546-144A-4B74-816D-84568E01674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CD48109-FEDF-43EC-A4F9-368D82DB1A8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AAD345E-F947-4B4D-913A-8D746C8C90C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CF2FF91-7621-4EFA-BE20-FDA6B80356A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99250DC-7157-43AC-BB2B-518435952E4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BC6DECD-14DE-4A10-BBAF-A81FD83E5C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28B26C7-7687-47D2-819D-E25E091C281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94F7100-D29B-4B22-BF5E-E56D3CE97C0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05258C5-5BB6-4E0A-BD80-D3317F1068C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476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74EC393-FD15-4F5C-8E28-B855E842D87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 TargetMode="External"/><Relationship Id="rId2" Type="http://schemas.openxmlformats.org/officeDocument/2006/relationships/hyperlink" Target="https://standards.ieee.org/about/policies/opman" TargetMode="External"/><Relationship Id="rId3" Type="http://schemas.openxmlformats.org/officeDocument/2006/relationships/hyperlink" Target="https://standards.ieee.org/about/policies/opman" TargetMode="External"/><Relationship Id="rId4" Type="http://schemas.openxmlformats.org/officeDocument/2006/relationships/hyperlink" Target="http://standards.ieee.org/about/sasb/patcom/materials.html" TargetMode="External"/><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9B252A-460A-4733-A392-2C25DEEFC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6094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eptember 4, 2019, </a:t>
            </a:r>
            <a:br>
              <a:rPr sz="3200"/>
            </a:br>
            <a:r>
              <a:rPr b="1" lang="en-US" sz="3200" spc="-1" strike="noStrike">
                <a:solidFill>
                  <a:srgbClr val="000000"/>
                </a:solidFill>
                <a:latin typeface="Times New Roman"/>
              </a:rPr>
              <a:t>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9-04</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5AFDBF-29E2-46D2-8124-1A4BC6EBF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523880"/>
            <a:ext cx="7772400" cy="472464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update:  D4.1 is posted</a:t>
            </a:r>
            <a:endParaRPr b="0" lang="en-US" sz="20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resolution for CID 5005 is updated from Accepted to Revised with the following resolution:  Replace Table 9-234 with Table 9-256.</a:t>
            </a: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resolution for CID 5006 is updated from Accepted to Revised with the following resolution:  Replace Table 9-235 with Table 9-257.</a:t>
            </a: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motion will be considered in the September interim for these updates.</a:t>
            </a:r>
            <a:endParaRPr b="0" lang="en-US" sz="14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1467r0,</a:t>
            </a:r>
            <a:r>
              <a:rPr b="0" lang="zh-CN" sz="1400" spc="-1" strike="noStrike">
                <a:solidFill>
                  <a:srgbClr val="000000"/>
                </a:solidFill>
                <a:latin typeface="Times New Roman"/>
              </a:rPr>
              <a:t> </a:t>
            </a:r>
            <a:r>
              <a:rPr b="0" lang="en-GB" sz="1400" spc="-1" strike="noStrike">
                <a:solidFill>
                  <a:srgbClr val="000000"/>
                </a:solidFill>
                <a:latin typeface="Times New Roman"/>
              </a:rPr>
              <a:t>Revised resolution of CID5061</a:t>
            </a:r>
            <a:r>
              <a:rPr b="0" lang="en-US" sz="1400" spc="-1" strike="noStrike">
                <a:solidFill>
                  <a:srgbClr val="000000"/>
                </a:solidFill>
                <a:latin typeface="Times New Roman"/>
              </a:rPr>
              <a:t>, Solomin Trainin (Qualcomm)</a:t>
            </a:r>
            <a:r>
              <a:rPr b="0" lang="zh-CN" sz="1400" spc="-1" strike="noStrike">
                <a:solidFill>
                  <a:srgbClr val="000000"/>
                </a:solidFill>
                <a:latin typeface="Times New Roman"/>
              </a:rPr>
              <a:t> </a:t>
            </a: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1440r0,</a:t>
            </a:r>
            <a:r>
              <a:rPr b="0" lang="zh-CN" sz="1400" spc="-1" strike="noStrike">
                <a:solidFill>
                  <a:srgbClr val="000000"/>
                </a:solidFill>
                <a:latin typeface="Times New Roman"/>
              </a:rPr>
              <a:t> </a:t>
            </a:r>
            <a:r>
              <a:rPr b="0" lang="en-US" sz="1400" spc="-1" strike="noStrike">
                <a:solidFill>
                  <a:srgbClr val="000000"/>
                </a:solidFill>
                <a:latin typeface="Times New Roman"/>
              </a:rPr>
              <a:t>Proposed resolution to CID 5058, Solomin Trainin (Qualcomm)</a:t>
            </a:r>
            <a:r>
              <a:rPr b="0" lang="zh-CN" sz="1400" spc="-1" strike="noStrike">
                <a:solidFill>
                  <a:srgbClr val="000000"/>
                </a:solidFill>
                <a:latin typeface="Times New Roman"/>
              </a:rPr>
              <a:t> </a:t>
            </a:r>
            <a:endParaRPr b="0" lang="en-US" sz="14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 for the September interim</a:t>
            </a:r>
            <a:endParaRPr b="0" lang="en-US" sz="20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fer to keep Tuesday AM2, and cancel Wednesday AM1, if all CIDs are resolved by this call</a:t>
            </a: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contribution.</a:t>
            </a: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draft readiness for the third recirculation WG letter ballot.</a:t>
            </a:r>
            <a:endParaRPr b="0" lang="en-US" sz="14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28296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584000" indent="-22608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September 4,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F0BB7B-0C9B-4E21-8E92-2942A3D17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AA6280-4006-4736-B165-6415A666D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 on September 4, 2019.</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167D9D0-BD78-4CC4-BC6D-E19CBA557D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93D99C8-57D8-4C9E-86B0-8FDDA380CC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6EB37D-71B5-4E16-9666-CA09772E3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a:t>
            </a:r>
            <a:r>
              <a:rPr b="1" lang="en-US" sz="1800" spc="-1" strike="noStrike" u="sng">
                <a:solidFill>
                  <a:srgbClr val="0066ff"/>
                </a:solidFill>
                <a:uFillTx/>
                <a:latin typeface="Times New Roman"/>
                <a:hlinkClick r:id="rId3"/>
              </a:rPr>
              <a:t>standards.ieee.org/about/policies/opman</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a:t>
            </a:r>
            <a:r>
              <a:rPr b="1" lang="en-US" sz="1800" spc="-1" strike="noStrike" u="sng">
                <a:solidFill>
                  <a:srgbClr val="0066ff"/>
                </a:solidFill>
                <a:uFillTx/>
                <a:latin typeface="Times New Roman"/>
                <a:hlinkClick r:id="rId4"/>
              </a:rPr>
              <a:t>http://standards.ieee.org/about/sasb/patcom/materials.htm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A9F55C-122E-49B3-A1FB-ED2F326E5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51077DB-6D18-47E2-A6E1-0335B15E1E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a:t>
            </a:r>
            <a:r>
              <a:rPr b="0" lang="en-US" sz="1200" spc="-1" strike="noStrike">
                <a:solidFill>
                  <a:srgbClr val="000000"/>
                </a:solidFill>
                <a:latin typeface="Times New Roman"/>
              </a:rPr>
              <a:t> section 5.2.1)</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604376-28EA-4E26-9F7C-82C8CA68E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September 4 2019</cp:keywords>
  <dc:language>en-US</dc:language>
  <cp:lastModifiedBy>Edward Au</cp:lastModifiedBy>
  <cp:lastPrinted>2014-11-04T15:04:57Z</cp:lastPrinted>
  <dcterms:modified xsi:type="dcterms:W3CDTF">2019-09-03T16:49:51Z</dcterms:modified>
  <cp:revision>4220</cp:revision>
  <dc:subject>Task Group AY November 2015 Meeting Agenda</dc:subject>
  <dc:title>19/1476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64086317</vt:lpwstr>
  </property>
</Properties>
</file>