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2110D2B-05DE-402C-8318-7989D07EEA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7C87FA-A6BD-4F58-9F48-DBF2ED043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515026-4B6C-4E88-A60A-AB826DF07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7F1A08-D6D6-4174-BDFF-E2085C72C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59DB44-D76E-44F0-96B8-D5C400CF3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2CA9B52-8217-454F-868F-FF6A494799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5126A3F-2121-474F-B72A-E8CD81E870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7680" y="696960"/>
            <a:ext cx="4640400" cy="3479760"/>
          </a:xfrm>
          <a:prstGeom prst="rect">
            <a:avLst/>
          </a:prstGeom>
          <a:ln w="0">
            <a:noFill/>
          </a:ln>
        </p:spPr>
      </p:sp>
      <p:sp>
        <p:nvSpPr>
          <p:cNvPr id="6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FF99E3-D677-4C73-9B0D-37E282DD4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4D26C2-8393-4241-A979-952492734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B436EB-80E0-40FD-AA2D-F8BEA69BD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6821F2-9E47-4FE7-85BC-2FBB90939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113DEA-79B6-4CF7-AEE8-BBA161169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C8668-24B5-4F0D-BDB8-9858E7B38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1CBD-BF52-4F57-97B5-7DF05FAB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A239C8-4082-448C-8598-B393E9B45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C59D72-A368-4A0B-A695-048843D06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B91B7-7A8B-452A-9948-3B00249ADF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89504E-6854-4BB7-9A3E-B482F6C38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DA0B51-4A59-45F9-A5D1-7E72EF8F2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93643-2802-4264-89FE-ABD6C5B7EE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EB9658-4B13-45EC-BA4B-E64AA0BE5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48C986-B1D3-40B0-B1D0-980141732E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FD9BE5-0D57-4727-BBAD-3CDC5D79A8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9CF818-C183-4E4A-9245-A92B6F0389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081EF-ED3A-4348-8300-ACA5975CE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6F8667-1D84-4460-97F2-E1BC330F1B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6D2F4E-BA98-427B-B89F-7CE978662E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8F91FD-02D3-47C0-840B-5C27929CF1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CB83F9-EFC4-4684-82F4-E2D29705EA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FD6F27-03BC-47F9-8F22-C453847D6C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2DE608-2B26-4E89-A93C-094486A6EF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8F855C-4A59-490F-AF6F-284848A42A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19E7BE-0A39-4829-97CC-6E28466894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233203-1372-457C-8A5A-1DA9B22D7F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6F6D01-6E3B-4FD6-8CAA-CFDD2BDE5B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896A1-8BC7-4D85-AE00-1D238E8DC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9C8E93-7547-4BDD-B2A9-8705D3C733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233A35-C184-48B2-B156-CFB6EB2D9F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C2B0A9-FC1B-4EDF-B199-5A38C31179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9EA20E-F4DF-4058-8F0C-ED2320D140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3B3424-2FAF-4E6D-B66A-319E1F559E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339782-A5B3-4666-AC33-FEA7A5C74F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170A39-2B00-4B53-A065-1D3B12F61A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0EBB47-554E-414C-9A5C-58FE0DB0C3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72B376-D7E7-46C9-B0BA-B82A2F16F4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A450FD-3686-4910-9535-E02671ADE6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B0A52-9810-4C29-9E58-0209CBDF5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12E036-FD32-4945-B0E8-04824421BB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0ABE1D-B696-423D-8084-5AEA34831A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927C92-C2A8-418E-A140-37C5780FE8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745B07-7A7F-4700-B657-3502AB8E7A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FE18E9-5B5F-41BD-9008-46F1F72532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562443-EBDC-4BA4-8947-A05BBAFB5D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3B50A1-992D-4586-963C-17E4108B38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CADBED-0F99-4E6B-866B-EC45350B3C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6340DA-E015-42E3-8FA4-403CAA69B1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434B62-FC67-4C14-8D2F-B2A615A7EC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4C00A-3183-43AD-B3D9-15ADE9A4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BBDA94-559A-4A6B-88A3-871A4F09B4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A040AD-288C-4EBA-9407-976C884189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1EC086-9114-4338-BD3D-5336D6BAF8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554AED-69E4-4586-A6A0-ED3622D59E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00EC37-02DC-47EA-9FD4-A9B9739A3D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370C9-5066-4AD5-84C8-DAD6C955D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3B3B7-5418-4557-913B-7CD004782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8EFF3-F7BA-4C78-8266-F4B72561B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1708-E0EF-4EB9-B4BC-AF6E99ECB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D71C0-B5CC-49D5-A7D0-4DF19BB9E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FCF6-5E4F-4B02-9AE2-37726FE1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21092-E9CE-45F9-93E5-86AFCFA5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BA5F-8384-464B-909E-55E8C18F0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76B25-7DAF-4E1E-8944-25F20BCDA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8412F-474E-4CA5-A3C3-A6C4D6E5A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2A1F3-6B6D-4281-B8DA-F1A82F08A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9B2DD-9F9D-41A3-8991-566890AC7C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4E2B7-B10A-4A36-B924-E62EA6B9F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13938-AC27-4E61-8683-A6050AD88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ED9F7-CF7F-4ADA-9CA1-64CAE9B3F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E6E06-9E2D-4179-A957-02BEDF315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C0A89-7CD3-4C0F-9CFA-E2A25C62D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423EF-8DAF-413A-AF8E-5D067C88E9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6E841-0E7F-4AB1-B8D6-A1838C278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3CE85-B846-4086-86EB-1620FE768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DBAE5-7039-4D31-91F5-7DF89C628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F8D0A-3061-439E-8DD1-F3E8ACCEF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10B900-2EC8-4CE1-875F-EEE048A8D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3655D1-4014-4311-A889-3C081FAD1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E8C78-5248-48B2-8F00-39CFBD68CC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0E54F-3209-47C2-88FE-D271E5843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91665-76E3-4A30-BE14-1F5E7445B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3544-65C7-42FC-A56C-DC799FC4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DACFE-B01E-485A-9BB3-1A0654115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F35E6-CD85-4967-BF22-0DDAC25AB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EF527-4BB4-4013-8ABB-E0EFF3D95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3D917-8A9E-425C-947E-EC44D4488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F8C03-5FC8-437F-8DE5-70CD38DE3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396B7-4432-4551-8681-4FAFF80D9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2CF38-BB98-4C88-8C84-E63DA5D1E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96A45-1483-4635-A812-333C45833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6A11E-F7D2-4139-B7F4-D3DD14F542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AB752C-300D-4842-8BBF-AEBD2947B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1BC98-AF7A-486C-88CC-5DB334B37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63222-69EF-4855-80E8-79A8751AAA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9C08C-8F9D-48C0-AEE9-08DF414E6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148E0-5C90-42FB-BB72-3DFE15955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D8816-FA7E-485E-B186-2F0D1C41C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5A2A6-02BE-47F3-AF00-0F924B82F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6FE9E-65B2-4E72-8539-E4ED43C03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85884-1B7C-4DE5-936C-B4E40DA66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1815D-1B66-40F2-BE67-93D6BDDF4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CD8C1-FFAF-4C0C-9CCA-1A38FF906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01035-0B66-41F3-BB08-0AAB62C924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D8066-84ED-43DF-8117-8EF8EA1F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D7629-89BB-4BF6-B4B4-C5E83C7A57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E35535-63DB-4B6A-A4E1-9D239ABC92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1CF9F-8D32-4A9B-99F2-87C67E4CF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611F5-17F3-45B0-935C-86C3274473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ECBAE-EACA-4F07-8854-640D360553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16071-8EE6-4175-AD0E-3F99B640CC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28BB3-17A9-49B0-8817-3F291994BC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6D124-B75F-428A-95C5-31C05498D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135F3-1FDA-44AB-A467-832707655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DB2D1-1F47-48E5-82E4-30C5627F00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9AC8-36F8-4AAC-9B2B-18B79D4A8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D247F-9BD1-4AA2-9743-889D18671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8FBE3B-AC02-4F0F-97DE-92DF7E1F4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4BC011-D3D2-4D61-A18E-39C8FD76DB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F33087-C3CC-4772-819C-A6E59B5719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58C41-AF10-4832-90A0-0AC8F7BE0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84576-816D-4C76-9C42-AC6D80EB9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58C60A-556D-4015-9A09-A08BC1CD9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B299FD-0EC8-4413-84A5-7041F5FE8E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6C585E-213D-4619-82E7-C2BAD937EE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4B02A-171E-49E6-BAF5-660C3F0D3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AC79-7BAD-4501-AD1E-7EBF1FC7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4561E-18A5-4E86-945A-D773C37C4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4A0C6-BCFA-4521-A364-226F41087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D0F82E-03E1-461B-9A2A-0EA92F0619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0BB62C-0A6C-40E7-9B96-7AAED161CD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6375B4-72D0-443B-AF5A-433B930CF5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B3DD56-7C1C-440F-9202-D41DDC8C7A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877A0-8C06-490F-B784-0AF84F13D0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59D8F-8EBA-4E01-AA62-94A647DF49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1B938F-5FED-41E1-9B9E-77791E0A8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98DD4-4EE3-4D40-97D0-0BB899D1AB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9F7D-C66C-4B5D-9C08-A640D60AF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32A91-E30D-4B4F-8B79-EE8570088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B4C64-FD69-46F1-AF21-72A663D43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689B3-B781-4EE0-8264-1E3DA68E48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F9FAE-B120-48D8-8A8C-024236CF4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EFBDC-03D2-4F39-A57C-94854E48B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456640-11C2-47AA-884D-ADA94C517E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506F20-5C1B-4E17-AFAD-D5B4992E75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06A760-33D0-45C1-80EF-92F7E00C3D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3ACDF-2036-4C1A-A55D-5E3C92C6E3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369809-9D4F-4435-BF67-2CC1B5B401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E03A05-315B-4DCC-803A-82E82DBEBE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C7FAB05-E313-45A9-BE4E-7193E55CA8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914E664-F061-4EB8-A426-AD683102B9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9D09A43-AACE-447C-A16A-534B8D196C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26800B-F9A2-46F1-B0E1-B6084D7562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134B3BD-8A68-4098-A473-65DA142198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34F91FA-3551-42C8-84AE-A6B3F05608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4EAA9C6-B6D2-4AB5-98DB-4EB42DCEEE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A26FA19-91E2-4A79-9399-6C65BBC6AE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30CCCD2-D59E-4EDF-B3D5-764B8D72D1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970C41D-B35F-42AD-B039-F498935BF5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05CDA63-D651-4FAD-A12F-28004B026B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 TargetMode="External"/><Relationship Id="rId2" Type="http://schemas.openxmlformats.org/officeDocument/2006/relationships/hyperlink" Target="https://standards.ieee.org/about/policies/opman" TargetMode="External"/><Relationship Id="rId3" Type="http://schemas.openxmlformats.org/officeDocument/2006/relationships/hyperlink" Target="https://standards.ieee.org/about/policies/opman" TargetMode="External"/><Relationship Id="rId4" Type="http://schemas.openxmlformats.org/officeDocument/2006/relationships/hyperlink" Target="http://standards.ieee.org/about/sasb/patcom/materials.html" TargetMode="External"/><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34702C-9754-43A3-A033-6B0A050C9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ugust 28,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8-28</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078497-3490-4B29-8188-1E8884EF8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update:  D4.1 is posted</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5 is updated from Accepted to Revised with the following resolution:  Replace Table 9-234 with Table 9-256.</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6 is updated from Accepted to Revised with the following resolution:  Replace Table 9-235 with Table 9-257.</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otion will be considered in the September interim for these update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421r0,</a:t>
            </a:r>
            <a:r>
              <a:rPr b="0" lang="zh-CN" sz="1400" spc="-1" strike="noStrike">
                <a:solidFill>
                  <a:srgbClr val="000000"/>
                </a:solidFill>
                <a:latin typeface="Times New Roman"/>
              </a:rPr>
              <a:t> </a:t>
            </a:r>
            <a:r>
              <a:rPr b="0" lang="en-GB" sz="1400" spc="-1" strike="noStrike">
                <a:solidFill>
                  <a:srgbClr val="000000"/>
                </a:solidFill>
                <a:latin typeface="Times New Roman"/>
              </a:rPr>
              <a:t>LB242 2-CIDs</a:t>
            </a:r>
            <a:r>
              <a:rPr b="0" lang="en-US" sz="1400" spc="-1" strike="noStrike">
                <a:solidFill>
                  <a:srgbClr val="000000"/>
                </a:solidFill>
                <a:latin typeface="Times New Roman"/>
              </a:rPr>
              <a:t>, Assaf Kasher (Qualcomm)</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mment resolution for the September 4</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call and the September interim.</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draft readiness for the third recirculation WG letter ballot in the interim.</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ugust 28,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4828BE-5844-46EE-9103-9BD6CCDDC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68CC1F-3D1D-4300-A734-F8AC436E7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August 2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68DF117-5879-4F64-9D8A-E5AD07DAE9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4EAE134-81E4-47FB-B9A3-068483DAF2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1006FD-2142-40CB-B9CA-E7637AF0A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a:t>
            </a:r>
            <a:r>
              <a:rPr b="1" lang="en-US" sz="1800" spc="-1" strike="noStrike" u="sng">
                <a:solidFill>
                  <a:srgbClr val="0066ff"/>
                </a:solidFill>
                <a:uFillTx/>
                <a:latin typeface="Times New Roman"/>
                <a:hlinkClick r:id="rId3"/>
              </a:rPr>
              <a:t>standards.ieee.org/about/policies/opman</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4"/>
              </a:rPr>
              <a:t>http://standards.ieee.org/about/sasb/patcom/material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52D026-62D5-49F7-85F4-8B6EC43C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B3A29B4-C2AA-4FA3-AF52-77797394C9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a:t>
            </a:r>
            <a:r>
              <a:rPr b="0" lang="en-US" sz="1200" spc="-1" strike="noStrike">
                <a:solidFill>
                  <a:srgbClr val="000000"/>
                </a:solidFill>
                <a:latin typeface="Times New Roman"/>
              </a:rPr>
              <a:t> section 5.2.1)</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69364C-F9FE-4D4E-B0ED-E313862EE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August 28 2019</cp:keywords>
  <dc:language>en-US</dc:language>
  <cp:lastModifiedBy>Edward Au</cp:lastModifiedBy>
  <cp:lastPrinted>2014-11-04T15:04:57Z</cp:lastPrinted>
  <dcterms:modified xsi:type="dcterms:W3CDTF">2019-08-26T18:09:12Z</dcterms:modified>
  <cp:revision>4214</cp:revision>
  <dc:subject>Task Group AY November 2015 Meeting Agenda</dc:subject>
  <dc:title>19/1457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