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ADAEC3A-8F78-40EB-BBD3-32754237BC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4EF1D8-DD9D-4E28-B1B9-2322E7E4D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691E47-E177-4DD0-B703-B22B25297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54160" y="701640"/>
            <a:ext cx="4626000" cy="3468600"/>
          </a:xfrm>
          <a:prstGeom prst="rect">
            <a:avLst/>
          </a:prstGeom>
          <a:ln w="0">
            <a:noFill/>
          </a:ln>
        </p:spPr>
      </p:sp>
      <p:sp>
        <p:nvSpPr>
          <p:cNvPr id="6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DF1EDF-92E2-48D6-8562-7A6601E9B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0C60FB-FB03-498F-AFCE-D49916229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5430C3F-F881-4805-8CA6-56AA7261E6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13963DA-EB16-463E-AC7C-90E4533492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7680" y="696960"/>
            <a:ext cx="4640400" cy="3479760"/>
          </a:xfrm>
          <a:prstGeom prst="rect">
            <a:avLst/>
          </a:prstGeom>
          <a:ln w="0">
            <a:noFill/>
          </a:ln>
        </p:spPr>
      </p:sp>
      <p:sp>
        <p:nvSpPr>
          <p:cNvPr id="63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B448D9B-2001-4FDA-8EBA-D6F3CF030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7D2D54C-A83C-4813-A69F-52BFC5633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755D1D-2B24-4168-9610-20FDD7DB2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503B2B-31C9-41FE-A2BA-EA4E06B02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69C22C-3631-42F0-9885-A9064B1A9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C1DD0-687F-4F24-BBEF-BDA5E632E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0FB5A-4D46-4B5E-8C81-2AC895591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A39AE6-D819-4EDB-8707-7399045F99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999159-8585-4E35-98E9-0093A35E9C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BA1F5B-F0CD-41D4-815A-9474412D98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010FF-D4FA-4D74-8060-F9E8933E0A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EEFE3-8FD7-4E8C-BF72-523082F7BF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92E8D2-D40B-44CC-B8E6-9B583D9442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5B0622-629F-432B-B64B-5517A41787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E1B93A-BC75-48DB-9484-EEE7D531FD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FF8CB0-99D8-4F81-AC77-3184AB35D8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2A72BA-5E1E-4E99-9F32-4446444E91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9B53D-DAF4-4915-8CE6-C1398E911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837025-558C-419E-881B-394B03A107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FCE09A-4C76-4DFE-A3EF-A35BC4D35B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0AFF77-B2DB-4856-BD9A-BE4FB98158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9EEB3B-CC49-406F-8E60-750DF0A6F3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6392F4-4A4F-4B5E-9FDC-F33E374AB4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B4072D-7D5B-4295-A317-9E56174C51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0E093F-1965-4036-9C96-121773F083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A74A8E-08F0-43C1-B313-08F2C83DBF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E94C8A-F9D8-4859-B33E-E064B533B2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5C3F9F-AACE-4DB4-85BB-39FE7301FD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9D85F-462E-4CDF-BE00-8CAC0E257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834215-FCFF-4412-96CA-5C58664D72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8D710D-E9FC-4046-B95A-C2937FF400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329B3E-C1FE-4154-ADBC-E6B6F3DB92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0722B2-57D9-4265-A008-F927829F53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84AAA1-48BD-4F4E-876B-2B1EDAC93B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42FD40-278A-4A0F-AF3C-4F55AC4F88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B130C2-930A-4872-884A-F1E19A4385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388B49-220C-401C-8883-22F4C00A82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7F30F1-E192-4322-896F-BFFD4E76AE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01D8A5-24A3-411A-912D-1196E86887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1EA62-09A5-45E3-8DF5-744FC204B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E17D27-D7D6-41D8-A53B-A9BD8C2EE7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0B6087-075A-4F03-B3BA-55C8D10A1A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830DF2-9114-4107-A1AB-71E527BF51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3265F8-8332-4229-B0D0-DEE19F3902C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6A513A-FD1D-457E-9A3B-4831ADAEC3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D91E92-7BA7-4B4D-919C-9336D5B204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DABD8B-A821-4165-9617-EA779C9881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B9E067-1A67-4921-B39D-05DA1212FF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C91C02-4053-4951-B772-1F0047EBEA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4638F2-5DE4-49C8-96AB-07D3C11A52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E8535-7CA4-4F8A-93A4-555CA804F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63D698-C56C-4BF8-9F96-CB48F82431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70E181-CB01-4082-B8F9-57EA31672D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BE983A-A08C-4EB5-B805-9FE35DF3E4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BFBCEEE-A5AB-4E99-A905-B6D5344F11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104FEA-1E33-4A98-81B1-9E3ACDA6D7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E9071-A3A9-4768-8A32-2E364B12B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5D7E1-BD4B-4104-A479-C8C670242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CACCE-D2C2-44A8-BEA9-FF17CD64A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461E2-D786-4E9B-8AFE-9EFD6D5BC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90889-B558-4ED8-A1B9-E6D6A7AFF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61FBD-5E0E-411A-9C3A-B0060B275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DE711-29E3-41E4-A7B5-79073F0DC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48E86-E19E-4CC4-B4D7-02C75C818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74019-5CBB-48F1-AD22-F9EF2376F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8B637-17F3-451A-B162-09C6A6C5E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E3703-4401-4390-8AB7-EAF791B3D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591D4A-F398-44EB-93F2-C1E3A44D19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B111F-5C40-47FB-99D3-4EB2F398B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1082C2-F43E-4C06-90A3-547A5AB0D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722AFD-8FED-4500-86A3-4439A1E9D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68FFB-2CFE-42B2-AEC6-29DCBAC3C6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35002-7686-4BB3-B0FD-970992062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C5D16-CFE4-463E-A08F-AD07282C4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D52C4-BB73-45EB-B1EE-E5CAEDAFA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2435E-9AFB-4C9E-AE74-AEEA3D2E6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EDE18-41BC-4A05-8FB9-250897AFD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C9989-0DC6-4B55-BE95-3325E0C47E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31F2ED-47EC-4238-8CB6-FE6768EC2A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197730-DC67-4588-BA3C-BC15A2B7A3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4AAD95-BC81-4B7D-BAA4-5AB2C0DD24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D85CE-4F29-4B1C-BAAE-9B29898D3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F4E40A-AEFA-43BD-94A7-BA20BA5A6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0C09C-F247-4CE0-B7AD-B1C8A18B5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C109D-9905-41BD-B250-18DB9357D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B673D-6495-45AA-B626-C178D6FDE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B6263E-EAF2-4297-B48C-D93BE524FF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A75E8-463D-4D5B-8735-4A457D3813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42762-D7BE-4D4F-805E-C510C3363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4F1D1-2FB4-4D6A-9AD4-25C1FDA83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2EC15A-8A9A-457D-905C-3C3F810AA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C078E1-71BA-483C-9CEA-5643AE3CD0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B641BB-55F7-4A63-B7CA-FF5A9DF8B2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F6E5B8-AA1B-4351-8E46-5209FE8285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AEB07-C682-43EA-BD9E-FFBA1962B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A1BF3-25A4-47F3-A46F-DCDA23EB8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BB279D-50B6-4939-AFE7-CB84F19EB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CF1A46-840E-4C68-BD5C-F06494BB0E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A991A6-9896-448B-8AAC-D178710E38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70CD09-4BDC-4859-9CFE-5E1D84BA1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47BC1-74C1-4C6A-9C60-153E76E47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5F49A4-7784-4E8B-AA45-E683D6A35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6451EA-16E6-4D09-90D7-D54A43A087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15632-7531-4554-8A7F-692EC5EF41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41F12E-DFB3-486A-969E-B0782216BA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F3CEB-AB14-4FAA-83AB-CA6C91723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AD5EAD-B43A-4F0C-A023-1474052FDD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D38B0B-8516-475A-B8BE-0BD949AD8C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698DB8-B08F-4F85-BDFF-A5D9E7BAC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D89D1-99AA-4BD7-86FE-21D420581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77654-C120-4B27-B4EB-6A2A00E59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39AC9-B97E-455F-A345-6EAA815BC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AE0E9C-A243-4105-9E10-C0E217AEF3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0D690-B9C4-49C9-9BCF-8D557EFE7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D30082-FE3A-436C-946C-22027F005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2F5BA0-92F1-4626-9013-D4174B072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180C-FE4A-499E-B5F6-5630E5B5D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C406AC-93DE-4FBC-B7BC-659318A494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BAFC04-025F-4941-9E19-CB79116F64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9D6224-94E1-4572-B15F-B741285BF2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B06949-B0B2-49F9-BAD2-3C5A95137C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E230B4-C305-4FA8-9751-991543BCD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E63A4-277E-4D7F-A5CC-AE29CFC710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7F5689-2BE5-49AA-843B-3FE9FFCC87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0E7E0-99AC-4340-BDD8-F0FC7D28AD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753AE7-53D7-4886-B62E-EA486C0A5A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6E9DD-E45A-4D3C-8EF5-7FC539784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31AC-E5C9-406B-B5C5-41BDF70D9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587AA-4B74-427F-84ED-B793F79E1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CAB5D-DAC4-4F5C-BB66-75D70E591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7A5594-F940-41B3-953A-A0748D2955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D5D176-E443-4B61-8704-A964695A36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9F7642-9965-4772-9A48-C7481EBB1D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18992C-A8A7-4C32-9C8C-4B78BE1638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5ECC81-0B53-47CE-9DDE-356AD9375B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5521CB-14BB-4F76-8F7E-77C1FA194E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536BD7-EBDE-4C2F-90E0-E0A0FFBD85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F8CFBF-535F-4304-8F9F-A3D8644D3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D2FA-3B64-446D-A7EB-31F4F1D37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29AA66-97A1-4E2B-BCDC-7A5B04926A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417674-C83F-498A-B25D-5EC941270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787DD-18F3-44B6-9C89-CF5B01AFD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3E850-B5AE-42B7-B3F1-A9A5DC2FAF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76FD40-79AB-4F3E-91CE-1F1BF0A21B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901DDE-5C3B-41B9-BC77-197ED412C0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8466CF-A3A9-4CCA-9866-97FE9BD3A7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AA7EFB-3F4A-4C22-89E4-2AA4F95B90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68D07E-F12B-4C5C-9A65-8C9C165BAD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CFC12A-0FC0-42C7-9C0D-B714444FD73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C45DD6E-29FF-4D01-82B8-0D3229AA28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775BFEF-3D91-4AD7-832B-E88DB98849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D8BC392-14C0-45E6-AA7F-EEADFE6C0E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7810CA-EF9A-4A07-A17B-CE586CD2B7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2419230-EE57-49F5-96BC-E1D8038246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54759AD-15EF-4C97-9DEE-B596952D1B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427D2C1-250E-4009-B3DA-2C1F6CE6F4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7BA5CE3-F336-4E3A-A489-EC5E94C0A3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7B5C0A5-A650-4D57-BD61-704390BBA0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617ED8-B00E-44AD-B5F0-33AABF024A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C64C2AC-A403-4800-BCB1-55B329297C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57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AB8C9A0-77B4-4AC6-8AB2-415D8C3EB9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 TargetMode="External"/><Relationship Id="rId2" Type="http://schemas.openxmlformats.org/officeDocument/2006/relationships/hyperlink" Target="https://standards.ieee.org/about/policies/opman" TargetMode="External"/><Relationship Id="rId3" Type="http://schemas.openxmlformats.org/officeDocument/2006/relationships/hyperlink" Target="https://standards.ieee.org/about/policies/opman" TargetMode="External"/><Relationship Id="rId4" Type="http://schemas.openxmlformats.org/officeDocument/2006/relationships/hyperlink" Target="http://standards.ieee.org/about/sasb/patcom/materials.html" TargetMode="External"/><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C6B88E-46DA-4952-9795-C48024888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August 28,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8-28</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E24F2E-0E0D-4739-922F-C04E3C2AD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update:  D4.1 is posted</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resolution for CID 5005 is updated from Accepted to Revised with the following resolution:  Replace Table 9-234 with Table 9-256.</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resolution for CID 5006 is updated from Accepted to Revised with the following resolution:  Replace Table 9-235 with Table 9-257.</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otion will be considered in the September interim for these updates.</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421r0,</a:t>
            </a:r>
            <a:r>
              <a:rPr b="0" lang="zh-CN" sz="1400" spc="-1" strike="noStrike">
                <a:solidFill>
                  <a:srgbClr val="000000"/>
                </a:solidFill>
                <a:latin typeface="Times New Roman"/>
              </a:rPr>
              <a:t> </a:t>
            </a:r>
            <a:r>
              <a:rPr b="0" lang="en-GB" sz="1400" spc="-1" strike="noStrike">
                <a:solidFill>
                  <a:srgbClr val="000000"/>
                </a:solidFill>
                <a:latin typeface="Times New Roman"/>
              </a:rPr>
              <a:t>LB242 2-CIDs</a:t>
            </a:r>
            <a:r>
              <a:rPr b="0" lang="en-US" sz="1400" spc="-1" strike="noStrike">
                <a:solidFill>
                  <a:srgbClr val="000000"/>
                </a:solidFill>
                <a:latin typeface="Times New Roman"/>
              </a:rPr>
              <a:t>, Assaf Kasher (Qualcomm)</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comment resolution for the September 4</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call and the September interim.</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draft readiness for the third recirculation WG letter ballot in the interim.</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ugust 28,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AD746F-F312-461D-A575-33A69D533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E7457A-F2ED-43BF-B97C-58836BD63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August 28,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2FC55AB-4128-4BEB-88C6-D87C2C39B3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D384A9E-928C-4ECE-BAAE-6805963729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8D9E66-7F70-4D5C-8801-F93E75FA3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a:t>
            </a:r>
            <a:r>
              <a:rPr b="1" lang="en-US" sz="1800" spc="-1" strike="noStrike" u="sng">
                <a:solidFill>
                  <a:srgbClr val="0066ff"/>
                </a:solidFill>
                <a:uFillTx/>
                <a:latin typeface="Times New Roman"/>
                <a:hlinkClick r:id="rId3"/>
              </a:rPr>
              <a:t>standards.ieee.org/about/policies/opman</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4"/>
              </a:rPr>
              <a:t>http://standards.ieee.org/about/sasb/patcom/material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4B5546-E88B-4B7C-9E78-D132FA1BE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9FA3374-EE72-4C4C-A866-F1E755C33C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a:t>
            </a:r>
            <a:r>
              <a:rPr b="0" lang="en-US" sz="1200" spc="-1" strike="noStrike">
                <a:solidFill>
                  <a:srgbClr val="000000"/>
                </a:solidFill>
                <a:latin typeface="Times New Roman"/>
              </a:rPr>
              <a:t> section 5.2.1)</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AF965E-5DDE-4761-A85D-8A68672D8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2720" y="334800"/>
            <a:ext cx="121248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August 28 2019</cp:keywords>
  <dc:language>en-US</dc:language>
  <cp:lastModifiedBy>Edward Au</cp:lastModifiedBy>
  <cp:lastPrinted>2014-11-04T15:04:57Z</cp:lastPrinted>
  <dcterms:modified xsi:type="dcterms:W3CDTF">2019-08-26T18:09:12Z</dcterms:modified>
  <cp:revision>4214</cp:revision>
  <dc:subject>Task Group AY November 2015 Meeting Agenda</dc:subject>
  <dc:title>19/1457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64086317</vt:lpwstr>
  </property>
</Properties>
</file>