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8B2FD01-90DF-49C5-9C6A-EF9286A4D6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DF4EE9-337B-4CBC-8F40-5D3E03D9E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58ED2B-4432-4C99-B57E-C434B148C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645C43-E171-45CF-9072-333F7FDC4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D78222-1F9F-49B5-959F-B44691047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3C06EB-60DC-4BD3-9F21-4E03E67FF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587CDCA-26E9-4433-AFFA-014C1C6BC3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3B905A2-2E1C-4D39-8904-E87289131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7680" y="696960"/>
            <a:ext cx="4640400" cy="3479760"/>
          </a:xfrm>
          <a:prstGeom prst="rect">
            <a:avLst/>
          </a:prstGeom>
          <a:ln w="0">
            <a:noFill/>
          </a:ln>
        </p:spPr>
      </p:sp>
      <p:sp>
        <p:nvSpPr>
          <p:cNvPr id="6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FACA1D-A639-4A86-8EF5-1F17D860F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8009B0-B324-4EBC-9795-63719A142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687D3A-75DF-4B1C-A2E4-D0CD254E8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54160" y="701640"/>
            <a:ext cx="4626000" cy="3468600"/>
          </a:xfrm>
          <a:prstGeom prst="rect">
            <a:avLst/>
          </a:prstGeom>
          <a:ln w="0">
            <a:noFill/>
          </a:ln>
        </p:spPr>
      </p:sp>
      <p:sp>
        <p:nvSpPr>
          <p:cNvPr id="6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31CA2E-2FB0-41A7-83EA-B9A9E3B45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BEA908-040C-405F-ACF4-A4E0738DC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615DF-9DC4-47F4-A299-B9ECA0B88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E9578-4A19-4713-934A-1A97FCD1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655061-7640-4588-A659-2DF5937FB7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41AECD-73EE-4599-A9CE-E07A777DDC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4E93A0-F1D4-4B4B-9238-66976BE3F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51410-4916-4DE8-B669-57B9649C8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8F4841-BC01-46D3-BAA8-20C29BB0B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F0791-742D-4893-A979-34BF54D72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6B8CD2-F19C-4E54-BF3D-05B47CA517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EDD80C-7086-4A41-989D-E6183EFF6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A2C6D-C39B-48AB-8F32-EEB57DEE04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21E30F-FCC2-488D-B79B-1ADCF33EFC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199EC-5E06-418B-A834-B16A0D27B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7E8F8D-1AC7-451F-8A5E-1110A30ED2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D9D487-A4F7-4E29-945D-564FEA7978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481A57-DAE5-456E-B459-D3893E3AD6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77D55C-409A-4B15-B8C4-4ACF8C1634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C42690-EBA3-49F0-931A-3B0687E695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310E8-1B85-4FDD-BC0C-E73D9D9F1B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1BFAA5-D70C-4BEF-B387-8AA3E12CF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3EB810-740F-43A1-AB3D-24178E4F78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FF2CCE-E599-4AC7-AED0-6A8F1682B1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8712BA-EE1B-4163-BCCE-0E1200A066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68726-15C8-41F1-AB5E-EA13A3B01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306CD8-3D29-424B-9294-31318E2B74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7BA70B-1BDC-43B3-A475-55AC2EB04A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96A0E6-E30B-4D53-883B-B075D4E11A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3F7543-560F-41B0-A136-EA9FD2BDA3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8F5ED6-EA5B-4909-8A0A-22029F5E71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E554EB-7D75-4FAF-9068-0A62DB8811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E3737B-EE73-4CD5-88D9-3E5FDF7E35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0F4574-2E3D-4341-BA64-46E0C2766B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CFB3F2-1E0E-4193-A53A-D8EB5C0291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F99743-6AE9-4C7D-91DE-9A585DB69A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83B99-4BDD-4D30-B325-5C21F7653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00C76B-95C9-44D4-93F8-215751658B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B36ED3-12EC-4E0E-9171-F4F4634977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D9EA2C-5985-42AF-AE97-D246D1087D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B5C20E-B843-4B14-8911-321178FAB4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9CC6F8-07A0-431B-A737-843E7A5AAB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B68996-CED4-4EA9-A144-F69C24B56B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617E67-2F62-4670-A81D-63A85D5185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ECECE5-CD24-4EA3-8F08-D1AEEE2C67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04F218-AFEB-40B7-9749-7C7474F840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128FBB-7184-42F3-B193-58B64F8A7C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807E0-FFD9-4F88-9217-19B623B22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BCD3C5-8D31-4F0E-8C91-5A73BA4199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DAC948-2409-421D-8498-BF6BFE8A98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33A9BB-3019-4DC5-8594-D1EE0937C7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0694B3-55D6-466C-8A04-F18EFBC123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208104-CC8D-4E77-AA7D-F4F2E4BB0E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9EE96-A4C0-4FE9-A45B-3FEAE11AF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00C53-A4B1-4B0A-B1DD-BD789243E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B7FB0-3151-4A7B-A39C-9FF5490F8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F1883-311B-4025-899F-7624B4267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6444-BF87-45C4-8923-BDA28B451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37DA4-D4A0-412F-8ABB-3C5DD586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B9F8E-CE5D-49C1-BD6E-A7A13F0B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2032E-BCBA-4C01-B68D-5B64B259B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7660A-A3C6-42BF-81F9-8F6060BEA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11378-0A12-481B-B830-53C66398D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BDFF3-54CF-49D9-9725-40D5278DA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B2EEA4-4558-4D6C-9039-B8F4FD737F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60E6C-63D8-49E8-912E-3495231AC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B1955-11E8-4B74-83EB-EFA1C7800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F2F9D-18F7-46A3-B919-78D1FF7ED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060A7-E252-478C-B9E9-87696585C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C679-DFA6-49B7-AE69-5593B45BF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2C26F-3BBD-4378-AE32-CFE2E952B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3E0CF-1A0A-49A7-A23F-D41541C0D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BE5C5-0337-4028-A5A0-4E2EF6209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75684-EFBF-49E5-9DB0-6C6F1E88E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80C90-3BCF-47AA-9C97-D489F2F84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27D43E-BB5D-4E1D-9709-90D08C3DB7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EA07C-6357-4460-8364-FCDC2D4DEF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ABBF7-AE66-4BD7-8546-15CF49FCB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43EDF-653F-488C-B22F-AEF5D4181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1186A-7BA6-4F32-95E6-2FCF71E71E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3E49-157E-41EC-B311-31C26EB2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E6649-7526-4E89-AAD6-CAC2351867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DD249-F322-485D-BBD4-948DAF7B9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F9E63-B29C-493E-8881-4FE55D6E5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EBC5A-AC04-4C73-80A1-0D0FE561A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9C523-A946-403F-8F36-B85009F8A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541B0-0804-400A-B0CD-85B261913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8C95C-BCFE-474B-81C6-A59B33E08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CF1E48-BB67-414F-BF38-80DF6F0A49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D26FA-ABB1-4A1F-94C9-EAF7971EC6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81C958-D238-4A9B-8016-705C20218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68D8-CC7F-4844-90A5-784743F4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69232-A15A-4AE5-870B-84DE8961C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67A2C-B907-4B90-8F7B-750BCBABB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5FD88-6F0A-415B-8244-D61429DF7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F272A-B8CD-4251-BF49-F54AEE0AC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B208F-0002-4A2C-B0AA-8BFAA1301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8D61C-BCDB-40A7-890F-5519B023F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2D069-ED90-4E95-8BCD-DBBFD9AB5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F6C56-AAED-4411-BEC6-F9626AB4D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F4188-BD93-454D-B3C4-13E557881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8DDB83-0D9A-4CA8-BF41-05E1A5098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F664-B47F-45EA-898E-5428B3933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E521AD-D617-4357-9666-D8FAD12F4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8AE576-4D73-4F41-9A7A-44CBCE554B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B6792-3C1A-4339-8B2B-004DB3E1A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16DFF-0F56-48A0-838D-282DB87EB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9FEF2-FD5D-4BDD-B781-3B8B027D6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2871A-7A9C-4715-8EAD-64BD335EB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217B1-7887-43E7-8C84-220679595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2C49F-0440-4A8E-A315-090A53769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631FA-3966-449B-B5AB-849FEB881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068CE-45D3-4722-A7CC-27B3332AE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4C0A-0344-49B6-BB56-9F401B93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96784-55EB-4876-8EFD-1A8D118CC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72038-9A6E-4364-9739-39638E838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7FF833-0A28-46A9-91F2-1E3DAF39F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612779-9FBA-4025-ABD0-A822B4B03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B2747-7E01-4082-BF72-7ACDCECBD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B2DF0B-FF89-4BA1-86E0-361FD5DF2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39D10-92F2-4977-B547-AB187CB5D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DD73FA-0E2E-46EF-B6B2-168A7E548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5C173-329B-41E5-918E-738B846E4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033E8-284D-4319-BA6E-CFFF750BE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FA9A-C439-4BF8-9072-785734DC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70E8C-18E3-4633-8EDB-EBBA53BF1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F63E9-3155-4295-A500-A7D12A192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C90FE-C444-4361-B410-D5238F68E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A0C319-98BC-451E-96AD-7ED865B5C0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434943-0829-430E-8DB2-949F6979A1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864130-F7FB-4C88-B9A8-A3233EBFA2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7801A-AE78-4CE4-AC3E-BB2CA5B33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EE5FA2-282D-4A94-AFF0-77B9596875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FDA1FC-7DEC-47BF-BD4A-D731A5452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93AB4-36FC-4906-A131-845BD3FD3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1034-D8D1-49C8-9853-F8A1FFE12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25C51-C975-4208-A75B-AC2661D67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FC061-8D1D-4DD0-8361-BF622C26A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6876C-3376-463D-83AB-2B9D4F0D9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52F5B-3205-43D5-90EC-8CEBC473E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22529-811C-49BA-AFC6-7A1E33972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7E36F9-C5AA-4334-AD3B-51859A9880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98121-9732-4479-92A3-7DF94EDADA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678603-F15B-4FE9-A81A-C0CFA5E5F0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301714-F091-4119-8C26-B4F4A7FA09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116101-8E5E-497C-B492-0783FD546C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96584B-574A-43A9-8C2A-E4D8FECF4D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25A22CE-9080-412C-90DF-2E38C21039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796C10-8622-4B1F-83E1-09E4CCB96A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C75441-5247-48EC-AB49-75186BC976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03B5C4-7C62-4720-AF93-400F09320C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96E0CC3-29B5-4C24-8044-962C98B9B9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DF8C3CB-7526-4399-B704-BDFE7035BD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2940313-65C1-4E51-AE7F-41210FBDDB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73F722-4B2C-4F0B-9902-47380FA4B0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3BF2782-8252-489E-8177-43FC403972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3542F33-0801-45A9-B47F-BE3D6D3E5E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10F40F6-5B27-4DAF-BD89-872D592105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tgevents.com.au/ieee2019/visa-and-travel/"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4ED549-153D-4BB0-91ED-B80810723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31,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2C207-9506-423E-B0A2-68B06609E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EF2942-9A0F-4B27-A71B-1D22C1F26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year PAR extension request (19/0673r0) is approved by the IEEE 802 EC.  </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iry date is now extended to December 31, 2021.</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wait for TGmd and TGax to start their initial SA technical letter ballots before we proceed our initial SA technical letter ballot.</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ublication order of TGax and TGay will be discussed in the Editor’s meeting in the November 2019 plenary.</a:t>
            </a:r>
            <a:endParaRPr b="0" lang="en-US" sz="14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5r0</a:t>
            </a:r>
            <a:r>
              <a:rPr b="0" lang="zh-CN" sz="1400" spc="-1" strike="noStrike">
                <a:solidFill>
                  <a:srgbClr val="000000"/>
                </a:solidFill>
                <a:latin typeface="Times New Roman"/>
              </a:rPr>
              <a:t>， </a:t>
            </a:r>
            <a:r>
              <a:rPr b="0" lang="en-US" sz="1400" spc="-1" strike="noStrike">
                <a:solidFill>
                  <a:srgbClr val="000000"/>
                </a:solidFill>
                <a:latin typeface="Times New Roman"/>
              </a:rPr>
              <a:t>Comment resolution on CID5054 and 5055</a:t>
            </a:r>
            <a:r>
              <a:rPr b="0" lang="zh-CN" sz="1400" spc="-1" strike="noStrike">
                <a:solidFill>
                  <a:srgbClr val="000000"/>
                </a:solidFill>
                <a:latin typeface="Times New Roman"/>
              </a:rPr>
              <a:t>，</a:t>
            </a:r>
            <a:r>
              <a:rPr b="0" lang="en-US" sz="1400" spc="-1" strike="noStrike">
                <a:solidFill>
                  <a:srgbClr val="000000"/>
                </a:solidFill>
                <a:latin typeface="Times New Roman"/>
              </a:rPr>
              <a:t>Takenori Sakamoto (Panasonic)</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9r0, CID 5027 related to PICS, Motozuka Hiroyuki (Panasonic) </a:t>
            </a:r>
            <a:endParaRPr b="0" lang="en-US" sz="14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teleconference calls on August 14, August 28, and September 4.</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ttend the September 2019 interim in Hanoi, Vietnam, please visit </a:t>
            </a:r>
            <a:r>
              <a:rPr b="0" lang="en-US" sz="1400" spc="-1" strike="noStrike" u="sng">
                <a:solidFill>
                  <a:srgbClr val="0066ff"/>
                </a:solidFill>
                <a:uFillTx/>
                <a:latin typeface="Times New Roman"/>
                <a:hlinkClick r:id="rId1"/>
              </a:rPr>
              <a:t>http://www.mtgevents.com.au/ieee2019/visa-and-travel/</a:t>
            </a:r>
            <a:r>
              <a:rPr b="0" lang="en-US" sz="1400" spc="-1" strike="noStrike">
                <a:solidFill>
                  <a:srgbClr val="000000"/>
                </a:solidFill>
                <a:latin typeface="Times New Roman"/>
              </a:rPr>
              <a:t>  and see if you need to apply for an e-visa.</a:t>
            </a:r>
            <a:endParaRPr b="0" lang="en-US" sz="1400" spc="-1" strike="noStrike">
              <a:solidFill>
                <a:srgbClr val="000000"/>
              </a:solidFill>
              <a:latin typeface="Times New Roman"/>
            </a:endParaRPr>
          </a:p>
          <a:p>
            <a:pPr lvl="1" marL="720720" indent="-27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51960" indent="-221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3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4918F9-78FD-4012-9647-A3139D6A1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3D4402-0BCC-424D-900F-BE2964B53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31,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E3A9565-8DD4-47DE-94F1-09BDC9DED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E25CC19-A82F-4C1E-BF61-1FF07AA76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259486-C561-4F2E-89CF-308852998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2DCECB-18D4-4C1A-ABC9-174D30395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B180D7A-3BC5-46C2-94F0-7ABAE2970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EA3670-2397-4928-9E1D-AB38FD56F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31 2019</cp:keywords>
  <dc:language>en-US</dc:language>
  <cp:lastModifiedBy>Edward Au</cp:lastModifiedBy>
  <cp:lastPrinted>2014-11-04T15:04:57Z</cp:lastPrinted>
  <dcterms:modified xsi:type="dcterms:W3CDTF">2019-07-30T13:25:28Z</dcterms:modified>
  <cp:revision>4199</cp:revision>
  <dc:subject>Task Group AY November 2015 Meeting Agenda</dc:subject>
  <dc:title>19/1378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