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935FC1BD-6FF7-4ACE-AE88-5A22D7F3DFD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13"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14"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1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7C29A93-085A-4D06-BBA5-1FD981F7F6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6" name="PlaceHolder 1"/>
          <p:cNvSpPr>
            <a:spLocks noGrp="1"/>
          </p:cNvSpPr>
          <p:nvPr>
            <p:ph type="sldImg"/>
          </p:nvPr>
        </p:nvSpPr>
        <p:spPr>
          <a:xfrm>
            <a:off x="1154160" y="701640"/>
            <a:ext cx="4626000" cy="3468600"/>
          </a:xfrm>
          <a:prstGeom prst="rect">
            <a:avLst/>
          </a:prstGeom>
          <a:ln w="0">
            <a:noFill/>
          </a:ln>
        </p:spPr>
      </p:sp>
      <p:sp>
        <p:nvSpPr>
          <p:cNvPr id="61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54160" y="701640"/>
            <a:ext cx="4626000" cy="3468600"/>
          </a:xfrm>
          <a:prstGeom prst="rect">
            <a:avLst/>
          </a:prstGeom>
          <a:ln w="0">
            <a:noFill/>
          </a:ln>
        </p:spPr>
      </p:sp>
      <p:sp>
        <p:nvSpPr>
          <p:cNvPr id="66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6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6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6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6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1A291EF-B53E-4211-8750-404541ED96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54160" y="701640"/>
            <a:ext cx="4626000" cy="3468600"/>
          </a:xfrm>
          <a:prstGeom prst="rect">
            <a:avLst/>
          </a:prstGeom>
          <a:ln w="0">
            <a:noFill/>
          </a:ln>
        </p:spPr>
      </p:sp>
      <p:sp>
        <p:nvSpPr>
          <p:cNvPr id="67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7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7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7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7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780DC34-C1BA-471A-8214-89C6892E5D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54160" y="701640"/>
            <a:ext cx="4626000" cy="3468600"/>
          </a:xfrm>
          <a:prstGeom prst="rect">
            <a:avLst/>
          </a:prstGeom>
          <a:ln w="0">
            <a:noFill/>
          </a:ln>
        </p:spPr>
      </p:sp>
      <p:sp>
        <p:nvSpPr>
          <p:cNvPr id="61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2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2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D2CCF14-F667-49DC-AAB4-56CCBFE0E4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5"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6"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27"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67F400A-4AF6-4893-985C-12569EFE61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8" name="PlaceHolder 1"/>
          <p:cNvSpPr>
            <a:spLocks noGrp="1"/>
          </p:cNvSpPr>
          <p:nvPr>
            <p:ph type="sldImg"/>
          </p:nvPr>
        </p:nvSpPr>
        <p:spPr>
          <a:xfrm>
            <a:off x="1154160" y="701640"/>
            <a:ext cx="4626000" cy="3468600"/>
          </a:xfrm>
          <a:prstGeom prst="rect">
            <a:avLst/>
          </a:prstGeom>
          <a:ln w="0">
            <a:noFill/>
          </a:ln>
        </p:spPr>
      </p:sp>
      <p:sp>
        <p:nvSpPr>
          <p:cNvPr id="62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31"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2"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33"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A3F403D4-F632-4827-AEF9-C69F388B22B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4" name="PlaceHolder 1"/>
          <p:cNvSpPr>
            <a:spLocks noGrp="1"/>
          </p:cNvSpPr>
          <p:nvPr>
            <p:ph type="sldImg"/>
          </p:nvPr>
        </p:nvSpPr>
        <p:spPr>
          <a:xfrm>
            <a:off x="1147680" y="696960"/>
            <a:ext cx="4640400" cy="3479760"/>
          </a:xfrm>
          <a:prstGeom prst="rect">
            <a:avLst/>
          </a:prstGeom>
          <a:ln w="0">
            <a:noFill/>
          </a:ln>
        </p:spPr>
      </p:sp>
      <p:sp>
        <p:nvSpPr>
          <p:cNvPr id="635"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37"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8"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39"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21E16754-F44D-490A-B87D-0C11936307B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0" name="PlaceHolder 1"/>
          <p:cNvSpPr>
            <a:spLocks noGrp="1"/>
          </p:cNvSpPr>
          <p:nvPr>
            <p:ph type="sldImg"/>
          </p:nvPr>
        </p:nvSpPr>
        <p:spPr>
          <a:xfrm>
            <a:off x="1147680" y="696960"/>
            <a:ext cx="4640400" cy="3479760"/>
          </a:xfrm>
          <a:prstGeom prst="rect">
            <a:avLst/>
          </a:prstGeom>
          <a:ln w="0">
            <a:noFill/>
          </a:ln>
        </p:spPr>
      </p:sp>
      <p:sp>
        <p:nvSpPr>
          <p:cNvPr id="641"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4874426A-A040-4764-933F-781514CF75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3" name="PlaceHolder 1"/>
          <p:cNvSpPr>
            <a:spLocks noGrp="1"/>
          </p:cNvSpPr>
          <p:nvPr>
            <p:ph type="sldImg"/>
          </p:nvPr>
        </p:nvSpPr>
        <p:spPr>
          <a:xfrm>
            <a:off x="1154160" y="701640"/>
            <a:ext cx="4626000" cy="3468600"/>
          </a:xfrm>
          <a:prstGeom prst="rect">
            <a:avLst/>
          </a:prstGeom>
          <a:ln w="0">
            <a:noFill/>
          </a:ln>
        </p:spPr>
      </p:sp>
      <p:sp>
        <p:nvSpPr>
          <p:cNvPr id="64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972D2F42-E592-4440-AC22-538ADBEEC0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6" name="PlaceHolder 1"/>
          <p:cNvSpPr>
            <a:spLocks noGrp="1"/>
          </p:cNvSpPr>
          <p:nvPr>
            <p:ph type="sldImg"/>
          </p:nvPr>
        </p:nvSpPr>
        <p:spPr>
          <a:xfrm>
            <a:off x="1154160" y="701640"/>
            <a:ext cx="4626000" cy="3468600"/>
          </a:xfrm>
          <a:prstGeom prst="rect">
            <a:avLst/>
          </a:prstGeom>
          <a:ln w="0">
            <a:noFill/>
          </a:ln>
        </p:spPr>
      </p:sp>
      <p:sp>
        <p:nvSpPr>
          <p:cNvPr id="64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649"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650"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65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1FBDF4F-94E9-4E0E-8929-68CBB43B4F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2" name="PlaceHolder 1"/>
          <p:cNvSpPr>
            <a:spLocks noGrp="1"/>
          </p:cNvSpPr>
          <p:nvPr>
            <p:ph type="sldImg"/>
          </p:nvPr>
        </p:nvSpPr>
        <p:spPr>
          <a:xfrm>
            <a:off x="1154160" y="701640"/>
            <a:ext cx="4626000" cy="3468600"/>
          </a:xfrm>
          <a:prstGeom prst="rect">
            <a:avLst/>
          </a:prstGeom>
          <a:ln w="0">
            <a:noFill/>
          </a:ln>
        </p:spPr>
      </p:sp>
      <p:sp>
        <p:nvSpPr>
          <p:cNvPr id="653"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55"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56"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57"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CFE2AD3-21B5-49B1-A38A-A68C3E7B00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8"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659"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660"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661"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5B5DB2D-8389-4EF9-80E3-3008073CCB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2" name="PlaceHolder 1"/>
          <p:cNvSpPr>
            <a:spLocks noGrp="1"/>
          </p:cNvSpPr>
          <p:nvPr>
            <p:ph type="sldImg"/>
          </p:nvPr>
        </p:nvSpPr>
        <p:spPr>
          <a:xfrm>
            <a:off x="1154160" y="701640"/>
            <a:ext cx="4626000" cy="3468600"/>
          </a:xfrm>
          <a:prstGeom prst="rect">
            <a:avLst/>
          </a:prstGeom>
          <a:ln w="0">
            <a:noFill/>
          </a:ln>
        </p:spPr>
      </p:sp>
      <p:sp>
        <p:nvSpPr>
          <p:cNvPr id="66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AB3A4D-19BB-4A4D-975B-A62E2B55B5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EE369C-7ABA-4B74-9804-CAD671D672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53FC225-1649-4E32-8DE5-43A0123E365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AD3EB5A-0DDB-4F82-971D-10AB54D2643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45BD6DC-60EB-4451-9100-E689A9A521D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3E1D34-4456-4B88-983F-6085A5761D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635387-035F-4208-8803-5611A1B26D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FD6CC2-4FF7-4DCA-A03E-9A22C22E43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A4D27F9-CF31-4141-B1C2-645107295BD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EBC9A96-242E-45A1-AA5D-529C364B2B1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A3A4213-E512-4EDB-A157-573F72588B7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D9C7F4B-795C-47DF-8FB0-F7F751E8A3A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957507-0552-4F67-9378-B680E95F27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FBD09F7-9AAE-4BEF-B8F3-7FBE46BF4B8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036FA59-AF3F-445E-A806-5F31CBE41DB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A25F80B-72E1-4B81-9AF2-5DB26A32975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A31909A-ACC7-4BAB-9340-F5A05C3B8CB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AC5B108-9BF3-46E7-88A6-B4D14FE78FC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6101E7B-AF7C-475A-9547-3B4F250ECDD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69D0ED9-4D64-4ADB-B3E4-6CC67972E5A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0FADC74-9952-4729-8AA3-301E1D73AD3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FF32D53-68C3-4F27-AE3C-1A1791C99B7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65058B9-C89F-4499-9DF2-1E0C205CE30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5E762D-834B-42CF-B9D1-6FBA422467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9B873AA-1B3A-4528-BB5E-C924A676102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B5ED916-9C98-4F95-A4EC-C233179BDCD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CD99C65-3C48-4E86-B3C1-08BF6D10215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C33AAB3-251A-4B72-89AB-959C975E39F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17103CD-BFD1-475B-8019-A49F9FB7BCD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8921FA0-C7B1-451D-ACEA-DD7C8922276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779753B-9319-43E6-960E-5DFB320071D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295B80B-479A-482D-B06F-9A4ACB017B8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B727A14-41CA-4BBD-B7A3-96361E94C33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0EC36CB-A199-4FB9-ADCF-42AD21EB7E2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4A1214-4CDF-4E6C-AE54-57611BD9A4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ABE401B-4283-41EE-8D55-424E1E329C9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EEB2B35-EEFA-4B86-B39A-FB3338D3281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5A31215-9D19-48DC-AD5E-9555ADED189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6440C21-D1AD-4446-99F2-AD5F6D1B6E0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9099793-0EF0-4186-9EDA-A496D07C884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035DE3C-89EF-4121-926A-D0A3F95C984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5C12056-4640-43E5-9006-A83992AD85F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8ACDB40-B514-4C60-9430-4872B804265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22F0FDE-DD33-402E-A70C-7A8799548B7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F9D042B-4C98-4E08-9C50-A39693C417D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1A2532-4FC9-4F79-8E4A-83C57EBBDD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655D7BA-8AD7-41F9-B26D-58E72900FFD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6C53ECB-4C8F-4C50-99C1-FC4C3188858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1CD856F-0DE4-45BD-9BE6-5BD67AB11A0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C00EDCD-801D-4AEC-A5D6-B0255AB51C7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BF8DD00-363F-4918-9940-57CDF7322B1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8A8BBE-839B-4822-A322-127876B211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9D8A4F-F9BA-4B8C-89FC-9923033A37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46AF75-7401-4510-B8CA-EC917A5DB4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942A5E-9F29-4E64-A0E5-2E759A95AF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A2F411-5085-4B18-90B5-42478F78D0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A21C5A-7553-4539-9607-9FA009074A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FCE932-4D60-430C-B258-A2C7C68E04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DBE153-C7A2-410A-BD51-55497FBD2F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903EDA-9BB4-452A-B7A9-74F04C2C7D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063AFB-8A52-4E2C-B309-C0B730CF94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D4C3DB-576D-4CD8-88F6-712F509324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0E35D44-808C-4BAF-9D6C-F263CC2E5F4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DC6EAB-3544-4900-ABD0-A2A66E7CC8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C5F344-A4A8-4D16-B1D7-8A357D4C3C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42F49F-07F0-4FCB-B416-77F09303CD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B39034-7BCA-4277-A914-24E9A0CC9B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78D288-F9CD-44DB-8155-C496CFD9F5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B0B725-6D02-47E1-8535-91DEC5855E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F083FF-9E4A-4D83-B085-38CB5FE577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A21C15-5FCD-4865-A580-5DD2E12B21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64044D-B26A-4453-A085-2844F777B0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780287-71F1-4818-A184-EEAA5C1011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9B5C51F-0EF7-4D36-A2E8-BFE77CF6B5C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130F06D-60E3-4EF3-A6A4-428793B4F6C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332BC73-C50F-4C0D-BEB7-659D419E2B4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0E6D59-28ED-4FA0-9488-1487A3F4E2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FE7CF0-9F62-4122-B127-8BE687B8DB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AB65CB-0C57-46D5-B779-E610B7BCFD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67C7B4-3FF7-4D22-891B-9DB8BBEE95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8A1FF1-6461-45B5-826A-D6FBAB696D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7F0301-A7B4-4561-A1EA-360A829E67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C42375-07BE-4DA5-851E-886D065013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4482DF-58FD-44C2-A3C6-E80719298B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53B8ED-B98D-4879-907E-AB0611BD79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21A10D-37EA-4A92-BE74-1082EB75FA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78AC2D5-C296-4EAC-B47A-7CA4DA75349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522033E-7024-4471-9CDB-DCDA6FB1004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219D0D1-58E5-4C02-AE0E-26A4FC9FF57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79BE9-17D0-4AB7-8C4C-5FEBA48DAE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688C9A-4325-4F8C-87B3-79F460D10C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A77FEF-F91B-4377-89C5-C93905BCB4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20AB24-A704-4499-ACC1-0516E5F5F7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FE9BE2-1E28-40D1-B59A-8712795CBD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5E9E7A-F738-40E9-A85D-C8E15DC549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4C4BE1-E388-4911-8731-7B68685598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05117A-4CD3-4228-8A60-7A42DCD46B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FB07B3-44C8-4FE2-BD45-10069C8850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599CB5-280F-4D23-AB87-8CCA99406D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AB02763-3061-4722-B7F8-9D5EE9F7D70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1CA1A0-FD90-41A5-9D63-882BA28D29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BC8E1A3-F2EF-411E-B143-DF367B678FB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75DF7EF-65BE-4A96-ADAB-1630196702D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24790B-91F2-4AD2-889D-61106E2A12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325BDB-24B0-4707-9CBD-AA899BC1B9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0206CD-D987-410B-9905-45DBB54A6E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6B8341-CFCA-4809-BA47-24A8E7C0E8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54582D-7316-440B-8FE0-FD3E38BACD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2E6631-4A6B-48B9-931D-9FB89F4EA3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585F6B-27EB-48C0-9833-CD3C34C1F4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4090F2-ED12-464D-8480-108E4C1B30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FAADF-D094-497F-B99B-465A8BCEA9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624AFF-C9D4-42E3-A5B8-F90D12D68E5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222E1B4-5DF4-4943-89CB-6838BBC3CE2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853B351-D79D-450A-96B3-D6BEEF7B795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66F76C3-E999-48ED-A35D-BEB0B4D7BC8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41220D-90FF-4A10-8715-156F4AC8FE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F81A2C-3B41-4CA4-ACD0-6E3E833254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2E7787-EFC7-41D6-937A-7E84EF44F2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EE30D2-C65B-4789-8A90-1AE31F2957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47FC691-29E2-494D-84A3-2F345C5CD9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D7420C-ACDE-44F2-A821-6C9E4111DA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D41B3-21FA-4A9F-A94C-3CE5AF8C2C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7FB1F8-EB92-4266-AA8A-77BFA23CF3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438799-B7C4-4794-B9A5-C8CEB9860C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4C7013-FBFC-48B4-BD3C-18741D5E869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DDF3D89-6CCF-49F0-ADAC-B20AC7073F9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35A4CD6-E264-4990-8B2E-081F61246DA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D00E08C-3DD9-47CC-A9B7-3F800C5270F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69C61C-1611-4BCE-BE67-E4B20F07166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BA9B127-07EE-4B2D-9ABE-9ADDCD6DBE9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B28F52-5136-4719-9D51-E471938A963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3A252AB-CAB9-49A1-8B4E-ACD6D72A6CD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E1F1E-4F9D-49CD-973B-946065ED8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1EB3F45-C4A6-4272-8F90-97412A5AB50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706ACD-697A-4EDB-ACFB-F9AC7CBDD0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AB1481-84C0-4A45-9A4E-EEA3F1242B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0C2F68-0307-4BB0-9594-25B1C69062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7484A9-4261-4704-BFF7-C3A37896C5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D5BB44E-B901-4AA3-8D04-008E130C523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717802F-2235-4C79-9A13-A095C81B9D6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F62F091-1441-4D06-B598-2B375EBDFC5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6A3C0AA-E137-4584-A078-4B91F54294D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09FF328-AE36-487C-994D-41A7EEA1890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3000"/>
            <a:ext cx="94284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F9DA75C9-2250-4EB8-8945-04DD2423757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378r1</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378r1</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F2FED4F1-6F16-4938-87A3-B7D2F627AC9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378r1</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BD049ADA-A0E2-4989-B46D-BE37EB28776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378r1</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E9172CC7-B213-46B5-9B89-7802E215672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378r1</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F930AD21-A0A5-4FB3-A6E2-79FCFFC5B82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378r1</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F06FF8AB-0B48-454B-B1D3-3CB96361BD2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378r1</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6C22AF3-A912-47A9-9824-65C7638195B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378r1</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BC4AC325-49E7-47E4-87F4-D48A4CBA43A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378r1</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1FC4ABDE-9586-498B-9DCE-EA365AF598A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378r1</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0753ACD1-FB03-4C1A-82F9-F9C858E248C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378r1</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569322D-04A6-4903-B22A-E05DEC265CD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378r1</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CAEA336D-4917-42C0-BE7D-1A0311B307D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mtgevents.com.au/ieee2019/visa-and-travel/" TargetMode="External"/><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tandards.ieee.org/develop/policies/bylaws/sect6-7.html#Slide 6" TargetMode="External"/><Relationship Id="rId2" Type="http://schemas.openxmlformats.org/officeDocument/2006/relationships/hyperlink" Target="http://standards.ieee.org/develop/policies/opman/sect6.html#6.3" TargetMode="External"/><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s://standards.ieee.org/develop/policies/bylaws/sb_bylaws.pdfsection%205.2.1" TargetMode="External"/><Relationship Id="rId2" Type="http://schemas.openxmlformats.org/officeDocument/2006/relationships/hyperlink" Target="https://standards.ieee.org/develop/policies/bylaws/sb_bylaws.pdf" TargetMode="External"/><Relationship Id="rId3" Type="http://schemas.openxmlformats.org/officeDocument/2006/relationships/hyperlink" Target="http://www.ieee802.org/devdocs.shtml" TargetMode="External"/><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mailto:edward.ks.au@gmail.com" TargetMode="External"/><Relationship Id="rId2" Type="http://schemas.openxmlformats.org/officeDocument/2006/relationships/hyperlink" Target="mailto:jeorge.hurtarte@litepoint.com" TargetMode="External"/><Relationship Id="rId3" Type="http://schemas.openxmlformats.org/officeDocument/2006/relationships/hyperlink" Target="http://mentor.ieee.org/" TargetMode="External"/><Relationship Id="rId4" Type="http://schemas.openxmlformats.org/officeDocument/2006/relationships/slideLayout" Target="../slideLayouts/slideLayout8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F7EC564-1A88-4C54-B365-68307B5B9B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380880" y="609480"/>
            <a:ext cx="830592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July 31, 2019, </a:t>
            </a:r>
            <a:br>
              <a:rPr sz="3200"/>
            </a:br>
            <a:r>
              <a:rPr b="1" lang="en-US" sz="3200" spc="-1" strike="noStrike">
                <a:solidFill>
                  <a:srgbClr val="000000"/>
                </a:solidFill>
                <a:latin typeface="Times New Roman"/>
              </a:rPr>
              <a:t>Teleconference Call Agenda</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67652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9-07-31</a:t>
            </a:r>
            <a:endParaRPr b="1" lang="en-US" sz="2000" spc="-1" strike="noStrike">
              <a:solidFill>
                <a:srgbClr val="000000"/>
              </a:solidFill>
              <a:latin typeface="Times New Roman"/>
            </a:endParaRPr>
          </a:p>
        </p:txBody>
      </p:sp>
      <p:graphicFrame>
        <p:nvGraphicFramePr>
          <p:cNvPr id="555" name="Object 11"/>
          <p:cNvGraphicFramePr/>
          <p:nvPr/>
        </p:nvGraphicFramePr>
        <p:xfrm>
          <a:off x="669960" y="2668680"/>
          <a:ext cx="7804080" cy="1000080"/>
        </p:xfrm>
        <a:graphic>
          <a:graphicData uri="http://schemas.openxmlformats.org/presentationml/2006/ole">
            <p:oleObj progId="Word.Document.12" r:id="rId1" spid="">
              <p:embed/>
              <p:pic>
                <p:nvPicPr>
                  <p:cNvPr id="556"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557"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4F76C79-B69F-418A-A634-DA9F32611C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a:t>
            </a:r>
            <a:endParaRPr b="0" lang="en-US" sz="3200" spc="-1" strike="noStrike">
              <a:solidFill>
                <a:srgbClr val="000000"/>
              </a:solidFill>
              <a:latin typeface="Times New Roman"/>
            </a:endParaRPr>
          </a:p>
        </p:txBody>
      </p:sp>
      <p:sp>
        <p:nvSpPr>
          <p:cNvPr id="604" name="Rectangle 3"/>
          <p:cNvSpPr/>
          <p:nvPr/>
        </p:nvSpPr>
        <p:spPr>
          <a:xfrm>
            <a:off x="685800" y="1523880"/>
            <a:ext cx="7772400" cy="472464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meline update</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5"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60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20D23E2-B586-41A0-A636-EFD28FAF1F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a:t>
            </a:r>
            <a:endParaRPr b="0" lang="en-US" sz="3200" spc="-1" strike="noStrike">
              <a:solidFill>
                <a:srgbClr val="000000"/>
              </a:solidFill>
              <a:latin typeface="Times New Roman"/>
            </a:endParaRPr>
          </a:p>
        </p:txBody>
      </p:sp>
      <p:sp>
        <p:nvSpPr>
          <p:cNvPr id="609" name="Rectangle 3"/>
          <p:cNvSpPr/>
          <p:nvPr/>
        </p:nvSpPr>
        <p:spPr>
          <a:xfrm>
            <a:off x="685800" y="1523880"/>
            <a:ext cx="7772400" cy="4724640"/>
          </a:xfrm>
          <a:prstGeom prst="rect">
            <a:avLst/>
          </a:prstGeom>
          <a:noFill/>
          <a:ln w="0">
            <a:noFill/>
          </a:ln>
        </p:spPr>
        <p:style>
          <a:lnRef idx="0"/>
          <a:fillRef idx="0"/>
          <a:effectRef idx="0"/>
          <a:fontRef idx="minor"/>
        </p:style>
        <p:txBody>
          <a:bodyPr lIns="92160" rIns="92160" tIns="46080" bIns="46080" anchor="t">
            <a:normAutofit fontScale="97000"/>
          </a:bodyPr>
          <a:p>
            <a:pPr marL="332640" indent="-3326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32640" indent="-3326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32640" indent="-3326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meline update</a:t>
            </a:r>
            <a:endParaRPr b="0" lang="en-US" sz="2000" spc="-1" strike="noStrike">
              <a:solidFill>
                <a:srgbClr val="000000"/>
              </a:solidFill>
              <a:latin typeface="Times New Roman"/>
            </a:endParaRPr>
          </a:p>
          <a:p>
            <a:pPr lvl="1" marL="720720" indent="-27720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2-year PAR extension request (19/0673r0) is approved by the IEEE 802 EC.  </a:t>
            </a:r>
            <a:endParaRPr b="0" lang="en-US" sz="1400" spc="-1" strike="noStrike">
              <a:solidFill>
                <a:srgbClr val="000000"/>
              </a:solidFill>
              <a:latin typeface="Times New Roman"/>
            </a:endParaRPr>
          </a:p>
          <a:p>
            <a:pPr lvl="1" marL="720720" indent="-27720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expiry date is now extended to December 31, 2021.</a:t>
            </a:r>
            <a:endParaRPr b="0" lang="en-US" sz="1400" spc="-1" strike="noStrike">
              <a:solidFill>
                <a:srgbClr val="000000"/>
              </a:solidFill>
              <a:latin typeface="Times New Roman"/>
            </a:endParaRPr>
          </a:p>
          <a:p>
            <a:pPr lvl="1" marL="720720" indent="-27720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need to wait for TGmd and TGax to start their initial SA technical letter ballots before we proceed our initial SA technical letter ballot.</a:t>
            </a:r>
            <a:endParaRPr b="0" lang="en-US" sz="1400" spc="-1" strike="noStrike">
              <a:solidFill>
                <a:srgbClr val="000000"/>
              </a:solidFill>
              <a:latin typeface="Times New Roman"/>
            </a:endParaRPr>
          </a:p>
          <a:p>
            <a:pPr lvl="1" marL="720720" indent="-27720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ublication order of TGax and TGay will be discussed in the Editor’s meeting in the November 2019 plenary.</a:t>
            </a:r>
            <a:endParaRPr b="0" lang="en-US" sz="1400" spc="-1" strike="noStrike">
              <a:solidFill>
                <a:srgbClr val="000000"/>
              </a:solidFill>
              <a:latin typeface="Times New Roman"/>
            </a:endParaRPr>
          </a:p>
          <a:p>
            <a:pPr marL="332640" indent="-3326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lvl="1" marL="720720" indent="-27720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1375r0</a:t>
            </a:r>
            <a:r>
              <a:rPr b="0" lang="zh-CN" sz="1400" spc="-1" strike="noStrike">
                <a:solidFill>
                  <a:srgbClr val="000000"/>
                </a:solidFill>
                <a:latin typeface="Times New Roman"/>
              </a:rPr>
              <a:t>， </a:t>
            </a:r>
            <a:r>
              <a:rPr b="0" lang="en-US" sz="1400" spc="-1" strike="noStrike">
                <a:solidFill>
                  <a:srgbClr val="000000"/>
                </a:solidFill>
                <a:latin typeface="Times New Roman"/>
              </a:rPr>
              <a:t>Comment resolution on CID5054 and 5055</a:t>
            </a:r>
            <a:r>
              <a:rPr b="0" lang="zh-CN" sz="1400" spc="-1" strike="noStrike">
                <a:solidFill>
                  <a:srgbClr val="000000"/>
                </a:solidFill>
                <a:latin typeface="Times New Roman"/>
              </a:rPr>
              <a:t>，</a:t>
            </a:r>
            <a:r>
              <a:rPr b="0" lang="en-US" sz="1400" spc="-1" strike="noStrike">
                <a:solidFill>
                  <a:srgbClr val="000000"/>
                </a:solidFill>
                <a:latin typeface="Times New Roman"/>
              </a:rPr>
              <a:t>Takenori Sakamoto (Panasonic)</a:t>
            </a:r>
            <a:r>
              <a:rPr b="0" lang="zh-CN" sz="1400" spc="-1" strike="noStrike">
                <a:solidFill>
                  <a:srgbClr val="000000"/>
                </a:solidFill>
                <a:latin typeface="Times New Roman"/>
              </a:rPr>
              <a:t> </a:t>
            </a:r>
            <a:endParaRPr b="0" lang="en-US" sz="1400" spc="-1" strike="noStrike">
              <a:solidFill>
                <a:srgbClr val="000000"/>
              </a:solidFill>
              <a:latin typeface="Times New Roman"/>
            </a:endParaRPr>
          </a:p>
          <a:p>
            <a:pPr lvl="1" marL="720720" indent="-27720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1379r0, CID 5027 related to PICS, Motozuka Hiroyuki (Panasonic) </a:t>
            </a:r>
            <a:endParaRPr b="0" lang="en-US" sz="1400" spc="-1" strike="noStrike">
              <a:solidFill>
                <a:srgbClr val="000000"/>
              </a:solidFill>
              <a:latin typeface="Times New Roman"/>
            </a:endParaRPr>
          </a:p>
          <a:p>
            <a:pPr marL="332640" indent="-3326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720720" indent="-27720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for comment resolution for the teleconference calls on August 14, August 28, and September 4.</a:t>
            </a:r>
            <a:endParaRPr b="0" lang="en-US" sz="1400" spc="-1" strike="noStrike">
              <a:solidFill>
                <a:srgbClr val="000000"/>
              </a:solidFill>
              <a:latin typeface="Times New Roman"/>
            </a:endParaRPr>
          </a:p>
          <a:p>
            <a:pPr lvl="1" marL="720720" indent="-27720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attend the September 2019 interim in Hanoi, Vietnam, please visit </a:t>
            </a:r>
            <a:r>
              <a:rPr b="0" lang="en-US" sz="1400" spc="-1" strike="noStrike" u="sng">
                <a:solidFill>
                  <a:srgbClr val="0066ff"/>
                </a:solidFill>
                <a:uFillTx/>
                <a:latin typeface="Times New Roman"/>
                <a:hlinkClick r:id="rId1"/>
              </a:rPr>
              <a:t>http://www.mtgevents.com.au/ieee2019/visa-and-travel/</a:t>
            </a:r>
            <a:r>
              <a:rPr b="0" lang="en-US" sz="1400" spc="-1" strike="noStrike">
                <a:solidFill>
                  <a:srgbClr val="000000"/>
                </a:solidFill>
                <a:latin typeface="Times New Roman"/>
              </a:rPr>
              <a:t>  and see if you need to apply for an e-visa.</a:t>
            </a:r>
            <a:endParaRPr b="0" lang="en-US" sz="1400" spc="-1" strike="noStrike">
              <a:solidFill>
                <a:srgbClr val="000000"/>
              </a:solidFill>
              <a:latin typeface="Times New Roman"/>
            </a:endParaRPr>
          </a:p>
          <a:p>
            <a:pPr lvl="1" marL="720720" indent="-27720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20720" indent="-27720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20720" indent="-27720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20720" indent="-2772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551960" indent="-2214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0"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61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28600" y="1295280"/>
            <a:ext cx="86868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IEEE 802.11 Task Group AY</a:t>
            </a:r>
            <a:br>
              <a:rPr sz="3600"/>
            </a:br>
            <a:r>
              <a:rPr b="1" lang="en-US" sz="2000" spc="-1" strike="noStrike">
                <a:solidFill>
                  <a:srgbClr val="0000ff"/>
                </a:solidFill>
                <a:latin typeface="Times New Roman"/>
                <a:ea typeface="Times New Roman"/>
              </a:rPr>
              <a:t>Enhanced Throughout for Operation in License-Exempt Bands Above 45 GHz</a:t>
            </a:r>
            <a:endParaRPr b="1" lang="en-US" sz="2000" spc="-1" strike="noStrike">
              <a:solidFill>
                <a:srgbClr val="000000"/>
              </a:solidFill>
              <a:latin typeface="Times New Roman"/>
            </a:endParaRPr>
          </a:p>
        </p:txBody>
      </p:sp>
      <p:sp>
        <p:nvSpPr>
          <p:cNvPr id="559" name=""/>
          <p:cNvSpPr txBox="1"/>
          <p:nvPr/>
        </p:nvSpPr>
        <p:spPr>
          <a:xfrm>
            <a:off x="533160" y="2971800"/>
            <a:ext cx="8305560" cy="3124080"/>
          </a:xfrm>
          <a:prstGeom prst="rect">
            <a:avLst/>
          </a:prstGeom>
          <a:noFill/>
          <a:ln w="0">
            <a:noFill/>
          </a:ln>
        </p:spPr>
        <p:txBody>
          <a:bodyPr lIns="92160" rIns="92160" tIns="46080" bIns="46080"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July 31, 2019</a:t>
            </a: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10:00am ET – 11:30am ET</a:t>
            </a:r>
            <a:endParaRPr b="1" lang="en-US" sz="3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air:  Edward Au (Huawei)</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ice Chair:  Sang Kim (LG Electronics)</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retary:  Jeorge Hurtarte (LitePoint)</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ditor:  Carlos Cordeiro (Intel)</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1" lang="en-US" sz="2000" spc="-1" strike="noStrike">
              <a:solidFill>
                <a:srgbClr val="000000"/>
              </a:solidFill>
              <a:latin typeface="Times New Roman"/>
            </a:endParaRPr>
          </a:p>
        </p:txBody>
      </p:sp>
      <p:sp>
        <p:nvSpPr>
          <p:cNvPr id="5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2B131E5-5461-4792-8DCD-7276FBA77E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6C312F1-65D1-459A-9C0C-7DC4D0F652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Task Group AY agenda items for the teleconference call on July 31, 2019.</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6"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5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5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525EE6EE-CBFA-46D9-B06E-0D479816A39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0"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1"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57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57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3A8FBD49-932F-4EE2-9B09-E6ABA72AE21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6"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7"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patcom@ieee.org);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578"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57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1"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58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Guideline for IEEE WG meetings</a:t>
            </a:r>
            <a:endParaRPr b="0" lang="en-US" sz="3200" spc="-1" strike="noStrike">
              <a:solidFill>
                <a:srgbClr val="000000"/>
              </a:solidFill>
              <a:latin typeface="Times New Roman"/>
            </a:endParaRPr>
          </a:p>
        </p:txBody>
      </p:sp>
      <p:sp>
        <p:nvSpPr>
          <p:cNvPr id="5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ACDE3FF-FFD7-4A90-8C05-0F27608643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58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7"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sect6-7.html#6</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tandards.ieee.org/develop/policies/opman/sect6.html#6.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http://standards.ieee.org/about/sasb/patcom/materials.html</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patcom@ieee.org</a:t>
            </a: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5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03C4633-AFBF-4A8E-A7A4-4C20208528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59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12C05514-BD65-45B1-BAD3-EFB8CA90B58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3"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fontScale="99000"/>
          </a:bodyPr>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cipation in any IEEE 802 meeting (Sponsor, Sponsor Subgroup, Working Group, Working Group Subgroup, etc.) is on an individual basis</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in the IEEE standards development individual process shall act based on their qualifications and experience. (</a:t>
            </a:r>
            <a:r>
              <a:rPr b="0" lang="en-US" sz="1200" spc="-1" strike="noStrike" u="sng">
                <a:solidFill>
                  <a:srgbClr val="0066ff"/>
                </a:solidFill>
                <a:uFillTx/>
                <a:latin typeface="Times New Roman"/>
                <a:hlinkClick r:id="rId1"/>
              </a:rPr>
              <a:t>https://standards.ieee.org/develop/policies/bylaws/sb_bylaws.pdfsection 5.2.1</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Working Group membership is by individual; “Working Group members shall participate in the consensus process in a manner consistent with their professional expert opinion as individuals, and not as organizational representatives”. (subclause 4.2.1 “Establishment”, of the IEEE 802 LMSC Working Group Policies and Procedures)</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have an obligation to act and vote as an individual and not under the direction of any other individual or group.  A Participant’s obligation to act and vote as an individual applies in all cases, regardless of any external commitments, agreements, contracts, or orders. </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shall not direct the actions or votes of any other member of an IEEE 802 Working Group or retaliate against any other member for their actions or votes within IEEE 802 Working Group meetings, see </a:t>
            </a:r>
            <a:r>
              <a:rPr b="0" lang="en-US" sz="1200" spc="-1" strike="noStrike" u="sng">
                <a:solidFill>
                  <a:srgbClr val="0066ff"/>
                </a:solidFill>
                <a:uFillTx/>
                <a:latin typeface="Times New Roman"/>
                <a:hlinkClick r:id="rId2"/>
              </a:rPr>
              <a:t>https://standards.ieee.org/develop/policies/bylaws/sb_bylaws.pdf</a:t>
            </a:r>
            <a:r>
              <a:rPr b="0" lang="en-US" sz="1200" spc="-1" strike="noStrike">
                <a:solidFill>
                  <a:srgbClr val="000000"/>
                </a:solidFill>
                <a:latin typeface="Times New Roman"/>
              </a:rPr>
              <a:t> section 5.2.1.3 and the IEEE 802 LMSC Working Group Policies and Procedures, subclause 3.4.1 “Chair”, list item x.</a:t>
            </a:r>
            <a:endParaRPr b="0" lang="en-US" sz="1200" spc="-1" strike="noStrike">
              <a:solidFill>
                <a:srgbClr val="000000"/>
              </a:solidFill>
              <a:latin typeface="Times New Roman"/>
            </a:endParaRPr>
          </a:p>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participating in IEEE 802 meetings, you accept these requirements.  If you do not agree to these policies then you shall not participate.</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st revision of IEEE 802 LMSC Working Group Policies and Procedures: </a:t>
            </a:r>
            <a:r>
              <a:rPr b="0" lang="en-US" sz="1200" spc="-1" strike="noStrike" u="sng">
                <a:solidFill>
                  <a:srgbClr val="0066ff"/>
                </a:solidFill>
                <a:uFillTx/>
                <a:latin typeface="Times New Roman"/>
                <a:hlinkClick r:id="rId3"/>
              </a:rPr>
              <a:t>http://www.ieee802.org/devdocs.s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39480" indent="0">
              <a:spcBef>
                <a:spcPts val="3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5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95"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59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9F9C003-EE28-44BC-A86F-A01B45EDD8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ease send an email to the addresses below to have your attendance recorded:</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edward.ks.au@gmail.com</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jeorge.hurtarte@litepoint.com</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3"/>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ay”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a:t>
            </a:r>
            <a:endParaRPr b="0" lang="en-US" sz="3200" spc="-1" strike="noStrike">
              <a:solidFill>
                <a:srgbClr val="000000"/>
              </a:solidFill>
              <a:latin typeface="Times New Roman"/>
            </a:endParaRPr>
          </a:p>
        </p:txBody>
      </p:sp>
      <p:sp>
        <p:nvSpPr>
          <p:cNvPr id="600"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60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July 31 2019</cp:keywords>
  <dc:language>en-US</dc:language>
  <cp:lastModifiedBy>Edward Au</cp:lastModifiedBy>
  <cp:lastPrinted>2014-11-04T15:04:57Z</cp:lastPrinted>
  <dcterms:modified xsi:type="dcterms:W3CDTF">2019-07-30T13:25:28Z</dcterms:modified>
  <cp:revision>4199</cp:revision>
  <dc:subject>Task Group AY November 2015 Meeting Agenda</dc:subject>
  <dc:title>19/1378r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change">
    <vt:lpwstr/>
  </property>
  <property fmtid="{D5CDD505-2E9C-101B-9397-08002B2CF9AE}" pid="3" name="_full-control">
    <vt:lpwstr/>
  </property>
  <property fmtid="{D5CDD505-2E9C-101B-9397-08002B2CF9AE}" pid="4"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5"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6"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7" name="_ms_pID_72534310_00">
    <vt:lpwstr>_ms_pID_72534310</vt:lpwstr>
  </property>
  <property fmtid="{D5CDD505-2E9C-101B-9397-08002B2CF9AE}" pid="8" name="_ms_pID_72534311">
    <vt:lpwstr>w8PjNg==</vt:lpwstr>
  </property>
  <property fmtid="{D5CDD505-2E9C-101B-9397-08002B2CF9AE}" pid="9" name="_ms_pID_72534311_00">
    <vt:lpwstr>_ms_pID_72534311</vt:lpwstr>
  </property>
  <property fmtid="{D5CDD505-2E9C-101B-9397-08002B2CF9AE}" pid="10" name="_ms_pID_7253431_00">
    <vt:lpwstr>_ms_pID_7253431</vt:lpwstr>
  </property>
  <property fmtid="{D5CDD505-2E9C-101B-9397-08002B2CF9AE}" pid="11"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2" name="_ms_pID_7253432_00">
    <vt:lpwstr>_ms_pID_7253432</vt:lpwstr>
  </property>
  <property fmtid="{D5CDD505-2E9C-101B-9397-08002B2CF9AE}" pid="13"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4" name="_ms_pID_7253433_00">
    <vt:lpwstr>_ms_pID_7253433</vt:lpwstr>
  </property>
  <property fmtid="{D5CDD505-2E9C-101B-9397-08002B2CF9AE}" pid="15"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6" name="_ms_pID_7253434_00">
    <vt:lpwstr>_ms_pID_7253434</vt:lpwstr>
  </property>
  <property fmtid="{D5CDD505-2E9C-101B-9397-08002B2CF9AE}" pid="17"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8" name="_ms_pID_7253435_00">
    <vt:lpwstr>_ms_pID_7253435</vt:lpwstr>
  </property>
  <property fmtid="{D5CDD505-2E9C-101B-9397-08002B2CF9AE}" pid="19"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20" name="_ms_pID_7253436_00">
    <vt:lpwstr>_ms_pID_7253436</vt:lpwstr>
  </property>
  <property fmtid="{D5CDD505-2E9C-101B-9397-08002B2CF9AE}" pid="21"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2" name="_ms_pID_7253437_00">
    <vt:lpwstr>_ms_pID_7253437</vt:lpwstr>
  </property>
  <property fmtid="{D5CDD505-2E9C-101B-9397-08002B2CF9AE}" pid="23"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4" name="_ms_pID_7253438_00">
    <vt:lpwstr>_ms_pID_7253438</vt:lpwstr>
  </property>
  <property fmtid="{D5CDD505-2E9C-101B-9397-08002B2CF9AE}" pid="25"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6" name="_ms_pID_7253439_00">
    <vt:lpwstr>_ms_pID_7253439</vt:lpwstr>
  </property>
  <property fmtid="{D5CDD505-2E9C-101B-9397-08002B2CF9AE}" pid="27" name="_ms_pID_725343_00">
    <vt:lpwstr>_ms_pID_725343</vt:lpwstr>
  </property>
  <property fmtid="{D5CDD505-2E9C-101B-9397-08002B2CF9AE}" pid="28" name="_readonly">
    <vt:lpwstr/>
  </property>
  <property fmtid="{D5CDD505-2E9C-101B-9397-08002B2CF9AE}" pid="29" name="sflag">
    <vt:lpwstr>1564086317</vt:lpwstr>
  </property>
</Properties>
</file>