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97FC51E-AB9C-4176-A195-581292F145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B75B72-641A-4805-AE69-12C220511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B7C042-3436-49F3-9E4D-98901D813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54160" y="701640"/>
            <a:ext cx="4626000" cy="3468600"/>
          </a:xfrm>
          <a:prstGeom prst="rect">
            <a:avLst/>
          </a:prstGeom>
          <a:ln w="0">
            <a:noFill/>
          </a:ln>
        </p:spPr>
      </p:sp>
      <p:sp>
        <p:nvSpPr>
          <p:cNvPr id="6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495487-C0F0-4651-A22A-95AE931EF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4160" y="701640"/>
            <a:ext cx="4626000" cy="3468600"/>
          </a:xfrm>
          <a:prstGeom prst="rect">
            <a:avLst/>
          </a:prstGeom>
          <a:ln w="0">
            <a:noFill/>
          </a:ln>
        </p:spPr>
      </p:sp>
      <p:sp>
        <p:nvSpPr>
          <p:cNvPr id="6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846AB9-D7D2-4830-8949-8AA873FCD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DFEFD8-86F7-445A-B176-5C27D4294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54160" y="701640"/>
            <a:ext cx="4626000" cy="3468600"/>
          </a:xfrm>
          <a:prstGeom prst="rect">
            <a:avLst/>
          </a:prstGeom>
          <a:ln w="0">
            <a:noFill/>
          </a:ln>
        </p:spPr>
      </p:sp>
      <p:sp>
        <p:nvSpPr>
          <p:cNvPr id="6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29ABFD2-F718-4A93-B33C-50E728AE16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7680" y="696960"/>
            <a:ext cx="4640400" cy="3479760"/>
          </a:xfrm>
          <a:prstGeom prst="rect">
            <a:avLst/>
          </a:prstGeom>
          <a:ln w="0">
            <a:noFill/>
          </a:ln>
        </p:spPr>
      </p:sp>
      <p:sp>
        <p:nvSpPr>
          <p:cNvPr id="6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48BCF08-6AAE-4F75-9A8C-E378B31DFD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7680" y="696960"/>
            <a:ext cx="4640400" cy="3479760"/>
          </a:xfrm>
          <a:prstGeom prst="rect">
            <a:avLst/>
          </a:prstGeom>
          <a:ln w="0">
            <a:noFill/>
          </a:ln>
        </p:spPr>
      </p:sp>
      <p:sp>
        <p:nvSpPr>
          <p:cNvPr id="64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C041847-10CA-41B1-ADAD-A9FBBA8F7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3625DF0-7C8B-464C-8712-970426D6D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6D332A-76D5-438A-B0B3-DDEC95AEC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54160" y="701640"/>
            <a:ext cx="4626000" cy="3468600"/>
          </a:xfrm>
          <a:prstGeom prst="rect">
            <a:avLst/>
          </a:prstGeom>
          <a:ln w="0">
            <a:noFill/>
          </a:ln>
        </p:spPr>
      </p:sp>
      <p:sp>
        <p:nvSpPr>
          <p:cNvPr id="65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615071-6006-4A6B-909D-8A2D64F98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FE1E11-4928-4BB3-A98E-D58930DB8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54BBF-906D-4570-A8CC-C5009F7F2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BC387-7DB5-4CB0-B8B9-19475B07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D16ABE-0404-45FA-A88B-0DFF382859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0D4CC1-3E9D-44E7-A39F-6EDBCE4D0B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EBA010-3917-4F42-9AB5-B67B08A95F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6BAE2-5332-4077-953D-1A57DF2415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79994-BDC7-456B-A90F-EDAD0CB08B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FEB0C1-E319-4C3C-B6EB-7583407D6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6EEFF0-679E-4B00-BF87-BA002EB8B0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6EAF4B-5D08-4243-B456-B4AFE3BE0A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670382-8255-4F95-9182-13F97AB0F6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8BB38A-B020-4155-B169-0DCAB8BD2E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B53F9-021F-42BF-B547-B077C9736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85A1C5-1FE5-4A03-B3BF-2C0BD39147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4FBD6E-D534-43FA-BBEF-F0F34ACC21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76319A-8885-4806-ADE8-7BCC36CB32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4BEF12-D3C8-465D-8353-1EFEAF393D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574731-FB1A-4592-A770-76EAFC920E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1DC1B3-D757-4AED-AC1F-2C6903E323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CF3E50-DA26-4878-B7A9-7DD4086698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57638F-40BF-4278-8C86-87CB891403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AEECF7-B020-4B4A-BD83-2E9CD4E726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079DFC-E09E-4A41-9792-BFCA59FD7A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F922E-38C4-4924-8451-4010380E3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55C724-8FBA-489F-898D-2675F34FD1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9FDE30-0C95-4924-B687-219D8DB2B4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B8E3D7-63C9-49E1-91E1-E6C5ECA28E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8DBF5D-2BB7-4B81-9BEF-EFEDFE677A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8DEC36-66EC-4627-9B39-FB1C86E88E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DA6B6C-5C77-41A0-8596-E5778D13BF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D97085-DD83-4FF5-9311-E5B2174777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EDC034-9030-49DE-8392-919F75F71C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9951AB-CF38-40F8-AC01-E4BA13FB8B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80CDD6-7D3B-4320-A7EE-D7C3A75C3F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A9289-548B-4CD3-B4DE-31E31A17B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7EC66A-8E06-4B52-AA07-CFB5746EBA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056864-BFC2-4ECF-AD7A-016F3799D3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797DCF-BE27-405A-9E80-4FEB72B607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8B31AC-A327-4933-B73C-B9605E6518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D37F8B-3B74-4C74-B686-87B149E98A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2EAE59-7B3C-4740-A878-59BA0F1767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F9254E-56A6-405C-ADA5-55D212F06F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49DBB4-56C4-4A43-9219-E008C8DAEA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3FE4B9-608A-4B4F-B828-D64B017461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229597-9C7D-45AA-8B71-32A393D732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E9380-5776-44FA-BF4C-E95BADF28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EF8193-9936-4063-B41B-BA055EA9E6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48BF2E-488E-4A54-84C6-AFBB242DD2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DCC07E-39F7-429B-A2B9-D9D47ACEE0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3747CA-941B-4D75-9700-23D1536DEA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D220EE-3457-4782-9743-52BBA9DEBD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790CE-74C9-4CC8-A9C1-BA702D389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71955-DDE5-4C97-9E4C-1F1C27A5A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E534B-5C05-48F7-B3B4-72DDD4BB8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0E351-EA77-4154-9CA3-F33E89FF2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F846E-5876-4708-A001-7348ABA4D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47A3C-7665-4EB9-87B5-10568029F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429E9-362D-49DF-97F4-FF0328484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D4195-F857-4F49-BB85-11F33BC30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ED21E-EB23-4DF5-90FA-A7CCE0EFA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DC97E-E757-4896-B362-2D0826102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61B78-10D3-407D-8B17-999C156E8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F39B7F-4386-426B-B4AB-BE97A1B48F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71EC8-3E07-4074-835B-B41CB91F9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2C7E2-9EDE-40A5-9448-EFF5E175B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9FB4B-DF23-45A3-966A-5C04BC166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B7A8A-86BE-44B4-9CA1-0C0A3B87A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3875D-A654-4A3C-9B4D-473A0F26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BA5C6-30C5-4C33-8D62-538BA0F74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26BDE-4432-416E-8A65-AE31D2B8D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9D9F0-19AF-42FE-B177-A5D44432F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76103-AACE-4FC5-9047-5B5027547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69E19D-F9A8-4DCE-88E1-B21346A34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98D299-ED25-4D5F-A3DF-5E848C9F69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EAD12E-1044-4726-8DCA-DA8A70F1A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189E89-5426-4D87-A4EE-8BB4ABADF5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FD485D-3AF0-4C3E-A2FB-FEA95546B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BE195-D0AA-41B2-B7B2-65128EC06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463BC-9325-4D7A-9F8D-C1A02BAD0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45B75-F96A-4689-A13E-140A04B4C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1D43B-8435-4EAF-904E-D66F3A88B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C88165-7DFD-4B1D-837A-42E7C191A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A745D-012C-4593-A24A-99BDDB208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619A2-63E6-48A1-9972-E8675DA76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2765A-7441-4D60-B7FB-D07C59694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8CB3E5-6186-40A1-BE63-68C3F0C62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F5BFC5-6FED-488D-8F25-8A674C5CCC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75E3FA-28E1-407D-8596-73243453AF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60EDF6-F5E2-4291-8AD5-AB584FE412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C5B42-483D-46CF-9AED-243BC5985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EE7ADE-3B7A-440E-8B25-2BD1DEF887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A8CA1-1341-4596-A1AF-97224E8412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9525D7-C2CE-4AA5-8F60-7386B1C2B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FFFB82-9857-4CC3-B0B3-29236F6EA0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F02E9-4048-4A6F-A120-7EDEF36B2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71D61-344B-4C3C-915C-666EDFC35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A8C5F-23AA-4F06-A994-24E7ACCF5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CA231-70D3-4956-892E-E0B274AD8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6DD43B-4054-4F96-95D9-B378A3A1F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8E05F3-A516-4694-9251-B44E523781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5C21F-AA3E-4089-8D60-73FAC6C4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3F091D-3BDB-4D66-856F-D90BCA0211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62F9A9-E516-4A57-B656-46E7BCBEF1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8A9137-B2AF-436E-B5EF-A59DD36FF1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41DDE-4F5B-4140-8BD9-7885997E7F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90EF32-9852-4B75-8105-8721455629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B75D0D-44C5-43E0-AB5E-E6FDFB114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DB8C1-8F3A-48C3-9E4A-FDF490651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49559-0BB1-4AF8-8CED-0C86E0A61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759EB-CBA7-407C-9915-56E5F8C1F3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BB659-E687-45F1-B7C7-5667F78C1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077B-14FC-4F5F-AAAA-B3E18D8E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9D5832-5023-4248-8BF8-BB3998AB9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461D6-AF8E-4380-87A1-74AA546C6C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A9E91B-7D98-4882-8B2A-F6F11C41DF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0FC81E-1608-4990-90D6-87DEF04799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B0C8A4-9A88-4EAB-A196-509966E8F3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27326A-DDA7-480F-9223-CE42811A69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69C010-B24F-4D05-A7A9-76B6AF1681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DADDC5-8063-4FF7-B5DE-0197E67C54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6DB5C-7D90-435C-8CAE-CFFA36A744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1FAC6F-A0BA-496A-A5BC-B7AC985CB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E5F8-1971-49A5-AD44-3B25260F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8A6D2-BEC8-446F-B54B-F5156632A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2523A-58B2-4C34-8362-ADBCF4A6C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6F65FF-61EB-4AC0-B2F6-959B9BAF9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8CF7D0-FF83-4708-9C8E-7D3C70A922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790C6B-C4D5-43EB-9B99-A668797285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14473D-6B0E-4247-B4AA-A1360C2AA5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2A9BA-F1E0-4A01-9430-C8B053C25F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F1FF86-EA9E-427A-B4C6-64EF903965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E5E2D-58E6-4C6A-8E85-8DE08048E5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0E4B7-1AC1-4D86-AAC4-817427D8B8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4B18A-93AB-4627-90A2-602E7AFD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701F0C-FD96-43B0-A40A-2D0FA9549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B020E-AF4A-40E1-A9AB-909B8C8208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B91A3-00F0-43FF-8AFD-70774C5D45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0C8AD-1468-4414-BE8C-6D83DDDBF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B570B-DDA4-4F81-B35E-5C7F4C498D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0FD656-887E-4266-BC5E-2FFC8F4C07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1DAB50-97D6-4178-A93D-1375EC793D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78BDDA-D6FC-4A73-AA29-BF8331B57E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4BD861-AD17-4D7D-8598-94E4759599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B0CF43-2352-412A-AA08-0DA8EEA2CE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C771E57-9A5D-4AC4-A5D2-53E5BA507B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9BB6BBF-7B3E-4FCE-A5F3-818DEE0003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7D8960-7156-4D5B-B017-14E47D7B49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D57B2B-481D-486E-A0BD-7193B257A2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CE0CAE1-FE79-4252-8EDA-4E263BC8FD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6A501F1-8A91-43C9-8F5C-40699C0422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D509CFB-D2F2-47B8-8C9D-377216063B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FAE544-102F-4E38-B168-06C84804A9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2B51C1A-0BBD-4A88-9EEB-18E4B6AA9C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6E8F4CA-7D7E-43E1-A0BD-95A82BE18E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83C1777-146F-4EDD-B6C0-54C80FCD5B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37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D2EAB24-906C-45A2-83A9-C27BFFE0F9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tgevents.com.au/ieee2019/visa-and-travel/"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9CC273-B691-461C-9D40-E3165E8C0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uly 31, 2019,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3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912DE5-876D-434E-9C9E-2B9648970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434911-D5D1-4532-B6D7-1D5C1A4FF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year PAR extension request (19/0673r0) is approved by the IEEE 802 EC.  </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xpiry date is now extended to December 31, 2021.</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eed to wait for TGmd and TGax to start their initial SA technical letter ballots before we proceed our initial SA technical letter ballot.</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ublication order of TGax and TGay will be discussed in the Editor’s meeting in the November 2019 plenary.</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1375r0</a:t>
            </a:r>
            <a:r>
              <a:rPr b="0" lang="zh-CN" sz="1400" spc="-1" strike="noStrike">
                <a:solidFill>
                  <a:srgbClr val="000000"/>
                </a:solidFill>
                <a:latin typeface="Times New Roman"/>
              </a:rPr>
              <a:t>， </a:t>
            </a:r>
            <a:r>
              <a:rPr b="0" lang="en-US" sz="1400" spc="-1" strike="noStrike">
                <a:solidFill>
                  <a:srgbClr val="000000"/>
                </a:solidFill>
                <a:latin typeface="Times New Roman"/>
              </a:rPr>
              <a:t>Comment resolution on CID5054 and 5055</a:t>
            </a:r>
            <a:r>
              <a:rPr b="0" lang="zh-CN" sz="1400" spc="-1" strike="noStrike">
                <a:solidFill>
                  <a:srgbClr val="000000"/>
                </a:solidFill>
                <a:latin typeface="Times New Roman"/>
              </a:rPr>
              <a:t>，</a:t>
            </a:r>
            <a:r>
              <a:rPr b="0" lang="en-US" sz="1400" spc="-1" strike="noStrike">
                <a:solidFill>
                  <a:srgbClr val="000000"/>
                </a:solidFill>
                <a:latin typeface="Times New Roman"/>
              </a:rPr>
              <a:t>Takenori Sakamoto (Panasonic)</a:t>
            </a:r>
            <a:r>
              <a:rPr b="0" lang="zh-CN" sz="1400" spc="-1" strike="noStrike">
                <a:solidFill>
                  <a:srgbClr val="000000"/>
                </a:solidFill>
                <a:latin typeface="Times New Roman"/>
              </a:rPr>
              <a:t> </a:t>
            </a:r>
            <a:endParaRPr b="0" lang="en-US" sz="14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comment resolution for the teleconference calls on August 14, August 28, and September 4.</a:t>
            </a: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attend the September 2019 interim in Hanoi, Vietnam, please visit </a:t>
            </a:r>
            <a:r>
              <a:rPr b="0" lang="en-US" sz="1400" spc="-1" strike="noStrike" u="sng">
                <a:solidFill>
                  <a:srgbClr val="0066ff"/>
                </a:solidFill>
                <a:uFillTx/>
                <a:latin typeface="Times New Roman"/>
                <a:hlinkClick r:id="rId1"/>
              </a:rPr>
              <a:t>http://www.mtgevents.com.au/ieee2019/visa-and-travel/</a:t>
            </a:r>
            <a:r>
              <a:rPr b="0" lang="en-US" sz="1400" spc="-1" strike="noStrike">
                <a:solidFill>
                  <a:srgbClr val="000000"/>
                </a:solidFill>
                <a:latin typeface="Times New Roman"/>
              </a:rPr>
              <a:t>  and see if you need to apply for an e-visa.</a:t>
            </a:r>
            <a:endParaRPr b="0" lang="en-US" sz="1400" spc="-1" strike="noStrike">
              <a:solidFill>
                <a:srgbClr val="000000"/>
              </a:solidFill>
              <a:latin typeface="Times New Roman"/>
            </a:endParaRPr>
          </a:p>
          <a:p>
            <a:pPr lvl="1" marL="735480" indent="-28296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84000" indent="-22608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uly 31,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C72B5F-6DD1-495B-9E95-6E6794EB6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E9D765-7E66-4625-83FD-F4FF6D1F6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July 31, 20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516A02C-6E62-4D7F-8517-A0CC1BF45E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4E1F63F-DA44-499A-A9C5-B65A855D9D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6AD318-E7AB-46BD-889D-1CA2CD84D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BEEFA1-8900-43F8-A8BA-B04763BC3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622F562-AF27-491B-B01F-D46F7CB850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C70799-5B60-46FA-800F-3880212AA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uly 31 2019</cp:keywords>
  <dc:language>en-US</dc:language>
  <cp:lastModifiedBy>Kwok Shum Au (Edward)</cp:lastModifiedBy>
  <cp:lastPrinted>2014-11-04T15:04:57Z</cp:lastPrinted>
  <dcterms:modified xsi:type="dcterms:W3CDTF">2019-07-29T15:09:42Z</dcterms:modified>
  <cp:revision>4196</cp:revision>
  <dc:subject>Task Group AY November 2015 Meeting Agenda</dc:subject>
  <dc:title>19/1378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64086317</vt:lpwstr>
  </property>
</Properties>
</file>