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51F5C9B-70AD-4C48-ADCC-E379C56F79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6E6FF4-9E80-46C6-9D31-7D8225CF9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C8563F-4220-477E-B3B0-4F6B53679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4160" y="701640"/>
            <a:ext cx="4626000" cy="3468600"/>
          </a:xfrm>
          <a:prstGeom prst="rect">
            <a:avLst/>
          </a:prstGeom>
          <a:ln w="0">
            <a:noFill/>
          </a:ln>
        </p:spPr>
      </p:sp>
      <p:sp>
        <p:nvSpPr>
          <p:cNvPr id="6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28BAB4-0A91-47FA-AD2D-A446F0B6C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4160" y="701640"/>
            <a:ext cx="4626000" cy="3468600"/>
          </a:xfrm>
          <a:prstGeom prst="rect">
            <a:avLst/>
          </a:prstGeom>
          <a:ln w="0">
            <a:noFill/>
          </a:ln>
        </p:spPr>
      </p:sp>
      <p:sp>
        <p:nvSpPr>
          <p:cNvPr id="6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88DC8B-3C0B-430D-9EDC-9720065A9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60DB03-DCF8-4951-84F6-429F0C79F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54160" y="701640"/>
            <a:ext cx="4626000" cy="3468600"/>
          </a:xfrm>
          <a:prstGeom prst="rect">
            <a:avLst/>
          </a:prstGeom>
          <a:ln w="0">
            <a:noFill/>
          </a:ln>
        </p:spPr>
      </p:sp>
      <p:sp>
        <p:nvSpPr>
          <p:cNvPr id="6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4C1EDA6-C580-4FCD-9AB7-3468A5EB28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7680" y="696960"/>
            <a:ext cx="4640400" cy="3479760"/>
          </a:xfrm>
          <a:prstGeom prst="rect">
            <a:avLst/>
          </a:prstGeom>
          <a:ln w="0">
            <a:noFill/>
          </a:ln>
        </p:spPr>
      </p:sp>
      <p:sp>
        <p:nvSpPr>
          <p:cNvPr id="6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0903461-D6A9-4404-88F0-BECD64FF23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7680" y="696960"/>
            <a:ext cx="4640400" cy="3479760"/>
          </a:xfrm>
          <a:prstGeom prst="rect">
            <a:avLst/>
          </a:prstGeom>
          <a:ln w="0">
            <a:noFill/>
          </a:ln>
        </p:spPr>
      </p:sp>
      <p:sp>
        <p:nvSpPr>
          <p:cNvPr id="64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58CE9F9-3D24-4F40-9CF4-F8529B6DD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7D90055-5527-49BB-9C88-93468C250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62072F-575E-4E6D-9F12-CA31FA5B4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54160" y="701640"/>
            <a:ext cx="4626000" cy="3468600"/>
          </a:xfrm>
          <a:prstGeom prst="rect">
            <a:avLst/>
          </a:prstGeom>
          <a:ln w="0">
            <a:noFill/>
          </a:ln>
        </p:spPr>
      </p:sp>
      <p:sp>
        <p:nvSpPr>
          <p:cNvPr id="65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7BEC69-34BD-41E3-A756-D93561B95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36860B-4C97-4350-88A7-3369075AB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4276F-A9FA-4645-AFE5-E50349AE2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1DE88-CB26-420B-ACFB-A917E2EB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4DD5E1-DB87-4102-8726-8039E8884F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53E59B-7C2C-4CA2-95F0-A96D7A6213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6EAE8B-DC2F-4581-A19C-D14301292E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8DFE75-9264-45F1-B53B-3F5CD6F08E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7AAE7-145C-4601-A60F-E823C6216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4BE23B-6A18-4E3B-9612-83BBA1E56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19100E-982A-4034-A80D-1AC3735101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784DDE-901B-44DA-84FF-6C39746874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5D5DED-0C10-4985-B84D-4E85CC75D0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EF2022-E52C-4888-8ABA-A0FE44F4DE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AC9F7-0119-4294-837D-DFC8306E1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23161F-3AC3-428F-ABDF-D4CE2C9897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096256-C44E-4814-9EF0-C50022F1D6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F1DF79-D1CA-4431-AE56-845D6E105D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B5DD39-12CE-433A-8387-9E4C00DBE6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9A5A79-F546-4D9B-9E81-671B892CA1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2D05CC-AE37-4024-9F43-7E7CFA75CF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9E4D03-B294-4A9A-B133-C22A74D586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1A7DF-87CA-4903-87EA-CC3B5CD94A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6DBE6E-BC0E-4D27-BDDA-3C0E0CE99F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037127-9113-4775-90EB-F45FF4745E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2A365-C410-4DD9-B154-28F745268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91A80C-F880-4972-87EF-8BD6BB8544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56D9D5-678F-4C5C-9415-D20F480B1A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1760F8-E464-41C0-9CE7-9ED1EACBDC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91FCDF-48C5-4DEB-ABA6-8CBC7FF42D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A45907-BABB-4764-BC83-05FFD702CC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948386-36C5-4E03-8BEE-E6F0AC5A5A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F8B7DF-510E-41F5-8D58-ADE75C431D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617750-8E06-4F73-A046-E9E2BADCBB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33FDFE-458D-447A-9503-898E6EE474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53BFA4-2D2A-4877-A941-5BCE822082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1B736-7E77-4E3B-BD07-B7DA2A1C0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1A899D-7FA0-4075-BD3B-79D934DF3B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317F86-E936-447C-9F7C-2C1189FDD4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359A48-14A1-4EE7-B5B8-4B12F30B9A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585030-88A1-4A58-9646-AB83FAFC92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76DF33-3EC0-4545-9F8D-77BA85D04C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C3DE0C-9D70-4A36-B349-4DA8DFF4FC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2E5DAD-FC74-4C06-A0DB-A0FE52BCE2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623E2C-3AFD-4024-BCFD-E40503A349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686CC1-1DE0-45D8-A5C1-D052F46725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56B009-66FD-444F-982E-83C841268E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15206-03B5-4140-AA5A-D130EEF79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2808B9-D0CC-4155-9F65-CF7A460614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5DB864-5CF0-4253-A4FC-5E300E99BA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B45D56-55F6-4EB5-B7BC-D35B91C396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DB512B-6825-4254-AF72-83E5151392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2655FE-FEA7-40E1-8813-9AAC70D0DF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1F97F-4248-4C4B-B53C-A2308CB9F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5B461-991D-4CF5-822E-F3F8940C1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9357F-7EB5-433A-ADA4-2FD2ACDD6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3D2B5-C547-4571-8EDB-53AD1B914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7171B-D523-4010-9B9C-C7B703FA9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0ECE1-5361-494D-8D90-8E2F8BB68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1F96E-8FB3-452D-82A7-35E623499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7CAC6-51FB-42C9-BC0F-79ACCAFF3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07A8F-F59E-472B-BC4F-6731A8F88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9E4E7-D303-46D3-A78E-F3E082D75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C6F32-5363-45F1-AAF6-B7D9A21E9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724E13-1B8F-464F-877C-C372BA883C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EE60C-84EC-40A4-BDF9-580988AE3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0CD0D-1974-46D9-A8A6-70E0124B0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DFB3D5-CBE9-4861-B849-3A8DE3F8A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D83A1-C043-412C-AD4E-EA24B4C9E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12201-A4AD-4BCA-B894-8593D1157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9C518-B759-4AF6-9BA4-6F4AE18DA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A98BD-F8EC-4731-AFCF-8EAF35DA7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55560-D368-42BF-A90C-455AE6A74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2AF8B-6B2B-4EEF-A3CC-B793107E5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C8A80-8730-488D-9472-92CE5F0AB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297785-3AD5-4986-83A5-59209DE337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73B64-A3A1-4133-A51A-D14FE3805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205E56-5181-4A76-B0EF-872D3CD138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F2AD7-93C2-4BD2-BBD3-91286FB2E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06D5F-E545-49A8-BCC2-94F4A7569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F7680-5F15-41C7-A1D2-DDE4E57E3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61BBD-7FCF-4641-B6E7-586162074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B7D35-D819-41AB-A081-E33CE20A6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D6F35-D2CF-4720-AD13-B9FB0E503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C10BD-F860-4124-A394-0774209AC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A0418-B35D-4132-B44E-DDC4FF6F3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9C6F1-36EC-460D-BE58-007171DE2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6A2AB-62A9-4323-95D1-EA8BFF723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E6A96-C422-4034-ACAF-71BD034F3D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408E50-604D-40FC-892A-8823B012D8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9B09F8-CA18-4B13-AA0C-DF2E46685F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28462-B1E8-477A-A90D-5C57E5CA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93DA1-2761-460C-BB16-26F241C52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7AA303-F95A-466F-A496-A05D28A68A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030897-D348-47E0-845C-A2CF8411D8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8C740-9158-4A8D-BAE9-0C4A22BF5D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EE4CF3-A3A9-4FCB-A535-1222CFDC7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8110E-151B-4696-833D-E899AC8B2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E3C77-45FA-4DB6-BAA8-3CDF663F9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881D8-A6CE-470B-BF11-75AE78FB9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71E376-621B-4DA9-BF10-8EB0C51730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28A806-6871-4909-837B-BF3AC692A0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5ABC1-A057-42A9-BEA0-DE1EF1D7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10B495-D8CA-46AE-B8FE-5FF90DFD4B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DCDC67-011F-4E84-8802-B7600DA069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BB7E6-AEB3-4E38-967D-F11752AF1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B5E5AC-26D8-453A-AFD1-FA7248EBF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C36D0F-D77D-4232-B9BD-8DDBF3B82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BFC913-8507-488C-A669-B9FA1CD85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C193B-8004-44F4-8B22-4B839C9723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84393-1A4C-4AF7-A561-CD2443324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3E7A8-CE18-4DEC-8E12-4140231B4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9E018-F4AC-4CA5-925D-83C405AE2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16CF-82AD-4A18-9AB8-25B971F3A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3669A-E8D4-437F-BC0A-E2A255972E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716F63-1452-4C00-9A86-5FF6F8BC9E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7B23EF-E538-44A7-9AE9-A5FBE35F19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F3E477-F32F-46AE-B958-820805B1D4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424ED-D2FF-4654-BB10-A242F32D5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7E600C-6C73-4D99-AA9B-19E59BE39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3846EB-ED65-4876-9E9A-CFAA1FE0F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4C37CB-F3EF-4E9E-A35C-C43A637BC5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3035C-AFBC-4ACA-BFBA-78B22A53A1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7C5C1-0D08-4C75-81EF-A4ED59858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0A02C-7DE0-4A8A-90A3-42D670B09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BC83F-473F-49D0-91E6-66B1F1076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34254-A2C1-4DF6-917B-48169E939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0314B2-B5A0-4D41-9D99-F7971C349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DBCA56-3504-4D07-9D5F-CDE95A17C6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B89398-4B65-4705-A395-EBD8A6CB08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997A89-7C06-4D98-8278-F61D733A28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E02361-1533-4A3A-93F2-228FD361B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2A67F2-7373-4F32-A851-57708190F0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D50264-860A-4826-B90A-E52106BB03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07CDA-4178-44EC-8379-A949AB44B7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31B3-235F-4C3D-82ED-D0BB11A44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6F493-9969-444F-BA57-D23833F8C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93C9E-F18F-4AFD-883C-F92781BB1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F0916-07A0-4891-9E1A-21A6E10C2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C3900-0FBA-4A93-A3AB-5AC9BBCC61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3C312E-0D21-4E0B-A2CC-8643FB4870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A96851-F156-4B59-85AC-F56CB0EADE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4AF008-ADD9-4487-A173-9F7952759D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442DC5-B892-404F-A299-AFE0A17372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9935CC-91E3-4CAA-9E8E-1DDD7BF600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E459AF-28F6-4466-9EF6-262EF5B871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06BDA75-9842-4FA9-9C26-E9AFE48A6F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7437DBC-BE3D-4D92-86D0-728C39C0C2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AC441CE-3480-4EE9-AB8B-3859076013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1DEE970-1F34-4A79-9ED9-AA8BE59ABD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AF7F771-D0A0-49D2-A393-EB3FE2DDEE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B4D2A1B-F288-4F68-A42C-C657D8D430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798FE5-4ECD-4336-94A7-C3040CFADD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D7F0BF5-3654-42C3-A701-9F434FFE44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7CDA8C0-F2A3-4D24-8E14-D71E9E408F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8A5B826-D076-45FE-8ECF-135D8DE8F1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C90F0D1-8373-4E7F-AF81-C0031A54AD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F563F39-0F00-4FF8-A8CD-AEFCBC1164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tgevents.com.au/ieee2019/visa-and-travel/"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8ABD3E-5F85-405A-85B6-5586E216C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31,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3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09EFD9-3BC6-4B8A-83A5-DBA9F93B0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5BA131-5A64-4A49-AFB0-76F21C889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year PAR extension request (19/0673r0) is approved by the IEEE 802 EC.  </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xpiry date is now extended to December 31, 2021.</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eed to wait for TGmd and TGax to start their initial SA technical letter ballots before we proceed our initial SA technical letter ballot.</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ublication order of TGax and TGay will be discussed in the Editor’s meeting in the November 2019 plenary.</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375r0</a:t>
            </a:r>
            <a:r>
              <a:rPr b="0" lang="zh-CN" sz="1400" spc="-1" strike="noStrike">
                <a:solidFill>
                  <a:srgbClr val="000000"/>
                </a:solidFill>
                <a:latin typeface="Times New Roman"/>
              </a:rPr>
              <a:t>， </a:t>
            </a:r>
            <a:r>
              <a:rPr b="0" lang="en-US" sz="1400" spc="-1" strike="noStrike">
                <a:solidFill>
                  <a:srgbClr val="000000"/>
                </a:solidFill>
                <a:latin typeface="Times New Roman"/>
              </a:rPr>
              <a:t>Comment resolution on CID5054 and 5055</a:t>
            </a:r>
            <a:r>
              <a:rPr b="0" lang="zh-CN" sz="1400" spc="-1" strike="noStrike">
                <a:solidFill>
                  <a:srgbClr val="000000"/>
                </a:solidFill>
                <a:latin typeface="Times New Roman"/>
              </a:rPr>
              <a:t>，</a:t>
            </a:r>
            <a:r>
              <a:rPr b="0" lang="en-US" sz="1400" spc="-1" strike="noStrike">
                <a:solidFill>
                  <a:srgbClr val="000000"/>
                </a:solidFill>
                <a:latin typeface="Times New Roman"/>
              </a:rPr>
              <a:t>Takenori Sakamoto (Panasonic)</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comment resolution for the teleconference calls on August 14, August 28, and September 4.</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attend the September 2019 interim in Hanoi, Vietnam, please visit </a:t>
            </a:r>
            <a:r>
              <a:rPr b="0" lang="en-US" sz="1400" spc="-1" strike="noStrike" u="sng">
                <a:solidFill>
                  <a:srgbClr val="0066ff"/>
                </a:solidFill>
                <a:uFillTx/>
                <a:latin typeface="Times New Roman"/>
                <a:hlinkClick r:id="rId1"/>
              </a:rPr>
              <a:t>http://www.mtgevents.com.au/ieee2019/visa-and-travel/</a:t>
            </a:r>
            <a:r>
              <a:rPr b="0" lang="en-US" sz="1400" spc="-1" strike="noStrike">
                <a:solidFill>
                  <a:srgbClr val="000000"/>
                </a:solidFill>
                <a:latin typeface="Times New Roman"/>
              </a:rPr>
              <a:t>  and see if you need to apply for an e-visa.</a:t>
            </a:r>
            <a:endParaRPr b="0" lang="en-US" sz="1400" spc="-1" strike="noStrike">
              <a:solidFill>
                <a:srgbClr val="000000"/>
              </a:solidFill>
              <a:latin typeface="Times New Roman"/>
            </a:endParaRPr>
          </a:p>
          <a:p>
            <a:pPr lvl="1" marL="735480" indent="-28296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84000" indent="-22608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31,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CDEE04-1BB6-4B4D-83EA-074101B84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05FD74-E183-4254-9332-1FB46B5EF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July 31,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8E852A8-4A34-40B7-A533-E42A903427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2D162E5-D91F-45B7-ABE2-85198DE3E4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39A3A7-F86A-4CDB-9A66-A7A143BAA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D09E5D-2E6F-455A-A5D5-BE62CBFE7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C5F5847-ABAA-4144-9A4F-3CA3F8D71A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EC83F0-6B8D-4CF1-A801-96A69B885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31 2019</cp:keywords>
  <dc:language>en-US</dc:language>
  <cp:lastModifiedBy>Kwok Shum Au (Edward)</cp:lastModifiedBy>
  <cp:lastPrinted>2014-11-04T15:04:57Z</cp:lastPrinted>
  <dcterms:modified xsi:type="dcterms:W3CDTF">2019-07-29T15:09:42Z</dcterms:modified>
  <cp:revision>4196</cp:revision>
  <dc:subject>Task Group AY November 2015 Meeting Agenda</dc:subject>
  <dc:title>19/1378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64086317</vt:lpwstr>
  </property>
</Properties>
</file>