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63651CD3-86C6-4CB7-8E82-2F71F4F343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77B1AA-3140-45AB-9843-F71951D89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54160" y="701640"/>
            <a:ext cx="4626000" cy="3468600"/>
          </a:xfrm>
          <a:prstGeom prst="rect">
            <a:avLst/>
          </a:prstGeom>
          <a:ln w="0">
            <a:noFill/>
          </a:ln>
        </p:spPr>
      </p:sp>
      <p:sp>
        <p:nvSpPr>
          <p:cNvPr id="6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54160" y="701640"/>
            <a:ext cx="4626000" cy="3468600"/>
          </a:xfrm>
          <a:prstGeom prst="rect">
            <a:avLst/>
          </a:prstGeom>
          <a:ln w="0">
            <a:noFill/>
          </a:ln>
        </p:spPr>
      </p:sp>
      <p:sp>
        <p:nvSpPr>
          <p:cNvPr id="6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576B38-BD3C-494F-9B18-C2400A403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54160" y="701640"/>
            <a:ext cx="4626000" cy="3468600"/>
          </a:xfrm>
          <a:prstGeom prst="rect">
            <a:avLst/>
          </a:prstGeom>
          <a:ln w="0">
            <a:noFill/>
          </a:ln>
        </p:spPr>
      </p:sp>
      <p:sp>
        <p:nvSpPr>
          <p:cNvPr id="6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35E492-5948-494D-9F6C-48C85908A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54160" y="701640"/>
            <a:ext cx="4626000" cy="3468600"/>
          </a:xfrm>
          <a:prstGeom prst="rect">
            <a:avLst/>
          </a:prstGeom>
          <a:ln w="0">
            <a:noFill/>
          </a:ln>
        </p:spPr>
      </p:sp>
      <p:sp>
        <p:nvSpPr>
          <p:cNvPr id="6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8BF449-B49A-4DD2-B265-F67A91567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54160" y="701640"/>
            <a:ext cx="4626000" cy="3468600"/>
          </a:xfrm>
          <a:prstGeom prst="rect">
            <a:avLst/>
          </a:prstGeom>
          <a:ln w="0">
            <a:noFill/>
          </a:ln>
        </p:spPr>
      </p:sp>
      <p:sp>
        <p:nvSpPr>
          <p:cNvPr id="7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0D7D92-A00E-47C6-93A1-8EF968FDE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54160" y="701640"/>
            <a:ext cx="4626000" cy="3468600"/>
          </a:xfrm>
          <a:prstGeom prst="rect">
            <a:avLst/>
          </a:prstGeom>
          <a:ln w="0">
            <a:noFill/>
          </a:ln>
        </p:spPr>
      </p:sp>
      <p:sp>
        <p:nvSpPr>
          <p:cNvPr id="7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C72E1E-8CA7-43B4-BB74-E64974782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54160" y="701640"/>
            <a:ext cx="4626000" cy="3468600"/>
          </a:xfrm>
          <a:prstGeom prst="rect">
            <a:avLst/>
          </a:prstGeom>
          <a:ln w="0">
            <a:noFill/>
          </a:ln>
        </p:spPr>
      </p:sp>
      <p:sp>
        <p:nvSpPr>
          <p:cNvPr id="7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603E5E-032A-492F-B8B3-7226CCA09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5D2BB0-E5A7-44DD-A789-84EAE3D2A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AA1008-ED83-4532-9AE7-B0A338D78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54160" y="701640"/>
            <a:ext cx="4626000" cy="3468600"/>
          </a:xfrm>
          <a:prstGeom prst="rect">
            <a:avLst/>
          </a:prstGeom>
          <a:ln w="0">
            <a:noFill/>
          </a:ln>
        </p:spPr>
      </p:sp>
      <p:sp>
        <p:nvSpPr>
          <p:cNvPr id="6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049EA42-5803-46DA-8FD6-52E145B1AC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7680" y="696960"/>
            <a:ext cx="4640400" cy="3479760"/>
          </a:xfrm>
          <a:prstGeom prst="rect">
            <a:avLst/>
          </a:prstGeom>
          <a:ln w="0">
            <a:noFill/>
          </a:ln>
        </p:spPr>
      </p:sp>
      <p:sp>
        <p:nvSpPr>
          <p:cNvPr id="65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47C7840-A052-4B44-9709-897D0FC0C3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7680" y="696960"/>
            <a:ext cx="4640400" cy="3479760"/>
          </a:xfrm>
          <a:prstGeom prst="rect">
            <a:avLst/>
          </a:prstGeom>
          <a:ln w="0">
            <a:noFill/>
          </a:ln>
        </p:spPr>
      </p:sp>
      <p:sp>
        <p:nvSpPr>
          <p:cNvPr id="66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188D666-6B2F-4A3A-8CC0-B34F395CA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F9F3A88-F375-4F7B-AF7E-CE9FD6C1D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54160" y="701640"/>
            <a:ext cx="4626000" cy="3468600"/>
          </a:xfrm>
          <a:prstGeom prst="rect">
            <a:avLst/>
          </a:prstGeom>
          <a:ln w="0">
            <a:noFill/>
          </a:ln>
        </p:spPr>
      </p:sp>
      <p:sp>
        <p:nvSpPr>
          <p:cNvPr id="6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6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7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19AE17-D380-4878-A756-99A1A0576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54160" y="701640"/>
            <a:ext cx="4626000" cy="3468600"/>
          </a:xfrm>
          <a:prstGeom prst="rect">
            <a:avLst/>
          </a:prstGeom>
          <a:ln w="0">
            <a:noFill/>
          </a:ln>
        </p:spPr>
      </p:sp>
      <p:sp>
        <p:nvSpPr>
          <p:cNvPr id="67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8EAA89-76A2-48D4-BA4C-9A1B5924D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7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8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8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A2BA5C-DC58-4C4D-805F-0B492261D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54160" y="701640"/>
            <a:ext cx="4626000" cy="3468600"/>
          </a:xfrm>
          <a:prstGeom prst="rect">
            <a:avLst/>
          </a:prstGeom>
          <a:ln w="0">
            <a:noFill/>
          </a:ln>
        </p:spPr>
      </p:sp>
      <p:sp>
        <p:nvSpPr>
          <p:cNvPr id="6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4C285-B918-4D35-86A5-BD120CBDF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CE4F0-D525-4EA8-A96F-AA4D15540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5B7FA2-D4C4-4454-9C8E-F7DC24BEDB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D5CC9E-0284-4E63-BEF6-FC7C94C238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6BEE3F-9832-4CD9-8266-A3BC956D07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4ED29-E92C-49FB-8285-4D8B7CEB29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BCB3C-D11C-4330-B0E7-BA85823616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55715E-C17A-41CE-BDA8-A437988206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9CFA24-C998-4729-B7DE-494F7E2070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DBEE7B-0F9A-479F-916C-CDB88E01FF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7E3A0C-606A-4DCF-A213-D3E62393ED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6B0FEF-5B27-4DE0-8AFC-875EFCEE73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9587A-B2D0-4809-9E44-1EA74B6F0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81588E-F7BD-44FC-A04F-E2512D838D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28D6B9-7DEE-46AC-9411-A9D7B57301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8D8F75-DC8E-437C-AF29-0039B27DB6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6600FF-4205-42B9-9C54-4E3AA0A0DF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4A7DE3-909E-4769-979D-2346350BC4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D4EF00-140A-4289-AD8C-695ABF917B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D99164-CC7C-48CA-A79E-3AAE5F4B8E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89D8F6-FDD7-4CF2-BFE9-992BA7FFB0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1A1511-5E9C-42BB-BC8B-F36FF23C6F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0E9C4E-D943-4863-8251-590A158CB1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97735-9E94-4DDF-B9A2-4230557A2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258E35-007E-43B3-93DA-9112AF12D7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F91302-2E5D-4C14-9C62-E037A7B40C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957496-BACD-4A1B-AAC4-91F1489B47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791E3F-849B-4253-94DA-8875C41AD6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F93961-1FFD-4307-BAF5-680EDA439B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643C27-7886-4C90-8F78-804A4C8A09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ADD5B1-2FB8-4E89-B5BE-14BC2EA41C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D760FE-F2AB-42D8-BD16-03A66E9481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B65D03-BF2E-49D5-A2CD-F163EF9E98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DAB8DC-61E0-4EA0-819A-9C91681D65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2F895-47FE-452F-B9F4-143210DF9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A9655D-D68F-47FC-8ABF-2197176E5A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6D90CC-F9E3-402F-9A78-F29327E610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3E39C2-B6A8-4B74-B354-C3946DD071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E9FBA4-370B-4441-9F60-8842353AD8A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1E9F58-E2B2-45A8-94A8-306F695402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8A4547-4771-4E0F-8882-7D0BF9F774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32B9E5-5351-4694-B4A9-2F242B8D22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8C3F36-C8B3-456C-BEEB-1BF52773A4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AE5955-F669-4D72-8CF7-EC039F4F67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A11E8E-AE2B-4688-BFF4-DAF53D86D4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1293B-B813-44B6-BB3A-9D6D39532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7581B6-302C-4BCF-AAF5-5F15E88426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99087C-7BFF-421D-880A-603A3000AE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EF9432-9958-41B8-98C9-D53E7DF353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6E5FDB3-E9DA-45BC-A336-F59D366410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DF9B27-FB86-484C-B446-5F6C646981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60A9B-00A3-46E8-889D-6DD076F4C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93FEC-7AA1-4001-96AD-D3CF9854D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D8F8F-8584-4F80-8B1E-FD5DFA79F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1FE38-D3D4-4E57-A990-12CE24FA2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878D9-C922-4365-924B-A99E3D057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2483F-A0BD-4489-8F78-6E0B9DF40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02337-792F-42EA-A315-130EB6D19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A0B53-97A7-4118-98F1-F21176436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0CB18-509E-47A9-B110-90770C6B5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B797B-256A-4E14-842A-33329746E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CCE0B-21DD-470F-9794-546A976A2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253104-11F7-4DFA-9323-CF9B553DF9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9AAEBC-902F-4297-B51A-224B66D95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E5E7E-9F1C-4ABD-B226-6DF1A8DF74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530CC-6201-43B2-ADA7-032F13A6B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BB6903-FA2A-4A7B-A155-3FBE2CAA81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E44CC-BB6F-4123-80CE-94883C795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F8D536-0395-4EDF-9BEE-2FEDDB2F94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D3332-9F32-4D5F-A87A-C76A31FE0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AC94C-B13F-447A-B86C-B6BBE6965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F74DC-D10E-44CA-9C5C-901404AA8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6E7F4-5C22-4E1F-BC17-DB1CF6ED9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37D58B-9AF8-4F3C-8FE8-356437364D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00F035-225F-4F40-AEF4-4B439EB8D7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C04606-5335-4F70-B30C-B0CE918245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40200-2954-4A84-ADA5-140536D70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D9C58-93E5-4D16-978D-03F9EAC60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40029-B2E9-46A0-8370-809A384EE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A8DB6-DE48-43B8-8674-48F9D793F6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93AFA-9E56-44CF-A8A9-78FBCDA42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CB985A-20DA-4498-89CC-5E7AD3014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AE1B9A-3A16-424D-8A22-87F48AB77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38D81-835A-4DCB-BD4E-1F777CA24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5DCA74-CB90-4A3C-859B-37B42F794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72361F-75BE-4B5C-98D9-7C2B4D7492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21F3EE-D6CE-470D-A56E-47DDCDB1DA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BC6132-014D-4F41-8C60-C7EE440922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E6AF0E-D2B6-43DE-BE11-7FAE5A3A85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23669-B9D9-4E16-BF26-E4E4BEF80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F117F0-3AD8-4623-90BF-FE1C7F7B8E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8355D-BF2E-412B-9C1E-F84DD53B66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4B6F9E-0544-4E03-86A2-7041BDE60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3E7CB4-120D-4333-BBDF-CE1C7FC229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ADF541-1FDD-4304-A6D1-5F439D6428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461DE2-6D85-4814-AFCC-C15A64C46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9E539-8087-45ED-8822-2000A40C3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948B2A-4576-4243-8AD6-C4E2B94AD3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CD223-3462-4E05-B782-790A0C715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C75B68-8F9B-4508-AAEB-8E894C0F10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9924A-CF27-4F5D-8B57-321DC3D76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A3B718-F787-4870-B860-C21166FC66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6C8826-6AE6-4E7C-971C-42678F22B4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A824C7-578E-42A7-A205-35E874BF65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924EB7-2F94-49C1-88F1-ACCAB32E4D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11BFE8-99D8-4802-80F7-1E296BB2E9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CCE31E-417F-4B97-B938-6A1C8CACE2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DAF5A0-B74C-471C-B0D3-FDE59C4B12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F11343-F1B1-4A7C-9A09-772E125F2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D006FB-9D77-4CD6-86E4-396420095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EC345-0BD7-4674-8573-1370361CCE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27526-80AD-44B4-8D29-EA35BB910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319F1D-4607-4D1A-AFDA-CCD03B968E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1F41C5-E916-46AD-991E-14E57160F7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404F22-C7EA-495A-BC72-993EDEE938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F0CEF6-E6DB-4BF3-B4C1-7891E34E36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8D748F-A6BB-4B46-9450-4C4F97F3CA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4B3D50-117F-4FAF-891E-6279EE975A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44E052-F8DD-4BE5-8AAC-ADEB13C19A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78D9FE-4B27-4E31-A868-6DE0950E15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44CD19-C71D-4944-94E0-47A4C7E79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EDD6B-A6ED-476D-ADD4-E87FCADE4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6432-F383-4FB2-A617-AB3B3EF89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7F0C4-7393-4E23-989B-4B7AB8EB76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7BD822-D3D5-47CD-BE15-A852DFB85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D5ED66-60E9-424A-ABF0-2E68282BF5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D2BF42-7990-4373-B2D4-D19F7640EA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9A3EFA-BD26-44BE-9B0B-DDA3A906EF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6BEDA7-277E-4B2B-BA4C-B76927D991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08BAAD-572A-4291-955F-C4DC0D9BE1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DD9DD2-B8CB-4FA0-A127-04DC2CA0FB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4C9A46-C257-45C6-B144-96CD165CCA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640C73-2CBF-4DAD-9075-8773600563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699A0-B3AE-48FC-B96E-B9C41495E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8E30C-37D4-4ED6-8668-AF5C06445E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9CF69-3898-43E2-99D7-A61C7FE07E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F47583-90B3-49D5-B580-1B4030EED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3C0D12-352C-4BD3-BE0D-83BC3A59BE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695A5C-8DB9-4087-8A15-01CB456A63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1ADBE4-DB5B-4CAD-86EC-3B241B131E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5CC0C3-235A-4998-BF28-31F3212414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50E0E4-26A9-421B-AF52-1471F138FD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2EFEEE-4DB0-4A60-A135-C666E10917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C7D306-21DC-4DBB-A01A-2C2F092BC7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E3CA55F-3D7F-4B4B-9B11-AE88EC4835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F6826F5-67C7-4F9B-A1C6-6FB06453C2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6789206-2095-42B5-99C5-59CD53D512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E7540A9-F9EA-444C-BC8B-64BE28953E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FBD7814-FEDC-433D-94DF-14A2D32562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5DDBBB9-76BA-4DFF-B334-36A5EE2C043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678BF52-1A76-4525-9FB2-EEC3B13815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2D56251-1202-4F52-8C5B-15D9E28A64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7390ADD-8F3E-4D7B-8565-4F409B1817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DD7758D-F804-4D1E-896A-8961524F67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FDB5500-52E7-4BE6-BFF6-6E6C179668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CCB7073-1C91-481C-AFF3-2C86165C44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A4DFCA-61B5-488F-BE49-83D1E4A3F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10, 2019,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01D5C1-719E-4877-B26A-E76EE115F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date on the IEEE SA ballot pool</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of the second recirculation WG letter ballo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of the comments received from LB242</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 on the next step and way forward option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in the July 2019 plenary</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158773-D31A-438D-BD64-C1D7AE7AB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SA ballot pool</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 from June 4 to July 3</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7 members enrolled</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ember pool is valid for 6 month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first SA ballot shall be started no later than January 3, 2020, or otherwise another SA ballot pool invitation is needed</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E836EE-20C4-4B4F-8D6F-79FE15824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457200" y="533520"/>
            <a:ext cx="830592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recirculation WG letter ballot LB242</a:t>
            </a:r>
            <a:endParaRPr b="0" lang="en-US" sz="3200" spc="-1" strike="noStrike">
              <a:solidFill>
                <a:srgbClr val="000000"/>
              </a:solidFill>
              <a:latin typeface="Times New Roman"/>
            </a:endParaRPr>
          </a:p>
        </p:txBody>
      </p:sp>
      <p:sp>
        <p:nvSpPr>
          <p:cNvPr id="6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96.97% approval rate and 64 comment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 technical comments;   </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 editorial comments;</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 general comments</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ere are 8 disapprove votes;  among which 3 of them submitted technical comments </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spreadsheet for D4.0:</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1180r0</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storical result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0:  74%  (The initial letter ballot was failed on January 2018)</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2.0:  93%  (The second letter ballot was passed on August 2018)</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3.0:  93%  (The first recirculation letter ballot was passed on February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923D0C-6A3B-4CF2-9178-64376596E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457200" y="533520"/>
            <a:ext cx="830592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xt step per our agreed timeline</a:t>
            </a:r>
            <a:endParaRPr b="0" lang="en-US" sz="3200" spc="-1" strike="noStrike">
              <a:solidFill>
                <a:srgbClr val="000000"/>
              </a:solidFill>
              <a:latin typeface="Times New Roman"/>
            </a:endParaRPr>
          </a:p>
        </p:txBody>
      </p:sp>
      <p:sp>
        <p:nvSpPr>
          <p:cNvPr id="619"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e a slide deck asking for a conditional approval from IEEE 802 EC to go to IEEE SA ballot </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ask group discussion on whether we ask for conditional approval using D4.0 or D5.0 (see the next slide)</a:t>
            </a:r>
            <a:endParaRPr b="0" lang="en-US" sz="16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 Working Group Chair’s guidance, once the task group has the conditional approval from the EC, the task group can operate in the special accelerated mode, making decisions on teleconferences. </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4D990B-1AA6-4349-9E0D-3F63691A7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457200" y="533520"/>
            <a:ext cx="830592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 forward options</a:t>
            </a:r>
            <a:endParaRPr b="0" lang="en-US" sz="3200" spc="-1" strike="noStrike">
              <a:solidFill>
                <a:srgbClr val="000000"/>
              </a:solidFill>
              <a:latin typeface="Times New Roman"/>
            </a:endParaRPr>
          </a:p>
        </p:txBody>
      </p:sp>
      <p:sp>
        <p:nvSpPr>
          <p:cNvPr id="624"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1</a:t>
            </a:r>
            <a:endParaRPr b="0" lang="en-US" sz="20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comments with sufficient justification in the July plenary (4 sessions);</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4.0 in the IEEE 802 EC closing plenary on July 19;</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 another 15-day recirculation working group letter ballot for D4.0 (i.e., unchanged draft) tentatively from July 22 to August 5;</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tentatively from August 12 to September 11. </a:t>
            </a:r>
            <a:endParaRPr b="0" lang="en-US" sz="1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2</a:t>
            </a:r>
            <a:endParaRPr b="0" lang="en-US" sz="20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all comments in the July plenary (4 sessions)</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5.0 in the IEEE 802 EC closing plenary on July 19;</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uming Editor needs two weeks to prepare D5.0, issue a 15-day recirculation working group letter ballot tentatively from August 5 to August 19;</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the comments received from D5.0 with sufficient justification as soon as possible during teleconference calls;</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i.e., unchanged draft) immediately afterwards, which requires a task group motion in a teleconference call (see the condition set in the previous slide);</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immediately afterwards.</a:t>
            </a:r>
            <a:endParaRPr b="0" lang="en-US" sz="1400" spc="-1" strike="noStrike">
              <a:solidFill>
                <a:srgbClr val="000000"/>
              </a:solidFill>
              <a:latin typeface="Times New Roman"/>
            </a:endParaRPr>
          </a:p>
          <a:p>
            <a:pPr lvl="1" marL="727920" indent="-2800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68160" indent="-2239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AB2BBA-4C1E-4BA7-B541-8F01B5C43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457200" y="533520"/>
            <a:ext cx="830592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 for the July plenary</a:t>
            </a:r>
            <a:endParaRPr b="0" lang="en-US" sz="3200" spc="-1" strike="noStrike">
              <a:solidFill>
                <a:srgbClr val="000000"/>
              </a:solidFill>
              <a:latin typeface="Times New Roman"/>
            </a:endParaRPr>
          </a:p>
        </p:txBody>
      </p:sp>
      <p:sp>
        <p:nvSpPr>
          <p:cNvPr id="629"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on the way forward option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ve comments based on the agreed way forward option</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conditional approval slide deck</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requires approval from both the task group and the working group before forwarding it to EC for consideration</a:t>
            </a:r>
            <a:endParaRPr b="0" lang="en-US" sz="1600" spc="-1" strike="noStrike">
              <a:solidFill>
                <a:srgbClr val="000000"/>
              </a:solidFill>
              <a:latin typeface="Times New Roman"/>
            </a:endParaRPr>
          </a:p>
          <a:p>
            <a:pPr marL="343080" indent="-343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ve comments on the PAR extension document, if any</a:t>
            </a:r>
            <a:endParaRPr b="0" lang="en-US" sz="2000" spc="-1" strike="noStrike">
              <a:solidFill>
                <a:srgbClr val="000000"/>
              </a:solidFill>
              <a:latin typeface="Times New Roman"/>
            </a:endParaRPr>
          </a:p>
          <a:p>
            <a:pPr marL="343080" indent="-343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r technical contributions, which are of the lowest priority with respect to the above 4 items and are time permitted only</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10,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E3E771-C6A7-447D-959E-565F96B53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B10D45-3585-4550-93D7-8A341DCB4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July 10,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3A8E14F-E633-4C91-B992-71FE846550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360C80E-DE08-4CC2-AFDE-2787358771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5D916B-3348-41EA-A871-CE47E9741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16193C-688F-43BC-A51E-3FEE9E95F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67FC6C5-6780-4870-89C1-92C36239D4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4BE76B-1A92-4979-BADD-CC310F4EE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10 2019</cp:keywords>
  <dc:language>en-US</dc:language>
  <cp:lastModifiedBy>Edward Au</cp:lastModifiedBy>
  <cp:lastPrinted>2014-11-04T15:04:57Z</cp:lastPrinted>
  <dcterms:modified xsi:type="dcterms:W3CDTF">2019-07-10T09:08:22Z</dcterms:modified>
  <cp:revision>4188</cp:revision>
  <dc:subject>Task Group AY November 2015 Meeting Agenda</dc:subject>
  <dc:title>19/117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