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30D7EB51-B25E-4FFF-A0BD-3FD0E5DE4F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A77C64-954D-4E53-A900-F73D29101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54160" y="701640"/>
            <a:ext cx="4626000" cy="3468600"/>
          </a:xfrm>
          <a:prstGeom prst="rect">
            <a:avLst/>
          </a:prstGeom>
          <a:ln w="0">
            <a:noFill/>
          </a:ln>
        </p:spPr>
      </p:sp>
      <p:sp>
        <p:nvSpPr>
          <p:cNvPr id="6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54160" y="701640"/>
            <a:ext cx="4626000" cy="3468600"/>
          </a:xfrm>
          <a:prstGeom prst="rect">
            <a:avLst/>
          </a:prstGeom>
          <a:ln w="0">
            <a:noFill/>
          </a:ln>
        </p:spPr>
      </p:sp>
      <p:sp>
        <p:nvSpPr>
          <p:cNvPr id="6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DC8B9B-43EC-4815-93A0-1E10CC9B3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54160" y="701640"/>
            <a:ext cx="4626000" cy="3468600"/>
          </a:xfrm>
          <a:prstGeom prst="rect">
            <a:avLst/>
          </a:prstGeom>
          <a:ln w="0">
            <a:noFill/>
          </a:ln>
        </p:spPr>
      </p:sp>
      <p:sp>
        <p:nvSpPr>
          <p:cNvPr id="6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875B9B-2D73-40DF-BDB0-F1A56F4D0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54160" y="701640"/>
            <a:ext cx="4626000" cy="3468600"/>
          </a:xfrm>
          <a:prstGeom prst="rect">
            <a:avLst/>
          </a:prstGeom>
          <a:ln w="0">
            <a:noFill/>
          </a:ln>
        </p:spPr>
      </p:sp>
      <p:sp>
        <p:nvSpPr>
          <p:cNvPr id="6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16337F-7E8F-4952-A00F-69F97F744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54160" y="701640"/>
            <a:ext cx="4626000" cy="3468600"/>
          </a:xfrm>
          <a:prstGeom prst="rect">
            <a:avLst/>
          </a:prstGeom>
          <a:ln w="0">
            <a:noFill/>
          </a:ln>
        </p:spPr>
      </p:sp>
      <p:sp>
        <p:nvSpPr>
          <p:cNvPr id="7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354340-795A-4DC3-86E1-C5AD88A57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54160" y="701640"/>
            <a:ext cx="4626000" cy="3468600"/>
          </a:xfrm>
          <a:prstGeom prst="rect">
            <a:avLst/>
          </a:prstGeom>
          <a:ln w="0">
            <a:noFill/>
          </a:ln>
        </p:spPr>
      </p:sp>
      <p:sp>
        <p:nvSpPr>
          <p:cNvPr id="7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8EBF1E-0EEA-4821-81B1-C56D122AD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54160" y="701640"/>
            <a:ext cx="4626000" cy="3468600"/>
          </a:xfrm>
          <a:prstGeom prst="rect">
            <a:avLst/>
          </a:prstGeom>
          <a:ln w="0">
            <a:noFill/>
          </a:ln>
        </p:spPr>
      </p:sp>
      <p:sp>
        <p:nvSpPr>
          <p:cNvPr id="7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A4C697-F88A-4F25-8759-79835D722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8851B8-76D3-42C3-AD03-14219DECC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CC9547-7F02-4F27-9F5B-D6C78930B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4160" y="701640"/>
            <a:ext cx="4626000" cy="3468600"/>
          </a:xfrm>
          <a:prstGeom prst="rect">
            <a:avLst/>
          </a:prstGeom>
          <a:ln w="0">
            <a:noFill/>
          </a:ln>
        </p:spPr>
      </p:sp>
      <p:sp>
        <p:nvSpPr>
          <p:cNvPr id="6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82C4802-2BA2-4E03-89B3-21794F8FE8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7680" y="696960"/>
            <a:ext cx="4640400" cy="3479760"/>
          </a:xfrm>
          <a:prstGeom prst="rect">
            <a:avLst/>
          </a:prstGeom>
          <a:ln w="0">
            <a:noFill/>
          </a:ln>
        </p:spPr>
      </p:sp>
      <p:sp>
        <p:nvSpPr>
          <p:cNvPr id="65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FFE3EC4-E191-427E-819F-6EDF8833D5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7680" y="696960"/>
            <a:ext cx="4640400" cy="3479760"/>
          </a:xfrm>
          <a:prstGeom prst="rect">
            <a:avLst/>
          </a:prstGeom>
          <a:ln w="0">
            <a:noFill/>
          </a:ln>
        </p:spPr>
      </p:sp>
      <p:sp>
        <p:nvSpPr>
          <p:cNvPr id="66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9DAD563-BA5F-4ED9-9607-CEB161B2C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03B42D-0EE0-45C0-93CF-7194A3907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7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9E1409-8064-41A0-8549-4186FC0D2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54160" y="701640"/>
            <a:ext cx="4626000" cy="3468600"/>
          </a:xfrm>
          <a:prstGeom prst="rect">
            <a:avLst/>
          </a:prstGeom>
          <a:ln w="0">
            <a:noFill/>
          </a:ln>
        </p:spPr>
      </p:sp>
      <p:sp>
        <p:nvSpPr>
          <p:cNvPr id="67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7506E9-A032-4F2A-A4CD-EB1611270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8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8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EA2578-8F75-418C-A562-1F0ABADA6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54160" y="701640"/>
            <a:ext cx="4626000" cy="3468600"/>
          </a:xfrm>
          <a:prstGeom prst="rect">
            <a:avLst/>
          </a:prstGeom>
          <a:ln w="0">
            <a:noFill/>
          </a:ln>
        </p:spPr>
      </p:sp>
      <p:sp>
        <p:nvSpPr>
          <p:cNvPr id="6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F9C91-5528-43EB-B3E8-5445AD617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A4D04-4DA2-43D0-A79A-B9EC062D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FE47C4-E397-41EE-9F44-FC78FAF3A5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4B95A2-FD73-4051-A4E7-F8D42B6DE5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910F1C-288C-40A9-90DF-837B3FC8C6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EF0BD-484E-469D-9334-895BC17E90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7E189-555A-42F1-8075-7A1BC6D52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8279A-76D0-44B6-B3DD-AAEC349719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3D71BF-92CC-4CDE-ACB8-7F62F8B75F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7B9B13-2A5C-4F87-9989-D785647AD0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322FD0-493B-45AB-8F15-518D7B0F4C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CDD57F-0FD8-4F34-868E-E2447B6C86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E0F33-C6F3-4559-B4D1-F4ABD6730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3D84EC-8C92-4066-94EF-DE836CEDCE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51905F-3324-4C1B-99A9-C12DD6D01A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4B4EA3-B1EF-4B94-8BEE-4B9E9FFD06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E92A4B-D31A-4B99-B80C-64FC5379A4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6380C4-4BCE-474E-BF70-05E3491075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E09566-7D29-4982-8508-62CAD4269C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BDC0D3-B7AD-4825-A9A8-9123035B7E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75E4C6-1F9E-4B15-A3C7-D0AB73F037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6A7E9B-7F1B-49F1-BC1F-D0F11B45CC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BA62C8-89D8-49B8-BA3E-1AC14FFBE5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A504D-B9E2-47B5-ACD2-5A97372F0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925C6E-C015-4B8B-892E-73439281C9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04CE61-2C16-433A-9DD9-AA9F382BA9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9FFE2E-5514-4CFC-8F28-26ABC12B79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4B6B23-F87A-4FF3-B754-C23C82DAB5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1A01F3-B12B-4E1E-A05A-0C231D0008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F01599-2C92-427E-960B-092EB72F02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BAA836-6DDA-4342-AD5B-EB16DF8090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577754-F0C4-4B65-82FF-554678040E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3C3F5C-20EF-4D2E-8E50-F2114D3FA7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FE1EF7-49A8-4FA2-A058-4B6615AA83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90742-4795-4F78-B2CB-40DA9CC85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CB503D-3A63-48E7-8604-03A23F62D0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8828B2-EF4A-4D5D-8A97-7B08AF9BF6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8E890E-FA1B-4B40-A944-D26E7B4019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510387-0D4D-4CF6-A727-D20C2D337B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62A964-19AB-4043-9935-9A8C2AD7F8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C86E91-85D0-4810-98D4-9C3F219858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58D40B-E67C-4E06-9C8F-3D4D94A203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CED166-D08C-4235-828B-A94F98ABCE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D5459E-D848-46A3-864B-12EB1753A8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00CE5D-D132-40C1-A58C-034CA95DC1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EAB22-F0A5-449D-87BE-4E22489F9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C70AC7-D502-4B2B-818D-3C1ABAF159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7FE27A-C49C-4D9D-9F72-71562C8749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8A2823-3203-465C-A773-48708D36DC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A1BB29-1331-4674-8471-584905AE8B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B34E7F-91F3-48F3-AD67-01AF41DB68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D2210-F25E-4754-8AAB-11B08F99D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46E73-7800-41C2-90E0-74D010E97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53458-7FBB-441E-A0B4-B220311F2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A88E3-7EF8-4D1A-ADF6-0115E4A02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64CC1-CC56-4A8A-9F11-DC9E61F0F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22754-1234-4D31-A736-2448BE586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5E699-197B-4281-9C90-D1DB5BAA6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AA00-1BA7-409C-873E-3B358C032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E0BEE-81F9-4D53-9C56-D13BCEAF5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232A0-9B85-4A5F-BE0B-2496F7C3B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1C3D9-EE63-4E2C-8BDA-C15DDF821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8BD46F-FC0D-4ACD-B2BC-69D3683D5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32EAF-5C84-4370-864C-C8DBAD323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DF55E-64CB-4BFD-BD25-F02FDC44B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8228A-2EA2-4D68-BAB5-1223B79C8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88B67-0B08-453E-981C-3FE7D7C91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76174-173D-4004-B7E8-194A0CCA5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4B158-D655-4E6D-886C-EA58F9A4E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DA147-65CA-40C8-A52E-05F5333B3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4D041-9212-4F24-A2AC-9581D3128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C87EB-7ECD-4CCD-BAAC-7401D64F4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A801B-27EA-4CF3-B4A6-E10F2D165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514704-2EE3-48F2-8061-1AFCEE1886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A31FB-3D2B-4904-9619-EF88766E4E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A9BDB8-4917-414C-B529-6C3A6807D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EB8DF-8C04-4924-A504-60FD1428F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AE60B-D5C8-44F5-BFAF-A5C38AEDC7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2D96D-EF19-4094-A0C0-614ACB4CF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2403B-00A6-4495-93DE-46976437A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B9A94-4C3E-4EB2-8705-78733FC41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2703F-7A1A-4F03-A7E2-39E98C0EF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80C14-10E7-4CC1-AFA1-1F7A4F047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4E2F9-0D32-4E1D-87CC-012E60A21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4DE3B-A0F4-4839-8B5C-F5369D627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1DF57-1082-49AB-B222-E14CCD492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A0078-ECEC-4C32-A02E-80C77FCFB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1A38D3-6850-40CB-8FA6-E754D57DEA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1DB53D-8BD8-464C-9297-AD0B865B2F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B0765-2464-4A88-976E-ABB3FC96A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81943-CE87-4DCC-94C1-61892492E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E96523-E2D9-4AE5-B8BE-88EA9814A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5A329F-0815-404B-AF40-60A504A432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FFA22-B0C7-49DA-9BC5-53B7A8964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B6EBD-6AA9-4246-94E6-69256DD02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C8C4F-C6E5-49E1-8BE8-BF783E881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403EC-E1D9-4067-BB66-34A6B6346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CC146-46CF-448E-9181-201212C70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780591-7F75-4058-BCA3-36851E4EF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E584C4-8272-4A49-824E-C2ACBF335C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8BDE8-F832-4AEE-B498-8D087592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2FFDF8-6969-425E-84D6-FA78B6ED3E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2D272E-3A70-4A49-BA1F-702715B552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0FB3D-81A9-4AEB-962F-28ACB39B1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C2F12-24BB-446D-967F-710F93AEF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55E20C-FFFD-4AB6-90D5-3030D82A1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68D2C-B44B-46BF-BE8A-280C92E9C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FA988-9124-4205-B187-0444C4BBFA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52B99-8C59-4E99-AC33-7AAB1DB1B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0558F-327A-4DD2-98DB-61895E5AD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DB456-CA6A-445B-8CEC-C17367AE4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353E-A27B-4648-B8D1-95AD97075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DB839-B699-4631-9CFF-4EA93CD409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D63A84-CEC2-48BB-9BF8-881FFBF6E2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008C27-62B6-429E-8CA7-DED44594C8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A6C395-3DBA-4F34-B2CD-DD881B2301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043CE-4C83-4230-9297-D60F04C73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9B451A-A5D5-4CED-85FF-6610D3285A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75D7D4-FC4A-42CE-917A-8D3ECE7FF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83A4B-D544-4D01-B248-7AE04E6B0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9800B-2C01-42E2-A397-631C71F551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C7B4E-9A89-4D11-8279-53FB5A2DF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50219-7785-445D-AACB-ADD30AFD9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CFE23-D779-4245-8E0E-9B00D9434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B8CC3-5C80-4CFE-A99E-459AAB60F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892A7-64F1-4CCB-A6FD-1C914C4EB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87BC88-4DC8-4981-A927-BD55C28588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340E7C-1EF8-4881-AF83-54495CC185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870E2B-4741-4078-B2CC-798A54903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B03640-3A4B-4D49-87DF-FD2733888F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C0DB9B-CB8A-4A3B-8E7A-C0C32DCEE1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C820C-42CC-4388-A966-41128C1805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99BC8-9EF2-4CC0-8477-7C410F993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6453-A1FC-48F4-BC9E-882EBA98C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EFBD9-B4A7-4366-A130-FD99455AE4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439F5-17A8-4356-B146-9BDD486D1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78B66-7648-45FA-8FE2-93699470A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B4580-7402-497C-9B15-5B5737BC9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87A192-D5B9-422D-AD63-A760CC2070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0F1A9E-9C8A-4403-8B9E-C65CFCD6C7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A815E7-3CCD-4D34-8842-D972051C23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670FE4-F429-4531-B6C1-AA1D75B153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B1D479-3EBC-40F5-9D2B-3B9D69FE4F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FC40D0-9D84-4E4C-9A0C-D63B7A5360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11C6DFD-7ED7-4CD2-BF17-5B6593FD27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DBDAC12-2687-4C65-B26B-1B4A7268BF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B745B85-2714-4A6F-811A-2FB8F8DC40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BA1233-4E79-4FB1-8B16-9FBF593F16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14B0A7-79FE-45CD-AEB5-ED34F3DFE7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0C3B06B-6B0F-4DF0-89A2-DF06395038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72BD7EC-6D56-47F0-953B-EA967D8C05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91C88E-007D-46A2-83FD-15B9639DF9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E6B2DE-25D1-43FB-B7EA-6FCE4F3554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B1C234E-B068-4218-8FB2-60377A214F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4C7795-D5BB-441C-A44D-998346DB71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6124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174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FBE711-F965-4C08-8BAC-185960C6EB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E92B6B-18DA-4496-B89D-669E344D7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10,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D939DF-CE23-4E22-BA39-D5F950AA4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date on the IEEE SA ballot pool</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of the second recirculation WG letter ballo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of the comments received from LB24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 on the next step and way forward option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in the July 2019 plenary</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EBA9B2-AF14-4A9A-BFF3-C1CBA4DA3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ballot pool</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 from June 4 to July 3</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7 members enrolled</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ember pool is valid for 6 month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first SA ballot shall be started no later than January 3, 2020, or otherwise another SA ballot pool invitation is needed</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11FCB5-0AFE-4B38-A202-DA4615F36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recirculation WG letter ballot LB242</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96.97% approval rate and 64 comment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 technical comments;   </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 editorial comments;</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general comments</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re are 8 disapprove votes;  among which 3 of them submitted technical comments </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spreadsheet for D4.0:</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180r0</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storical result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0:  74%  (The initial letter ballot was failed on January 2018)</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0:  93%  (The second letter ballot was passed on August 2018)</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3.0:  93%  (The first recirculation letter ballot was passed on February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124F9A-8FB1-48ED-A1A4-42D85EAAC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step per our agreed timeline</a:t>
            </a:r>
            <a:endParaRPr b="0" lang="en-US" sz="3200" spc="-1" strike="noStrike">
              <a:solidFill>
                <a:srgbClr val="000000"/>
              </a:solidFill>
              <a:latin typeface="Times New Roman"/>
            </a:endParaRPr>
          </a:p>
        </p:txBody>
      </p:sp>
      <p:sp>
        <p:nvSpPr>
          <p:cNvPr id="619"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 a slide deck asking for a conditional approval from IEEE 802 EC to go to IEEE SA ballot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ask group discussion on whether we ask for conditional approval using D4.0 or D5.0 (see the next slide)</a:t>
            </a:r>
            <a:endParaRPr b="0" lang="en-US" sz="16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Working Group Chair’s guidance, once the task group has the conditional approval from the EC, the task group can operate in the special accelerated mode, making decisions on teleconferences. </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40BA05-AD89-41DC-9B9C-4A4530FD3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 forward options</a:t>
            </a:r>
            <a:endParaRPr b="0" lang="en-US" sz="3200" spc="-1" strike="noStrike">
              <a:solidFill>
                <a:srgbClr val="000000"/>
              </a:solidFill>
              <a:latin typeface="Times New Roman"/>
            </a:endParaRPr>
          </a:p>
        </p:txBody>
      </p:sp>
      <p:sp>
        <p:nvSpPr>
          <p:cNvPr id="62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1</a:t>
            </a:r>
            <a:endParaRPr b="0" lang="en-US" sz="20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comments with sufficient justification in the July plenary (4 sessions);</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4.0 in the IEEE 802 EC closing plenary on July 19;</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another 15-day recirculation working group letter ballot for D4.0 (i.e., unchanged draft) tentatively from July 22 to August 5;</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tentatively from August 12 to September 11. </a:t>
            </a:r>
            <a:endParaRPr b="0" lang="en-US" sz="1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on 2</a:t>
            </a:r>
            <a:endParaRPr b="0" lang="en-US" sz="20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all comments in the July plenary (4 sessions)</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k IEEE 802 EC (conditional) approval for going to IEEE SA ballot using D5.0 in the IEEE 802 EC closing plenary on July 19;</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uming Editor needs two weeks to prepare D5.0, issue a 15-day recirculation working group letter ballot tentatively from August 5 to August 19;</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 all the comments received from D5.0 with sufficient justification as soon as possible during teleconference calls;</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15-day recirculation working group letter ballot for D5.0 (i.e., unchanged draft) immediately afterwards, which requires a task group motion in a teleconference call (see the condition set in the previous slide);</a:t>
            </a:r>
            <a:endParaRPr b="0" lang="en-US" sz="14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a 30-day IEEE SA technical ballot immediately afterwards.</a:t>
            </a:r>
            <a:endParaRPr b="0" lang="en-US" sz="14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5819C7-E76D-43B3-A276-1980FECCC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457200" y="533520"/>
            <a:ext cx="830592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 for the July plenary</a:t>
            </a:r>
            <a:endParaRPr b="0" lang="en-US" sz="3200" spc="-1" strike="noStrike">
              <a:solidFill>
                <a:srgbClr val="000000"/>
              </a:solidFill>
              <a:latin typeface="Times New Roman"/>
            </a:endParaRPr>
          </a:p>
        </p:txBody>
      </p:sp>
      <p:sp>
        <p:nvSpPr>
          <p:cNvPr id="629"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on the way forward option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ve comments based on the agreed way forward op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conditional approval slide deck</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requires approval from both the task group and the working group before forwarding it to EC for consideration</a:t>
            </a:r>
            <a:endParaRPr b="0" lang="en-US" sz="1600" spc="-1" strike="noStrike">
              <a:solidFill>
                <a:srgbClr val="000000"/>
              </a:solidFill>
              <a:latin typeface="Times New Roman"/>
            </a:endParaRPr>
          </a:p>
          <a:p>
            <a:pPr marL="343080" indent="-343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ve comments on the PAR extension document, if any</a:t>
            </a:r>
            <a:endParaRPr b="0" lang="en-US" sz="2000" spc="-1" strike="noStrike">
              <a:solidFill>
                <a:srgbClr val="000000"/>
              </a:solidFill>
              <a:latin typeface="Times New Roman"/>
            </a:endParaRPr>
          </a:p>
          <a:p>
            <a:pPr marL="343080" indent="-343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r technical contributions, which are of the lowest priority with respect to the above 4 items and are time permitted only</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10,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A0EF66-225E-4647-A887-4BFDAD232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707E85-3B91-4E0F-BB25-117CAC4D4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July 10,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0CADA47-64D6-4609-827F-F32E98CD28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459F190-7A73-486C-AF53-9AAB5CF8E7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231EF0-245D-4B7F-BE19-E2E3E84B5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936FA0-8946-4F97-B3DF-19B95A174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A7918AE-122B-4529-BFB5-C8F5957EBF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12093E-B595-4136-BC82-B4BDA8346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10 2019</cp:keywords>
  <dc:language>en-US</dc:language>
  <cp:lastModifiedBy>Edward Au</cp:lastModifiedBy>
  <cp:lastPrinted>2014-11-04T15:04:57Z</cp:lastPrinted>
  <dcterms:modified xsi:type="dcterms:W3CDTF">2019-07-10T09:08:22Z</dcterms:modified>
  <cp:revision>4188</cp:revision>
  <dc:subject>Task Group AY November 2015 Meeting Agenda</dc:subject>
  <dc:title>19/117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