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11DF6FA-620C-4626-8BFA-391B7B24D3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E661C2-3E58-411E-9408-D95374AED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3980DA-F078-441F-93DC-2BA2F782A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AF5E2C-5709-44FE-BAC4-B1B49CC7F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54160" y="701640"/>
            <a:ext cx="4626000" cy="3468600"/>
          </a:xfrm>
          <a:prstGeom prst="rect">
            <a:avLst/>
          </a:prstGeom>
          <a:ln w="0">
            <a:noFill/>
          </a:ln>
        </p:spPr>
      </p:sp>
      <p:sp>
        <p:nvSpPr>
          <p:cNvPr id="8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B7E30D-FC3B-4FA2-931C-9DD67B00D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4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4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4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2D3E39-19EC-473F-8130-B7D4CE590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4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9388D5-AA1D-4612-89D4-8B08A9AE2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54160" y="701640"/>
            <a:ext cx="4626000" cy="3468600"/>
          </a:xfrm>
          <a:prstGeom prst="rect">
            <a:avLst/>
          </a:prstGeom>
          <a:ln w="0">
            <a:noFill/>
          </a:ln>
        </p:spPr>
      </p:sp>
      <p:sp>
        <p:nvSpPr>
          <p:cNvPr id="8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29BF19-D2C4-4E26-A8B7-61B7BFB33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652452-FBC2-4423-8B21-234C08401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54160" y="701640"/>
            <a:ext cx="4626000" cy="3468600"/>
          </a:xfrm>
          <a:prstGeom prst="rect">
            <a:avLst/>
          </a:prstGeom>
          <a:ln w="0">
            <a:noFill/>
          </a:ln>
        </p:spPr>
      </p:sp>
      <p:sp>
        <p:nvSpPr>
          <p:cNvPr id="8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54160" y="701640"/>
            <a:ext cx="4626000" cy="3468600"/>
          </a:xfrm>
          <a:prstGeom prst="rect">
            <a:avLst/>
          </a:prstGeom>
          <a:ln w="0">
            <a:noFill/>
          </a:ln>
        </p:spPr>
      </p:sp>
      <p:sp>
        <p:nvSpPr>
          <p:cNvPr id="8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581A34-A3E3-4E0D-8DA0-F693428A3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54160" y="701640"/>
            <a:ext cx="4626000" cy="3468600"/>
          </a:xfrm>
          <a:prstGeom prst="rect">
            <a:avLst/>
          </a:prstGeom>
          <a:ln w="0">
            <a:noFill/>
          </a:ln>
        </p:spPr>
      </p:sp>
      <p:sp>
        <p:nvSpPr>
          <p:cNvPr id="8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A87F97-7F04-428A-A7BA-D26A45DC7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FDB9AE-74AC-46C1-B61A-5B67BB118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54160" y="701640"/>
            <a:ext cx="4626000" cy="3468600"/>
          </a:xfrm>
          <a:prstGeom prst="rect">
            <a:avLst/>
          </a:prstGeom>
          <a:ln w="0">
            <a:noFill/>
          </a:ln>
        </p:spPr>
      </p:sp>
      <p:sp>
        <p:nvSpPr>
          <p:cNvPr id="8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5DAF9E-BBD9-4B62-99C2-2C0A4C75B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54160" y="701640"/>
            <a:ext cx="4626000" cy="3468600"/>
          </a:xfrm>
          <a:prstGeom prst="rect">
            <a:avLst/>
          </a:prstGeom>
          <a:ln w="0">
            <a:noFill/>
          </a:ln>
        </p:spPr>
      </p:sp>
      <p:sp>
        <p:nvSpPr>
          <p:cNvPr id="8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DA75FC-E211-47F0-A8B8-506F352C0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C5363A-DE55-42FC-AAE5-BC65F23AD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8F55C5-ED6B-4CB2-AAC8-9C010BAD6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54160" y="701640"/>
            <a:ext cx="4626000" cy="3468600"/>
          </a:xfrm>
          <a:prstGeom prst="rect">
            <a:avLst/>
          </a:prstGeom>
          <a:ln w="0">
            <a:noFill/>
          </a:ln>
        </p:spPr>
      </p:sp>
      <p:sp>
        <p:nvSpPr>
          <p:cNvPr id="9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375143-CEFE-4D7A-9CE6-97E328008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C0159A-2F76-4560-9A36-F9D7688A4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014777-EADC-44F6-9E57-8801F5F53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CDB5A6-305E-418E-96F7-932121F2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938CE5-168D-453F-A271-DEF21117F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54160" y="701640"/>
            <a:ext cx="4626000" cy="3468600"/>
          </a:xfrm>
          <a:prstGeom prst="rect">
            <a:avLst/>
          </a:prstGeom>
          <a:ln w="0">
            <a:noFill/>
          </a:ln>
        </p:spPr>
      </p:sp>
      <p:sp>
        <p:nvSpPr>
          <p:cNvPr id="9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0903EC-252D-4482-810A-451E632D1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54160" y="701640"/>
            <a:ext cx="4626000" cy="3468600"/>
          </a:xfrm>
          <a:prstGeom prst="rect">
            <a:avLst/>
          </a:prstGeom>
          <a:ln w="0">
            <a:noFill/>
          </a:ln>
        </p:spPr>
      </p:sp>
      <p:sp>
        <p:nvSpPr>
          <p:cNvPr id="9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2EA929-41CD-4F2C-AEAF-F2BD572B3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723136-5191-432D-B6E4-4298AC15A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051317-9197-4618-AF72-D1033CAC6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8FCC6C-C27F-408B-9112-1105C150E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54160" y="701640"/>
            <a:ext cx="4626000" cy="3468600"/>
          </a:xfrm>
          <a:prstGeom prst="rect">
            <a:avLst/>
          </a:prstGeom>
          <a:ln w="0">
            <a:noFill/>
          </a:ln>
        </p:spPr>
      </p:sp>
      <p:sp>
        <p:nvSpPr>
          <p:cNvPr id="9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6D4D28-782B-4E82-95E1-65C61153E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067ED2-F0F6-4A6C-B35B-798F48787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72D383-6DE8-4F40-B1AB-7E00B91B7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92D722-A6D0-4541-8705-4A50149BB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AC69D5-0A96-4FB6-AB03-7C0A00A9D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CD5E3A-41AB-4848-A5D9-969DFB1D5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906E86-C98F-40E2-AD7A-4C1419BFC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9FEB31-2843-4414-B0C0-A34B30285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223079-820C-44F9-BBD6-B0862791B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B694EC-890E-4829-B91C-C524B3193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CD5CAF5-BB68-4032-8E9D-9A6306D331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7680" y="696960"/>
            <a:ext cx="4640400" cy="3479760"/>
          </a:xfrm>
          <a:prstGeom prst="rect">
            <a:avLst/>
          </a:prstGeom>
          <a:ln w="0">
            <a:noFill/>
          </a:ln>
        </p:spPr>
      </p:sp>
      <p:sp>
        <p:nvSpPr>
          <p:cNvPr id="80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F26864-7530-44DA-ADA7-22AE587C7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B37D4C-DED8-43AF-A72F-F13BB8544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208E39-9544-4AF6-9C04-AD7E461F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AB5211-B4ED-45C3-BB68-930EFBAF8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22FCB0-89DC-42E5-A1B5-78A1BB5DC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4C5891-02BB-445B-95C7-65656A224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22D1E50-7224-4005-91E0-7C7836B6B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7680" y="696960"/>
            <a:ext cx="4640400" cy="3479760"/>
          </a:xfrm>
          <a:prstGeom prst="rect">
            <a:avLst/>
          </a:prstGeom>
          <a:ln w="0">
            <a:noFill/>
          </a:ln>
        </p:spPr>
      </p:sp>
      <p:sp>
        <p:nvSpPr>
          <p:cNvPr id="80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CEFEE6D-1A79-49FB-B0AE-2D413EC12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54160" y="701640"/>
            <a:ext cx="4626000" cy="3468600"/>
          </a:xfrm>
          <a:prstGeom prst="rect">
            <a:avLst/>
          </a:prstGeom>
          <a:ln w="0">
            <a:noFill/>
          </a:ln>
        </p:spPr>
      </p:sp>
      <p:sp>
        <p:nvSpPr>
          <p:cNvPr id="8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856036-44FE-4E76-80EC-C4A37C685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1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1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AC7854-FE36-4E52-A647-C304C3A2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54160" y="701640"/>
            <a:ext cx="4626000" cy="3468600"/>
          </a:xfrm>
          <a:prstGeom prst="rect">
            <a:avLst/>
          </a:prstGeom>
          <a:ln w="0">
            <a:noFill/>
          </a:ln>
        </p:spPr>
      </p:sp>
      <p:sp>
        <p:nvSpPr>
          <p:cNvPr id="82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14C406-F0D0-43DC-A3C2-6DA0CA936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54160" y="701640"/>
            <a:ext cx="4626000" cy="3468600"/>
          </a:xfrm>
          <a:prstGeom prst="rect">
            <a:avLst/>
          </a:prstGeom>
          <a:ln w="0">
            <a:noFill/>
          </a:ln>
        </p:spPr>
      </p:sp>
      <p:sp>
        <p:nvSpPr>
          <p:cNvPr id="8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145A8-C8DA-44CD-9346-63B3B8590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0E363-4541-4F52-AA45-490471BD5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DAADAA-7DA6-49CC-B47C-FF559D7C82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B1A7A-3AB1-453C-814C-1F27D0F22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57365-9578-4937-AE13-DA7DAB5F4A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50FAF-D7AD-464F-A2FA-5EA372425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BCE31-C2D8-4212-A176-9A5691722E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38229-2409-46B5-B32A-FD7DF973D7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19755D-59F6-4F13-BE0F-9B5B894F9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BC0802-A057-484C-9760-48C4FD4027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D1F49A-C03D-4310-8F30-E72533C9AC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C0BD0E-B213-4EA1-9E49-021F8BD8DF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2646E-97D0-4564-9B8E-45ADB0750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EC6202-C8ED-4B4C-B90E-4E0DD4FB3C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D0D4FA-4C92-4F20-AAD5-5FEE5DB561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C0BE17-973E-4608-9BEB-5F4CDF0815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059AED-5537-4DB3-91AA-A629A0D77E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A5149B-1AA7-4236-A858-763264D674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C5DD9-A35D-492C-9495-A2F85D2EA8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AA3C3A-5C2C-4710-BF5D-245F9781CB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A9CD5-3765-4CDF-AF9F-223414E43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554C4B-AF9C-469B-B10E-DF873035EC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44E04D-24E2-4F81-99A0-4DE02205D2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1C997-E38D-496C-8470-6AB06E63A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24B903-D541-4953-BE7A-B516360CCF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45A45C-5F75-4831-B487-D0AF368A95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9CA1DF-063E-4D67-9769-EFB516F656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0A3B79-5F48-4431-83AA-773AFA5722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469AD1-F708-47A8-9C5C-A73A0A98DD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627F65-E733-4122-8461-54C623B5E6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3C320E-FCBF-4E28-9DF8-7863C70A41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C6E2F-DDEC-469E-B198-AE4D40E06C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C04FE8-81C6-4CC7-995F-F06268265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FC61E-345B-41E8-8BF9-BB873EA08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2C6C6-DB17-42EE-9D86-F01410B61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9C5BEC-540E-48DE-BC80-E62D412F83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0A3C73-5E1E-4078-B547-652916470D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0199C7-EB44-455E-A73A-BA2FDFE427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AB9E2B-5898-4E8F-93C3-54A7969719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C3B991-C67E-4F4C-B7B1-5DCCD14BB5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12B622-08E7-422E-947E-AD5C1FAB7A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833A5C-1EFC-4037-8A9C-18DB8BDB9E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3C4C63-0E98-494B-837C-2DBED301D2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BF5BA2-7DA0-43E8-B182-A634EEAEB8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F23B4C-037B-4DCE-B30D-8529F0E31C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3EE0-0CC1-41A6-BEA4-26C3D19D3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FC6C8-0F6B-42D2-A79C-427986B9DA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1956DE-AD50-4259-B8CA-C0F7CD6020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4294F0-60FC-48E6-9202-4F52153E88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541C72-9CCD-4987-890D-A2D8508900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921153-1CD2-4D80-9603-B121CA0949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CD3FC-AAA7-4286-A74F-90C5F4B80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242BC-7E1F-498E-BFC3-D3210FFA8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F316E-75B1-4858-8706-16C6BA1F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29329-CB62-4CA1-B9CE-E1EA1BB9D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4F15D-B274-4F2A-8EFC-300B1EEC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6E1CF-BB08-4855-958D-AE6F4EF0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8D81E-2242-47A3-B782-0EB81EDD3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72B4E-C6A0-48CF-B97D-8B6E0D60C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E344E-CFE0-42DD-8782-47D54036B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56C9A-66F8-442B-B2D0-A43915DB4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B7BCF-9BF6-45A8-819E-F9958B937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ACCC6A-EF35-4AD2-854B-D1CC00113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17C59-689F-429B-B283-A4CEEA337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00364-5C80-477F-A2DB-8CE87E69E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2A2ED-D5F5-4C6E-9183-6CE01FB22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3BF4E-9C01-41FF-8A1C-2E3CC6863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35792-0BDB-4DBE-8FCD-86A5BF183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512E3-FB18-4054-8FE6-9CE7C0C39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E7FDD-D06D-409A-A8F2-35F0551B1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FB661-D1E0-45D8-A6BD-2A4CDA802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3B555-82E4-4D73-9BA8-026EEE6A7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BE790-81BD-4CF5-96D7-A6D51127F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58254D-5631-4DF5-A523-A7CD8811CE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BD5437-39D7-4E68-B65C-9D4533EEB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65F37B-08A0-4077-B969-F94EB447B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F3C2D-1CDA-4CF3-8565-6E66269052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C421E-3CE2-4019-9DE1-B508B8892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84CC-3275-4928-B5F1-7644E66AD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95C347-685C-42C2-B349-372BE1D4C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C0FE5-9872-4EB6-B73F-0D31FE21E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A5D32-5F62-40AF-AD9A-179305C47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07CE5-07DF-4495-979F-7EE9D5FE0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B2695-5F13-4008-9C7E-2C8C6F5B1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DB421-85E5-441B-8A9E-6C6B70806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AEDCC-6703-4E96-AC2C-FFC91B4B9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FF4309-E5C2-4B52-87AC-9AE7DD0EA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58ADCB-CDDF-4C38-9412-61AD51CF93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8CB319-F625-4691-B7CA-70E1279606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B45B-8492-41E6-AD3B-4BA33FAE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2998D-E456-4221-8482-E8121D5BD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94403-E544-4F50-9E4A-D5A5FCCC8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C2814-0142-4C52-AB29-9BC8EC6E97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30EF7D-C537-4DB1-ACF0-761A8BA3C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ABCF6-9706-47A4-82A6-4C60A1FB9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EA6A7-6742-4292-B5DA-EDD543569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FCDC8-4537-4FDC-AECC-9A7163A4A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2DB6C-E729-4F98-BD0C-A58B6E91E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CF6DA-3F1F-4057-AF5C-543CD0BC3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F1AC6-9B87-4A7E-9F7C-D7429E754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AEDB5-5398-4AE9-AE78-7565139A2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E124C-79B8-4B0F-AF45-8431361CD8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2D7AD-5845-4442-ADC8-72AE650D05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3C95D-4C9D-47AB-8C06-CA4F7B10C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BA14D-30E6-4358-B491-1CF14210D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DEDB89-E08D-4F0A-9422-7945B9589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4BD16-4A14-46AF-A891-9367836B9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D75A0-B0D8-4FCF-A905-F4DB0C37C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8A9F5-E353-461B-B1CE-82CE415CC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2383F-86C9-4C82-99B1-F9A3A5670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B33AE-9642-4664-B299-1E78C9492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56B6-E5D3-4D64-BF07-2C5032E20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11CF0-C100-4D68-B61B-7688FFE0B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F2A034-6002-4DF4-97EE-525D34855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BD556-793E-4B44-A9F4-9FB483AA7D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0112CC-C97D-4C6B-824A-B6BEB6D94E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08F2B-C66B-4766-9CCF-7332BEB5F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87544-D76D-436C-B970-41F5080AB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8B8854-4B0C-4C80-94FD-30F6465C0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EE28D-47E2-4FCE-B163-528BD19AE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0F8414-A11B-4207-AD4B-A2087D399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18B26D-8977-4981-B7FF-B81BDAFDF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B2BB-5B27-4000-9161-B5B30C1E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E8F07-1A4F-4049-85CD-235C56EB6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3CB60-8006-40F8-97C6-8BBDCFAEF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E7C50-B8EC-4A1C-BB72-FC66D3E35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A24E8-F2BE-4821-897E-38E2B9D309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3C486-331A-45EA-BC38-B5CC27C727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49A198-6E30-4139-BF73-997B00EE59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F7435-BEF1-4058-A0A4-C7E1A90ECB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902D51-1337-4805-9683-DAB93A3837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A2001-5099-4547-A865-5F16C6F2B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48A30-43F2-4D03-8FC6-0CCB938AF7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B48A-DF55-4550-949B-6A2C0E7B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FAF79-11B4-4853-AD93-DAD59D7E8D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4EF43-B54F-48C5-9C7F-C4930F981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88B04-47A9-452D-8A7C-CEF95B590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5703A-40C8-4A21-8876-779EF6182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F844F-97FF-4F0D-94AB-37BB747EA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4E967-BB1D-4697-9CE9-5F2972C2E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A9438F-FA0F-412C-8282-D71088B73F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3B88EB-3924-4BA6-BF6B-6FCF7160BF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AD206-1932-47F7-8F25-857ABB8FF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5E0812-73DD-4F93-8697-23BC8F24BE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1296AC-7C33-4B22-B01D-362D7E2064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83B87B-8B7C-4384-91A9-2BB0233670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58CEFC1-9CB9-4D0D-8BB6-0310833617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A4F9CA-3086-4750-A929-DCB84382E2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8AA4AEA-4E0A-4E40-B700-E299B536A5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29B096-8AE6-4274-9969-4A763628D3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63D8816-8917-42C1-8A3E-5106AE87CC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FED3CB3-C920-44E4-AF7A-3809EF546E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6AA014-9254-4EAE-8FAA-9E5D661BF4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375836-2E4C-4ADE-AA36-A172E49737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FA9F65-A94F-42D2-8124-7A9AEE9DCE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92FE891-9FCC-47F9-997E-C76AD82044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180-00-00ay-comments-on-tgay-d4-0.xls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931-00-00ay-tg-ay-may-2019-atlanta-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1229-00-00ay-tg-ay-july-10-2019-conference-call-meeting-minutes.docx" TargetMode="External"/><Relationship Id="rId2" Type="http://schemas.openxmlformats.org/officeDocument/2006/relationships/hyperlink" Target="https://mentor.ieee.org/802.11/dcn/19/11-19-1229-00-00ay-tg-ay-july-10-2019-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25F16D-8FCF-42B3-9BB4-306238723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2B0D3B-35FC-47B2-A31A-897ADB024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53FB7E-5898-4011-BA2E-4735EA6BE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BB22D4-E39D-48DD-8C0B-A2332C55F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2DD831-B3D4-43B0-95E8-0F7CEFD7E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CELLE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922A4E-4923-4AEA-BF31-35503844F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D4A89A-A8CB-4924-A9E8-A9A5733D7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initial SA technical letter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3F3EBB-2387-41A5-8F2F-348EAEB5F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aft readiness for the initial SA technical letter ballot</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 resolution for second recirculation working group letter ballot LB242</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s on PAR extension reques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3E3EB2-6842-46D2-BB7D-807D85888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remaining CIDs for LB239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R extension reques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is passed to prepare D4.0 and start a 15-day second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AEF9BD-D60B-4686-BC01-853DBF748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y interim</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EEE SA ballot pool is form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18-day second recirculation Working Group letter ballot, LB242, is clos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ssed with an approval rate of 97.74% </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sult is updated on July 14</a:t>
            </a:r>
            <a:endParaRPr b="0" lang="en-US" sz="16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4 comments:  21 Technical;  43 Editorial</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1"/>
              </a:rPr>
              <a:t>https://mentor.ieee.org/802.11/dcn/19/11-19-1180-00-00ay-comments-on-tgay-d4-0.xls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7261B0-B95D-4599-BA12-EB8A88BA2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0"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ienna, Austri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4 - 19,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E44931-57F7-4947-9ED0-63FA038E7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DA207F-0083-4336-82FD-CDAEAC45F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2644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11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3E97A0-B26B-4E06-8D43-47CAB972E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9 interim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the Ma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931-00-00ay-tg-ay-may-2019-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E49531-0734-46BC-93E5-0122C5796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10th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July 10,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9/11-19-1229-00-00ay-tg-ay-july-10-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DEBE73-6179-4CE0-BA1F-7083200DF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a:t>
            </a:r>
            <a:endParaRPr b="0" lang="en-US" sz="3200" spc="-1" strike="noStrike">
              <a:solidFill>
                <a:srgbClr val="000000"/>
              </a:solidFill>
              <a:latin typeface="Times New Roman"/>
            </a:endParaRPr>
          </a:p>
        </p:txBody>
      </p:sp>
      <p:sp>
        <p:nvSpPr>
          <p:cNvPr id="6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9473F8-1957-437D-B5F3-6B1F424BD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p:nvPr>
        </p:nvSpPr>
        <p:spPr>
          <a:xfrm>
            <a:off x="685800" y="1218960"/>
            <a:ext cx="45720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 for initial SA technical letter ballo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74" name="Rectangle 3"/>
          <p:cNvSpPr/>
          <p:nvPr/>
        </p:nvSpPr>
        <p:spPr>
          <a:xfrm>
            <a:off x="5105520" y="1219320"/>
            <a:ext cx="38862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 on PAR extension reques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September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sess/Adjour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99FAB1-DEDF-44CA-B32C-858B53452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6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81" name="Rectangle 3" descr=""/>
          <p:cNvPicPr/>
          <p:nvPr/>
        </p:nvPicPr>
        <p:blipFill>
          <a:blip r:embed="rId1"/>
          <a:stretch/>
        </p:blipFill>
        <p:spPr>
          <a:xfrm>
            <a:off x="725400" y="1566720"/>
            <a:ext cx="780912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1CECB3-2209-4CE2-BDF3-33D2D94BB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1)</a:t>
            </a:r>
            <a:endParaRPr b="0" lang="en-US" sz="3200" spc="-1" strike="noStrike">
              <a:solidFill>
                <a:srgbClr val="000000"/>
              </a:solidFill>
              <a:latin typeface="Times New Roman"/>
            </a:endParaRPr>
          </a:p>
        </p:txBody>
      </p:sp>
      <p:sp>
        <p:nvSpPr>
          <p:cNvPr id="6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18960" indent="-318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690840" indent="-2656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A108A-5F36-428E-961E-1FE56C7A1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2)</a:t>
            </a:r>
            <a:endParaRPr b="0" lang="en-US" sz="3200" spc="-1" strike="noStrike">
              <a:solidFill>
                <a:srgbClr val="000000"/>
              </a:solidFill>
              <a:latin typeface="Times New Roman"/>
            </a:endParaRPr>
          </a:p>
        </p:txBody>
      </p:sp>
      <p:sp>
        <p:nvSpPr>
          <p:cNvPr id="6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3</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and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after the end of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comments from D5.0 in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after the end of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EC a conditional approval to go to the IEEE SA technical letter ballot on D5.0</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in December 2019, prior to the validity period of the IEEE SA ballot (January 3, 2020)</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8F140D-F8A4-4911-9180-2D58C7A02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 if Option 3 follows</a:t>
            </a:r>
            <a:endParaRPr b="0" lang="en-US" sz="3200" spc="-1" strike="noStrike">
              <a:solidFill>
                <a:srgbClr val="000000"/>
              </a:solidFill>
              <a:latin typeface="Times New Roman"/>
            </a:endParaRPr>
          </a:p>
        </p:txBody>
      </p:sp>
      <p:sp>
        <p:nvSpPr>
          <p:cNvPr id="6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612F3C-BB22-4327-8B63-C37AE3D9C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ask group member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July 1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all</a:t>
            </a:r>
            <a:endParaRPr b="0" lang="en-US" sz="3200" spc="-1" strike="noStrike">
              <a:solidFill>
                <a:srgbClr val="000000"/>
              </a:solidFill>
              <a:latin typeface="Times New Roman"/>
            </a:endParaRPr>
          </a:p>
        </p:txBody>
      </p:sp>
      <p:sp>
        <p:nvSpPr>
          <p:cNvPr id="6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nt to have useful work done in the September interim</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781D33-9B4D-4886-826D-80EC0C245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400CF6-2AC8-4CF2-855C-895B72C51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he CAC session on Sunday</a:t>
            </a:r>
            <a:endParaRPr b="0" lang="en-US" sz="3200" spc="-1" strike="noStrike">
              <a:solidFill>
                <a:srgbClr val="000000"/>
              </a:solidFill>
              <a:latin typeface="Times New Roman"/>
            </a:endParaRPr>
          </a:p>
        </p:txBody>
      </p:sp>
      <p:sp>
        <p:nvSpPr>
          <p:cNvPr id="7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line is not ready</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md is (and IEEE 802.11ax are) still working on technical recirculation letter ballots.  </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Gay to start SA Ballot prior to the projects that it is dependent on is like putting a cart before the horse.  TGay should plan to go to SA Ballot no sooner than TGax and REVmd as it cannot go to RevCom no sooner either.  Trying to get ahead is not really reasonable as the text in the dependent text may cause changes in TGa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action cannot be promised</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not promise the commenters who withdraw the comments to resolve their comments in future ballots</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umber of Disapprove technical comments is non-negligible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comments are not a marginal/negligible number</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 to resolve all editorial comments </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34EDE5-3BAE-4F7C-9744-9508ABE81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F0AC91-39DD-405D-A38F-41BAE405E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06A867-A0C1-4039-B9E5-5A56247F6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C331ED-8883-4AB5-980E-3E0122F5C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053227-AD62-4585-9AF6-B58080847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66965B-993B-4619-AD29-9D19A44AA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pdate on PAR Extension Request</a:t>
            </a:r>
            <a:endParaRPr b="0" lang="en-US" sz="3200" spc="-1" strike="noStrike">
              <a:solidFill>
                <a:srgbClr val="000000"/>
              </a:solidFill>
              <a:latin typeface="Times New Roman"/>
            </a:endParaRPr>
          </a:p>
        </p:txBody>
      </p:sp>
      <p:sp>
        <p:nvSpPr>
          <p:cNvPr id="73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received no comments from IEEE 802 EC members and other IEEE 802 Working Groups on our PAR extension request document (19/0673r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The request will be considered by the IEEE 802 EC in its closing plenary on Friday (July 19) afterno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3BC94D-5115-4C52-9728-1C4C4A4BD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ntative timelin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d on the discussion on Tuesday AM2)</a:t>
            </a:r>
            <a:endParaRPr b="0" lang="en-US" sz="1800" spc="-1" strike="noStrike">
              <a:solidFill>
                <a:srgbClr val="000000"/>
              </a:solidFill>
              <a:latin typeface="Times New Roman"/>
            </a:endParaRPr>
          </a:p>
        </p:txBody>
      </p:sp>
      <p:sp>
        <p:nvSpPr>
          <p:cNvPr id="73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40"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2D6B73-EAE0-4409-9658-2DE22C6A7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3:  Comment Resolution</a:t>
            </a:r>
            <a:endParaRPr b="0" lang="en-US" sz="3200" spc="-1" strike="noStrike">
              <a:solidFill>
                <a:srgbClr val="000000"/>
              </a:solidFill>
              <a:latin typeface="Times New Roman"/>
            </a:endParaRPr>
          </a:p>
        </p:txBody>
      </p:sp>
      <p:sp>
        <p:nvSpPr>
          <p:cNvPr id="74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5033, 5034, 5039, 5042, 5043, 5063, and 5061 as proposed in 19/1220r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9330F8-FFEF-42A8-B2CB-5F1CAF640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4:  Comment Resolution</a:t>
            </a:r>
            <a:endParaRPr b="0" lang="en-US" sz="3200" spc="-1" strike="noStrike">
              <a:solidFill>
                <a:srgbClr val="000000"/>
              </a:solidFill>
              <a:latin typeface="Times New Roman"/>
            </a:endParaRPr>
          </a:p>
        </p:txBody>
      </p:sp>
      <p:sp>
        <p:nvSpPr>
          <p:cNvPr id="74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5060 as proposed in 19/1270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A569C2D-03C0-4AD6-BF1E-EA6CA9597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815436-715B-4A11-8114-ACFF85BAF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5:  Comment Resolution</a:t>
            </a:r>
            <a:endParaRPr b="0" lang="en-US" sz="3200" spc="-1" strike="noStrike">
              <a:solidFill>
                <a:srgbClr val="000000"/>
              </a:solidFill>
              <a:latin typeface="Times New Roman"/>
            </a:endParaRPr>
          </a:p>
        </p:txBody>
      </p:sp>
      <p:sp>
        <p:nvSpPr>
          <p:cNvPr id="75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5044, 5053, 5052, 5062, 5035, 5030, 5056, 5057, and 5025 as proposed in 19/1180r3.</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F3BE2C-6428-45DA-84DF-8167C0D4C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6:  Comment Resolution</a:t>
            </a:r>
            <a:endParaRPr b="0" lang="en-US" sz="3200" spc="-1" strike="noStrike">
              <a:solidFill>
                <a:srgbClr val="000000"/>
              </a:solidFill>
              <a:latin typeface="Times New Roman"/>
            </a:endParaRPr>
          </a:p>
        </p:txBody>
      </p:sp>
      <p:sp>
        <p:nvSpPr>
          <p:cNvPr id="75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42 editorial comments assigned to Carlos Cordeiro and Motozuka Hiroyuki in 19/11830r3 and incorporate the indicated changes into the Draft 4.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3FA4A1-23CE-472E-82DD-B293E4BF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9 interim</a:t>
            </a:r>
            <a:endParaRPr b="0" lang="en-US" sz="3200" spc="-1" strike="noStrike">
              <a:solidFill>
                <a:srgbClr val="000000"/>
              </a:solidFill>
              <a:latin typeface="Times New Roman"/>
            </a:endParaRPr>
          </a:p>
        </p:txBody>
      </p:sp>
      <p:sp>
        <p:nvSpPr>
          <p:cNvPr id="76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third recirculation WG letter ballo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470ECB-67A1-4D5A-BEC3-7C9EB2D05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ly 3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gust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gust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ptember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B1D1BB-0B73-436F-A453-18FBEAA49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F5DCC4-2B76-43E1-A355-14B3A3AC0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AB556C5-5FA3-4ECE-83B0-62A1353D02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8D8CBE-FC42-49BC-B4FC-9F1DDA7B8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E4B286-6F88-41E2-81B5-43199CE27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4323097-E69D-4C1E-A5EE-06674167F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592AC1-55B3-4D61-88B5-CF0A794CD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9</cp:keywords>
  <dc:language>en-US</dc:language>
  <cp:lastModifiedBy>Edward Au</cp:lastModifiedBy>
  <cp:lastPrinted>2014-11-04T15:04:57Z</cp:lastPrinted>
  <dcterms:modified xsi:type="dcterms:W3CDTF">2019-07-18T04:51:33Z</dcterms:modified>
  <cp:revision>9141</cp:revision>
  <dc:subject>Task Group AY November 2015 Meeting Agenda</dc:subject>
  <dc:title>11-19/0974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