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4C07B5A-A509-4C8E-A264-E7A5D4ECC8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0DC099-450C-4AFE-8C14-636489C7A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47FD5A-5A71-4A62-8554-EFF0777BD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03829D-2885-4CAE-9851-811CDB1A1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54160" y="701640"/>
            <a:ext cx="4626000" cy="3468600"/>
          </a:xfrm>
          <a:prstGeom prst="rect">
            <a:avLst/>
          </a:prstGeom>
          <a:ln w="0">
            <a:noFill/>
          </a:ln>
        </p:spPr>
      </p:sp>
      <p:sp>
        <p:nvSpPr>
          <p:cNvPr id="8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8351CD-A5EC-4EF7-8093-7C3EE6CEE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4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4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4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7383AE-DE26-4CDB-9118-BD40D12F2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4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2675D6-EA76-48DA-BFD8-88E0378F5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54160" y="701640"/>
            <a:ext cx="4626000" cy="3468600"/>
          </a:xfrm>
          <a:prstGeom prst="rect">
            <a:avLst/>
          </a:prstGeom>
          <a:ln w="0">
            <a:noFill/>
          </a:ln>
        </p:spPr>
      </p:sp>
      <p:sp>
        <p:nvSpPr>
          <p:cNvPr id="8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1BB0D0-09A3-4655-A58D-18C439FB3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935C4A-5FF2-4A2E-866F-147A25DE2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54160" y="701640"/>
            <a:ext cx="4626000" cy="3468600"/>
          </a:xfrm>
          <a:prstGeom prst="rect">
            <a:avLst/>
          </a:prstGeom>
          <a:ln w="0">
            <a:noFill/>
          </a:ln>
        </p:spPr>
      </p:sp>
      <p:sp>
        <p:nvSpPr>
          <p:cNvPr id="8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54160" y="701640"/>
            <a:ext cx="4626000" cy="3468600"/>
          </a:xfrm>
          <a:prstGeom prst="rect">
            <a:avLst/>
          </a:prstGeom>
          <a:ln w="0">
            <a:noFill/>
          </a:ln>
        </p:spPr>
      </p:sp>
      <p:sp>
        <p:nvSpPr>
          <p:cNvPr id="8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85D050-FDAD-443C-BF6F-5922FF1C1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54160" y="701640"/>
            <a:ext cx="4626000" cy="3468600"/>
          </a:xfrm>
          <a:prstGeom prst="rect">
            <a:avLst/>
          </a:prstGeom>
          <a:ln w="0">
            <a:noFill/>
          </a:ln>
        </p:spPr>
      </p:sp>
      <p:sp>
        <p:nvSpPr>
          <p:cNvPr id="8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8561AC-6409-4F6D-8FA1-4C1F1C46C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692DB6-2334-429C-BFEA-DC268834F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54160" y="701640"/>
            <a:ext cx="4626000" cy="3468600"/>
          </a:xfrm>
          <a:prstGeom prst="rect">
            <a:avLst/>
          </a:prstGeom>
          <a:ln w="0">
            <a:noFill/>
          </a:ln>
        </p:spPr>
      </p:sp>
      <p:sp>
        <p:nvSpPr>
          <p:cNvPr id="8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8C3000-B64F-4BB0-982B-55B414387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54160" y="701640"/>
            <a:ext cx="4626000" cy="3468600"/>
          </a:xfrm>
          <a:prstGeom prst="rect">
            <a:avLst/>
          </a:prstGeom>
          <a:ln w="0">
            <a:noFill/>
          </a:ln>
        </p:spPr>
      </p:sp>
      <p:sp>
        <p:nvSpPr>
          <p:cNvPr id="8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6CB3F3-88AC-4CDB-94BD-AD3AF5B99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A0854E-95CB-444B-AA9B-5588691F6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82CCC0-00E6-4BE9-89EB-1A48F9A80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54160" y="701640"/>
            <a:ext cx="4626000" cy="3468600"/>
          </a:xfrm>
          <a:prstGeom prst="rect">
            <a:avLst/>
          </a:prstGeom>
          <a:ln w="0">
            <a:noFill/>
          </a:ln>
        </p:spPr>
      </p:sp>
      <p:sp>
        <p:nvSpPr>
          <p:cNvPr id="9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14B47F-AEF3-4E2F-9B9D-C8F128E93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716243-9F21-40B3-BDE4-1C186E63B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608074-4517-4EB9-8944-25EC593DA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7EA500-D20A-4D7B-9C13-6F0EDF570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971219-2D90-4DF5-B975-7FA75B9EB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54160" y="701640"/>
            <a:ext cx="4626000" cy="3468600"/>
          </a:xfrm>
          <a:prstGeom prst="rect">
            <a:avLst/>
          </a:prstGeom>
          <a:ln w="0">
            <a:noFill/>
          </a:ln>
        </p:spPr>
      </p:sp>
      <p:sp>
        <p:nvSpPr>
          <p:cNvPr id="9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4F7FFE-5159-4490-A2AF-1C280DDF4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54160" y="701640"/>
            <a:ext cx="4626000" cy="3468600"/>
          </a:xfrm>
          <a:prstGeom prst="rect">
            <a:avLst/>
          </a:prstGeom>
          <a:ln w="0">
            <a:noFill/>
          </a:ln>
        </p:spPr>
      </p:sp>
      <p:sp>
        <p:nvSpPr>
          <p:cNvPr id="9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9728AC-85A3-42EE-9C56-BB95E9A03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C6B949-C14D-4E96-A503-8FA203366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5BD50-2BF6-43D1-961C-65EEE2572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8748D0-B8B8-4337-B4F9-10BA4D91A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54160" y="701640"/>
            <a:ext cx="4626000" cy="3468600"/>
          </a:xfrm>
          <a:prstGeom prst="rect">
            <a:avLst/>
          </a:prstGeom>
          <a:ln w="0">
            <a:noFill/>
          </a:ln>
        </p:spPr>
      </p:sp>
      <p:sp>
        <p:nvSpPr>
          <p:cNvPr id="9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ED3233-5491-4921-B058-D8985AD16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F4C4C4-067B-4063-886C-AA5D0A836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5909F9-CB68-4B44-BCA1-D1FB6B9A9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0A4242-E25F-43CA-B774-F136EEC3D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D6F445-331A-4228-8CB2-D4F47AC55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7072D9-AA20-4B3D-95D2-785F73E83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D2F4C-30D1-4AA9-BD30-BF46ABE32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E502F6-274B-42A7-9F5A-4FCDB2C5D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4CC0B1-6B88-4AA1-A9FE-BB1A74AD1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740B24-6F02-4D5B-86CD-3F727A3A3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8EE7128-C578-4219-A6EC-63652E657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7680" y="696960"/>
            <a:ext cx="4640400" cy="3479760"/>
          </a:xfrm>
          <a:prstGeom prst="rect">
            <a:avLst/>
          </a:prstGeom>
          <a:ln w="0">
            <a:noFill/>
          </a:ln>
        </p:spPr>
      </p:sp>
      <p:sp>
        <p:nvSpPr>
          <p:cNvPr id="80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254F69-E0F4-475C-9AF2-60BB27AA3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6D975C-2A50-4D96-BBA2-7839257F3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1639F4-6B66-4725-99D9-C3229856D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93A3D3-236B-4DF4-94D1-314BA07F1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A6425B-340F-4F12-AC2A-80B08A9FC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0E45D3-E009-4FFD-962A-135178A73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5628ED9-5CD5-4938-B6D0-821740835D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7680" y="696960"/>
            <a:ext cx="4640400" cy="3479760"/>
          </a:xfrm>
          <a:prstGeom prst="rect">
            <a:avLst/>
          </a:prstGeom>
          <a:ln w="0">
            <a:noFill/>
          </a:ln>
        </p:spPr>
      </p:sp>
      <p:sp>
        <p:nvSpPr>
          <p:cNvPr id="80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0444D1-30C4-4587-AAC3-25A997E6A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54160" y="701640"/>
            <a:ext cx="4626000" cy="3468600"/>
          </a:xfrm>
          <a:prstGeom prst="rect">
            <a:avLst/>
          </a:prstGeom>
          <a:ln w="0">
            <a:noFill/>
          </a:ln>
        </p:spPr>
      </p:sp>
      <p:sp>
        <p:nvSpPr>
          <p:cNvPr id="8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B15F38E-09DB-42FC-BEC0-1CBD00AC4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1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1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522C6D-9E06-4B73-814B-E66199909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54160" y="701640"/>
            <a:ext cx="4626000" cy="3468600"/>
          </a:xfrm>
          <a:prstGeom prst="rect">
            <a:avLst/>
          </a:prstGeom>
          <a:ln w="0">
            <a:noFill/>
          </a:ln>
        </p:spPr>
      </p:sp>
      <p:sp>
        <p:nvSpPr>
          <p:cNvPr id="82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313CB2-3C85-4DCF-A942-46CEACEFB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54160" y="701640"/>
            <a:ext cx="4626000" cy="3468600"/>
          </a:xfrm>
          <a:prstGeom prst="rect">
            <a:avLst/>
          </a:prstGeom>
          <a:ln w="0">
            <a:noFill/>
          </a:ln>
        </p:spPr>
      </p:sp>
      <p:sp>
        <p:nvSpPr>
          <p:cNvPr id="8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63CE2-6CEE-4D3D-8BBB-2BB15F4B2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F4BE-BF85-46AA-BC01-916952EB2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09C0C7-029E-458E-8231-5B47DF254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969EA-D36A-41D7-84D2-5EDBCFE6E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D93DA-74E1-49D9-8975-EEA662F39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2DF47-DDDF-4383-8965-E34F148C6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E305A-D8BF-4887-A123-F4813281E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218BD-2F03-4A62-865A-76F06FC630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3AA240-AF90-43AA-9DF2-D67DC19EBC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24052E-01A2-4B1A-8DEC-EDEB23D06F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F3381D-1168-41D4-A236-6796D5EF73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A32460-2D1F-4180-B597-8B5641B89A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ED3EE-A231-425D-BA7F-0C0306888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412439-DD00-4D65-BFDC-85E67E9AE4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B0BE32-FFF6-4369-8DCD-2EAC740102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B82A3B-E684-4B2F-8A1A-DE42BCDE09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7D06B0-E71C-46A6-95CA-9D494F5FE0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2CD3B9-862F-4512-9FF2-9E08A0306C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CE986-3198-4B0D-A6B9-B26B9BB8B7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A3ADF4-5071-45A5-A7C4-9CD3736A3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950D33-2C5A-4388-ABA7-A30053FC7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7E643E-5325-4A19-98D9-A9FAB9F046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444B10-FD7A-4C39-9EB5-5F94DCFF2D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06381-2114-47CD-8E5E-B04250BCF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F45938-22C2-4D0E-819E-9488B1EC9B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545B2A-E727-4A85-9E30-823DC6D5CB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30959B-E24D-45C1-8561-832554F447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7BECCB-4A29-415C-9C3C-AD5038A4A0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758D8F-BCCB-4731-A599-C84B8982D0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5077E3-5C63-41B3-9846-7DAA0C4F5A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60CDC9-4C3D-4FC5-B799-756E2CDB0D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0ED8D7-0105-4C9F-BCE4-0624317B91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7B1EA-42B2-4654-8052-78BB416A0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84D28-0B6E-45BB-8B90-E677AA401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26DB7-1E5D-40E7-A34E-217D87001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D5BFF2-34B6-4ACC-8126-6C239B4375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2181BF-ACCC-43C5-9A7B-E05FF6645E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948349-86C8-4064-90E4-30ACCF3B81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177060-FE7B-4239-904D-78375AD365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6D8AF1-602D-4366-A79F-0308695DAF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3BE41A-BE39-445E-B7B2-38FC561ECF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364853-9FC6-4196-A29F-5C5E619E6D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913943-9A62-4D4C-A857-770C2C30C2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C68EC9-1686-476F-BE3D-8CF678BBF3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019704-11C2-40A9-B7B5-CAD77C3D5A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77695-DC31-49A7-8C5A-FF3B2AA34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827862-D90F-475A-9851-3BF6FE00D6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4C6E18-3544-49C4-A86A-BF8EA93331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654576-7BB3-48B3-858D-76081B1DEE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7A0CD8-2C8E-45D3-AA2F-C0AF5158C9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C50E1B-31D1-4E0D-BA5B-33D25C7E25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2118B-96BB-407C-8856-A64BB31FE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582BE-C61F-406D-847F-6950FBC2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DDEE6-24CD-479D-AE07-15A6E581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E6435-FC36-4B1F-B464-BE27E58FC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90BC8-A79B-4C2E-B138-2D7776F05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BBA1D-5BA7-4304-8B59-FFFF2586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DABA9-A8B2-4117-AA54-16BBA9E9C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F0C8D-F126-432D-93A8-735CFAED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68E6B-905C-49E2-8334-EC46C7766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396F9-9128-4C50-A034-DAA0A901C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BA9D8-5EA3-4681-B0F1-0F079F550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644F3-2211-4796-B7BA-E714C902B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323CA-CAC7-49B4-AE16-C75173A5D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813CB-61D4-47E0-BEAF-A59D16A22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DDAF4-D2D7-4BD0-871D-4BC034583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FD70D-129D-40C4-B10D-EE8A80E47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C29F5-CAF3-43BC-8B97-F75D39214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B6941-08CF-412D-A920-EBCAF0A40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6F9BB-056F-47B8-8AFE-68805C975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7A67E-7BE4-48B9-947A-F064B9A56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608B9-448C-4DCE-9CDC-8CBE423B0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7C5F5-6CE1-40F9-9EC0-5B0EE7470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5B4837-63A0-4ECE-8874-24ABC2FEB4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5EB86-E226-4E87-8EAB-A14918BD7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49149-AEE7-4D9D-93BE-8E4AE8D95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4474B-0650-43E0-8E9A-18B514894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102F5-00FA-40AE-8AED-737E19F4C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B586-6BAC-489F-90DA-CDB5A8FA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D58CE-8BB7-4665-8F1F-6F5AC719E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79F40-9B74-4343-9D71-2A49F2464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4B0ED-D888-46FF-AFB8-C8D5CE88C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CB0C4-319E-4C1E-9E44-07C00AE79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4B8AA-4338-4458-9A73-F74DE4F88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711A3-85D9-42DD-B1CF-9C3B39D69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EA180-1A3B-47DF-B740-CD94BE433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25B4C2-FA78-4237-8DD6-C5D717834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EF8AB1-8604-4CCA-B6C4-D489142EE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65DD9-5AAD-433B-985E-0F7641368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7C10-06CF-4CBB-9D41-15282AB6C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71C79-4C00-4A17-958C-B1C7AAE36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4D0A0-AE86-4892-99CA-E20C7E84E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76EC8-EBC2-45F2-AC9E-791B46753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ABC5E-3DAD-4AB6-9160-0D3F19492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C0802-81D5-4323-AD88-6E4EEEF03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B7ABD-6803-4657-BA70-5AC63AB99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F2559-BD89-46D0-8C8A-EEF360A04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70AE5-BF87-4437-AB2C-00DF05F27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2A523-9FD7-49A9-974E-EC4E96AE2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4FF45-BA1C-4E33-A0F9-BF576FB421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F3D0-BBC6-4E36-90B3-F5E0C81B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18E38-0AFD-431D-B3A7-850C2A2B2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55D221-B194-4DB9-BF5B-E69C80147E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57585-0EB0-41EB-AFF6-6E022ACFAB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DFDCF-207A-45D0-BD0F-7D94CF2A20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34452-AB17-4D0A-A915-368FE068F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23707-59ED-4FEE-AB38-0D2FDC272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574D9-6F05-4208-8494-748EDD79F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5B3CC-C68C-4187-AD11-CDD6ECD30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E059C-0506-45E2-9C8C-89723E555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95136-03AC-438E-9018-1419FCCA2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6DA0-4E41-4D13-9A95-6863B18D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0EBCA-3F56-47EF-8BCC-C3BB3BE9F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1CA3CE-C1AA-47A7-B1A6-21AE0C345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A8CBE2-2378-4A8E-B701-97AF150A74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E79BF5-106A-4781-9806-4ADF703A7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EE2F07-4DB2-4E57-888D-9011EA4BA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54B88-F4FC-41C3-9CE7-6BF13E858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DB6F7-2131-427F-8F9C-970754B7A9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E0D2F-6131-40F5-8843-8F838B988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EAA5C-8CD7-41FE-848E-197279672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FE452-AB62-4CD4-83AC-7DD12C6D5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42DE-F0FF-46B8-9B48-3CB38FF62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23C4A-135B-4960-8C9D-DB88BDA51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3C3E0-62F7-4A34-888A-3DA5CBCD9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4F815-A065-4B39-AB21-DADAAF563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881413-2B0D-4A04-BA40-706A699A18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6E2F85-D7B9-40B6-A421-95C9074F17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F8A3C7-BCA2-4F8B-98D0-2C5FF0557B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BF95B-EE6C-4E64-9621-63D0205C2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F079A-E5ED-4899-9D3E-BB8ECE008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89E552-7061-47CD-8F01-9A4E4EF07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72D33-CD27-428B-9D16-AC571FABA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D91E-4F5D-4F96-BF84-E2E669B9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58538-A439-48E9-985A-A09EC22DD1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0965D-4120-42F5-9FD0-5EE87B869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FC083-DAF2-4A2C-961B-A30267524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FAFF2-847F-4DC9-8BA1-1E56EC008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9E331-55EE-4336-A0AA-E02F29896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DB462A-F1D5-47C0-9387-653C765ED6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D0590B-99A8-4825-B59B-896ED14403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30945-4DCF-48BA-9A22-E720620BF9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552F88-256B-428F-BF14-86D53CB563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6C3A25-FBDC-41FB-9F47-606DA68E66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D3092B-5B48-43E5-9A01-A2C2BCF268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226F00-20BA-4987-8D1E-E879590F06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8EBF8C8-5083-40D6-AC60-BEE199112A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CB8F122-2AA2-4FCC-AF8D-3AD59EE414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62EC43-EC67-4524-8EC5-92E8417B75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31B8F7-BC7F-4B78-86A7-20E5F27A58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5430801-56F9-4010-BF4C-87AC1F601E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F35B8C-CF48-42A4-A087-05AE5622F6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A2F863-2E5D-4A64-B704-F95A48F664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E0495A-74EF-4276-9BBB-318E09E55C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B33DA3-C53E-4906-9D52-99AD7A4572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12D5C9-F55B-446A-8580-8E340611E2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180-00-00ay-comments-on-tgay-d4-0.xls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931-00-00ay-tg-ay-may-2019-atlanta-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1229-00-00ay-tg-ay-july-10-2019-conference-call-meeting-minutes.docx" TargetMode="External"/><Relationship Id="rId2" Type="http://schemas.openxmlformats.org/officeDocument/2006/relationships/hyperlink" Target="https://mentor.ieee.org/802.11/dcn/19/11-19-1229-00-00ay-tg-ay-july-10-2019-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041AFE-1A54-480E-B98C-637BF4694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545533-29B6-4A56-A6D7-72FA89AC2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D6E3C6-DCC3-4FA6-B800-106E7FF08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C0FE49-2D91-4250-9EE8-A9CEA16C0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66DEAE-DC99-4868-978D-7E304004C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CELLE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6E19B-ADD8-438B-8DCB-6362D5DFE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2CBF59-93C1-4427-909A-E3B51E5FF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initial SA technical letter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50469E-D881-4B0C-8EF0-CF6DFFED7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aft readiness for the initial SA technical letter ballot</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 resolution for second recirculation working group letter ballot LB242</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s on PAR extension reques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44013-15D2-4CF7-923A-2F8410821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remaining CIDs for LB239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R extension reques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is passed to prepare D4.0 and start a 15-day second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A2E552-C2EC-406F-AB42-4DFAD350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y interim</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EEE SA ballot pool is form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18-day second recirculation Working Group letter ballot, LB242, is clos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ssed with an approval rate of 97.74% </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sult is updated on July 14</a:t>
            </a:r>
            <a:endParaRPr b="0" lang="en-US" sz="16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4 comments:  21 Technical;  43 Editorial</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1"/>
              </a:rPr>
              <a:t>https://mentor.ieee.org/802.11/dcn/19/11-19-1180-00-00ay-comments-on-tgay-d4-0.xls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6C0698-AFF3-4DD3-A9A2-FC9B811CB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0"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ienna, Austri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4 - 19,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9E166D-077A-42FC-8FE4-BFC674EA0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528793-1248-479A-8A7E-3C41783BB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2644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11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FFFF3D-1044-45F1-ABBD-8BC76F452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9 interim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the Ma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931-00-00ay-tg-ay-may-2019-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A7612D-3187-4B2E-BF8F-F49AB9621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10th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July 10,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9/11-19-1229-00-00ay-tg-ay-july-10-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8DB841-3F5F-4D2B-9C37-BEACCD1CD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a:t>
            </a:r>
            <a:endParaRPr b="0" lang="en-US" sz="3200" spc="-1" strike="noStrike">
              <a:solidFill>
                <a:srgbClr val="000000"/>
              </a:solidFill>
              <a:latin typeface="Times New Roman"/>
            </a:endParaRPr>
          </a:p>
        </p:txBody>
      </p:sp>
      <p:sp>
        <p:nvSpPr>
          <p:cNvPr id="6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252EF1-DF19-4284-A9F5-4F2DAB7F1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p:nvPr>
        </p:nvSpPr>
        <p:spPr>
          <a:xfrm>
            <a:off x="685800" y="1218960"/>
            <a:ext cx="45720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 for initial SA technical letter ballo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74" name="Rectangle 3"/>
          <p:cNvSpPr/>
          <p:nvPr/>
        </p:nvSpPr>
        <p:spPr>
          <a:xfrm>
            <a:off x="5105520" y="1219320"/>
            <a:ext cx="38862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 on PAR extension reques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September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sess/Adjour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F0F80F-00A8-4E7F-842A-85A8FB6D0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6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81" name="Rectangle 3" descr=""/>
          <p:cNvPicPr/>
          <p:nvPr/>
        </p:nvPicPr>
        <p:blipFill>
          <a:blip r:embed="rId1"/>
          <a:stretch/>
        </p:blipFill>
        <p:spPr>
          <a:xfrm>
            <a:off x="725400" y="1566720"/>
            <a:ext cx="780912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34AAE4-6B80-433E-BF3C-774A0E2CB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1)</a:t>
            </a:r>
            <a:endParaRPr b="0" lang="en-US" sz="3200" spc="-1" strike="noStrike">
              <a:solidFill>
                <a:srgbClr val="000000"/>
              </a:solidFill>
              <a:latin typeface="Times New Roman"/>
            </a:endParaRPr>
          </a:p>
        </p:txBody>
      </p:sp>
      <p:sp>
        <p:nvSpPr>
          <p:cNvPr id="6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18960" indent="-318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690840" indent="-2656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DAB3D1-4754-48D3-B6CB-3E51D0216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2)</a:t>
            </a:r>
            <a:endParaRPr b="0" lang="en-US" sz="3200" spc="-1" strike="noStrike">
              <a:solidFill>
                <a:srgbClr val="000000"/>
              </a:solidFill>
              <a:latin typeface="Times New Roman"/>
            </a:endParaRPr>
          </a:p>
        </p:txBody>
      </p:sp>
      <p:sp>
        <p:nvSpPr>
          <p:cNvPr id="6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3</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and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after the end of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comments from D5.0 in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after the end of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EC a conditional approval to go to the IEEE SA technical letter ballot on D5.0</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in December 2019, prior to the validity period of the IEEE SA ballot (January 3, 2020)</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A1A009-031E-49B6-A5D4-012ADDFB5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 if Option 3 follows</a:t>
            </a:r>
            <a:endParaRPr b="0" lang="en-US" sz="3200" spc="-1" strike="noStrike">
              <a:solidFill>
                <a:srgbClr val="000000"/>
              </a:solidFill>
              <a:latin typeface="Times New Roman"/>
            </a:endParaRPr>
          </a:p>
        </p:txBody>
      </p:sp>
      <p:sp>
        <p:nvSpPr>
          <p:cNvPr id="6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367F50-98E1-4C33-9751-6344200A8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ask group member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July 1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all</a:t>
            </a:r>
            <a:endParaRPr b="0" lang="en-US" sz="3200" spc="-1" strike="noStrike">
              <a:solidFill>
                <a:srgbClr val="000000"/>
              </a:solidFill>
              <a:latin typeface="Times New Roman"/>
            </a:endParaRPr>
          </a:p>
        </p:txBody>
      </p:sp>
      <p:sp>
        <p:nvSpPr>
          <p:cNvPr id="6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nt to have useful work done in the September interim</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6032C6-72EA-46C3-88B5-CAA152DB6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75C278-7D0F-4958-B6AB-CA64E7841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he CAC session on Sunday</a:t>
            </a:r>
            <a:endParaRPr b="0" lang="en-US" sz="3200" spc="-1" strike="noStrike">
              <a:solidFill>
                <a:srgbClr val="000000"/>
              </a:solidFill>
              <a:latin typeface="Times New Roman"/>
            </a:endParaRPr>
          </a:p>
        </p:txBody>
      </p:sp>
      <p:sp>
        <p:nvSpPr>
          <p:cNvPr id="7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line is not ready</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md is (and IEEE 802.11ax are) still working on technical recirculation letter ballots.  </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Gay to start SA Ballot prior to the projects that it is dependent on is like putting a cart before the horse.  TGay should plan to go to SA Ballot no sooner than TGax and REVmd as it cannot go to RevCom no sooner either.  Trying to get ahead is not really reasonable as the text in the dependent text may cause changes in TGa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action cannot be promised</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not promise the commenters who withdraw the comments to resolve their comments in future ballots</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umber of Disapprove technical comments is non-negligible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comments are not a marginal/negligible number</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 to resolve all editorial comments </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5B618C-4999-4F7E-B160-DF1B95F3D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CC12F8-EE47-4AC3-80CB-737A8302F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EA4E90-968D-42D4-935A-B2371E3A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8F63B1-9487-43A7-99D0-DC6C8578F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9311CA-630F-4AD5-B41A-328DB3AE5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3436F4-6B91-4B77-B8A8-759C45688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pdate on PAR Extension Request</a:t>
            </a:r>
            <a:endParaRPr b="0" lang="en-US" sz="3200" spc="-1" strike="noStrike">
              <a:solidFill>
                <a:srgbClr val="000000"/>
              </a:solidFill>
              <a:latin typeface="Times New Roman"/>
            </a:endParaRPr>
          </a:p>
        </p:txBody>
      </p:sp>
      <p:sp>
        <p:nvSpPr>
          <p:cNvPr id="73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received no comments from IEEE 802 EC members and other IEEE 802 Working Groups on our PAR extension request document (19/0673r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The request will be considered by the IEEE 802 EC in its closing plenary on Friday (July 19) afterno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C25C18-8853-4AE2-8FA7-48E4EB4E5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ntative timelin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d on the discussion on Tuesday AM2)</a:t>
            </a:r>
            <a:endParaRPr b="0" lang="en-US" sz="1800" spc="-1" strike="noStrike">
              <a:solidFill>
                <a:srgbClr val="000000"/>
              </a:solidFill>
              <a:latin typeface="Times New Roman"/>
            </a:endParaRPr>
          </a:p>
        </p:txBody>
      </p:sp>
      <p:sp>
        <p:nvSpPr>
          <p:cNvPr id="73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40"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CDF4F6-64F3-4D5E-9B22-557F6DB43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3:  Comment Resolution</a:t>
            </a:r>
            <a:endParaRPr b="0" lang="en-US" sz="3200" spc="-1" strike="noStrike">
              <a:solidFill>
                <a:srgbClr val="000000"/>
              </a:solidFill>
              <a:latin typeface="Times New Roman"/>
            </a:endParaRPr>
          </a:p>
        </p:txBody>
      </p:sp>
      <p:sp>
        <p:nvSpPr>
          <p:cNvPr id="74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5033, 5034, 5039, 5042, 5043, 5063, and 5061 as proposed in 19/1220r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542C39-9B6F-4BE7-8FF8-B71305052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4:  Comment Resolution</a:t>
            </a:r>
            <a:endParaRPr b="0" lang="en-US" sz="3200" spc="-1" strike="noStrike">
              <a:solidFill>
                <a:srgbClr val="000000"/>
              </a:solidFill>
              <a:latin typeface="Times New Roman"/>
            </a:endParaRPr>
          </a:p>
        </p:txBody>
      </p:sp>
      <p:sp>
        <p:nvSpPr>
          <p:cNvPr id="74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5060 as proposed in 19/127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D1ABDEE-8E06-4525-816F-BE7EC40BE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2084BA-290F-4332-9DED-E2C69BAED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5:  Comment Resolution</a:t>
            </a:r>
            <a:endParaRPr b="0" lang="en-US" sz="3200" spc="-1" strike="noStrike">
              <a:solidFill>
                <a:srgbClr val="000000"/>
              </a:solidFill>
              <a:latin typeface="Times New Roman"/>
            </a:endParaRPr>
          </a:p>
        </p:txBody>
      </p:sp>
      <p:sp>
        <p:nvSpPr>
          <p:cNvPr id="75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5044, 5053, 5052, 5062, 5035, 5030, 5056, 5057, and 5025 as proposed in 19/1180r3.</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B1B6B6-4060-4F31-AF0A-3D82D3EE0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6:  Comment Resolution</a:t>
            </a:r>
            <a:endParaRPr b="0" lang="en-US" sz="3200" spc="-1" strike="noStrike">
              <a:solidFill>
                <a:srgbClr val="000000"/>
              </a:solidFill>
              <a:latin typeface="Times New Roman"/>
            </a:endParaRPr>
          </a:p>
        </p:txBody>
      </p:sp>
      <p:sp>
        <p:nvSpPr>
          <p:cNvPr id="75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42 editorial comments assigned to Carlos Cordeiro and Motozuka Hiroyuki in 19/11830r3 and incorporate the indicated changes into the Draft 4.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7F0C97-B31A-4685-A78E-2D426AA76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9 interim</a:t>
            </a:r>
            <a:endParaRPr b="0" lang="en-US" sz="3200" spc="-1" strike="noStrike">
              <a:solidFill>
                <a:srgbClr val="000000"/>
              </a:solidFill>
              <a:latin typeface="Times New Roman"/>
            </a:endParaRPr>
          </a:p>
        </p:txBody>
      </p:sp>
      <p:sp>
        <p:nvSpPr>
          <p:cNvPr id="76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third recirculation WG letter ballo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C08E4-19F9-4432-87F2-58AC49D96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ly 3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gust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gust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ptember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227A72-3162-404B-ABE7-A3888F7EF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D8A04B-4971-4965-86D9-9FD9DC72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FE1BDCA-EDD0-40D7-BD61-365B4C6EAA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0155CF-E517-4C6C-82BA-CE567C200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A1D320-D888-471A-99CA-87F6A4DE5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16461CA-DA6C-4CEA-8846-7737EDACC3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F0517B-168E-4E6A-A2B9-4FF2AD21B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9</cp:keywords>
  <dc:language>en-US</dc:language>
  <cp:lastModifiedBy>Edward Au</cp:lastModifiedBy>
  <cp:lastPrinted>2014-11-04T15:04:57Z</cp:lastPrinted>
  <dcterms:modified xsi:type="dcterms:W3CDTF">2019-07-18T04:51:33Z</dcterms:modified>
  <cp:revision>9141</cp:revision>
  <dc:subject>Task Group AY November 2015 Meeting Agenda</dc:subject>
  <dc:title>11-19/0974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