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4106427C-9377-4BDC-96B1-3869F49068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501F5B-4F12-4D79-9096-919637ADF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68F591-808C-4807-BF48-E11C5910D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2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2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3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B99238-5CFF-4B63-A0F8-B48138A4F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54160" y="701640"/>
            <a:ext cx="4626000" cy="3468600"/>
          </a:xfrm>
          <a:prstGeom prst="rect">
            <a:avLst/>
          </a:prstGeom>
          <a:ln w="0">
            <a:noFill/>
          </a:ln>
        </p:spPr>
      </p:sp>
      <p:sp>
        <p:nvSpPr>
          <p:cNvPr id="8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D7D239-D370-4F92-97AD-549925843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3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3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4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5D8668-CD79-448F-9B17-005891C49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54160" y="701640"/>
            <a:ext cx="4626000" cy="3468600"/>
          </a:xfrm>
          <a:prstGeom prst="rect">
            <a:avLst/>
          </a:prstGeom>
          <a:ln w="0">
            <a:noFill/>
          </a:ln>
        </p:spPr>
      </p:sp>
      <p:sp>
        <p:nvSpPr>
          <p:cNvPr id="8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4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45"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BA09A2-AD1C-4F3C-98DA-2D10C1988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54160" y="701640"/>
            <a:ext cx="4626000" cy="3468600"/>
          </a:xfrm>
          <a:prstGeom prst="rect">
            <a:avLst/>
          </a:prstGeom>
          <a:ln w="0">
            <a:noFill/>
          </a:ln>
        </p:spPr>
      </p:sp>
      <p:sp>
        <p:nvSpPr>
          <p:cNvPr id="8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54160" y="701640"/>
            <a:ext cx="4626000" cy="3468600"/>
          </a:xfrm>
          <a:prstGeom prst="rect">
            <a:avLst/>
          </a:prstGeom>
          <a:ln w="0">
            <a:noFill/>
          </a:ln>
        </p:spPr>
      </p:sp>
      <p:sp>
        <p:nvSpPr>
          <p:cNvPr id="8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63BFED-FE6C-4297-B548-7A6224CA2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A3AC9A-4C81-49FB-A265-61AF76617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54160" y="701640"/>
            <a:ext cx="4626000" cy="3468600"/>
          </a:xfrm>
          <a:prstGeom prst="rect">
            <a:avLst/>
          </a:prstGeom>
          <a:ln w="0">
            <a:noFill/>
          </a:ln>
        </p:spPr>
      </p:sp>
      <p:sp>
        <p:nvSpPr>
          <p:cNvPr id="8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54160" y="701640"/>
            <a:ext cx="4626000" cy="3468600"/>
          </a:xfrm>
          <a:prstGeom prst="rect">
            <a:avLst/>
          </a:prstGeom>
          <a:ln w="0">
            <a:noFill/>
          </a:ln>
        </p:spPr>
      </p:sp>
      <p:sp>
        <p:nvSpPr>
          <p:cNvPr id="8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93A872-1994-4954-8AF2-5BBF11067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A695CB-687E-4192-9261-A77BB9961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54160" y="701640"/>
            <a:ext cx="4626000" cy="3468600"/>
          </a:xfrm>
          <a:prstGeom prst="rect">
            <a:avLst/>
          </a:prstGeom>
          <a:ln w="0">
            <a:noFill/>
          </a:ln>
        </p:spPr>
      </p:sp>
      <p:sp>
        <p:nvSpPr>
          <p:cNvPr id="8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6DED68-1A7B-4877-B7C9-59D09BB99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54160" y="701640"/>
            <a:ext cx="4626000" cy="3468600"/>
          </a:xfrm>
          <a:prstGeom prst="rect">
            <a:avLst/>
          </a:prstGeom>
          <a:ln w="0">
            <a:noFill/>
          </a:ln>
        </p:spPr>
      </p:sp>
      <p:sp>
        <p:nvSpPr>
          <p:cNvPr id="8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145B84-326C-4455-B54D-393F12036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C1E77E-74C4-458E-A86D-622A7F751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54160" y="701640"/>
            <a:ext cx="4626000" cy="3468600"/>
          </a:xfrm>
          <a:prstGeom prst="rect">
            <a:avLst/>
          </a:prstGeom>
          <a:ln w="0">
            <a:noFill/>
          </a:ln>
        </p:spPr>
      </p:sp>
      <p:sp>
        <p:nvSpPr>
          <p:cNvPr id="7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B4A177-3D8E-4B7D-A5CC-7029F44FF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54160" y="701640"/>
            <a:ext cx="4626000" cy="3468600"/>
          </a:xfrm>
          <a:prstGeom prst="rect">
            <a:avLst/>
          </a:prstGeom>
          <a:ln w="0">
            <a:noFill/>
          </a:ln>
        </p:spPr>
      </p:sp>
      <p:sp>
        <p:nvSpPr>
          <p:cNvPr id="8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8DC89D-0904-426F-B7F0-A8EC250B1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67D6D2-7759-4C8E-8867-B52468812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D2007D-341C-44B2-A8B7-5693FE799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54160" y="701640"/>
            <a:ext cx="4626000" cy="3468600"/>
          </a:xfrm>
          <a:prstGeom prst="rect">
            <a:avLst/>
          </a:prstGeom>
          <a:ln w="0">
            <a:noFill/>
          </a:ln>
        </p:spPr>
      </p:sp>
      <p:sp>
        <p:nvSpPr>
          <p:cNvPr id="9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95A0ED-1329-4DC9-9CA2-90FC41BEA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0ED44E-2140-4CE6-AA44-484901586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54160" y="701640"/>
            <a:ext cx="4626000" cy="3468600"/>
          </a:xfrm>
          <a:prstGeom prst="rect">
            <a:avLst/>
          </a:prstGeom>
          <a:ln w="0">
            <a:noFill/>
          </a:ln>
        </p:spPr>
      </p:sp>
      <p:sp>
        <p:nvSpPr>
          <p:cNvPr id="9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54160" y="701640"/>
            <a:ext cx="4626000" cy="3468600"/>
          </a:xfrm>
          <a:prstGeom prst="rect">
            <a:avLst/>
          </a:prstGeom>
          <a:ln w="0">
            <a:noFill/>
          </a:ln>
        </p:spPr>
      </p:sp>
      <p:sp>
        <p:nvSpPr>
          <p:cNvPr id="9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A9549C-1E85-4825-82A2-DDCBA6E30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54160" y="701640"/>
            <a:ext cx="4626000" cy="3468600"/>
          </a:xfrm>
          <a:prstGeom prst="rect">
            <a:avLst/>
          </a:prstGeom>
          <a:ln w="0">
            <a:noFill/>
          </a:ln>
        </p:spPr>
      </p:sp>
      <p:sp>
        <p:nvSpPr>
          <p:cNvPr id="9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EB29EB-0C8F-471F-A45D-B175F100B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4160" y="701640"/>
            <a:ext cx="4626000" cy="3468600"/>
          </a:xfrm>
          <a:prstGeom prst="rect">
            <a:avLst/>
          </a:prstGeom>
          <a:ln w="0">
            <a:noFill/>
          </a:ln>
        </p:spPr>
      </p:sp>
      <p:sp>
        <p:nvSpPr>
          <p:cNvPr id="9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C8C724-3889-4958-BA5B-74E4F2E1F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137BF9-5A11-4C4D-833B-1B045A93E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54160" y="701640"/>
            <a:ext cx="4626000" cy="3468600"/>
          </a:xfrm>
          <a:prstGeom prst="rect">
            <a:avLst/>
          </a:prstGeom>
          <a:ln w="0">
            <a:noFill/>
          </a:ln>
        </p:spPr>
      </p:sp>
      <p:sp>
        <p:nvSpPr>
          <p:cNvPr id="9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C6CBB5-6CE1-41DD-9BA4-32FE120D5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506ADA-A63A-4DD5-BC3F-8425C9887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54160" y="701640"/>
            <a:ext cx="4626000" cy="3468600"/>
          </a:xfrm>
          <a:prstGeom prst="rect">
            <a:avLst/>
          </a:prstGeom>
          <a:ln w="0">
            <a:noFill/>
          </a:ln>
        </p:spPr>
      </p:sp>
      <p:sp>
        <p:nvSpPr>
          <p:cNvPr id="9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DC6B15-7FD5-4730-A842-29F09843E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54160" y="701640"/>
            <a:ext cx="4626000" cy="3468600"/>
          </a:xfrm>
          <a:prstGeom prst="rect">
            <a:avLst/>
          </a:prstGeom>
          <a:ln w="0">
            <a:noFill/>
          </a:ln>
        </p:spPr>
      </p:sp>
      <p:sp>
        <p:nvSpPr>
          <p:cNvPr id="9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AB5430-8AB1-494C-94CC-A7A69F3E8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54160" y="701640"/>
            <a:ext cx="4626000" cy="3468600"/>
          </a:xfrm>
          <a:prstGeom prst="rect">
            <a:avLst/>
          </a:prstGeom>
          <a:ln w="0">
            <a:noFill/>
          </a:ln>
        </p:spPr>
      </p:sp>
      <p:sp>
        <p:nvSpPr>
          <p:cNvPr id="9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62B69D-B9B5-4B5F-B1B3-7E2C17D01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54160" y="701640"/>
            <a:ext cx="4626000" cy="3468600"/>
          </a:xfrm>
          <a:prstGeom prst="rect">
            <a:avLst/>
          </a:prstGeom>
          <a:ln w="0">
            <a:noFill/>
          </a:ln>
        </p:spPr>
      </p:sp>
      <p:sp>
        <p:nvSpPr>
          <p:cNvPr id="9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A38AA0-7A9A-450A-AB1E-1D0507465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E3034B-13AC-487D-945A-4DA556BB6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54160" y="701640"/>
            <a:ext cx="4626000" cy="3468600"/>
          </a:xfrm>
          <a:prstGeom prst="rect">
            <a:avLst/>
          </a:prstGeom>
          <a:ln w="0">
            <a:noFill/>
          </a:ln>
        </p:spPr>
      </p:sp>
      <p:sp>
        <p:nvSpPr>
          <p:cNvPr id="9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54160" y="701640"/>
            <a:ext cx="4626000" cy="3468600"/>
          </a:xfrm>
          <a:prstGeom prst="rect">
            <a:avLst/>
          </a:prstGeom>
          <a:ln w="0">
            <a:noFill/>
          </a:ln>
        </p:spPr>
      </p:sp>
      <p:sp>
        <p:nvSpPr>
          <p:cNvPr id="9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9905E0-7E02-4750-9D97-BB13225CD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51E847-813A-4B36-A069-99CF2A26C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54160" y="701640"/>
            <a:ext cx="4626000" cy="3468600"/>
          </a:xfrm>
          <a:prstGeom prst="rect">
            <a:avLst/>
          </a:prstGeom>
          <a:ln w="0">
            <a:noFill/>
          </a:ln>
        </p:spPr>
      </p:sp>
      <p:sp>
        <p:nvSpPr>
          <p:cNvPr id="9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0FFA55-56A5-4C19-823A-04FFAE8DD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2EC804-912E-4818-BEC7-935C71DB0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54160" y="701640"/>
            <a:ext cx="4626000" cy="3468600"/>
          </a:xfrm>
          <a:prstGeom prst="rect">
            <a:avLst/>
          </a:prstGeom>
          <a:ln w="0">
            <a:noFill/>
          </a:ln>
        </p:spPr>
      </p:sp>
      <p:sp>
        <p:nvSpPr>
          <p:cNvPr id="10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54160" y="701640"/>
            <a:ext cx="4626000" cy="3468600"/>
          </a:xfrm>
          <a:prstGeom prst="rect">
            <a:avLst/>
          </a:prstGeom>
          <a:ln w="0">
            <a:noFill/>
          </a:ln>
        </p:spPr>
      </p:sp>
      <p:sp>
        <p:nvSpPr>
          <p:cNvPr id="10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B342A9-7C3F-48AD-802C-AAC6BB8FB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5"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09A808F-D278-4E4C-8E06-830AD70EC3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1147680" y="696960"/>
            <a:ext cx="4640400" cy="3479760"/>
          </a:xfrm>
          <a:prstGeom prst="rect">
            <a:avLst/>
          </a:prstGeom>
          <a:ln w="0">
            <a:noFill/>
          </a:ln>
        </p:spPr>
      </p:sp>
      <p:sp>
        <p:nvSpPr>
          <p:cNvPr id="79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54160" y="701640"/>
            <a:ext cx="4626000" cy="3468600"/>
          </a:xfrm>
          <a:prstGeom prst="rect">
            <a:avLst/>
          </a:prstGeom>
          <a:ln w="0">
            <a:noFill/>
          </a:ln>
        </p:spPr>
      </p:sp>
      <p:sp>
        <p:nvSpPr>
          <p:cNvPr id="10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8C2D81-999E-4C7B-98BC-6D9B2A875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F6A636-C21A-40D0-A41C-291F248A2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54160" y="701640"/>
            <a:ext cx="4626000" cy="3468600"/>
          </a:xfrm>
          <a:prstGeom prst="rect">
            <a:avLst/>
          </a:prstGeom>
          <a:ln w="0">
            <a:noFill/>
          </a:ln>
        </p:spPr>
      </p:sp>
      <p:sp>
        <p:nvSpPr>
          <p:cNvPr id="10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54160" y="701640"/>
            <a:ext cx="4626000" cy="3468600"/>
          </a:xfrm>
          <a:prstGeom prst="rect">
            <a:avLst/>
          </a:prstGeom>
          <a:ln w="0">
            <a:noFill/>
          </a:ln>
        </p:spPr>
      </p:sp>
      <p:sp>
        <p:nvSpPr>
          <p:cNvPr id="10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987E6A-7BF3-4D4F-B7B8-9CEA88F12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54160" y="701640"/>
            <a:ext cx="4626000" cy="3468600"/>
          </a:xfrm>
          <a:prstGeom prst="rect">
            <a:avLst/>
          </a:prstGeom>
          <a:ln w="0">
            <a:noFill/>
          </a:ln>
        </p:spPr>
      </p:sp>
      <p:sp>
        <p:nvSpPr>
          <p:cNvPr id="10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AAA55B-A529-48F3-9B61-C81CE2051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54160" y="701640"/>
            <a:ext cx="4626000" cy="3468600"/>
          </a:xfrm>
          <a:prstGeom prst="rect">
            <a:avLst/>
          </a:prstGeom>
          <a:ln w="0">
            <a:noFill/>
          </a:ln>
        </p:spPr>
      </p:sp>
      <p:sp>
        <p:nvSpPr>
          <p:cNvPr id="10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B5F239-C83F-4EA4-A5F4-CC0209421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54160" y="701640"/>
            <a:ext cx="4626000" cy="3468600"/>
          </a:xfrm>
          <a:prstGeom prst="rect">
            <a:avLst/>
          </a:prstGeom>
          <a:ln w="0">
            <a:noFill/>
          </a:ln>
        </p:spPr>
      </p:sp>
      <p:sp>
        <p:nvSpPr>
          <p:cNvPr id="10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02D107-B68A-4A7D-A5E6-C589E443E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0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22A2D91-D9E9-4858-B7AB-77367A4688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7680" y="696960"/>
            <a:ext cx="4640400" cy="3479760"/>
          </a:xfrm>
          <a:prstGeom prst="rect">
            <a:avLst/>
          </a:prstGeom>
          <a:ln w="0">
            <a:noFill/>
          </a:ln>
        </p:spPr>
      </p:sp>
      <p:sp>
        <p:nvSpPr>
          <p:cNvPr id="80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1435FE9-304F-44C8-B890-4A986B0B4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1154160" y="701640"/>
            <a:ext cx="4626000" cy="3468600"/>
          </a:xfrm>
          <a:prstGeom prst="rect">
            <a:avLst/>
          </a:prstGeom>
          <a:ln w="0">
            <a:noFill/>
          </a:ln>
        </p:spPr>
      </p:sp>
      <p:sp>
        <p:nvSpPr>
          <p:cNvPr id="8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1896273-A2FD-40DF-89E7-E710F2395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54160" y="701640"/>
            <a:ext cx="4626000" cy="3468600"/>
          </a:xfrm>
          <a:prstGeom prst="rect">
            <a:avLst/>
          </a:prstGeom>
          <a:ln w="0">
            <a:noFill/>
          </a:ln>
        </p:spPr>
      </p:sp>
      <p:sp>
        <p:nvSpPr>
          <p:cNvPr id="8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12"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13"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8712CE-BB37-4242-8964-C84C80905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2DA883-19CE-4653-8354-41516CEAE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54160" y="701640"/>
            <a:ext cx="4626000" cy="3468600"/>
          </a:xfrm>
          <a:prstGeom prst="rect">
            <a:avLst/>
          </a:prstGeom>
          <a:ln w="0">
            <a:noFill/>
          </a:ln>
        </p:spPr>
      </p:sp>
      <p:sp>
        <p:nvSpPr>
          <p:cNvPr id="8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F368C-5C95-41EB-9AE7-DA2B59596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17202-B240-4F7B-B37A-E84AF269E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081945-E9AE-4BF7-A60E-538F442714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06A911-0E43-474E-9934-A8E15C8D09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A3E3CA-2F13-4DF5-BB59-53FDEB2A28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2C5B0-8AEE-407E-840F-874991ACBD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0E4E86-2364-4C3D-92DF-902FAB946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2FF593-1DBB-4D48-A8E8-05696C45F4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01B184-78E6-4590-91C6-616DB0D902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B22FD0-FA5C-4497-B76C-736E83D020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79C24C-95BA-4FFA-8B65-C0E9EEB472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A3CB32-6392-4D81-9345-1493017DAC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5465C-57F2-4DCE-A79C-FEF6AFE3B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C23B00-C016-4FD9-9E01-A5090F2433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F1D1A6-09C8-41C7-BECE-7196D8FBAD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0E8C7E-312D-442C-A133-F9DA6E9FC5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3E6D90-B4AE-48BA-B6E9-D814CECED9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16EEE0-9866-4CAD-8F82-ADA7F8FEF8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BC52EB-9E75-44A4-8A6F-28E0436A50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CA3CB2-FE3A-40ED-9A0E-F75B8D5822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6B46A4-3526-4B4B-91D8-C1141AF162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C16835-9F06-4665-859F-FC4B5E5319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FD63D3-DD19-4DEC-B8CA-454A9CCFA4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AD521-ED47-4D5C-9D84-0794A578D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CB9FBA-FDEA-46DA-9374-5850F31947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396D11-5FA4-4F63-BC6F-840E53E430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C8DB94-2857-41B7-823F-4D66825711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4DC4C9-E01C-440F-A241-C25BBDFB1C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0697CF-AFFF-491B-A10B-4438702230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D5FB2C-BA7E-46A5-A134-FB43821892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186B0C-2C59-40BC-8310-0095F5C06E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BE8DB2-A826-4B8C-9F2E-02792121A0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31D3BB-3F83-4CA4-8257-859BDAEAEB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B84255-8ED1-412D-989C-8FCE618992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217EE-F737-4E25-BC82-9A9E7BBC2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77D514-EDBE-4EDD-901D-598AE04984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35AD2F-73A4-4241-911A-746C53EB39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6C2C8C-8A59-4C37-A7EB-159DDFD5DF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B3948B-34B0-4FF5-9774-90CF23C505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C709F4-CEA1-4D15-B17B-E560EBAAB7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E5D871-F2D0-4A12-AB62-A17663CBF7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78D36E-B15E-4CBA-8A39-C5BA5738EF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93CDED-283C-40B4-B2BA-6696183451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5F22C1-5284-4115-AE56-EA3E8A4593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D2CD40-469A-4B8D-8F6E-279ACB879C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A252A-DC75-43A0-8939-BC939B90E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3D1E45-4F9E-4528-9859-901AD09206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1BEED0-F039-4577-A45E-2C59DD9B57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3381B1-C0F3-466A-A4A5-9256CCEF32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934EF3-5C21-4396-913A-DA59B6596E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A2A23A-CE48-49F5-9439-A9DBBA4453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178FE-DEF8-43DC-BE7F-9C80B389E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16093-503B-45ED-9996-22F901EFE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F86DC-78AC-4FA2-83DD-9CD860BCC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87E81-8153-47FA-8291-AF1EFBCB9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10685-F416-47BF-9530-C26F01C89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54CE6-DF4F-492B-B5DA-E1067F5A8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C36B1-8107-4AA0-951F-FB5B97373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9F291-0927-4084-AC1B-0CC3A8B7A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9F4BC-92D8-45C0-A472-0462FFB89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3DE53-391E-4AE8-AE32-3060033FC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FB15A-6582-4E0F-8951-D63F1644D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95AEAB-BCDD-4608-A51B-8B19674DF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E2F9A3-A652-4609-AD13-664563D8C8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0981B-C1E0-410A-AAE0-AD2163CA56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7F509-0E87-4515-9CF9-F5773293F3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CFB77D-9F56-4C39-8F46-C8E05E3EF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DF75A-83FB-4449-B992-FA6E9D1D0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6E0E17-D3DB-4C59-A2DE-3B7E61FC7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E41BD-BEDD-43F3-BC8A-5E36DA223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62E3D-C887-48CC-941C-EB411A1BD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8F7A6-C1C4-44F1-96C3-28765990B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0B7A6-92C1-4E24-BDA8-F1ACE9C4B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9E6A18-203B-40F2-B9EE-5579C0B514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ED9A61-BBE9-473A-95B5-9CA90CE04C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C5D074-D183-4862-9DAE-D286EA1750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8748F-B40D-4D3A-80E6-B5977439E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4AA4F-7FDB-4F8F-82AB-43DB507CF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E8D2E-4501-433C-AE99-4B76D7A20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2FC8C-5616-4175-89A6-5DDFE2C62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32916-EB89-4F71-97A8-16CFEF7EC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F240C6-211C-49D4-92AE-06E08C81C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F6F61-4B65-4056-A61C-965D01E6A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248C6-4F20-4BA3-AD45-8C7310772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53EB0-325E-4CFE-83D1-65AE79183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0D33E2-BC6C-4072-94A1-6D70C96369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4648CF-5B04-4538-9592-ADE1E2BD9F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4361B6-96B6-47A2-90B6-5417188299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5059A4-90CE-4A69-B913-9EFD42D0F3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37708-0814-47F0-BEFD-B65DCECD0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81757-6B2A-45C6-B323-AA44B37658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BD187-2814-4784-A66B-E53DE5E6F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53179-A115-48F9-93E3-0216107673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F86D88-178B-4C70-BD6A-5230445F49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82105C-1E33-4C80-98E1-1EFB4FF68D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73AB9-E022-49C4-AB0C-6A0A7F78F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ED6E0-029A-49B1-83DE-4D6C678D9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257DD-38C9-48CB-89D1-882C89B11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4492E5-46CE-4E16-9457-585065D99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24C48C-8C8D-4AC9-95A8-D40D64762D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A8765-4CF7-4A44-AE72-796FA7687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22CD94-2DB3-4F91-B089-DCB0B2A4C1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8A8C01-C791-42F8-95C6-76EA28BC6B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3B8A4A-2424-4737-B103-228498F02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2399D7-C9E3-4936-A8E3-CA7BEDDF8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B826A0-4601-4B60-80DC-CCB8432033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F6C1E5-1F8B-4126-933A-318BD2BE6A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883088-E614-4A1D-B044-9B11369426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7B9B7-6F73-4786-97DE-0AD9DF896D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127D6-7A2B-4C0E-8322-0C4744275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C09AA-2178-4F57-9937-89B11EA5D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99B5-CD66-4CEC-AB28-65AFBEC4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1B985E-578E-4D89-82BE-33F4329A2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A10996-52A8-4FAB-98DC-FBF92F84FA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3CA6D3-89D7-4476-AD45-F04DC16948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19D9CF-BB65-413C-BF07-3D3465A683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6E03C6-0FE2-4BD5-8AC2-DA9EFEE96C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DD8D69-7F8A-49DA-AED8-7FE0AA2B24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89A693-4A7F-4414-8488-FE06E59A9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AF5703-B386-44CA-9BDA-0327A2F2B6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A808A6-9354-457B-A7B4-3BD8604992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4392D-BC01-4267-AB05-E349CFCB3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85A52-8AD0-44BE-AECF-AD72E3802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D6087-EB42-4FF7-A96A-4FE784BB5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D8FA5-E303-4C73-82F9-C740E6645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7ED5FE-0C0F-431D-9E57-E05AC7D28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8F8D7F-865A-4750-9E62-2B6027F11A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FF82DB-97C2-4912-888E-F8A46B8454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BFA182-29D2-4918-AAAA-E68C0AED5A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E91A43-BD17-4F20-96DF-5147DB6636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B00315-F68A-489A-BF93-5E5D6FB1B7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526CBC-ED3C-4675-80C2-ED8C345ECE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E3E242-17E8-4935-B3A5-EB46CA554D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DD15D-3DCA-41D1-BB76-6A4A0D68C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B0687F-AEB7-4CBA-87EA-EBDFCE226A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48890-FDFA-46EF-9F15-2BC6EE98B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0F8CBB-EE38-4072-B258-398177122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E86D7-6B89-483E-81EC-2E570F175D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FEE491-499F-4633-AC33-107D25FF59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C19FD9-30D6-48AB-B71B-BA19A50AF9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EA533F-31A7-4E50-818E-E471F18CFE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C50D34-F955-4B17-8B64-45844BFFC2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0CED6A-B20F-4C7F-BA84-C15C3466A2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91E0AD-778E-4197-A54B-D0438460DB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5EC131C-F5CF-45D3-863D-7A2B2F4E71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6B820C6-A7A8-4252-914B-5FF7E9D6D2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21B8E78-A0A2-402F-8031-F9EE5144F7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BE42626-C77E-4D25-B9C5-78BE02EF43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3D3CFB-4D89-48E1-B07B-1EDA3C4403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1A07F41-C870-42BD-A1ED-05F53F736F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C28A994-E42D-4421-B0A1-E5529288C1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4C6B18-3A21-4AA8-85FF-EC9DA4A8D5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A323BDF-3977-4402-98E4-4E4738B583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0F17276-74F6-4CED-896D-68F2E3861F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5620543-B798-4940-A17D-4FF5D68B27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7AFEA55-0362-4D35-B399-A757A7A779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9/11-19-1180-00-00ay-comments-on-tgay-d4-0.xlsx"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931-00-00ay-tg-ay-may-2019-atlanta-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1229-00-00ay-tg-ay-july-10-2019-conference-call-meeting-minutes.docx" TargetMode="External"/><Relationship Id="rId2" Type="http://schemas.openxmlformats.org/officeDocument/2006/relationships/hyperlink" Target="https://mentor.ieee.org/802.11/dcn/19/11-19-1229-00-00ay-tg-ay-july-10-2019-conference-call-meeting-minutes.docx" TargetMode="External"/><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A2765E-99A4-4282-A8EF-DB05B0570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1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E00ED3-E9D8-45A7-A93B-68B67A62F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16DD55-2670-4302-AC93-00BE3703B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4373E4-1A62-4C05-9A26-9AF50CC48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0B1384-69C5-40B1-A750-33A74A53C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0A3751-C726-482C-8D39-56D82FA92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07A910-0173-4F73-BBD5-A87084F44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readiness for initial SA technical letter ballo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41358E-C67F-40EE-86A3-1D020ED9A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aft readiness for the initial SA technical letter ballot</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ment resolution for second recirculation working group letter ballot LB242</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ments on PAR extension reques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990AB2-FE11-464D-B892-791321C53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remaining CIDs for LB239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R extension request is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motion is passed to prepare D4.0 and start a 15-day second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817DBC-BC68-4482-9F22-644A6E33F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y interim</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IEEE SA ballot pool is formed</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37 members enrolled</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18-day second recirculation Working Group letter ballot, LB242, is closed</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ssed with an approval rate of 97.74% </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Result is updated on July 14</a:t>
            </a:r>
            <a:endParaRPr b="0" lang="en-US" sz="16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64 comments:  21 Technical;  43 Editorial</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1"/>
              </a:rPr>
              <a:t>https://mentor.ieee.org/802.11/dcn/19/11-19-1180-00-00ay-comments-on-tgay-d4-0.xlsx</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401A41-61F6-474D-A507-62A935BA8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4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July 14, 2019)</a:t>
            </a:r>
            <a:endParaRPr b="0" lang="en-US" sz="1800" spc="-1" strike="noStrike">
              <a:solidFill>
                <a:srgbClr val="000000"/>
              </a:solidFill>
              <a:latin typeface="Times New Roman"/>
            </a:endParaRPr>
          </a:p>
        </p:txBody>
      </p:sp>
      <p:graphicFrame>
        <p:nvGraphicFramePr>
          <p:cNvPr id="650" name=""/>
          <p:cNvGraphicFramePr/>
          <p:nvPr/>
        </p:nvGraphicFramePr>
        <p:xfrm>
          <a:off x="685800" y="1676520"/>
          <a:ext cx="7772400" cy="256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ienna, Austri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14 - 19,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DF22C2-0617-4202-B2C3-52A706850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4B7897-058E-4588-A916-96DE23EFD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July 14,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2644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11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912F6B-4A96-4D58-AEEB-560480C59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2019 interim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the Ma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931-00-00ay-tg-ay-may-2019-atlanta-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429304-0DF8-4D61-8FAB-DE8061132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10th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July 10,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9/11-19-1229-00-00ay-tg-ay-july-10-2019-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63D61A-2942-4576-A6AE-F61C31602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a:t>
            </a:r>
            <a:endParaRPr b="0" lang="en-US" sz="3200" spc="-1" strike="noStrike">
              <a:solidFill>
                <a:srgbClr val="000000"/>
              </a:solidFill>
              <a:latin typeface="Times New Roman"/>
            </a:endParaRPr>
          </a:p>
        </p:txBody>
      </p:sp>
      <p:sp>
        <p:nvSpPr>
          <p:cNvPr id="6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42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50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E3F588-7063-4EFA-B2D1-BE25C237E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p:nvPr>
        </p:nvSpPr>
        <p:spPr>
          <a:xfrm>
            <a:off x="685800" y="1218960"/>
            <a:ext cx="45720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readiness for initial SA technical letter ballo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s on PAR Extension Reques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74" name="Rectangle 3"/>
          <p:cNvSpPr/>
          <p:nvPr/>
        </p:nvSpPr>
        <p:spPr>
          <a:xfrm>
            <a:off x="5105520" y="1219320"/>
            <a:ext cx="38862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September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33A9F3-4160-465A-A12D-81E2A45BA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67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681" name="Rectangle 3" descr=""/>
          <p:cNvPicPr/>
          <p:nvPr/>
        </p:nvPicPr>
        <p:blipFill>
          <a:blip r:embed="rId1"/>
          <a:stretch/>
        </p:blipFill>
        <p:spPr>
          <a:xfrm>
            <a:off x="725400" y="1566720"/>
            <a:ext cx="7809120" cy="470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BAC8B9-8351-468E-BCC3-C7752FC8A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s on the start dat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A technical letter ballot (1)</a:t>
            </a:r>
            <a:endParaRPr b="0" lang="en-US" sz="3200" spc="-1" strike="noStrike">
              <a:solidFill>
                <a:srgbClr val="000000"/>
              </a:solidFill>
              <a:latin typeface="Times New Roman"/>
            </a:endParaRPr>
          </a:p>
        </p:txBody>
      </p:sp>
      <p:sp>
        <p:nvSpPr>
          <p:cNvPr id="6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8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1</a:t>
            </a:r>
            <a:endParaRPr b="0" lang="en-US" sz="20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comments with sufficient justification in the July plenary (4 session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4.0 in the IEEE 802 EC closing plenary on July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 another 15-day recirculation working group letter ballot for D4.0 (i.e., unchanged draft) tentatively from July 22 to August 5;</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from August 12 to September 11. </a:t>
            </a:r>
            <a:endParaRPr b="0" lang="en-US" sz="1400" spc="-1" strike="noStrike">
              <a:solidFill>
                <a:srgbClr val="000000"/>
              </a:solidFill>
              <a:latin typeface="Times New Roman"/>
            </a:endParaRPr>
          </a:p>
          <a:p>
            <a:pPr marL="318960" indent="-318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2</a:t>
            </a:r>
            <a:endParaRPr b="0" lang="en-US" sz="20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4 session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5.0 in the IEEE 802 EC closing plenary on July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uming Editor needs two weeks to prepare D5.0, issue a 15-day recirculation working group letter ballot tentatively from August 5 to August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the comments received from D5.0 with sufficient justification as soon as possible during teleconference call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immediately afterwards, which requires a task group motion in a teleconference call (see the condition set in the previous slide);</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immediately afterwards.</a:t>
            </a:r>
            <a:endParaRPr b="0" lang="en-US" sz="1400" spc="-1" strike="noStrike">
              <a:solidFill>
                <a:srgbClr val="000000"/>
              </a:solidFill>
              <a:latin typeface="Times New Roman"/>
            </a:endParaRPr>
          </a:p>
          <a:p>
            <a:pPr lvl="1" marL="690840" indent="-2656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DF52CD-DB95-46AA-9019-CB5E9C7DB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s on the start dat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A technical letter ballot (2)</a:t>
            </a:r>
            <a:endParaRPr b="0" lang="en-US" sz="3200" spc="-1" strike="noStrike">
              <a:solidFill>
                <a:srgbClr val="000000"/>
              </a:solidFill>
              <a:latin typeface="Times New Roman"/>
            </a:endParaRPr>
          </a:p>
        </p:txBody>
      </p:sp>
      <p:sp>
        <p:nvSpPr>
          <p:cNvPr id="6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9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3</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and the September interim;</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after the end of the September interim;</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comments from D5.0 in the November plenar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after the end of the November plenar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EC a conditional approval to go to the IEEE SA technical letter ballot on D5.0</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in December 2019, prior to the validity period of the IEEE SA ballot (January 3, 2020)</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3736D8-3A27-4A6E-89AE-A0B0C9DD7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update if Option 3 follows</a:t>
            </a:r>
            <a:endParaRPr b="0" lang="en-US" sz="3200" spc="-1" strike="noStrike">
              <a:solidFill>
                <a:srgbClr val="000000"/>
              </a:solidFill>
              <a:latin typeface="Times New Roman"/>
            </a:endParaRPr>
          </a:p>
        </p:txBody>
      </p:sp>
      <p:sp>
        <p:nvSpPr>
          <p:cNvPr id="69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9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9:</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WGLB on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Seek EC approval for SA technical letter ballo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Fourth recirculation WGLB on Draft 5.0 (i.e., unchanged draf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2:</a:t>
            </a:r>
            <a:r>
              <a:rPr b="1" lang="en-US" sz="1800" spc="-1" strike="noStrike">
                <a:solidFill>
                  <a:srgbClr val="000000"/>
                </a:solidFill>
                <a:latin typeface="Times New Roman"/>
              </a:rPr>
              <a:t>	</a:t>
            </a:r>
            <a:r>
              <a:rPr b="1" lang="en-US" sz="1800" spc="-1" strike="noStrike">
                <a:solidFill>
                  <a:srgbClr val="000000"/>
                </a:solidFill>
                <a:latin typeface="Times New Roman"/>
              </a:rPr>
              <a:t>Initial SA technical letter ballot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a:t>
            </a:r>
            <a:r>
              <a:rPr b="1" lang="en-US" sz="1800" spc="-1" strike="noStrike">
                <a:solidFill>
                  <a:srgbClr val="000000"/>
                </a:solidFill>
                <a:latin typeface="Times New Roman"/>
              </a:rPr>
              <a:t>	</a:t>
            </a:r>
            <a:r>
              <a:rPr b="1" lang="en-US" sz="1800" spc="-1" strike="noStrike">
                <a:solidFill>
                  <a:srgbClr val="000000"/>
                </a:solidFill>
                <a:latin typeface="Times New Roman"/>
              </a:rPr>
              <a:t>First recirculation SA letter ballot  (Draft 6.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4: </a:t>
            </a:r>
            <a:r>
              <a:rPr b="1" lang="en-US" sz="1800" spc="-1" strike="noStrike">
                <a:solidFill>
                  <a:srgbClr val="000000"/>
                </a:solidFill>
                <a:latin typeface="Times New Roman"/>
              </a:rPr>
              <a:t>	</a:t>
            </a:r>
            <a:r>
              <a:rPr b="1" lang="en-US" sz="1800" spc="-1" strike="noStrike">
                <a:solidFill>
                  <a:srgbClr val="000000"/>
                </a:solidFill>
                <a:latin typeface="Times New Roman"/>
              </a:rPr>
              <a:t>Second Recirculation Sponsor Ballot (Draft 7.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5:</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Sponsor Ballot (Draft 7.0 unchanged)</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802.11 WG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EC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9:</a:t>
            </a:r>
            <a:r>
              <a:rPr b="1" lang="en-US" sz="1800" spc="-1" strike="noStrike">
                <a:solidFill>
                  <a:srgbClr val="000000"/>
                </a:solidFill>
                <a:latin typeface="Times New Roman"/>
              </a:rPr>
              <a:t>	</a:t>
            </a:r>
            <a:r>
              <a:rPr b="1" lang="en-US" sz="1800" spc="-1" strike="noStrike">
                <a:solidFill>
                  <a:srgbClr val="000000"/>
                </a:solidFill>
                <a:latin typeface="Times New Roman"/>
              </a:rPr>
              <a:t>RevCom &amp; Standards Board Final</a:t>
            </a:r>
            <a:endParaRPr b="0" lang="en-US" sz="1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2AC2AD-424F-42DC-8EC5-5DD786489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s from task group member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ring the July 1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call</a:t>
            </a:r>
            <a:endParaRPr b="0" lang="en-US" sz="3200" spc="-1" strike="noStrike">
              <a:solidFill>
                <a:srgbClr val="000000"/>
              </a:solidFill>
              <a:latin typeface="Times New Roman"/>
            </a:endParaRPr>
          </a:p>
        </p:txBody>
      </p:sp>
      <p:sp>
        <p:nvSpPr>
          <p:cNvPr id="69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nt to have useful work done in the September interim</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C34795-133D-4E82-8805-3EC3297E4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uly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CFFE2D-2BF6-4396-999B-1861582AB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s from the CAC session on Sunday</a:t>
            </a:r>
            <a:endParaRPr b="0" lang="en-US" sz="3200" spc="-1" strike="noStrike">
              <a:solidFill>
                <a:srgbClr val="000000"/>
              </a:solidFill>
              <a:latin typeface="Times New Roman"/>
            </a:endParaRPr>
          </a:p>
        </p:txBody>
      </p:sp>
      <p:sp>
        <p:nvSpPr>
          <p:cNvPr id="7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line is not already</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md is (and IEEE 802.11ax are) still working on technical recirculation letter ballots.  </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Gay to start SA Ballot prior to the projects that it is dependent on is like putting a cart before the horse.  TGay should plan to go to SA Ballot no sooner than TGax and REVmd as it cannot go to RevCom no sooner either.  Trying to get ahead is not really reasonable as the text in the dependent text may cause changes in TGa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ture action cannot be promised</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not promise the commenters who withdraw the comments to resolve their comments in future ballots</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number of Disapprove technical comments is non-negligible </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 comments are not a marginal/negligible number</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 to resolve all editorial comments </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634839-4235-4641-81A4-BC5CABF2A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5904EE-F40A-4E74-B170-353033A74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926CE9-D0A9-4337-A9D2-64E54F3DA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F84FCE-53FE-485A-BA58-E5A7FFCB2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8F43F5-7370-47CA-88F6-CB6123312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on PAR Extension Reques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67EF15-C362-46EA-9ED4-8A0AB9B92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PAR extension request</a:t>
            </a:r>
            <a:endParaRPr b="0" lang="en-US" sz="3200" spc="-1" strike="noStrike">
              <a:solidFill>
                <a:srgbClr val="000000"/>
              </a:solidFill>
              <a:latin typeface="Times New Roman"/>
            </a:endParaRPr>
          </a:p>
        </p:txBody>
      </p:sp>
      <p:sp>
        <p:nvSpPr>
          <p:cNvPr id="73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4"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560ED9-2BF0-4A02-AB08-7D5A4C057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C5749B-4F07-42E8-9998-984D39D1E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B71BBD-2367-47FB-ACA2-5B2011701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AC821BE-D7A8-43E4-B48D-DDD8DC52B1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5269B4-065C-48C7-BC5D-CB9C16542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3BA739-0A0E-4730-AB36-944A1AE6F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FBCBA2-E0A7-49F4-85E3-005031EFB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56D2BF-AEAA-44CA-A05A-B6C55325A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D969BA-1509-4A42-BE29-CDDD5F44F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September 2019 interim</a:t>
            </a:r>
            <a:endParaRPr b="0" lang="en-US" sz="3200" spc="-1" strike="noStrike">
              <a:solidFill>
                <a:srgbClr val="000000"/>
              </a:solidFill>
              <a:latin typeface="Times New Roman"/>
            </a:endParaRPr>
          </a:p>
        </p:txBody>
      </p:sp>
      <p:sp>
        <p:nvSpPr>
          <p:cNvPr id="7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985C7D-0452-479B-9EF6-C79F75E7B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7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B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1FEFE22-E625-4A0E-9BD5-CE5B7FECC6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6FD88B-EB7D-4C25-84E9-9207AA0F5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A57B7A-0BF6-4FA8-AAA2-CDF6A1D93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AAB7753-1072-4DFA-92A2-A47F7E29E5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691A36-A88D-4865-A4A7-10EA1B9EA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2019</cp:keywords>
  <dc:language>en-US</dc:language>
  <cp:lastModifiedBy>Edward Au</cp:lastModifiedBy>
  <cp:lastPrinted>2014-11-04T15:04:57Z</cp:lastPrinted>
  <dcterms:modified xsi:type="dcterms:W3CDTF">2019-07-15T15:22:18Z</dcterms:modified>
  <cp:revision>9116</cp:revision>
  <dc:subject>Task Group AY November 2015 Meeting Agenda</dc:subject>
  <dc:title>11-19/0974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