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CB19DA06-238A-45EC-AD20-95C9E6D96B7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7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7E4511-21BA-4EA9-9BE5-29CAF941D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54160" y="701640"/>
            <a:ext cx="4626000" cy="3468600"/>
          </a:xfrm>
          <a:prstGeom prst="rect">
            <a:avLst/>
          </a:prstGeom>
          <a:ln w="0">
            <a:noFill/>
          </a:ln>
        </p:spPr>
      </p:sp>
      <p:sp>
        <p:nvSpPr>
          <p:cNvPr id="7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2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458944-A540-489C-92C1-021DE7C6D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2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29"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3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B0798CF-5F6D-4402-938A-A7D068AC9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PlaceHolder 1"/>
          <p:cNvSpPr>
            <a:spLocks noGrp="1"/>
          </p:cNvSpPr>
          <p:nvPr>
            <p:ph type="sldImg"/>
          </p:nvPr>
        </p:nvSpPr>
        <p:spPr>
          <a:xfrm>
            <a:off x="1154160" y="701640"/>
            <a:ext cx="4626000" cy="3468600"/>
          </a:xfrm>
          <a:prstGeom prst="rect">
            <a:avLst/>
          </a:prstGeom>
          <a:ln w="0">
            <a:noFill/>
          </a:ln>
        </p:spPr>
      </p:sp>
      <p:sp>
        <p:nvSpPr>
          <p:cNvPr id="8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3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0C80E7-DBFC-4334-BF17-5D55BDEAB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3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39"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4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5E3322-6973-4A5F-A4B6-21EB95B80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1154160" y="701640"/>
            <a:ext cx="4626000" cy="3468600"/>
          </a:xfrm>
          <a:prstGeom prst="rect">
            <a:avLst/>
          </a:prstGeom>
          <a:ln w="0">
            <a:noFill/>
          </a:ln>
        </p:spPr>
      </p:sp>
      <p:sp>
        <p:nvSpPr>
          <p:cNvPr id="8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84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845"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8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EEF57A-5590-4918-8190-5CDF00E68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1154160" y="701640"/>
            <a:ext cx="4626000" cy="3468600"/>
          </a:xfrm>
          <a:prstGeom prst="rect">
            <a:avLst/>
          </a:prstGeom>
          <a:ln w="0">
            <a:noFill/>
          </a:ln>
        </p:spPr>
      </p:sp>
      <p:sp>
        <p:nvSpPr>
          <p:cNvPr id="8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54160" y="701640"/>
            <a:ext cx="4626000" cy="3468600"/>
          </a:xfrm>
          <a:prstGeom prst="rect">
            <a:avLst/>
          </a:prstGeom>
          <a:ln w="0">
            <a:noFill/>
          </a:ln>
        </p:spPr>
      </p:sp>
      <p:sp>
        <p:nvSpPr>
          <p:cNvPr id="8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FC7782-A4B6-464D-96B5-78B17DC9C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63506B-10CB-4402-AFB9-02C2AAC84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1154160" y="701640"/>
            <a:ext cx="4626000" cy="3468600"/>
          </a:xfrm>
          <a:prstGeom prst="rect">
            <a:avLst/>
          </a:prstGeom>
          <a:ln w="0">
            <a:noFill/>
          </a:ln>
        </p:spPr>
      </p:sp>
      <p:sp>
        <p:nvSpPr>
          <p:cNvPr id="8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54160" y="701640"/>
            <a:ext cx="4626000" cy="3468600"/>
          </a:xfrm>
          <a:prstGeom prst="rect">
            <a:avLst/>
          </a:prstGeom>
          <a:ln w="0">
            <a:noFill/>
          </a:ln>
        </p:spPr>
      </p:sp>
      <p:sp>
        <p:nvSpPr>
          <p:cNvPr id="8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148719-5115-4C4D-903B-517DA935C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54160" y="701640"/>
            <a:ext cx="4626000" cy="3468600"/>
          </a:xfrm>
          <a:prstGeom prst="rect">
            <a:avLst/>
          </a:prstGeom>
          <a:ln w="0">
            <a:noFill/>
          </a:ln>
        </p:spPr>
      </p:sp>
      <p:sp>
        <p:nvSpPr>
          <p:cNvPr id="8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5EE367-6B0E-4173-A3FD-078DFF832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54160" y="701640"/>
            <a:ext cx="4626000" cy="3468600"/>
          </a:xfrm>
          <a:prstGeom prst="rect">
            <a:avLst/>
          </a:prstGeom>
          <a:ln w="0">
            <a:noFill/>
          </a:ln>
        </p:spPr>
      </p:sp>
      <p:sp>
        <p:nvSpPr>
          <p:cNvPr id="8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746E40F-A7C7-4106-8A14-0B5363776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54160" y="701640"/>
            <a:ext cx="4626000" cy="3468600"/>
          </a:xfrm>
          <a:prstGeom prst="rect">
            <a:avLst/>
          </a:prstGeom>
          <a:ln w="0">
            <a:noFill/>
          </a:ln>
        </p:spPr>
      </p:sp>
      <p:sp>
        <p:nvSpPr>
          <p:cNvPr id="8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29E67D-5647-4CFB-ABC0-CDE57F809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54160" y="701640"/>
            <a:ext cx="4626000" cy="3468600"/>
          </a:xfrm>
          <a:prstGeom prst="rect">
            <a:avLst/>
          </a:prstGeom>
          <a:ln w="0">
            <a:noFill/>
          </a:ln>
        </p:spPr>
      </p:sp>
      <p:sp>
        <p:nvSpPr>
          <p:cNvPr id="8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C375E0-D3CE-4E5E-AB7C-C0ECC9AB2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54160" y="701640"/>
            <a:ext cx="4626000" cy="3468600"/>
          </a:xfrm>
          <a:prstGeom prst="rect">
            <a:avLst/>
          </a:prstGeom>
          <a:ln w="0">
            <a:noFill/>
          </a:ln>
        </p:spPr>
      </p:sp>
      <p:sp>
        <p:nvSpPr>
          <p:cNvPr id="7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8B1730-EE2E-4CDB-AD13-40A7B9E41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54160" y="701640"/>
            <a:ext cx="4626000" cy="3468600"/>
          </a:xfrm>
          <a:prstGeom prst="rect">
            <a:avLst/>
          </a:prstGeom>
          <a:ln w="0">
            <a:noFill/>
          </a:ln>
        </p:spPr>
      </p:sp>
      <p:sp>
        <p:nvSpPr>
          <p:cNvPr id="8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29D781-5EC6-4858-BBF1-369009D8E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54160" y="701640"/>
            <a:ext cx="4626000" cy="3468600"/>
          </a:xfrm>
          <a:prstGeom prst="rect">
            <a:avLst/>
          </a:prstGeom>
          <a:ln w="0">
            <a:noFill/>
          </a:ln>
        </p:spPr>
      </p:sp>
      <p:sp>
        <p:nvSpPr>
          <p:cNvPr id="8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EA2A1C-8073-435C-9A61-CE4493C33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54160" y="701640"/>
            <a:ext cx="4626000" cy="3468600"/>
          </a:xfrm>
          <a:prstGeom prst="rect">
            <a:avLst/>
          </a:prstGeom>
          <a:ln w="0">
            <a:noFill/>
          </a:ln>
        </p:spPr>
      </p:sp>
      <p:sp>
        <p:nvSpPr>
          <p:cNvPr id="9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BF464A-292C-4E98-94EB-19A5E543C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54160" y="701640"/>
            <a:ext cx="4626000" cy="3468600"/>
          </a:xfrm>
          <a:prstGeom prst="rect">
            <a:avLst/>
          </a:prstGeom>
          <a:ln w="0">
            <a:noFill/>
          </a:ln>
        </p:spPr>
      </p:sp>
      <p:sp>
        <p:nvSpPr>
          <p:cNvPr id="9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ED556E-E1DB-48A2-AC10-178E098D4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F9ACEB-63BF-408E-8FEC-52C780E3E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1154160" y="701640"/>
            <a:ext cx="4626000" cy="3468600"/>
          </a:xfrm>
          <a:prstGeom prst="rect">
            <a:avLst/>
          </a:prstGeom>
          <a:ln w="0">
            <a:noFill/>
          </a:ln>
        </p:spPr>
      </p:sp>
      <p:sp>
        <p:nvSpPr>
          <p:cNvPr id="9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54160" y="701640"/>
            <a:ext cx="4626000" cy="3468600"/>
          </a:xfrm>
          <a:prstGeom prst="rect">
            <a:avLst/>
          </a:prstGeom>
          <a:ln w="0">
            <a:noFill/>
          </a:ln>
        </p:spPr>
      </p:sp>
      <p:sp>
        <p:nvSpPr>
          <p:cNvPr id="9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F331CA-478C-4886-9971-1DB22814D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54160" y="701640"/>
            <a:ext cx="4626000" cy="3468600"/>
          </a:xfrm>
          <a:prstGeom prst="rect">
            <a:avLst/>
          </a:prstGeom>
          <a:ln w="0">
            <a:noFill/>
          </a:ln>
        </p:spPr>
      </p:sp>
      <p:sp>
        <p:nvSpPr>
          <p:cNvPr id="9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6FFA0C-58F7-49B3-9D87-3C146ACBA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54160" y="701640"/>
            <a:ext cx="4626000" cy="3468600"/>
          </a:xfrm>
          <a:prstGeom prst="rect">
            <a:avLst/>
          </a:prstGeom>
          <a:ln w="0">
            <a:noFill/>
          </a:ln>
        </p:spPr>
      </p:sp>
      <p:sp>
        <p:nvSpPr>
          <p:cNvPr id="9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DFC966-159F-4C59-A900-E1A906A69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54160" y="701640"/>
            <a:ext cx="4626000" cy="3468600"/>
          </a:xfrm>
          <a:prstGeom prst="rect">
            <a:avLst/>
          </a:prstGeom>
          <a:ln w="0">
            <a:noFill/>
          </a:ln>
        </p:spPr>
      </p:sp>
      <p:sp>
        <p:nvSpPr>
          <p:cNvPr id="9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27D17B-B185-4945-8EFC-7F56CE23A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54160" y="701640"/>
            <a:ext cx="4626000" cy="3468600"/>
          </a:xfrm>
          <a:prstGeom prst="rect">
            <a:avLst/>
          </a:prstGeom>
          <a:ln w="0">
            <a:noFill/>
          </a:ln>
        </p:spPr>
      </p:sp>
      <p:sp>
        <p:nvSpPr>
          <p:cNvPr id="9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DA1573-75C7-42F2-B74C-C723C8568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9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0F9461-D645-4ECF-8CEB-FB6A55976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1154160" y="701640"/>
            <a:ext cx="4626000" cy="3468600"/>
          </a:xfrm>
          <a:prstGeom prst="rect">
            <a:avLst/>
          </a:prstGeom>
          <a:ln w="0">
            <a:noFill/>
          </a:ln>
        </p:spPr>
      </p:sp>
      <p:sp>
        <p:nvSpPr>
          <p:cNvPr id="7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54160" y="701640"/>
            <a:ext cx="4626000" cy="3468600"/>
          </a:xfrm>
          <a:prstGeom prst="rect">
            <a:avLst/>
          </a:prstGeom>
          <a:ln w="0">
            <a:noFill/>
          </a:ln>
        </p:spPr>
      </p:sp>
      <p:sp>
        <p:nvSpPr>
          <p:cNvPr id="9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C61658-8F4F-49A3-9DDB-AF2F93F6E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54160" y="701640"/>
            <a:ext cx="4626000" cy="3468600"/>
          </a:xfrm>
          <a:prstGeom prst="rect">
            <a:avLst/>
          </a:prstGeom>
          <a:ln w="0">
            <a:noFill/>
          </a:ln>
        </p:spPr>
      </p:sp>
      <p:sp>
        <p:nvSpPr>
          <p:cNvPr id="9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B0CBD3-9ACF-4425-B7EC-F04F2AF5C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54160" y="701640"/>
            <a:ext cx="4626000" cy="3468600"/>
          </a:xfrm>
          <a:prstGeom prst="rect">
            <a:avLst/>
          </a:prstGeom>
          <a:ln w="0">
            <a:noFill/>
          </a:ln>
        </p:spPr>
      </p:sp>
      <p:sp>
        <p:nvSpPr>
          <p:cNvPr id="9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E8CB1D-D304-4028-915C-93A7804FA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54160" y="701640"/>
            <a:ext cx="4626000" cy="3468600"/>
          </a:xfrm>
          <a:prstGeom prst="rect">
            <a:avLst/>
          </a:prstGeom>
          <a:ln w="0">
            <a:noFill/>
          </a:ln>
        </p:spPr>
      </p:sp>
      <p:sp>
        <p:nvSpPr>
          <p:cNvPr id="9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F9EB77-2839-4B2A-B5BD-8AC180915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7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131C724-D26C-41E7-986F-0C4DC59DC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1154160" y="701640"/>
            <a:ext cx="4626000" cy="3468600"/>
          </a:xfrm>
          <a:prstGeom prst="rect">
            <a:avLst/>
          </a:prstGeom>
          <a:ln w="0">
            <a:noFill/>
          </a:ln>
        </p:spPr>
      </p:sp>
      <p:sp>
        <p:nvSpPr>
          <p:cNvPr id="9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54160" y="701640"/>
            <a:ext cx="4626000" cy="3468600"/>
          </a:xfrm>
          <a:prstGeom prst="rect">
            <a:avLst/>
          </a:prstGeom>
          <a:ln w="0">
            <a:noFill/>
          </a:ln>
        </p:spPr>
      </p:sp>
      <p:sp>
        <p:nvSpPr>
          <p:cNvPr id="9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1AA3AD-7E5F-4085-93E6-7130668A0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54160" y="701640"/>
            <a:ext cx="4626000" cy="3468600"/>
          </a:xfrm>
          <a:prstGeom prst="rect">
            <a:avLst/>
          </a:prstGeom>
          <a:ln w="0">
            <a:noFill/>
          </a:ln>
        </p:spPr>
      </p:sp>
      <p:sp>
        <p:nvSpPr>
          <p:cNvPr id="9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639489-6C2F-4049-B7A1-C68492685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54160" y="701640"/>
            <a:ext cx="4626000" cy="3468600"/>
          </a:xfrm>
          <a:prstGeom prst="rect">
            <a:avLst/>
          </a:prstGeom>
          <a:ln w="0">
            <a:noFill/>
          </a:ln>
        </p:spPr>
      </p:sp>
      <p:sp>
        <p:nvSpPr>
          <p:cNvPr id="9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55A8A4-516C-4D15-A4FD-686C51D7D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0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654F56-566D-4479-896A-F8BE202D7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1154160" y="701640"/>
            <a:ext cx="4626000" cy="3468600"/>
          </a:xfrm>
          <a:prstGeom prst="rect">
            <a:avLst/>
          </a:prstGeom>
          <a:ln w="0">
            <a:noFill/>
          </a:ln>
        </p:spPr>
      </p:sp>
      <p:sp>
        <p:nvSpPr>
          <p:cNvPr id="10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54160" y="701640"/>
            <a:ext cx="4626000" cy="3468600"/>
          </a:xfrm>
          <a:prstGeom prst="rect">
            <a:avLst/>
          </a:prstGeom>
          <a:ln w="0">
            <a:noFill/>
          </a:ln>
        </p:spPr>
      </p:sp>
      <p:sp>
        <p:nvSpPr>
          <p:cNvPr id="10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013386-3C78-4C52-8E00-6102305B7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5"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9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29033A2-CF4C-44B8-AC4C-BA0C6A6DA1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PlaceHolder 1"/>
          <p:cNvSpPr>
            <a:spLocks noGrp="1"/>
          </p:cNvSpPr>
          <p:nvPr>
            <p:ph type="sldImg"/>
          </p:nvPr>
        </p:nvSpPr>
        <p:spPr>
          <a:xfrm>
            <a:off x="1147680" y="696960"/>
            <a:ext cx="4640400" cy="3479760"/>
          </a:xfrm>
          <a:prstGeom prst="rect">
            <a:avLst/>
          </a:prstGeom>
          <a:ln w="0">
            <a:noFill/>
          </a:ln>
        </p:spPr>
      </p:sp>
      <p:sp>
        <p:nvSpPr>
          <p:cNvPr id="798"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54160" y="701640"/>
            <a:ext cx="4626000" cy="3468600"/>
          </a:xfrm>
          <a:prstGeom prst="rect">
            <a:avLst/>
          </a:prstGeom>
          <a:ln w="0">
            <a:noFill/>
          </a:ln>
        </p:spPr>
      </p:sp>
      <p:sp>
        <p:nvSpPr>
          <p:cNvPr id="10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67CA49-DE88-46D5-9AE2-0DAAACF44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D5A0EB-8B4E-429D-833B-6145B5971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1154160" y="701640"/>
            <a:ext cx="4626000" cy="3468600"/>
          </a:xfrm>
          <a:prstGeom prst="rect">
            <a:avLst/>
          </a:prstGeom>
          <a:ln w="0">
            <a:noFill/>
          </a:ln>
        </p:spPr>
      </p:sp>
      <p:sp>
        <p:nvSpPr>
          <p:cNvPr id="10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54160" y="701640"/>
            <a:ext cx="4626000" cy="3468600"/>
          </a:xfrm>
          <a:prstGeom prst="rect">
            <a:avLst/>
          </a:prstGeom>
          <a:ln w="0">
            <a:noFill/>
          </a:ln>
        </p:spPr>
      </p:sp>
      <p:sp>
        <p:nvSpPr>
          <p:cNvPr id="10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EF2376-C321-42F4-B0EA-EC55F428E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54160" y="701640"/>
            <a:ext cx="4626000" cy="3468600"/>
          </a:xfrm>
          <a:prstGeom prst="rect">
            <a:avLst/>
          </a:prstGeom>
          <a:ln w="0">
            <a:noFill/>
          </a:ln>
        </p:spPr>
      </p:sp>
      <p:sp>
        <p:nvSpPr>
          <p:cNvPr id="10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AEF1C6-75CB-4675-8AB0-F02C5653B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54160" y="701640"/>
            <a:ext cx="4626000" cy="3468600"/>
          </a:xfrm>
          <a:prstGeom prst="rect">
            <a:avLst/>
          </a:prstGeom>
          <a:ln w="0">
            <a:noFill/>
          </a:ln>
        </p:spPr>
      </p:sp>
      <p:sp>
        <p:nvSpPr>
          <p:cNvPr id="10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BE185C-646E-4020-87F7-F4202E4E0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54160" y="701640"/>
            <a:ext cx="4626000" cy="3468600"/>
          </a:xfrm>
          <a:prstGeom prst="rect">
            <a:avLst/>
          </a:prstGeom>
          <a:ln w="0">
            <a:noFill/>
          </a:ln>
        </p:spPr>
      </p:sp>
      <p:sp>
        <p:nvSpPr>
          <p:cNvPr id="10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FF8468-D88B-4F84-B748-C844E9E83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0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17A35DD-116A-4A62-9989-B5ADBA177A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1147680" y="696960"/>
            <a:ext cx="4640400" cy="3479760"/>
          </a:xfrm>
          <a:prstGeom prst="rect">
            <a:avLst/>
          </a:prstGeom>
          <a:ln w="0">
            <a:noFill/>
          </a:ln>
        </p:spPr>
      </p:sp>
      <p:sp>
        <p:nvSpPr>
          <p:cNvPr id="80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EA7F077-89A3-4026-888E-8E54C13C9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PlaceHolder 1"/>
          <p:cNvSpPr>
            <a:spLocks noGrp="1"/>
          </p:cNvSpPr>
          <p:nvPr>
            <p:ph type="sldImg"/>
          </p:nvPr>
        </p:nvSpPr>
        <p:spPr>
          <a:xfrm>
            <a:off x="1154160" y="701640"/>
            <a:ext cx="4626000" cy="3468600"/>
          </a:xfrm>
          <a:prstGeom prst="rect">
            <a:avLst/>
          </a:prstGeom>
          <a:ln w="0">
            <a:noFill/>
          </a:ln>
        </p:spPr>
      </p:sp>
      <p:sp>
        <p:nvSpPr>
          <p:cNvPr id="8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D48F32C-2C56-45B9-AE33-DFD702C41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1154160" y="701640"/>
            <a:ext cx="4626000" cy="3468600"/>
          </a:xfrm>
          <a:prstGeom prst="rect">
            <a:avLst/>
          </a:prstGeom>
          <a:ln w="0">
            <a:noFill/>
          </a:ln>
        </p:spPr>
      </p:sp>
      <p:sp>
        <p:nvSpPr>
          <p:cNvPr id="8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812"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13"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81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12F5424-5B01-4BB0-BFB5-747B6828D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1154160" y="701640"/>
            <a:ext cx="4626000" cy="3468600"/>
          </a:xfrm>
          <a:prstGeom prst="rect">
            <a:avLst/>
          </a:prstGeom>
          <a:ln w="0">
            <a:noFill/>
          </a:ln>
        </p:spPr>
      </p:sp>
      <p:sp>
        <p:nvSpPr>
          <p:cNvPr id="816"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9F87A3-81B6-48FC-A758-26E8889AA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1154160" y="701640"/>
            <a:ext cx="4626000" cy="3468600"/>
          </a:xfrm>
          <a:prstGeom prst="rect">
            <a:avLst/>
          </a:prstGeom>
          <a:ln w="0">
            <a:noFill/>
          </a:ln>
        </p:spPr>
      </p:sp>
      <p:sp>
        <p:nvSpPr>
          <p:cNvPr id="8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CC8A5-5794-4DBF-9B12-1AF720896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74B4B-60CB-486B-9F75-96C213C46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B3C33F-DF38-49FF-A2BE-7940E805A4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27519F-6B7E-4133-ACAB-7F21258A66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B1AE99-39C7-4A81-8110-F7C6F53DC3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0E6858-955F-495B-A88D-85E4638B52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630C42-FBE3-4C6C-A9CF-CB2471B7D1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C28659-5BBC-4530-91A9-62D9615287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5C39B7-CE2D-4EDB-B469-3942CE9FA2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F43E64-8972-4B00-87E3-042BB3291A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4C2C68-D4F4-48BB-909C-C9EBF2FDD9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261BCC6-A83C-42E8-A967-11B625E04E8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ADA19-0105-41B4-9774-2999C3A85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248915-528E-4BF1-A329-C936D05CA8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F39442-F6B7-4951-99D6-8563108165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20E402-319A-47DA-BBF0-142ED273A1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03FAB0-6A22-47D2-A4C2-59046C6269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B128EE-0B3A-4FBC-8116-16949919EF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861CCC-6ED2-4B78-9CD1-9AB214912A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B15483-B4E8-4EAC-AF08-C7735CD5C3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05DF97-979D-4B0D-B212-2CF1CDB7AE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EE2892-5C34-402A-861B-CB0E40DA71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A0F9FF8-55B6-4231-B75F-57C9850A784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A18FF-64CA-4CF6-97CE-8CD0D017B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47D29B-29E6-4BEE-B5BD-CAAE5AB48D4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360F496-3655-47AA-B82A-5934BF50D35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BE5242-AD63-41B5-BB71-DCD0656BA2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78DB62-9C76-4766-AC27-38E741CA22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C6FDA7-C395-4229-9CF2-9086F3493A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C70963-82E7-4A28-A1CC-BBDDAEEBFA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C1DC43-2AF8-469B-BA77-4176A6069D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10813F-E443-4855-9B63-AE2AB67559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3AC17D-3476-4451-B666-9B53F4E99E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D7E801-5949-4C61-9DF7-DBCB877688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0960B3-3DB3-46D0-BB4F-5CE6CD9F6A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D0FAA5-B9F5-469A-8317-C7B56A00F1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F3A170-2154-45AE-8608-6F73193F316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0171124-3140-4084-987F-65DABBA7DEB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4A8BC89-A195-478C-BF47-3A52A80775E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CF35CC-83B0-406C-893D-BF1E600992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60EFA7E-DB72-4547-BF86-90AC8F4FE4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A2B80D-B3B1-4552-A0DB-610A28D57B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0E2C2B-1EEE-4AA3-A9E4-56F30E33FD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6EE849-12C7-4178-A167-BCACF5BE7A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8638E3-BF0F-42F5-AAEE-DC79DF898F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DCA72-89E0-4310-862F-A1A6BE3EB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7C37F6-97CB-403B-9414-46B73B96E3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28D9B6-4A67-4A38-AF8C-C7E37781B5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84030C-EB17-44B1-991F-12F0545691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E446540-B3EE-40F2-9607-344D7C6AE7E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C0325C3-47B9-4259-8492-8C91AC49448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28FB3-E6D5-4B75-A31F-6AD9A4C44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2F663-71AB-43B1-B5F1-346C1F5BE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4A00A-FF10-418F-9F9D-EA4525086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01910-8D55-4483-BCD1-76A042DC2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65830-99F5-4670-A188-22CD657AA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1BE2A-BF0E-403B-B198-DAE08E87C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54AE5-C74D-4221-B8E2-18884D717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519AE-043B-426D-9C60-D5107F268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62A65-4172-41B3-A5C9-6FCF5C9C0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1CE36-E030-4F46-9815-37443DFD1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7362BC-7631-4E2E-BDAB-1492D20DC4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A41A53-047F-446B-BB5C-262A2E7EAE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AE3E2A-EAC9-4132-A6F3-495149736A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C3CA1C-EA84-4967-9A4A-C75079A6F1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5956A4-98CD-422E-8B7E-F7352B7F09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7C1906-BE38-43B9-9879-260EA6935F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BC8A4-3D88-48D5-A49C-6DEDEA9C4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DD028C-3AD7-4A89-8FF7-1BD1A0AC0B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61C19-A1A8-4F61-BDC8-C5134E8FE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038E29-50D5-4407-BFC9-49E1BA77E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A11670-36C4-4D44-89A4-6F5846922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421D98-9323-426F-84CE-84541E7A3F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4B6222-3CA6-4923-BADC-D0CE44A086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5F5422-09D5-4752-8A30-BF2F9073F8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5838D0-322D-4E0C-B8AF-A35FA2F510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1560F2-88BB-43C2-AE3D-721A5EBD16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D6A14F-5EF9-411A-8146-13E4AE996D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95CFE-90C5-4EE4-A804-129943C82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5A3E6D-8BBE-46F8-9BDC-A8A305DCF5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3F545E-51C8-439C-8DB0-C38453D17B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34E7F6-3E46-4CEB-9AF6-2C12946349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36B39-8337-41AE-8BEA-6407D00D5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1B93F3-643A-4A71-8A40-D623F9869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987803-A63F-460C-89E0-AC069F4C5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1CF90-648E-41FC-B241-422C4BE94F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BBC11B-A1E4-4B27-9F49-66217D663F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8C3972-C12A-488D-A492-071018E4A2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AD6547-17F5-4A48-AEE1-502B2CF524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31E15-88C8-4344-AEAE-51E8861A0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864304-C802-4713-8740-082168AD0E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661F05-CAC6-4BEF-8A7B-4A5A7D1BAC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80542A-0DD5-4A5F-B1DE-C176C99064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764544-054F-494C-950E-24DA91CF60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E68ECF-73B3-48D4-A1AB-F253EEE7B2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5CFD2A-BA68-4221-9F89-A6AE7DC07B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C4069C-9132-4F6A-8DE5-D4F882C8A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95622E-179C-4A1F-8088-07722A36A0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DD8062-A0E2-4A47-998F-20BAF133DF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F79FAF-C4D7-4DA3-A720-DE106AEE14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84B8E-A8CD-4D12-94AE-63B31321A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40AC1F-0852-497F-BBC4-585B1366F0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896238-6BB5-44C6-B8FC-D79061295B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0BC6BA-0E07-4D30-A370-5C70DCE32A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A5A344-8049-4A6E-980B-D7C5AF0050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579AC0-F6E3-40D6-BBA9-2A19A7C182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976B9D-0A88-4E1E-A9C4-EFB3F01BB1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F7D4A8-8315-432A-91EA-D93BCD2496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62187B-4AE9-4589-8947-6E16F987AE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8FA7E9-0B65-4D56-B00C-87C3E36793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164AB7-86A9-4575-8F66-C6FBC76E0B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7386C-2C23-4C48-92CB-BCA8FD8AA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E4087F-47FD-4317-8384-F2825D4CC9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C5BDEC-24DB-4CE1-8CFF-539A21FB4A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813948-14AB-4854-BA41-34A88121B5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EBEF9E-4839-4480-BF54-CB481E8190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8AB405-2139-48E3-A5E9-5EF41E22AC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F3D997-B8AA-4979-AAED-5A6447B367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4B524F-E6F3-4629-B5EB-DA723D492C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E0916D-D8BB-465F-8E45-AE67C01082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DEB4C3-74AC-4F87-A21F-8B854A10E1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1ED4B7-5610-428C-9E95-0D1DFD80BC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19DD5-4470-4E6F-AEBC-382C2FC53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6113EB-3A6B-41C8-A10C-4CF6A4B2BD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36ACA0-049F-43B2-8CA0-CA633EDA8D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7F3699-D8F0-4FF6-A6D4-E6C205A125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AAD152-103E-413C-9BD5-4C6BD79B90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D756E8-C26B-4D3D-8C87-FA5C41BC9B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10DCCA-6C0A-464D-B87A-F8EF609CF1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666A96-DA56-4C59-9A3B-DDC936F00F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FAC1F8-C784-47F4-80B3-DEAC5968FC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22BBFD-4B46-4B02-A970-A87ECB250A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5131AD-323B-4F49-B93F-7FA03D43A8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26F7A-369A-48EB-9EA0-2A5776A73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5B015A-8D3D-40CD-8B8E-0FF0FF40F0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0B0AA3-EBCE-443F-A23A-6468C3B8B3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A28771-089B-4807-8A67-5714271BE3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88E4EA-9B94-4950-BC5B-1B958F5487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7D1998-B640-4020-9ECF-12841DAACC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F873E0-0FC9-419D-9D3B-738E482135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CD5A3B-1075-41CA-9F49-C53B14416A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4C7319-40B5-4D41-AE58-06AD3D6E4E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17E21D-7E89-43BC-A4DE-069EF4D235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A0A179-3DB9-4BBD-8FBA-8860ABC3C3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74E9494-A998-49C1-A3A5-45FD2D2526C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E339BCD-4D0A-47B8-B05E-F20CA447814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747BAAF-DB40-4BF7-BAD5-C7E2F1462E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0957F2A-7A4F-4C3B-8973-7E1294A2BDB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EE8FAB8-6274-4E8B-9D90-DC481A43042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24974AE-1EE5-44D2-981F-6E757E4AAD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F87586B-59D0-48C2-9BE5-054361A9C8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115B4BA-147B-43FB-A3A9-04CD44D175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714E229-AC54-409F-8051-A9000BE86AC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D12383C-B82D-4C66-BA6A-4398087DE7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89B6C77-A03E-481F-9856-274352B68D7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974r2</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D6E6B20-FA9F-4D1F-A07B-425BE314C76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mentor.ieee.org/802.11/dcn/19/11-19-1180-00-00ay-comments-on-tgay-d4-0.xlsx" TargetMode="External"/><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9/11-19-0931-00-00ay-tg-ay-may-2019-atlanta-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9/11-19-1229-00-00ay-tg-ay-july-10-2019-conference-call-meeting-minutes.docx" TargetMode="External"/><Relationship Id="rId2" Type="http://schemas.openxmlformats.org/officeDocument/2006/relationships/hyperlink" Target="https://mentor.ieee.org/802.11/dcn/19/11-19-1229-00-00ay-tg-ay-july-10-2019-conference-call-meeting-minutes.docx" TargetMode="External"/><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CB3091-952E-4E21-BFC7-3741217BF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uly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7-14</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0ABFCD-342E-43F2-8CCD-D22116509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9699E5-AF52-48B1-B755-201ECE783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B53AE8-DAF6-4037-8F89-358FCCE1D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DD901D-BA8A-4567-A8BE-264914919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12, Level 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12, Level 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12, Level 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12, Level 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B9D001-B7E2-48A2-B358-86A41D595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4A3ED5-590E-470F-B423-BBFDEF279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readiness for initial SA technical letter ballo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340239-EDF0-4277-B8FB-84B51A4FD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raft readiness for the initial SA technical letter ballot</a:t>
            </a:r>
            <a:endParaRPr b="0" lang="en-US" sz="2400" spc="-1" strike="noStrike">
              <a:solidFill>
                <a:srgbClr val="000000"/>
              </a:solidFill>
              <a:latin typeface="Times New Roman"/>
            </a:endParaRPr>
          </a:p>
          <a:p>
            <a:pPr marL="343080" indent="-3430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mment resolution for second recirculation working group letter ballot LB242</a:t>
            </a:r>
            <a:endParaRPr b="0" lang="en-US" sz="2400" spc="-1" strike="noStrike">
              <a:solidFill>
                <a:srgbClr val="000000"/>
              </a:solidFill>
              <a:latin typeface="Times New Roman"/>
            </a:endParaRPr>
          </a:p>
          <a:p>
            <a:pPr marL="343080" indent="-3430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mments on PAR extension reques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September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70C0FA-9D33-44AF-B846-48D4BAA5B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y 2019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ll remaining CIDs for LB239 are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PAR extension request is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 motion is passed to prepare D4.0 and start a 15-day second recirculation Working Group technical letter ballot.</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6596B8-B6B0-4921-8353-6A5448817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85800" y="533520"/>
            <a:ext cx="78580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since the end of the May interim</a:t>
            </a:r>
            <a:endParaRPr b="0" lang="en-US" sz="3200" spc="-1" strike="noStrike">
              <a:solidFill>
                <a:srgbClr val="000000"/>
              </a:solidFill>
              <a:latin typeface="Times New Roman"/>
            </a:endParaRPr>
          </a:p>
        </p:txBody>
      </p:sp>
      <p:sp>
        <p:nvSpPr>
          <p:cNvPr id="6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IEEE SA ballot pool is formed</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37 members enrolled</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 18-day second recirculation Working Group letter ballot, LB242, is closed</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assed with an approval rate of 97.74% </a:t>
            </a:r>
            <a:endParaRPr b="0" lang="en-US" sz="20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Result is updated on July 14</a:t>
            </a:r>
            <a:endParaRPr b="0" lang="en-US" sz="16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64 comments:  21 Technical;  43 Editorial</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66ff"/>
                </a:solidFill>
                <a:uFillTx/>
                <a:latin typeface="Times New Roman"/>
                <a:hlinkClick r:id="rId1"/>
              </a:rPr>
              <a:t>https://mentor.ieee.org/802.11/dcn/19/11-19-1180-00-00ay-comments-on-tgay-d4-0.xlsx</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DB87F8-7103-41D5-B1EB-5BEA15AD9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4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4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July 14, 2019)</a:t>
            </a:r>
            <a:endParaRPr b="0" lang="en-US" sz="1800" spc="-1" strike="noStrike">
              <a:solidFill>
                <a:srgbClr val="000000"/>
              </a:solidFill>
              <a:latin typeface="Times New Roman"/>
            </a:endParaRPr>
          </a:p>
        </p:txBody>
      </p:sp>
      <p:graphicFrame>
        <p:nvGraphicFramePr>
          <p:cNvPr id="650" name=""/>
          <p:cNvGraphicFramePr/>
          <p:nvPr/>
        </p:nvGraphicFramePr>
        <p:xfrm>
          <a:off x="685800" y="1676520"/>
          <a:ext cx="7772400" cy="256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Vienna, Austri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uly 14 - 19,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25991A-4A68-487D-B3B2-A55468E5F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673CF9-2179-4416-BF03-B57B2DC56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July 14, 2019)</a:t>
            </a:r>
            <a:endParaRPr b="0" lang="en-US" sz="1800" spc="-1" strike="noStrike">
              <a:solidFill>
                <a:srgbClr val="000000"/>
              </a:solidFill>
              <a:latin typeface="Times New Roman"/>
            </a:endParaRPr>
          </a:p>
        </p:txBody>
      </p:sp>
      <p:graphicFrame>
        <p:nvGraphicFramePr>
          <p:cNvPr id="655" name=""/>
          <p:cNvGraphicFramePr/>
          <p:nvPr/>
        </p:nvGraphicFramePr>
        <p:xfrm>
          <a:off x="685800" y="1676520"/>
          <a:ext cx="7772400" cy="2644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11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42 (D4.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2ACA39-13E0-43CB-8C74-C35F2D6FA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 2019 interim meeting minutes</a:t>
            </a:r>
            <a:endParaRPr b="0" lang="en-US" sz="3200" spc="-1" strike="noStrike">
              <a:solidFill>
                <a:srgbClr val="000000"/>
              </a:solidFill>
              <a:latin typeface="Times New Roman"/>
            </a:endParaRPr>
          </a:p>
        </p:txBody>
      </p:sp>
      <p:sp>
        <p:nvSpPr>
          <p:cNvPr id="65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the May 2019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931-00-00ay-tg-ay-may-2019-atlanta-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5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BF0DC9-CCDF-4648-89FB-321BD9179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ly 10th teleconference call minutes</a:t>
            </a:r>
            <a:endParaRPr b="0" lang="en-US" sz="3200" spc="-1" strike="noStrike">
              <a:solidFill>
                <a:srgbClr val="000000"/>
              </a:solidFill>
              <a:latin typeface="Times New Roman"/>
            </a:endParaRPr>
          </a:p>
        </p:txBody>
      </p:sp>
      <p:sp>
        <p:nvSpPr>
          <p:cNvPr id="6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 on July 10,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9/11-19-1229-00-00ay-tg-ay-july-10-2019-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6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528AFD-989D-4CFA-8A28-DBEA1F3FE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a:t>
            </a:r>
            <a:endParaRPr b="0" lang="en-US" sz="3200" spc="-1" strike="noStrike">
              <a:solidFill>
                <a:srgbClr val="000000"/>
              </a:solidFill>
              <a:latin typeface="Times New Roman"/>
            </a:endParaRPr>
          </a:p>
        </p:txBody>
      </p:sp>
      <p:sp>
        <p:nvSpPr>
          <p:cNvPr id="6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22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42 comments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27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506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18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42 (D4.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 minute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A16EE0-C9B8-4D04-98F5-4820C70A6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p:nvPr>
        </p:nvSpPr>
        <p:spPr>
          <a:xfrm>
            <a:off x="685800" y="1218960"/>
            <a:ext cx="45720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May 2019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readiness for initial SA technical letter ballo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2, 4:00pm – 6:00pm </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s on PAR Extension Reques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674" name="Rectangle 3"/>
          <p:cNvSpPr/>
          <p:nvPr/>
        </p:nvSpPr>
        <p:spPr>
          <a:xfrm>
            <a:off x="5105520" y="1219320"/>
            <a:ext cx="38862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2, 10:30am – 12: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September 2019 interim</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125830-EEC2-483A-B57D-313DDD2BE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67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681" name="Rectangle 3" descr=""/>
          <p:cNvPicPr/>
          <p:nvPr/>
        </p:nvPicPr>
        <p:blipFill>
          <a:blip r:embed="rId1"/>
          <a:stretch/>
        </p:blipFill>
        <p:spPr>
          <a:xfrm>
            <a:off x="725400" y="1566720"/>
            <a:ext cx="7809120" cy="4705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7CF47F-5AFF-480C-A024-2A81995D4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ons on the start date of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irst SA technical letter ballot (1)</a:t>
            </a:r>
            <a:endParaRPr b="0" lang="en-US" sz="3200" spc="-1" strike="noStrike">
              <a:solidFill>
                <a:srgbClr val="000000"/>
              </a:solidFill>
              <a:latin typeface="Times New Roman"/>
            </a:endParaRPr>
          </a:p>
        </p:txBody>
      </p:sp>
      <p:sp>
        <p:nvSpPr>
          <p:cNvPr id="68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8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on 1</a:t>
            </a:r>
            <a:endParaRPr b="0" lang="en-US" sz="20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ject all comments with sufficient justification in the July plenary (4 sessions);</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k IEEE 802 EC (conditional) approval for going to IEEE SA ballot using D4.0 in the IEEE 802 EC closing plenary on July 19;</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sue another 15-day recirculation working group letter ballot for D4.0 (i.e., unchanged draft) tentatively from July 22 to August 5;</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30-day IEEE SA technical ballot tentatively from August 12 to September 11. </a:t>
            </a:r>
            <a:endParaRPr b="0" lang="en-US" sz="1400" spc="-1" strike="noStrike">
              <a:solidFill>
                <a:srgbClr val="000000"/>
              </a:solidFill>
              <a:latin typeface="Times New Roman"/>
            </a:endParaRPr>
          </a:p>
          <a:p>
            <a:pPr marL="318960" indent="-318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on 2</a:t>
            </a:r>
            <a:endParaRPr b="0" lang="en-US" sz="20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all comments in the July plenary (4 sessions)</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k IEEE 802 EC (conditional) approval for going to IEEE SA ballot using D5.0 in the IEEE 802 EC closing plenary on July 19;</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uming Editor needs two weeks to prepare D5.0, issue a 15-day recirculation working group letter ballot tentatively from August 5 to August 19;</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ject all the comments received from D5.0 with sufficient justification as soon as possible during teleconference calls;</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15-day recirculation working group letter ballot for D5.0 (i.e., unchanged draft) immediately afterwards, which requires a task group motion in a teleconference call (see the condition set in the previous slide);</a:t>
            </a:r>
            <a:endParaRPr b="0" lang="en-US" sz="1400" spc="-1" strike="noStrike">
              <a:solidFill>
                <a:srgbClr val="000000"/>
              </a:solidFill>
              <a:latin typeface="Times New Roman"/>
            </a:endParaRPr>
          </a:p>
          <a:p>
            <a:pPr lvl="1" marL="690840" indent="-2656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30-day IEEE SA technical ballot immediately afterwards.</a:t>
            </a:r>
            <a:endParaRPr b="0" lang="en-US" sz="1400" spc="-1" strike="noStrike">
              <a:solidFill>
                <a:srgbClr val="000000"/>
              </a:solidFill>
              <a:latin typeface="Times New Roman"/>
            </a:endParaRPr>
          </a:p>
          <a:p>
            <a:pPr lvl="1" marL="690840" indent="-26568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5A2348-2642-491F-8896-EC8878EC7B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ons on the start date of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irst SA technical letter ballot (2)</a:t>
            </a:r>
            <a:endParaRPr b="0" lang="en-US" sz="3200" spc="-1" strike="noStrike">
              <a:solidFill>
                <a:srgbClr val="000000"/>
              </a:solidFill>
              <a:latin typeface="Times New Roman"/>
            </a:endParaRPr>
          </a:p>
        </p:txBody>
      </p:sp>
      <p:sp>
        <p:nvSpPr>
          <p:cNvPr id="68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91"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on 3</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all comments in the July plenary and the September interim;</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15-day recirculation working group letter ballot for D5.0 after the end of the September interim;</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comments from D5.0 in the November plenary;</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15-day recirculation working group letter ballot for D5.0 (i.e., unchanged draft) after the end of the November plenary</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k EC a conditional approval to go to the IEEE SA technical letter ballot on D5.0</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30-day IEEE SA technical ballot tentatively in December 2019, prior to the validity period of the IEEE SA ballot (January 3, 2020)</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0CB080-1282-42E2-B8AD-61E42C7E8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update if Option 3 follows</a:t>
            </a:r>
            <a:endParaRPr b="0" lang="en-US" sz="3200" spc="-1" strike="noStrike">
              <a:solidFill>
                <a:srgbClr val="000000"/>
              </a:solidFill>
              <a:latin typeface="Times New Roman"/>
            </a:endParaRPr>
          </a:p>
        </p:txBody>
      </p:sp>
      <p:sp>
        <p:nvSpPr>
          <p:cNvPr id="69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9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9:</a:t>
            </a:r>
            <a:r>
              <a:rPr b="1" lang="en-US" sz="1800" spc="-1" strike="noStrike">
                <a:solidFill>
                  <a:srgbClr val="000000"/>
                </a:solidFill>
                <a:latin typeface="Times New Roman"/>
              </a:rPr>
              <a:t>	</a:t>
            </a:r>
            <a:r>
              <a:rPr b="1" lang="en-US" sz="1800" spc="-1" strike="noStrike">
                <a:solidFill>
                  <a:srgbClr val="000000"/>
                </a:solidFill>
                <a:latin typeface="Times New Roman"/>
              </a:rPr>
              <a:t>Third recirculation WGLB on Draft 5.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a:t>
            </a:r>
            <a:r>
              <a:rPr b="1" lang="en-US" sz="1800" spc="-1" strike="noStrike">
                <a:solidFill>
                  <a:srgbClr val="000000"/>
                </a:solidFill>
                <a:latin typeface="Times New Roman"/>
              </a:rPr>
              <a:t>	</a:t>
            </a:r>
            <a:r>
              <a:rPr b="1" lang="en-US" sz="1800" spc="-1" strike="noStrike">
                <a:solidFill>
                  <a:srgbClr val="000000"/>
                </a:solidFill>
                <a:latin typeface="Times New Roman"/>
              </a:rPr>
              <a:t>Seek EC approval for SA technical letter ballot</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a:t>
            </a:r>
            <a:r>
              <a:rPr b="1" lang="en-US" sz="1800" spc="-1" strike="noStrike">
                <a:solidFill>
                  <a:srgbClr val="000000"/>
                </a:solidFill>
                <a:latin typeface="Times New Roman"/>
              </a:rPr>
              <a:t>	</a:t>
            </a:r>
            <a:r>
              <a:rPr b="1" lang="en-US" sz="1800" spc="-1" strike="noStrike">
                <a:solidFill>
                  <a:srgbClr val="000000"/>
                </a:solidFill>
                <a:latin typeface="Times New Roman"/>
              </a:rPr>
              <a:t>Fourth recirculation WGLB on Draft 5.0 (i.e., unchanged draft)</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2:</a:t>
            </a:r>
            <a:r>
              <a:rPr b="1" lang="en-US" sz="1800" spc="-1" strike="noStrike">
                <a:solidFill>
                  <a:srgbClr val="000000"/>
                </a:solidFill>
                <a:latin typeface="Times New Roman"/>
              </a:rPr>
              <a:t>	</a:t>
            </a:r>
            <a:r>
              <a:rPr b="1" lang="en-US" sz="1800" spc="-1" strike="noStrike">
                <a:solidFill>
                  <a:srgbClr val="000000"/>
                </a:solidFill>
                <a:latin typeface="Times New Roman"/>
              </a:rPr>
              <a:t>Initial SA technical letter ballot (Draft 5.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a:t>
            </a:r>
            <a:r>
              <a:rPr b="1" lang="en-US" sz="1800" spc="-1" strike="noStrike">
                <a:solidFill>
                  <a:srgbClr val="000000"/>
                </a:solidFill>
                <a:latin typeface="Times New Roman"/>
              </a:rPr>
              <a:t>	</a:t>
            </a:r>
            <a:r>
              <a:rPr b="1" lang="en-US" sz="1800" spc="-1" strike="noStrike">
                <a:solidFill>
                  <a:srgbClr val="000000"/>
                </a:solidFill>
                <a:latin typeface="Times New Roman"/>
              </a:rPr>
              <a:t>First recirculation SA letter ballot  (Draft 6.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4: </a:t>
            </a:r>
            <a:r>
              <a:rPr b="1" lang="en-US" sz="1800" spc="-1" strike="noStrike">
                <a:solidFill>
                  <a:srgbClr val="000000"/>
                </a:solidFill>
                <a:latin typeface="Times New Roman"/>
              </a:rPr>
              <a:t>	</a:t>
            </a:r>
            <a:r>
              <a:rPr b="1" lang="en-US" sz="1800" spc="-1" strike="noStrike">
                <a:solidFill>
                  <a:srgbClr val="000000"/>
                </a:solidFill>
                <a:latin typeface="Times New Roman"/>
              </a:rPr>
              <a:t>Second Recirculation Sponsor Ballot (Draft 7.0)</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5:</a:t>
            </a:r>
            <a:r>
              <a:rPr b="1" lang="en-US" sz="1800" spc="-1" strike="noStrike">
                <a:solidFill>
                  <a:srgbClr val="000000"/>
                </a:solidFill>
                <a:latin typeface="Times New Roman"/>
              </a:rPr>
              <a:t>	</a:t>
            </a:r>
            <a:r>
              <a:rPr b="1" lang="en-US" sz="1800" spc="-1" strike="noStrike">
                <a:solidFill>
                  <a:srgbClr val="000000"/>
                </a:solidFill>
                <a:latin typeface="Times New Roman"/>
              </a:rPr>
              <a:t>Third Recirculation Sponsor Ballot (Draft 7.0 unchanged)</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7:  </a:t>
            </a:r>
            <a:r>
              <a:rPr b="1" lang="en-US" sz="1800" spc="-1" strike="noStrike">
                <a:solidFill>
                  <a:srgbClr val="000000"/>
                </a:solidFill>
                <a:latin typeface="Times New Roman"/>
              </a:rPr>
              <a:t>	</a:t>
            </a:r>
            <a:r>
              <a:rPr b="1" lang="en-US" sz="1800" spc="-1" strike="noStrike">
                <a:solidFill>
                  <a:srgbClr val="000000"/>
                </a:solidFill>
                <a:latin typeface="Times New Roman"/>
              </a:rPr>
              <a:t>Final 802.11 WG approval</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7:  </a:t>
            </a:r>
            <a:r>
              <a:rPr b="1" lang="en-US" sz="1800" spc="-1" strike="noStrike">
                <a:solidFill>
                  <a:srgbClr val="000000"/>
                </a:solidFill>
                <a:latin typeface="Times New Roman"/>
              </a:rPr>
              <a:t>	</a:t>
            </a:r>
            <a:r>
              <a:rPr b="1" lang="en-US" sz="1800" spc="-1" strike="noStrike">
                <a:solidFill>
                  <a:srgbClr val="000000"/>
                </a:solidFill>
                <a:latin typeface="Times New Roman"/>
              </a:rPr>
              <a:t>Final EC approval</a:t>
            </a:r>
            <a:endParaRPr b="0" lang="en-US" sz="1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9:</a:t>
            </a:r>
            <a:r>
              <a:rPr b="1" lang="en-US" sz="1800" spc="-1" strike="noStrike">
                <a:solidFill>
                  <a:srgbClr val="000000"/>
                </a:solidFill>
                <a:latin typeface="Times New Roman"/>
              </a:rPr>
              <a:t>	</a:t>
            </a:r>
            <a:r>
              <a:rPr b="1" lang="en-US" sz="1800" spc="-1" strike="noStrike">
                <a:solidFill>
                  <a:srgbClr val="000000"/>
                </a:solidFill>
                <a:latin typeface="Times New Roman"/>
              </a:rPr>
              <a:t>RevCom &amp; Standards Board Final</a:t>
            </a:r>
            <a:endParaRPr b="0" lang="en-US" sz="1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1314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3C7042-1950-4DE5-9DE2-C62BAAB50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puts from task group member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uring the July 10</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call</a:t>
            </a:r>
            <a:endParaRPr b="0" lang="en-US" sz="3200" spc="-1" strike="noStrike">
              <a:solidFill>
                <a:srgbClr val="000000"/>
              </a:solidFill>
              <a:latin typeface="Times New Roman"/>
            </a:endParaRPr>
          </a:p>
        </p:txBody>
      </p:sp>
      <p:sp>
        <p:nvSpPr>
          <p:cNvPr id="69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1"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nt to have useful work done in the September interim</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BF0708-E784-4CDD-8234-15798AE98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July 2019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C9757F-E513-4E4F-A6DC-7C75C6F0F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puts from the CAC session on Sunday</a:t>
            </a:r>
            <a:endParaRPr b="0" lang="en-US" sz="3200" spc="-1" strike="noStrike">
              <a:solidFill>
                <a:srgbClr val="000000"/>
              </a:solidFill>
              <a:latin typeface="Times New Roman"/>
            </a:endParaRPr>
          </a:p>
        </p:txBody>
      </p:sp>
      <p:sp>
        <p:nvSpPr>
          <p:cNvPr id="70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6" name="Rectangle 3"/>
          <p:cNvSpPr/>
          <p:nvPr/>
        </p:nvSpPr>
        <p:spPr>
          <a:xfrm>
            <a:off x="762120" y="160020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line is not already</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1md is (and IEEE 802.11ax are) still working on technical recirculation letter ballots.  </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Gay to start SA Ballot prior to the projects that it is dependent on is like putting a cart before the horse.  TGay should plan to go to SA Ballot no sooner than TGax and REVmd as it cannot go to RevCom no sooner either.  Trying to get ahead is not really reasonable as the text in the dependent text may cause changes in TGay.</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ture action cannot be promised</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not promise the commenters who withdraw the comments to resolve their comments in future ballots</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number of Disapprove technical comments is non-negligible </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 comments are not a marginal/negligible number</a:t>
            </a:r>
            <a:endParaRPr b="0" lang="en-US" sz="1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ed to resolve all editorial comments </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463812-A1AD-46F8-8584-AF73607F9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0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43C8B1-0ACC-4FC7-B175-3E160C5D3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1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FC0415-AE98-45F8-BA57-C8A8F6E7B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1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83E779-CCE3-4231-92CE-DA19C2353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1B820C-87C4-4F6E-8F5F-36D156DDC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2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on PAR Extension Reques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667810-1BB1-400E-AF32-811A5D3C4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on PAR extension request</a:t>
            </a:r>
            <a:endParaRPr b="0" lang="en-US" sz="3200" spc="-1" strike="noStrike">
              <a:solidFill>
                <a:srgbClr val="000000"/>
              </a:solidFill>
              <a:latin typeface="Times New Roman"/>
            </a:endParaRPr>
          </a:p>
        </p:txBody>
      </p:sp>
      <p:sp>
        <p:nvSpPr>
          <p:cNvPr id="73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4"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35DB1B-DD09-4BDF-9023-D68C2BEFA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3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6FC2B2-6D30-4D29-BF98-D2395EA20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4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4E88ED-B2D6-4F9E-B167-C8B0D1D3E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B91C708-4E38-4381-B405-8B6D1D7ADC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C923A7-17BD-4E34-BA30-A945C51E3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5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ABB0A4-A539-4561-BEE6-89C8E3758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0E0108-D8E1-4375-8C60-5A841F088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September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B0DDF2-B18D-408A-8CE7-0CD1C2E8B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6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4FEF02-8679-4815-A197-623354E3F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September 2019 interim</a:t>
            </a:r>
            <a:endParaRPr b="0" lang="en-US" sz="3200" spc="-1" strike="noStrike">
              <a:solidFill>
                <a:srgbClr val="000000"/>
              </a:solidFill>
              <a:latin typeface="Times New Roman"/>
            </a:endParaRPr>
          </a:p>
        </p:txBody>
      </p:sp>
      <p:sp>
        <p:nvSpPr>
          <p:cNvPr id="76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A57CD0-19F6-444C-8241-34955FBAA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77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BD</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7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D323EC6-299D-49FC-A877-8E085F0408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34DA51-D311-4FC7-92B5-E963975D6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B16AA3-7D88-483F-8986-82075F7D7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2A05A9C-4928-48D3-815F-7C21BEC221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36A473-4012-47E7-8DE6-AE033283C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uly 2019</cp:keywords>
  <dc:language>en-US</dc:language>
  <cp:lastModifiedBy>Edward Au</cp:lastModifiedBy>
  <cp:lastPrinted>2014-11-04T15:04:57Z</cp:lastPrinted>
  <dcterms:modified xsi:type="dcterms:W3CDTF">2019-07-15T15:22:18Z</dcterms:modified>
  <cp:revision>9116</cp:revision>
  <dc:subject>Task Group AY November 2015 Meeting Agenda</dc:subject>
  <dc:title>11-19/0974r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