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E04461-33EF-40DF-BDA5-B053FD761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954A0A-188D-4FAC-80E7-7AF69AEF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7ED09B-DFC7-4781-BAD0-E8A7E624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7D0DEB-6FB5-4CCE-A691-D3228E76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A1BA84-6B16-45F5-8AA0-4D035C50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56905E-51FA-40F0-8DCE-3F5BCDB5E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1CB300-ED91-4ABE-9730-07DA5BA6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B85-CB83-4508-BB64-FAC903C1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A0A-6106-417D-B3A7-DC6D163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487A7-E107-4609-B01B-292E93CC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5B42D-6F65-4F1F-8EA1-D33C2DA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9F69-FE3D-4816-B48C-B2687FD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EE0D-9DEA-40C2-8F75-5D37E69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5A058-2E4A-4577-8351-34E8AA8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9108E-81E3-4E6B-AC26-C70E4B72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F0AE-E4AA-4D75-B870-D16F83BE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FBFDE-8316-4BBE-91C0-76DB9EA2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97009-25FA-4170-B627-D3A9BBFE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221CB-2F10-4494-A102-68CD1157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240-E676-4548-9A8F-77636A7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2220B-6337-4175-B99E-A687F12B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11FB-E001-441F-97AF-F44FF6D9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5135-C498-4666-91AB-0B23BC33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90156-AE66-4782-A828-21BD7F93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8805B-A521-4F15-A0DE-AE73EB7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C6277-6CF4-4349-85AC-E2D8E684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AB9DD-0E01-42BE-AEAA-36DCDEB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9213B-3508-4A44-93CF-73CD91A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E75EC-1425-45F1-988F-506D7A2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368DF-1EC0-4017-BEDE-05880357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CBE-19C8-443B-A2D7-F71155D3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BED74-02A3-4ED5-9674-16B11761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4746-487B-4009-A87D-C6B247AF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A4ADB-3FC2-4CDA-AE7D-B1C56DE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2B74F-F526-43DC-95E9-B6A9804F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E56A-874B-43D8-B1B5-C9202697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225E0-1AE6-4671-BE43-A6448F08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7937-648C-4797-9CE7-8951D55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9EBD6-F0EF-4151-95BA-0F52A45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939C-151A-4E7D-8AF5-076B342F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C2C4-E3E4-4050-A10F-6C681364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A01E-6BA7-480A-AEAB-94DEE65D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60B63-0340-41BF-B3A1-FF47AD61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BD68-A0AD-433E-B1C1-2A398E7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BDD8D-8AE9-4B3E-9413-74FB8D8D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442DE-7D93-4879-BCF7-C7E52620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B6BA8-F119-4548-A883-9A631250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03399-F36E-42B7-9C0E-52E49A1A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F8D15-7F1A-48A8-BF70-C217584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F147C-93F3-41EF-A0C3-E8DD9E4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4E17A-627E-4647-8D89-25AFB796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916CE-41AC-4136-837B-D98C7E1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4FE2-148E-4E5B-8A1A-94790DAF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9DA62-3A45-4017-83C4-C095BA7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F4DE3-63B1-4F53-8699-C644541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D1D33-99EA-478A-A27F-6BE8930B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77D2D-D36C-4C10-9C09-231B29A1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8ACDF-B4D1-43F5-A49E-91AE046C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C62-0A0C-4E2D-8BC5-EEAFB98A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AA6-9AC0-4308-9689-7B4B34C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23D-2B6B-43CC-B603-C589685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2AC-46E1-4033-A2E1-D759FA7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ACCF-6822-4BB8-96F9-AD2DA28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E65-7CD6-401A-B503-40A2488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F18B-F64E-41BE-8A6C-3ECE384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2108-C918-4F55-9CE4-0E47E3F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E871-3374-4CB2-A85F-DC4EAE17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570A-85B4-45C3-B560-744F20E3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60B-889B-4BF2-8287-5CBA2A53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D439-EDD7-42B4-A7F0-00605936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AD50-5092-4292-9C0A-82ADF9E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06FD-A3BE-4C92-A82C-6192214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1A36-0B40-46F5-A3FD-A24C424B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9250-41BF-44B9-B169-90C6C1C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E7F-54CE-4488-9257-C90C176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0DEF-F591-4E63-B2DB-6FBCCE1C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50B3-E747-4A5C-80C2-BE95F88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311E-5E94-41E9-B024-9208F8F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D840-9FE5-4C12-9EEF-2030253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1A65-2441-4B26-81FA-F29E2415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AFB1-35E6-4791-9706-CEB5C5A0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538C-7F47-4F58-B775-3D6C0CCC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B5D4-0223-422F-ACBF-10BF0E65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B44F-FCE1-453A-A541-7FA96BE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7F44-8281-498A-8299-F4ACF6D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119-BA5A-43D9-91E2-C927569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DE69-3737-4D7A-B2E5-3A0C3995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D4C5-586E-4F16-9F8B-CC44BBF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FE4C-8CAE-4857-B191-F8E84C42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3133-961A-49C8-A8F2-330548A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B4D5-FEF7-4800-B659-8B7C9C8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2C90-777B-4A59-91FE-AB13168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4A83-8F0B-4B20-B094-C381D319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3741-E929-463D-BBC5-90FB6BE2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1AF2-C589-49D4-BFC6-8D16FBA6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A08F-9D69-4295-A144-976F2EFD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D5B-4CE1-4C74-B475-A2C58C4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7BE0-4C7E-4E6D-82D3-8342C5B4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0A1B-D878-41D5-B5E2-EC2E0EBD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0D39-A328-4D2D-BED6-17E7309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51CE-F0C3-41D6-A8B3-25083DB9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E121-655C-4DD6-836E-EFD95C43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0024F-546A-412A-8C06-ED98A39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D400-C753-4D0F-BBD8-186E5CB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3FDA-5A2B-4CA4-A0DE-A1BDED7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0A13-9A2E-4928-9F2C-4C669AAD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9EF40-19A1-4D0A-8C78-4DC7E6B5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3C1-CD41-43A2-8E69-D94FE3C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DDC34-BEF0-4FD7-AA04-144947B9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9BDD-81DF-442E-9BAF-3D797D16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F823-2B24-4F31-9DC0-760BC1C2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979B2-23F0-44E6-9AD0-D234F4F8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7AB2-2B4B-4F69-8DA0-AD28D5F3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676E-C33D-4EB9-B23D-9A38F50C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0D72-72EE-452F-AF29-8142318D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EB25-0A25-4069-8A85-797810F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02B8-0F3E-449C-9078-F34982AA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A17F-9145-41D0-A627-595BF4D1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A53-B7B1-46A0-BB31-D2FDCEC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3C020-A07B-4C02-A137-514582D9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68848-F8AD-4C75-B820-E685FBEE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0182-E3EF-40EC-A81C-D6208E03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838AA-772E-4D80-A5FF-12424B2D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FA932-A340-4FA4-B3DE-67137CC7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50C1-77B4-4CD3-8C5F-8DDBB8E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8A9C-1FD7-4214-AEAB-8F3312E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DB2E-BFF0-4923-9D61-8EEEFB6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07E6-6770-4A04-82AE-558451F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3CA8-890D-4F78-9054-C515CB1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2F9-6EF1-4D11-B28D-F017D99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A7ED-5206-4D0B-ABA2-D602F129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164E-EA31-4BCE-B5FF-5449B6F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E477C-A094-4F5B-A8AC-C8C9B5CF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51C1-92B1-43E1-8E19-FD82CE0A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CFBE-D294-49F2-86B9-A15203C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A9091-D032-4B6C-AD1C-8AAD1578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BC21-EC1D-41BA-A3CA-3D60B62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C691-EE30-4AC9-8263-8BA8377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E687-348D-43E3-BB52-C8BBA0DB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5DDD-0951-4CA3-B1F8-E1C7E1F5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609-09A1-46CA-BB4E-6F73E9E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840B-8D41-4999-8BA4-0E3BDE1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05F2C-DB61-4412-9FCE-0478254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FFD67-674E-4D12-BD02-8E65F17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FE280-BA58-47A0-A97A-3E94547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B63D-B316-458A-A7FC-AD267DE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4342D-8A0F-4DC1-A163-CEB21D19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73DE-C859-40A2-91F9-F5A335C1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A7B8-602C-47D4-945E-71C4C19B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65FA3-60FF-43CB-A064-1AA79C2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020C3-A503-4653-BA20-BDFF4E85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BE1B74-0D4C-4A19-97B6-2EA60F707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468AD0-B67C-474A-9281-F9C9D3F1AC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7093B2-46F4-40CE-9852-2B9991B923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66150B-CC16-405D-86C2-C7A12F8955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55CB36-A051-46D0-B7EA-C65D373A18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F04C8E-71C4-4350-8839-D3B132E20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94C99E5-4F59-47E8-9F66-8D63140C3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61E747-577D-4EE9-9D2E-45528279D1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8FFD26-46EA-47CE-9804-50A2186AE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C463B4-8E66-4167-B98C-0F886B54E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35FE3C-2E42-4C12-8C89-DBF92F9A7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0608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832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98DF4E-0CFB-4D82-839A-3CAF5B6A8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C501F8-41A5-43DB-8555-DF770160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S CF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9-04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CB86CC-834E-4470-A6BC-ABF8C4E1D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:  CID 6573 in REVmc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ICS abbreviations are not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 up with some more useful abbreviations for the fundamental stuff, e.g. use "CF-IBSS" instead of "CF2.2" and "CF-HT" instead of "CF16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the PICs identifier abreviations identified in item (old) to Item (New) in the table under CID 6573 in doc 11-15/762r11 &lt; https://mentor.ieee.org/802.11/dcn/15/11-15-0762-11-000m-resolutions-for-some-comments-on-11mc-d4-0-sbmc1.doc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CB79A9-D770-4C65-A48A-422F070A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1" descr=""/>
          <p:cNvPicPr/>
          <p:nvPr/>
        </p:nvPicPr>
        <p:blipFill>
          <a:blip r:embed="rId1"/>
          <a:srcRect l="0" t="0" r="0" b="28027"/>
          <a:stretch/>
        </p:blipFill>
        <p:spPr>
          <a:xfrm>
            <a:off x="1154160" y="1905120"/>
            <a:ext cx="6835680" cy="37908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:  CID 6573 in REVmc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F6E2F3-2261-4368-865D-DA3E182E9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our MDR review, however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 we still need CF2.3, CF3, CF5, and CF24?  We are no longer using number to enumerate these CF entries.  Further, there is no entry referencing these 4 items. 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1" descr=""/>
          <p:cNvPicPr/>
          <p:nvPr/>
        </p:nvPicPr>
        <p:blipFill>
          <a:blip r:embed="rId1"/>
          <a:stretch/>
        </p:blipFill>
        <p:spPr>
          <a:xfrm>
            <a:off x="1130400" y="3276720"/>
            <a:ext cx="7327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3B1D3D-38E7-41F2-AC08-08199D90D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the TG want to proc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posed resolution is to remove CF2.3, CF3, CF5, and CF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B.4.3 in Draft 2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urther discussion.  Wait till the next recirculation letter ballot to submit a comment to resolv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the discussion in the April 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leconference call, we shall proceed on Option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4BD7FB-D61B-46EE-9F19-1A843932F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changes to the Draft 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2.3 and its row from B.4.3 at 3543.3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3 and its row from B.4.3 at 3543.5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5 and its row from B.4.3 at 3543.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entry CF24 and its row from B.4.3 at 3546.3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Kwok Shum Au (Edward)</cp:lastModifiedBy>
  <cp:lastPrinted>2014-11-04T15:04:57Z</cp:lastPrinted>
  <dcterms:modified xsi:type="dcterms:W3CDTF">2019-04-20T20:59:31Z</dcterms:modified>
  <cp:revision>8775</cp:revision>
  <dc:subject>Task Group AY November 2015 Meeting Agenda</dc:subject>
  <dc:title>11-19/0608r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