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F409DD6-4CD2-47A9-B924-8BB72B34D9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53B463A-1CB4-46AF-83FE-FFF8CFA07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DC0745-67F9-4BF4-9326-A1E26981B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087DAA-C1BA-4204-869E-4861972FB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764F75D-6559-487D-AE4D-EABB97137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95C5DFE-1CC4-4BD7-BA73-082478BD5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085614-C82A-4B5A-88E7-763AC911E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5C7A-665A-4CCB-A463-B12E99B4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EFC3-33E3-4066-BE97-B36232E4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228D2-F566-4060-AD5D-B6F2FA7B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73DD1-2F60-4F73-970A-731FB2D6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81AFD-6F5B-4DBB-9840-BB0E8DE7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9F544-7B70-43B3-B39D-E7052384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3147F-642E-421D-917D-1FC5F357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480D7-6786-452A-8131-15FD21C8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867A7-D7B7-4579-8A31-9F7EC8CC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93AFD-CC7E-44CD-83E5-02AFD0E1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AD818-7AB5-471C-A99F-1E266C7F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7D07A-C2EC-4737-A068-2CCD3096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31C5-F396-4831-8B6D-6537A962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DDE22-6C94-47A1-8B4F-C0F3D051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EBAB7-85E0-4F7D-932D-70EAC7E2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F3DB4-E641-4C60-9B7F-C94462D9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9EBDA-C5C2-4DCB-A6FB-BD88E3BE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65647-3614-4DD0-95A2-EDBA9281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D36DC-4B9D-4CC1-BC20-1B70BF2A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3AD43-2E05-40EF-B61B-7507A1EB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2A38A-C731-4284-B163-8FC30D22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34849-9654-45AD-AB1E-7DD09C2C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C01A3-7185-4B18-A3EF-2925BE3F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5367-32EC-45A4-9BC7-88A7F0E0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4FD57-D73A-4055-AABA-37C397F6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2DD27-A99B-479A-9997-4A4754E5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6BBBC-0344-4798-8510-4759265B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F3767-1AE5-4426-8199-26D2AE82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39560-63A4-4E3D-B3E3-B1E4D2FE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1FEBB-F527-4D06-8C61-A0941DE0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F9F59-DCD3-4F72-B9A4-B82EB23E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C19F4-2605-478B-B3B1-FFCDF3AE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6CBF9-DFB1-418A-956A-D9F975F9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E9FC7-10A7-4A62-9E3D-C149FBDD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901E-5BFF-4BF4-A35A-9B5910A2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6AB5A-07A9-412E-9252-3C8A0338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BE302-C715-47E4-90EE-A536A5D2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761EF-9483-4E3F-B559-F9FE899E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5C732-0EAD-4E57-9CFE-96091747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90E4E-D635-45FA-9B2E-0B82D851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5ADC9-0144-4888-9DD3-47364F6D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7692D-C516-405D-B2FD-0FECCC6C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509DD-78E2-47BB-902C-D19FE01C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180E0-E7C7-4F92-A708-11F18ED4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2FF5C-30E5-4211-BCBE-BC23F9CF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47E9-42D5-4226-910D-BFA77692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1638D-7EDC-4778-A20D-452CC8D4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4049A-6B4D-4C86-A314-12683B4F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61BB6-523A-4807-A6D7-D000769A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951DA-CCBD-4685-B5D0-20090DBB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4E11E-AC1A-4541-9E4E-89035FC6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127D-46E3-4232-B625-52367ADD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5B62-5617-42A3-91D8-E9B11E01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BDDF-211E-407C-9D94-023B8E4A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918B-A640-44D5-BC9B-53857D2A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376E-A4E1-44E5-B127-5073504F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6960-6CF4-4D58-9544-9ECC2DC7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E57E-F98F-43C5-BEA1-AC72A9E3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3A8D-1BB8-491E-A088-8687AAA5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0988-985D-4B82-8B7E-70594F74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A7F6-4E07-43FA-9F28-B4653764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C2A3-5F7A-4CFD-A167-A738DB23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CA9CF-F51C-4D3A-A7D9-3BDF337D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64BA3-DBEF-4204-BACE-279983F4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0F6E8-784B-49DB-A749-22EC6D79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30DC8-48ED-4EC0-B2AD-7B2A513D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3CD37-3218-429F-BC79-B9C22B89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71D-8F4D-4F32-965A-952EC299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D432B-CA8A-4083-854F-09949C85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ADA32-C79A-4F64-9DD8-B261BD20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F355F-D341-4D22-AFC2-25AEA58B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82058-DEAC-4C15-9D12-051ECDD0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D6355-E9ED-4646-A167-A0F03B2A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1AA96-EC03-4235-A0DF-E50FFC4A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8CC06-7D89-40EC-8C59-EF0B3CBF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D3E78-36AF-4707-87D5-30A7A2B1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08BA7-20C0-4F01-A473-A88B6661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D9E4A-1FF2-496E-88D7-DA970A4C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9F10-910D-486C-98A2-7B561BED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B850D-A03A-4916-B8B3-03EFB773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E84B8-1006-4F8F-87D1-6D8D11D3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9EDD1-2336-4F6C-980C-DC3EBDE5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2C07C-ADCA-4601-BD5C-C81E8B54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827A5-C271-46E1-A6EF-47DAD0EE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A994E-1C27-44EA-B55B-A777531A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37B15-BC12-47FF-B760-88BAA0E0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85325-354A-42C1-A748-8219EF5F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E62CF-9C72-4EA5-B303-7276AD30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1374F-40D9-4A1B-9D22-46644ACF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5489-44EB-4308-B3CB-8E586E16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94D67-7CE8-411B-91D5-EA9BF07A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C5BE5-60F2-4C61-B8BA-D7850A6A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EE83B-AAE0-4570-A06A-6A6F58A6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2F2BC-207C-406F-96C3-075142AC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794B1-8D02-4037-9D93-DCF7E415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CF43E-177E-4F5A-BF7E-61237162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D5628-5C1C-41C2-A16B-CFA7651A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C06F9-41F4-4975-B398-EEB7C8C0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73673-19EC-4991-80F9-F327631B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B4E81-8BB9-4A85-A891-23A226CA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005C-A813-4B7A-98C5-C2B11B20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1EBA0-3D49-4393-B1C3-EDD598DE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118D6-7C19-4B34-B9D0-F9789E96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38ADD-3877-44A1-BDC0-D04D8C27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11AF1-FBD5-486C-92B0-969BBCC8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CCF71-18AB-4207-895A-229ED3D2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28536-E139-4211-89E9-6EA021FC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67D3C-E880-421F-9FCB-030BE4EB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562F6-4A09-443A-94BB-00261DE1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AF4F9-6DC0-4807-B775-976F78C6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CA39E-BC73-45D0-B931-63D04E45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2B7-DEE2-4D77-8080-607900CE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3CFF4-E8D6-4559-BA9A-6F38429D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36F1D-6058-4152-A770-C1E152024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DA539-9AAF-493E-B4E9-99F3F2F5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2BFCA-421D-4414-8A43-B7264D0D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A92BF-7BBA-4B3D-8914-4C8EB284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5848C-5CC6-4226-A924-BCC1C574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0157B-726A-4175-A85D-1DDE961E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6100F-F267-459E-94BC-8F1BB4AA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ADCBF-7933-4F11-AFB0-EE67E58A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92F20-279F-4980-AB06-5E01482C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4336-A483-4DFE-A6A1-03E70D52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66753-1F17-41CD-903A-FACC0BD1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5D7D7-BB97-4E15-8EBE-5E560A8F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AF0F5-E848-4722-A284-FF4F35BB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6C082-557F-4A4D-98C8-198E0911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70563-DE0F-4AC1-AD4F-FEB15050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E1A88-21AA-4DBF-A336-327A86D3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591B1-539B-41A6-8F56-408FC4A2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41A09-956B-4CC6-AEB3-3A5D8CD9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6C28A-E179-42F2-9628-461BE4FC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3B4E9-0D8E-451C-8E78-29C37868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2CA-3A02-4B54-91D2-933699B5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1800D-6C72-4B5F-99F8-2B33AD95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CE321-55BE-4446-9C9A-032999B2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5BB61-8C46-446C-983B-1DDD9C0B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D9264-7694-4EA4-9E22-93F8B36C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8C349-DC40-42B8-8513-B848D31B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32B3D-5778-4DD5-B1F4-DC314440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13632-62F6-450E-B987-4C97C4E5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C1F0E-97D6-44B6-B71A-3624D582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A86E1-D25C-4B34-8AC6-A1A2CAF0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93A16-CD8B-4E3C-BE7F-84F2371D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B64B997-85CB-4CFF-9BB0-21F3A7D158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217EAA1-D99E-4B42-8FA5-ACE804E9E6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2C09DE4-A2B4-4235-A4F7-85389CDB99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A4623F2-977B-494F-A4DC-2AC836DEDC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5EB0B42-134C-4E13-8E76-8F5802DCFA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3609216-D0DF-4C8E-9809-0C28282D15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8270580-FE74-48AB-8585-F33A5C9AE7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F72A390-A540-4654-BE35-7114B1F787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B333AA8-C1E0-409D-B2AB-BD970C715A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F328972-9862-4D3C-B192-DED6C93476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199569B-65EB-4F42-A5FB-93983EBC5E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E9527F2-F0C6-40F8-9364-FA0A4E62C2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DE81C58-C85E-4494-99F6-A8549DDD4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CS CF ite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9-04-2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25ECB3A-569A-4E6A-BC88-48A57432B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:  CID 6573 in REVmc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ICS abbreviations are not help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e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e up with some more useful abbreviations for the fundamental stuff, e.g. use "CF-IBSS" instead of "CF2.2" and "CF-HT" instead of "CF16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the PICs identifier abreviations identified in item (old) to Item (New) in the table under CID 6573 in doc 11-15/762r11 &lt; https://mentor.ieee.org/802.11/dcn/15/11-15-0762-11-000m-resolutions-for-some-comments-on-11mc-d4-0-sbmc1.docx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04A985-BB66-4B2F-867B-405D2ED46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Date Placeholder 3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1" descr=""/>
          <p:cNvPicPr/>
          <p:nvPr/>
        </p:nvPicPr>
        <p:blipFill>
          <a:blip r:embed="rId1"/>
          <a:srcRect l="0" t="0" r="0" b="28027"/>
          <a:stretch/>
        </p:blipFill>
        <p:spPr>
          <a:xfrm>
            <a:off x="1154160" y="1905120"/>
            <a:ext cx="6835680" cy="379080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:  CID 6573 in REVmc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A5648B1-0EE1-477D-B364-E4B701B4B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our MDR review, however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 we still need CF2.3, CF3, CF5, and CF24?  We are no longer using number to enumerate these CF entries.  Further, there is no entry referencing these 4 items.  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1" descr=""/>
          <p:cNvPicPr/>
          <p:nvPr/>
        </p:nvPicPr>
        <p:blipFill>
          <a:blip r:embed="rId1"/>
          <a:stretch/>
        </p:blipFill>
        <p:spPr>
          <a:xfrm>
            <a:off x="1130400" y="3276720"/>
            <a:ext cx="73278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6646549-59A3-489E-9FB2-06F129730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the TG want to proce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ptio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posed resolution is to remove CF2.3, CF3, CF5, and CF2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B.4.3 in Draft 2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ption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further discussion.  Wait till the next recirculation letter ballot to submit a comment to resolve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 the discussion in the April 1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eleconference call, we shall proceed on Option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Date Placeholder 3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9B2F353-1557-426A-828F-6B2E549C1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sed changes to the Draft 2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ve the entry CF2.3 and its row from B.4.3 at 3543.3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ve the entry CF3 and its row from B.4.3 at 3543.5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ve the entry CF5 and its row from B.4.3 at 3543.6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ve the entry CF24 and its row from B.4.3 at 3546.3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Date Placeholder 3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Kwok Shum Au (Edward)</cp:lastModifiedBy>
  <cp:lastPrinted>2014-11-04T15:04:57Z</cp:lastPrinted>
  <dcterms:modified xsi:type="dcterms:W3CDTF">2019-04-20T20:59:31Z</dcterms:modified>
  <cp:revision>8775</cp:revision>
  <dc:subject>Task Group AY November 2015 Meeting Agenda</dc:subject>
  <dc:title>11-19/0608r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