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68380FD-EF83-4C78-83FB-288A4DEF29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F6C86E-5ADF-430A-9424-C87E4DCBE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BEEF09-9836-4F56-985F-FEDF0D5A3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2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2F15FB-8A17-4110-9391-4528A5735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6B3301-E87B-4C3D-9B83-C64153A4C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3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5B0775-C02E-4F43-8203-56B55FA7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103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0"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10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1A2217-402A-4C4D-BDC7-7915B5A7E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CC26AA-E826-4ED0-B667-8D41905B0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7F75DA-5DDC-41C6-9028-D17F21F05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6C424C-E29A-48D0-9F4F-2EE791439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2CACF1-F34C-4854-9256-44BA761AD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E918FB-6931-4571-92AA-D2B3E8DFF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09269D-5BE0-44E0-A558-44BB8ECD3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009A8B-3D7E-4E41-8002-73044B7B3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8B1A6A-7391-4352-81F5-64CE9627B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44CD89-1FEF-422B-8AB4-D3B9C6EA2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5128F5-3656-4D7A-A5C0-BCDDD8D52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CE3E17-4EE3-42F0-B964-1594CBE3E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78AB0B-6AE2-47A6-B876-A151C8183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4769E2-E311-481D-BB4F-7B52D315A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7E70A6-7E35-46CD-B208-20E6320C7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AAD423-E98B-4056-A1BA-0C1632D7B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BE3A95-3FED-4A6D-9891-EA12D67E7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33012E-A058-4373-AC1A-13449CDC3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218DF4-54AB-4EAB-B562-A81BC6ABD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AA20ED-96B1-4588-9A96-F133D9DC9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E9F266-BFB1-4BAA-B576-C23633B1B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2B1545-EFE7-4595-A1D7-C277F193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B7EF21-7347-4F0F-A612-70A4F5264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6C926C-91A8-4BFF-9F7B-9433EF909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9A1697-FFA8-4099-80EE-F7164A51B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FAC99A-1692-4983-A280-C320F38D3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BBF018-376E-4333-A140-D173B623A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3FBA92-BAB8-4679-B607-030BED46E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63DB72-BDC2-4052-8B4E-6E190C747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ED8863-3783-44F3-BAD3-BE564C0CA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871E3D6-F947-4818-9C15-E289020B36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7680" y="696960"/>
            <a:ext cx="4640400" cy="3479760"/>
          </a:xfrm>
          <a:prstGeom prst="rect">
            <a:avLst/>
          </a:prstGeom>
          <a:ln w="0">
            <a:noFill/>
          </a:ln>
        </p:spPr>
      </p:sp>
      <p:sp>
        <p:nvSpPr>
          <p:cNvPr id="9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4D5BE7-F393-4157-A471-F0BB1527B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A3DBD2-7275-481A-BE36-ED887015E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5984D5-EA85-40E9-ACA6-83CAE79C6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E5B362-79C7-4BA5-8EAE-C5E39D6E4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B75B87-AC17-41D7-A46E-335399CD4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125DCE-D5F2-43F4-9712-D844A4738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0194BE-4234-4DA9-BC24-90E471295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A4C7F0-49C8-4CCA-925D-A2AB4C008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02B273-962B-494B-9053-F44212534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B8E2BC-3F17-4CBE-A2E2-629666DB9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37346A6-2EC0-43C8-90DC-6DF05E3223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7680" y="696960"/>
            <a:ext cx="4640400" cy="3479760"/>
          </a:xfrm>
          <a:prstGeom prst="rect">
            <a:avLst/>
          </a:prstGeom>
          <a:ln w="0">
            <a:noFill/>
          </a:ln>
        </p:spPr>
      </p:sp>
      <p:sp>
        <p:nvSpPr>
          <p:cNvPr id="9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54160" y="701640"/>
            <a:ext cx="4626000" cy="3468600"/>
          </a:xfrm>
          <a:prstGeom prst="rect">
            <a:avLst/>
          </a:prstGeom>
          <a:ln w="0">
            <a:noFill/>
          </a:ln>
        </p:spPr>
      </p:sp>
      <p:sp>
        <p:nvSpPr>
          <p:cNvPr id="1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A7E00E-694D-4D6D-A305-C4F4E2613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01150D-95C7-4312-B1D2-4C737249D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54160" y="701640"/>
            <a:ext cx="4626000" cy="3468600"/>
          </a:xfrm>
          <a:prstGeom prst="rect">
            <a:avLst/>
          </a:prstGeom>
          <a:ln w="0">
            <a:noFill/>
          </a:ln>
        </p:spPr>
      </p:sp>
      <p:sp>
        <p:nvSpPr>
          <p:cNvPr id="12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C0A58D-A988-47CC-9FD5-F5211D8B9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54160" y="701640"/>
            <a:ext cx="4626000" cy="3468600"/>
          </a:xfrm>
          <a:prstGeom prst="rect">
            <a:avLst/>
          </a:prstGeom>
          <a:ln w="0">
            <a:noFill/>
          </a:ln>
        </p:spPr>
      </p:sp>
      <p:sp>
        <p:nvSpPr>
          <p:cNvPr id="12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2903D4-6C09-4933-9063-C7DEFC938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66DE30-6A56-4EAD-9D44-41506EA49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54160" y="701640"/>
            <a:ext cx="4626000" cy="3468600"/>
          </a:xfrm>
          <a:prstGeom prst="rect">
            <a:avLst/>
          </a:prstGeom>
          <a:ln w="0">
            <a:noFill/>
          </a:ln>
        </p:spPr>
      </p:sp>
      <p:sp>
        <p:nvSpPr>
          <p:cNvPr id="1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0A0E29-786C-40CE-B5F9-4106FBAC0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54160" y="701640"/>
            <a:ext cx="4626000" cy="3468600"/>
          </a:xfrm>
          <a:prstGeom prst="rect">
            <a:avLst/>
          </a:prstGeom>
          <a:ln w="0">
            <a:noFill/>
          </a:ln>
        </p:spPr>
      </p:sp>
      <p:sp>
        <p:nvSpPr>
          <p:cNvPr id="13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60B270-9C84-4AD6-8114-00C7ED38A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8ED370-7C3F-4819-99EA-667843031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54160" y="701640"/>
            <a:ext cx="4626000" cy="3468600"/>
          </a:xfrm>
          <a:prstGeom prst="rect">
            <a:avLst/>
          </a:prstGeom>
          <a:ln w="0">
            <a:noFill/>
          </a:ln>
        </p:spPr>
      </p:sp>
      <p:sp>
        <p:nvSpPr>
          <p:cNvPr id="1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BDED84-1B2D-48BC-84D5-53AC01FFA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54160" y="701640"/>
            <a:ext cx="4626000" cy="3468600"/>
          </a:xfrm>
          <a:prstGeom prst="rect">
            <a:avLst/>
          </a:prstGeom>
          <a:ln w="0">
            <a:noFill/>
          </a:ln>
        </p:spPr>
      </p:sp>
      <p:sp>
        <p:nvSpPr>
          <p:cNvPr id="1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763DEA-6E48-4A50-813F-3C91AC156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D736EF-AD32-4EE1-B24E-615B6E9C9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54160" y="701640"/>
            <a:ext cx="4626000" cy="3468600"/>
          </a:xfrm>
          <a:prstGeom prst="rect">
            <a:avLst/>
          </a:prstGeom>
          <a:ln w="0">
            <a:noFill/>
          </a:ln>
        </p:spPr>
      </p:sp>
      <p:sp>
        <p:nvSpPr>
          <p:cNvPr id="13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3662E3-B8CF-41FC-BF6C-CC361F8BE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2EAC3C-5DBC-4F10-A2E7-0A18D8DE2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54160" y="701640"/>
            <a:ext cx="4626000" cy="3468600"/>
          </a:xfrm>
          <a:prstGeom prst="rect">
            <a:avLst/>
          </a:prstGeom>
          <a:ln w="0">
            <a:noFill/>
          </a:ln>
        </p:spPr>
      </p:sp>
      <p:sp>
        <p:nvSpPr>
          <p:cNvPr id="13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E0D47E-9DB8-42D6-BC0C-152295C56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54160" y="701640"/>
            <a:ext cx="4626000" cy="3468600"/>
          </a:xfrm>
          <a:prstGeom prst="rect">
            <a:avLst/>
          </a:prstGeom>
          <a:ln w="0">
            <a:noFill/>
          </a:ln>
        </p:spPr>
      </p:sp>
      <p:sp>
        <p:nvSpPr>
          <p:cNvPr id="13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DC303F-9819-454E-8104-6CE908C31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6717CD-3CD3-493B-B3E0-3057F6ECB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1154160" y="701640"/>
            <a:ext cx="4626000" cy="3468600"/>
          </a:xfrm>
          <a:prstGeom prst="rect">
            <a:avLst/>
          </a:prstGeom>
          <a:ln w="0">
            <a:noFill/>
          </a:ln>
        </p:spPr>
      </p:sp>
      <p:sp>
        <p:nvSpPr>
          <p:cNvPr id="13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54160" y="701640"/>
            <a:ext cx="4626000" cy="3468600"/>
          </a:xfrm>
          <a:prstGeom prst="rect">
            <a:avLst/>
          </a:prstGeom>
          <a:ln w="0">
            <a:noFill/>
          </a:ln>
        </p:spPr>
      </p:sp>
      <p:sp>
        <p:nvSpPr>
          <p:cNvPr id="1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A9458E-185C-489D-B22D-BF48CB320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54160" y="701640"/>
            <a:ext cx="4626000" cy="3468600"/>
          </a:xfrm>
          <a:prstGeom prst="rect">
            <a:avLst/>
          </a:prstGeom>
          <a:ln w="0">
            <a:noFill/>
          </a:ln>
        </p:spPr>
      </p:sp>
      <p:sp>
        <p:nvSpPr>
          <p:cNvPr id="1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5F8E35-B799-47CC-839F-9458F3710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54160" y="701640"/>
            <a:ext cx="4626000" cy="3468600"/>
          </a:xfrm>
          <a:prstGeom prst="rect">
            <a:avLst/>
          </a:prstGeom>
          <a:ln w="0">
            <a:noFill/>
          </a:ln>
        </p:spPr>
      </p:sp>
      <p:sp>
        <p:nvSpPr>
          <p:cNvPr id="1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669C57-7A00-4DD7-B416-C78B90E43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54160" y="701640"/>
            <a:ext cx="4626000" cy="3468600"/>
          </a:xfrm>
          <a:prstGeom prst="rect">
            <a:avLst/>
          </a:prstGeom>
          <a:ln w="0">
            <a:noFill/>
          </a:ln>
        </p:spPr>
      </p:sp>
      <p:sp>
        <p:nvSpPr>
          <p:cNvPr id="13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66284B-3318-4E7E-B51B-F7445F198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54160" y="701640"/>
            <a:ext cx="4626000" cy="3468600"/>
          </a:xfrm>
          <a:prstGeom prst="rect">
            <a:avLst/>
          </a:prstGeom>
          <a:ln w="0">
            <a:noFill/>
          </a:ln>
        </p:spPr>
      </p:sp>
      <p:sp>
        <p:nvSpPr>
          <p:cNvPr id="1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583553-5A6F-4FF5-AC31-0A70A360E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8E1A13-5B19-4766-A9FC-B2B712103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54160" y="701640"/>
            <a:ext cx="4626000" cy="3468600"/>
          </a:xfrm>
          <a:prstGeom prst="rect">
            <a:avLst/>
          </a:prstGeom>
          <a:ln w="0">
            <a:noFill/>
          </a:ln>
        </p:spPr>
      </p:sp>
      <p:sp>
        <p:nvSpPr>
          <p:cNvPr id="1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5836B6-9839-4531-B8F9-06D81CDC2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54160" y="701640"/>
            <a:ext cx="4626000" cy="3468600"/>
          </a:xfrm>
          <a:prstGeom prst="rect">
            <a:avLst/>
          </a:prstGeom>
          <a:ln w="0">
            <a:noFill/>
          </a:ln>
        </p:spPr>
      </p:sp>
      <p:sp>
        <p:nvSpPr>
          <p:cNvPr id="13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F9C139-F489-415F-98A3-925D94DB7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4160" y="701640"/>
            <a:ext cx="4626000" cy="3468600"/>
          </a:xfrm>
          <a:prstGeom prst="rect">
            <a:avLst/>
          </a:prstGeom>
          <a:ln w="0">
            <a:noFill/>
          </a:ln>
        </p:spPr>
      </p:sp>
      <p:sp>
        <p:nvSpPr>
          <p:cNvPr id="1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722804-6206-4869-BF6E-E2415418A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54160" y="701640"/>
            <a:ext cx="4626000" cy="3468600"/>
          </a:xfrm>
          <a:prstGeom prst="rect">
            <a:avLst/>
          </a:prstGeom>
          <a:ln w="0">
            <a:noFill/>
          </a:ln>
        </p:spPr>
      </p:sp>
      <p:sp>
        <p:nvSpPr>
          <p:cNvPr id="14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6B15AE-3627-409B-A185-76FF85DD5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54160" y="701640"/>
            <a:ext cx="4626000" cy="3468600"/>
          </a:xfrm>
          <a:prstGeom prst="rect">
            <a:avLst/>
          </a:prstGeom>
          <a:ln w="0">
            <a:noFill/>
          </a:ln>
        </p:spPr>
      </p:sp>
      <p:sp>
        <p:nvSpPr>
          <p:cNvPr id="1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85A278-6792-4215-AFFC-31E9C8B69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54160" y="701640"/>
            <a:ext cx="4626000" cy="3468600"/>
          </a:xfrm>
          <a:prstGeom prst="rect">
            <a:avLst/>
          </a:prstGeom>
          <a:ln w="0">
            <a:noFill/>
          </a:ln>
        </p:spPr>
      </p:sp>
      <p:sp>
        <p:nvSpPr>
          <p:cNvPr id="1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F12516-B077-43BF-ABBC-FF47F7127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54160" y="701640"/>
            <a:ext cx="4626000" cy="3468600"/>
          </a:xfrm>
          <a:prstGeom prst="rect">
            <a:avLst/>
          </a:prstGeom>
          <a:ln w="0">
            <a:noFill/>
          </a:ln>
        </p:spPr>
      </p:sp>
      <p:sp>
        <p:nvSpPr>
          <p:cNvPr id="1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D10A43-67BB-49A6-BD2D-596A07E3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54160" y="701640"/>
            <a:ext cx="4626000" cy="3468600"/>
          </a:xfrm>
          <a:prstGeom prst="rect">
            <a:avLst/>
          </a:prstGeom>
          <a:ln w="0">
            <a:noFill/>
          </a:ln>
        </p:spPr>
      </p:sp>
      <p:sp>
        <p:nvSpPr>
          <p:cNvPr id="1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7FC32E-59B4-4974-8642-B4FF7AD12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54160" y="701640"/>
            <a:ext cx="4626000" cy="3468600"/>
          </a:xfrm>
          <a:prstGeom prst="rect">
            <a:avLst/>
          </a:prstGeom>
          <a:ln w="0">
            <a:noFill/>
          </a:ln>
        </p:spPr>
      </p:sp>
      <p:sp>
        <p:nvSpPr>
          <p:cNvPr id="14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0EBDD4-3819-4968-91E9-D12EBADBF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54160" y="701640"/>
            <a:ext cx="4626000" cy="3468600"/>
          </a:xfrm>
          <a:prstGeom prst="rect">
            <a:avLst/>
          </a:prstGeom>
          <a:ln w="0">
            <a:noFill/>
          </a:ln>
        </p:spPr>
      </p:sp>
      <p:sp>
        <p:nvSpPr>
          <p:cNvPr id="14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D3C676-3B35-43B1-ABEF-660265C0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10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01A801-1AC6-4F4A-9205-997623235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54160" y="701640"/>
            <a:ext cx="4626000" cy="3468600"/>
          </a:xfrm>
          <a:prstGeom prst="rect">
            <a:avLst/>
          </a:prstGeom>
          <a:ln w="0">
            <a:noFill/>
          </a:ln>
        </p:spPr>
      </p:sp>
      <p:sp>
        <p:nvSpPr>
          <p:cNvPr id="1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78C18D-D481-4E00-9DEC-1A1F2D6E3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54160" y="701640"/>
            <a:ext cx="4626000" cy="3468600"/>
          </a:xfrm>
          <a:prstGeom prst="rect">
            <a:avLst/>
          </a:prstGeom>
          <a:ln w="0">
            <a:noFill/>
          </a:ln>
        </p:spPr>
      </p:sp>
      <p:sp>
        <p:nvSpPr>
          <p:cNvPr id="1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6458D8-C6B9-492E-8E71-27FEF3BBC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54160" y="701640"/>
            <a:ext cx="4626000" cy="3468600"/>
          </a:xfrm>
          <a:prstGeom prst="rect">
            <a:avLst/>
          </a:prstGeom>
          <a:ln w="0">
            <a:noFill/>
          </a:ln>
        </p:spPr>
      </p:sp>
      <p:sp>
        <p:nvSpPr>
          <p:cNvPr id="14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485E54-9228-4A77-9AF8-12B84D86F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54160" y="701640"/>
            <a:ext cx="4626000" cy="3468600"/>
          </a:xfrm>
          <a:prstGeom prst="rect">
            <a:avLst/>
          </a:prstGeom>
          <a:ln w="0">
            <a:noFill/>
          </a:ln>
        </p:spPr>
      </p:sp>
      <p:sp>
        <p:nvSpPr>
          <p:cNvPr id="1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1B9EB3-B9E2-49BB-9791-A2450CD47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54160" y="701640"/>
            <a:ext cx="4626000" cy="3468600"/>
          </a:xfrm>
          <a:prstGeom prst="rect">
            <a:avLst/>
          </a:prstGeom>
          <a:ln w="0">
            <a:noFill/>
          </a:ln>
        </p:spPr>
      </p:sp>
      <p:sp>
        <p:nvSpPr>
          <p:cNvPr id="14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F45759-DCF7-4277-8A4E-2A657732A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13E058-BFF6-4745-BE9A-98BB63DAB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D606A-D448-498B-8354-4C1DD2E00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2719-9B43-47AF-A176-E0E5ADBA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6D270-ADA5-4E72-80BF-2D01ABD765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7623B-EFB0-47C1-8306-9E848047A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BBC67A-65D4-4749-843B-3420FDE1E2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537F5-1B49-4AA6-8FE3-4BEB10601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E5540-7439-4691-9674-33C0B5D7C6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47CE4-995D-4376-8E40-3B2E06BAF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722B8-B390-43A6-96BD-BF7BC772D9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A2BB5D-2808-48A3-8478-CF9AFB9D43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C4FE31-365D-44B5-8DF3-765BD1135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991ACB-BCD7-4F0B-AF64-944C97ED9A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9F5F9-69F5-4EB8-B49D-A0FD6EA08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4193A7-4BF4-430B-BFB1-EFA94C73D1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1A193-322C-4BCC-A5B1-6C7E3FE696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AD927B-4094-43BB-8E7F-2A8748E746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8CEF57-93C2-4124-9A74-D643050659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E71668-D71F-4DF6-A2B4-9DD0620B7F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899ADF-D7D3-4314-8231-04D58FE818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2F1898-91C2-43F2-9AB8-61AA4F756A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51C3F2-A3C8-4CF6-8057-A46F2991FB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14BC29-6035-48C3-BA68-C82666191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1D5587-A4C1-465A-982A-7EE9D5293F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E6E15-953D-480E-B986-9AB6C5BCC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A080C7-F5D0-4ADE-827A-D26F12E23A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1C8678-17CA-4106-91BD-F9F7A4CF85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6A9B3B-457E-4715-9D8F-20A90CA8B2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DEC00D-F85B-4FE8-80F0-B4DAB6AC4C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FFBDBF-3868-46B3-8F9F-C40AD9C9FA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A49448-5187-4D91-886B-09A3E12221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83C952-3092-4235-92A8-332CA21A04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3EAF8D-782F-48E5-B2D7-D67931A9AC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FFFE4-9E6A-4561-8BEE-8F32D7CDC1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99BF48-9EBC-4400-919D-97E11DB4F9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9F86F-656E-4D7B-8439-21FFF8D5F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B8D884-E014-4C37-B98F-87EAEC509A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2588A8-A44E-4EEE-83B3-EEF9775B32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2A4CDC-B095-45BB-9399-72573EDD7A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251C74-9A8E-4332-8B74-AF07F56E72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C8FBAA-D7CB-43BE-BF2D-0DCBCA0409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E0095F-38B2-4C1A-AD57-52406A2114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58F169-B6E7-4143-BAC4-72EA40736D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3D8652-1678-4290-AC87-39B2C89FE8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E31AF2-3C7B-469A-B0AA-2D3D147906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372E04-7D9E-4732-93E1-243F345171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12456-FEB2-464B-9C10-8D6FB779E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15E78D-95AC-4526-B300-121F144258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D416BB-1846-4287-86E3-A00186C325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43919B-45FF-4B54-92D9-D64827B960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D65B16-8E8D-42E7-8C72-0922E5A862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02419B-3C39-43C7-B241-F6DEC28938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03C52-611B-4A56-B6A2-CA63E0FA9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84C44-E543-4019-80B9-784C30234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98AC-A2D6-499A-92CB-C81B077C8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37D0-E7B5-4202-92B9-2F97DB7F9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696F4-E3BF-4BD6-93E8-7DF88833C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6278-52D0-478A-A8CE-F98D1C3CA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D2DC-592B-4207-B9E4-848AAC053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457AD-94F3-4AAC-8B10-8BBA3C1B1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3CFEB-B723-4F6F-8350-D7195AE73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FFF3F-CAEF-4AA3-9C12-26F2450F9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A9DE6-FABC-416F-9874-12E6CC4AF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7E579A-A62F-4E8A-BB54-D4D8002345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12E88-234A-4298-82E5-1EB601B98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CDCD3-6D8D-4989-B0AB-DC8AB0F14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51F72-5EAD-4BB6-BA35-E14ED1240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D353A-0997-4142-9293-262FF0823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36DA-5C08-4321-9F39-4250DD79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D33E1-B359-4F09-BD99-1881689C5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7CB13-B952-4889-B2A7-B8F3A4423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31139-3821-4759-B434-F6937E3B4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28835-D3BA-49D9-8180-ED8C0E5CF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E1202-FC9B-460C-9D57-E5E431845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453C65-1CA2-480C-881F-2A22B1A4E1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A09F5-5FD6-4B1C-A914-7EC031115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0A594E-42F9-4723-A737-BDDBD42C7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977BA-A53C-4697-8BA2-6A935572E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4C178-E8D9-4C8C-9487-48A17A03D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3C5F-B0C8-4AA3-AA80-68269E63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753CB-AB3C-4595-BB02-D77CE2AE5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FBE7B-4F27-4FCB-85D0-A42168236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EF691-C693-4330-8839-3F820B01E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9568B-46D6-4E7B-B500-857821269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4AD68-F506-4D28-9415-A1ABDB150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DDFEF-07F6-49C9-B0EA-6B63B3592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3AF0F-0DDB-4E61-86E9-E9263D2F6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48928-8507-4133-B961-3AC1F43AF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B5A1D-41CC-4CC2-87B7-9003F2E80A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3C6C44-D0DF-4416-9202-068E8A3579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5D2CE-C777-4B83-B670-2A68AA41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405A1E-F91F-4318-B8DC-C0D737CDC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4ECFB-4663-4F0B-92CC-935A7A560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8C49D-CE73-4F5F-92D5-34351880C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598CC-74A7-4001-9388-B463332E73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D4AE9-960D-4B25-BA5B-4C1F4714F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BD0B4-EC92-4B73-9BBE-F778AC0A0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00875-AF76-4D54-A766-3623B9C88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22618-E14D-4A71-BD3B-8C7E7705F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A668D-8172-4C7D-9FD9-A86848824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79E2F-34DE-4436-9809-EA2339347B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31BBC-BD48-4456-AB26-15741DD36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04E5B-8E34-4E7C-8CD5-BC29CDDABE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D6E04D-6075-4FFC-8D71-E316CED302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1E732-1947-4C39-8C6B-66EF37BE1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49DF1-9192-43B0-9F10-A9DC3AF1F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44F1F2-B40B-43C2-9D1B-17DDBAD3E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7BD2EA-9565-4C9B-A638-024098B84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BA615-5536-4A9A-97D1-01BA7527B5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DA028-24A2-4933-9D5A-6BF295BBB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0A445-D0D3-4D8F-BC55-C916E6B56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1DAF4-1AB0-4780-88A3-174C22C86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C798-CD5B-46DF-93BB-D922311E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D52F5-6978-4D94-8076-DADBDB4F8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83759-0B9B-484A-9EC0-8C08ABFB95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C40AEB-2118-425A-86A7-B9F9D2381E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1CAC03-2395-4EA5-ABF1-CF2A42E984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2BF88-2EF6-458F-B546-596129DCC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62E9DF-EB1D-42E3-829E-FE8C47526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E2AB9-42D3-49D1-88BB-88C179420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AA2FE-7BB7-46FD-B5AB-2E8418B35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4883A-80E1-4E5C-AA78-A55A2E903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6F26D-DD13-4726-8672-0CDE5BCF4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F9D73-D810-4B32-A598-50CB770C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64EB3-91FE-4A53-A784-F0D2E3B33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6161C-02EC-4BD4-85CE-CFEF9688E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3B178-8228-4A1A-A814-D17442297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CB5315-62ED-4CE2-BC0A-966733F4D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507604-33E8-435B-8ADC-F0EEE4392B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886CC8-33CF-4801-A474-8EB9ECE0F2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97B37-46EE-40A3-B7E3-6A8286B74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14631-937B-45C9-A876-23BFAEA087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D5DA5-629F-4904-81F1-468603BDF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AB3F2D-0BEC-42BE-B865-4C266CBD2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8A84-B6C3-47B1-A33B-2B8F256C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DA8BA-F0B7-42A6-986E-674C1D076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16798-C69B-4E28-8FDD-FC94AA47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9008C-D6A1-4EE2-9249-45222AA00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A76E1-6731-4A5E-8C1C-E51A6CC44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086EF-12C8-4861-B54B-FDAFA4C80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D1F79-B22E-40B1-B6CC-05AF74CE19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605DF8-E1C1-4469-BB02-2085561E2C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9BA570-CF62-449E-9317-149B2AC6A9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B7931D-6B39-447F-B863-4680DA66D3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919B20-07F8-4E93-B5D1-6FB29E9E48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071557B-BE35-447D-AEB3-09629E19F2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EE61E3-6DCB-4CA5-97FE-62A9C143BD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47A192-8DB9-407E-BD85-5ED8627ACE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4FE065-69DE-451E-8229-CC4BEB7121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EE044F-13E1-4893-AF37-967FDB23C9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A6854F-4255-4635-919F-AB52A0777C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50035B-7E15-4480-BED1-8CB6668F9C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42E123-1DD6-4051-A357-97C32D578E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D6817B9-D53A-431B-98EF-942C8E692B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FDF8F8-5AD0-4336-929B-ED6F00E9CB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07DCED-4D6D-4A1D-9C27-F6CA5B670C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542C9C-0D90-4180-8085-38A0A9FF29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189E58-6A32-44D3-BEAF-A4261AD2F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13A0FC-8A1B-4E50-96EB-C1F7742F7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EC89E7-68EE-4AAC-86DD-74285C81E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0EB858-3611-447C-93CC-3E561B2F4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B56AE2-44A3-4743-ADF7-8F1C1F7E5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cancelled)</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B1B209-9495-4C5F-A6BB-4C3EF034E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8FDD82-7CC8-4563-B09E-D50F2BCAD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4D468E-5BE3-467A-9360-D4380FC6F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8DFBC8-0FB0-4532-893B-8DB7D38F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A60826-DDD3-4800-B7AB-139D891B4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BD2CFB-6BD0-4377-821F-20D12FE35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1DD35A-8B82-4E47-BCBB-604A450E1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61A5EC-C5BD-4A1D-B878-B7FB5FEF8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975D1E-C084-42EA-9397-19E85A15A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B2C9F3-DCC7-490E-B5B8-FFCF2BF3A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14,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96E7B0-7AFB-4CC9-AF47-87A8BA6A7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en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F5CCF2-16BF-4AF9-8BE9-E08D92E9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EE0289-03FE-4824-82D5-A00609DC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FC985E-A276-4C24-BBBA-6D68059FF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7F4234-2A01-43E7-B57F-645F0ADFD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D547CF-23BF-4579-A863-0AE3950DE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9BA16E-E3F2-4075-8C1B-40DC7B66F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7AF5F0-40A0-4BB9-813A-AA9293E3B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9CA26D-2AAD-4CE5-A5ED-3503E9DFE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18D29D-CEEE-46A8-A764-B97E39353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FAF0D9-516A-4822-9401-7B1F6270B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082194-87BF-482D-BEDB-6FF69C53D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F317F2-CBF0-41CC-902E-0BF745157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A89251-4457-4CC7-A129-241E261B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71C5D5-69FB-48C4-94AC-BF6E43F48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3E8974-8D27-4B3A-8415-8FAE4E6F8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96909B-DE21-4299-8EF4-D81614B2C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F1F061-EE49-4D69-9095-A38E1C8E9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BC46B5E-1B0D-4594-8989-51E46B4A03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53B358-FE03-4FD9-88F9-6449F7ECC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17783B-237D-40C1-9117-D40066B3E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B26162-E082-4514-B087-4837CE11B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E5A5EF-2E76-4D1E-AD57-0644EB884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93D5EA-5FF4-4789-B140-D0095729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AD2DD-B9BB-4B05-B0D6-33CEAFF74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C6F5B9-27D8-42C5-94B6-3C8024AB9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92A548-7A4C-46F5-96FD-8B473BF47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B08DB5-5A83-4E2F-B0E1-F518066C9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2F0D3-E113-45B6-BB99-5E1EBC2F2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6C47191-F67D-44F6-9A29-986475E00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BB597F-2AC7-42AC-B681-530821BCA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06"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B06818-E22C-45BC-8B28-894B59512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25BD51-52AE-4639-9884-B7BCD46E7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A34915-00AA-45FD-85A0-E1D61DB66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F07C48-ACCB-4145-9582-8F4A8C5D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4946F3-CAE1-4F98-9443-B62E1E2EB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4DA0E2-4015-46EE-96E1-AEE832D23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34"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6F68DE-3BDB-4AB8-8CEF-2B19A7C4A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C804C6-5C9F-49FA-B3DA-E4A0F6C8C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5B1356-4C7B-435A-9B3C-61AB6E027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48"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01D7EB-4501-496D-A56D-7F9233BA0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53B0D4-533A-4616-9626-AF5D77F83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of Mandatory Draft Review findings</a:t>
            </a:r>
            <a:endParaRPr b="0" lang="en-US" sz="3200" spc="-1" strike="noStrike">
              <a:solidFill>
                <a:srgbClr val="000000"/>
              </a:solidFill>
              <a:latin typeface="Times New Roman"/>
            </a:endParaRPr>
          </a:p>
        </p:txBody>
      </p:sp>
      <p:sp>
        <p:nvSpPr>
          <p:cNvPr id="8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853"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81r4</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048124-1C3A-41BC-9AEB-C7AF18BA4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9E76F8-F5E0-476D-9941-479D13536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A4B5D7-8A08-49D3-8B14-BFDCAAFA7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67"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A41DDF-CD6F-467D-B8A6-D399CCF7B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D6A21A-D012-4DD5-9B53-2BEBE0252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AFFECF-E82E-45E7-AEEB-9F62DE12F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E99A84-E78A-49EE-924A-C39067662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2:  Comment Resolution</a:t>
            </a:r>
            <a:endParaRPr b="0" lang="en-US" sz="3200" spc="-1" strike="noStrike">
              <a:solidFill>
                <a:srgbClr val="000000"/>
              </a:solidFill>
              <a:latin typeface="Times New Roman"/>
            </a:endParaRPr>
          </a:p>
        </p:txBody>
      </p:sp>
      <p:sp>
        <p:nvSpPr>
          <p:cNvPr id="88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24 as proposed in 19/0490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227620-DA1A-4911-B465-F829DB444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3:  Comment Resolution</a:t>
            </a:r>
            <a:endParaRPr b="0" lang="en-US" sz="3200" spc="-1" strike="noStrike">
              <a:solidFill>
                <a:srgbClr val="000000"/>
              </a:solidFill>
              <a:latin typeface="Times New Roman"/>
            </a:endParaRPr>
          </a:p>
        </p:txBody>
      </p:sp>
      <p:sp>
        <p:nvSpPr>
          <p:cNvPr id="88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387, 4388, 4389, 4437, 4438, 4440, 4441, and 4442 as proposed in 19/06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47283B-23BD-4A85-A346-887F3C854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4:  Comment Resolution</a:t>
            </a:r>
            <a:endParaRPr b="0" lang="en-US" sz="3200" spc="-1" strike="noStrike">
              <a:solidFill>
                <a:srgbClr val="000000"/>
              </a:solidFill>
              <a:latin typeface="Times New Roman"/>
            </a:endParaRPr>
          </a:p>
        </p:txBody>
      </p:sp>
      <p:sp>
        <p:nvSpPr>
          <p:cNvPr id="8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56 as proposed in 19/073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ony H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85D9B1-0CDC-447E-9CAD-E8204C8A4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998CF7-0FBA-4F0C-83D2-B7E83A297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5:  Comment Resolution</a:t>
            </a:r>
            <a:endParaRPr b="0" lang="en-US" sz="3200" spc="-1" strike="noStrike">
              <a:solidFill>
                <a:srgbClr val="000000"/>
              </a:solidFill>
              <a:latin typeface="Times New Roman"/>
            </a:endParaRPr>
          </a:p>
        </p:txBody>
      </p:sp>
      <p:sp>
        <p:nvSpPr>
          <p:cNvPr id="8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474, 4475, and 4476 as proposed in 19/0690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84 and 4365 as proposed in 19/0746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8D8FCC-F8C1-41E2-8EC4-A62CD1E1B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6:  Comment Resolution</a:t>
            </a:r>
            <a:endParaRPr b="0" lang="en-US" sz="3200" spc="-1" strike="noStrike">
              <a:solidFill>
                <a:srgbClr val="000000"/>
              </a:solidFill>
              <a:latin typeface="Times New Roman"/>
            </a:endParaRPr>
          </a:p>
        </p:txBody>
      </p:sp>
      <p:sp>
        <p:nvSpPr>
          <p:cNvPr id="9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1, 4146, 4403, 4404, 4266, and 4400 as proposed in 19/0647r0;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09 and 4416 as proposed in 19/0321r1;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166 as proposed in 19/0896r1;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2 as proposed in 19/0906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6F6CF8-69BC-4A0A-80CA-45F38B161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7:  Comment Resolution</a:t>
            </a:r>
            <a:endParaRPr b="0" lang="en-US" sz="3200" spc="-1" strike="noStrike">
              <a:solidFill>
                <a:srgbClr val="000000"/>
              </a:solidFill>
              <a:latin typeface="Times New Roman"/>
            </a:endParaRPr>
          </a:p>
        </p:txBody>
      </p:sp>
      <p:sp>
        <p:nvSpPr>
          <p:cNvPr id="9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48, 4150, and 4151 as proposed in 19/0438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ris Hans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C254DC-8148-4A52-A2B3-E27DFE3DE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8:  Comment Resolution</a:t>
            </a:r>
            <a:endParaRPr b="0" lang="en-US" sz="3200" spc="-1" strike="noStrike">
              <a:solidFill>
                <a:srgbClr val="000000"/>
              </a:solidFill>
              <a:latin typeface="Times New Roman"/>
            </a:endParaRPr>
          </a:p>
        </p:txBody>
      </p:sp>
      <p:sp>
        <p:nvSpPr>
          <p:cNvPr id="9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92, 4406, 4407, 4408, and 4410 as proposed in 19/0668r1;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Payam Torab</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DAB3B5-4A72-45B6-A248-92827CFB1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9:  Comment Resolution</a:t>
            </a:r>
            <a:endParaRPr b="0" lang="en-US" sz="3200" spc="-1" strike="noStrike">
              <a:solidFill>
                <a:srgbClr val="000000"/>
              </a:solidFill>
              <a:latin typeface="Times New Roman"/>
            </a:endParaRPr>
          </a:p>
        </p:txBody>
      </p:sp>
      <p:sp>
        <p:nvSpPr>
          <p:cNvPr id="9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0 and 4225 as proposed in 19/0471r6;</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28 as proposed in 19/759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Kazuyuki Sakod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8EDF0B-AC2A-4032-BEEB-F237C02D9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0:  Comment Resolution</a:t>
            </a:r>
            <a:endParaRPr b="0" lang="en-US" sz="3200" spc="-1" strike="noStrike">
              <a:solidFill>
                <a:srgbClr val="000000"/>
              </a:solidFill>
              <a:latin typeface="Times New Roman"/>
            </a:endParaRPr>
          </a:p>
        </p:txBody>
      </p:sp>
      <p:sp>
        <p:nvSpPr>
          <p:cNvPr id="9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33 and 4306 as proposed in 19/0879r1.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635ECC-FB92-4898-A99D-8175AFBAB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1:  Comment Resolution</a:t>
            </a:r>
            <a:endParaRPr b="0" lang="en-US" sz="3200" spc="-1" strike="noStrike">
              <a:solidFill>
                <a:srgbClr val="000000"/>
              </a:solidFill>
              <a:latin typeface="Times New Roman"/>
            </a:endParaRPr>
          </a:p>
        </p:txBody>
      </p:sp>
      <p:sp>
        <p:nvSpPr>
          <p:cNvPr id="9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24 and 4405 as proposed in 19/0297r7.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94BB0C-8B9F-43EC-8E4D-76EDF19A3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47C2E5-8B17-42CD-85DD-14702CEA1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57B880-4934-4332-B0CC-F1CAAF9A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Mandatory Draft Review</a:t>
            </a:r>
            <a:endParaRPr b="0" lang="en-US" sz="3200" spc="-1" strike="noStrike">
              <a:solidFill>
                <a:srgbClr val="000000"/>
              </a:solidFill>
              <a:latin typeface="Times New Roman"/>
            </a:endParaRPr>
          </a:p>
        </p:txBody>
      </p:sp>
      <p:sp>
        <p:nvSpPr>
          <p:cNvPr id="9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4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change suggested in 19/0681r4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CDAAA09-38C5-423A-84AC-2480850D6D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EF0C57-9771-4594-8345-73DCDE2C3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9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0"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lieving that the PAR contained in the document referenced below meets IEEE-SA guideli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 that the PAR contained in 11-19/0673r0 be posted to the IEEE 802 Executive Committee (EC) agenda for WG 802 preview and EC approval to submit to NesCom.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B75B79-EDCE-45DA-ADB2-1EE1FBF7F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Recirculation WGLB</a:t>
            </a:r>
            <a:endParaRPr b="0" lang="en-US" sz="3200" spc="-1" strike="noStrike">
              <a:solidFill>
                <a:srgbClr val="000000"/>
              </a:solidFill>
              <a:latin typeface="Times New Roman"/>
            </a:endParaRPr>
          </a:p>
        </p:txBody>
      </p:sp>
      <p:sp>
        <p:nvSpPr>
          <p:cNvPr id="9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 the editor to prepare P802.11ay D4.0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 15 day Recirculation Working Group Technical Letter Ballot asking the question “Should P802.11ay D4.0 be forwarded to Sponsor Ballo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A2F969-C0CA-4D5C-9BF5-8CE318856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9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197450-0EC8-4916-89F5-9B2F133E0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382733-68E2-47D0-8BDB-EAF4344AF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C6384A-2778-4478-91FB-60D94378F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5T22:07:48Z</dcterms:modified>
  <cp:revision>8978</cp:revision>
  <dc:subject>Task Group AY November 2015 Meeting Agenda</dc:subject>
  <dc:title>11-19/0589r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