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7ABAA73A-158E-47CF-B571-01B6720987F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7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52D208C-340D-40C1-80CA-B49DA14E6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54160" y="701640"/>
            <a:ext cx="4626000" cy="3468600"/>
          </a:xfrm>
          <a:prstGeom prst="rect">
            <a:avLst/>
          </a:prstGeom>
          <a:ln w="0">
            <a:noFill/>
          </a:ln>
        </p:spPr>
      </p:sp>
      <p:sp>
        <p:nvSpPr>
          <p:cNvPr id="9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2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AB5C66-BB0A-45FB-A1BB-F60FAFDB3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102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1024"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10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900C94-C1AA-4D2E-92CB-1F1B88AE7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54160" y="701640"/>
            <a:ext cx="4626000" cy="3468600"/>
          </a:xfrm>
          <a:prstGeom prst="rect">
            <a:avLst/>
          </a:prstGeom>
          <a:ln w="0">
            <a:noFill/>
          </a:ln>
        </p:spPr>
      </p:sp>
      <p:sp>
        <p:nvSpPr>
          <p:cNvPr id="10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CCB10B-E781-4C70-A7DD-44E50E88C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103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1034"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103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12BCED-AFC9-4B68-82F6-852A364C4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1154160" y="701640"/>
            <a:ext cx="4626000" cy="3468600"/>
          </a:xfrm>
          <a:prstGeom prst="rect">
            <a:avLst/>
          </a:prstGeom>
          <a:ln w="0">
            <a:noFill/>
          </a:ln>
        </p:spPr>
      </p:sp>
      <p:sp>
        <p:nvSpPr>
          <p:cNvPr id="10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1039"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1040"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104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4A4E255-6BA6-4A80-A8A9-054BE6159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1154160" y="701640"/>
            <a:ext cx="4626000" cy="3468600"/>
          </a:xfrm>
          <a:prstGeom prst="rect">
            <a:avLst/>
          </a:prstGeom>
          <a:ln w="0">
            <a:noFill/>
          </a:ln>
        </p:spPr>
      </p:sp>
      <p:sp>
        <p:nvSpPr>
          <p:cNvPr id="10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54160" y="701640"/>
            <a:ext cx="4626000" cy="3468600"/>
          </a:xfrm>
          <a:prstGeom prst="rect">
            <a:avLst/>
          </a:prstGeom>
          <a:ln w="0">
            <a:noFill/>
          </a:ln>
        </p:spPr>
      </p:sp>
      <p:sp>
        <p:nvSpPr>
          <p:cNvPr id="10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34C7FFE-D128-491C-9925-CE864A213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5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A1D2B1C-2C35-4F2D-977A-CB9FED119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1154160" y="701640"/>
            <a:ext cx="4626000" cy="3468600"/>
          </a:xfrm>
          <a:prstGeom prst="rect">
            <a:avLst/>
          </a:prstGeom>
          <a:ln w="0">
            <a:noFill/>
          </a:ln>
        </p:spPr>
      </p:sp>
      <p:sp>
        <p:nvSpPr>
          <p:cNvPr id="10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54160" y="701640"/>
            <a:ext cx="4626000" cy="3468600"/>
          </a:xfrm>
          <a:prstGeom prst="rect">
            <a:avLst/>
          </a:prstGeom>
          <a:ln w="0">
            <a:noFill/>
          </a:ln>
        </p:spPr>
      </p:sp>
      <p:sp>
        <p:nvSpPr>
          <p:cNvPr id="10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1EB81A-F8B0-404A-B93E-A299E7017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54160" y="701640"/>
            <a:ext cx="4626000" cy="3468600"/>
          </a:xfrm>
          <a:prstGeom prst="rect">
            <a:avLst/>
          </a:prstGeom>
          <a:ln w="0">
            <a:noFill/>
          </a:ln>
        </p:spPr>
      </p:sp>
      <p:sp>
        <p:nvSpPr>
          <p:cNvPr id="10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49D9BA-84C3-4D23-A8BA-C2B197C09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54160" y="701640"/>
            <a:ext cx="4626000" cy="3468600"/>
          </a:xfrm>
          <a:prstGeom prst="rect">
            <a:avLst/>
          </a:prstGeom>
          <a:ln w="0">
            <a:noFill/>
          </a:ln>
        </p:spPr>
      </p:sp>
      <p:sp>
        <p:nvSpPr>
          <p:cNvPr id="10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9D2B788-D4E6-4336-A7AA-F3B0B484F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54160" y="701640"/>
            <a:ext cx="4626000" cy="3468600"/>
          </a:xfrm>
          <a:prstGeom prst="rect">
            <a:avLst/>
          </a:prstGeom>
          <a:ln w="0">
            <a:noFill/>
          </a:ln>
        </p:spPr>
      </p:sp>
      <p:sp>
        <p:nvSpPr>
          <p:cNvPr id="10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2E3DAA-8E46-407D-A446-E70C1BE00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54160" y="701640"/>
            <a:ext cx="4626000" cy="3468600"/>
          </a:xfrm>
          <a:prstGeom prst="rect">
            <a:avLst/>
          </a:prstGeom>
          <a:ln w="0">
            <a:noFill/>
          </a:ln>
        </p:spPr>
      </p:sp>
      <p:sp>
        <p:nvSpPr>
          <p:cNvPr id="10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F92E80-4ADA-44D2-B162-A1BEE8DFA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54160" y="701640"/>
            <a:ext cx="4626000" cy="3468600"/>
          </a:xfrm>
          <a:prstGeom prst="rect">
            <a:avLst/>
          </a:prstGeom>
          <a:ln w="0">
            <a:noFill/>
          </a:ln>
        </p:spPr>
      </p:sp>
      <p:sp>
        <p:nvSpPr>
          <p:cNvPr id="9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DBB357-65A2-43D0-8E9D-021B6CA4A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54160" y="701640"/>
            <a:ext cx="4626000" cy="3468600"/>
          </a:xfrm>
          <a:prstGeom prst="rect">
            <a:avLst/>
          </a:prstGeom>
          <a:ln w="0">
            <a:noFill/>
          </a:ln>
        </p:spPr>
      </p:sp>
      <p:sp>
        <p:nvSpPr>
          <p:cNvPr id="10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35D35E4-80F5-4149-80E0-C0F2D6F3D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54160" y="701640"/>
            <a:ext cx="4626000" cy="3468600"/>
          </a:xfrm>
          <a:prstGeom prst="rect">
            <a:avLst/>
          </a:prstGeom>
          <a:ln w="0">
            <a:noFill/>
          </a:ln>
        </p:spPr>
      </p:sp>
      <p:sp>
        <p:nvSpPr>
          <p:cNvPr id="10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0641B5-A343-413E-96AC-8DDD9AB02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54160" y="701640"/>
            <a:ext cx="4626000" cy="3468600"/>
          </a:xfrm>
          <a:prstGeom prst="rect">
            <a:avLst/>
          </a:prstGeom>
          <a:ln w="0">
            <a:noFill/>
          </a:ln>
        </p:spPr>
      </p:sp>
      <p:sp>
        <p:nvSpPr>
          <p:cNvPr id="10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737895-5FDB-45D5-A3A7-BE6EE84E8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54160" y="701640"/>
            <a:ext cx="4626000" cy="3468600"/>
          </a:xfrm>
          <a:prstGeom prst="rect">
            <a:avLst/>
          </a:prstGeom>
          <a:ln w="0">
            <a:noFill/>
          </a:ln>
        </p:spPr>
      </p:sp>
      <p:sp>
        <p:nvSpPr>
          <p:cNvPr id="11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A5FE6B-4870-4931-9EA7-90AF58AD8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4160" y="701640"/>
            <a:ext cx="4626000" cy="3468600"/>
          </a:xfrm>
          <a:prstGeom prst="rect">
            <a:avLst/>
          </a:prstGeom>
          <a:ln w="0">
            <a:noFill/>
          </a:ln>
        </p:spPr>
      </p:sp>
      <p:sp>
        <p:nvSpPr>
          <p:cNvPr id="11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0CEBF0-4628-4B1B-9CC3-C5134C64D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54160" y="701640"/>
            <a:ext cx="4626000" cy="3468600"/>
          </a:xfrm>
          <a:prstGeom prst="rect">
            <a:avLst/>
          </a:prstGeom>
          <a:ln w="0">
            <a:noFill/>
          </a:ln>
        </p:spPr>
      </p:sp>
      <p:sp>
        <p:nvSpPr>
          <p:cNvPr id="11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FC3F29-7DF7-457D-A197-1EAF8E61E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54160" y="701640"/>
            <a:ext cx="4626000" cy="3468600"/>
          </a:xfrm>
          <a:prstGeom prst="rect">
            <a:avLst/>
          </a:prstGeom>
          <a:ln w="0">
            <a:noFill/>
          </a:ln>
        </p:spPr>
      </p:sp>
      <p:sp>
        <p:nvSpPr>
          <p:cNvPr id="11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4D49A70-1483-47F1-9612-833AF041C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54160" y="701640"/>
            <a:ext cx="4626000" cy="3468600"/>
          </a:xfrm>
          <a:prstGeom prst="rect">
            <a:avLst/>
          </a:prstGeom>
          <a:ln w="0">
            <a:noFill/>
          </a:ln>
        </p:spPr>
      </p:sp>
      <p:sp>
        <p:nvSpPr>
          <p:cNvPr id="11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A32DD4-D2D6-4F5F-877C-98EF3C137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54160" y="701640"/>
            <a:ext cx="4626000" cy="3468600"/>
          </a:xfrm>
          <a:prstGeom prst="rect">
            <a:avLst/>
          </a:prstGeom>
          <a:ln w="0">
            <a:noFill/>
          </a:ln>
        </p:spPr>
      </p:sp>
      <p:sp>
        <p:nvSpPr>
          <p:cNvPr id="11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291174-7CF6-4EAD-95FE-761A3B0CA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54160" y="701640"/>
            <a:ext cx="4626000" cy="3468600"/>
          </a:xfrm>
          <a:prstGeom prst="rect">
            <a:avLst/>
          </a:prstGeom>
          <a:ln w="0">
            <a:noFill/>
          </a:ln>
        </p:spPr>
      </p:sp>
      <p:sp>
        <p:nvSpPr>
          <p:cNvPr id="11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6A912C-FC96-4E58-89C3-CEEBEE7FA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8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AA9C5F1-2F42-4402-A046-4C807FEC1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PlaceHolder 1"/>
          <p:cNvSpPr>
            <a:spLocks noGrp="1"/>
          </p:cNvSpPr>
          <p:nvPr>
            <p:ph type="sldImg"/>
          </p:nvPr>
        </p:nvSpPr>
        <p:spPr>
          <a:xfrm>
            <a:off x="1154160" y="701640"/>
            <a:ext cx="4626000" cy="3468600"/>
          </a:xfrm>
          <a:prstGeom prst="rect">
            <a:avLst/>
          </a:prstGeom>
          <a:ln w="0">
            <a:noFill/>
          </a:ln>
        </p:spPr>
      </p:sp>
      <p:sp>
        <p:nvSpPr>
          <p:cNvPr id="9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54160" y="701640"/>
            <a:ext cx="4626000" cy="3468600"/>
          </a:xfrm>
          <a:prstGeom prst="rect">
            <a:avLst/>
          </a:prstGeom>
          <a:ln w="0">
            <a:noFill/>
          </a:ln>
        </p:spPr>
      </p:sp>
      <p:sp>
        <p:nvSpPr>
          <p:cNvPr id="11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7800098-487C-44B9-BA91-0FD5F983C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54160" y="701640"/>
            <a:ext cx="4626000" cy="3468600"/>
          </a:xfrm>
          <a:prstGeom prst="rect">
            <a:avLst/>
          </a:prstGeom>
          <a:ln w="0">
            <a:noFill/>
          </a:ln>
        </p:spPr>
      </p:sp>
      <p:sp>
        <p:nvSpPr>
          <p:cNvPr id="11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1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5D66A4-8A0B-454B-8FA8-5C1CF0140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6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7B744E-09EF-4161-99FB-8CF2A9ADC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PlaceHolder 1"/>
          <p:cNvSpPr>
            <a:spLocks noGrp="1"/>
          </p:cNvSpPr>
          <p:nvPr>
            <p:ph type="sldImg"/>
          </p:nvPr>
        </p:nvSpPr>
        <p:spPr>
          <a:xfrm>
            <a:off x="1154160" y="701640"/>
            <a:ext cx="4626000" cy="3468600"/>
          </a:xfrm>
          <a:prstGeom prst="rect">
            <a:avLst/>
          </a:prstGeom>
          <a:ln w="0">
            <a:noFill/>
          </a:ln>
        </p:spPr>
      </p:sp>
      <p:sp>
        <p:nvSpPr>
          <p:cNvPr id="11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54160" y="701640"/>
            <a:ext cx="4626000" cy="3468600"/>
          </a:xfrm>
          <a:prstGeom prst="rect">
            <a:avLst/>
          </a:prstGeom>
          <a:ln w="0">
            <a:noFill/>
          </a:ln>
        </p:spPr>
      </p:sp>
      <p:sp>
        <p:nvSpPr>
          <p:cNvPr id="11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601F9AD-30DA-4831-9EE1-2F5406635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54160" y="701640"/>
            <a:ext cx="4626000" cy="3468600"/>
          </a:xfrm>
          <a:prstGeom prst="rect">
            <a:avLst/>
          </a:prstGeom>
          <a:ln w="0">
            <a:noFill/>
          </a:ln>
        </p:spPr>
      </p:sp>
      <p:sp>
        <p:nvSpPr>
          <p:cNvPr id="11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AA7149-502B-429B-8E81-C4BD345E1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54160" y="701640"/>
            <a:ext cx="4626000" cy="3468600"/>
          </a:xfrm>
          <a:prstGeom prst="rect">
            <a:avLst/>
          </a:prstGeom>
          <a:ln w="0">
            <a:noFill/>
          </a:ln>
        </p:spPr>
      </p:sp>
      <p:sp>
        <p:nvSpPr>
          <p:cNvPr id="11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693E9B-F41E-4858-AFD4-CDAA68A09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54160" y="701640"/>
            <a:ext cx="4626000" cy="3468600"/>
          </a:xfrm>
          <a:prstGeom prst="rect">
            <a:avLst/>
          </a:prstGeom>
          <a:ln w="0">
            <a:noFill/>
          </a:ln>
        </p:spPr>
      </p:sp>
      <p:sp>
        <p:nvSpPr>
          <p:cNvPr id="11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0B92A5D-C9EF-435E-BD0D-4135105BB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54160" y="701640"/>
            <a:ext cx="4626000" cy="3468600"/>
          </a:xfrm>
          <a:prstGeom prst="rect">
            <a:avLst/>
          </a:prstGeom>
          <a:ln w="0">
            <a:noFill/>
          </a:ln>
        </p:spPr>
      </p:sp>
      <p:sp>
        <p:nvSpPr>
          <p:cNvPr id="11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682FDA-BFE2-439C-BB47-B28E18146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54160" y="701640"/>
            <a:ext cx="4626000" cy="3468600"/>
          </a:xfrm>
          <a:prstGeom prst="rect">
            <a:avLst/>
          </a:prstGeom>
          <a:ln w="0">
            <a:noFill/>
          </a:ln>
        </p:spPr>
      </p:sp>
      <p:sp>
        <p:nvSpPr>
          <p:cNvPr id="11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9A0286-A4A9-45B4-A8E8-C28939496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54160" y="701640"/>
            <a:ext cx="4626000" cy="3468600"/>
          </a:xfrm>
          <a:prstGeom prst="rect">
            <a:avLst/>
          </a:prstGeom>
          <a:ln w="0">
            <a:noFill/>
          </a:ln>
        </p:spPr>
      </p:sp>
      <p:sp>
        <p:nvSpPr>
          <p:cNvPr id="12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FE75F9F-CF68-4991-B9C1-03D269DA1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0"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9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92C2731-4AC1-4188-9024-4E4D6F1C6D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PlaceHolder 1"/>
          <p:cNvSpPr>
            <a:spLocks noGrp="1"/>
          </p:cNvSpPr>
          <p:nvPr>
            <p:ph type="sldImg"/>
          </p:nvPr>
        </p:nvSpPr>
        <p:spPr>
          <a:xfrm>
            <a:off x="1147680" y="696960"/>
            <a:ext cx="4640400" cy="3479760"/>
          </a:xfrm>
          <a:prstGeom prst="rect">
            <a:avLst/>
          </a:prstGeom>
          <a:ln w="0">
            <a:noFill/>
          </a:ln>
        </p:spPr>
      </p:sp>
      <p:sp>
        <p:nvSpPr>
          <p:cNvPr id="993"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54160" y="701640"/>
            <a:ext cx="4626000" cy="3468600"/>
          </a:xfrm>
          <a:prstGeom prst="rect">
            <a:avLst/>
          </a:prstGeom>
          <a:ln w="0">
            <a:noFill/>
          </a:ln>
        </p:spPr>
      </p:sp>
      <p:sp>
        <p:nvSpPr>
          <p:cNvPr id="12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E2BDBE2-6F93-4BCF-974A-F33BB1B4D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54160" y="701640"/>
            <a:ext cx="4626000" cy="3468600"/>
          </a:xfrm>
          <a:prstGeom prst="rect">
            <a:avLst/>
          </a:prstGeom>
          <a:ln w="0">
            <a:noFill/>
          </a:ln>
        </p:spPr>
      </p:sp>
      <p:sp>
        <p:nvSpPr>
          <p:cNvPr id="12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EA51E1-66E5-47EB-A390-28A5440CA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54160" y="701640"/>
            <a:ext cx="4626000" cy="3468600"/>
          </a:xfrm>
          <a:prstGeom prst="rect">
            <a:avLst/>
          </a:prstGeom>
          <a:ln w="0">
            <a:noFill/>
          </a:ln>
        </p:spPr>
      </p:sp>
      <p:sp>
        <p:nvSpPr>
          <p:cNvPr id="12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647729-085F-4790-AFBD-94FD6DC3D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54160" y="701640"/>
            <a:ext cx="4626000" cy="3468600"/>
          </a:xfrm>
          <a:prstGeom prst="rect">
            <a:avLst/>
          </a:prstGeom>
          <a:ln w="0">
            <a:noFill/>
          </a:ln>
        </p:spPr>
      </p:sp>
      <p:sp>
        <p:nvSpPr>
          <p:cNvPr id="12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CF259E-7FD3-42B5-81F9-D25CEDA90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54160" y="701640"/>
            <a:ext cx="4626000" cy="3468600"/>
          </a:xfrm>
          <a:prstGeom prst="rect">
            <a:avLst/>
          </a:prstGeom>
          <a:ln w="0">
            <a:noFill/>
          </a:ln>
        </p:spPr>
      </p:sp>
      <p:sp>
        <p:nvSpPr>
          <p:cNvPr id="12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1BC672-F298-47C3-A9B4-E8317832C9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54160" y="701640"/>
            <a:ext cx="4626000" cy="3468600"/>
          </a:xfrm>
          <a:prstGeom prst="rect">
            <a:avLst/>
          </a:prstGeom>
          <a:ln w="0">
            <a:noFill/>
          </a:ln>
        </p:spPr>
      </p:sp>
      <p:sp>
        <p:nvSpPr>
          <p:cNvPr id="12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453EC1-1661-4DB3-8719-500CEA2B2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54160" y="701640"/>
            <a:ext cx="4626000" cy="3468600"/>
          </a:xfrm>
          <a:prstGeom prst="rect">
            <a:avLst/>
          </a:prstGeom>
          <a:ln w="0">
            <a:noFill/>
          </a:ln>
        </p:spPr>
      </p:sp>
      <p:sp>
        <p:nvSpPr>
          <p:cNvPr id="12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20A446-C426-4D78-984A-CCE5C11BA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54160" y="701640"/>
            <a:ext cx="4626000" cy="3468600"/>
          </a:xfrm>
          <a:prstGeom prst="rect">
            <a:avLst/>
          </a:prstGeom>
          <a:ln w="0">
            <a:noFill/>
          </a:ln>
        </p:spPr>
      </p:sp>
      <p:sp>
        <p:nvSpPr>
          <p:cNvPr id="12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496938-46E5-4C89-94FE-DE1FA0A43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54160" y="701640"/>
            <a:ext cx="4626000" cy="3468600"/>
          </a:xfrm>
          <a:prstGeom prst="rect">
            <a:avLst/>
          </a:prstGeom>
          <a:ln w="0">
            <a:noFill/>
          </a:ln>
        </p:spPr>
      </p:sp>
      <p:sp>
        <p:nvSpPr>
          <p:cNvPr id="12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F0A63B-8938-4D92-B468-8DC76B52D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54160" y="701640"/>
            <a:ext cx="4626000" cy="3468600"/>
          </a:xfrm>
          <a:prstGeom prst="rect">
            <a:avLst/>
          </a:prstGeom>
          <a:ln w="0">
            <a:noFill/>
          </a:ln>
        </p:spPr>
      </p:sp>
      <p:sp>
        <p:nvSpPr>
          <p:cNvPr id="12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1DE44A-08A1-44A7-9443-F264C2AC1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5"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6"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9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6D2DE28-4115-4DF8-9595-BAAE249A60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PlaceHolder 1"/>
          <p:cNvSpPr>
            <a:spLocks noGrp="1"/>
          </p:cNvSpPr>
          <p:nvPr>
            <p:ph type="sldImg"/>
          </p:nvPr>
        </p:nvSpPr>
        <p:spPr>
          <a:xfrm>
            <a:off x="1147680" y="696960"/>
            <a:ext cx="4640400" cy="3479760"/>
          </a:xfrm>
          <a:prstGeom prst="rect">
            <a:avLst/>
          </a:prstGeom>
          <a:ln w="0">
            <a:noFill/>
          </a:ln>
        </p:spPr>
      </p:sp>
      <p:sp>
        <p:nvSpPr>
          <p:cNvPr id="99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54160" y="701640"/>
            <a:ext cx="4626000" cy="3468600"/>
          </a:xfrm>
          <a:prstGeom prst="rect">
            <a:avLst/>
          </a:prstGeom>
          <a:ln w="0">
            <a:noFill/>
          </a:ln>
        </p:spPr>
      </p:sp>
      <p:sp>
        <p:nvSpPr>
          <p:cNvPr id="12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2D6E09D-A3C9-482C-A658-86D8A79E9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7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7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7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62808AD-AC5D-465C-A6F5-5551EB9F9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1154160" y="701640"/>
            <a:ext cx="4626000" cy="3468600"/>
          </a:xfrm>
          <a:prstGeom prst="rect">
            <a:avLst/>
          </a:prstGeom>
          <a:ln w="0">
            <a:noFill/>
          </a:ln>
        </p:spPr>
      </p:sp>
      <p:sp>
        <p:nvSpPr>
          <p:cNvPr id="12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54160" y="701640"/>
            <a:ext cx="4626000" cy="3468600"/>
          </a:xfrm>
          <a:prstGeom prst="rect">
            <a:avLst/>
          </a:prstGeom>
          <a:ln w="0">
            <a:noFill/>
          </a:ln>
        </p:spPr>
      </p:sp>
      <p:sp>
        <p:nvSpPr>
          <p:cNvPr id="12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8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8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8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8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296C0C-4299-46D0-8BA4-294AA54EE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54160" y="701640"/>
            <a:ext cx="4626000" cy="3468600"/>
          </a:xfrm>
          <a:prstGeom prst="rect">
            <a:avLst/>
          </a:prstGeom>
          <a:ln w="0">
            <a:noFill/>
          </a:ln>
        </p:spPr>
      </p:sp>
      <p:sp>
        <p:nvSpPr>
          <p:cNvPr id="12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27A3DC-B2F3-4A03-8976-8A13C22DE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9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9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9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B39B6C-75DE-4838-9F7D-EC5B3E0EF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1154160" y="701640"/>
            <a:ext cx="4626000" cy="3468600"/>
          </a:xfrm>
          <a:prstGeom prst="rect">
            <a:avLst/>
          </a:prstGeom>
          <a:ln w="0">
            <a:noFill/>
          </a:ln>
        </p:spPr>
      </p:sp>
      <p:sp>
        <p:nvSpPr>
          <p:cNvPr id="12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54160" y="701640"/>
            <a:ext cx="4626000" cy="3468600"/>
          </a:xfrm>
          <a:prstGeom prst="rect">
            <a:avLst/>
          </a:prstGeom>
          <a:ln w="0">
            <a:noFill/>
          </a:ln>
        </p:spPr>
      </p:sp>
      <p:sp>
        <p:nvSpPr>
          <p:cNvPr id="12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F4C758F-859D-4A98-B811-91116C60A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54160" y="701640"/>
            <a:ext cx="4626000" cy="3468600"/>
          </a:xfrm>
          <a:prstGeom prst="rect">
            <a:avLst/>
          </a:prstGeom>
          <a:ln w="0">
            <a:noFill/>
          </a:ln>
        </p:spPr>
      </p:sp>
      <p:sp>
        <p:nvSpPr>
          <p:cNvPr id="13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248F9D-BD4B-4A72-9467-37CB33F53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0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1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31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E7B8C7-B5F3-4C50-826A-083240745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4160" y="701640"/>
            <a:ext cx="4626000" cy="3468600"/>
          </a:xfrm>
          <a:prstGeom prst="rect">
            <a:avLst/>
          </a:prstGeom>
          <a:ln w="0">
            <a:noFill/>
          </a:ln>
        </p:spPr>
      </p:sp>
      <p:sp>
        <p:nvSpPr>
          <p:cNvPr id="13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54160" y="701640"/>
            <a:ext cx="4626000" cy="3468600"/>
          </a:xfrm>
          <a:prstGeom prst="rect">
            <a:avLst/>
          </a:prstGeom>
          <a:ln w="0">
            <a:noFill/>
          </a:ln>
        </p:spPr>
      </p:sp>
      <p:sp>
        <p:nvSpPr>
          <p:cNvPr id="13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1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1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1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1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27E4F80-ABCF-400F-8392-E4BCECEB8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54160" y="701640"/>
            <a:ext cx="4626000" cy="3468600"/>
          </a:xfrm>
          <a:prstGeom prst="rect">
            <a:avLst/>
          </a:prstGeom>
          <a:ln w="0">
            <a:noFill/>
          </a:ln>
        </p:spPr>
      </p:sp>
      <p:sp>
        <p:nvSpPr>
          <p:cNvPr id="13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05FE34-7D77-4910-87C5-63870A255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94F06A1-EE67-4200-80A3-89F49A150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1154160" y="701640"/>
            <a:ext cx="4626000" cy="3468600"/>
          </a:xfrm>
          <a:prstGeom prst="rect">
            <a:avLst/>
          </a:prstGeom>
          <a:ln w="0">
            <a:noFill/>
          </a:ln>
        </p:spPr>
      </p:sp>
      <p:sp>
        <p:nvSpPr>
          <p:cNvPr id="10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54160" y="701640"/>
            <a:ext cx="4626000" cy="3468600"/>
          </a:xfrm>
          <a:prstGeom prst="rect">
            <a:avLst/>
          </a:prstGeom>
          <a:ln w="0">
            <a:noFill/>
          </a:ln>
        </p:spPr>
      </p:sp>
      <p:sp>
        <p:nvSpPr>
          <p:cNvPr id="13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5B958C-CD9A-4BDD-B70B-62479EED2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3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3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33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1BBF4B-E8B2-4623-9FB4-BBC1C05A0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1154160" y="701640"/>
            <a:ext cx="4626000" cy="3468600"/>
          </a:xfrm>
          <a:prstGeom prst="rect">
            <a:avLst/>
          </a:prstGeom>
          <a:ln w="0">
            <a:noFill/>
          </a:ln>
        </p:spPr>
      </p:sp>
      <p:sp>
        <p:nvSpPr>
          <p:cNvPr id="13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54160" y="701640"/>
            <a:ext cx="4626000" cy="3468600"/>
          </a:xfrm>
          <a:prstGeom prst="rect">
            <a:avLst/>
          </a:prstGeom>
          <a:ln w="0">
            <a:noFill/>
          </a:ln>
        </p:spPr>
      </p:sp>
      <p:sp>
        <p:nvSpPr>
          <p:cNvPr id="13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997AA6-13A8-4BEB-A08D-FEF798102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54160" y="701640"/>
            <a:ext cx="4626000" cy="3468600"/>
          </a:xfrm>
          <a:prstGeom prst="rect">
            <a:avLst/>
          </a:prstGeom>
          <a:ln w="0">
            <a:noFill/>
          </a:ln>
        </p:spPr>
      </p:sp>
      <p:sp>
        <p:nvSpPr>
          <p:cNvPr id="13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748B8C-5D40-4E5F-814D-990A57F3C1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5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5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35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16F743-949E-4853-B06F-118BCAC90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1154160" y="701640"/>
            <a:ext cx="4626000" cy="3468600"/>
          </a:xfrm>
          <a:prstGeom prst="rect">
            <a:avLst/>
          </a:prstGeom>
          <a:ln w="0">
            <a:noFill/>
          </a:ln>
        </p:spPr>
      </p:sp>
      <p:sp>
        <p:nvSpPr>
          <p:cNvPr id="13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54160" y="701640"/>
            <a:ext cx="4626000" cy="3468600"/>
          </a:xfrm>
          <a:prstGeom prst="rect">
            <a:avLst/>
          </a:prstGeom>
          <a:ln w="0">
            <a:noFill/>
          </a:ln>
        </p:spPr>
      </p:sp>
      <p:sp>
        <p:nvSpPr>
          <p:cNvPr id="13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925BC5-24E9-4DED-8150-7548D3E1C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54160" y="701640"/>
            <a:ext cx="4626000" cy="3468600"/>
          </a:xfrm>
          <a:prstGeom prst="rect">
            <a:avLst/>
          </a:prstGeom>
          <a:ln w="0">
            <a:noFill/>
          </a:ln>
        </p:spPr>
      </p:sp>
      <p:sp>
        <p:nvSpPr>
          <p:cNvPr id="13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B07A8C-C636-47B8-B81D-44CA2F52B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54160" y="701640"/>
            <a:ext cx="4626000" cy="3468600"/>
          </a:xfrm>
          <a:prstGeom prst="rect">
            <a:avLst/>
          </a:prstGeom>
          <a:ln w="0">
            <a:noFill/>
          </a:ln>
        </p:spPr>
      </p:sp>
      <p:sp>
        <p:nvSpPr>
          <p:cNvPr id="13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0C5D2B5-2887-4000-A9C5-A44EB5AF3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54160" y="701640"/>
            <a:ext cx="4626000" cy="3468600"/>
          </a:xfrm>
          <a:prstGeom prst="rect">
            <a:avLst/>
          </a:prstGeom>
          <a:ln w="0">
            <a:noFill/>
          </a:ln>
        </p:spPr>
      </p:sp>
      <p:sp>
        <p:nvSpPr>
          <p:cNvPr id="13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0F5F353-278F-40DE-B545-932DD9904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54160" y="701640"/>
            <a:ext cx="4626000" cy="3468600"/>
          </a:xfrm>
          <a:prstGeom prst="rect">
            <a:avLst/>
          </a:prstGeom>
          <a:ln w="0">
            <a:noFill/>
          </a:ln>
        </p:spPr>
      </p:sp>
      <p:sp>
        <p:nvSpPr>
          <p:cNvPr id="13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75C25F-22C6-490F-8C55-BD492E9BA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E665C7A-1692-4E21-90F6-0A0081EBE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PlaceHolder 1"/>
          <p:cNvSpPr>
            <a:spLocks noGrp="1"/>
          </p:cNvSpPr>
          <p:nvPr>
            <p:ph type="sldImg"/>
          </p:nvPr>
        </p:nvSpPr>
        <p:spPr>
          <a:xfrm>
            <a:off x="1154160" y="701640"/>
            <a:ext cx="4626000" cy="3468600"/>
          </a:xfrm>
          <a:prstGeom prst="rect">
            <a:avLst/>
          </a:prstGeom>
          <a:ln w="0">
            <a:noFill/>
          </a:ln>
        </p:spPr>
      </p:sp>
      <p:sp>
        <p:nvSpPr>
          <p:cNvPr id="10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54160" y="701640"/>
            <a:ext cx="4626000" cy="3468600"/>
          </a:xfrm>
          <a:prstGeom prst="rect">
            <a:avLst/>
          </a:prstGeom>
          <a:ln w="0">
            <a:noFill/>
          </a:ln>
        </p:spPr>
      </p:sp>
      <p:sp>
        <p:nvSpPr>
          <p:cNvPr id="13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5D8B48-98C7-480D-B20D-F69C7A8F3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54160" y="701640"/>
            <a:ext cx="4626000" cy="3468600"/>
          </a:xfrm>
          <a:prstGeom prst="rect">
            <a:avLst/>
          </a:prstGeom>
          <a:ln w="0">
            <a:noFill/>
          </a:ln>
        </p:spPr>
      </p:sp>
      <p:sp>
        <p:nvSpPr>
          <p:cNvPr id="13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C5A5E98-9F0C-4BC7-ADD5-D7667ED4F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54160" y="701640"/>
            <a:ext cx="4626000" cy="3468600"/>
          </a:xfrm>
          <a:prstGeom prst="rect">
            <a:avLst/>
          </a:prstGeom>
          <a:ln w="0">
            <a:noFill/>
          </a:ln>
        </p:spPr>
      </p:sp>
      <p:sp>
        <p:nvSpPr>
          <p:cNvPr id="13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00DA8E-3883-4C98-AC4D-F0639E2FD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54160" y="701640"/>
            <a:ext cx="4626000" cy="3468600"/>
          </a:xfrm>
          <a:prstGeom prst="rect">
            <a:avLst/>
          </a:prstGeom>
          <a:ln w="0">
            <a:noFill/>
          </a:ln>
        </p:spPr>
      </p:sp>
      <p:sp>
        <p:nvSpPr>
          <p:cNvPr id="14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96F55F-9501-478B-BD01-54A7D77E1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54160" y="701640"/>
            <a:ext cx="4626000" cy="3468600"/>
          </a:xfrm>
          <a:prstGeom prst="rect">
            <a:avLst/>
          </a:prstGeom>
          <a:ln w="0">
            <a:noFill/>
          </a:ln>
        </p:spPr>
      </p:sp>
      <p:sp>
        <p:nvSpPr>
          <p:cNvPr id="14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9098D03-45E9-49A7-81CD-6B6663B72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54160" y="701640"/>
            <a:ext cx="4626000" cy="3468600"/>
          </a:xfrm>
          <a:prstGeom prst="rect">
            <a:avLst/>
          </a:prstGeom>
          <a:ln w="0">
            <a:noFill/>
          </a:ln>
        </p:spPr>
      </p:sp>
      <p:sp>
        <p:nvSpPr>
          <p:cNvPr id="14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06A739-0BC3-4209-9DDB-E34858D92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54160" y="701640"/>
            <a:ext cx="4626000" cy="3468600"/>
          </a:xfrm>
          <a:prstGeom prst="rect">
            <a:avLst/>
          </a:prstGeom>
          <a:ln w="0">
            <a:noFill/>
          </a:ln>
        </p:spPr>
      </p:sp>
      <p:sp>
        <p:nvSpPr>
          <p:cNvPr id="14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9CFFA6-2105-4694-AC35-53DF56389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54160" y="701640"/>
            <a:ext cx="4626000" cy="3468600"/>
          </a:xfrm>
          <a:prstGeom prst="rect">
            <a:avLst/>
          </a:prstGeom>
          <a:ln w="0">
            <a:noFill/>
          </a:ln>
        </p:spPr>
      </p:sp>
      <p:sp>
        <p:nvSpPr>
          <p:cNvPr id="14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2E750C-1918-4296-BCC2-A78C9CD09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54160" y="701640"/>
            <a:ext cx="4626000" cy="3468600"/>
          </a:xfrm>
          <a:prstGeom prst="rect">
            <a:avLst/>
          </a:prstGeom>
          <a:ln w="0">
            <a:noFill/>
          </a:ln>
        </p:spPr>
      </p:sp>
      <p:sp>
        <p:nvSpPr>
          <p:cNvPr id="14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9E7F320-807D-419B-A4FF-363962C9B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54160" y="701640"/>
            <a:ext cx="4626000" cy="3468600"/>
          </a:xfrm>
          <a:prstGeom prst="rect">
            <a:avLst/>
          </a:prstGeom>
          <a:ln w="0">
            <a:noFill/>
          </a:ln>
        </p:spPr>
      </p:sp>
      <p:sp>
        <p:nvSpPr>
          <p:cNvPr id="14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5A7EBA-9F86-48DA-A6D8-EDF71DA61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1007"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008"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100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C2C4304-FA55-47B1-AB1A-E25BE3C72B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0" name="PlaceHolder 1"/>
          <p:cNvSpPr>
            <a:spLocks noGrp="1"/>
          </p:cNvSpPr>
          <p:nvPr>
            <p:ph type="sldImg"/>
          </p:nvPr>
        </p:nvSpPr>
        <p:spPr>
          <a:xfrm>
            <a:off x="1154160" y="701640"/>
            <a:ext cx="4626000" cy="3468600"/>
          </a:xfrm>
          <a:prstGeom prst="rect">
            <a:avLst/>
          </a:prstGeom>
          <a:ln w="0">
            <a:noFill/>
          </a:ln>
        </p:spPr>
      </p:sp>
      <p:sp>
        <p:nvSpPr>
          <p:cNvPr id="1011"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54160" y="701640"/>
            <a:ext cx="4626000" cy="3468600"/>
          </a:xfrm>
          <a:prstGeom prst="rect">
            <a:avLst/>
          </a:prstGeom>
          <a:ln w="0">
            <a:noFill/>
          </a:ln>
        </p:spPr>
      </p:sp>
      <p:sp>
        <p:nvSpPr>
          <p:cNvPr id="14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27E9DB-EBC0-409D-A4EF-C30975D11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54160" y="701640"/>
            <a:ext cx="4626000" cy="3468600"/>
          </a:xfrm>
          <a:prstGeom prst="rect">
            <a:avLst/>
          </a:prstGeom>
          <a:ln w="0">
            <a:noFill/>
          </a:ln>
        </p:spPr>
      </p:sp>
      <p:sp>
        <p:nvSpPr>
          <p:cNvPr id="14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CBD1EB-CE8A-4CBA-9A9A-DBEC6B1FB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54160" y="701640"/>
            <a:ext cx="4626000" cy="3468600"/>
          </a:xfrm>
          <a:prstGeom prst="rect">
            <a:avLst/>
          </a:prstGeom>
          <a:ln w="0">
            <a:noFill/>
          </a:ln>
        </p:spPr>
      </p:sp>
      <p:sp>
        <p:nvSpPr>
          <p:cNvPr id="14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8BAD938-0B0F-468F-B514-310727494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54160" y="701640"/>
            <a:ext cx="4626000" cy="3468600"/>
          </a:xfrm>
          <a:prstGeom prst="rect">
            <a:avLst/>
          </a:prstGeom>
          <a:ln w="0">
            <a:noFill/>
          </a:ln>
        </p:spPr>
      </p:sp>
      <p:sp>
        <p:nvSpPr>
          <p:cNvPr id="14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5421F76-C629-4B75-80EA-0F9B5EC34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54160" y="701640"/>
            <a:ext cx="4626000" cy="3468600"/>
          </a:xfrm>
          <a:prstGeom prst="rect">
            <a:avLst/>
          </a:prstGeom>
          <a:ln w="0">
            <a:noFill/>
          </a:ln>
        </p:spPr>
      </p:sp>
      <p:sp>
        <p:nvSpPr>
          <p:cNvPr id="14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4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4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4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A3EA57-5528-42C6-800F-760BA6E5E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292719-1E04-4546-A9BF-6CC228BE1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6" name="PlaceHolder 1"/>
          <p:cNvSpPr>
            <a:spLocks noGrp="1"/>
          </p:cNvSpPr>
          <p:nvPr>
            <p:ph type="sldImg"/>
          </p:nvPr>
        </p:nvSpPr>
        <p:spPr>
          <a:xfrm>
            <a:off x="1154160" y="701640"/>
            <a:ext cx="4626000" cy="3468600"/>
          </a:xfrm>
          <a:prstGeom prst="rect">
            <a:avLst/>
          </a:prstGeom>
          <a:ln w="0">
            <a:noFill/>
          </a:ln>
        </p:spPr>
      </p:sp>
      <p:sp>
        <p:nvSpPr>
          <p:cNvPr id="10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17BCD-D465-4689-9EB4-DC3157DBC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B066E-4F31-406F-81CD-17E619FAE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D2EFC9-46C8-4A3D-B711-5D9C91E09F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9AD75E-DB7A-43A2-B9CE-E538B6194E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CEB159-9A31-4CD0-B761-CA1555AA54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76AB2F-66B2-454B-BE5F-ED2E113F17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EC50ED-44CB-4670-94D3-17811B2D91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66C073-3085-440D-A140-EA08F8B12A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76CF4B-8DDB-4B15-BBEE-A113C7B9AB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4F6EA4-DABE-49F2-951C-1345DE7C86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CA5E0C-366C-421F-9AD2-7063CDC45A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B2992E-24AC-40CE-8935-ECACA34C84B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0355C-44CF-4B5A-AE34-67D367CB6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377189-6ABF-4DB8-899C-FC359125C6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06FC85D-3E39-4A7D-9181-883D3E1F12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3AF4C2-5907-416A-9082-90B0D4B442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135333-B442-437A-A8EE-C7D6E26873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C70862-366E-4D5B-8018-2D4C7B817B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FD0BA2-22CD-4625-8EE9-CA7970AB18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E61591-7BD2-4752-B38D-E0D70E31A2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B109C9-C1D4-4675-AAA0-615E174179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19F8FE-325C-4D0E-AF8C-15F4DD317A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FE4B53-5186-48F5-9380-29BC2D76554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CA720-9293-4B65-87C3-BE003C8E7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F3355B5-783F-4020-BE4D-963B0A58AFE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64A9254-36C8-4E6A-A333-F9D7CF04B9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1B1D17-F75C-46CE-8B4F-C8F687895D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D80A14-4528-49C6-AD3A-C5B0087A18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1D7EE4-AAF8-4EDC-B85A-AE3C625F30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58402C-DDE1-43F1-9418-E8485C278F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6941E3-5938-478F-948B-95657D6021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7070D5-F464-4751-B234-C1B83B5EBC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10D0A9-7F7B-4551-BFE4-C0A3596806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A4D6D2-1E59-4BAF-85A6-4EB47A3B7B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5261E7-799D-4DE7-9BA8-016F10FDA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6B19F5-9E79-4C13-A321-0C3A7E2533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13F635-2D77-4720-86DA-37EE9380A2D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231C1F3-E486-4093-BD7B-3731408C8C7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E8E6DFD-775B-46C5-8E05-038914D6902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92549E5-FC0D-44BC-8293-80653EF20F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C44C3E-3CAE-4847-B638-AEADAFD1E4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AF6D5E-AAAB-4AC8-AD67-161D258EBC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5E07FD-5EAC-40C0-8C44-433F9015FA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BE1B7E-4583-4377-A2C4-0C778CF6A1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485EC1-5305-4ECC-B921-4429EE513A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0ADAC-F696-48F6-AD99-25F4D22C8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F7B262-DE08-4209-9B88-30883D3EAE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B350B6-1498-4FC6-B57E-9F668DCDC4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D1AF3C-24C5-4B2A-AF52-465C35299B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BFFF68E-06BD-4708-9DB4-B28B8F817FE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B74718E-0192-401C-B212-76C0D3439E7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3CACC-A76A-4A15-B63C-D10511F77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761C8-F48A-4C96-9441-37A7E1B10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B540A-C4BD-432B-984E-5CEF1A453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FDCEE-F6F0-4507-98E5-65091680C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41793-55F2-4AC6-A61F-D207090A2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2A00F-5254-4104-AB26-E8A7FE310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2BE9A-BA4B-4A2C-8A8D-BDB252CD5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D37C6-18E0-46DB-8F33-D9C4F9EAE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0AAAD-DC5C-4370-9D59-425853906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6D567F-DE29-49C8-868A-D3A32B111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E8A741-D0EA-4ADC-B004-146DE925D7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3B0BD9-38B9-4C66-9983-67E7527CC7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FB6A69-5C35-4745-9D87-85735A3363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2289B5-5CBD-4DD8-92CC-0B5EF3623C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E4CD3D-EDF3-4F6E-8375-ED80A3E36E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4F8389-E98E-4510-957A-A2FA61BBCE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F33D3-9931-4FF4-8401-DD704CB61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FCDA07-B886-46E9-80CF-96CE6CDEAF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1D6EE-19EA-4B97-B91D-E34DE16F6E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303B6D-4794-4205-9848-C279399B8D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9B7551-9546-471B-BC9A-0B001C9EC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6565B8-7A3F-4469-A098-94EA4DC2CE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5A8EA8-59A0-4297-BB0E-3D97410A7D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C255C3-EEDA-433C-B8E0-7BDC553BEA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1FDDCD-4E76-44CF-A762-21A9F6AB96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17EF11-B02C-4896-8824-62565BE05B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FE9CD9-835A-48F7-A48F-8D74A19120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35FDF-2D9D-49F0-B5A7-EBE0B37FD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177D2C-2A03-4BF8-9A14-78F2C64FAB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90B89D-73AA-450B-9377-C2B044C3EB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0DD0B0-DEB6-4177-909D-956162D5A3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7F7687-799E-4BE1-A5F8-1CF7C688BB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5E0CC2-BEFC-47BA-9468-AAE2CB6335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AC0304-696F-47B8-A40B-A276DE0242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CEE92F-2279-45F9-BDD0-30AF8697FB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7197D5-4224-49CB-9234-FB43B57388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0AB557-2533-4B43-9BCB-AC8856CF84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C98253-856E-4B6E-B95C-55BF746843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69AFE-B800-45BB-9A76-F06A7C06F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862A0E-4B38-4268-BCB6-60C0A189A2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4558D8-7F62-4862-BD09-7D34874A89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CC0E6A-A661-4BB7-B063-40F3794F83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9C2656-A0E1-4D7D-9BD2-C650F9ADC4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5473F9-2701-46EE-87DC-6BB37D219A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0661FD-119F-4146-A9E2-7CC5246D4F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D5C77A-801A-4771-A8B2-9BCB42F5D5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93D2C2-91C0-4D82-B5B0-A6E9A62290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920C9C-1B8A-4350-9B49-2B725CF66B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20AE50-2EEB-49A0-B7BA-713CA228B7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345C4-CE7A-47F7-B132-6E7BE4EE8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26ED22-C0F7-4F52-899B-9A806443AA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ACAD2A-9F1D-4903-8A06-44AC2C40F5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91E5DF-060A-4EEA-AAAC-B699FAA31F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1B8D9A-333B-4703-AA08-7E465BCE2C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3DA31D-F46E-4CB2-9479-6C6AD4E5D3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826E54-273D-4CFE-ACE2-DA38102343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A9E5B6-EE3A-4CC7-8388-094EBD7E2A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7F3E0B-B873-4693-B4B0-57D1094EFF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8DD928-3AF2-4617-9B65-78BAC47AE0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D9B219-1037-44DC-9478-4A1DEA7061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976B2-DF20-441A-B515-3EEEDF2AC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DF0317-B8EB-41B9-BBF0-1422505F04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3E93D6-A319-4507-9A96-46249779E4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2930B7-85F4-4E2C-8396-9336070860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9F430D-074E-45E9-9BE1-6024E7031E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2A13CD-36C9-44D2-8E50-5EA3640D2F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D38FD4-E601-47F9-8BE7-51068D95C8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42D149-B51C-429F-B89B-54B59171FC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A22312-643B-4593-96B5-B48617B890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2A4F97-58EA-40EB-8058-FEB87FF593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D6A338-3D18-44EC-BA26-922CCF4E18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E602A-E39C-4C94-B713-A44C7415C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30F2FF-8F45-48B9-A766-5512EBC323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B7EBFB-BCB9-49F4-A36B-0ACDCF2785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267DC2-CBBA-406F-9A82-9427C77D32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1849FB-4A1F-41E9-BA90-BF1E88F18F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47BE6C-6569-419C-82B4-1FBFD7ADF2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F93C15-FE9D-42B6-AFE0-2059FB90E7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FC7C65-4390-441E-8614-BB5376DCDC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AB2061-7ECA-455E-A89B-59F4D1DB1A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8F2D85-4DDD-40F0-83FE-25FE31B20C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757B76-9F81-417F-81F8-351EE31498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415F7-954A-4C5A-99DE-48AB1F468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F256AC-77E5-4F09-B691-5FCC31F7A9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E4CCCB-666E-4B31-89E5-782AECAFA5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624D46-A9E6-4971-B657-01B749BF49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A7004C-38F8-4534-AA4C-611D248AF8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39FDAD-A992-4EF9-8A43-C1A26A5040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FAB9DE-4879-459B-9132-71AE883DEA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A08CA0-B0FA-4909-ADA5-8C33103651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1F2C1E-CE3E-4750-9BE9-DAC9F574E3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21C837-EAB7-494E-89BE-2626AAFF67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93D9E3-9D2B-40D9-BD96-32C4F682873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B4A00CC-2FC3-4F0D-BDB1-7459C026AAC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96D3FB5-561A-467D-A06B-C3618592992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2F71334-CBD6-4535-9F76-3474114EAF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1883973-6392-4824-9CBB-357FA7D246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6F47B00-950F-46B3-B650-E63DE5DF82D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06B6AE5-EBDB-4466-BB2F-B4AC80F1752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E7B7BC8-A85E-456D-8A38-AA560F4148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1E34052-5E57-462B-B25D-B2F3A5CCDBE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A24E999-320C-4475-B358-79B5F4862D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A24D559-10B8-44B1-9719-93FE4C7D13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C524DF3-5C64-41AE-B81D-A7807C3D445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9</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8F2B27B-F42C-4612-B59E-76504E50C4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9/11-19-0397-00-00ay-task-group-ay-march-2019-closing-report.ppt" TargetMode="External"/><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9/11-19-0545-08-00ay-task-group-ay-march-april-and-may-2019-teleconference-call-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52B0E9-9269-4FCE-BC98-379AD0312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y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5-12</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1773DC-DACD-4720-AFD4-C30A1C205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960FB1-C2E8-4919-8D91-518C85437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5824C0-0CF1-4890-8985-412B6C57C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AE3CF8-B927-4149-8716-7221088F3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be cancelled)</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08AA04-DA6A-40CC-9D7B-12C156677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AB25BC-1CFB-41A3-8629-2BE35685F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since the March 2019 plenary</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extension request</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inder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9040" indent="-32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ED6ECC-264D-4A49-AB12-6696CEC26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extension request:  Introduc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recirculation WGLB #239</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of mandatory draft review (MDR) find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raft readiness for the second recirculation WGLB (D4.0)</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July 2019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469A7E-6703-4F65-A18B-E0CBA4D22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rch 2019 plenary</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 submissions are covered during the meeting covering areas related to comment resolution on recirculation working group letter ballot 239 (Draft 3.0)</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15 CIDs are resolved and approved.</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EB102E-D7EB-4434-9698-3372DACB1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Rectangle 2"/>
          <p:cNvSpPr/>
          <p:nvPr/>
        </p:nvSpPr>
        <p:spPr>
          <a:xfrm>
            <a:off x="685800" y="533520"/>
            <a:ext cx="78580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ess since the end of the March plenary</a:t>
            </a:r>
            <a:endParaRPr b="0" lang="en-US" sz="3200" spc="-1" strike="noStrike">
              <a:solidFill>
                <a:srgbClr val="000000"/>
              </a:solidFill>
              <a:latin typeface="Times New Roman"/>
            </a:endParaRPr>
          </a:p>
        </p:txBody>
      </p:sp>
      <p:sp>
        <p:nvSpPr>
          <p:cNvPr id="6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8 teleconference calls were held between March 20 and May 8 for comment resolution</a:t>
            </a: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95 comments are discussed</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95 comments are resolved and ready for motion</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2 bug fix contribution is reviewed and ready for motion</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23 editorial comments were proposed and resolved by the Edito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s of the end of May 8, there are (478-115-195-123=) 45 comments pending for resolution.</a:t>
            </a: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AA1FA7-B471-4750-9EEC-3729C2E2E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rch/April/May teleconference calls (1)</a:t>
            </a:r>
            <a:endParaRPr b="0" lang="en-US" sz="3200" spc="-1" strike="noStrike">
              <a:solidFill>
                <a:srgbClr val="000000"/>
              </a:solidFill>
              <a:latin typeface="Times New Roman"/>
            </a:endParaRPr>
          </a:p>
        </p:txBody>
      </p:sp>
      <p:sp>
        <p:nvSpPr>
          <p:cNvPr id="64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0" name=""/>
          <p:cNvGraphicFramePr/>
          <p:nvPr/>
        </p:nvGraphicFramePr>
        <p:xfrm>
          <a:off x="696960" y="1727280"/>
          <a:ext cx="7913520" cy="44449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3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protoco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3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LB239 CH acces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4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ID resolution - part X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7, 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77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32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to CID 426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7,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9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of multiple LB239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7, May 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5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D3.0 comment resolutions on hybrid beamforming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D3.0 CR on hybrid beamforming for CID 43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tlanta, Georgia, United States </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y 12 - 17,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07B32C-EEB0-4508-9A95-F98C32EBE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F471C6-4E24-4851-BED3-A4A35C579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rch/April/May teleconference calls (2)</a:t>
            </a:r>
            <a:endParaRPr b="0" lang="en-US" sz="3200" spc="-1" strike="noStrike">
              <a:solidFill>
                <a:srgbClr val="000000"/>
              </a:solidFill>
              <a:latin typeface="Times New Roman"/>
            </a:endParaRPr>
          </a:p>
        </p:txBody>
      </p:sp>
      <p:sp>
        <p:nvSpPr>
          <p:cNvPr id="65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5" name=""/>
          <p:cNvGraphicFramePr/>
          <p:nvPr/>
        </p:nvGraphicFramePr>
        <p:xfrm>
          <a:off x="696960" y="1727280"/>
          <a:ext cx="7913520" cy="4216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4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LB239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7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Times New Roman"/>
                          <a:ea typeface="MS PGothic"/>
                        </a:rPr>
                        <a:t>LB239 CIDs 4058, 4073, 4106, 4107, 4108, 4420, 4421, 4422, 442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2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Resolution of SAR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 April 1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8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Resolution to CID 443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2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LB239 HBF sounding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2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Changes to dual polarization TRN training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48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of TDD BF and TDD sector switch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7, April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8454DA-58B2-45DA-A97C-9B1BE6A8D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rch/April/May teleconference calls (3)</a:t>
            </a:r>
            <a:endParaRPr b="0" lang="en-US" sz="3200" spc="-1" strike="noStrike">
              <a:solidFill>
                <a:srgbClr val="000000"/>
              </a:solidFill>
              <a:latin typeface="Times New Roman"/>
            </a:endParaRPr>
          </a:p>
        </p:txBody>
      </p:sp>
      <p:sp>
        <p:nvSpPr>
          <p:cNvPr id="65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0" name=""/>
          <p:cNvGraphicFramePr/>
          <p:nvPr/>
        </p:nvGraphicFramePr>
        <p:xfrm>
          <a:off x="696960" y="1727280"/>
          <a:ext cx="7913520" cy="4216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5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omment resolution on MIMO BF (Part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orge Calc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Proposed comment resolutions 4173,417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TDD slot timing CID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of LB239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s to CIDs related to channel acce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ID resolution - Part XI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Bug fixes to asymmetric beamforming train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38321A-779E-42B3-B147-1BF7F443D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6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May 14, 2019)</a:t>
            </a:r>
            <a:endParaRPr b="0" lang="en-US" sz="1800" spc="-1" strike="noStrike">
              <a:solidFill>
                <a:srgbClr val="000000"/>
              </a:solidFill>
              <a:latin typeface="Times New Roman"/>
            </a:endParaRPr>
          </a:p>
        </p:txBody>
      </p:sp>
      <p:graphicFrame>
        <p:nvGraphicFramePr>
          <p:cNvPr id="665" name=""/>
          <p:cNvGraphicFramePr/>
          <p:nvPr/>
        </p:nvGraphicFramePr>
        <p:xfrm>
          <a:off x="685800" y="1676520"/>
          <a:ext cx="7772400" cy="449568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0297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EB7CA5-E87D-4466-97CA-A9D26F0CB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9 meeting minutes</a:t>
            </a:r>
            <a:endParaRPr b="0" lang="en-US" sz="3200" spc="-1" strike="noStrike">
              <a:solidFill>
                <a:srgbClr val="000000"/>
              </a:solidFill>
              <a:latin typeface="Times New Roman"/>
            </a:endParaRPr>
          </a:p>
        </p:txBody>
      </p:sp>
      <p:sp>
        <p:nvSpPr>
          <p:cNvPr id="66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March 2019 plenary:</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397-00-00ay-task-group-ay-march-2019-closing-report.pp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ent.</a:t>
            </a:r>
            <a:endParaRPr b="0" lang="en-US" sz="2000" spc="-1" strike="noStrike">
              <a:solidFill>
                <a:srgbClr val="000000"/>
              </a:solidFill>
              <a:latin typeface="Times New Roman"/>
            </a:endParaRPr>
          </a:p>
        </p:txBody>
      </p:sp>
      <p:sp>
        <p:nvSpPr>
          <p:cNvPr id="66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A7D096-7241-4556-B2F4-5ECC24256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8: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April/May teleconference call minutes</a:t>
            </a:r>
            <a:endParaRPr b="0" lang="en-US" sz="3200" spc="-1" strike="noStrike">
              <a:solidFill>
                <a:srgbClr val="000000"/>
              </a:solidFill>
              <a:latin typeface="Times New Roman"/>
            </a:endParaRPr>
          </a:p>
        </p:txBody>
      </p:sp>
      <p:sp>
        <p:nvSpPr>
          <p:cNvPr id="67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March 20, March 27, April 3, April 10, April 17, April 24, May 1, and May 8, 201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545-08-00ay-task-group-ay-march-april-and-may-2019-tele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67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29C9E1-82D7-4409-B0E6-AF29C6E7F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7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0"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6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7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lya Bolot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MU BA and R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3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 4474, 4475, 447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4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acces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F333A5-8383-42BB-802D-3C1025452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8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5"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4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esolution of CID 4284, 436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PHY measurement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4448, 447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63A88E-443E-47EE-B356-D92F8D989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8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0"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wed frames and transmit order for different TDD slot categori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 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71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EC6788-2773-40FD-AD5E-DB014A9F3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9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5"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7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33, 4306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9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 416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4224, 440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8BD4F3-E1E8-4839-9041-A8FCAEEBC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9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0"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6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time synchronization clarifica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71r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90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6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DMG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A40CAF-A520-4BF3-AF77-B0FCD550B9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y 2019 interim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234587-6898-4B3B-8224-EDB5EB2EF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70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5"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6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time synchronization clarifica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5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4448, 447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DMG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B03CD4-79AD-4194-8F0C-CCC9262AE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7)</a:t>
            </a:r>
            <a:endParaRPr b="0" lang="en-US" sz="3200" spc="-1" strike="noStrike">
              <a:solidFill>
                <a:srgbClr val="000000"/>
              </a:solidFill>
              <a:latin typeface="Times New Roman"/>
            </a:endParaRPr>
          </a:p>
        </p:txBody>
      </p:sp>
      <p:sp>
        <p:nvSpPr>
          <p:cNvPr id="70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0"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X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15B19A-63CF-4B7A-9F53-1E655C435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2" name="PlaceHolder 1"/>
          <p:cNvSpPr>
            <a:spLocks noGrp="1"/>
          </p:cNvSpPr>
          <p:nvPr>
            <p:ph/>
          </p:nvPr>
        </p:nvSpPr>
        <p:spPr>
          <a:xfrm>
            <a:off x="685440" y="1218960"/>
            <a:ext cx="4343400" cy="507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AM2,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since the March 2019 plenary</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 extension request:  Introduc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PM2, 4:00pm – 6:00pm </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714" name="Rectangle 3"/>
          <p:cNvSpPr/>
          <p:nvPr/>
        </p:nvSpPr>
        <p:spPr>
          <a:xfrm>
            <a:off x="4876920" y="1219320"/>
            <a:ext cx="41148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mandatory draft review findings</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2, 10:30am – 12: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 extension request:  Mo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July 2019 plenary</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A7C0AF-C0F4-4965-9C1F-87500BBDD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71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21"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1:  Draft 3.0 Letter Ballot recirculation </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2:  Complete Mandatory Draft Review</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3:  Form Sponsor Ballot Pool </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5:  Draft 4.0 Letter Ballot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Seek EC approval for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Draft 4.0 unchanged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8:  Initial Sponsor Ballot (Draft 5.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Recirculation Sponsor Ballot (Draft 6.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1:  Second Recirculation Sponsor Ballot (Draft. 7.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2:  Third Recirculation Sponsor Ballot (Draft 7.0 unchanged)</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802.11 WG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EC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 May:  RevCom &amp; Standards Board Final</a:t>
            </a:r>
            <a:endParaRPr b="0" lang="en-US" sz="1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F6E9B4-90B5-449E-A453-838C19D6C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 extension request:  Introduction</a:t>
            </a:r>
            <a:endParaRPr b="0" lang="en-US" sz="3200" spc="-1" strike="noStrike">
              <a:solidFill>
                <a:srgbClr val="000000"/>
              </a:solidFill>
              <a:latin typeface="Times New Roman"/>
            </a:endParaRPr>
          </a:p>
        </p:txBody>
      </p:sp>
      <p:sp>
        <p:nvSpPr>
          <p:cNvPr id="72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2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0673r0</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5FA8B7-281F-4F7C-819A-FF0056B07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2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5E9CBF-D302-4605-978C-E711B51BE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73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A61BE9-32FB-40FA-9619-903BC149F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9:  Comment Resolutio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ed motion #582)</a:t>
            </a:r>
            <a:endParaRPr b="0" lang="en-US" sz="3200" spc="-1" strike="noStrike">
              <a:solidFill>
                <a:srgbClr val="000000"/>
              </a:solidFill>
              <a:latin typeface="Times New Roman"/>
            </a:endParaRPr>
          </a:p>
        </p:txBody>
      </p:sp>
      <p:sp>
        <p:nvSpPr>
          <p:cNvPr id="73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98, 4128, 4249, 4122, 4123, 4240, 4335, 4242, </a:t>
            </a:r>
            <a:r>
              <a:rPr b="0" lang="en-US" sz="1600" spc="-1" strike="noStrike">
                <a:solidFill>
                  <a:srgbClr val="ff0000"/>
                </a:solidFill>
                <a:latin typeface="Times New Roman"/>
              </a:rPr>
              <a:t>4244, 4246</a:t>
            </a:r>
            <a:r>
              <a:rPr b="0" lang="en-US" sz="1600" spc="-1" strike="noStrike">
                <a:solidFill>
                  <a:srgbClr val="000000"/>
                </a:solidFill>
                <a:latin typeface="Times New Roman"/>
              </a:rPr>
              <a:t>, 4127, 4334, </a:t>
            </a:r>
            <a:r>
              <a:rPr b="0" lang="en-US" sz="1600" spc="-1" strike="noStrike">
                <a:solidFill>
                  <a:srgbClr val="000000"/>
                </a:solidFill>
                <a:latin typeface="Times New Roman"/>
              </a:rPr>
              <a:t>	</a:t>
            </a:r>
            <a:r>
              <a:rPr b="0" lang="en-US" sz="1600" spc="-1" strike="noStrike">
                <a:solidFill>
                  <a:srgbClr val="000000"/>
                </a:solidFill>
                <a:latin typeface="Times New Roman"/>
              </a:rPr>
              <a:t>and 4336 as proposed in 19/0333r4;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50 as proposed in 19/0362r2.</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4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26440B-635E-4DC8-AD37-5A158C145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0:  Comment Resolution</a:t>
            </a:r>
            <a:endParaRPr b="0" lang="en-US" sz="3200" spc="-1" strike="noStrike">
              <a:solidFill>
                <a:srgbClr val="000000"/>
              </a:solidFill>
              <a:latin typeface="Times New Roman"/>
            </a:endParaRPr>
          </a:p>
        </p:txBody>
      </p:sp>
      <p:sp>
        <p:nvSpPr>
          <p:cNvPr id="74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116, 4168, 4175, and 4333 as proposed in 19/0535r2; </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326, 4144, and 4195 as proposed in 19/0536r0;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131, 4132, 4133, 4135, 4136, 4137, 4138, 4139, and 4140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620r1.</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4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73358C-C331-4ECF-B2EB-1B801E137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1:  Comment Resolution</a:t>
            </a:r>
            <a:endParaRPr b="0" lang="en-US" sz="3200" spc="-1" strike="noStrike">
              <a:solidFill>
                <a:srgbClr val="000000"/>
              </a:solidFill>
              <a:latin typeface="Times New Roman"/>
            </a:endParaRPr>
          </a:p>
        </p:txBody>
      </p:sp>
      <p:sp>
        <p:nvSpPr>
          <p:cNvPr id="74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83, 4084, 4085, 4086, 4198, 4149, 4152, 4064, 4076, 4077, 4171, 4154, </a:t>
            </a:r>
            <a:r>
              <a:rPr b="0" lang="en-US" sz="1600" spc="-1" strike="noStrike">
                <a:solidFill>
                  <a:srgbClr val="000000"/>
                </a:solidFill>
                <a:latin typeface="Times New Roman"/>
              </a:rPr>
              <a:t>	</a:t>
            </a:r>
            <a:r>
              <a:rPr b="0" lang="en-US" sz="1600" spc="-1" strike="noStrike">
                <a:solidFill>
                  <a:srgbClr val="000000"/>
                </a:solidFill>
                <a:latin typeface="Times New Roman"/>
              </a:rPr>
              <a:t>and 4159 as proposed in 19/0546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466 as proposed in 19/0667r1.</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Ilya Bolot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5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33D0629-7009-4269-AC14-7772FD3135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2ABE05-B40D-455A-8B12-5BEA48B30B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2:  Comment Resolution</a:t>
            </a:r>
            <a:endParaRPr b="0" lang="en-US" sz="3200" spc="-1" strike="noStrike">
              <a:solidFill>
                <a:srgbClr val="000000"/>
              </a:solidFill>
              <a:latin typeface="Times New Roman"/>
            </a:endParaRPr>
          </a:p>
        </p:txBody>
      </p:sp>
      <p:sp>
        <p:nvSpPr>
          <p:cNvPr id="75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15, 4230, 4257, 4280, 4291, 4295, 4234, 4346, 4348, 4350, 4372, 4428, </a:t>
            </a:r>
            <a:r>
              <a:rPr b="0" lang="en-US" sz="1600" spc="-1" strike="noStrike">
                <a:solidFill>
                  <a:srgbClr val="000000"/>
                </a:solidFill>
                <a:latin typeface="Times New Roman"/>
              </a:rPr>
              <a:t>	</a:t>
            </a:r>
            <a:r>
              <a:rPr b="0" lang="en-US" sz="1600" spc="-1" strike="noStrike">
                <a:solidFill>
                  <a:srgbClr val="000000"/>
                </a:solidFill>
                <a:latin typeface="Times New Roman"/>
              </a:rPr>
              <a:t>4435, 4436, 4439, 4443, 4444, 4445, 4446, 4447, 4452, 4453, 4454, 4455, and </a:t>
            </a:r>
            <a:r>
              <a:rPr b="0" lang="en-US" sz="1600" spc="-1" strike="noStrike">
                <a:solidFill>
                  <a:srgbClr val="000000"/>
                </a:solidFill>
                <a:latin typeface="Times New Roman"/>
              </a:rPr>
              <a:t>	</a:t>
            </a:r>
            <a:r>
              <a:rPr b="0" lang="en-US" sz="1600" spc="-1" strike="noStrike">
                <a:solidFill>
                  <a:srgbClr val="000000"/>
                </a:solidFill>
                <a:latin typeface="Times New Roman"/>
              </a:rPr>
              <a:t>4463 as proposed in 19/0490r2;  </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58, 4073, 4106, 4107, 4108, 4420, 4421, 4422, and 4423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578r0;</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55, 4059, 4072, 4145, 4264, 4265, 4274, 4300, 4347, 4349, 4353, 4354, </a:t>
            </a:r>
            <a:r>
              <a:rPr b="0" lang="en-US" sz="1600" spc="-1" strike="noStrike">
                <a:solidFill>
                  <a:srgbClr val="000000"/>
                </a:solidFill>
                <a:latin typeface="Times New Roman"/>
              </a:rPr>
              <a:t>	</a:t>
            </a:r>
            <a:r>
              <a:rPr b="0" lang="en-US" sz="1600" spc="-1" strike="noStrike">
                <a:solidFill>
                  <a:srgbClr val="000000"/>
                </a:solidFill>
                <a:latin typeface="Times New Roman"/>
              </a:rPr>
              <a:t>4355, 4356, 4364, 4371, 4385, 4391, 4393, 4394, and 4429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281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70, 4223, 4419, 4424, 4425, 4426, and 4030 as proposed in 19/0665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George Calcev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5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F214B5-BD17-4726-B2A2-26284036B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3:  Comment Resolution</a:t>
            </a:r>
            <a:endParaRPr b="0" lang="en-US" sz="3200" spc="-1" strike="noStrike">
              <a:solidFill>
                <a:srgbClr val="000000"/>
              </a:solidFill>
              <a:latin typeface="Times New Roman"/>
            </a:endParaRPr>
          </a:p>
        </p:txBody>
      </p:sp>
      <p:sp>
        <p:nvSpPr>
          <p:cNvPr id="75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62, 4134, 4231, 4315, 4329, and 4344 as proposed in 19/0554r0;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310 as proposed in 19/0555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i-Hsiang Su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6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F5D03D-82C1-4F8C-B3C6-539A931FA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4:  Comment Resolution</a:t>
            </a:r>
            <a:endParaRPr b="0" lang="en-US" sz="3200" spc="-1" strike="noStrike">
              <a:solidFill>
                <a:srgbClr val="000000"/>
              </a:solidFill>
              <a:latin typeface="Times New Roman"/>
            </a:endParaRPr>
          </a:p>
        </p:txBody>
      </p:sp>
      <p:sp>
        <p:nvSpPr>
          <p:cNvPr id="76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142, 4143, and 4469 as proposed in 19/0547r2.</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Ilya Bolot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6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C1239B-98B7-469F-98D3-C03A5D5FE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5:  Comment Resolution</a:t>
            </a:r>
            <a:endParaRPr b="0" lang="en-US" sz="3200" spc="-1" strike="noStrike">
              <a:solidFill>
                <a:srgbClr val="000000"/>
              </a:solidFill>
              <a:latin typeface="Times New Roman"/>
            </a:endParaRPr>
          </a:p>
        </p:txBody>
      </p:sp>
      <p:sp>
        <p:nvSpPr>
          <p:cNvPr id="76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21, 4216, 4292, 4285, 4293, 4451, 4411, 4450, and 4449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621r3.</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51, 4282, 4456, 4457, 4030, 4031, 4032, 4048, 4050, 4052, 4027, 4028, </a:t>
            </a:r>
            <a:r>
              <a:rPr b="0" lang="en-US" sz="1600" spc="-1" strike="noStrike">
                <a:solidFill>
                  <a:srgbClr val="000000"/>
                </a:solidFill>
                <a:latin typeface="Times New Roman"/>
              </a:rPr>
              <a:t>	</a:t>
            </a:r>
            <a:r>
              <a:rPr b="0" lang="en-US" sz="1600" spc="-1" strike="noStrike">
                <a:solidFill>
                  <a:srgbClr val="000000"/>
                </a:solidFill>
                <a:latin typeface="Times New Roman"/>
              </a:rPr>
              <a:t>4029, 4049, 4051, 4053, 4047, 4413, 4111, 4112, 4118, 4272, 4275, 4298, 4299, </a:t>
            </a:r>
            <a:r>
              <a:rPr b="0" lang="en-US" sz="1600" spc="-1" strike="noStrike">
                <a:solidFill>
                  <a:srgbClr val="000000"/>
                </a:solidFill>
                <a:latin typeface="Times New Roman"/>
              </a:rPr>
              <a:t>	</a:t>
            </a:r>
            <a:r>
              <a:rPr b="0" lang="en-US" sz="1600" spc="-1" strike="noStrike">
                <a:solidFill>
                  <a:srgbClr val="000000"/>
                </a:solidFill>
                <a:latin typeface="Times New Roman"/>
              </a:rPr>
              <a:t>4301, 4302, 4308, 4271, 4117, 4254, 4255, 4273, 4269, 4277, 4270, 4278, 4252, </a:t>
            </a:r>
            <a:r>
              <a:rPr b="0" lang="en-US" sz="1600" spc="-1" strike="noStrike">
                <a:solidFill>
                  <a:srgbClr val="000000"/>
                </a:solidFill>
                <a:latin typeface="Times New Roman"/>
              </a:rPr>
              <a:t>	</a:t>
            </a:r>
            <a:r>
              <a:rPr b="0" lang="en-US" sz="1600" spc="-1" strike="noStrike">
                <a:solidFill>
                  <a:srgbClr val="000000"/>
                </a:solidFill>
                <a:latin typeface="Times New Roman"/>
              </a:rPr>
              <a:t>4253, 4368, 4374, 4297, 4373, 4395, 4401, 4009, 4369, 4370, 4017, 4018, 4019, </a:t>
            </a:r>
            <a:r>
              <a:rPr b="0" lang="en-US" sz="1600" spc="-1" strike="noStrike">
                <a:solidFill>
                  <a:srgbClr val="000000"/>
                </a:solidFill>
                <a:latin typeface="Times New Roman"/>
              </a:rPr>
              <a:t>	</a:t>
            </a:r>
            <a:r>
              <a:rPr b="0" lang="en-US" sz="1600" spc="-1" strike="noStrike">
                <a:solidFill>
                  <a:srgbClr val="000000"/>
                </a:solidFill>
                <a:latin typeface="Times New Roman"/>
              </a:rPr>
              <a:t>4020, 4022, 4008, 4289, and 4290 as proposed in 19/0648r4.</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7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081594-7F2F-44F5-BA36-85B4E530B9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6:  Comment Resolution</a:t>
            </a:r>
            <a:endParaRPr b="0" lang="en-US" sz="3200" spc="-1" strike="noStrike">
              <a:solidFill>
                <a:srgbClr val="000000"/>
              </a:solidFill>
              <a:latin typeface="Times New Roman"/>
            </a:endParaRPr>
          </a:p>
        </p:txBody>
      </p:sp>
      <p:sp>
        <p:nvSpPr>
          <p:cNvPr id="77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67 as proposed in 19/0532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433 as proposed in 19/0587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7 Yes; 0 No; 0 Abstain).</a:t>
            </a:r>
            <a:endParaRPr b="0" lang="en-US" sz="2000" spc="-1" strike="noStrike">
              <a:solidFill>
                <a:srgbClr val="000000"/>
              </a:solidFill>
              <a:latin typeface="Times New Roman"/>
            </a:endParaRPr>
          </a:p>
        </p:txBody>
      </p:sp>
      <p:sp>
        <p:nvSpPr>
          <p:cNvPr id="7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F07BF8-1CB3-491D-BF20-5BD9C0D99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7:  Comment Resolution</a:t>
            </a:r>
            <a:endParaRPr b="0" lang="en-US" sz="3200" spc="-1" strike="noStrike">
              <a:solidFill>
                <a:srgbClr val="000000"/>
              </a:solidFill>
              <a:latin typeface="Times New Roman"/>
            </a:endParaRPr>
          </a:p>
        </p:txBody>
      </p:sp>
      <p:sp>
        <p:nvSpPr>
          <p:cNvPr id="77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reject CID 4067 with a resolution of “The commenter has indicated to the Chair and Editor that he wishes to withdraw the com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7 Yes; 0 No; 0 Abstain).</a:t>
            </a:r>
            <a:endParaRPr b="0" lang="en-US" sz="2000" spc="-1" strike="noStrike">
              <a:solidFill>
                <a:srgbClr val="000000"/>
              </a:solidFill>
              <a:latin typeface="Times New Roman"/>
            </a:endParaRPr>
          </a:p>
        </p:txBody>
      </p:sp>
      <p:sp>
        <p:nvSpPr>
          <p:cNvPr id="78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43338A-95E2-4388-B3E3-B66C80375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8:  Comment Resolution</a:t>
            </a:r>
            <a:endParaRPr b="0" lang="en-US" sz="3200" spc="-1" strike="noStrike">
              <a:solidFill>
                <a:srgbClr val="000000"/>
              </a:solidFill>
              <a:latin typeface="Times New Roman"/>
            </a:endParaRPr>
          </a:p>
        </p:txBody>
      </p:sp>
      <p:sp>
        <p:nvSpPr>
          <p:cNvPr id="78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he proposed resolution for 123 editorial comments assigned to Carlos Cordeiro in 19/0297r6 and incorporate the indicated changes into the Draft 3.0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8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33CC12-499C-4E60-8620-C539EA3B1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9:  Comment Resolution</a:t>
            </a:r>
            <a:endParaRPr b="0" lang="en-US" sz="3200" spc="-1" strike="noStrike">
              <a:solidFill>
                <a:srgbClr val="000000"/>
              </a:solidFill>
              <a:latin typeface="Times New Roman"/>
            </a:endParaRPr>
          </a:p>
        </p:txBody>
      </p:sp>
      <p:sp>
        <p:nvSpPr>
          <p:cNvPr id="78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124, 4243, 4125, 4248, 4129, 4337, 4130, and 4126 as proposed in 19/0658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Yan X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9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2424B7-EB8D-44BE-BFE3-635412310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0:  Comment Resolution</a:t>
            </a:r>
            <a:endParaRPr b="0" lang="en-US" sz="3200" spc="-1" strike="noStrike">
              <a:solidFill>
                <a:srgbClr val="000000"/>
              </a:solidFill>
              <a:latin typeface="Times New Roman"/>
            </a:endParaRPr>
          </a:p>
        </p:txBody>
      </p:sp>
      <p:sp>
        <p:nvSpPr>
          <p:cNvPr id="79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173 and 4174 as proposed in 19/0655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79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C61423-11A4-448D-8B50-B0DB2157B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1:  Comment Resolution</a:t>
            </a:r>
            <a:endParaRPr b="0" lang="en-US" sz="3200" spc="-1" strike="noStrike">
              <a:solidFill>
                <a:srgbClr val="000000"/>
              </a:solidFill>
              <a:latin typeface="Times New Roman"/>
            </a:endParaRPr>
          </a:p>
        </p:txBody>
      </p:sp>
      <p:sp>
        <p:nvSpPr>
          <p:cNvPr id="79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014, 4024, 4025, 4069, 4063, 4068, 4229, 4303, 4386, 4390, 4418, 4459, 4471, 4472, and 4473 as proposed in 19/0664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8 Yes; 0 No; 0 Abstain).</a:t>
            </a:r>
            <a:endParaRPr b="0" lang="en-US" sz="2000" spc="-1" strike="noStrike">
              <a:solidFill>
                <a:srgbClr val="000000"/>
              </a:solidFill>
              <a:latin typeface="Times New Roman"/>
            </a:endParaRPr>
          </a:p>
        </p:txBody>
      </p:sp>
      <p:sp>
        <p:nvSpPr>
          <p:cNvPr id="80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C52C7C3-AAF6-47A8-AB03-8F37D52520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E3BA95-E7F7-46D9-BB0F-8D972AA09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0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806"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6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7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lya Bolot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MU BA and R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3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 4474, 4475, 447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4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acces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DE8E98-CFAA-44D5-9964-E63B6C57C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1A9091-C843-4A21-BC92-B629770C1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1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09F401-73E6-42B5-AEB3-F07F15BBD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1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820"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4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esolution of CID 4284, 436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PHY measurement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4448, 447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11652C-BA86-4FCC-989D-86399EBB4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2BC65D-2B6B-41B3-8BD2-93FB11998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2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9C5436-0799-4B97-849A-7C36D5AC4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3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834"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wed frames and transmit order for different TDD slot categori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 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71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69082F-6E91-4E09-92F0-1E0B0AD5C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7"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B8FD4F-91EA-4700-894A-DB5E06E58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4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of mandatory draft review (MDR) find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4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E42A47-EDFC-4FF9-B92B-5A9D1C990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4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848"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7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33, 4306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9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 416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4224, 440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E6FCF7-6946-4466-A698-CFEAD5FBF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BC7732-2E30-44F7-901B-07DF26855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of Mandatory Draft Review findings</a:t>
            </a:r>
            <a:endParaRPr b="0" lang="en-US" sz="3200" spc="-1" strike="noStrike">
              <a:solidFill>
                <a:srgbClr val="000000"/>
              </a:solidFill>
              <a:latin typeface="Times New Roman"/>
            </a:endParaRPr>
          </a:p>
        </p:txBody>
      </p:sp>
      <p:sp>
        <p:nvSpPr>
          <p:cNvPr id="85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853"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0681r4</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7C2B85-D616-4A65-815F-621CEAFBB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5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9F9936-41FB-4CE9-A3CC-E92110F28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6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FF44B0-64BF-4426-95D5-0077E45D9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6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867"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6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time synchronization clarifica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71r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90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6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DMG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FAD6D0-0F34-41D7-8D28-40C041D02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E380C3-333C-4EC1-9182-AF88C8F9E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7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extension request:  Motion</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raft readiness for the second recirculation WGLB (D4.0)</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July 2019 plenary</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FE56E4-535C-4197-A90B-5D9F84F989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7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5EC072-B304-4765-A524-971CE4599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2:  Comment Resolution</a:t>
            </a:r>
            <a:endParaRPr b="0" lang="en-US" sz="3200" spc="-1" strike="noStrike">
              <a:solidFill>
                <a:srgbClr val="000000"/>
              </a:solidFill>
              <a:latin typeface="Times New Roman"/>
            </a:endParaRPr>
          </a:p>
        </p:txBody>
      </p:sp>
      <p:sp>
        <p:nvSpPr>
          <p:cNvPr id="88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324 as proposed in 19/0490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430 as proposed in 19/0665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8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E97506-2EC1-4E25-BEC8-DB4CA25F4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3:  Comment Resolution</a:t>
            </a:r>
            <a:endParaRPr b="0" lang="en-US" sz="3200" spc="-1" strike="noStrike">
              <a:solidFill>
                <a:srgbClr val="000000"/>
              </a:solidFill>
              <a:latin typeface="Times New Roman"/>
            </a:endParaRPr>
          </a:p>
        </p:txBody>
      </p:sp>
      <p:sp>
        <p:nvSpPr>
          <p:cNvPr id="88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387, 4388, 4389, 4437, 4438, 4440, 4441, and 4442 as proposed in 19/0647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Ilya Bolot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8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E0B9A1-4A95-4247-B573-616E4ABB3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4:  Comment Resolution</a:t>
            </a:r>
            <a:endParaRPr b="0" lang="en-US" sz="3200" spc="-1" strike="noStrike">
              <a:solidFill>
                <a:srgbClr val="000000"/>
              </a:solidFill>
              <a:latin typeface="Times New Roman"/>
            </a:endParaRPr>
          </a:p>
        </p:txBody>
      </p:sp>
      <p:sp>
        <p:nvSpPr>
          <p:cNvPr id="89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4256 as proposed in 19/0730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ony H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9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653F53-8372-4B6E-9943-C48695FDE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1778FF-1F38-497A-9D72-36DD5EEDE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5:  Comment Resolution</a:t>
            </a:r>
            <a:endParaRPr b="0" lang="en-US" sz="3200" spc="-1" strike="noStrike">
              <a:solidFill>
                <a:srgbClr val="000000"/>
              </a:solidFill>
              <a:latin typeface="Times New Roman"/>
            </a:endParaRPr>
          </a:p>
        </p:txBody>
      </p:sp>
      <p:sp>
        <p:nvSpPr>
          <p:cNvPr id="89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474, 4475, and 4476 as proposed in 19/0690r0;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84 and 4365 as proposed in 19/0746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9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C8B79F-DACB-465F-83AA-5C9028BBB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6:  Comment Resolution</a:t>
            </a:r>
            <a:endParaRPr b="0" lang="en-US" sz="3200" spc="-1" strike="noStrike">
              <a:solidFill>
                <a:srgbClr val="000000"/>
              </a:solidFill>
              <a:latin typeface="Times New Roman"/>
            </a:endParaRPr>
          </a:p>
        </p:txBody>
      </p:sp>
      <p:sp>
        <p:nvSpPr>
          <p:cNvPr id="90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71, 4146, 4403, 4404, 4266, and 4400 as proposed in 19/0647r0;  </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309 and 4416 as proposed in 19/0321r1; </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166 as proposed in 19/0896r1;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62 as proposed in 19/0906r1.</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0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854F12-464B-416D-A31A-CB69D5E2E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7:  Comment Resolution</a:t>
            </a:r>
            <a:endParaRPr b="0" lang="en-US" sz="3200" spc="-1" strike="noStrike">
              <a:solidFill>
                <a:srgbClr val="000000"/>
              </a:solidFill>
              <a:latin typeface="Times New Roman"/>
            </a:endParaRPr>
          </a:p>
        </p:txBody>
      </p:sp>
      <p:sp>
        <p:nvSpPr>
          <p:cNvPr id="90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148, 4150, and 4151 as proposed in 19/0438r2;  </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ris Hans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0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9749B0-2F9C-4E7B-BFE9-23CDE619A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8:  Comment Resolution</a:t>
            </a:r>
            <a:endParaRPr b="0" lang="en-US" sz="3200" spc="-1" strike="noStrike">
              <a:solidFill>
                <a:srgbClr val="000000"/>
              </a:solidFill>
              <a:latin typeface="Times New Roman"/>
            </a:endParaRPr>
          </a:p>
        </p:txBody>
      </p:sp>
      <p:sp>
        <p:nvSpPr>
          <p:cNvPr id="91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392, 4406, 4407, 4408, and 4410 as proposed in 19/0668r1;  </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Payam Torab</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1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B3F8FF-FB98-4880-B9B3-E72278E7F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9:  Comment Resolution</a:t>
            </a:r>
            <a:endParaRPr b="0" lang="en-US" sz="3200" spc="-1" strike="noStrike">
              <a:solidFill>
                <a:srgbClr val="000000"/>
              </a:solidFill>
              <a:latin typeface="Times New Roman"/>
            </a:endParaRPr>
          </a:p>
        </p:txBody>
      </p:sp>
      <p:sp>
        <p:nvSpPr>
          <p:cNvPr id="91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20 and 4225 as proposed in 19/0471r6;</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28 as proposed in 19/759r2.  </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GB" sz="2000" spc="-1" strike="noStrike">
                <a:solidFill>
                  <a:srgbClr val="000000"/>
                </a:solidFill>
                <a:latin typeface="Times New Roman"/>
                <a:ea typeface="Microsoft YaHei"/>
              </a:rPr>
              <a:t>Kazuyuki Sakod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1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F79D22-107B-4190-AB1C-8FD72882D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10:  Comment Resolution</a:t>
            </a:r>
            <a:endParaRPr b="0" lang="en-US" sz="3200" spc="-1" strike="noStrike">
              <a:solidFill>
                <a:srgbClr val="000000"/>
              </a:solidFill>
              <a:latin typeface="Times New Roman"/>
            </a:endParaRPr>
          </a:p>
        </p:txBody>
      </p:sp>
      <p:sp>
        <p:nvSpPr>
          <p:cNvPr id="92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233 and 4306 as proposed in 19/0879r1. </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GB" sz="2000" spc="-1" strike="noStrike">
                <a:solidFill>
                  <a:srgbClr val="000000"/>
                </a:solidFill>
                <a:latin typeface="Times New Roman"/>
                <a:ea typeface="Microsoft YaHei"/>
              </a:rPr>
              <a:t>Mohamed Abouelseou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2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F6CC7A-3764-4EB3-BC25-201A5D895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11:  Comment Resolution</a:t>
            </a:r>
            <a:endParaRPr b="0" lang="en-US" sz="3200" spc="-1" strike="noStrike">
              <a:solidFill>
                <a:srgbClr val="000000"/>
              </a:solidFill>
              <a:latin typeface="Times New Roman"/>
            </a:endParaRPr>
          </a:p>
        </p:txBody>
      </p:sp>
      <p:sp>
        <p:nvSpPr>
          <p:cNvPr id="92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224 and 4405 as proposed in 19/0297r7. </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GB" sz="2000" spc="-1" strike="noStrike">
                <a:solidFill>
                  <a:srgbClr val="000000"/>
                </a:solidFill>
                <a:latin typeface="Times New Roman"/>
                <a:ea typeface="Microsoft YaHei"/>
              </a:rPr>
              <a:t>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2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53A041-B8F8-42CE-B367-9613B5BCD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Bug fixes</a:t>
            </a:r>
            <a:endParaRPr b="0" lang="en-US" sz="3200" spc="-1" strike="noStrike">
              <a:solidFill>
                <a:srgbClr val="000000"/>
              </a:solidFill>
              <a:latin typeface="Times New Roman"/>
            </a:endParaRPr>
          </a:p>
        </p:txBody>
      </p:sp>
      <p:sp>
        <p:nvSpPr>
          <p:cNvPr id="93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orporate the text change suggested in 19/0629r0 into the Draft 3.1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3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3CA188-03DC-479B-BC98-3CC0C89CF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Bug fixes</a:t>
            </a:r>
            <a:endParaRPr b="0" lang="en-US" sz="3200" spc="-1" strike="noStrike">
              <a:solidFill>
                <a:srgbClr val="000000"/>
              </a:solidFill>
              <a:latin typeface="Times New Roman"/>
            </a:endParaRPr>
          </a:p>
        </p:txBody>
      </p:sp>
      <p:sp>
        <p:nvSpPr>
          <p:cNvPr id="93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orporate the text change suggested in 19/0695r0 into the Draft 3.1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homas Handt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93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E79FFF-53CF-4898-A304-883412C03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Mandatory Draft Review</a:t>
            </a:r>
            <a:endParaRPr b="0" lang="en-US" sz="3200" spc="-1" strike="noStrike">
              <a:solidFill>
                <a:srgbClr val="000000"/>
              </a:solidFill>
              <a:latin typeface="Times New Roman"/>
            </a:endParaRPr>
          </a:p>
        </p:txBody>
      </p:sp>
      <p:sp>
        <p:nvSpPr>
          <p:cNvPr id="94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945"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orporate the change suggested in 19/0681r4 into the Draft 3.1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DDFE528-59E6-46DE-9CBF-F821926BB7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30AE66-1873-4591-99DE-E6C21CFFC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PAR extension request</a:t>
            </a:r>
            <a:endParaRPr b="0" lang="en-US" sz="3200" spc="-1" strike="noStrike">
              <a:solidFill>
                <a:srgbClr val="000000"/>
              </a:solidFill>
              <a:latin typeface="Times New Roman"/>
            </a:endParaRPr>
          </a:p>
        </p:txBody>
      </p:sp>
      <p:sp>
        <p:nvSpPr>
          <p:cNvPr id="94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950"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lieving that the PAR contained in the document referenced below meets IEEE-SA guidelin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est that the PAR contained in 11-19/0673r0 be posted to the IEEE 802 Executive Committee (EC) agenda for WG 802 preview and EC approval to submit to NesCom. </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8FD8D0-AE94-4B2D-A374-94CD743A4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Recirculation WGLB</a:t>
            </a:r>
            <a:endParaRPr b="0" lang="en-US" sz="3200" spc="-1" strike="noStrike">
              <a:solidFill>
                <a:srgbClr val="000000"/>
              </a:solidFill>
              <a:latin typeface="Times New Roman"/>
            </a:endParaRPr>
          </a:p>
        </p:txBody>
      </p:sp>
      <p:sp>
        <p:nvSpPr>
          <p:cNvPr id="95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955"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struct the editor to prepare P802.11ay D4.0 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a 15 day Recirculation Working Group Technical Letter Ballot asking the question “Should P802.11ay D4.0 be forwarded to Sponsor Ballo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3BD933-1A1F-4150-80BC-01C395725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95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0CEC4F-A4D8-4AAA-A8B2-4E4A408E8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July 2019 plenary</a:t>
            </a:r>
            <a:endParaRPr b="0" lang="en-US" sz="3200" spc="-1" strike="noStrike">
              <a:solidFill>
                <a:srgbClr val="000000"/>
              </a:solidFill>
              <a:latin typeface="Times New Roman"/>
            </a:endParaRPr>
          </a:p>
        </p:txBody>
      </p:sp>
      <p:sp>
        <p:nvSpPr>
          <p:cNvPr id="96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11B733-8081-4FA4-B236-6EC4EA92D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96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BD</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0DE7F9-4C29-40B2-BD20-75CD36529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y 2019</cp:keywords>
  <dc:language>en-US</dc:language>
  <cp:lastModifiedBy>Edward Au</cp:lastModifiedBy>
  <cp:lastPrinted>2014-11-04T15:04:57Z</cp:lastPrinted>
  <dcterms:modified xsi:type="dcterms:W3CDTF">2019-05-15T22:07:48Z</dcterms:modified>
  <cp:revision>8978</cp:revision>
  <dc:subject>Task Group AY November 2015 Meeting Agenda</dc:subject>
  <dc:title>11-19/0589r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