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5CD68DB8-28F7-443B-894E-46EF6298865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7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09F48C-43E8-4EB3-BB35-4B060D176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54160" y="701640"/>
            <a:ext cx="4626000" cy="3468600"/>
          </a:xfrm>
          <a:prstGeom prst="rect">
            <a:avLst/>
          </a:prstGeom>
          <a:ln w="0">
            <a:noFill/>
          </a:ln>
        </p:spPr>
      </p:sp>
      <p:sp>
        <p:nvSpPr>
          <p:cNvPr id="9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2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838139C-FB92-44C6-B56D-DFDBE0CEA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102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1024"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102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F8E55D-143B-4D51-89B1-B624BC80A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6" name="PlaceHolder 1"/>
          <p:cNvSpPr>
            <a:spLocks noGrp="1"/>
          </p:cNvSpPr>
          <p:nvPr>
            <p:ph type="sldImg"/>
          </p:nvPr>
        </p:nvSpPr>
        <p:spPr>
          <a:xfrm>
            <a:off x="1154160" y="701640"/>
            <a:ext cx="4626000" cy="3468600"/>
          </a:xfrm>
          <a:prstGeom prst="rect">
            <a:avLst/>
          </a:prstGeom>
          <a:ln w="0">
            <a:noFill/>
          </a:ln>
        </p:spPr>
      </p:sp>
      <p:sp>
        <p:nvSpPr>
          <p:cNvPr id="10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2D3CDB1-F3AA-4070-B73B-88F0ED877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103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1034"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103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FECB8F-40A1-4D17-BF1A-B73EE33BD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1154160" y="701640"/>
            <a:ext cx="4626000" cy="3468600"/>
          </a:xfrm>
          <a:prstGeom prst="rect">
            <a:avLst/>
          </a:prstGeom>
          <a:ln w="0">
            <a:noFill/>
          </a:ln>
        </p:spPr>
      </p:sp>
      <p:sp>
        <p:nvSpPr>
          <p:cNvPr id="10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1039"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1040"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104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F4D160E-C44E-407D-B6E4-C6B046966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1154160" y="701640"/>
            <a:ext cx="4626000" cy="3468600"/>
          </a:xfrm>
          <a:prstGeom prst="rect">
            <a:avLst/>
          </a:prstGeom>
          <a:ln w="0">
            <a:noFill/>
          </a:ln>
        </p:spPr>
      </p:sp>
      <p:sp>
        <p:nvSpPr>
          <p:cNvPr id="10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54160" y="701640"/>
            <a:ext cx="4626000" cy="3468600"/>
          </a:xfrm>
          <a:prstGeom prst="rect">
            <a:avLst/>
          </a:prstGeom>
          <a:ln w="0">
            <a:noFill/>
          </a:ln>
        </p:spPr>
      </p:sp>
      <p:sp>
        <p:nvSpPr>
          <p:cNvPr id="10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75885C-DEA1-4F7B-AF44-A8481D73F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5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0F092C3-29F4-432C-BFD1-319B88EB1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1154160" y="701640"/>
            <a:ext cx="4626000" cy="3468600"/>
          </a:xfrm>
          <a:prstGeom prst="rect">
            <a:avLst/>
          </a:prstGeom>
          <a:ln w="0">
            <a:noFill/>
          </a:ln>
        </p:spPr>
      </p:sp>
      <p:sp>
        <p:nvSpPr>
          <p:cNvPr id="10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54160" y="701640"/>
            <a:ext cx="4626000" cy="3468600"/>
          </a:xfrm>
          <a:prstGeom prst="rect">
            <a:avLst/>
          </a:prstGeom>
          <a:ln w="0">
            <a:noFill/>
          </a:ln>
        </p:spPr>
      </p:sp>
      <p:sp>
        <p:nvSpPr>
          <p:cNvPr id="10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AFD815-2096-4F22-9B6F-01EB8A7A7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54160" y="701640"/>
            <a:ext cx="4626000" cy="3468600"/>
          </a:xfrm>
          <a:prstGeom prst="rect">
            <a:avLst/>
          </a:prstGeom>
          <a:ln w="0">
            <a:noFill/>
          </a:ln>
        </p:spPr>
      </p:sp>
      <p:sp>
        <p:nvSpPr>
          <p:cNvPr id="10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D08D236-92E3-442A-A15E-92E388C32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54160" y="701640"/>
            <a:ext cx="4626000" cy="3468600"/>
          </a:xfrm>
          <a:prstGeom prst="rect">
            <a:avLst/>
          </a:prstGeom>
          <a:ln w="0">
            <a:noFill/>
          </a:ln>
        </p:spPr>
      </p:sp>
      <p:sp>
        <p:nvSpPr>
          <p:cNvPr id="10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DAD020A-C82B-4842-B0E6-C2BAC27696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54160" y="701640"/>
            <a:ext cx="4626000" cy="3468600"/>
          </a:xfrm>
          <a:prstGeom prst="rect">
            <a:avLst/>
          </a:prstGeom>
          <a:ln w="0">
            <a:noFill/>
          </a:ln>
        </p:spPr>
      </p:sp>
      <p:sp>
        <p:nvSpPr>
          <p:cNvPr id="10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596231-A217-4344-8FD7-DCBC0DDFD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54160" y="701640"/>
            <a:ext cx="4626000" cy="3468600"/>
          </a:xfrm>
          <a:prstGeom prst="rect">
            <a:avLst/>
          </a:prstGeom>
          <a:ln w="0">
            <a:noFill/>
          </a:ln>
        </p:spPr>
      </p:sp>
      <p:sp>
        <p:nvSpPr>
          <p:cNvPr id="10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D31EC3-CFDB-4887-9BD7-7E6E627CF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54160" y="701640"/>
            <a:ext cx="4626000" cy="3468600"/>
          </a:xfrm>
          <a:prstGeom prst="rect">
            <a:avLst/>
          </a:prstGeom>
          <a:ln w="0">
            <a:noFill/>
          </a:ln>
        </p:spPr>
      </p:sp>
      <p:sp>
        <p:nvSpPr>
          <p:cNvPr id="9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5E8F02-1B01-41C7-B008-902DD7219D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54160" y="701640"/>
            <a:ext cx="4626000" cy="3468600"/>
          </a:xfrm>
          <a:prstGeom prst="rect">
            <a:avLst/>
          </a:prstGeom>
          <a:ln w="0">
            <a:noFill/>
          </a:ln>
        </p:spPr>
      </p:sp>
      <p:sp>
        <p:nvSpPr>
          <p:cNvPr id="10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EB3BE67-9386-424A-AE91-BD117EF16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54160" y="701640"/>
            <a:ext cx="4626000" cy="3468600"/>
          </a:xfrm>
          <a:prstGeom prst="rect">
            <a:avLst/>
          </a:prstGeom>
          <a:ln w="0">
            <a:noFill/>
          </a:ln>
        </p:spPr>
      </p:sp>
      <p:sp>
        <p:nvSpPr>
          <p:cNvPr id="10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3FFD5D5-3BB9-4AB7-8450-935E70978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54160" y="701640"/>
            <a:ext cx="4626000" cy="3468600"/>
          </a:xfrm>
          <a:prstGeom prst="rect">
            <a:avLst/>
          </a:prstGeom>
          <a:ln w="0">
            <a:noFill/>
          </a:ln>
        </p:spPr>
      </p:sp>
      <p:sp>
        <p:nvSpPr>
          <p:cNvPr id="10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18B9B9-B556-43D9-BB04-AF129F737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54160" y="701640"/>
            <a:ext cx="4626000" cy="3468600"/>
          </a:xfrm>
          <a:prstGeom prst="rect">
            <a:avLst/>
          </a:prstGeom>
          <a:ln w="0">
            <a:noFill/>
          </a:ln>
        </p:spPr>
      </p:sp>
      <p:sp>
        <p:nvSpPr>
          <p:cNvPr id="11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7178827-2A0C-4D76-9B8A-F9AE29DF3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4160" y="701640"/>
            <a:ext cx="4626000" cy="3468600"/>
          </a:xfrm>
          <a:prstGeom prst="rect">
            <a:avLst/>
          </a:prstGeom>
          <a:ln w="0">
            <a:noFill/>
          </a:ln>
        </p:spPr>
      </p:sp>
      <p:sp>
        <p:nvSpPr>
          <p:cNvPr id="11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B1F3C4E-480D-440F-8286-D5D713D41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54160" y="701640"/>
            <a:ext cx="4626000" cy="3468600"/>
          </a:xfrm>
          <a:prstGeom prst="rect">
            <a:avLst/>
          </a:prstGeom>
          <a:ln w="0">
            <a:noFill/>
          </a:ln>
        </p:spPr>
      </p:sp>
      <p:sp>
        <p:nvSpPr>
          <p:cNvPr id="11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5ED27B-2E27-46F2-886F-3913B64D5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54160" y="701640"/>
            <a:ext cx="4626000" cy="3468600"/>
          </a:xfrm>
          <a:prstGeom prst="rect">
            <a:avLst/>
          </a:prstGeom>
          <a:ln w="0">
            <a:noFill/>
          </a:ln>
        </p:spPr>
      </p:sp>
      <p:sp>
        <p:nvSpPr>
          <p:cNvPr id="11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52E14F9-B834-4861-B26B-671305CE1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54160" y="701640"/>
            <a:ext cx="4626000" cy="3468600"/>
          </a:xfrm>
          <a:prstGeom prst="rect">
            <a:avLst/>
          </a:prstGeom>
          <a:ln w="0">
            <a:noFill/>
          </a:ln>
        </p:spPr>
      </p:sp>
      <p:sp>
        <p:nvSpPr>
          <p:cNvPr id="11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0A17426-1292-4B48-9D9B-5DD939D39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54160" y="701640"/>
            <a:ext cx="4626000" cy="3468600"/>
          </a:xfrm>
          <a:prstGeom prst="rect">
            <a:avLst/>
          </a:prstGeom>
          <a:ln w="0">
            <a:noFill/>
          </a:ln>
        </p:spPr>
      </p:sp>
      <p:sp>
        <p:nvSpPr>
          <p:cNvPr id="11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6ADDDC-E321-46F8-9F66-1800313A2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54160" y="701640"/>
            <a:ext cx="4626000" cy="3468600"/>
          </a:xfrm>
          <a:prstGeom prst="rect">
            <a:avLst/>
          </a:prstGeom>
          <a:ln w="0">
            <a:noFill/>
          </a:ln>
        </p:spPr>
      </p:sp>
      <p:sp>
        <p:nvSpPr>
          <p:cNvPr id="11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E2BBD3-8E9C-471E-98BE-9EC8244AF4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8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D4B62E7-4BA4-40A2-9013-D527FED11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PlaceHolder 1"/>
          <p:cNvSpPr>
            <a:spLocks noGrp="1"/>
          </p:cNvSpPr>
          <p:nvPr>
            <p:ph type="sldImg"/>
          </p:nvPr>
        </p:nvSpPr>
        <p:spPr>
          <a:xfrm>
            <a:off x="1154160" y="701640"/>
            <a:ext cx="4626000" cy="3468600"/>
          </a:xfrm>
          <a:prstGeom prst="rect">
            <a:avLst/>
          </a:prstGeom>
          <a:ln w="0">
            <a:noFill/>
          </a:ln>
        </p:spPr>
      </p:sp>
      <p:sp>
        <p:nvSpPr>
          <p:cNvPr id="9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54160" y="701640"/>
            <a:ext cx="4626000" cy="3468600"/>
          </a:xfrm>
          <a:prstGeom prst="rect">
            <a:avLst/>
          </a:prstGeom>
          <a:ln w="0">
            <a:noFill/>
          </a:ln>
        </p:spPr>
      </p:sp>
      <p:sp>
        <p:nvSpPr>
          <p:cNvPr id="11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E262758-348C-41CF-98B6-D77D85E36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54160" y="701640"/>
            <a:ext cx="4626000" cy="3468600"/>
          </a:xfrm>
          <a:prstGeom prst="rect">
            <a:avLst/>
          </a:prstGeom>
          <a:ln w="0">
            <a:noFill/>
          </a:ln>
        </p:spPr>
      </p:sp>
      <p:sp>
        <p:nvSpPr>
          <p:cNvPr id="11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186C43-751B-4682-9E3F-AFB66E394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6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665C3B-683D-4AD1-B7DE-1118BE52F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PlaceHolder 1"/>
          <p:cNvSpPr>
            <a:spLocks noGrp="1"/>
          </p:cNvSpPr>
          <p:nvPr>
            <p:ph type="sldImg"/>
          </p:nvPr>
        </p:nvSpPr>
        <p:spPr>
          <a:xfrm>
            <a:off x="1154160" y="701640"/>
            <a:ext cx="4626000" cy="3468600"/>
          </a:xfrm>
          <a:prstGeom prst="rect">
            <a:avLst/>
          </a:prstGeom>
          <a:ln w="0">
            <a:noFill/>
          </a:ln>
        </p:spPr>
      </p:sp>
      <p:sp>
        <p:nvSpPr>
          <p:cNvPr id="11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54160" y="701640"/>
            <a:ext cx="4626000" cy="3468600"/>
          </a:xfrm>
          <a:prstGeom prst="rect">
            <a:avLst/>
          </a:prstGeom>
          <a:ln w="0">
            <a:noFill/>
          </a:ln>
        </p:spPr>
      </p:sp>
      <p:sp>
        <p:nvSpPr>
          <p:cNvPr id="11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7506EB8-770A-4AAA-9DB3-6F6A04039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54160" y="701640"/>
            <a:ext cx="4626000" cy="3468600"/>
          </a:xfrm>
          <a:prstGeom prst="rect">
            <a:avLst/>
          </a:prstGeom>
          <a:ln w="0">
            <a:noFill/>
          </a:ln>
        </p:spPr>
      </p:sp>
      <p:sp>
        <p:nvSpPr>
          <p:cNvPr id="11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DAF3594-8BFC-42F9-B7AA-0F91C741B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54160" y="701640"/>
            <a:ext cx="4626000" cy="3468600"/>
          </a:xfrm>
          <a:prstGeom prst="rect">
            <a:avLst/>
          </a:prstGeom>
          <a:ln w="0">
            <a:noFill/>
          </a:ln>
        </p:spPr>
      </p:sp>
      <p:sp>
        <p:nvSpPr>
          <p:cNvPr id="11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9AC8B6-B8CB-49BD-A860-0BFA0445B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54160" y="701640"/>
            <a:ext cx="4626000" cy="3468600"/>
          </a:xfrm>
          <a:prstGeom prst="rect">
            <a:avLst/>
          </a:prstGeom>
          <a:ln w="0">
            <a:noFill/>
          </a:ln>
        </p:spPr>
      </p:sp>
      <p:sp>
        <p:nvSpPr>
          <p:cNvPr id="11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B9B87D-C81B-4E39-B03A-4A9D68F0F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54160" y="701640"/>
            <a:ext cx="4626000" cy="3468600"/>
          </a:xfrm>
          <a:prstGeom prst="rect">
            <a:avLst/>
          </a:prstGeom>
          <a:ln w="0">
            <a:noFill/>
          </a:ln>
        </p:spPr>
      </p:sp>
      <p:sp>
        <p:nvSpPr>
          <p:cNvPr id="11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A8E1A6B-775D-44B4-82EA-13B9E7179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54160" y="701640"/>
            <a:ext cx="4626000" cy="3468600"/>
          </a:xfrm>
          <a:prstGeom prst="rect">
            <a:avLst/>
          </a:prstGeom>
          <a:ln w="0">
            <a:noFill/>
          </a:ln>
        </p:spPr>
      </p:sp>
      <p:sp>
        <p:nvSpPr>
          <p:cNvPr id="11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F3A637-D0C3-4716-9A55-A967C2C19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54160" y="701640"/>
            <a:ext cx="4626000" cy="3468600"/>
          </a:xfrm>
          <a:prstGeom prst="rect">
            <a:avLst/>
          </a:prstGeom>
          <a:ln w="0">
            <a:noFill/>
          </a:ln>
        </p:spPr>
      </p:sp>
      <p:sp>
        <p:nvSpPr>
          <p:cNvPr id="12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957104-7980-4AF5-96B6-12E07FF70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0"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9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F5C17637-4F96-466C-82BE-4C877CDAA1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PlaceHolder 1"/>
          <p:cNvSpPr>
            <a:spLocks noGrp="1"/>
          </p:cNvSpPr>
          <p:nvPr>
            <p:ph type="sldImg"/>
          </p:nvPr>
        </p:nvSpPr>
        <p:spPr>
          <a:xfrm>
            <a:off x="1147680" y="696960"/>
            <a:ext cx="4640400" cy="3479760"/>
          </a:xfrm>
          <a:prstGeom prst="rect">
            <a:avLst/>
          </a:prstGeom>
          <a:ln w="0">
            <a:noFill/>
          </a:ln>
        </p:spPr>
      </p:sp>
      <p:sp>
        <p:nvSpPr>
          <p:cNvPr id="993"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54160" y="701640"/>
            <a:ext cx="4626000" cy="3468600"/>
          </a:xfrm>
          <a:prstGeom prst="rect">
            <a:avLst/>
          </a:prstGeom>
          <a:ln w="0">
            <a:noFill/>
          </a:ln>
        </p:spPr>
      </p:sp>
      <p:sp>
        <p:nvSpPr>
          <p:cNvPr id="12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5FB384-2045-4795-A6C3-9521C4915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54160" y="701640"/>
            <a:ext cx="4626000" cy="3468600"/>
          </a:xfrm>
          <a:prstGeom prst="rect">
            <a:avLst/>
          </a:prstGeom>
          <a:ln w="0">
            <a:noFill/>
          </a:ln>
        </p:spPr>
      </p:sp>
      <p:sp>
        <p:nvSpPr>
          <p:cNvPr id="12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B0BD1DF-9CA3-4D7C-B8AA-EE50F1E6C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54160" y="701640"/>
            <a:ext cx="4626000" cy="3468600"/>
          </a:xfrm>
          <a:prstGeom prst="rect">
            <a:avLst/>
          </a:prstGeom>
          <a:ln w="0">
            <a:noFill/>
          </a:ln>
        </p:spPr>
      </p:sp>
      <p:sp>
        <p:nvSpPr>
          <p:cNvPr id="12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019CBD-B4DB-48C3-AE2F-B3E6DD1CE9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54160" y="701640"/>
            <a:ext cx="4626000" cy="3468600"/>
          </a:xfrm>
          <a:prstGeom prst="rect">
            <a:avLst/>
          </a:prstGeom>
          <a:ln w="0">
            <a:noFill/>
          </a:ln>
        </p:spPr>
      </p:sp>
      <p:sp>
        <p:nvSpPr>
          <p:cNvPr id="12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E644126-8531-48D9-94CA-9753836FA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54160" y="701640"/>
            <a:ext cx="4626000" cy="3468600"/>
          </a:xfrm>
          <a:prstGeom prst="rect">
            <a:avLst/>
          </a:prstGeom>
          <a:ln w="0">
            <a:noFill/>
          </a:ln>
        </p:spPr>
      </p:sp>
      <p:sp>
        <p:nvSpPr>
          <p:cNvPr id="12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C84C87D-E3AD-46FB-A69B-3A9469623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54160" y="701640"/>
            <a:ext cx="4626000" cy="3468600"/>
          </a:xfrm>
          <a:prstGeom prst="rect">
            <a:avLst/>
          </a:prstGeom>
          <a:ln w="0">
            <a:noFill/>
          </a:ln>
        </p:spPr>
      </p:sp>
      <p:sp>
        <p:nvSpPr>
          <p:cNvPr id="12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89F7C0-F00F-4421-BF80-49E3581B6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54160" y="701640"/>
            <a:ext cx="4626000" cy="3468600"/>
          </a:xfrm>
          <a:prstGeom prst="rect">
            <a:avLst/>
          </a:prstGeom>
          <a:ln w="0">
            <a:noFill/>
          </a:ln>
        </p:spPr>
      </p:sp>
      <p:sp>
        <p:nvSpPr>
          <p:cNvPr id="12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CFA38C-826F-4742-A303-AD3E9532D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54160" y="701640"/>
            <a:ext cx="4626000" cy="3468600"/>
          </a:xfrm>
          <a:prstGeom prst="rect">
            <a:avLst/>
          </a:prstGeom>
          <a:ln w="0">
            <a:noFill/>
          </a:ln>
        </p:spPr>
      </p:sp>
      <p:sp>
        <p:nvSpPr>
          <p:cNvPr id="12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F0A7FF-364B-4C8B-AF11-42A85E221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54160" y="701640"/>
            <a:ext cx="4626000" cy="3468600"/>
          </a:xfrm>
          <a:prstGeom prst="rect">
            <a:avLst/>
          </a:prstGeom>
          <a:ln w="0">
            <a:noFill/>
          </a:ln>
        </p:spPr>
      </p:sp>
      <p:sp>
        <p:nvSpPr>
          <p:cNvPr id="12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0C653B-5C94-4289-AE01-4F5DDDBFD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54160" y="701640"/>
            <a:ext cx="4626000" cy="3468600"/>
          </a:xfrm>
          <a:prstGeom prst="rect">
            <a:avLst/>
          </a:prstGeom>
          <a:ln w="0">
            <a:noFill/>
          </a:ln>
        </p:spPr>
      </p:sp>
      <p:sp>
        <p:nvSpPr>
          <p:cNvPr id="12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3F4374-2CF6-4978-8F03-2285FF80F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5"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6"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9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26F77AF-1A49-49C9-84D8-837FCE023B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PlaceHolder 1"/>
          <p:cNvSpPr>
            <a:spLocks noGrp="1"/>
          </p:cNvSpPr>
          <p:nvPr>
            <p:ph type="sldImg"/>
          </p:nvPr>
        </p:nvSpPr>
        <p:spPr>
          <a:xfrm>
            <a:off x="1147680" y="696960"/>
            <a:ext cx="4640400" cy="3479760"/>
          </a:xfrm>
          <a:prstGeom prst="rect">
            <a:avLst/>
          </a:prstGeom>
          <a:ln w="0">
            <a:noFill/>
          </a:ln>
        </p:spPr>
      </p:sp>
      <p:sp>
        <p:nvSpPr>
          <p:cNvPr id="999"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54160" y="701640"/>
            <a:ext cx="4626000" cy="3468600"/>
          </a:xfrm>
          <a:prstGeom prst="rect">
            <a:avLst/>
          </a:prstGeom>
          <a:ln w="0">
            <a:noFill/>
          </a:ln>
        </p:spPr>
      </p:sp>
      <p:sp>
        <p:nvSpPr>
          <p:cNvPr id="12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A46EEBC-3CD0-4FCD-ACE9-A918DDAF5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7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7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7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0FC8F4-E063-471A-9B39-9AE256361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1154160" y="701640"/>
            <a:ext cx="4626000" cy="3468600"/>
          </a:xfrm>
          <a:prstGeom prst="rect">
            <a:avLst/>
          </a:prstGeom>
          <a:ln w="0">
            <a:noFill/>
          </a:ln>
        </p:spPr>
      </p:sp>
      <p:sp>
        <p:nvSpPr>
          <p:cNvPr id="12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54160" y="701640"/>
            <a:ext cx="4626000" cy="3468600"/>
          </a:xfrm>
          <a:prstGeom prst="rect">
            <a:avLst/>
          </a:prstGeom>
          <a:ln w="0">
            <a:noFill/>
          </a:ln>
        </p:spPr>
      </p:sp>
      <p:sp>
        <p:nvSpPr>
          <p:cNvPr id="12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8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8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8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8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ADA12B-50DC-4B4C-A7B6-7AB5B9957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54160" y="701640"/>
            <a:ext cx="4626000" cy="3468600"/>
          </a:xfrm>
          <a:prstGeom prst="rect">
            <a:avLst/>
          </a:prstGeom>
          <a:ln w="0">
            <a:noFill/>
          </a:ln>
        </p:spPr>
      </p:sp>
      <p:sp>
        <p:nvSpPr>
          <p:cNvPr id="12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3C5043-F2F4-4934-AF45-6CCC40628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9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9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9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1A93AD-A0F9-4D88-B1B2-0AC76DAC8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1154160" y="701640"/>
            <a:ext cx="4626000" cy="3468600"/>
          </a:xfrm>
          <a:prstGeom prst="rect">
            <a:avLst/>
          </a:prstGeom>
          <a:ln w="0">
            <a:noFill/>
          </a:ln>
        </p:spPr>
      </p:sp>
      <p:sp>
        <p:nvSpPr>
          <p:cNvPr id="12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54160" y="701640"/>
            <a:ext cx="4626000" cy="3468600"/>
          </a:xfrm>
          <a:prstGeom prst="rect">
            <a:avLst/>
          </a:prstGeom>
          <a:ln w="0">
            <a:noFill/>
          </a:ln>
        </p:spPr>
      </p:sp>
      <p:sp>
        <p:nvSpPr>
          <p:cNvPr id="12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16EC4D9-2893-46BD-825B-3B6A89675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54160" y="701640"/>
            <a:ext cx="4626000" cy="3468600"/>
          </a:xfrm>
          <a:prstGeom prst="rect">
            <a:avLst/>
          </a:prstGeom>
          <a:ln w="0">
            <a:noFill/>
          </a:ln>
        </p:spPr>
      </p:sp>
      <p:sp>
        <p:nvSpPr>
          <p:cNvPr id="13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C1152A-0FB3-485F-9677-541F966A7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0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1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31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09EC7AB-F848-41AA-878E-0545D754F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4160" y="701640"/>
            <a:ext cx="4626000" cy="3468600"/>
          </a:xfrm>
          <a:prstGeom prst="rect">
            <a:avLst/>
          </a:prstGeom>
          <a:ln w="0">
            <a:noFill/>
          </a:ln>
        </p:spPr>
      </p:sp>
      <p:sp>
        <p:nvSpPr>
          <p:cNvPr id="13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54160" y="701640"/>
            <a:ext cx="4626000" cy="3468600"/>
          </a:xfrm>
          <a:prstGeom prst="rect">
            <a:avLst/>
          </a:prstGeom>
          <a:ln w="0">
            <a:noFill/>
          </a:ln>
        </p:spPr>
      </p:sp>
      <p:sp>
        <p:nvSpPr>
          <p:cNvPr id="13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1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1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1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1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E089495-D816-49FB-B4C2-D6B7CEA36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54160" y="701640"/>
            <a:ext cx="4626000" cy="3468600"/>
          </a:xfrm>
          <a:prstGeom prst="rect">
            <a:avLst/>
          </a:prstGeom>
          <a:ln w="0">
            <a:noFill/>
          </a:ln>
        </p:spPr>
      </p:sp>
      <p:sp>
        <p:nvSpPr>
          <p:cNvPr id="13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7A0CCD9-9DC8-4258-AE8B-7B2E9024A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DA805B7-686F-4409-A7BD-B1D8E1E95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1154160" y="701640"/>
            <a:ext cx="4626000" cy="3468600"/>
          </a:xfrm>
          <a:prstGeom prst="rect">
            <a:avLst/>
          </a:prstGeom>
          <a:ln w="0">
            <a:noFill/>
          </a:ln>
        </p:spPr>
      </p:sp>
      <p:sp>
        <p:nvSpPr>
          <p:cNvPr id="10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54160" y="701640"/>
            <a:ext cx="4626000" cy="3468600"/>
          </a:xfrm>
          <a:prstGeom prst="rect">
            <a:avLst/>
          </a:prstGeom>
          <a:ln w="0">
            <a:noFill/>
          </a:ln>
        </p:spPr>
      </p:sp>
      <p:sp>
        <p:nvSpPr>
          <p:cNvPr id="13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593E395-D545-4787-B4AB-242C0DBD3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3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3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33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8D5252-C4CA-42E2-9909-BA250C948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1154160" y="701640"/>
            <a:ext cx="4626000" cy="3468600"/>
          </a:xfrm>
          <a:prstGeom prst="rect">
            <a:avLst/>
          </a:prstGeom>
          <a:ln w="0">
            <a:noFill/>
          </a:ln>
        </p:spPr>
      </p:sp>
      <p:sp>
        <p:nvSpPr>
          <p:cNvPr id="13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54160" y="701640"/>
            <a:ext cx="4626000" cy="3468600"/>
          </a:xfrm>
          <a:prstGeom prst="rect">
            <a:avLst/>
          </a:prstGeom>
          <a:ln w="0">
            <a:noFill/>
          </a:ln>
        </p:spPr>
      </p:sp>
      <p:sp>
        <p:nvSpPr>
          <p:cNvPr id="13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C2A2EC-35D6-4370-8151-43DFFCD2C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54160" y="701640"/>
            <a:ext cx="4626000" cy="3468600"/>
          </a:xfrm>
          <a:prstGeom prst="rect">
            <a:avLst/>
          </a:prstGeom>
          <a:ln w="0">
            <a:noFill/>
          </a:ln>
        </p:spPr>
      </p:sp>
      <p:sp>
        <p:nvSpPr>
          <p:cNvPr id="13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7B5C58C-E54E-4D5D-84C7-54B75023C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5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5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35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C76E87-BC64-476E-ADAA-F18712F50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1154160" y="701640"/>
            <a:ext cx="4626000" cy="3468600"/>
          </a:xfrm>
          <a:prstGeom prst="rect">
            <a:avLst/>
          </a:prstGeom>
          <a:ln w="0">
            <a:noFill/>
          </a:ln>
        </p:spPr>
      </p:sp>
      <p:sp>
        <p:nvSpPr>
          <p:cNvPr id="13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154160" y="701640"/>
            <a:ext cx="4626000" cy="3468600"/>
          </a:xfrm>
          <a:prstGeom prst="rect">
            <a:avLst/>
          </a:prstGeom>
          <a:ln w="0">
            <a:noFill/>
          </a:ln>
        </p:spPr>
      </p:sp>
      <p:sp>
        <p:nvSpPr>
          <p:cNvPr id="13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64A6B2-63BD-4A7A-B087-11F72ACA2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54160" y="701640"/>
            <a:ext cx="4626000" cy="3468600"/>
          </a:xfrm>
          <a:prstGeom prst="rect">
            <a:avLst/>
          </a:prstGeom>
          <a:ln w="0">
            <a:noFill/>
          </a:ln>
        </p:spPr>
      </p:sp>
      <p:sp>
        <p:nvSpPr>
          <p:cNvPr id="13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1E53D3-92FC-4FCA-8402-6AF06A6CF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54160" y="701640"/>
            <a:ext cx="4626000" cy="3468600"/>
          </a:xfrm>
          <a:prstGeom prst="rect">
            <a:avLst/>
          </a:prstGeom>
          <a:ln w="0">
            <a:noFill/>
          </a:ln>
        </p:spPr>
      </p:sp>
      <p:sp>
        <p:nvSpPr>
          <p:cNvPr id="13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AA68022-2B45-4686-A98C-9D06448FA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54160" y="701640"/>
            <a:ext cx="4626000" cy="3468600"/>
          </a:xfrm>
          <a:prstGeom prst="rect">
            <a:avLst/>
          </a:prstGeom>
          <a:ln w="0">
            <a:noFill/>
          </a:ln>
        </p:spPr>
      </p:sp>
      <p:sp>
        <p:nvSpPr>
          <p:cNvPr id="13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385863-9FFE-4791-89ED-25EF5D636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54160" y="701640"/>
            <a:ext cx="4626000" cy="3468600"/>
          </a:xfrm>
          <a:prstGeom prst="rect">
            <a:avLst/>
          </a:prstGeom>
          <a:ln w="0">
            <a:noFill/>
          </a:ln>
        </p:spPr>
      </p:sp>
      <p:sp>
        <p:nvSpPr>
          <p:cNvPr id="13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1B8B35-DFB0-499E-9DB2-2895DAD3D8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4ED6653-5A5C-46B9-9CFF-6FD885AF9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PlaceHolder 1"/>
          <p:cNvSpPr>
            <a:spLocks noGrp="1"/>
          </p:cNvSpPr>
          <p:nvPr>
            <p:ph type="sldImg"/>
          </p:nvPr>
        </p:nvSpPr>
        <p:spPr>
          <a:xfrm>
            <a:off x="1154160" y="701640"/>
            <a:ext cx="4626000" cy="3468600"/>
          </a:xfrm>
          <a:prstGeom prst="rect">
            <a:avLst/>
          </a:prstGeom>
          <a:ln w="0">
            <a:noFill/>
          </a:ln>
        </p:spPr>
      </p:sp>
      <p:sp>
        <p:nvSpPr>
          <p:cNvPr id="10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54160" y="701640"/>
            <a:ext cx="4626000" cy="3468600"/>
          </a:xfrm>
          <a:prstGeom prst="rect">
            <a:avLst/>
          </a:prstGeom>
          <a:ln w="0">
            <a:noFill/>
          </a:ln>
        </p:spPr>
      </p:sp>
      <p:sp>
        <p:nvSpPr>
          <p:cNvPr id="13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4FAA89-5A48-4DF3-B0D5-B2D16951EF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54160" y="701640"/>
            <a:ext cx="4626000" cy="3468600"/>
          </a:xfrm>
          <a:prstGeom prst="rect">
            <a:avLst/>
          </a:prstGeom>
          <a:ln w="0">
            <a:noFill/>
          </a:ln>
        </p:spPr>
      </p:sp>
      <p:sp>
        <p:nvSpPr>
          <p:cNvPr id="13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87E6183-44B4-4292-8331-AC9606BF5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54160" y="701640"/>
            <a:ext cx="4626000" cy="3468600"/>
          </a:xfrm>
          <a:prstGeom prst="rect">
            <a:avLst/>
          </a:prstGeom>
          <a:ln w="0">
            <a:noFill/>
          </a:ln>
        </p:spPr>
      </p:sp>
      <p:sp>
        <p:nvSpPr>
          <p:cNvPr id="13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F532B84-EF79-4410-86F3-6478C68F6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54160" y="701640"/>
            <a:ext cx="4626000" cy="3468600"/>
          </a:xfrm>
          <a:prstGeom prst="rect">
            <a:avLst/>
          </a:prstGeom>
          <a:ln w="0">
            <a:noFill/>
          </a:ln>
        </p:spPr>
      </p:sp>
      <p:sp>
        <p:nvSpPr>
          <p:cNvPr id="14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148EA6-E60F-4C4F-8EFD-861D8E1FB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54160" y="701640"/>
            <a:ext cx="4626000" cy="3468600"/>
          </a:xfrm>
          <a:prstGeom prst="rect">
            <a:avLst/>
          </a:prstGeom>
          <a:ln w="0">
            <a:noFill/>
          </a:ln>
        </p:spPr>
      </p:sp>
      <p:sp>
        <p:nvSpPr>
          <p:cNvPr id="14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35B5D57-37A8-4D71-9CA6-75917C173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54160" y="701640"/>
            <a:ext cx="4626000" cy="3468600"/>
          </a:xfrm>
          <a:prstGeom prst="rect">
            <a:avLst/>
          </a:prstGeom>
          <a:ln w="0">
            <a:noFill/>
          </a:ln>
        </p:spPr>
      </p:sp>
      <p:sp>
        <p:nvSpPr>
          <p:cNvPr id="14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973A245-B325-454C-8890-83723B605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54160" y="701640"/>
            <a:ext cx="4626000" cy="3468600"/>
          </a:xfrm>
          <a:prstGeom prst="rect">
            <a:avLst/>
          </a:prstGeom>
          <a:ln w="0">
            <a:noFill/>
          </a:ln>
        </p:spPr>
      </p:sp>
      <p:sp>
        <p:nvSpPr>
          <p:cNvPr id="14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C871E4-2028-4AF9-B74F-8A60831BA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54160" y="701640"/>
            <a:ext cx="4626000" cy="3468600"/>
          </a:xfrm>
          <a:prstGeom prst="rect">
            <a:avLst/>
          </a:prstGeom>
          <a:ln w="0">
            <a:noFill/>
          </a:ln>
        </p:spPr>
      </p:sp>
      <p:sp>
        <p:nvSpPr>
          <p:cNvPr id="14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442F62A-F50A-4BA2-BDE7-354E7FD93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54160" y="701640"/>
            <a:ext cx="4626000" cy="3468600"/>
          </a:xfrm>
          <a:prstGeom prst="rect">
            <a:avLst/>
          </a:prstGeom>
          <a:ln w="0">
            <a:noFill/>
          </a:ln>
        </p:spPr>
      </p:sp>
      <p:sp>
        <p:nvSpPr>
          <p:cNvPr id="14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73C6B12-7992-4441-9846-3136CAC3C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54160" y="701640"/>
            <a:ext cx="4626000" cy="3468600"/>
          </a:xfrm>
          <a:prstGeom prst="rect">
            <a:avLst/>
          </a:prstGeom>
          <a:ln w="0">
            <a:noFill/>
          </a:ln>
        </p:spPr>
      </p:sp>
      <p:sp>
        <p:nvSpPr>
          <p:cNvPr id="14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D862CFD-63D3-4337-AD36-BA0BC5193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1007"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008"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100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CCD7430-C746-4CBC-A16F-EF65DF111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0" name="PlaceHolder 1"/>
          <p:cNvSpPr>
            <a:spLocks noGrp="1"/>
          </p:cNvSpPr>
          <p:nvPr>
            <p:ph type="sldImg"/>
          </p:nvPr>
        </p:nvSpPr>
        <p:spPr>
          <a:xfrm>
            <a:off x="1154160" y="701640"/>
            <a:ext cx="4626000" cy="3468600"/>
          </a:xfrm>
          <a:prstGeom prst="rect">
            <a:avLst/>
          </a:prstGeom>
          <a:ln w="0">
            <a:noFill/>
          </a:ln>
        </p:spPr>
      </p:sp>
      <p:sp>
        <p:nvSpPr>
          <p:cNvPr id="1011"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54160" y="701640"/>
            <a:ext cx="4626000" cy="3468600"/>
          </a:xfrm>
          <a:prstGeom prst="rect">
            <a:avLst/>
          </a:prstGeom>
          <a:ln w="0">
            <a:noFill/>
          </a:ln>
        </p:spPr>
      </p:sp>
      <p:sp>
        <p:nvSpPr>
          <p:cNvPr id="14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C6AADD-FF83-4D2E-908B-52945F475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54160" y="701640"/>
            <a:ext cx="4626000" cy="3468600"/>
          </a:xfrm>
          <a:prstGeom prst="rect">
            <a:avLst/>
          </a:prstGeom>
          <a:ln w="0">
            <a:noFill/>
          </a:ln>
        </p:spPr>
      </p:sp>
      <p:sp>
        <p:nvSpPr>
          <p:cNvPr id="14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701605-B20F-4CF2-B90F-2C4A5D46F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54160" y="701640"/>
            <a:ext cx="4626000" cy="3468600"/>
          </a:xfrm>
          <a:prstGeom prst="rect">
            <a:avLst/>
          </a:prstGeom>
          <a:ln w="0">
            <a:noFill/>
          </a:ln>
        </p:spPr>
      </p:sp>
      <p:sp>
        <p:nvSpPr>
          <p:cNvPr id="14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6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6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6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6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F878A5-C878-4758-81B2-2BE6E1353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54160" y="701640"/>
            <a:ext cx="4626000" cy="3468600"/>
          </a:xfrm>
          <a:prstGeom prst="rect">
            <a:avLst/>
          </a:prstGeom>
          <a:ln w="0">
            <a:noFill/>
          </a:ln>
        </p:spPr>
      </p:sp>
      <p:sp>
        <p:nvSpPr>
          <p:cNvPr id="14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35ABFD-DCCA-4846-A90F-309CD8D33D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54160" y="701640"/>
            <a:ext cx="4626000" cy="3468600"/>
          </a:xfrm>
          <a:prstGeom prst="rect">
            <a:avLst/>
          </a:prstGeom>
          <a:ln w="0">
            <a:noFill/>
          </a:ln>
        </p:spPr>
      </p:sp>
      <p:sp>
        <p:nvSpPr>
          <p:cNvPr id="14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DB8A997-23FA-428E-9571-EFE778B4A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ACDA95E-7BB2-4F3D-802B-4F21518D2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6" name="PlaceHolder 1"/>
          <p:cNvSpPr>
            <a:spLocks noGrp="1"/>
          </p:cNvSpPr>
          <p:nvPr>
            <p:ph type="sldImg"/>
          </p:nvPr>
        </p:nvSpPr>
        <p:spPr>
          <a:xfrm>
            <a:off x="1154160" y="701640"/>
            <a:ext cx="4626000" cy="3468600"/>
          </a:xfrm>
          <a:prstGeom prst="rect">
            <a:avLst/>
          </a:prstGeom>
          <a:ln w="0">
            <a:noFill/>
          </a:ln>
        </p:spPr>
      </p:sp>
      <p:sp>
        <p:nvSpPr>
          <p:cNvPr id="10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78873-2EF6-4682-87AF-7A4DD444C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51AA1-6F97-4565-9AA8-242FFB548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6782A7-9A9A-4EF7-B91A-3C62BE59E0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FA09E4-8FBA-49E8-B11F-64F3CA42E2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3015CC-A515-4DEB-B6B7-6FF495CA20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C82337-100E-4261-A58E-FBBA5E95ED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B68E5A-8992-416D-A94F-0341945E7A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1CE105-D3FF-4464-9061-17F9DD4075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36E197-7D5A-4D0D-A140-E2AA0A0197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B2D0BA-5B4F-4ECA-A7D0-1570807A52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C0C6CA-6454-4ECF-AEF6-6C7FA2164F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29BD53D-871F-4B8E-A462-0E8D53225B0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421CA-716E-476C-AEBE-3C09DBD75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E6D1D8-8E66-4BCF-9906-9DC46CD7B3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BF0E45-7974-44F8-BBA5-F5F73B9CE06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F55F44-4170-452C-8FA0-BBFA19C479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8DF6D0-C406-4741-8C13-91E6E6466F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31D046-C6FD-429F-A9A6-0BF86DB07D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EF58C0-181E-41B6-84C4-4157328E66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50ECA9-6FCC-47C3-8A0B-F64698C399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9F98FE-5408-4012-AEC2-6400351849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3A2963-8918-4D91-AE80-AC19B0C7981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407FFEB-342D-4BB2-93E9-4E78EF08253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4CF03-A3CA-4FAC-85C9-E1B2210AA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BF767F7-0B8E-461B-9B40-1D2BD69E351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92DD71D-13BC-4E1B-ACB9-E9AFDA83A78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F35063-0715-4EFC-B55C-F94F858F09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41382B-7A18-472B-B8EA-C72EF157F7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C62BAD-7C0A-4B23-A6CD-A4FE83EA75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1AF00B-E4E9-42F9-B256-8A777A9EB3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AAB323-1692-4635-B1BF-884851B686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432B26-6961-4078-AC4A-A91E3A075A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D46E20-675E-48A8-82E3-C7C89B948D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61B622-9B16-4C85-ADEA-74120769AF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53EF87-F245-47CD-AC9C-B1E0CB6077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FA2946-CB20-4D4C-8668-BD370094D6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75970B3-74BB-4218-AEDA-A558FB73A46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6BB6E44-3F48-4140-826A-F7BFBB81390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2A22AC8-64DB-49D7-806F-63AC9C0CE8B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F096346-E51A-46BF-A136-A4F2925F5E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E1AEB9-114F-459C-82A1-0DCED851D3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5A901E-6D8A-4E44-888C-E2FBE3A7289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C090CA-F307-47F4-B6DF-5126ABDC0E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667226-DD16-42DB-A50D-2B55120BC7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A6B9A6-9BBC-41C9-9A49-79E7D25DEA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4788D-666A-4455-896B-18676B44A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81A1F2-7124-4D6E-9F5D-B0B8295B14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855EE0-BBBF-4171-A7BF-9F417C0522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631684-E6C7-408B-A492-8FEB28788A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54C9714-0E46-46D5-A5A1-885A46C8E42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8E4AFEC-408F-451C-868F-A269687C889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32368-AE6D-4432-A5FA-3BB095DC7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EB1D4-3E1B-469B-B321-F9407EEEA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BE944-B937-4A07-819A-D3C04F1B4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3B5B7-55F4-462A-B751-FB2ECA8F4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E4907-DAB6-43CF-8377-847E0429E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85E2D-C2B7-4104-8A2C-8CF2068BF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67D80-2247-4CB2-93C2-1BDBA901A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36B0B-CE0F-4B0D-8467-76D946A4B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4FCF4-51A8-4568-8E58-9B504DCFD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6CF5F9-9F22-461D-91F9-169A5FB772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00E0DC-8E50-495C-8A51-23094DAE0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AF019F-FBFD-4C33-A3A4-E09E19C2C1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356A3D-FB19-4E16-861A-F28CDFEE07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BEC3C2-9210-42A5-8F3F-8037BA7C60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BEBFCC-D818-4BDE-A459-07282F32DC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AB8406-894E-4868-A6EA-574C201A49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A1D74-BC1D-43DF-B324-011D51135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1CA76F-F5E1-49C2-BEED-D0C9D1149D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DAFE17-528B-4E53-B354-67F80712EC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954D7D-C58A-44B4-8C20-6B882BFDD6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1F74AC-9F00-44B1-92DE-7B7ADF7E04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59FEDE-31C2-4243-ABE9-A835CBE5C8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3528FD-4F36-4133-8D80-C3B31F25B1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F9F69A-16D0-4B5C-A3AF-58C5DD18BD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D0DA2D-0CDD-4DB0-869C-B98C493D53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E77B8D-72FE-4800-9759-138D5F02DF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08975B-3949-402E-B360-D3231C507B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E0917-F074-4B13-B1DA-1DE85D10D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3411BB-822D-47B2-9B15-C38B903890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398DEF-9D51-48B5-9FA5-70DF21B3A0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0CAAD2-E59B-470F-BC14-F5B03E4CDB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BCF074-4090-4000-B442-7A7EF11B87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ECB5A2-2725-4B2A-B361-2D6BA6E405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FA3CC8-A177-4BF7-8395-69208D2805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4923C3-8C00-4FB9-A183-1B197F600C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7A65A9-4663-491B-A1BB-B91A052293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4318AC-D722-4BAD-B4C2-A1C12A98C6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65BDE9-BC17-4F48-81ED-1EBB09A2E3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35670-C07F-4DD3-8F68-0FFD1B26C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B834BA-72AA-43B8-A2D5-C2C1721F03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16337B-D8EF-46EB-8098-E8E01F7FE8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8C63DE-8CA2-44C7-BEA1-025C1E4A22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DAF572-5955-42A2-87BB-7923690379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04314A-40BD-4962-BB0D-7FCE5E60DD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ED750B-7B34-46E5-9CBF-4D301588D0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0C696-48F4-43EE-BBEA-39AA5309CC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2E6BE9-8E35-40D3-9955-ACAF2E43F2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9714D8-22A9-47A4-A280-C46037B405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DDB2AA-2E2F-4B4E-AD00-5B42141EC8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62C73-6E10-4309-84F3-DE20A89F9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FBFBE1-86A5-4231-BB49-8C75039A10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13DD83-9A74-4B07-82EF-12A89E1FB3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A2ECFC-B719-4243-AA34-4DB866152C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5A2A8D-046E-4F00-BCF3-96E9AA732C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C2E212-3A16-486E-A16B-F3EE204BA7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2A47A8-3825-47DC-B757-72575607D0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91192D-18BE-43B4-B80D-474C6DE6C2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8E99B4-338F-4605-AABC-9A26712074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FF3D28-C036-46DC-823F-A27C826A74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CA33C4-B2D8-4856-A596-6BABD0B516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EC031-78B6-49A1-8D85-2370F385A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FA6AE4-A525-492A-8BFA-CC76DCB586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F0ADF4-BFBF-4741-94C8-5DA4E1834F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6C4C37-4F2B-4240-A224-DEAFC7E8A3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7436B2-4803-4A0D-9027-2C1FF74F6F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F8E3B8-D6F2-413F-8FDD-EDD3327A1A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42A0E4-2BE3-4FEA-8FC2-3D8910E30B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F1B400-0C45-4DDF-8F41-1B8282048A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C09A98-52B6-43E2-A84F-01688A7E89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0F56A6-1CA6-4519-990D-238FDEA92D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A9D601-7DFA-4111-91BF-04994BF80E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D2C2C-846F-49E0-9E5A-0F47B3CCD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1361E3-548F-4EF6-8F13-A752CE870B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FA3EF8-407E-467D-BC5C-10AAE21ABC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5FF639-96DC-47E8-B5D2-4A82579267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0FFFDF-6CD0-470A-AF62-2FE9EA2761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D657EB-2813-4BF9-8844-F59DCB693C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CF53B0-8C4A-4EA8-880D-B3E0DC6AE3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E4C6C9-C1FC-4705-BF37-B394C49130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693604-E044-461B-914B-C790699EBD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BCC9FF-252D-4F65-87F9-D123614793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4A3700-8CDD-4A1B-A6AA-7B1EED24D9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CF585-ACA4-410B-90D3-C587E638B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08C105-FA02-4D7B-BAEB-FE2619F726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9C3E5D-D379-4B03-A8F7-E08922A9BB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E7423F-C0B7-4DA9-8B3D-7ABA51B8BE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78C07A-45FE-47EA-8891-B4B516A5DB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D15837-6AC6-47BB-85E3-E729FB1288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86FAD4-4419-47BE-8723-80AD746C1C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1197B9-5556-4021-BF07-CB2C72F36A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458934-FF5C-46FC-9A5D-0C76902C91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F6C16B-CD4B-4109-B2C4-1F5B51774A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22A4A1-FC9D-4FFE-8B7C-DE8954260C3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C8E09FA-6490-47F2-9124-20983976B81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6FFC7B9-1596-425C-8652-3A8074D167E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49E45E5-0F57-4BE4-B545-2C65130846E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B7D7472-D72C-4503-8F42-E96549BBC13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50D419C-2DD7-4840-BE16-DADDF1E107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40D9E0B-D028-4239-B2E4-ABD68B5B2EF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21AD06F-548F-42B4-8095-ADC020FB29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7202A31-A711-4C21-8B6A-407E60E7355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54DE973-D80B-4179-B0AD-558CE47BE8D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71299A1-1B51-4AA4-BE64-74614494D88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773FA36-3190-47B6-B637-66CA734896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E6E9E22-4F1B-4A89-9CAB-D2D51AA1F9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9/11-19-0397-00-00ay-task-group-ay-march-2019-closing-report.ppt" TargetMode="External"/><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9/11-19-0545-08-00ay-task-group-ay-march-april-and-may-2019-teleconference-call-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63E0E9-A804-48A4-8409-5912D0105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y 2019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5-12</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A6730C-341F-46EB-824F-047BA73E7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751786-B9C2-46DA-B207-588100D14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9968E6-3966-41B5-9E3B-5DE5FCCBF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F35848-F759-4036-A6E5-9CC5BA730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be cancelled)</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9C6AD79-03CC-437A-A85C-48ED2001F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A7D2D5-20AC-4C30-A370-7C127F8E5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since the March 2019 plenary</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extension request</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inder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29040" indent="-32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1D0EFF-49DB-425C-B10B-1DF34ACD4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extension request:  Introduc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recirculation WGLB #239</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of mandatory draft review (MDR) find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draft readiness for the second recirculation WGLB (D4.0)</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July 2019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F370EB-0A15-408A-B333-EC3A00E52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March 2019 plenary</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 submissions are covered during the meeting covering areas related to comment resolution on recirculation working group letter ballot 239 (Draft 3.0)</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15 CIDs are resolved and approved.</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19B3ED-5C02-4FCA-BA39-BAA622E77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Rectangle 2"/>
          <p:cNvSpPr/>
          <p:nvPr/>
        </p:nvSpPr>
        <p:spPr>
          <a:xfrm>
            <a:off x="685800" y="533520"/>
            <a:ext cx="78580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ress since the end of the March plenary</a:t>
            </a:r>
            <a:endParaRPr b="0" lang="en-US" sz="3200" spc="-1" strike="noStrike">
              <a:solidFill>
                <a:srgbClr val="000000"/>
              </a:solidFill>
              <a:latin typeface="Times New Roman"/>
            </a:endParaRPr>
          </a:p>
        </p:txBody>
      </p:sp>
      <p:sp>
        <p:nvSpPr>
          <p:cNvPr id="6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8 teleconference calls were held between March 20 and May 8 for comment resolution</a:t>
            </a: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95 comments are discussed</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95 comments are resolved and ready for motion</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2 bug fix contribution is reviewed and ready for motion</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23 editorial comments were proposed and resolved by the Edito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s of the end of May 8, there are (478-115-195-123=) 45 comments pending for resolution.</a:t>
            </a: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2AF9B8-A880-42CC-9B6B-AF8F6403D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rch/April/May teleconference calls (1)</a:t>
            </a:r>
            <a:endParaRPr b="0" lang="en-US" sz="3200" spc="-1" strike="noStrike">
              <a:solidFill>
                <a:srgbClr val="000000"/>
              </a:solidFill>
              <a:latin typeface="Times New Roman"/>
            </a:endParaRPr>
          </a:p>
        </p:txBody>
      </p:sp>
      <p:sp>
        <p:nvSpPr>
          <p:cNvPr id="64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0" name=""/>
          <p:cNvGraphicFramePr/>
          <p:nvPr/>
        </p:nvGraphicFramePr>
        <p:xfrm>
          <a:off x="696960" y="1727280"/>
          <a:ext cx="7913520" cy="44449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3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protoco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3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LB239 CH acces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4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ID resolution - part X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7, 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77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32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to CID 426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7,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9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of multiple LB239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7, May 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5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D3.0 comment resolutions on hybrid beamforming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D3.0 CR on hybrid beamforming for CID 43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tlanta, Georgia, United States </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y 12 - 17,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CCDA41-7F61-4FB4-AE68-DB892B90C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911816-D7B8-47BB-BBDF-C054BCEC6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rch/April/May teleconference calls (2)</a:t>
            </a:r>
            <a:endParaRPr b="0" lang="en-US" sz="3200" spc="-1" strike="noStrike">
              <a:solidFill>
                <a:srgbClr val="000000"/>
              </a:solidFill>
              <a:latin typeface="Times New Roman"/>
            </a:endParaRPr>
          </a:p>
        </p:txBody>
      </p:sp>
      <p:sp>
        <p:nvSpPr>
          <p:cNvPr id="65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5" name=""/>
          <p:cNvGraphicFramePr/>
          <p:nvPr/>
        </p:nvGraphicFramePr>
        <p:xfrm>
          <a:off x="696960" y="1727280"/>
          <a:ext cx="7913520" cy="4216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4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LB239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7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Times New Roman"/>
                          <a:ea typeface="MS PGothic"/>
                        </a:rPr>
                        <a:t>LB239 CIDs 4058, 4073, 4106, 4107, 4108, 4420, 4421, 4422, 442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21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Resolution of SAR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 April 1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8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Resolution to CID 443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2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LB239 HBF sounding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2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Changes to dual polarization TRN training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48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of TDD BF and TDD sector switch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7, April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676B4B-037B-4CA7-AD57-D87A0AB15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rch/April/May teleconference calls (3)</a:t>
            </a:r>
            <a:endParaRPr b="0" lang="en-US" sz="3200" spc="-1" strike="noStrike">
              <a:solidFill>
                <a:srgbClr val="000000"/>
              </a:solidFill>
              <a:latin typeface="Times New Roman"/>
            </a:endParaRPr>
          </a:p>
        </p:txBody>
      </p:sp>
      <p:sp>
        <p:nvSpPr>
          <p:cNvPr id="65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60" name=""/>
          <p:cNvGraphicFramePr/>
          <p:nvPr/>
        </p:nvGraphicFramePr>
        <p:xfrm>
          <a:off x="696960" y="1727280"/>
          <a:ext cx="7913520" cy="4216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5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omment resolution on MIMO BF (Part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orge Calc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Proposed comment resolutions 4173,417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TDD slot timing CID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of LB239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s to CIDs related to channel acce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ID resolution - Part XI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Bug fixes to asymmetric beamforming train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8A8B79-5D0D-4FFC-A866-9CB0EE9CE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6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May 14, 2019)</a:t>
            </a:r>
            <a:endParaRPr b="0" lang="en-US" sz="1800" spc="-1" strike="noStrike">
              <a:solidFill>
                <a:srgbClr val="000000"/>
              </a:solidFill>
              <a:latin typeface="Times New Roman"/>
            </a:endParaRPr>
          </a:p>
        </p:txBody>
      </p:sp>
      <p:graphicFrame>
        <p:nvGraphicFramePr>
          <p:cNvPr id="665" name=""/>
          <p:cNvGraphicFramePr/>
          <p:nvPr/>
        </p:nvGraphicFramePr>
        <p:xfrm>
          <a:off x="685800" y="1676520"/>
          <a:ext cx="7772400" cy="449568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9/0297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B14E91-B05A-428A-B999-68E532AD87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9 meeting minutes</a:t>
            </a:r>
            <a:endParaRPr b="0" lang="en-US" sz="3200" spc="-1" strike="noStrike">
              <a:solidFill>
                <a:srgbClr val="000000"/>
              </a:solidFill>
              <a:latin typeface="Times New Roman"/>
            </a:endParaRPr>
          </a:p>
        </p:txBody>
      </p:sp>
      <p:sp>
        <p:nvSpPr>
          <p:cNvPr id="66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March 2019 plenary:</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397-00-00ay-task-group-ay-march-2019-closing-report.pp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ent.</a:t>
            </a:r>
            <a:endParaRPr b="0" lang="en-US" sz="2000" spc="-1" strike="noStrike">
              <a:solidFill>
                <a:srgbClr val="000000"/>
              </a:solidFill>
              <a:latin typeface="Times New Roman"/>
            </a:endParaRPr>
          </a:p>
        </p:txBody>
      </p:sp>
      <p:sp>
        <p:nvSpPr>
          <p:cNvPr id="66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F80002-A656-49F3-A651-A381DCD0A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8: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April/May teleconference call minutes</a:t>
            </a:r>
            <a:endParaRPr b="0" lang="en-US" sz="3200" spc="-1" strike="noStrike">
              <a:solidFill>
                <a:srgbClr val="000000"/>
              </a:solidFill>
              <a:latin typeface="Times New Roman"/>
            </a:endParaRPr>
          </a:p>
        </p:txBody>
      </p:sp>
      <p:sp>
        <p:nvSpPr>
          <p:cNvPr id="67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March 20, March 27, April 3, April 10, April 17, April 24, May 1, and May 8, 2019:</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545-08-00ay-task-group-ay-march-april-and-may-2019-tele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67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6721F1-BA49-40B3-9D4E-2903782C2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7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0" name=""/>
          <p:cNvGraphicFramePr/>
          <p:nvPr/>
        </p:nvGraphicFramePr>
        <p:xfrm>
          <a:off x="696960" y="1650960"/>
          <a:ext cx="7913520" cy="3116160"/>
        </p:xfrm>
        <a:graphic>
          <a:graphicData uri="http://schemas.openxmlformats.org/drawingml/2006/table">
            <a:tbl>
              <a:tblPr/>
              <a:tblGrid>
                <a:gridCol w="979560"/>
                <a:gridCol w="1752480"/>
                <a:gridCol w="3581280"/>
                <a:gridCol w="1600200"/>
              </a:tblGrid>
              <a:tr h="36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7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lya Bolot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MU BA and R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3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y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 4474, 4475, 447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4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acces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C0476E-02E0-40D0-B788-02BEAF953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8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5"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4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esolution of CID 4284, 436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PHY measurement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4448, 447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05B766-A3F6-4478-930D-BB1E4C1C8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8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0"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wed frames and transmit order for different TDD slot categori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 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71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1F7706-0097-4AE7-B1F4-07DCA7801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9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5"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7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s 4233, 4306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9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 416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4224, 440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1F6131-C4C5-46D7-9DD5-F7A252863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69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0" name=""/>
          <p:cNvGraphicFramePr/>
          <p:nvPr/>
        </p:nvGraphicFramePr>
        <p:xfrm>
          <a:off x="696960" y="1650960"/>
          <a:ext cx="7913520" cy="311472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6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time synchronization clarifica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71r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90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6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DMG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C279AA-F40B-428D-9057-C55D72DF8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y 2019 interim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CFA712-34B4-42AD-BD8B-5F4297FBA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70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5"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6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time synchronization clarifica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5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4448, 447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DMG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9BCFEA-C941-4B4B-8824-1BDFE9770C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7)</a:t>
            </a:r>
            <a:endParaRPr b="0" lang="en-US" sz="3200" spc="-1" strike="noStrike">
              <a:solidFill>
                <a:srgbClr val="000000"/>
              </a:solidFill>
              <a:latin typeface="Times New Roman"/>
            </a:endParaRPr>
          </a:p>
        </p:txBody>
      </p:sp>
      <p:sp>
        <p:nvSpPr>
          <p:cNvPr id="70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0"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X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6B5309-291E-422D-99A0-645C97204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2" name="PlaceHolder 1"/>
          <p:cNvSpPr>
            <a:spLocks noGrp="1"/>
          </p:cNvSpPr>
          <p:nvPr>
            <p:ph/>
          </p:nvPr>
        </p:nvSpPr>
        <p:spPr>
          <a:xfrm>
            <a:off x="685440" y="1218960"/>
            <a:ext cx="4343400" cy="50734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AM2,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since the March 2019 plenary</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 extension request:  Introduc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PM2, 4:00pm – 6:00pm </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2,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714" name="Rectangle 3"/>
          <p:cNvSpPr/>
          <p:nvPr/>
        </p:nvSpPr>
        <p:spPr>
          <a:xfrm>
            <a:off x="4876920" y="1219320"/>
            <a:ext cx="41148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of mandatory draft review findings</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AM2, 10:30am – 12: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 extension request:  Mo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July 2019 plenary</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608848-FE2E-4241-BC54-9CA8E9D54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November 2018</a:t>
            </a:r>
            <a:endParaRPr b="0" lang="en-US" sz="3200" spc="-1" strike="noStrike">
              <a:solidFill>
                <a:srgbClr val="000000"/>
              </a:solidFill>
              <a:latin typeface="Times New Roman"/>
            </a:endParaRPr>
          </a:p>
        </p:txBody>
      </p:sp>
      <p:sp>
        <p:nvSpPr>
          <p:cNvPr id="71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21"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1:  Draft 3.0 Letter Ballot recirculation </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2:  Complete Mandatory Draft Review</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3:  Form Sponsor Ballot Pool </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5:  Draft 4.0 Letter Ballot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Seek EC approval for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Draft 4.0 unchanged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8:  Initial Sponsor Ballot (Draft 5.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Recirculation Sponsor Ballot (Draft 6.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1:  Second Recirculation Sponsor Ballot (Draft. 7.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2:  Third Recirculation Sponsor Ballot (Draft 7.0 unchanged)</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802.11 WG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EC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 May:  RevCom &amp; Standards Board Final</a:t>
            </a:r>
            <a:endParaRPr b="0" lang="en-US" sz="1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1EC85E-85FB-42EE-BE3E-4F7E913A0D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 extension request:  Introduction</a:t>
            </a:r>
            <a:endParaRPr b="0" lang="en-US" sz="3200" spc="-1" strike="noStrike">
              <a:solidFill>
                <a:srgbClr val="000000"/>
              </a:solidFill>
              <a:latin typeface="Times New Roman"/>
            </a:endParaRPr>
          </a:p>
        </p:txBody>
      </p:sp>
      <p:sp>
        <p:nvSpPr>
          <p:cNvPr id="72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2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0673r0</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46478C-9969-4634-9533-83094D12F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2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B795FD-2A6E-4106-A52A-8DC2DE369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73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CD57C1-1147-4DDE-8ADE-E8B9CAC2A0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9:  Comment Resolutio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ed motion #582)</a:t>
            </a:r>
            <a:endParaRPr b="0" lang="en-US" sz="3200" spc="-1" strike="noStrike">
              <a:solidFill>
                <a:srgbClr val="000000"/>
              </a:solidFill>
              <a:latin typeface="Times New Roman"/>
            </a:endParaRPr>
          </a:p>
        </p:txBody>
      </p:sp>
      <p:sp>
        <p:nvSpPr>
          <p:cNvPr id="73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98, 4128, 4249, 4122, 4123, 4240, 4335, 4242, </a:t>
            </a:r>
            <a:r>
              <a:rPr b="0" lang="en-US" sz="1600" spc="-1" strike="noStrike">
                <a:solidFill>
                  <a:srgbClr val="ff0000"/>
                </a:solidFill>
                <a:latin typeface="Times New Roman"/>
              </a:rPr>
              <a:t>4244, 4246</a:t>
            </a:r>
            <a:r>
              <a:rPr b="0" lang="en-US" sz="1600" spc="-1" strike="noStrike">
                <a:solidFill>
                  <a:srgbClr val="000000"/>
                </a:solidFill>
                <a:latin typeface="Times New Roman"/>
              </a:rPr>
              <a:t>, 4127, 4334, </a:t>
            </a:r>
            <a:r>
              <a:rPr b="0" lang="en-US" sz="1600" spc="-1" strike="noStrike">
                <a:solidFill>
                  <a:srgbClr val="000000"/>
                </a:solidFill>
                <a:latin typeface="Times New Roman"/>
              </a:rPr>
              <a:t>	</a:t>
            </a:r>
            <a:r>
              <a:rPr b="0" lang="en-US" sz="1600" spc="-1" strike="noStrike">
                <a:solidFill>
                  <a:srgbClr val="000000"/>
                </a:solidFill>
                <a:latin typeface="Times New Roman"/>
              </a:rPr>
              <a:t>and 4336 as proposed in 19/0333r4;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250 as proposed in 19/0362r2.</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4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8C2CAC-06BB-4ED6-B4B1-4F7033508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0:  Comment Resolution</a:t>
            </a:r>
            <a:endParaRPr b="0" lang="en-US" sz="3200" spc="-1" strike="noStrike">
              <a:solidFill>
                <a:srgbClr val="000000"/>
              </a:solidFill>
              <a:latin typeface="Times New Roman"/>
            </a:endParaRPr>
          </a:p>
        </p:txBody>
      </p:sp>
      <p:sp>
        <p:nvSpPr>
          <p:cNvPr id="74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116, 4168, 4175, and 4333 as proposed in 19/0535r2; </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326, 4144, and 4195 as proposed in 19/0536r0;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131, 4132, 4133, 4135, 4136, 4137, 4138, 4139, and 4140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620r1.</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4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538BA7-B9C7-41F4-8AC9-1F7F3083C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1:  Comment Resolution</a:t>
            </a:r>
            <a:endParaRPr b="0" lang="en-US" sz="3200" spc="-1" strike="noStrike">
              <a:solidFill>
                <a:srgbClr val="000000"/>
              </a:solidFill>
              <a:latin typeface="Times New Roman"/>
            </a:endParaRPr>
          </a:p>
        </p:txBody>
      </p:sp>
      <p:sp>
        <p:nvSpPr>
          <p:cNvPr id="74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83, 4084, 4085, 4086, 4198, 4149, 4152, 4064, 4076, 4077, 4171, 4154, </a:t>
            </a:r>
            <a:r>
              <a:rPr b="0" lang="en-US" sz="1600" spc="-1" strike="noStrike">
                <a:solidFill>
                  <a:srgbClr val="000000"/>
                </a:solidFill>
                <a:latin typeface="Times New Roman"/>
              </a:rPr>
              <a:t>	</a:t>
            </a:r>
            <a:r>
              <a:rPr b="0" lang="en-US" sz="1600" spc="-1" strike="noStrike">
                <a:solidFill>
                  <a:srgbClr val="000000"/>
                </a:solidFill>
                <a:latin typeface="Times New Roman"/>
              </a:rPr>
              <a:t>and 4159 as proposed in 19/0546r2;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466 as proposed in 19/0667r1.</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Ilya Bolot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5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75AD43A-6C23-4A93-AC11-35CA383E00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206642-6343-4415-9B71-015C182BA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2:  Comment Resolution</a:t>
            </a:r>
            <a:endParaRPr b="0" lang="en-US" sz="3200" spc="-1" strike="noStrike">
              <a:solidFill>
                <a:srgbClr val="000000"/>
              </a:solidFill>
              <a:latin typeface="Times New Roman"/>
            </a:endParaRPr>
          </a:p>
        </p:txBody>
      </p:sp>
      <p:sp>
        <p:nvSpPr>
          <p:cNvPr id="75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15, 4230, 4257, 4280, 4291, 4295, 4234, 4346, 4348, 4350, 4372, 4428, </a:t>
            </a:r>
            <a:r>
              <a:rPr b="0" lang="en-US" sz="1600" spc="-1" strike="noStrike">
                <a:solidFill>
                  <a:srgbClr val="000000"/>
                </a:solidFill>
                <a:latin typeface="Times New Roman"/>
              </a:rPr>
              <a:t>	</a:t>
            </a:r>
            <a:r>
              <a:rPr b="0" lang="en-US" sz="1600" spc="-1" strike="noStrike">
                <a:solidFill>
                  <a:srgbClr val="000000"/>
                </a:solidFill>
                <a:latin typeface="Times New Roman"/>
              </a:rPr>
              <a:t>4435, 4436, 4439, 4443, 4444, 4445, 4446, 4447, 4452, 4453, 4454, 4455, and </a:t>
            </a:r>
            <a:r>
              <a:rPr b="0" lang="en-US" sz="1600" spc="-1" strike="noStrike">
                <a:solidFill>
                  <a:srgbClr val="000000"/>
                </a:solidFill>
                <a:latin typeface="Times New Roman"/>
              </a:rPr>
              <a:t>	</a:t>
            </a:r>
            <a:r>
              <a:rPr b="0" lang="en-US" sz="1600" spc="-1" strike="noStrike">
                <a:solidFill>
                  <a:srgbClr val="000000"/>
                </a:solidFill>
                <a:latin typeface="Times New Roman"/>
              </a:rPr>
              <a:t>4463 as proposed in 19/0490r2;  </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58, 4073, 4106, 4107, 4108, 4420, 4421, 4422, and 4423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578r0;</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55, 4059, 4072, 4145, 4264, 4265, 4274, 4300, 4347, 4349, 4353, 4354, </a:t>
            </a:r>
            <a:r>
              <a:rPr b="0" lang="en-US" sz="1600" spc="-1" strike="noStrike">
                <a:solidFill>
                  <a:srgbClr val="000000"/>
                </a:solidFill>
                <a:latin typeface="Times New Roman"/>
              </a:rPr>
              <a:t>	</a:t>
            </a:r>
            <a:r>
              <a:rPr b="0" lang="en-US" sz="1600" spc="-1" strike="noStrike">
                <a:solidFill>
                  <a:srgbClr val="000000"/>
                </a:solidFill>
                <a:latin typeface="Times New Roman"/>
              </a:rPr>
              <a:t>4355, 4356, 4364, 4371, 4385, 4391, 4393, 4394, and 4429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281r2;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70, 4223, 4419, 4424, 4425, 4426, and 4030 as proposed in 19/0665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George Calcev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5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F21ECD-A682-4FE8-834F-8A042E595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3:  Comment Resolution</a:t>
            </a:r>
            <a:endParaRPr b="0" lang="en-US" sz="3200" spc="-1" strike="noStrike">
              <a:solidFill>
                <a:srgbClr val="000000"/>
              </a:solidFill>
              <a:latin typeface="Times New Roman"/>
            </a:endParaRPr>
          </a:p>
        </p:txBody>
      </p:sp>
      <p:sp>
        <p:nvSpPr>
          <p:cNvPr id="75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62, 4134, 4231, 4315, 4329, and 4344 as proposed in 19/0554r0;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310 as proposed in 19/0555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i-Hsiang Su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6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8FA99F-0402-4EE3-8286-02F66A0B5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4:  Comment Resolution</a:t>
            </a:r>
            <a:endParaRPr b="0" lang="en-US" sz="3200" spc="-1" strike="noStrike">
              <a:solidFill>
                <a:srgbClr val="000000"/>
              </a:solidFill>
              <a:latin typeface="Times New Roman"/>
            </a:endParaRPr>
          </a:p>
        </p:txBody>
      </p:sp>
      <p:sp>
        <p:nvSpPr>
          <p:cNvPr id="76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142, 4143, and 4469 as proposed in 19/0547r2.</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Ilya Bolot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6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59AAD5-9565-4473-8E08-9368786CE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5:  Comment Resolution</a:t>
            </a:r>
            <a:endParaRPr b="0" lang="en-US" sz="3200" spc="-1" strike="noStrike">
              <a:solidFill>
                <a:srgbClr val="000000"/>
              </a:solidFill>
              <a:latin typeface="Times New Roman"/>
            </a:endParaRPr>
          </a:p>
        </p:txBody>
      </p:sp>
      <p:sp>
        <p:nvSpPr>
          <p:cNvPr id="76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21, 4216, 4292, 4285, 4293, 4451, 4411, 4450, and 4449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621r3.</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51, 4282, 4456, 4457, 4030, 4031, 4032, 4048, 4050, 4052, 4027, 4028, </a:t>
            </a:r>
            <a:r>
              <a:rPr b="0" lang="en-US" sz="1600" spc="-1" strike="noStrike">
                <a:solidFill>
                  <a:srgbClr val="000000"/>
                </a:solidFill>
                <a:latin typeface="Times New Roman"/>
              </a:rPr>
              <a:t>	</a:t>
            </a:r>
            <a:r>
              <a:rPr b="0" lang="en-US" sz="1600" spc="-1" strike="noStrike">
                <a:solidFill>
                  <a:srgbClr val="000000"/>
                </a:solidFill>
                <a:latin typeface="Times New Roman"/>
              </a:rPr>
              <a:t>4029, 4049, 4051, 4053, 4047, 4413, 4111, 4112, 4118, 4272, 4275, 4298, 4299, </a:t>
            </a:r>
            <a:r>
              <a:rPr b="0" lang="en-US" sz="1600" spc="-1" strike="noStrike">
                <a:solidFill>
                  <a:srgbClr val="000000"/>
                </a:solidFill>
                <a:latin typeface="Times New Roman"/>
              </a:rPr>
              <a:t>	</a:t>
            </a:r>
            <a:r>
              <a:rPr b="0" lang="en-US" sz="1600" spc="-1" strike="noStrike">
                <a:solidFill>
                  <a:srgbClr val="000000"/>
                </a:solidFill>
                <a:latin typeface="Times New Roman"/>
              </a:rPr>
              <a:t>4301, 4302, 4308, 4271, 4117, 4254, 4255, 4273, 4269, 4277, 4270, 4278, 4252, </a:t>
            </a:r>
            <a:r>
              <a:rPr b="0" lang="en-US" sz="1600" spc="-1" strike="noStrike">
                <a:solidFill>
                  <a:srgbClr val="000000"/>
                </a:solidFill>
                <a:latin typeface="Times New Roman"/>
              </a:rPr>
              <a:t>	</a:t>
            </a:r>
            <a:r>
              <a:rPr b="0" lang="en-US" sz="1600" spc="-1" strike="noStrike">
                <a:solidFill>
                  <a:srgbClr val="000000"/>
                </a:solidFill>
                <a:latin typeface="Times New Roman"/>
              </a:rPr>
              <a:t>4253, 4368, 4374, 4297, 4373, 4395, 4401, 4009, 4369, 4370, 4017, 4018, 4019, </a:t>
            </a:r>
            <a:r>
              <a:rPr b="0" lang="en-US" sz="1600" spc="-1" strike="noStrike">
                <a:solidFill>
                  <a:srgbClr val="000000"/>
                </a:solidFill>
                <a:latin typeface="Times New Roman"/>
              </a:rPr>
              <a:t>	</a:t>
            </a:r>
            <a:r>
              <a:rPr b="0" lang="en-US" sz="1600" spc="-1" strike="noStrike">
                <a:solidFill>
                  <a:srgbClr val="000000"/>
                </a:solidFill>
                <a:latin typeface="Times New Roman"/>
              </a:rPr>
              <a:t>4020, 4022, 4008, 4289, and 4290 as proposed in 19/0648r4.</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eng Ch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7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67E4C1-7A89-4D95-9C22-49616CE28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6:  Comment Resolution</a:t>
            </a:r>
            <a:endParaRPr b="0" lang="en-US" sz="3200" spc="-1" strike="noStrike">
              <a:solidFill>
                <a:srgbClr val="000000"/>
              </a:solidFill>
              <a:latin typeface="Times New Roman"/>
            </a:endParaRPr>
          </a:p>
        </p:txBody>
      </p:sp>
      <p:sp>
        <p:nvSpPr>
          <p:cNvPr id="77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267 as proposed in 19/0532r2;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433 as proposed in 19/0587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7 Yes; 0 No; 0 Abstain).</a:t>
            </a:r>
            <a:endParaRPr b="0" lang="en-US" sz="2000" spc="-1" strike="noStrike">
              <a:solidFill>
                <a:srgbClr val="000000"/>
              </a:solidFill>
              <a:latin typeface="Times New Roman"/>
            </a:endParaRPr>
          </a:p>
        </p:txBody>
      </p:sp>
      <p:sp>
        <p:nvSpPr>
          <p:cNvPr id="77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703B9D-E814-425A-9C49-64660CC61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7:  Comment Resolution</a:t>
            </a:r>
            <a:endParaRPr b="0" lang="en-US" sz="3200" spc="-1" strike="noStrike">
              <a:solidFill>
                <a:srgbClr val="000000"/>
              </a:solidFill>
              <a:latin typeface="Times New Roman"/>
            </a:endParaRPr>
          </a:p>
        </p:txBody>
      </p:sp>
      <p:sp>
        <p:nvSpPr>
          <p:cNvPr id="77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reject CID 4067 with a resolution of “The commenter has indicated to the Chair and Editor that he wishes to withdraw the com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7 Yes; 0 No; 0 Abstain).</a:t>
            </a:r>
            <a:endParaRPr b="0" lang="en-US" sz="2000" spc="-1" strike="noStrike">
              <a:solidFill>
                <a:srgbClr val="000000"/>
              </a:solidFill>
              <a:latin typeface="Times New Roman"/>
            </a:endParaRPr>
          </a:p>
        </p:txBody>
      </p:sp>
      <p:sp>
        <p:nvSpPr>
          <p:cNvPr id="78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6F756C-FFFA-4F7D-9EA8-F0F000EDF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8:  Comment Resolution</a:t>
            </a:r>
            <a:endParaRPr b="0" lang="en-US" sz="3200" spc="-1" strike="noStrike">
              <a:solidFill>
                <a:srgbClr val="000000"/>
              </a:solidFill>
              <a:latin typeface="Times New Roman"/>
            </a:endParaRPr>
          </a:p>
        </p:txBody>
      </p:sp>
      <p:sp>
        <p:nvSpPr>
          <p:cNvPr id="78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he proposed resolution for 123 editorial comments assigned to Carlos Cordeiro in 19/0297r6 and incorporate the indicated changes into the Draft 3.0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8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358BDD-3A67-4523-937F-AC95B80BA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9:  Comment Resolution</a:t>
            </a:r>
            <a:endParaRPr b="0" lang="en-US" sz="3200" spc="-1" strike="noStrike">
              <a:solidFill>
                <a:srgbClr val="000000"/>
              </a:solidFill>
              <a:latin typeface="Times New Roman"/>
            </a:endParaRPr>
          </a:p>
        </p:txBody>
      </p:sp>
      <p:sp>
        <p:nvSpPr>
          <p:cNvPr id="78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124, 4243, 4125, 4248, 4129, 4337, 4130, and 4126 as proposed in 19/0658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Yan X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9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686ADC-087D-4DF2-8EEC-1F0DD8C63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0:  Comment Resolution</a:t>
            </a:r>
            <a:endParaRPr b="0" lang="en-US" sz="3200" spc="-1" strike="noStrike">
              <a:solidFill>
                <a:srgbClr val="000000"/>
              </a:solidFill>
              <a:latin typeface="Times New Roman"/>
            </a:endParaRPr>
          </a:p>
        </p:txBody>
      </p:sp>
      <p:sp>
        <p:nvSpPr>
          <p:cNvPr id="79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173 and 4174 as proposed in 19/0655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9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4A771F-C90E-453F-9CEE-1B107119D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1:  Comment Resolution</a:t>
            </a:r>
            <a:endParaRPr b="0" lang="en-US" sz="3200" spc="-1" strike="noStrike">
              <a:solidFill>
                <a:srgbClr val="000000"/>
              </a:solidFill>
              <a:latin typeface="Times New Roman"/>
            </a:endParaRPr>
          </a:p>
        </p:txBody>
      </p:sp>
      <p:sp>
        <p:nvSpPr>
          <p:cNvPr id="79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014, 4024, 4025, 4069, 4063, 4068, 4229, 4303, 4386, 4390, 4418, 4459, 4471, 4472, and 4473 as proposed in 19/0664r1.</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eng Ch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80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DD23CD8-74EE-4D41-86BD-18102E8C0F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25914D-CF8A-4BA5-88A6-1E5536E33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0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806" name=""/>
          <p:cNvGraphicFramePr/>
          <p:nvPr/>
        </p:nvGraphicFramePr>
        <p:xfrm>
          <a:off x="696960" y="1650960"/>
          <a:ext cx="7913520" cy="3116160"/>
        </p:xfrm>
        <a:graphic>
          <a:graphicData uri="http://schemas.openxmlformats.org/drawingml/2006/table">
            <a:tbl>
              <a:tblPr/>
              <a:tblGrid>
                <a:gridCol w="979560"/>
                <a:gridCol w="1752480"/>
                <a:gridCol w="3581280"/>
                <a:gridCol w="1600200"/>
              </a:tblGrid>
              <a:tr h="36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7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lya Bolot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MU BA and R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3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y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 4474, 4475, 447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4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acces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4AEC5A-6E57-47C8-B921-BF6765DAF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CDA6D8-D71A-4CB3-B320-1C5917B2F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1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6AD4F4-8D4E-4A3F-9236-D93389B8E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1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820"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4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esolution of CID 4284, 436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PHY measurement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4448, 447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B2BAF8-4C8D-462C-BE68-0B6555343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53AB07-9687-4338-92BE-656651A18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2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DE441E-61AE-42DA-9955-F4A09F49B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3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834"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wed frames and transmit order for different TDD slot categori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 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71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C9B136-4977-445C-A402-7D4BC40A2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7"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8C16A7-88E9-4F85-9090-9720A3A3F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4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of mandatory draft review (MDR) find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4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9F1F11-0985-47D0-BB30-AA7D1DCD4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4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848"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7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s 4233, 4306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9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 416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4224, 440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C3C508-3776-442A-B41E-6523EB7EF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3A6923-B853-4229-8FB4-B2B2CA777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of Mandatory Draft Review findings</a:t>
            </a:r>
            <a:endParaRPr b="0" lang="en-US" sz="3200" spc="-1" strike="noStrike">
              <a:solidFill>
                <a:srgbClr val="000000"/>
              </a:solidFill>
              <a:latin typeface="Times New Roman"/>
            </a:endParaRPr>
          </a:p>
        </p:txBody>
      </p:sp>
      <p:sp>
        <p:nvSpPr>
          <p:cNvPr id="85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853"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0681r4</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6423DE-B270-4BBB-BC7B-F023E969F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5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7B576C-B942-49DF-AD17-2BA2BD0CC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6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A2F506-E800-41C8-9373-C1C87C451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6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867" name=""/>
          <p:cNvGraphicFramePr/>
          <p:nvPr/>
        </p:nvGraphicFramePr>
        <p:xfrm>
          <a:off x="696960" y="1650960"/>
          <a:ext cx="7913520" cy="311472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6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time synchronization clarifica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71r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90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6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DMG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80F66C-9542-4657-A09E-3FE5C3BAF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EC8A0B-4531-4188-880D-00A39C2CB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7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extension request:  Motion</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draft readiness for the second recirculation WGLB (D4.0)</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July 2019 plenary</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9CBA03-5267-4EB8-9A98-C64C09A14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7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2346D5-E54B-4C6D-97AC-284F754BC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2:  Comment Resolution</a:t>
            </a:r>
            <a:endParaRPr b="0" lang="en-US" sz="3200" spc="-1" strike="noStrike">
              <a:solidFill>
                <a:srgbClr val="000000"/>
              </a:solidFill>
              <a:latin typeface="Times New Roman"/>
            </a:endParaRPr>
          </a:p>
        </p:txBody>
      </p:sp>
      <p:sp>
        <p:nvSpPr>
          <p:cNvPr id="88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324 as proposed in 19/0490r2;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430 as proposed in 19/0665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8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95F755-8116-4C21-BEA9-7385CD7FD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3:  Comment Resolution</a:t>
            </a:r>
            <a:endParaRPr b="0" lang="en-US" sz="3200" spc="-1" strike="noStrike">
              <a:solidFill>
                <a:srgbClr val="000000"/>
              </a:solidFill>
              <a:latin typeface="Times New Roman"/>
            </a:endParaRPr>
          </a:p>
        </p:txBody>
      </p:sp>
      <p:sp>
        <p:nvSpPr>
          <p:cNvPr id="88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387, 4388, 4389, 4437, 4438, 4440, 4441, and 4442 as proposed in 19/0647r1.</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Ilya Bolot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8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8E1169-2432-46DC-9F7D-86FA2AFA5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4:  Comment Resolution</a:t>
            </a:r>
            <a:endParaRPr b="0" lang="en-US" sz="3200" spc="-1" strike="noStrike">
              <a:solidFill>
                <a:srgbClr val="000000"/>
              </a:solidFill>
              <a:latin typeface="Times New Roman"/>
            </a:endParaRPr>
          </a:p>
        </p:txBody>
      </p:sp>
      <p:sp>
        <p:nvSpPr>
          <p:cNvPr id="89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4256 as proposed in 19/0730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ony H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9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6C248E-1EED-46C0-AD2E-876ED96EB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66926D-C01A-4C5E-85F8-201AB1527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5:  Comment Resolution</a:t>
            </a:r>
            <a:endParaRPr b="0" lang="en-US" sz="3200" spc="-1" strike="noStrike">
              <a:solidFill>
                <a:srgbClr val="000000"/>
              </a:solidFill>
              <a:latin typeface="Times New Roman"/>
            </a:endParaRPr>
          </a:p>
        </p:txBody>
      </p:sp>
      <p:sp>
        <p:nvSpPr>
          <p:cNvPr id="89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474, 4475, and 4476 as proposed in 19/0690r0;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84 and 4365 as proposed in 19/0746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9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09F52E-BF55-47FE-AD3D-5010B9D51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6:  Comment Resolution</a:t>
            </a:r>
            <a:endParaRPr b="0" lang="en-US" sz="3200" spc="-1" strike="noStrike">
              <a:solidFill>
                <a:srgbClr val="000000"/>
              </a:solidFill>
              <a:latin typeface="Times New Roman"/>
            </a:endParaRPr>
          </a:p>
        </p:txBody>
      </p:sp>
      <p:sp>
        <p:nvSpPr>
          <p:cNvPr id="90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71, 4146, 4403, 4404, 4266, and 4400 as proposed in 19/0647r0;  </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309 and 4416 as proposed in 19/0321r1; </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166 as proposed in 19/0896r1;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262 as proposed in 19/0906r1.</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0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83A191-3F2A-4E89-A23F-53D1697B2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7:  Comment Resolution</a:t>
            </a:r>
            <a:endParaRPr b="0" lang="en-US" sz="3200" spc="-1" strike="noStrike">
              <a:solidFill>
                <a:srgbClr val="000000"/>
              </a:solidFill>
              <a:latin typeface="Times New Roman"/>
            </a:endParaRPr>
          </a:p>
        </p:txBody>
      </p:sp>
      <p:sp>
        <p:nvSpPr>
          <p:cNvPr id="90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148, 4150, and 4151 as proposed in 19/0438r2;  </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ris Hans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0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B66743-44EA-4074-9A5C-48ACDEA57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8:  Comment Resolution</a:t>
            </a:r>
            <a:endParaRPr b="0" lang="en-US" sz="3200" spc="-1" strike="noStrike">
              <a:solidFill>
                <a:srgbClr val="000000"/>
              </a:solidFill>
              <a:latin typeface="Times New Roman"/>
            </a:endParaRPr>
          </a:p>
        </p:txBody>
      </p:sp>
      <p:sp>
        <p:nvSpPr>
          <p:cNvPr id="91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392, 4406, 4407, 4408, and 4410 as proposed in 19/0668r1;  </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Payam Torab</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1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DCDBA8-4F7B-4CE7-A726-AB528E579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9:  Comment Resolution</a:t>
            </a:r>
            <a:endParaRPr b="0" lang="en-US" sz="3200" spc="-1" strike="noStrike">
              <a:solidFill>
                <a:srgbClr val="000000"/>
              </a:solidFill>
              <a:latin typeface="Times New Roman"/>
            </a:endParaRPr>
          </a:p>
        </p:txBody>
      </p:sp>
      <p:sp>
        <p:nvSpPr>
          <p:cNvPr id="91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20 and 4225 as proposed in 19/0471r6;</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228 as proposed in 19/759r2.  </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GB" sz="2000" spc="-1" strike="noStrike">
                <a:solidFill>
                  <a:srgbClr val="000000"/>
                </a:solidFill>
                <a:latin typeface="Times New Roman"/>
                <a:ea typeface="Microsoft YaHei"/>
              </a:rPr>
              <a:t>Kazuyuki Sakod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1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E337EF-CC5B-4A2A-ABCD-569A0B2DC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10:  Comment Resolution</a:t>
            </a:r>
            <a:endParaRPr b="0" lang="en-US" sz="3200" spc="-1" strike="noStrike">
              <a:solidFill>
                <a:srgbClr val="000000"/>
              </a:solidFill>
              <a:latin typeface="Times New Roman"/>
            </a:endParaRPr>
          </a:p>
        </p:txBody>
      </p:sp>
      <p:sp>
        <p:nvSpPr>
          <p:cNvPr id="92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233 and 4306 as proposed in 19/0879r1. </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GB" sz="2000" spc="-1" strike="noStrike">
                <a:solidFill>
                  <a:srgbClr val="000000"/>
                </a:solidFill>
                <a:latin typeface="Times New Roman"/>
                <a:ea typeface="Microsoft YaHei"/>
              </a:rPr>
              <a:t>Mohamed Abouelseou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2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8B31F2-39F0-4DF4-BDFF-F9AB87834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11:  Comment Resolution</a:t>
            </a:r>
            <a:endParaRPr b="0" lang="en-US" sz="3200" spc="-1" strike="noStrike">
              <a:solidFill>
                <a:srgbClr val="000000"/>
              </a:solidFill>
              <a:latin typeface="Times New Roman"/>
            </a:endParaRPr>
          </a:p>
        </p:txBody>
      </p:sp>
      <p:sp>
        <p:nvSpPr>
          <p:cNvPr id="92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224 and 4405 as proposed in 19/0297r7. </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GB" sz="2000" spc="-1" strike="noStrike">
                <a:solidFill>
                  <a:srgbClr val="000000"/>
                </a:solidFill>
                <a:latin typeface="Times New Roman"/>
                <a:ea typeface="Microsoft YaHei"/>
              </a:rPr>
              <a:t>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2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C7B927-2397-49D6-8214-2202AF491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Bug fixes</a:t>
            </a:r>
            <a:endParaRPr b="0" lang="en-US" sz="3200" spc="-1" strike="noStrike">
              <a:solidFill>
                <a:srgbClr val="000000"/>
              </a:solidFill>
              <a:latin typeface="Times New Roman"/>
            </a:endParaRPr>
          </a:p>
        </p:txBody>
      </p:sp>
      <p:sp>
        <p:nvSpPr>
          <p:cNvPr id="93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orporate the text change suggested in 19/0629r0 into the Draft 3.1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3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11F3BD-32F5-49E6-AF04-0D1118F25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Bug fixes</a:t>
            </a:r>
            <a:endParaRPr b="0" lang="en-US" sz="3200" spc="-1" strike="noStrike">
              <a:solidFill>
                <a:srgbClr val="000000"/>
              </a:solidFill>
              <a:latin typeface="Times New Roman"/>
            </a:endParaRPr>
          </a:p>
        </p:txBody>
      </p:sp>
      <p:sp>
        <p:nvSpPr>
          <p:cNvPr id="93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orporate the text change suggested in 19/0695r0 into the Draft 3.1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homas Handt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3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043D6A-3957-476E-AD6A-80B6AC009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Mandatory Draft Review</a:t>
            </a:r>
            <a:endParaRPr b="0" lang="en-US" sz="3200" spc="-1" strike="noStrike">
              <a:solidFill>
                <a:srgbClr val="000000"/>
              </a:solidFill>
              <a:latin typeface="Times New Roman"/>
            </a:endParaRPr>
          </a:p>
        </p:txBody>
      </p:sp>
      <p:sp>
        <p:nvSpPr>
          <p:cNvPr id="94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945"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orporate the change suggested in 19/0681r4 into the Draft 3.1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86E155C-218E-459F-8076-5041430C0D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9199CE-A264-4937-BBEB-8FA13EE702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PAR extension request</a:t>
            </a:r>
            <a:endParaRPr b="0" lang="en-US" sz="3200" spc="-1" strike="noStrike">
              <a:solidFill>
                <a:srgbClr val="000000"/>
              </a:solidFill>
              <a:latin typeface="Times New Roman"/>
            </a:endParaRPr>
          </a:p>
        </p:txBody>
      </p:sp>
      <p:sp>
        <p:nvSpPr>
          <p:cNvPr id="94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950"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lieving that the PAR contained in the document referenced below meets IEEE-SA guidelin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est that the PAR contained in 11-19/0673r0 be posted to the IEEE 802 Executive Committee (EC) agenda for WG 802 preview and EC approval to submit to NesCom. </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B74F59-161D-4203-A732-CD7E4E1DD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Recirculation WGLB</a:t>
            </a:r>
            <a:endParaRPr b="0" lang="en-US" sz="3200" spc="-1" strike="noStrike">
              <a:solidFill>
                <a:srgbClr val="000000"/>
              </a:solidFill>
              <a:latin typeface="Times New Roman"/>
            </a:endParaRPr>
          </a:p>
        </p:txBody>
      </p:sp>
      <p:sp>
        <p:nvSpPr>
          <p:cNvPr id="95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955"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struct the editor to prepare P802.11ay D4.0 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a 15 day Recirculation Working Group Technical Letter Ballot asking the question “Should P802.11ay D4.0 be forwarded to Sponsor Ballo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108328-FCB6-4DDB-8F28-30AEADB72E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95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FCEB2B-7EBA-4346-83AE-C7E2909AA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July 2019 plenary</a:t>
            </a:r>
            <a:endParaRPr b="0" lang="en-US" sz="3200" spc="-1" strike="noStrike">
              <a:solidFill>
                <a:srgbClr val="000000"/>
              </a:solidFill>
              <a:latin typeface="Times New Roman"/>
            </a:endParaRPr>
          </a:p>
        </p:txBody>
      </p:sp>
      <p:sp>
        <p:nvSpPr>
          <p:cNvPr id="96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D7934F-7517-4920-80F6-A94D69D0B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96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BD</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370218-9C3B-44F0-B62A-9F33201F5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y 2019</cp:keywords>
  <dc:language>en-US</dc:language>
  <cp:lastModifiedBy>Edward Au</cp:lastModifiedBy>
  <cp:lastPrinted>2014-11-04T15:04:57Z</cp:lastPrinted>
  <dcterms:modified xsi:type="dcterms:W3CDTF">2019-05-15T22:07:48Z</dcterms:modified>
  <cp:revision>8978</cp:revision>
  <dc:subject>Task Group AY November 2015 Meeting Agenda</dc:subject>
  <dc:title>11-19/0589r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