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50406FD-8D1C-434B-8727-66CB8D2AED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466361-7FA6-4A6A-9361-C0EE1B762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54160" y="701640"/>
            <a:ext cx="4626000" cy="3468600"/>
          </a:xfrm>
          <a:prstGeom prst="rect">
            <a:avLst/>
          </a:prstGeom>
          <a:ln w="0">
            <a:noFill/>
          </a:ln>
        </p:spPr>
      </p:sp>
      <p:sp>
        <p:nvSpPr>
          <p:cNvPr id="9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C161FD-4620-4218-8844-8BD3CBD6A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6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21BEAF-6F01-4FE2-9933-BC53035F9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B35E2D-39CD-487D-9429-F0525B9B2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7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7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2297DC-1D66-48E0-95F6-2AA8EB3A4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7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7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112949-FE03-4B3C-8192-891C10587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BA276B-CCED-4AF1-9EBB-5EF5C7176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2CA3EC-EC20-4D93-A7B4-B5574F272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12A979-016B-4B60-A1DB-121C506E3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EC7344-F71B-4896-A97E-F871F9F85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54160" y="701640"/>
            <a:ext cx="4626000" cy="3468600"/>
          </a:xfrm>
          <a:prstGeom prst="rect">
            <a:avLst/>
          </a:prstGeom>
          <a:ln w="0">
            <a:noFill/>
          </a:ln>
        </p:spPr>
      </p:sp>
      <p:sp>
        <p:nvSpPr>
          <p:cNvPr id="10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2B19D7-C7A4-4256-9C5A-59A196949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6CF700-73A1-4AFF-972C-7643A62FD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ED754E-DDF4-4C45-B614-010ED74D0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D3022C-0D65-4D22-B232-3C4376E1A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14679B-498F-46FC-ACC5-D447D51B3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6D2280-64B4-43E1-B358-C38510F43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5CC56F-3EEA-4E82-9920-86951CE03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414EC-8B1F-4451-94DE-DC437B87F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8CF968-BDBB-40EA-AAC4-ACA9A96B1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563232-FE5B-46EF-A89A-8B74B4D6F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2233B0-D460-4085-9AF3-89BEC1B2C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342E52-5AF9-4E93-8FF2-1FF7593C3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C04E87-C0CF-4F56-8847-D19B67C53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50F6F6-8B28-47A6-A7E3-F0A119299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9E4947-654A-416F-9828-0822A94A7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54160" y="701640"/>
            <a:ext cx="4626000" cy="3468600"/>
          </a:xfrm>
          <a:prstGeom prst="rect">
            <a:avLst/>
          </a:prstGeom>
          <a:ln w="0">
            <a:noFill/>
          </a:ln>
        </p:spPr>
      </p:sp>
      <p:sp>
        <p:nvSpPr>
          <p:cNvPr id="9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69EA0A-C477-4682-B57B-37A5639A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4AB767-F639-4E6C-B162-F74E959B3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53F6DB-401D-4C7F-975B-A0AC58AC4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EFEF8C-B1A0-4C60-B40E-4CA0E6A98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125B68-4371-4B46-886B-71827AF58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E7DD5A-D5F2-42A5-8E0F-4348353D5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CB2266-0013-4F03-BB17-E52C1A5D4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72F7DA-3DB9-41C4-B136-BCB6B15D4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54160" y="701640"/>
            <a:ext cx="4626000" cy="3468600"/>
          </a:xfrm>
          <a:prstGeom prst="rect">
            <a:avLst/>
          </a:prstGeom>
          <a:ln w="0">
            <a:noFill/>
          </a:ln>
        </p:spPr>
      </p:sp>
      <p:sp>
        <p:nvSpPr>
          <p:cNvPr id="11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09E936-9214-41E1-B4FD-C2265CCFF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9C4E64-FF93-49E2-8A73-F5675E8FF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16F0BCD-0EB8-48A7-B08F-9B03AAEECB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7680" y="696960"/>
            <a:ext cx="4640400" cy="3479760"/>
          </a:xfrm>
          <a:prstGeom prst="rect">
            <a:avLst/>
          </a:prstGeom>
          <a:ln w="0">
            <a:noFill/>
          </a:ln>
        </p:spPr>
      </p:sp>
      <p:sp>
        <p:nvSpPr>
          <p:cNvPr id="93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6774DC-1B6F-4FB4-B49E-7B9E6A560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061E05-D050-432F-8E52-37E8CF42A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FCC955-0B8E-46E6-9226-CA6FE9A93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FA7F9F-5AEF-4BE7-9448-30727E8F4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023EFF-DA0A-4E9D-90E2-6B4164DDC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6A728E-E2EF-451C-905D-DC6B210D2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54160" y="701640"/>
            <a:ext cx="4626000" cy="3468600"/>
          </a:xfrm>
          <a:prstGeom prst="rect">
            <a:avLst/>
          </a:prstGeom>
          <a:ln w="0">
            <a:noFill/>
          </a:ln>
        </p:spPr>
      </p:sp>
      <p:sp>
        <p:nvSpPr>
          <p:cNvPr id="11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E3CFC8-FCC8-4882-AE45-9EA80FB60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781B80-3470-4856-AA0A-F3926561A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DD0093-94FC-41C8-8C5E-0F8618862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6B0C92-3198-4A6F-8E99-2514D6D52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6D6F17C-20F9-4CA5-9DC7-65DB09739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7680" y="696960"/>
            <a:ext cx="4640400" cy="3479760"/>
          </a:xfrm>
          <a:prstGeom prst="rect">
            <a:avLst/>
          </a:prstGeom>
          <a:ln w="0">
            <a:noFill/>
          </a:ln>
        </p:spPr>
      </p:sp>
      <p:sp>
        <p:nvSpPr>
          <p:cNvPr id="9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F7C01B-8ADC-4E88-9BBE-A6CC92369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74470A-4C5E-42AE-8ED3-977CF006D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1154160" y="701640"/>
            <a:ext cx="4626000" cy="3468600"/>
          </a:xfrm>
          <a:prstGeom prst="rect">
            <a:avLst/>
          </a:prstGeom>
          <a:ln w="0">
            <a:noFill/>
          </a:ln>
        </p:spPr>
      </p:sp>
      <p:sp>
        <p:nvSpPr>
          <p:cNvPr id="12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54160" y="701640"/>
            <a:ext cx="4626000" cy="3468600"/>
          </a:xfrm>
          <a:prstGeom prst="rect">
            <a:avLst/>
          </a:prstGeom>
          <a:ln w="0">
            <a:noFill/>
          </a:ln>
        </p:spPr>
      </p:sp>
      <p:sp>
        <p:nvSpPr>
          <p:cNvPr id="1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02BAF6-7323-43E8-B827-411C090D7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44962A-8D3C-4864-B943-432F626B0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61C2FD-4496-434F-91FE-B666DF551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54160" y="701640"/>
            <a:ext cx="4626000" cy="3468600"/>
          </a:xfrm>
          <a:prstGeom prst="rect">
            <a:avLst/>
          </a:prstGeom>
          <a:ln w="0">
            <a:noFill/>
          </a:ln>
        </p:spPr>
      </p:sp>
      <p:sp>
        <p:nvSpPr>
          <p:cNvPr id="12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54160" y="701640"/>
            <a:ext cx="4626000" cy="3468600"/>
          </a:xfrm>
          <a:prstGeom prst="rect">
            <a:avLst/>
          </a:prstGeom>
          <a:ln w="0">
            <a:noFill/>
          </a:ln>
        </p:spPr>
      </p:sp>
      <p:sp>
        <p:nvSpPr>
          <p:cNvPr id="12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A80FB4-8B06-427E-9F83-BEAFBC5C1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43C00B-2F00-4CB3-836C-C989C5DC3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8FCE9B-6939-4961-9E3A-0A0893003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54160" y="701640"/>
            <a:ext cx="4626000" cy="3468600"/>
          </a:xfrm>
          <a:prstGeom prst="rect">
            <a:avLst/>
          </a:prstGeom>
          <a:ln w="0">
            <a:noFill/>
          </a:ln>
        </p:spPr>
      </p:sp>
      <p:sp>
        <p:nvSpPr>
          <p:cNvPr id="12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54160" y="701640"/>
            <a:ext cx="4626000" cy="3468600"/>
          </a:xfrm>
          <a:prstGeom prst="rect">
            <a:avLst/>
          </a:prstGeom>
          <a:ln w="0">
            <a:noFill/>
          </a:ln>
        </p:spPr>
      </p:sp>
      <p:sp>
        <p:nvSpPr>
          <p:cNvPr id="12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13AFAA-EE61-4BB2-B53B-C555F868A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54160" y="701640"/>
            <a:ext cx="4626000" cy="3468600"/>
          </a:xfrm>
          <a:prstGeom prst="rect">
            <a:avLst/>
          </a:prstGeom>
          <a:ln w="0">
            <a:noFill/>
          </a:ln>
        </p:spPr>
      </p:sp>
      <p:sp>
        <p:nvSpPr>
          <p:cNvPr id="12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95F855-C056-4CAF-8901-4CCBB50CB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E96082-FA9F-47AC-ABA7-DB41BBD14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6BBF42-279C-4A8D-BD68-531DA341D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1154160" y="701640"/>
            <a:ext cx="4626000" cy="3468600"/>
          </a:xfrm>
          <a:prstGeom prst="rect">
            <a:avLst/>
          </a:prstGeom>
          <a:ln w="0">
            <a:noFill/>
          </a:ln>
        </p:spPr>
      </p:sp>
      <p:sp>
        <p:nvSpPr>
          <p:cNvPr id="12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54160" y="701640"/>
            <a:ext cx="4626000" cy="3468600"/>
          </a:xfrm>
          <a:prstGeom prst="rect">
            <a:avLst/>
          </a:prstGeom>
          <a:ln w="0">
            <a:noFill/>
          </a:ln>
        </p:spPr>
      </p:sp>
      <p:sp>
        <p:nvSpPr>
          <p:cNvPr id="12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5052C5-96D5-410F-8B18-58390E126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85738D-21EE-44D2-8E02-59323EBC9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6F3762-9B23-4D07-B83E-2C4806932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1154160" y="701640"/>
            <a:ext cx="4626000" cy="3468600"/>
          </a:xfrm>
          <a:prstGeom prst="rect">
            <a:avLst/>
          </a:prstGeom>
          <a:ln w="0">
            <a:noFill/>
          </a:ln>
        </p:spPr>
      </p:sp>
      <p:sp>
        <p:nvSpPr>
          <p:cNvPr id="12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54160" y="701640"/>
            <a:ext cx="4626000" cy="3468600"/>
          </a:xfrm>
          <a:prstGeom prst="rect">
            <a:avLst/>
          </a:prstGeom>
          <a:ln w="0">
            <a:noFill/>
          </a:ln>
        </p:spPr>
      </p:sp>
      <p:sp>
        <p:nvSpPr>
          <p:cNvPr id="12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A45452-E10F-4FFE-BE80-1BC94FB00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F86A12-B36A-45AF-BAB7-BD674CF56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895007-4568-4977-A723-8B7941330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1154160" y="701640"/>
            <a:ext cx="4626000" cy="3468600"/>
          </a:xfrm>
          <a:prstGeom prst="rect">
            <a:avLst/>
          </a:prstGeom>
          <a:ln w="0">
            <a:noFill/>
          </a:ln>
        </p:spPr>
      </p:sp>
      <p:sp>
        <p:nvSpPr>
          <p:cNvPr id="1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54160" y="701640"/>
            <a:ext cx="4626000" cy="3468600"/>
          </a:xfrm>
          <a:prstGeom prst="rect">
            <a:avLst/>
          </a:prstGeom>
          <a:ln w="0">
            <a:noFill/>
          </a:ln>
        </p:spPr>
      </p:sp>
      <p:sp>
        <p:nvSpPr>
          <p:cNvPr id="13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AC8000-181E-4A29-A94B-EAC115CAC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27EC5D-FF0B-463C-8061-29932C51F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54160" y="701640"/>
            <a:ext cx="4626000" cy="3468600"/>
          </a:xfrm>
          <a:prstGeom prst="rect">
            <a:avLst/>
          </a:prstGeom>
          <a:ln w="0">
            <a:noFill/>
          </a:ln>
        </p:spPr>
      </p:sp>
      <p:sp>
        <p:nvSpPr>
          <p:cNvPr id="13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BDC24A-DF1B-47F6-8F8C-404C635D7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F99703-8790-42D7-B4EB-93201F1BE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54160" y="701640"/>
            <a:ext cx="4626000" cy="3468600"/>
          </a:xfrm>
          <a:prstGeom prst="rect">
            <a:avLst/>
          </a:prstGeom>
          <a:ln w="0">
            <a:noFill/>
          </a:ln>
        </p:spPr>
      </p:sp>
      <p:sp>
        <p:nvSpPr>
          <p:cNvPr id="9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54160" y="701640"/>
            <a:ext cx="4626000" cy="3468600"/>
          </a:xfrm>
          <a:prstGeom prst="rect">
            <a:avLst/>
          </a:prstGeom>
          <a:ln w="0">
            <a:noFill/>
          </a:ln>
        </p:spPr>
      </p:sp>
      <p:sp>
        <p:nvSpPr>
          <p:cNvPr id="13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A28DB8-3D8B-4BAE-BE90-49B2706DB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54160" y="701640"/>
            <a:ext cx="4626000" cy="3468600"/>
          </a:xfrm>
          <a:prstGeom prst="rect">
            <a:avLst/>
          </a:prstGeom>
          <a:ln w="0">
            <a:noFill/>
          </a:ln>
        </p:spPr>
      </p:sp>
      <p:sp>
        <p:nvSpPr>
          <p:cNvPr id="13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16229D-6982-4D49-9FDD-DE86D6659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1D4185-E1F4-485C-84BD-F3297E14B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54160" y="701640"/>
            <a:ext cx="4626000" cy="3468600"/>
          </a:xfrm>
          <a:prstGeom prst="rect">
            <a:avLst/>
          </a:prstGeom>
          <a:ln w="0">
            <a:noFill/>
          </a:ln>
        </p:spPr>
      </p:sp>
      <p:sp>
        <p:nvSpPr>
          <p:cNvPr id="1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910364-F477-455D-AF88-34E9B1DC6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4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4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9C11FB-06E5-4972-B864-FB6556B5E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7549C0-673A-4738-A415-F30229047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0C55C-BD8F-4C1E-9CE9-866A51135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10B2-EB00-4405-ABDA-369CB8F5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2D0AEE-CC46-4026-AD7C-3A245C520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44180-E659-42E5-BB67-7331E2B19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B3579-F747-4706-9F87-01B0EE75D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85C8D-B1B6-4413-AEE6-2319DBEBD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A3BFE-C84A-4FF4-A442-E5007A162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F73E4-78B0-4F67-8E89-B5D33AF16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FE6E34-6082-463F-800C-5FE08FBA8C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9A7BEA-D871-4E0D-98C8-965CE693B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D11909-F6A4-489C-BBEE-07D4175180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F093CD-B10E-4800-81AC-9A70C3A368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6D9D4-58AD-41CE-9293-34D860216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73ED32-7E39-4CCA-8974-B957A75DCB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C64CE-45C6-49A5-9A1D-758BA29E28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AB0756-CBD3-4640-9716-650226EEE0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C38636-D0A5-4C4F-B822-0EAF988D67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FC0DE9-C081-4E54-8E8F-8699C8C6AA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96628E-B573-4A75-8738-A3A012881F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B91E30-E819-474E-8228-DBFF7D6678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0D18AD-F8AC-4CFB-B1BC-59C14DBD46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CBCE4D-FD63-4165-9C34-B518DFAE71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F20236-3FAA-478B-A8AB-9F11AD8F20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1EEE-5020-42A8-87BD-66491F595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0B15C2-63EF-4A53-95C3-92210111E3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C5232B-8943-4820-A36B-22FCCE8E28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80C8AC-FBF9-44CB-B396-AAF7F4DB34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25F751-99B1-416C-A800-10948D9202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BFC0D8-E127-4EFB-80E2-751357F073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467751-4118-452C-919F-EECCE72E39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B7E406-6E21-4C6D-AB94-A3E7D473EB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2B35C4-4255-4170-8C54-C875AB5DDD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ABF4EF-39EF-4734-9BA7-60CE74E781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79AF90-49E8-4FF4-B9CA-AAAD9F3260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38546-D930-45D3-A91A-05655F2F0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89EB66-28A6-417B-A05A-D6CC2494FB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77C2C6-7FE9-450A-A1F6-508403D8D4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8101E9-70B7-4D12-BE7E-322D02A4D8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CC44CF-530E-45C0-B50F-81C1545C33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502DEF-41E9-47E7-9E13-3422C08814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97E4B7-BCD5-41DB-8F5A-78B3866B9B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7217B9-5F50-4DB3-9509-8FA4BB4626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4D58E9-DC5B-412F-B53B-81CA9DA723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C5F40F-8689-4315-8EE9-398B535F09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D8D499-7854-48C8-BF7A-E8610569B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B47AD-2A84-484A-BC3A-A806B199B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18D180-DFB7-4C9C-8309-37E097ACD6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6A6B81-322B-41FF-93CB-924BEFF2F6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322A30-DC17-43E3-97DF-DBBF52E37E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49FBF0-C5A1-4470-84C8-C98675E4703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19E4D5-2995-457B-9005-68C2F656C2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24E20-E1F0-4BB0-A4EA-190179689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34BEC-65EC-48C5-9A3A-210021718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CCA8C-EAB8-4023-A02F-B5978447C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83BAA-C24A-4311-A5EB-C4EB93DD4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573F7-E2C4-4557-A86A-F4C70A1AE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60CEE-C19D-40DA-BDD6-6506D15F1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3C349-E14E-4F62-9A82-961CDB5DC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BEF39-813E-435D-B76D-09FB76386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61421-0B89-40E3-92FD-422AB3151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2946D-6681-46D5-980F-90A9523EF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A9E3C-58A8-4321-8425-C4C9C843D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A37806-F3B4-40CA-85C0-945C64009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80A40-CC9F-4841-AC11-4F89D48DD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9FF64-CBBA-429D-AF36-19DA2B8F8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9A0CF-70E7-4D9D-A4B5-C3C7828B9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85AF0-90C3-4996-A148-1F5F9A783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1FA6-A7AA-4D3F-A965-105832BA3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65D23-28D9-4F32-8934-98D561ACD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B61FB-0198-4165-9960-7E0BC9007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A3D81-4596-47E4-A47B-B6E824748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40CCD-5764-4F35-B242-2886D80D9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78A5A-E046-422D-B63B-263EE8841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4181E-2202-4F55-A846-DEE40A59E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A8949-F1F2-4E1D-AD7F-03E62B30D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A8B422-0414-412B-99D0-7F6F4944A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7C699-8CA7-4405-BE14-8D359CD16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9D796-F2B2-4229-9D96-913E38D1A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DC4AA-2B65-41AA-9A74-DB0BC8A1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0EC60-B131-4FAA-AEF7-CA1CB67D5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72937-4FBB-4364-A2DC-F1B61F415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B6457-89C1-4003-9FFB-6ACD66B01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B94A9-0475-4433-BDB6-2E9F68A19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78D10-29CF-43FC-B533-BB5948D66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9295A-FE8B-4E01-9FB2-36970EBFD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153E8-BC0B-4818-9DDC-4D29B55DC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ED6BC5-A9F3-4B8A-B069-BADF2628D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E7885F-40CA-4897-A725-0F8D218AC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3F35D3-134B-4AFF-8004-2433C98DE3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B2DF-94C9-4540-BA64-5EA5D6E4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CA953-A5C7-426D-82EB-FB2D9E2F6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AAF06-7A90-43C9-B750-1993DDECE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1DA94-1AF3-4BAD-A779-16888B53E0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3C498-A4D1-444D-8FCB-100031CE5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7CD44-F41E-482E-9A83-375E8FDCC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37F68-8BF5-4240-9603-36728B2CF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583D9-C582-4933-8D59-625876FBB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2D2A1-9D38-4BF4-B965-CA69238C0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94873-7098-4EFF-B96E-0B131160F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858A93-5529-49DE-8DDC-CF292B4ADB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C91F-9BE5-4DDB-A524-48DAAF1E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08DC5-5EA4-4473-B1E5-CDE505FED6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9A861C-D2CE-41FA-A627-93CE65196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CCA67-2949-4A7A-85AC-6CD960CB7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80FE8-C3CA-4C26-BBD7-0D9722C269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FF09CC-27BC-47D1-81AD-787632E67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22AB3-A80A-47C4-A9D8-8A8765D37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C20D5D-BD68-4116-B35A-1B584691DA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E3C1B-B625-4F90-A8B8-BB5EE2730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C4A89-D494-47C4-A9E9-CF5582A13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1284E-1561-4F0C-A0C1-6BB7337CE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F2BD1-0D6D-4D9E-A1DD-8E1D2A56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7E620-9832-48C5-946E-031D084B11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028BA7-7A5D-4597-804B-6847E996D6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A101D7-5FCB-4BCE-B8D9-6A750FEDE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994DE1-EDE9-4EA5-B2A4-924B64732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E4DFB-3FA3-45DB-BA7E-49C9444E1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34BF1-47D6-46CF-8561-2701815E8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87A97-4C55-4D1A-957A-79833CF2F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A2EB83-FA7B-48AE-9C70-3C7BD1A142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55ADD-49E6-4D61-8709-868124A8DB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155B5-B8EA-4134-82E7-40DAD62D2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3BC1-4FCB-46AF-9B73-DF36AAA3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794935-2A04-45D9-AF17-780019FDF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B6CB3-4C2F-40CC-ADAF-12DF6E657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3A0EAE-934A-4690-A167-F664F461B9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9B0903-8004-452C-A1C9-210A33C701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2135D7-CF9D-467F-BEA2-263BACBF72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F1350A-486A-4151-B41B-8402921A0B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0447DE-ABE3-4182-9ABE-E477AF2142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BA10DB-DF75-4E93-B2B7-81322C6EC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35F66-5C12-40AD-8570-187DCBA25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0EA4F-39E1-4B81-94E1-18ABD53C0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FBF6-96B1-4917-9CDE-D7271916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EB215-6637-44E9-AEE2-7BBBB79E9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EF537-F822-4102-A3AA-A751A38DB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51770-9F7B-447D-A677-2FB0A83FB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2AC73-BEA7-4693-900A-22E043C6F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F644DB-D8D1-47A5-BEF2-049A3D064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E18D9-E350-42DF-9563-3827BED175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A1C2DE-0A36-42C1-9776-56A24F021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BDB001-2D9E-4DE1-849B-98F739B39F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9B8F03-0159-424C-A11E-21EE1080D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BEB0E-2C0E-4BFE-BCFC-B2901F5426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5FB2875-FC95-43A3-9062-DF78A89AAD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65C8CA-6DCA-45EB-9964-FB45FE6DF0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878D45F-0A52-430C-B396-F39E302CDB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C4FD7E-7239-4CC5-A4F2-5AB999BFFE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179991-8F42-4A0B-AD91-E7BC22DC37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6076B8-DC70-4E9B-ABA1-EA856AF9F1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347871-EA5E-4B51-850D-E2A3AF287B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76DFE1-49D2-4227-9655-636B6D295E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EB4FD3-DF77-4A40-A927-4729115136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F138CD2-A8AE-4C64-A15D-E4AF5972E1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10F77E-F1A2-44CB-ADE2-A30E43BC29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F06BB50-4DFD-40A5-AC5A-D0895EC7B6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92BF11-B9BD-4AE4-8D67-5022D7021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F2B6AD-FA7F-4088-A1B3-FA349F190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5F09D7-321E-4E2A-B994-8A81849E8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F47064-3684-44A0-B822-F185A216C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AC4DC0-4BCB-4709-9E76-14590035B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24E6B6-921C-4628-A2FF-DBC7A6578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3E30E1-487A-4F11-8A2A-6B4742373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8161EC-0BF9-49F3-B698-46D75E47C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2617EC-E57B-46C2-8C59-9BBB20136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E3752-4F42-41E1-81E1-7ADEED75F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D47672-867C-4524-970A-436F86F67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4302E3-0979-4E7B-A7A1-7B341F33C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3601F6-FCE7-4C3C-AE93-FFFF0F982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E9BBAB-199B-45EB-9123-ABF6DD6B3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8C0E40-1902-480C-B916-D5533BF63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6,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CF4615-66D7-42A7-AAEC-E54F071FC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C785A8-0DC0-4331-A1E1-E5678E561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524755-0133-4176-8C97-3C4E7485E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A341F9-40C4-4AA1-AA5C-5FDEF4CF0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E2DE2C-531A-48D0-A24D-B961C19E9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0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age to MIB variabl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785EA9-6B39-4396-9E8A-CBBC1F813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ar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2FB2A-4701-49B9-B527-4C3C43A59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6EF730-5F1E-4FE3-9DCA-6CFF8CD3E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76078D-00CB-44FB-AA28-8E139301F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26B1CC-C3D3-4347-9DD1-1FDCA0E97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00D42A-FCD2-43F2-90F4-4C73A9F26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 </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04001D-4596-48B5-8212-B98A8A7F0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D1A0B4-F7BE-463C-B1C8-937FBC359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FBF659-98E7-42EF-9520-E873FE580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71769D-09F7-4E91-80EB-54309DEAB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EE587C-C6C6-4BAF-AF2B-7C0A0615F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528676-FA31-4CD4-B303-E2CA4C670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AFBD3A-A693-4CF6-BC9C-24A9CE41B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F09C1EF-867B-4495-BE1E-62EBC357D6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3A5C8A-C7D8-4FA3-9214-A5CF427D5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CC4B46-0F63-414F-B010-5003CA883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Kome Oter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5DC552-EF46-4C60-BBD8-193610DC0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CCC916-9ADE-415D-91F6-A7B290BFF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7894E3-E35E-4B54-AF85-98D3B151B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40CDF6-96B4-4225-B17C-425678328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E57B1F-6A3F-4E35-9E6C-34CF4A035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95DB14-CE13-4321-843C-CC1F19774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E53FD3-38DD-4009-9376-C5FAAAA55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7B64C-30D8-4AF5-897C-3248148C1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D70DFE-E0FE-4950-8944-55A97E38CC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9A4B0C-876D-4ED2-BCC4-767435BD5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DD882D-3D2D-44EB-AA77-5D489F082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B03BEF-F16D-4E08-9034-D00C1C0EF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20F26E-00BF-47A8-97D7-03276ED1C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B1CEB4-AB63-4797-85A3-00A4B2C21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53FF53-E31E-460A-98F7-EEFEC7644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F9F073-F426-4FC1-BF54-8809B6242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84C69-763A-45B7-9C1C-81DF1BEDF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E72BA1-77B1-45FF-ABBE-9C85904E3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72B702-6F90-4617-B8DF-5B4355475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B6EF38-8F8D-4B42-AB45-FE38AF9A4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E1CB28-C9C4-4F7C-BDD0-7DA73D46A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9253E-0C03-457B-99BC-29AF2EA9F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1ECBE1-99B1-4FFE-8BAF-05E75907A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1A44A-603F-48CD-AE05-D7E97A12B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3E2CC2-C462-4532-9769-BF55A8F6D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325B5C-E151-4DC2-B435-E28AE35C7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A0C14-426B-4D64-9C6A-5D072D1EC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2B3BC-D0C4-4897-921D-CDDD4C49E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218E2A-C251-46EF-BF66-AE31EC0D5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8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51866D-7D77-4AA2-AAAF-8B409C252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886"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DE0B7B-3A4C-490D-8F30-AFAC4C3A5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CC74AF-C1EF-43ED-8BC3-C05173D5B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891"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C8D14-7D5B-4688-8381-DE3701005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9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DE16F1-E12C-4A25-BD74-470F04DA1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0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45EC3E-F067-483D-95B3-8659E1130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695758A-7AE0-464D-B324-8309AEA66B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4E1C1-59C4-42F1-A475-0FB79B72F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3T11:10:58Z</dcterms:modified>
  <cp:revision>8868</cp:revision>
  <dc:subject>Task Group AY November 2015 Meeting Agenda</dc:subject>
  <dc:title>11-19/058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