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71A6B7E-9603-450C-B672-31AB799238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6220F0-9030-418C-A61E-C54A41CE4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54160" y="701640"/>
            <a:ext cx="4626000" cy="3468600"/>
          </a:xfrm>
          <a:prstGeom prst="rect">
            <a:avLst/>
          </a:prstGeom>
          <a:ln w="0">
            <a:noFill/>
          </a:ln>
        </p:spPr>
      </p:sp>
      <p:sp>
        <p:nvSpPr>
          <p:cNvPr id="9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4A2DE9-9FA9-4D76-920F-FA6EC1572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6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40108F-C070-4ABA-A408-D758EDD29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391018-FB19-4A1A-9A21-40AD7B278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7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7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E9C40E-B0EA-447D-A9AB-835632D72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7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7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899AD2-1843-4D48-84A7-9B09AB6DD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838EE7-57DB-47CD-AA93-0A120A4EC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E94BD9-E838-4123-BD73-5407320A3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CEC41F-C090-4272-A66A-114360735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66DC15-695B-444A-B924-24EA31578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54160" y="701640"/>
            <a:ext cx="4626000" cy="3468600"/>
          </a:xfrm>
          <a:prstGeom prst="rect">
            <a:avLst/>
          </a:prstGeom>
          <a:ln w="0">
            <a:noFill/>
          </a:ln>
        </p:spPr>
      </p:sp>
      <p:sp>
        <p:nvSpPr>
          <p:cNvPr id="10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8A02CC-DD06-4E67-A99A-89FD1D8FE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2FA4BA-D8C1-4B00-8D52-3EEEC48EE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EB3EE3-B25D-45CB-BFF9-2B0D63A33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1D5CDE-C0B2-4937-8E35-C34969F0A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063372-5386-4BE5-8E92-96632ECE7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BAFBBC-123E-4553-94EA-E566D9D85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07A3C4-05B7-4467-894F-8F46A8722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6C3D2D-7CE1-4880-B8E0-447AF5973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E1B890-5BD7-454D-8CA8-E7BD5BF52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2285D8-008C-4890-85CB-278EDBBDD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20732D-AD11-4102-B7A1-F2176F79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C3BDA6-FB11-465B-B1FF-2EE0E1BEC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E044F2-7C20-4A72-8223-0FC0E80AB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FB804F-0B36-4982-BCBE-CDEE1D698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E2EC36-2020-4703-B079-94FFF9FF2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54160" y="701640"/>
            <a:ext cx="4626000" cy="3468600"/>
          </a:xfrm>
          <a:prstGeom prst="rect">
            <a:avLst/>
          </a:prstGeom>
          <a:ln w="0">
            <a:noFill/>
          </a:ln>
        </p:spPr>
      </p:sp>
      <p:sp>
        <p:nvSpPr>
          <p:cNvPr id="9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B387DD-CD5E-4CB8-911D-6B3733FD5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D3549D-22C0-46C4-8FB6-91F45F80E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45E58E-C56E-403E-85FE-3F5FB9844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2732C6-4B5E-48A6-BED9-B5B2BA90A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E0930A-DFE3-4C7F-9E1E-3D77727B9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7DF7E2-670A-4A0B-974A-DB089396C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799E76-A095-4038-B3DC-544EF3F31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498716-DB3D-4CE1-8282-00F818F92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54160" y="701640"/>
            <a:ext cx="4626000" cy="3468600"/>
          </a:xfrm>
          <a:prstGeom prst="rect">
            <a:avLst/>
          </a:prstGeom>
          <a:ln w="0">
            <a:noFill/>
          </a:ln>
        </p:spPr>
      </p:sp>
      <p:sp>
        <p:nvSpPr>
          <p:cNvPr id="11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A3DF11-2626-4CFD-BFB0-9D09FFD1F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66FEA1-9405-4FCF-8F5A-A4A6551A9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38BCDF9-3939-487E-8BC3-4958A119E5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7680" y="696960"/>
            <a:ext cx="4640400" cy="3479760"/>
          </a:xfrm>
          <a:prstGeom prst="rect">
            <a:avLst/>
          </a:prstGeom>
          <a:ln w="0">
            <a:noFill/>
          </a:ln>
        </p:spPr>
      </p:sp>
      <p:sp>
        <p:nvSpPr>
          <p:cNvPr id="93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1BBE0E-0D86-4ED9-9162-166F9A24F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4A7439-55B1-4EF4-AEBE-ED05926BE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75096E-41A5-490A-8B02-779171A1C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34AF1F-518E-42F3-8AA1-1BC5B9978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BAA901-0D5F-43B9-93B5-84B4A6C2A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306DDE-457F-4907-BFD8-469F12511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54160" y="701640"/>
            <a:ext cx="4626000" cy="3468600"/>
          </a:xfrm>
          <a:prstGeom prst="rect">
            <a:avLst/>
          </a:prstGeom>
          <a:ln w="0">
            <a:noFill/>
          </a:ln>
        </p:spPr>
      </p:sp>
      <p:sp>
        <p:nvSpPr>
          <p:cNvPr id="11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A91843-668B-49F0-9CED-0F2F47FA9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97D753-2807-494C-9E7A-DED7548A5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02796F-16F6-429D-B598-E12ADF152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013A53-7969-448E-9B1D-FBCC62759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A79C3CF-6E2E-41FB-B02C-FC026F857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7680" y="696960"/>
            <a:ext cx="4640400" cy="3479760"/>
          </a:xfrm>
          <a:prstGeom prst="rect">
            <a:avLst/>
          </a:prstGeom>
          <a:ln w="0">
            <a:noFill/>
          </a:ln>
        </p:spPr>
      </p:sp>
      <p:sp>
        <p:nvSpPr>
          <p:cNvPr id="9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F10539-A28B-4630-82FC-6985DC59B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13C70-8027-486B-97CA-F1E70F1B7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1154160" y="701640"/>
            <a:ext cx="4626000" cy="3468600"/>
          </a:xfrm>
          <a:prstGeom prst="rect">
            <a:avLst/>
          </a:prstGeom>
          <a:ln w="0">
            <a:noFill/>
          </a:ln>
        </p:spPr>
      </p:sp>
      <p:sp>
        <p:nvSpPr>
          <p:cNvPr id="12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54160" y="701640"/>
            <a:ext cx="4626000" cy="3468600"/>
          </a:xfrm>
          <a:prstGeom prst="rect">
            <a:avLst/>
          </a:prstGeom>
          <a:ln w="0">
            <a:noFill/>
          </a:ln>
        </p:spPr>
      </p:sp>
      <p:sp>
        <p:nvSpPr>
          <p:cNvPr id="1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A47102-F8B6-4E5D-A680-6BCDF0EF2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08349D-5561-4610-A14B-A64490693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3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B2CD03-0B54-4663-8EEE-D5B2ABD08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54160" y="701640"/>
            <a:ext cx="4626000" cy="3468600"/>
          </a:xfrm>
          <a:prstGeom prst="rect">
            <a:avLst/>
          </a:prstGeom>
          <a:ln w="0">
            <a:noFill/>
          </a:ln>
        </p:spPr>
      </p:sp>
      <p:sp>
        <p:nvSpPr>
          <p:cNvPr id="12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54160" y="701640"/>
            <a:ext cx="4626000" cy="3468600"/>
          </a:xfrm>
          <a:prstGeom prst="rect">
            <a:avLst/>
          </a:prstGeom>
          <a:ln w="0">
            <a:noFill/>
          </a:ln>
        </p:spPr>
      </p:sp>
      <p:sp>
        <p:nvSpPr>
          <p:cNvPr id="12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7D4AD8-1D4C-4032-97F3-300579C74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00B4CA-4783-41D6-A87E-7DD446A35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206D7E-8930-4DA3-947F-6A1EB44ED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54160" y="701640"/>
            <a:ext cx="4626000" cy="3468600"/>
          </a:xfrm>
          <a:prstGeom prst="rect">
            <a:avLst/>
          </a:prstGeom>
          <a:ln w="0">
            <a:noFill/>
          </a:ln>
        </p:spPr>
      </p:sp>
      <p:sp>
        <p:nvSpPr>
          <p:cNvPr id="12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54160" y="701640"/>
            <a:ext cx="4626000" cy="3468600"/>
          </a:xfrm>
          <a:prstGeom prst="rect">
            <a:avLst/>
          </a:prstGeom>
          <a:ln w="0">
            <a:noFill/>
          </a:ln>
        </p:spPr>
      </p:sp>
      <p:sp>
        <p:nvSpPr>
          <p:cNvPr id="12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8E8231-50BF-4EBF-AE10-FDD4F9497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54160" y="701640"/>
            <a:ext cx="4626000" cy="3468600"/>
          </a:xfrm>
          <a:prstGeom prst="rect">
            <a:avLst/>
          </a:prstGeom>
          <a:ln w="0">
            <a:noFill/>
          </a:ln>
        </p:spPr>
      </p:sp>
      <p:sp>
        <p:nvSpPr>
          <p:cNvPr id="12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1CBCBA-403B-4727-B7FD-5F57B3FD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EB91BC-0789-478C-9382-061C20399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54160" y="701640"/>
            <a:ext cx="4626000" cy="3468600"/>
          </a:xfrm>
          <a:prstGeom prst="rect">
            <a:avLst/>
          </a:prstGeom>
          <a:ln w="0">
            <a:noFill/>
          </a:ln>
        </p:spPr>
      </p:sp>
      <p:sp>
        <p:nvSpPr>
          <p:cNvPr id="9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A1150A-25DB-458B-8CE3-38051EDBD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1154160" y="701640"/>
            <a:ext cx="4626000" cy="3468600"/>
          </a:xfrm>
          <a:prstGeom prst="rect">
            <a:avLst/>
          </a:prstGeom>
          <a:ln w="0">
            <a:noFill/>
          </a:ln>
        </p:spPr>
      </p:sp>
      <p:sp>
        <p:nvSpPr>
          <p:cNvPr id="12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54160" y="701640"/>
            <a:ext cx="4626000" cy="3468600"/>
          </a:xfrm>
          <a:prstGeom prst="rect">
            <a:avLst/>
          </a:prstGeom>
          <a:ln w="0">
            <a:noFill/>
          </a:ln>
        </p:spPr>
      </p:sp>
      <p:sp>
        <p:nvSpPr>
          <p:cNvPr id="12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C35C15-2283-45E5-A7FB-94B3A484D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54160" y="701640"/>
            <a:ext cx="4626000" cy="3468600"/>
          </a:xfrm>
          <a:prstGeom prst="rect">
            <a:avLst/>
          </a:prstGeom>
          <a:ln w="0">
            <a:noFill/>
          </a:ln>
        </p:spPr>
      </p:sp>
      <p:sp>
        <p:nvSpPr>
          <p:cNvPr id="1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BBE26E-4964-49C8-9AA3-AD8B1834B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CA4FFD-B2E8-47D2-B1EF-ECBC9FDF4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1154160" y="701640"/>
            <a:ext cx="4626000" cy="3468600"/>
          </a:xfrm>
          <a:prstGeom prst="rect">
            <a:avLst/>
          </a:prstGeom>
          <a:ln w="0">
            <a:noFill/>
          </a:ln>
        </p:spPr>
      </p:sp>
      <p:sp>
        <p:nvSpPr>
          <p:cNvPr id="12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54160" y="701640"/>
            <a:ext cx="4626000" cy="3468600"/>
          </a:xfrm>
          <a:prstGeom prst="rect">
            <a:avLst/>
          </a:prstGeom>
          <a:ln w="0">
            <a:noFill/>
          </a:ln>
        </p:spPr>
      </p:sp>
      <p:sp>
        <p:nvSpPr>
          <p:cNvPr id="12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1DD9EB-C247-4EB4-A94D-D3CE7A02E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54160" y="701640"/>
            <a:ext cx="4626000" cy="3468600"/>
          </a:xfrm>
          <a:prstGeom prst="rect">
            <a:avLst/>
          </a:prstGeom>
          <a:ln w="0">
            <a:noFill/>
          </a:ln>
        </p:spPr>
      </p:sp>
      <p:sp>
        <p:nvSpPr>
          <p:cNvPr id="1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B41F86-4B6E-488E-B210-8DA3B09DA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7C8A82-C5F1-4513-91BE-6A7FB396E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1154160" y="701640"/>
            <a:ext cx="4626000" cy="3468600"/>
          </a:xfrm>
          <a:prstGeom prst="rect">
            <a:avLst/>
          </a:prstGeom>
          <a:ln w="0">
            <a:noFill/>
          </a:ln>
        </p:spPr>
      </p:sp>
      <p:sp>
        <p:nvSpPr>
          <p:cNvPr id="1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54160" y="701640"/>
            <a:ext cx="4626000" cy="3468600"/>
          </a:xfrm>
          <a:prstGeom prst="rect">
            <a:avLst/>
          </a:prstGeom>
          <a:ln w="0">
            <a:noFill/>
          </a:ln>
        </p:spPr>
      </p:sp>
      <p:sp>
        <p:nvSpPr>
          <p:cNvPr id="13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979BFD-2F50-4B0B-BE17-46F70821A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54160" y="701640"/>
            <a:ext cx="4626000" cy="3468600"/>
          </a:xfrm>
          <a:prstGeom prst="rect">
            <a:avLst/>
          </a:prstGeom>
          <a:ln w="0">
            <a:noFill/>
          </a:ln>
        </p:spPr>
      </p:sp>
      <p:sp>
        <p:nvSpPr>
          <p:cNvPr id="13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C12384-D491-4D29-8B6D-B2CAF7E75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54160" y="701640"/>
            <a:ext cx="4626000" cy="3468600"/>
          </a:xfrm>
          <a:prstGeom prst="rect">
            <a:avLst/>
          </a:prstGeom>
          <a:ln w="0">
            <a:noFill/>
          </a:ln>
        </p:spPr>
      </p:sp>
      <p:sp>
        <p:nvSpPr>
          <p:cNvPr id="13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2DF6F4-E794-4E30-9779-E7D76B3C0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D4609E8-0310-41EE-ADD6-265216BB3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54160" y="701640"/>
            <a:ext cx="4626000" cy="3468600"/>
          </a:xfrm>
          <a:prstGeom prst="rect">
            <a:avLst/>
          </a:prstGeom>
          <a:ln w="0">
            <a:noFill/>
          </a:ln>
        </p:spPr>
      </p:sp>
      <p:sp>
        <p:nvSpPr>
          <p:cNvPr id="9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54160" y="701640"/>
            <a:ext cx="4626000" cy="3468600"/>
          </a:xfrm>
          <a:prstGeom prst="rect">
            <a:avLst/>
          </a:prstGeom>
          <a:ln w="0">
            <a:noFill/>
          </a:ln>
        </p:spPr>
      </p:sp>
      <p:sp>
        <p:nvSpPr>
          <p:cNvPr id="13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6D0DBC-F143-43BB-BC1E-60EA8C437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54160" y="701640"/>
            <a:ext cx="4626000" cy="3468600"/>
          </a:xfrm>
          <a:prstGeom prst="rect">
            <a:avLst/>
          </a:prstGeom>
          <a:ln w="0">
            <a:noFill/>
          </a:ln>
        </p:spPr>
      </p:sp>
      <p:sp>
        <p:nvSpPr>
          <p:cNvPr id="13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0BC4A1-F6CC-4ACA-9118-39613E4B6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54160" y="701640"/>
            <a:ext cx="4626000" cy="3468600"/>
          </a:xfrm>
          <a:prstGeom prst="rect">
            <a:avLst/>
          </a:prstGeom>
          <a:ln w="0">
            <a:noFill/>
          </a:ln>
        </p:spPr>
      </p:sp>
      <p:sp>
        <p:nvSpPr>
          <p:cNvPr id="13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45626C-7D27-48CE-932E-9325BF77A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54160" y="701640"/>
            <a:ext cx="4626000" cy="3468600"/>
          </a:xfrm>
          <a:prstGeom prst="rect">
            <a:avLst/>
          </a:prstGeom>
          <a:ln w="0">
            <a:noFill/>
          </a:ln>
        </p:spPr>
      </p:sp>
      <p:sp>
        <p:nvSpPr>
          <p:cNvPr id="1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99589B-E185-4A4B-9C6F-045BDAAC4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4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4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D3E03C-AD3C-4CF3-922F-05E59FB22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D11C2A-F95F-46E0-846C-B3201BF23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69FD-FCA4-414A-81BE-E82AB19A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7F34-3493-4379-BA52-FBB45CC9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19D583-D03E-4879-8D42-2E6EA68EF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C8C51-087B-4F3B-9ADF-9B11A2B25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36E90C-4AAA-4541-83D1-455FAF246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D01EB-C362-4475-A79B-4F01A82F1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C5C82-97BF-45C5-8A6D-5BB2A00AB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D866C-0ECB-4DAE-8CC5-F99D59B44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8DC97D-3D6C-422F-A389-2163066EB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24B5F-2964-4D0A-9A74-C45E91E4B8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C8EC7F-111C-438B-9A27-D5F01722A2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265319-2C72-4D83-B3C1-C9708E2378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4FB22-DBBD-47CC-8CF1-238F4E549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9189B4-FBB2-4601-B516-0E0ED97551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325794-696E-4F74-A284-1D684B80F6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71078F-2553-4654-B5DA-117A02BB04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D5D749-4175-4033-BCFE-5C8C034CB7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EB5D1D-DF88-4199-B49A-1F03431D4F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0FC60B-BEE0-43B8-BCDF-4B4C8C0335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7A39C-B366-40DA-9540-C30A668EC4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E6201C-C739-43C5-8911-F428C72CB3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C7BC4F-B838-4A2B-90BA-4AD2AC221A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B122B6-84F6-493D-97A7-923D1A6483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A857C-2337-4F0A-BE0C-433F29F7B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36DE12-0DE4-467A-A0A1-F6EFBADCE3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D3804B-7047-4142-8024-BC82FCBFB1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AC52CB-87A9-4E09-84D6-B9D20CA970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323307-5778-4FE4-88A5-385A26B373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EE10D9-B43F-4069-9A70-D2F12E887F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ACF7A0-2986-4883-AB5E-892F530916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FB8AFF-2D71-4C01-8280-BFB34F7DD8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72D3CA-5EE7-4837-B3FC-B5C228211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556CF9-E821-4F01-A617-348789B41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B0A7D2-0CCD-4A5A-862D-6A39A3F202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DAD51-DB11-4C73-A60D-703C361BD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BB19DC-09D8-4B71-92A5-58DFC2A022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B3A05D-EEAA-43ED-B31C-7CB2A185F6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7297EB-B71A-4528-B740-278A557486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A1E0E8-5CD7-4A16-BF94-EA1E331BF4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4152B0-1F32-44C0-B216-1FAED733A0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A1D4D5-77E8-4457-B281-A716D2186D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7EB2D-FC6F-4AD3-9D1E-47837138E9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F43F70-98EF-4E8F-B643-1499C442F9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AD519A-3099-4700-9AB6-D9B7B491C9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1E937B-D876-4283-9CFE-DF2A532C24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8A062-58A3-44A0-9744-8628FDEC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514377-E5DF-401C-ADB6-8B12E87EA4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94F35C-0199-4B93-A902-0D83876AEC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1D6D70-01EB-4D01-A4E6-EB5E446F38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CFF827-40BF-49A9-B2EF-D3B00CAF07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C386D2-2AF6-472F-BD21-AFCA31C3B0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06EDE-A933-4983-ACCE-B798ADBA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FA941-EF70-4AD2-AADF-3D3DC1A99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27677-5B71-44D8-ADD3-CCDC0ABCB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64C27-C21F-4336-B8A6-2A21B15F9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AF7D2-6FA6-4B32-BDB1-74AE880FA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AE007-617D-4F8D-A1A3-86592769F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260FF-D0CE-4676-9D56-FA4CDD9EE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81D22-2859-46BD-A515-1A578D39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F2C05-4DF9-4434-9874-5DDC8C5B3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EE8DF-9114-4194-A2E5-A87134B34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C9659-7474-4B12-915F-C03D26E59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7C6597-3738-4097-805C-163CA2060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3FFEFD-F81E-462C-9F6C-E85F4C362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90BDC-C0B5-45C9-9A65-57438D4EC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564F2-CB38-488C-90F2-785D1A259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C5780-D18D-4AEA-845D-79AE01938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3524-B40A-4EC3-9D61-0A4747603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1554B-0A80-45E1-80B1-59C8AB42B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2764C-5661-4FD0-9460-E97C43FB4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44BB6-36F5-4896-BA2E-72BE33408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9A507-1C9D-4B2E-A093-C697795E7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69A2B-F626-401A-AE86-BB66CC9F6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F0870B-60A4-4D0E-9514-C37B5229A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3FE33-5C4A-40AE-9D06-A25B1D765B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90288-2133-48BB-9C54-56806B8CB3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1A59E-CF6B-4DDC-AB84-0F0352ADD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7AE11-2A16-4896-8F6D-E612E8542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7EFF1-AA4C-4908-884F-7DE424F5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EB792-5E21-44C9-B2EC-697D53DA8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C2C38-30EA-41CB-871E-FD32B320D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2A44E-E11A-4FBF-9FBA-F8EEC705C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7633B-F8D7-42F8-B14E-E8CF607EB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DADA8-A07C-4BDB-92D8-C7E56077E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96444-15DA-45FF-A7EC-9BF376306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4C1F8-6236-4F8B-8BE6-DC7653BFD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9BE0A-84DD-4A8A-9582-EEC45EF0B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47F0F9-8CA9-4E06-9244-4BC67FA66A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1DD741-3E59-4CD8-875F-4EE87CC5E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C8FF-DEF4-4C14-9ADF-23938D86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C124C5-6F59-4441-BDA1-F1CC1A0AB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613AE-9EEB-4157-B41D-A83C2A79E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B9668E-4927-4F6A-B36F-D2105001A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FF28E-5E13-4C79-8BF3-A9DBF2B11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5D0FE-82B8-439A-8E38-EF36865A4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5AA46-841C-4B8B-9170-3BAB29260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A196B-CE43-4AD3-9D31-7A13D84DF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4DFC4-9291-4F15-8383-065447C73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2DB66-59EE-45E9-A4F1-1B3DB5914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A4B4F3-F308-410C-9F7C-A5EC80182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7ED5-206C-45C6-8416-0392E6CB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3A083A-8A77-45FE-9F86-FE4DF09C2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D4F78B-21BD-4341-96A3-016218106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7C61C-C5DD-4F65-ADA3-E8EF21700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003F1-D1BD-4242-925B-F6526EDA5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98234-05B8-4746-9867-DAC63E738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6B5141-D417-4EF2-97E2-1FD6CE0F5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A1B57-3226-4931-9BC0-412DED61D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C87AD-C4EC-47BC-9313-32B7D5204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D8245-66B0-4E00-84AB-0FD375C36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6DFB0-8791-47D0-BB1C-6E477637A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6B69-7E67-40A2-B664-0BD2C3A66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30A3A-C9A3-43BC-9E17-D35E9EB3C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08EB8E-9ACF-48A1-8BC2-B80E10226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326DE-B026-4D17-8B0A-9E721472E8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D0C6B8-9B9D-4FC3-872E-BFA525ECF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DF983-24B9-44EC-A561-6999F4F23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E2638-1F13-405E-8526-FBDD3695F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DF79E-8A9C-441D-A9D0-27EC4EEB2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AE692-15AE-433A-91BE-E11FE1D258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6F248B-B94E-45E5-8F0E-559FA8CFFA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1DA6D-25AE-4AF5-89CA-C893937CC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EE784-3DF3-4ACA-B41B-A7F12587D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4C3B0-F99D-49A8-A796-4CCEB6D07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9117C-BE81-4490-A693-C7F1926FD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9B7FE-898C-42A4-AB82-53EB27F2C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7086A6-36D5-4C7F-B7A7-FECE25007A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737F5C-F950-4987-9627-8A66B12C23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0A4936-51D3-4883-BB1B-A5DC519553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92B9C-4F1B-43E2-8588-3AB075BA02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3AC54C-8349-4DFA-AFF5-74A81B73D4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3D4A5-0469-4F86-AD98-7B60C088D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844078-8126-44D9-8D0A-C1DD61EF8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C109-F5A6-4494-A97A-1D926D03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34875-A892-42AA-9E9E-9350FA089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81977-6D56-4712-AC9E-113A67B2B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B5619-72AE-4DBE-AA2A-3C7930A6E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79D04-AFDB-4118-BCC3-3EA9525C8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C5FD15-50FF-464C-A133-DF41EB7C3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19ACCD-E1F7-44E7-BF59-745DACB648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AA76EA-4561-4F30-B9AE-379C84E90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A52EF6-4606-4FF2-9A50-BB33C16E64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939EA-8031-4457-A243-4D2F93D788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541E24-2A34-48FC-9680-2379BE6F6A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B814F44-D54C-4A75-AEFE-6C3BFB64B5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684904-EA09-4CB1-969C-C7545FA8E6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9B2561-5069-424B-8B92-082FA571A6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743E08-E4E3-453B-A3F7-52E7655643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98C02B1-C1C0-4C38-B9FE-BDE38D5EE4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3D233F8-2ECC-4962-A0F5-A648747AA5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44E2D5-50FE-4CAC-96DD-A011852E5A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2B65001-9051-4069-A85C-64564D1EF1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0948E95-26F9-44C3-BE8E-FAADF13164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D2889F-7042-427F-9EC1-7121074EBF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A555A6-8BB0-46DB-9E7C-2EA21531F3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058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2857BD-4DB9-4ABF-83AC-A84C3EA916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9/11-19-0397-00-00ay-task-group-ay-march-2019-closing-report.ppt" TargetMode="External"/><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9/11-19-0545-08-00ay-task-group-ay-march-april-and-may-2019-teleconference-call-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mentor.ieee.org/802.11/dcn/11/11-11-1625-02-0000-comment-resolution-guide.doc" TargetMode="External"/><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DC0248-29D8-4129-A232-4E80A25D2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y 2019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5-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26E7AD-5130-4A21-A8CE-5CA5F178C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041ACF-F1C7-4394-B775-DE99B02C3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E05A76-E6F0-4008-871E-3733723AD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47C036-CBCB-448B-AA6C-9BBE45194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land Ballroom III</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93B2E8-CF1A-4174-93E2-F217836D1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57D5E3-AFA2-4F95-A4B2-699B90EEB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since the March 2019 plenar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inders</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470D38-792C-4FCA-A32A-0D258BA78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Introdu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recirculation WGLB #239</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BE8044-2447-4827-BD7A-7CB7750E3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March 2019 plenary</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 submissions are covered during the meeting covering areas related to comment resolution on recirculation working group letter ballot 239 (Draft 3.0)</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15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6061E-B462-432B-96B6-518E186CD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ess since the end of the March plenary</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 teleconference calls were held between March 20 and May 8 for comment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discussed</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95 comments are resolved and ready for motion</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 bug fix contribution is reviewed and ready for mot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123 editorial comments were proposed and resolved by the Edito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May 8, there are (478-115-195-123=) 45 comments pending for resolution.</a:t>
            </a:r>
            <a:endParaRPr b="0" lang="en-US" sz="24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126060-76D5-40A2-947E-E778BC275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1)</a:t>
            </a:r>
            <a:endParaRPr b="0" lang="en-US" sz="3200" spc="-1" strike="noStrike">
              <a:solidFill>
                <a:srgbClr val="000000"/>
              </a:solidFill>
              <a:latin typeface="Times New Roman"/>
            </a:endParaRPr>
          </a:p>
        </p:txBody>
      </p:sp>
      <p:sp>
        <p:nvSpPr>
          <p:cNvPr id="6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27280"/>
          <a:ext cx="7913520" cy="44449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BRP protoco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LB239 CH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6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32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to CID 426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90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multiple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rch 27, 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omment resolutions on hybrid beamforming part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D3.0 CR on hybrid beamforming for CID 43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y 12 - 17,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F4FA91-0FC4-45B4-90F1-ADE0E306F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DD1E94-EA89-4C98-A9BA-1B586A27F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2)</a:t>
            </a:r>
            <a:endParaRPr b="0" lang="en-US" sz="3200" spc="-1" strike="noStrike">
              <a:solidFill>
                <a:srgbClr val="000000"/>
              </a:solidFill>
              <a:latin typeface="Times New Roman"/>
            </a:endParaRPr>
          </a:p>
        </p:txBody>
      </p:sp>
      <p:sp>
        <p:nvSpPr>
          <p:cNvPr id="6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4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MS PGothic"/>
                        </a:rPr>
                        <a:t>LB239 CIDs 4058, 4073, 4106, 4107, 4108, 4420, 4421, 4422, 442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1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 April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Resolution to CID 443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LB239 HBF sounding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MS PGothic"/>
                        </a:rPr>
                        <a:t>Changes to dual polarization TRN training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8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TDD BF and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17, 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F7AB5C-1499-46B1-B035-7A648C659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rch/April/May teleconference calls (3)</a:t>
            </a:r>
            <a:endParaRPr b="0" lang="en-US" sz="3200" spc="-1" strike="noStrike">
              <a:solidFill>
                <a:srgbClr val="000000"/>
              </a:solidFill>
              <a:latin typeface="Times New Roman"/>
            </a:endParaRPr>
          </a:p>
        </p:txBody>
      </p:sp>
      <p:sp>
        <p:nvSpPr>
          <p:cNvPr id="6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96960" y="1727280"/>
          <a:ext cx="7913520" cy="421632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omment resolution on MIMO BF (Part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Proposed comment resolutions 4173,417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ril 24</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8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TDD slot timing CID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 of LB239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Resolutions to CIDs related to channel acces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7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CID resolution - Part XI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MS PGothic"/>
                        </a:rPr>
                        <a:t>Bug fixes to asymmetric beamforming train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y 8</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6CDDB7-2F3D-47E4-BFA2-4FCC7B7AA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6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May 6, 2019)</a:t>
            </a:r>
            <a:endParaRPr b="0" lang="en-US" sz="1800" spc="-1" strike="noStrike">
              <a:solidFill>
                <a:srgbClr val="000000"/>
              </a:solidFill>
              <a:latin typeface="Times New Roman"/>
            </a:endParaRPr>
          </a:p>
        </p:txBody>
      </p:sp>
      <p:graphicFrame>
        <p:nvGraphicFramePr>
          <p:cNvPr id="665" name=""/>
          <p:cNvGraphicFramePr/>
          <p:nvPr/>
        </p:nvGraphicFramePr>
        <p:xfrm>
          <a:off x="685800" y="1676520"/>
          <a:ext cx="7772400" cy="449568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9/0297r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901117-A9F5-4CCD-A8FF-2DED4D1B4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9 meeting minutes</a:t>
            </a:r>
            <a:endParaRPr b="0" lang="en-US" sz="3200" spc="-1" strike="noStrike">
              <a:solidFill>
                <a:srgbClr val="000000"/>
              </a:solidFill>
              <a:latin typeface="Times New Roman"/>
            </a:endParaRPr>
          </a:p>
        </p:txBody>
      </p:sp>
      <p:sp>
        <p:nvSpPr>
          <p:cNvPr id="6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March 2019 plenary:</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397-00-00ay-task-group-ay-march-2019-closing-report.p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9F961D-7601-410D-A9A8-ECE6A8E57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8: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April/May teleconference call minutes</a:t>
            </a:r>
            <a:endParaRPr b="0" lang="en-US" sz="3200" spc="-1" strike="noStrike">
              <a:solidFill>
                <a:srgbClr val="000000"/>
              </a:solidFill>
              <a:latin typeface="Times New Roman"/>
            </a:endParaRPr>
          </a:p>
        </p:txBody>
      </p:sp>
      <p:sp>
        <p:nvSpPr>
          <p:cNvPr id="6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March 20, March 27, April 3, April 10, April 17, April 24, May 1, and May 8, 2019:</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9/11-19-0545-08-00ay-task-group-ay-march-april-and-may-2019-tele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E2939B-CBFF-4005-8A1E-AC525B5FE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lya Bolot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U BA and R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3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ny H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comment resolution 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1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LB239 CID 4474, 4475, 447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A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EED47C-9B85-411C-9BF4-62019B685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9 resolution of CID 4284, 436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32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radar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access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3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9 PHY measurement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s 4448, 447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5AC6C5-B2E1-46AD-A63E-F97B017E0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8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256536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471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 4219 4220 422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Bug fix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75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4228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50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Sakod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nkage to MIB variabl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6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ra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wed frames and transmit order for different TDD slot categori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45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9D8468-B52E-4351-B003-BD65F537D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1468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86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yam Toarb</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time synchronization clarifica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C3EDF3-001F-4587-8B51-6A245F95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066701-F5B2-4902-92D2-70F2D7224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y 2019 interim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4326A8-D8B4-4345-BDF0-ED69E401F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5"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58694A-24A5-4063-A2AA-1EE27AC54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0" name=""/>
          <p:cNvGraphicFramePr/>
          <p:nvPr/>
        </p:nvGraphicFramePr>
        <p:xfrm>
          <a:off x="696960" y="1650960"/>
          <a:ext cx="7913520" cy="9190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X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B8B002-A537-43B3-8464-53C68044C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p:nvPr>
        </p:nvSpPr>
        <p:spPr>
          <a:xfrm>
            <a:off x="685440" y="1218960"/>
            <a:ext cx="4343400" cy="507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since the March 2019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Introduc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PM2, 4:00pm – 6:00pm </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2,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714" name="Rectangle 3"/>
          <p:cNvSpPr/>
          <p:nvPr/>
        </p:nvSpPr>
        <p:spPr>
          <a:xfrm>
            <a:off x="4876920" y="1219320"/>
            <a:ext cx="4114800" cy="5257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2, 4:00pm – 6:0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PM2, 4:00pm – 6:0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AM2, 10:30am – 12:30pm</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ndatory draft review findings</a:t>
            </a:r>
            <a:endParaRPr b="0" lang="en-US" sz="14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4:00pm – 6:00pm </a:t>
            </a:r>
            <a:endParaRPr b="0" lang="en-US" sz="16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extension request:  Mo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698400" indent="-26856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uly 2019 plenary</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698400" indent="-26856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C6E98C-50AF-4B7B-BB00-090F85294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November 2018</a:t>
            </a:r>
            <a:endParaRPr b="0" lang="en-US" sz="3200" spc="-1" strike="noStrike">
              <a:solidFill>
                <a:srgbClr val="000000"/>
              </a:solidFill>
              <a:latin typeface="Times New Roman"/>
            </a:endParaRPr>
          </a:p>
        </p:txBody>
      </p:sp>
      <p:sp>
        <p:nvSpPr>
          <p:cNvPr id="71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 (Draft 5.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11:  Recirculation Sponsor Ballot (Draft 6.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Second Recirculation Sponsor Ballot (Draft. 7.0)</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2:  Third Recirculation Sponsor Ballot (Draft 7.0 unchanged)</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May: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7CF15A-103C-4B0C-AE67-B2C4BCD9F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extension request:  Introduction</a:t>
            </a:r>
            <a:endParaRPr b="0" lang="en-US" sz="3200" spc="-1" strike="noStrike">
              <a:solidFill>
                <a:srgbClr val="000000"/>
              </a:solidFill>
              <a:latin typeface="Times New Roman"/>
            </a:endParaRPr>
          </a:p>
        </p:txBody>
      </p:sp>
      <p:sp>
        <p:nvSpPr>
          <p:cNvPr id="72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6" name="Rectangle 3"/>
          <p:cNvSpPr/>
          <p:nvPr/>
        </p:nvSpPr>
        <p:spPr>
          <a:xfrm>
            <a:off x="762120" y="1600200"/>
            <a:ext cx="7772400" cy="44845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673r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3078CA-3791-496C-B84F-851168804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2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2DE882-E992-4A23-A7FE-9B08981A5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changes to the approved draft</a:t>
            </a:r>
            <a:endParaRPr b="0" lang="en-US" sz="3200" spc="-1" strike="noStrike">
              <a:solidFill>
                <a:srgbClr val="000000"/>
              </a:solidFill>
              <a:latin typeface="Times New Roman"/>
            </a:endParaRPr>
          </a:p>
        </p:txBody>
      </p:sp>
      <p:sp>
        <p:nvSpPr>
          <p:cNvPr id="7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36"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that “owns” the draft can make any changes it likes for any reason whatsoever during the ballot cycle, provided that the changes are approved by 75% motion in the T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hanges are recirculated to voters, and identified in the draft redline.  Voters can comment on these changes and may vote “no” if they don’t like them.</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interest of reaching closure, the TG is advised to limit these changes to the early stages of a ballot serie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DF24AB-6911-4EA9-A604-AB69B1DC6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9: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ed motion #582)</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98, 4128, 4249, 4122, 4123, 4240, 4335, 4242, </a:t>
            </a:r>
            <a:r>
              <a:rPr b="0" lang="en-US" sz="1600" spc="-1" strike="noStrike">
                <a:solidFill>
                  <a:srgbClr val="ff0000"/>
                </a:solidFill>
                <a:latin typeface="Times New Roman"/>
              </a:rPr>
              <a:t>4244, 4246</a:t>
            </a:r>
            <a:r>
              <a:rPr b="0" lang="en-US" sz="1600" spc="-1" strike="noStrike">
                <a:solidFill>
                  <a:srgbClr val="000000"/>
                </a:solidFill>
                <a:latin typeface="Times New Roman"/>
              </a:rPr>
              <a:t>, 4127, 4334, </a:t>
            </a:r>
            <a:r>
              <a:rPr b="0" lang="en-US" sz="1600" spc="-1" strike="noStrike">
                <a:solidFill>
                  <a:srgbClr val="000000"/>
                </a:solidFill>
                <a:latin typeface="Times New Roman"/>
              </a:rPr>
              <a:t>	</a:t>
            </a:r>
            <a:r>
              <a:rPr b="0" lang="en-US" sz="1600" spc="-1" strike="noStrike">
                <a:solidFill>
                  <a:srgbClr val="000000"/>
                </a:solidFill>
                <a:latin typeface="Times New Roman"/>
              </a:rPr>
              <a:t>and 4336 as proposed in 19/0333r4;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50 as proposed in 19/0362r2.</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3346A0-5253-4699-9E66-00738F9DE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16, 4168, 4175, and 4333 as proposed in 19/0535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326, 4144, and 4195 as proposed in 19/0536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131, 4132, 4133, 4135, 4136, 4137, 4138, 4139, and 4140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0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4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C82B16-8C35-470C-82D4-357EAEA3C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83, 4084, 4085, 4086, 4198, 4149, 4152, 4064, 4076, 4077, 4171, 4154, </a:t>
            </a:r>
            <a:r>
              <a:rPr b="0" lang="en-US" sz="1600" spc="-1" strike="noStrike">
                <a:solidFill>
                  <a:srgbClr val="000000"/>
                </a:solidFill>
                <a:latin typeface="Times New Roman"/>
              </a:rPr>
              <a:t>	</a:t>
            </a:r>
            <a:r>
              <a:rPr b="0" lang="en-US" sz="1600" spc="-1" strike="noStrike">
                <a:solidFill>
                  <a:srgbClr val="000000"/>
                </a:solidFill>
                <a:latin typeface="Times New Roman"/>
              </a:rPr>
              <a:t>and 4159 as proposed in 19/0546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66 as proposed in 19/0667r1.</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CD55C95-72C8-4F98-A5A5-852B3431DA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56859E-870C-40CB-8FBA-474F0EB02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15, 4230, 4257, 4280, 4291, 4295, 4234, 4346, 4348, 4350, 4372, 4428, </a:t>
            </a:r>
            <a:r>
              <a:rPr b="0" lang="en-US" sz="1600" spc="-1" strike="noStrike">
                <a:solidFill>
                  <a:srgbClr val="000000"/>
                </a:solidFill>
                <a:latin typeface="Times New Roman"/>
              </a:rPr>
              <a:t>	</a:t>
            </a:r>
            <a:r>
              <a:rPr b="0" lang="en-US" sz="1600" spc="-1" strike="noStrike">
                <a:solidFill>
                  <a:srgbClr val="000000"/>
                </a:solidFill>
                <a:latin typeface="Times New Roman"/>
              </a:rPr>
              <a:t>4435, 4436, 4439, 4443, 4444, 4445, 4446, 4447, 4452, 4453, 4454, 4455, and </a:t>
            </a:r>
            <a:r>
              <a:rPr b="0" lang="en-US" sz="1600" spc="-1" strike="noStrike">
                <a:solidFill>
                  <a:srgbClr val="000000"/>
                </a:solidFill>
                <a:latin typeface="Times New Roman"/>
              </a:rPr>
              <a:t>	</a:t>
            </a:r>
            <a:r>
              <a:rPr b="0" lang="en-US" sz="1600" spc="-1" strike="noStrike">
                <a:solidFill>
                  <a:srgbClr val="000000"/>
                </a:solidFill>
                <a:latin typeface="Times New Roman"/>
              </a:rPr>
              <a:t>4463 as proposed in 19/0490r2;  </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8, 4073, 4106, 4107, 4108, 4420, 4421, 4422, and 4423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578r0;</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55, 4059, 4072, 4145, 4264, 4265, 4274, 4300, 4347, 4349, 4353, 4354, </a:t>
            </a:r>
            <a:r>
              <a:rPr b="0" lang="en-US" sz="1600" spc="-1" strike="noStrike">
                <a:solidFill>
                  <a:srgbClr val="000000"/>
                </a:solidFill>
                <a:latin typeface="Times New Roman"/>
              </a:rPr>
              <a:t>	</a:t>
            </a:r>
            <a:r>
              <a:rPr b="0" lang="en-US" sz="1600" spc="-1" strike="noStrike">
                <a:solidFill>
                  <a:srgbClr val="000000"/>
                </a:solidFill>
                <a:latin typeface="Times New Roman"/>
              </a:rPr>
              <a:t>4355, 4356, 4364, 4371, 4385, 4391, 4393, 4394, and 442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281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70, 4223, 4419, 4424, 4425, 4426, and 4030 as proposed in 19/066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639651-A8CD-4D1A-8476-DAADE7E12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3:  Comment Resolution</a:t>
            </a:r>
            <a:endParaRPr b="0" lang="en-US" sz="3200" spc="-1" strike="noStrike">
              <a:solidFill>
                <a:srgbClr val="000000"/>
              </a:solidFill>
              <a:latin typeface="Times New Roman"/>
            </a:endParaRPr>
          </a:p>
        </p:txBody>
      </p:sp>
      <p:sp>
        <p:nvSpPr>
          <p:cNvPr id="7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062, 4134, 4231, 4315, 4329, and 4344 as proposed in 19/0554r0;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310 as proposed in 19/0555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Kome Oteri</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211A1E-7C2C-4085-9CD0-3CBC45322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4:  Comment Resolution</a:t>
            </a:r>
            <a:endParaRPr b="0" lang="en-US" sz="3200" spc="-1" strike="noStrike">
              <a:solidFill>
                <a:srgbClr val="000000"/>
              </a:solidFill>
              <a:latin typeface="Times New Roman"/>
            </a:endParaRPr>
          </a:p>
        </p:txBody>
      </p:sp>
      <p:sp>
        <p:nvSpPr>
          <p:cNvPr id="76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42, 4143, and 4469 as proposed in 19/0547r2.</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59097A-9000-4A6B-85D1-46F482EE2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5:  Comment Resolution</a:t>
            </a:r>
            <a:endParaRPr b="0" lang="en-US" sz="3200" spc="-1" strike="noStrike">
              <a:solidFill>
                <a:srgbClr val="000000"/>
              </a:solidFill>
              <a:latin typeface="Times New Roman"/>
            </a:endParaRPr>
          </a:p>
        </p:txBody>
      </p:sp>
      <p:sp>
        <p:nvSpPr>
          <p:cNvPr id="76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21, 4216, 4292, 4285, 4293, 4451, 4411, 4450, and 4449 as proposed in </a:t>
            </a:r>
            <a:r>
              <a:rPr b="0" lang="en-US" sz="1600" spc="-1" strike="noStrike">
                <a:solidFill>
                  <a:srgbClr val="000000"/>
                </a:solidFill>
                <a:latin typeface="Times New Roman"/>
              </a:rPr>
              <a:t>	</a:t>
            </a:r>
            <a:r>
              <a:rPr b="0" lang="en-US" sz="1600" spc="-1" strike="noStrike">
                <a:solidFill>
                  <a:srgbClr val="000000"/>
                </a:solidFill>
                <a:latin typeface="Times New Roman"/>
              </a:rPr>
              <a:t>19/0621r3.</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s 4251, 4282, 4456, 4457, 4030, 4031, 4032, 4048, 4050, 4052, 4027, 4028, </a:t>
            </a:r>
            <a:r>
              <a:rPr b="0" lang="en-US" sz="1600" spc="-1" strike="noStrike">
                <a:solidFill>
                  <a:srgbClr val="000000"/>
                </a:solidFill>
                <a:latin typeface="Times New Roman"/>
              </a:rPr>
              <a:t>	</a:t>
            </a:r>
            <a:r>
              <a:rPr b="0" lang="en-US" sz="1600" spc="-1" strike="noStrike">
                <a:solidFill>
                  <a:srgbClr val="000000"/>
                </a:solidFill>
                <a:latin typeface="Times New Roman"/>
              </a:rPr>
              <a:t>4029, 4049, 4051, 4053, 4047, 4413, 4111, 4112, 4118, 4272, 4275, 4298, 4299, </a:t>
            </a:r>
            <a:r>
              <a:rPr b="0" lang="en-US" sz="1600" spc="-1" strike="noStrike">
                <a:solidFill>
                  <a:srgbClr val="000000"/>
                </a:solidFill>
                <a:latin typeface="Times New Roman"/>
              </a:rPr>
              <a:t>	</a:t>
            </a:r>
            <a:r>
              <a:rPr b="0" lang="en-US" sz="1600" spc="-1" strike="noStrike">
                <a:solidFill>
                  <a:srgbClr val="000000"/>
                </a:solidFill>
                <a:latin typeface="Times New Roman"/>
              </a:rPr>
              <a:t>4301, 4302, 4308, 4271, 4117, 4254, 4255, 4273, 4269, 4277, 4270, 4278, 4252, </a:t>
            </a:r>
            <a:r>
              <a:rPr b="0" lang="en-US" sz="1600" spc="-1" strike="noStrike">
                <a:solidFill>
                  <a:srgbClr val="000000"/>
                </a:solidFill>
                <a:latin typeface="Times New Roman"/>
              </a:rPr>
              <a:t>	</a:t>
            </a:r>
            <a:r>
              <a:rPr b="0" lang="en-US" sz="1600" spc="-1" strike="noStrike">
                <a:solidFill>
                  <a:srgbClr val="000000"/>
                </a:solidFill>
                <a:latin typeface="Times New Roman"/>
              </a:rPr>
              <a:t>4253, 4368, 4374, 4297, 4373, 4395, 4401, 4009, 4369, 4370, 4017, 4018, 4019, </a:t>
            </a:r>
            <a:r>
              <a:rPr b="0" lang="en-US" sz="1600" spc="-1" strike="noStrike">
                <a:solidFill>
                  <a:srgbClr val="000000"/>
                </a:solidFill>
                <a:latin typeface="Times New Roman"/>
              </a:rPr>
              <a:t>	</a:t>
            </a:r>
            <a:r>
              <a:rPr b="0" lang="en-US" sz="1600" spc="-1" strike="noStrike">
                <a:solidFill>
                  <a:srgbClr val="000000"/>
                </a:solidFill>
                <a:latin typeface="Times New Roman"/>
              </a:rPr>
              <a:t>4020, 4022, 4008, 4289, and 4290 as proposed in 19/0648r4.</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7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8945E1-862F-4ABF-BB5E-7D99381D2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6:  Comment Resolution</a:t>
            </a:r>
            <a:endParaRPr b="0" lang="en-US" sz="3200" spc="-1" strike="noStrike">
              <a:solidFill>
                <a:srgbClr val="000000"/>
              </a:solidFill>
              <a:latin typeface="Times New Roman"/>
            </a:endParaRPr>
          </a:p>
        </p:txBody>
      </p:sp>
      <p:sp>
        <p:nvSpPr>
          <p:cNvPr id="77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267 as proposed in 19/0532r2;  an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ID 4433 as proposed in 19/0587r0.</a:t>
            </a:r>
            <a:endParaRPr b="0" lang="en-US" sz="16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7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244FF5-3B6A-4C4E-ACAB-19DA67DC9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7:  Comment Resolution</a:t>
            </a:r>
            <a:endParaRPr b="0" lang="en-US" sz="3200" spc="-1" strike="noStrike">
              <a:solidFill>
                <a:srgbClr val="000000"/>
              </a:solidFill>
              <a:latin typeface="Times New Roman"/>
            </a:endParaRPr>
          </a:p>
        </p:txBody>
      </p:sp>
      <p:sp>
        <p:nvSpPr>
          <p:cNvPr id="7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reject CID 4067 with a resolution of “The commenter has indicated to the Chair and Editor that he wishes to withdraw the com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C88C28-6110-4846-BBF3-694D18C91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8:  Comment Resolution</a:t>
            </a:r>
            <a:endParaRPr b="0" lang="en-US" sz="3200" spc="-1" strike="noStrike">
              <a:solidFill>
                <a:srgbClr val="000000"/>
              </a:solidFill>
              <a:latin typeface="Times New Roman"/>
            </a:endParaRPr>
          </a:p>
        </p:txBody>
      </p:sp>
      <p:sp>
        <p:nvSpPr>
          <p:cNvPr id="7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proposed resolution for 123 editorial comments assigned to Carlos Cordeiro in 19/0297r6 and incorporate the indicated changes into the Draft 3.0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8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12E09A-E824-4D25-947F-9C6C2CFB7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9:  Comment Resolution</a:t>
            </a:r>
            <a:endParaRPr b="0" lang="en-US" sz="3200" spc="-1" strike="noStrike">
              <a:solidFill>
                <a:srgbClr val="000000"/>
              </a:solidFill>
              <a:latin typeface="Times New Roman"/>
            </a:endParaRPr>
          </a:p>
        </p:txBody>
      </p:sp>
      <p:sp>
        <p:nvSpPr>
          <p:cNvPr id="7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24, 4243, 4125, 4248, 4129, 4337, 4130, and 4126 as proposed in 19/065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D44AA1-6D02-4A18-AB11-B43AFAB9B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0:  Comment Resolution</a:t>
            </a:r>
            <a:endParaRPr b="0" lang="en-US" sz="3200" spc="-1" strike="noStrike">
              <a:solidFill>
                <a:srgbClr val="000000"/>
              </a:solidFill>
              <a:latin typeface="Times New Roman"/>
            </a:endParaRPr>
          </a:p>
        </p:txBody>
      </p:sp>
      <p:sp>
        <p:nvSpPr>
          <p:cNvPr id="7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173 and 4174 as proposed in 19/0655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7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20367A-61C7-44EF-8CA9-CFAF9DC87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1:  Comment Resolution</a:t>
            </a:r>
            <a:endParaRPr b="0" lang="en-US" sz="3200" spc="-1" strike="noStrike">
              <a:solidFill>
                <a:srgbClr val="000000"/>
              </a:solidFill>
              <a:latin typeface="Times New Roman"/>
            </a:endParaRPr>
          </a:p>
        </p:txBody>
      </p:sp>
      <p:sp>
        <p:nvSpPr>
          <p:cNvPr id="79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4014, 4024, 4025, 4069, 4063, 4068, 4229, 4303, 4386, 4390, 4418, 4459, 4471, 4472, and 4473 as proposed in 19/0664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1313261-B923-4CD6-A509-4C83E51BED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D2BAEF-8440-41D2-A019-A6BF38181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0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D25587-F465-4C75-B5ED-967141A31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0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11F280-7F0E-42D5-AE65-1EDABDAFC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D99108-E46D-4997-B811-FEC98DE7F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21FBA0-8AA7-480A-A74E-5DB155724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24F3B-8277-4716-95A8-9A54A0CD6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1BE943-E0BA-4116-A1B3-5D3C9CFA4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3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CE944A-5C8A-4128-98AF-FA6E08A97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B99070-56AB-4FD7-82B1-9B267E5F7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3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7E2F0E-5D4D-491E-A141-40D363A2F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A23CC4-FF65-4317-948E-C8BD1B2A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F09D51-05C4-4E9D-BA05-3592D88BA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ED0E5C-72AC-49DA-B76D-37BC9B195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691733-F28C-4D9A-987A-634940248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5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A59E2E-009B-469E-A1B7-3A7A4D13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909B9D-67DC-4C71-B426-AD49FFF51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of mandatory draft review (MDR) finding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6176C0-5011-4409-B0D1-40DD3BA4D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69"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36288A-FB79-4FA9-B0D6-7D1A2D9BE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1EFEC9-5388-432D-A66E-3E7C79559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7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tension request:  Mo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raft readiness for the second recirculation WGLB (D4.0)</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uly 2019 plenary</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3F510-25C9-4977-A9B6-143521828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PAR extension request</a:t>
            </a:r>
            <a:endParaRPr b="0" lang="en-US" sz="3200" spc="-1" strike="noStrike">
              <a:solidFill>
                <a:srgbClr val="000000"/>
              </a:solidFill>
              <a:latin typeface="Times New Roman"/>
            </a:endParaRPr>
          </a:p>
        </p:txBody>
      </p:sp>
      <p:sp>
        <p:nvSpPr>
          <p:cNvPr id="88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EB0C0D-8E02-41DF-A36B-11CD76F77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886"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29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8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9CDBE-8235-4142-9CFF-6C54D863D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C8EA22-5173-449E-ABD1-51607877D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BD:  Bug fixes</a:t>
            </a:r>
            <a:endParaRPr b="0" lang="en-US" sz="3200" spc="-1" strike="noStrike">
              <a:solidFill>
                <a:srgbClr val="000000"/>
              </a:solidFill>
              <a:latin typeface="Times New Roman"/>
            </a:endParaRPr>
          </a:p>
        </p:txBody>
      </p:sp>
      <p:sp>
        <p:nvSpPr>
          <p:cNvPr id="891"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orporate the text change suggested in 19/0695r0 into the Draft 3.1 of the IEEE 802.11ay amendment.</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p:txBody>
      </p:sp>
      <p:sp>
        <p:nvSpPr>
          <p:cNvPr id="89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12B6D0-ADE0-401E-8047-58557B203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9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8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32133F-9F60-40E7-AEC9-B80623C60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uly 2019 plenary</a:t>
            </a:r>
            <a:endParaRPr b="0" lang="en-US" sz="3200" spc="-1" strike="noStrike">
              <a:solidFill>
                <a:srgbClr val="000000"/>
              </a:solidFill>
              <a:latin typeface="Times New Roman"/>
            </a:endParaRPr>
          </a:p>
        </p:txBody>
      </p:sp>
      <p:sp>
        <p:nvSpPr>
          <p:cNvPr id="90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A7679C-42B4-4E9B-9CD8-CE57450CD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0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B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6"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9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03E421F-283C-4111-AAB3-3E6AC09E28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982FC1-49F4-476E-A485-7BD2F339F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y 2019</cp:keywords>
  <dc:language>en-US</dc:language>
  <cp:lastModifiedBy>Edward Au</cp:lastModifiedBy>
  <cp:lastPrinted>2014-11-04T15:04:57Z</cp:lastPrinted>
  <dcterms:modified xsi:type="dcterms:W3CDTF">2019-05-13T11:10:58Z</dcterms:modified>
  <cp:revision>8868</cp:revision>
  <dc:subject>Task Group AY November 2015 Meeting Agenda</dc:subject>
  <dc:title>11-19/058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