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BC57B3FC-8CEB-45DA-9374-7474BC08BF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07E05F-B063-457D-9C71-5C751AF31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54160" y="701640"/>
            <a:ext cx="4626000" cy="3468600"/>
          </a:xfrm>
          <a:prstGeom prst="rect">
            <a:avLst/>
          </a:prstGeom>
          <a:ln w="0">
            <a:noFill/>
          </a:ln>
        </p:spPr>
      </p:sp>
      <p:sp>
        <p:nvSpPr>
          <p:cNvPr id="6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CA5FE8-18CD-43E0-8894-1D94C0E6F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54160" y="701640"/>
            <a:ext cx="4626000" cy="3468600"/>
          </a:xfrm>
          <a:prstGeom prst="rect">
            <a:avLst/>
          </a:prstGeom>
          <a:ln w="0">
            <a:noFill/>
          </a:ln>
        </p:spPr>
      </p:sp>
      <p:sp>
        <p:nvSpPr>
          <p:cNvPr id="7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299490-AC10-4FA8-9CF4-6C44C08C2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4160" y="701640"/>
            <a:ext cx="4626000" cy="3468600"/>
          </a:xfrm>
          <a:prstGeom prst="rect">
            <a:avLst/>
          </a:prstGeom>
          <a:ln w="0">
            <a:noFill/>
          </a:ln>
        </p:spPr>
      </p:sp>
      <p:sp>
        <p:nvSpPr>
          <p:cNvPr id="7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B21412-EE0C-4FF0-A839-2A37B6250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54160" y="701640"/>
            <a:ext cx="4626000" cy="3468600"/>
          </a:xfrm>
          <a:prstGeom prst="rect">
            <a:avLst/>
          </a:prstGeom>
          <a:ln w="0">
            <a:noFill/>
          </a:ln>
        </p:spPr>
      </p:sp>
      <p:sp>
        <p:nvSpPr>
          <p:cNvPr id="7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D3E6CA-5E46-4E03-9A6D-902089AEC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9B9EA4-1493-49D0-8933-14570C90F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AD91DF-9C42-486F-A7E2-04FC2697D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4160" y="701640"/>
            <a:ext cx="4626000" cy="3468600"/>
          </a:xfrm>
          <a:prstGeom prst="rect">
            <a:avLst/>
          </a:prstGeom>
          <a:ln w="0">
            <a:noFill/>
          </a:ln>
        </p:spPr>
      </p:sp>
      <p:sp>
        <p:nvSpPr>
          <p:cNvPr id="7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A21DB0-9FE6-44F7-BA8D-9CC2971A3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4160" y="701640"/>
            <a:ext cx="4626000" cy="3468600"/>
          </a:xfrm>
          <a:prstGeom prst="rect">
            <a:avLst/>
          </a:prstGeom>
          <a:ln w="0">
            <a:noFill/>
          </a:ln>
        </p:spPr>
      </p:sp>
      <p:sp>
        <p:nvSpPr>
          <p:cNvPr id="7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1ADD00-5972-4150-A3EA-E7D23E227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54160" y="701640"/>
            <a:ext cx="4626000" cy="3468600"/>
          </a:xfrm>
          <a:prstGeom prst="rect">
            <a:avLst/>
          </a:prstGeom>
          <a:ln w="0">
            <a:noFill/>
          </a:ln>
        </p:spPr>
      </p:sp>
      <p:sp>
        <p:nvSpPr>
          <p:cNvPr id="6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B3F1AD-23DA-46A8-BDB1-25CED12BD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C23199-4D5D-4A13-8915-304BA5D79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1BBD908-2A8E-4BD8-8F6D-335016A4D9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7680" y="696960"/>
            <a:ext cx="4640400" cy="3479760"/>
          </a:xfrm>
          <a:prstGeom prst="rect">
            <a:avLst/>
          </a:prstGeom>
          <a:ln w="0">
            <a:noFill/>
          </a:ln>
        </p:spPr>
      </p:sp>
      <p:sp>
        <p:nvSpPr>
          <p:cNvPr id="66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DA311A7-CC3B-47BE-AE5B-B0C33E109E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7680" y="696960"/>
            <a:ext cx="4640400" cy="3479760"/>
          </a:xfrm>
          <a:prstGeom prst="rect">
            <a:avLst/>
          </a:prstGeom>
          <a:ln w="0">
            <a:noFill/>
          </a:ln>
        </p:spPr>
      </p:sp>
      <p:sp>
        <p:nvSpPr>
          <p:cNvPr id="67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F00ACB7-808C-4AC9-9C0B-A0D6C16AF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54160" y="701640"/>
            <a:ext cx="4626000" cy="3468600"/>
          </a:xfrm>
          <a:prstGeom prst="rect">
            <a:avLst/>
          </a:prstGeom>
          <a:ln w="0">
            <a:noFill/>
          </a:ln>
        </p:spPr>
      </p:sp>
      <p:sp>
        <p:nvSpPr>
          <p:cNvPr id="6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F4311D2-BB5A-4EC2-A843-554D403B8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54160" y="701640"/>
            <a:ext cx="4626000" cy="3468600"/>
          </a:xfrm>
          <a:prstGeom prst="rect">
            <a:avLst/>
          </a:prstGeom>
          <a:ln w="0">
            <a:noFill/>
          </a:ln>
        </p:spPr>
      </p:sp>
      <p:sp>
        <p:nvSpPr>
          <p:cNvPr id="6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7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8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B8BD01-1B0C-4AF3-9DDF-91ECF97C1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54160" y="701640"/>
            <a:ext cx="4626000" cy="3468600"/>
          </a:xfrm>
          <a:prstGeom prst="rect">
            <a:avLst/>
          </a:prstGeom>
          <a:ln w="0">
            <a:noFill/>
          </a:ln>
        </p:spPr>
      </p:sp>
      <p:sp>
        <p:nvSpPr>
          <p:cNvPr id="68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277C2A-1506-41B5-8201-CB1805773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9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E7DFD5-35F9-423A-8986-FA6EE28A1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366A6-3C41-4A44-B503-34BF59846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EF420-0960-4DB6-8D1A-F6C758E8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DFAC86-9A25-420C-ACFE-F9FC55EF3E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AC0730-DE1D-4548-A2B9-BBB77745EF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8F2974-372E-4D8D-83BA-032B8A4666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CD843-A8F1-4510-BC78-2BD712A024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EB1EF-CFBC-44ED-BABF-4D198F5C11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C2148-D6D4-48CF-92AE-31038BB8BC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90E018-5372-4666-8118-28C7DD2963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D7D4DF-80FC-44DA-A0A3-32FF1DAAA9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379729-464F-486B-A255-EA6C2A95F4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2C472C-1928-4E4F-ABB9-B1C70A793D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B3976-EB39-43CD-A86C-CFF959D00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DDB636-BB1B-4781-A567-C93C9DAADE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3A7E46-C3EF-474F-BEAD-747B666A13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A02276-33B9-4AB2-8214-8AFF0ED800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624ABD-18E7-4EEE-A03A-A90AB28257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F52D9B-8912-4D70-AF0B-5D37AC3157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EC7954-23A0-4C0C-ACFA-58C81B3F80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CC0F32-50A1-46FE-84EF-B96D97A1F8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66F962-3385-4FFB-8181-B29B0DF96B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066796-DC4A-479C-982F-CA2A7BDD9E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9BE61A-0E0F-41E5-A73E-6BFE6C61D6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BC6D1-69DE-4CB0-8DD4-EDC498CFB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E7143C-4CA3-44B2-A4F5-66ACB07790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DBC072-D35F-40F6-BCEE-8B835C1D92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8655FC-6751-44B4-80F4-6C83D3E079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A3A28B-C45A-4F55-BC78-21E5B070F2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582FDC-6AC4-466D-9457-F68FAE5CE7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161196-9120-4265-9725-FECEBF136F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DF1C5C-1BC1-4A3B-9251-F9E2FC6E68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B768F7-AFF2-41EA-948B-177181CC50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FD0CE0-644B-420A-9BA8-C2C52CFB1E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33FBD9-AADD-4B37-8B54-8C6037B7E8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074EA-D7E4-4CB7-9FC4-2101D4DDA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EE7A29-88C3-4FCE-8AF0-D27AB2A54E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9E8CFB-AEBB-4785-A92E-7B734F799F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6F8746-0621-4968-9275-F86B7AB073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D423B0-793F-47AB-8DB5-DF667EB723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7AD482-195B-42A9-A364-7AAB70E57C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5744D2-3062-4D28-9FBC-0380183711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8D9B0D-47D7-4EC0-A27C-8BFBC1E381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35D289-A59F-4044-B093-3C7298D836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7FD6AE-949D-4193-BDA6-2C0D283C1F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6F9442-DCEB-49B8-89BF-B05B5756C3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51D87-49B1-4D8E-B43A-4187E53E0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34C609-CB0E-49C0-BA3C-681410A4DC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65AAD2-E43E-4DDD-95BE-83E680595B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72EEA2-2DBE-4964-AF1E-F04EDABA65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345EE9-4658-4A79-92CC-5CC750B793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786F13-18F2-4C58-973E-CC3A02AA4B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EAEB2-20EB-49A0-9E60-6255DD903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F82A6-B19E-4038-A16C-21B66CACF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557C8-DAD5-4739-8A43-E1CF6890F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342EC-2512-4A45-811E-1CB0E2A30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1CF7B-7D22-4A8A-9DBE-1969F1C3E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55CF-A316-42D4-9518-02E42715D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1841B-837F-4871-BFE1-82D6D27C6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3C1C7-DB2F-4BCF-A21B-81F60C73A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59E3F-0747-4AB6-8BC7-BF642268E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9D58E-9495-432D-B0E5-493F809FC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13401-32D0-43AD-89D5-EFEED365C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C0E147-F55E-4735-BB6F-AEC8F40781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E139E-3C3A-41E0-B090-60B585E216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4881A0-1876-486A-82D9-C88DA2538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CB0018-C781-471A-9A59-580D8EFAE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BBD05-78A5-43D3-86CD-7060DC552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A35C3-4E3C-46A4-BB3B-40CC48489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3FE9C4-6C61-4116-A8B2-8897DCBF7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9E1D8-26F4-4B73-9ADE-F12721947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E0539-8245-407A-A5AE-115B0E148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70CCB-8370-42D1-B461-A587E8B73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4CE9C-5B3A-4772-A5C3-0E3138DFE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EAF04-6D37-4C82-896D-EB0765C0A1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ED2EC1-A231-4050-9C34-50B1A011F1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9C974D-8F2F-4449-A35B-062A80102F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EC2F8B-53F2-4633-9D71-6FF9F8FA9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F3CBE-AAE9-4FDF-8FC9-1E8C5A63B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B7761-9D4B-4526-8C35-905A80298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01984A-9F3D-49BC-8AF7-77BE1EBA0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4FFE4-FE6C-4219-84BC-532619FFE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6B8D5-8DD2-4B8C-8A9E-C571203366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D28D7-A5F0-42BB-8A53-1FA1662B4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02909-DDC8-48F9-8485-060A8E5F6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0E5784-F690-41BE-A4A0-2B06EED18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7804EC-6949-4018-9016-380970AC24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62D5E9-9B0C-4906-90C0-7408B9E654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11764D-DC69-4FB9-B4AF-CBCDF3EAEF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E961FC-A502-4674-9A70-B8C3BD6A99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FC112-A3CC-40A1-A208-F90012BB9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3C6B3-5114-4D8C-A333-2BA1E47BB7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FEFD4C-299A-42C0-B370-CE8A51949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988AE2-BC47-4B46-AB95-5E111019A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93B038-CDBE-4CF1-BBBB-E77D1D1D2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101359-8675-436D-94A1-30987380C6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A1CBC5-CAF2-47BF-88F8-BCE217E14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D784C-3FA6-4932-BD57-6E390C7BF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99D12-4661-4C77-82A9-268DA9950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FB01A5-DAF7-4975-A9E4-C04E1D04D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B1B8C3-C3B5-46ED-BC31-5D020E5814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2CED-BE0E-4FC3-9DF7-F5D3D1CA7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FDA802-B907-4B25-BAAF-C55EF93A44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B8E208-ABA1-4E7B-AB9F-314E4DEFA8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5AEBE2-3FE4-4275-89D1-D9E25025DD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9183F1-87E3-411A-8099-305971A7CC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97AF5B-5440-4796-B930-EDF2A83C7C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D26C64-46C9-4858-8C23-BF527EEF5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670B8F-3440-4536-BDD1-3E2C4798FF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1B8A9-0B3D-472A-99A6-6FAB19113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A6609-43FA-4FE5-806F-0C64BF07A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CA01D-BE38-4598-8B6B-115D04DEA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DE477-1306-4A06-BC55-426CBB06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547BC6-B3DE-4DF5-AB9F-CE157A740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50F384-2381-4E84-AF01-7F7DE18812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B08F70-6A07-46AF-A49D-795F475498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E9DF0D-02B1-4807-B10A-E0C44C3277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7B0009-8E1E-4067-B9AA-1B3ACFCD61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9B69D-DE94-4995-8B4C-C6BE5F84B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6771C2-AAA9-45E7-9F8A-38390E30A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5363E8-5892-403C-9B11-A83CEE2586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45CC56-ADCA-4C20-847D-110FA984F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77011D-D46B-4281-B53A-C56DEFB05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B6641-3F7B-4100-B558-081899D2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FF4BF-4388-411D-8D2B-AAD7DF430C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6B91E-B909-4615-ADE6-3550F1E14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3FFD2A-017D-4709-B572-922DCD6A7D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F0B00B-D666-4E1A-8F14-5AC3614C22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07B58A-BBB0-4E6C-AD18-AA0AACCEF7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83EA58-CBA6-4541-A95A-13D47810D0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ABD8EA-4640-4FA7-ADEB-CC2BA97B17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5BD162-00F2-4B96-B180-5B0677B6B4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C65B9-A6BC-4FDC-B379-EA98EA49AB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5D540-DC53-432C-9E0E-97196FAB17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DCD7-2A89-4E2F-949D-972C369E3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310BDC-D064-408D-A31B-AD9F6250C1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38206E-FCAC-491A-AC89-D216523AC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0D7C33-BD6D-46AE-A636-6460FAEE89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A697B-DCC5-448C-9AE2-C6F4C3817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70B33A-B871-47CD-8856-423245B762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A03156-2B77-4BB9-B83C-CEC26DB8C9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2F7D3B-AB5E-4D9A-8FED-5FEFDF4C66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1428FB-9F02-42DC-BD8D-952335D0CB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B2A730-EDED-41BA-97DA-D813969DEF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113A9-E2F9-4684-9AFA-43F96031DF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A8CDB88-180D-4527-8C8E-ECB5A26055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40763F4-774C-436B-B8D4-2ADEEEC5E2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7917565-EF36-436E-B3DE-A745744A10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5E9299E-0255-4CA3-B259-4BB215914D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DCE2409-F1DB-4F26-B19E-BFDC6D144E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04447E9-C464-4F21-BE01-308E2B9A10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C0982BF-FC4A-485F-939D-82903CADDE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AC5E3BA-1463-4B7B-B0FE-839CE87982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4A06B76-DB67-48C4-8787-1224CD17A3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93BEC7A-A34E-4A79-9C52-21C83A778B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07F7202-9537-4415-9D91-1E3F850076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F56E057-DE57-4477-B362-ABFDB88F53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9E6A38-5423-4E54-8864-C72ED9016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5-0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40930C-1666-4C0E-9379-7F0D7A246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0</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5r1, </a:t>
            </a:r>
            <a:r>
              <a:rPr b="0" lang="en-GB" sz="1600" spc="-1" strike="noStrike">
                <a:solidFill>
                  <a:srgbClr val="000000"/>
                </a:solidFill>
                <a:latin typeface="Times New Roman"/>
              </a:rPr>
              <a:t>LB239 BRP protocol, 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6r0, </a:t>
            </a:r>
            <a:r>
              <a:rPr b="0" lang="en-GB" sz="1600" spc="-1" strike="noStrike">
                <a:solidFill>
                  <a:srgbClr val="000000"/>
                </a:solidFill>
                <a:latin typeface="Times New Roman"/>
              </a:rPr>
              <a:t>LB239 CH access CIDs, Assaf Kasher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March 27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2E0D54-C67A-4EF1-9551-F5B04DF97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7</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0,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32r0,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0, Resolution of multiple LB239 CIDs,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3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7A1D8D-2F27-49BE-8EA4-B259C1DBC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3</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7r1,  LB239 comment resolution II, Claudio da Silva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1,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llow-up on CID 4466</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78r0, </a:t>
            </a:r>
            <a:r>
              <a:rPr b="0" lang="de-DE" sz="1600" spc="-1" strike="noStrike">
                <a:solidFill>
                  <a:srgbClr val="000000"/>
                </a:solidFill>
                <a:latin typeface="Times New Roman"/>
              </a:rPr>
              <a:t>LB239 CIDs 4058, 4073, 4106, 4107, 4108, 4420, 4421, 4422, 4423</a:t>
            </a:r>
            <a:r>
              <a:rPr b="0" lang="en-US" sz="1600" spc="-1" strike="noStrike">
                <a:solidFill>
                  <a:srgbClr val="000000"/>
                </a:solidFill>
                <a:latin typeface="Times New Roman"/>
              </a:rPr>
              <a:t>, Solomon </a:t>
            </a:r>
            <a:r>
              <a:rPr b="0" lang="en-GB" sz="1600" spc="-1" strike="noStrike">
                <a:solidFill>
                  <a:srgbClr val="000000"/>
                </a:solidFill>
                <a:latin typeface="Times New Roman"/>
              </a:rPr>
              <a:t>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10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D957BD-6793-4697-B16C-5FF9E5939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0</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Bug fixe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1,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2r1,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87r0, </a:t>
            </a:r>
            <a:r>
              <a:rPr b="0" lang="en-GB" sz="1600" spc="-1" strike="noStrike">
                <a:solidFill>
                  <a:srgbClr val="000000"/>
                </a:solidFill>
                <a:latin typeface="Times New Roman"/>
              </a:rPr>
              <a:t>Resolution to CID 4433</a:t>
            </a:r>
            <a:r>
              <a:rPr b="0" lang="en-US" sz="1600" spc="-1" strike="noStrike">
                <a:solidFill>
                  <a:srgbClr val="000000"/>
                </a:solidFill>
                <a:latin typeface="Times New Roman"/>
              </a:rPr>
              <a:t>,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0r0, </a:t>
            </a:r>
            <a:r>
              <a:rPr b="0" lang="en-GB" sz="1600" spc="-1" strike="noStrike">
                <a:solidFill>
                  <a:srgbClr val="000000"/>
                </a:solidFill>
                <a:latin typeface="Times New Roman"/>
              </a:rPr>
              <a:t>LB239 HBF sounding CIDs, </a:t>
            </a:r>
            <a:r>
              <a:rPr b="0" lang="en-US" sz="1600" spc="-1" strike="noStrike">
                <a:solidFill>
                  <a:srgbClr val="000000"/>
                </a:solidFill>
                <a:latin typeface="Times New Roman"/>
              </a:rPr>
              <a:t>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9r0, </a:t>
            </a:r>
            <a:r>
              <a:rPr b="0" lang="en-GB" sz="1600" spc="-1" strike="noStrike">
                <a:solidFill>
                  <a:srgbClr val="000000"/>
                </a:solidFill>
                <a:latin typeface="Times New Roman"/>
              </a:rPr>
              <a:t>Changes to dual polarization TRN training text, Claudio da Silva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ll on April 17 is confirmed</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B15ED1-2310-42F2-B3A7-E1C4A1447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7</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2,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llow-up on CIDs 4411, 4450, and 4449</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1, Resolution of TDD BF and TDD sector switch related CIDs,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63F554-EF84-41DA-B17C-C6B85B144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24</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8r0, Comment resolution on MIMO BF (Part II), Lei Huang (Panasonic)</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5r0, Proposed comment resolutions 4173,4174, George Calcev (Huawei)</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3, Resolution of TDD BF and TDD sector switch related CIDs, Oren Kedem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on May 1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8ADBC2-CAF9-45AD-8066-BC189D4D4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1</a:t>
            </a:r>
            <a:endParaRPr b="0" lang="en-US" sz="3200" spc="-1" strike="noStrike">
              <a:solidFill>
                <a:srgbClr val="000000"/>
              </a:solidFill>
              <a:latin typeface="Times New Roman"/>
            </a:endParaRPr>
          </a:p>
        </p:txBody>
      </p:sp>
      <p:sp>
        <p:nvSpPr>
          <p:cNvPr id="63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2, Resolution of multiple LB239 CIDs, Solomon Trainin (Qualcomm)</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up on CID 4463</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65r0, </a:t>
            </a:r>
            <a:r>
              <a:rPr b="0" lang="en-GB" sz="1600" spc="-1" strike="noStrike">
                <a:solidFill>
                  <a:srgbClr val="000000"/>
                </a:solidFill>
                <a:latin typeface="Times New Roman"/>
              </a:rPr>
              <a:t>Resolution of LB239 CIDs</a:t>
            </a:r>
            <a:r>
              <a:rPr b="0" lang="en-US"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 on May 8, 2019, and the May 2019 interim</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46A75C-7792-49C8-82A0-86C165DAC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8</a:t>
            </a:r>
            <a:endParaRPr b="0" lang="en-US" sz="3200" spc="-1" strike="noStrike">
              <a:solidFill>
                <a:srgbClr val="000000"/>
              </a:solidFill>
              <a:latin typeface="Times New Roman"/>
            </a:endParaRPr>
          </a:p>
        </p:txBody>
      </p:sp>
      <p:sp>
        <p:nvSpPr>
          <p:cNvPr id="63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64r0, Resolutions to CIDs related to channel access</a:t>
            </a:r>
            <a:r>
              <a:rPr b="0" lang="en-GB" sz="1600" spc="-1" strike="noStrike">
                <a:solidFill>
                  <a:srgbClr val="000000"/>
                </a:solidFill>
                <a:latin typeface="Times New Roman"/>
              </a:rPr>
              <a:t>, Cheng Chen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667r0, CID resolution – Part XIV,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695r0, </a:t>
            </a:r>
            <a:r>
              <a:rPr b="0" lang="en-US" sz="1600" spc="-1" strike="noStrike">
                <a:solidFill>
                  <a:srgbClr val="000000"/>
                </a:solidFill>
                <a:latin typeface="Times New Roman"/>
              </a:rPr>
              <a:t>Bug fixes to asymmetric beamforming training,</a:t>
            </a:r>
            <a:r>
              <a:rPr b="0" lang="en-GB" sz="1600" spc="-1" strike="noStrike">
                <a:solidFill>
                  <a:srgbClr val="000000"/>
                </a:solidFill>
                <a:latin typeface="Times New Roman"/>
              </a:rPr>
              <a:t> Thomas Handte (Sony)</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May 2019 interim</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y 1,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CFBFAA-F95B-4DC3-BAF4-9D433BCB8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D031F4-10FD-4FDB-BA7D-DD5950957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March 20 and May 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5601AB9-4F29-4AE1-A273-793A538720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5AB5E04-F154-47C2-8110-1665EBC70B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154DB5-8D7E-4E25-B8D0-D511DC63E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090270-AEF5-4CC3-9E89-6D3569878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6192E3F-FCDD-4254-9BCB-53CB385429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3EB172-F04E-4B36-8697-C829C0160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Edward Au</cp:lastModifiedBy>
  <cp:lastPrinted>2014-11-04T15:04:57Z</cp:lastPrinted>
  <dcterms:modified xsi:type="dcterms:W3CDTF">2019-04-30T18:16:00Z</dcterms:modified>
  <cp:revision>4145</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