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9F150C80-C9FE-43C5-B174-DEE7A5EB75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E81562-3C53-4226-8193-C71185212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54160" y="701640"/>
            <a:ext cx="4626000" cy="3468600"/>
          </a:xfrm>
          <a:prstGeom prst="rect">
            <a:avLst/>
          </a:prstGeom>
          <a:ln w="0">
            <a:noFill/>
          </a:ln>
        </p:spPr>
      </p:sp>
      <p:sp>
        <p:nvSpPr>
          <p:cNvPr id="6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54160" y="701640"/>
            <a:ext cx="4626000" cy="3468600"/>
          </a:xfrm>
          <a:prstGeom prst="rect">
            <a:avLst/>
          </a:prstGeom>
          <a:ln w="0">
            <a:noFill/>
          </a:ln>
        </p:spPr>
      </p:sp>
      <p:sp>
        <p:nvSpPr>
          <p:cNvPr id="6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435B92-DD32-415B-A024-742CF0E4B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54160" y="701640"/>
            <a:ext cx="4626000" cy="3468600"/>
          </a:xfrm>
          <a:prstGeom prst="rect">
            <a:avLst/>
          </a:prstGeom>
          <a:ln w="0">
            <a:noFill/>
          </a:ln>
        </p:spPr>
      </p:sp>
      <p:sp>
        <p:nvSpPr>
          <p:cNvPr id="7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D36DAE-9B05-40EF-913F-2B1DF2134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54160" y="701640"/>
            <a:ext cx="4626000" cy="3468600"/>
          </a:xfrm>
          <a:prstGeom prst="rect">
            <a:avLst/>
          </a:prstGeom>
          <a:ln w="0">
            <a:noFill/>
          </a:ln>
        </p:spPr>
      </p:sp>
      <p:sp>
        <p:nvSpPr>
          <p:cNvPr id="7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BE45D3-AB64-4456-AA4B-D8391118A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54160" y="701640"/>
            <a:ext cx="4626000" cy="3468600"/>
          </a:xfrm>
          <a:prstGeom prst="rect">
            <a:avLst/>
          </a:prstGeom>
          <a:ln w="0">
            <a:noFill/>
          </a:ln>
        </p:spPr>
      </p:sp>
      <p:sp>
        <p:nvSpPr>
          <p:cNvPr id="7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5C0565-0927-4E3F-976B-4FB169A34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54160" y="701640"/>
            <a:ext cx="4626000" cy="3468600"/>
          </a:xfrm>
          <a:prstGeom prst="rect">
            <a:avLst/>
          </a:prstGeom>
          <a:ln w="0">
            <a:noFill/>
          </a:ln>
        </p:spPr>
      </p:sp>
      <p:sp>
        <p:nvSpPr>
          <p:cNvPr id="7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218D1A-79F6-4260-8B08-FB8C3A16D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54160" y="701640"/>
            <a:ext cx="4626000" cy="3468600"/>
          </a:xfrm>
          <a:prstGeom prst="rect">
            <a:avLst/>
          </a:prstGeom>
          <a:ln w="0">
            <a:noFill/>
          </a:ln>
        </p:spPr>
      </p:sp>
      <p:sp>
        <p:nvSpPr>
          <p:cNvPr id="7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185756-4B98-45BA-BC3F-AF22035CC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54160" y="701640"/>
            <a:ext cx="4626000" cy="3468600"/>
          </a:xfrm>
          <a:prstGeom prst="rect">
            <a:avLst/>
          </a:prstGeom>
          <a:ln w="0">
            <a:noFill/>
          </a:ln>
        </p:spPr>
      </p:sp>
      <p:sp>
        <p:nvSpPr>
          <p:cNvPr id="7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42265D-BC0C-491E-BEEF-5A12E8D49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54160" y="701640"/>
            <a:ext cx="4626000" cy="3468600"/>
          </a:xfrm>
          <a:prstGeom prst="rect">
            <a:avLst/>
          </a:prstGeom>
          <a:ln w="0">
            <a:noFill/>
          </a:ln>
        </p:spPr>
      </p:sp>
      <p:sp>
        <p:nvSpPr>
          <p:cNvPr id="7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F28A35-7F91-439E-B272-71DD88067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54160" y="701640"/>
            <a:ext cx="4626000" cy="3468600"/>
          </a:xfrm>
          <a:prstGeom prst="rect">
            <a:avLst/>
          </a:prstGeom>
          <a:ln w="0">
            <a:noFill/>
          </a:ln>
        </p:spPr>
      </p:sp>
      <p:sp>
        <p:nvSpPr>
          <p:cNvPr id="6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3BC64D-351D-4D11-A566-9E36C6BB6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AE927F-0D78-40B3-8032-C80FB237B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54160" y="701640"/>
            <a:ext cx="4626000" cy="3468600"/>
          </a:xfrm>
          <a:prstGeom prst="rect">
            <a:avLst/>
          </a:prstGeom>
          <a:ln w="0">
            <a:noFill/>
          </a:ln>
        </p:spPr>
      </p:sp>
      <p:sp>
        <p:nvSpPr>
          <p:cNvPr id="6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B527721-D446-499E-BD65-A4935BC89F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47680" y="696960"/>
            <a:ext cx="4640400" cy="3479760"/>
          </a:xfrm>
          <a:prstGeom prst="rect">
            <a:avLst/>
          </a:prstGeom>
          <a:ln w="0">
            <a:noFill/>
          </a:ln>
        </p:spPr>
      </p:sp>
      <p:sp>
        <p:nvSpPr>
          <p:cNvPr id="66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65A48EA-544D-42A4-8ADF-E7D3001963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1147680" y="696960"/>
            <a:ext cx="4640400" cy="3479760"/>
          </a:xfrm>
          <a:prstGeom prst="rect">
            <a:avLst/>
          </a:prstGeom>
          <a:ln w="0">
            <a:noFill/>
          </a:ln>
        </p:spPr>
      </p:sp>
      <p:sp>
        <p:nvSpPr>
          <p:cNvPr id="67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475C5C8-7372-4FEC-9DD0-55DB63735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54160" y="701640"/>
            <a:ext cx="4626000" cy="3468600"/>
          </a:xfrm>
          <a:prstGeom prst="rect">
            <a:avLst/>
          </a:prstGeom>
          <a:ln w="0">
            <a:noFill/>
          </a:ln>
        </p:spPr>
      </p:sp>
      <p:sp>
        <p:nvSpPr>
          <p:cNvPr id="6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D242B3D-8A74-494C-9BCC-5A83CC9ED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54160" y="701640"/>
            <a:ext cx="4626000" cy="3468600"/>
          </a:xfrm>
          <a:prstGeom prst="rect">
            <a:avLst/>
          </a:prstGeom>
          <a:ln w="0">
            <a:noFill/>
          </a:ln>
        </p:spPr>
      </p:sp>
      <p:sp>
        <p:nvSpPr>
          <p:cNvPr id="6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7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80"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8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2DF446-135A-4467-9051-B4321685A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154160" y="701640"/>
            <a:ext cx="4626000" cy="3468600"/>
          </a:xfrm>
          <a:prstGeom prst="rect">
            <a:avLst/>
          </a:prstGeom>
          <a:ln w="0">
            <a:noFill/>
          </a:ln>
        </p:spPr>
      </p:sp>
      <p:sp>
        <p:nvSpPr>
          <p:cNvPr id="68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FCF1A2-AE89-4A8E-9C20-300156A5C0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8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9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9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CF3284-5B3B-4152-83CB-E5FB8BD50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54160" y="701640"/>
            <a:ext cx="4626000" cy="3468600"/>
          </a:xfrm>
          <a:prstGeom prst="rect">
            <a:avLst/>
          </a:prstGeom>
          <a:ln w="0">
            <a:noFill/>
          </a:ln>
        </p:spPr>
      </p:sp>
      <p:sp>
        <p:nvSpPr>
          <p:cNvPr id="6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00403-C9BC-497B-BE90-30777EAB6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8D0F4-3CE0-46F8-ACC7-44885B73E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6BF710-5558-4FAB-BC61-6872FAFA0C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5BB02D-8732-4ECB-8CA1-5EB83447FC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96BA68-6BDC-4FA8-87F4-A2C1945783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DB6223-B2CC-424E-B2BF-ECA80A2700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E0B6CF-0457-4815-AB8F-3A56000863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9049A6-20A2-48DD-9D3B-6002A16567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EFCD7A-8235-445F-BC6B-C85D8E66D6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68F74E-D69A-4953-93C9-4ECF25264B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6594C4-F873-4EAE-B6DD-7FDCBBD9BC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14BC54C-0BBC-4AFC-97B4-3A92F3942CD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391DD-2F9A-410A-BF6B-FF1C8858C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30639A-45BA-4180-8680-C60D3EF30D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11AFCB-5237-461B-AE9C-46D75ED6AB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FCFDED-F3F9-405E-8AB5-D31F1AD25C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35697B-140D-47E1-BD1B-DFCA298EEC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FFEF70-3B1B-4A99-A851-01CEE97F81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90ACB1-5E00-42E0-AC19-5449A13754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85843B-5CEA-4E3A-9027-C3293D7539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FDDEEA-7AEE-4F6B-A9F3-E43E63DF24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9EA673-57BB-4778-9D95-F588FA593B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F4531D3-4CC5-48C9-B7B4-03A6148E66C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9EEA3-7085-4511-84EE-0A9B7F695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7DCF1CA-0EAE-46FB-BD9B-5095E20A4DE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8AA158-611A-4721-B9B9-C21FF01416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6B5E7E-076E-4978-AE3B-8841CDB811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BBC795-4B6E-42D7-8DFB-FED74D9AA3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F9A6DA-4873-4D3D-916D-BCC8C78464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F71AEB-AB34-4B3F-ADD5-6548F37559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2E80AA-AA5B-4FE7-9693-65316B7E57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F3561B-9C24-4681-B81E-A70EC11184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12F4DC-39E8-4666-8598-647F8A362D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319425-0F40-4B5F-A72E-40ECDD4E62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9A657-7F7D-46C9-9DBC-F200C1407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6ABDE3-286A-4DD5-B250-A73B7378AD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CD1DA4-32A0-4401-AD12-BA0B77027E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F93C9FF-105F-4872-AC13-F54DC6CD197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C0703CC-9E44-4E4A-A5DC-6F352F0CB1A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F49E05-C0B7-4799-B4E8-FE0EDF5162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0653EC-FA19-402E-9F00-B06840F4B1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D43F5B-9600-4D56-9BFD-FA5D30F8FD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E56747-3B7C-43E5-8562-9517A1AE9E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FC04EC-31C1-4C97-820D-B881A0780E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7CFB08-108B-45C3-9B0A-4DBF22BC18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8D79A-7121-4C38-97B9-764649B89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6F23A9-BE38-4C4D-95F1-4E10EE63B7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10A397-A8CD-41BA-99DD-EF9DB9B8BB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F2778D-C647-4483-A1B3-E66365C130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3E06D21-3B53-4558-B2A0-6A3F7ADABDF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05E569C-A6C2-4BBA-A914-BE651A10F6D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8C646-7494-4581-9945-E92EE8133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0CDE6-2A6E-46FB-9980-73B1FA5B1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491C9-0F6D-47D9-A869-E7C674BFC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DCEB0-80C7-430B-B5DD-40DED091F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FD7B7-5BC6-4422-B611-D5C096AE8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09B00-A858-439D-AEA7-C41582701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B892B-9800-4379-9BCF-62CCB419B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8F74E-724C-4548-AD86-F67ADF742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FB1E3-71EF-4965-A5D5-A7D179BC8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F97FD-39E9-45B4-B451-21F6CFE8C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3A4F4-9FAF-4ACE-8D5F-BC5BF89B89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D23996-6113-40E3-835D-A14DF5CE1C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D7F14B-B147-4630-9862-A2BAA7E15C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9D5AD3-1EDC-4789-81CF-EA274F82D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550334-364B-41A4-84F6-47D0A3CCE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AFF8F7-8089-49BA-8EEF-08EE1B17CC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FA612-E9F3-4419-9B90-685DB3457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79CB22-8A40-4C55-84AD-DC992BDFA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37D69-8299-477D-8B44-3E513CAED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C73768-1D09-439A-9990-E618FB49E9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7F1F61-9AC8-4440-89F1-0D93BCE8D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831618-366E-4556-A71F-856D25F16A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E35CF0-081A-451C-9DA3-BD22EAEC9F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7BE878-DF0B-45A6-B2FD-C6690EBAED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68CA19-D190-419E-9719-D3F130B8D1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F148D6-F686-46B3-9E3A-57C3D0692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5C2CE3-A33C-4B23-98B9-7BB04DD33B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D234F-160E-4B73-AED5-7117984F6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DB8430-AED5-4DFE-BD3A-B3E723006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98D3C3-0462-4E6B-89AB-ED06303818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0C29A0-7B47-42AF-B080-7C9B0ECDDC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2A10D-ABC9-49F2-9ECB-77DBE442F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5AF37-C813-426E-B748-6EDD128751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FC94D-8091-47D6-B9D0-74129DB965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A7F0CB-6163-4F2B-8BB8-51918B5831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87391E-8965-497B-8683-87680F640D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9A42B9-E247-4D2D-931B-E7F1DDE2CC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F72E6A-D279-4E85-8548-4FCA3E423B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1DCCB-CCCF-48E1-A177-9BBF61A1A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6BFDF2-0154-4627-BD9B-A9A4F9DC40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223052-E8F1-400E-80DC-DEDD6340FF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11F18C-560E-43B8-8E6A-5D3F0FBD7E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863730-CCF2-45AA-898A-643B5244F3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7D500A-7599-420B-AF4B-AB1EB5CABD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A5FA2D-DE76-4E82-A54F-C62B71059A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F2FC20-3032-4B8D-986A-0434AC499B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2E6039-D87D-45D0-8DD2-1E671C9CB7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30C835-B205-43E1-92C3-6091301374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7BA22A-E064-4975-89A4-4D4A38BBDC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A34FB-15BD-4473-A607-C4BD3663F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4E882E-1E06-4E74-9140-802663BF26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311AB3-E057-49F4-85CD-43FC8328DD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0A2DCF-E482-4C56-990F-04EC76D9B2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CDEB06-0BD7-46CA-9DF8-A5B4B9BF5B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CB42DD-C361-428D-BD7C-F7375F7B2C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BE0BAB-45CD-4284-BB7E-3F83E86068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8DC696-DFCE-4264-8F6F-4384DA3428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AE9137-BB0B-4F65-96C7-F1CCCADEB2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4F6060-50E9-4AEB-8BF1-6FEDC6BE11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EE4697-F293-4ED3-BD48-822D629C61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65B97-913F-4E6E-94A9-C642793DB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33476A-9FCC-4C87-9219-DD256C9666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B2EF9F-8ECA-4847-B0CD-5AB2047B62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A22CC8-4A4F-4657-9AD8-E90C044A72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71C858-9992-4894-AD19-F3A164FB8B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D5CFA0-7863-477B-B343-CBE5640DA8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81F276-C44F-4426-BE5B-FE8393197E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9EB293-C741-4C36-AAED-93464E3E14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3195A5-FBA7-4BAC-B365-5C14EC5EFC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90B621-7393-4B0C-B345-6DF9D9A123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D3DE53-E266-4BAE-9750-66598C6F2A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F140D-490C-436B-B44E-2ED60FEEC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FDDB28-41FD-4586-8456-902641345D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B95432-D9F5-46B5-A530-3EBDCF6828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61E51D-7EC2-4E95-811A-190B069C00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8C1811-B1A2-4236-BB44-868F3FFD04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97389B-D17A-41CA-9893-31136D7602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D43185-DCE2-4782-B517-093E5E4A43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6A53D1-8300-4495-9E94-555A1D6934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B4ED6B-0302-41CD-A345-501874E0CD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BCC3CC-6806-4957-B618-C50C498177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E40E0C-9AE9-46E4-86ED-C412A856DC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524DF-CD95-4C2C-B365-F449C216B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A0745E-93E5-4A32-8B38-4022DD5A46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880DA4-CD8F-401C-B2D0-952207792E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CD73B0-A66F-4E05-A1AC-F34997F403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A27BEF-DA53-4CA3-8E13-05186E49F2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659377-AD8A-4C14-BE46-0E14988AB3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E3BEEA-1747-4026-81DD-7788FCACEB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E7321E-FA3C-4121-B00F-8ADB4C554C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21A157-428C-434A-B07B-F2EBA7A8CB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40B578-0518-42A1-81DA-EE1FA4818C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AA96F3-3C34-4B96-9D15-D2ADEA06FD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9AA899D-CDB8-4565-979E-606BE44083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A730B8E-A958-4BF3-8608-A1FEA452F6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F905699-1C56-4E36-85FA-4C132A32BC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031E321-F1BB-4F32-9916-81EDA6E4F4A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A4D1EF0-F2E0-4A3E-9A64-68D82B27D1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9103DCE-91B1-4994-AB50-8932AA70B8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A269D7A-81F8-4CBD-8491-39EAD5FFA7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7C3D4C8-059C-4C0D-9E97-33FE19537E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07D0D8B-4787-4C70-AB5F-D2BACFC27D9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F5FE5B5-1F97-44A5-AA1C-E7612691A5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7B897F8-46E3-43D9-8377-DB4698BADE1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2</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CBA1F89-4EB2-465B-B5A5-300CE294D0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C286F6-A039-4628-8457-8C9A3CEDF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April, and May 2019,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5-01</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38A3AD-6A93-44E7-8DA2-20FD0C732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rch 20</a:t>
            </a:r>
            <a:endParaRPr b="0" lang="en-US" sz="3200" spc="-1" strike="noStrike">
              <a:solidFill>
                <a:srgbClr val="000000"/>
              </a:solidFill>
              <a:latin typeface="Times New Roman"/>
            </a:endParaRPr>
          </a:p>
        </p:txBody>
      </p:sp>
      <p:sp>
        <p:nvSpPr>
          <p:cNvPr id="6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5r1, </a:t>
            </a:r>
            <a:r>
              <a:rPr b="0" lang="en-GB" sz="1600" spc="-1" strike="noStrike">
                <a:solidFill>
                  <a:srgbClr val="000000"/>
                </a:solidFill>
                <a:latin typeface="Times New Roman"/>
              </a:rPr>
              <a:t>LB239 BRP protocol, Assaf Kasher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6r0, </a:t>
            </a:r>
            <a:r>
              <a:rPr b="0" lang="en-GB" sz="1600" spc="-1" strike="noStrike">
                <a:solidFill>
                  <a:srgbClr val="000000"/>
                </a:solidFill>
                <a:latin typeface="Times New Roman"/>
              </a:rPr>
              <a:t>LB239 CH access CIDs, Assaf Kasher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March 27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CB26AF-91ED-439D-8E2D-4D53F334F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rch 27</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6r0, CID resolution - Part XIII</a:t>
            </a:r>
            <a:r>
              <a:rPr b="0" lang="en-GB" sz="1600" spc="-1" strike="noStrike">
                <a:solidFill>
                  <a:srgbClr val="000000"/>
                </a:solidFill>
                <a:latin typeface="Times New Roman"/>
              </a:rPr>
              <a:t>, Artyom Lomayev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532r0, Resolution to CID 4267,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490r0, Resolution of multiple LB239 CIDs, Solomon Traini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4r0, D3.0 comment resolutions on hybrid beamforming part I, Kome Oteri (InterDigital)</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5r0, D3.0 CR on hybrid beamforming for CID 4310, Kome Oteri (InterDigita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3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24D04E-9ED0-4C89-A49C-68B4619DC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3</a:t>
            </a:r>
            <a:endParaRPr b="0" lang="en-US" sz="3200" spc="-1" strike="noStrike">
              <a:solidFill>
                <a:srgbClr val="000000"/>
              </a:solidFill>
              <a:latin typeface="Times New Roman"/>
            </a:endParaRPr>
          </a:p>
        </p:txBody>
      </p:sp>
      <p:sp>
        <p:nvSpPr>
          <p:cNvPr id="6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4r0,  D3.0 comment resolutions on hybrid beamforming part I, Kome Oteri (InterDigita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5r0, D3.0 CR on hybrid beamforming for CID 4310, Kome Oteri (InterDigita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7r1,  LB239 comment resolution II, Claudio da Silva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6r1, CID resolution - part XIII</a:t>
            </a:r>
            <a:r>
              <a:rPr b="0" lang="en-GB" sz="1600" spc="-1" strike="noStrike">
                <a:solidFill>
                  <a:srgbClr val="000000"/>
                </a:solidFill>
                <a:latin typeface="Times New Roman"/>
              </a:rPr>
              <a:t>, Artyom Lomayev (Intel)</a:t>
            </a:r>
            <a:endParaRPr b="0" lang="en-US" sz="16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llow-up on CID 4466</a:t>
            </a: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578r0, </a:t>
            </a:r>
            <a:r>
              <a:rPr b="0" lang="de-DE" sz="1600" spc="-1" strike="noStrike">
                <a:solidFill>
                  <a:srgbClr val="000000"/>
                </a:solidFill>
                <a:latin typeface="Times New Roman"/>
              </a:rPr>
              <a:t>LB239 CIDs 4058, 4073, 4106, 4107, 4108, 4420, 4421, 4422, 4423</a:t>
            </a:r>
            <a:r>
              <a:rPr b="0" lang="en-US" sz="1600" spc="-1" strike="noStrike">
                <a:solidFill>
                  <a:srgbClr val="000000"/>
                </a:solidFill>
                <a:latin typeface="Times New Roman"/>
              </a:rPr>
              <a:t>, Solomon </a:t>
            </a:r>
            <a:r>
              <a:rPr b="0" lang="en-GB" sz="1600" spc="-1" strike="noStrike">
                <a:solidFill>
                  <a:srgbClr val="000000"/>
                </a:solidFill>
                <a:latin typeface="Times New Roman"/>
              </a:rPr>
              <a:t>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10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2BD547-FA2D-4980-9E15-48AC898EF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0</a:t>
            </a:r>
            <a:endParaRPr b="0" lang="en-US" sz="3200" spc="-1" strike="noStrike">
              <a:solidFill>
                <a:srgbClr val="000000"/>
              </a:solidFill>
              <a:latin typeface="Times New Roman"/>
            </a:endParaRPr>
          </a:p>
        </p:txBody>
      </p:sp>
      <p:sp>
        <p:nvSpPr>
          <p:cNvPr id="6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Bug fixe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1r1, </a:t>
            </a:r>
            <a:r>
              <a:rPr b="0" lang="en-GB" sz="1600" spc="-1" strike="noStrike">
                <a:solidFill>
                  <a:srgbClr val="000000"/>
                </a:solidFill>
                <a:latin typeface="Times New Roman"/>
              </a:rPr>
              <a:t>Resolution of SAR related CIDs</a:t>
            </a:r>
            <a:r>
              <a:rPr b="0" lang="en-US" sz="1600" spc="-1" strike="noStrike">
                <a:solidFill>
                  <a:srgbClr val="000000"/>
                </a:solidFill>
                <a:latin typeface="Times New Roman"/>
              </a:rPr>
              <a:t>, Oren Kedem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2r1, Resolution to CID 4267,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87r0, </a:t>
            </a:r>
            <a:r>
              <a:rPr b="0" lang="en-GB" sz="1600" spc="-1" strike="noStrike">
                <a:solidFill>
                  <a:srgbClr val="000000"/>
                </a:solidFill>
                <a:latin typeface="Times New Roman"/>
              </a:rPr>
              <a:t>Resolution to CID 4433</a:t>
            </a:r>
            <a:r>
              <a:rPr b="0" lang="en-US" sz="1600" spc="-1" strike="noStrike">
                <a:solidFill>
                  <a:srgbClr val="000000"/>
                </a:solidFill>
                <a:latin typeface="Times New Roman"/>
              </a:rPr>
              <a:t>,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0r0, </a:t>
            </a:r>
            <a:r>
              <a:rPr b="0" lang="en-GB" sz="1600" spc="-1" strike="noStrike">
                <a:solidFill>
                  <a:srgbClr val="000000"/>
                </a:solidFill>
                <a:latin typeface="Times New Roman"/>
              </a:rPr>
              <a:t>LB239 HBF sounding CIDs, </a:t>
            </a:r>
            <a:r>
              <a:rPr b="0" lang="en-US" sz="1600" spc="-1" strike="noStrike">
                <a:solidFill>
                  <a:srgbClr val="000000"/>
                </a:solidFill>
                <a:latin typeface="Times New Roman"/>
              </a:rPr>
              <a:t>Assaf Kasher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9r0, </a:t>
            </a:r>
            <a:r>
              <a:rPr b="0" lang="en-GB" sz="1600" spc="-1" strike="noStrike">
                <a:solidFill>
                  <a:srgbClr val="000000"/>
                </a:solidFill>
                <a:latin typeface="Times New Roman"/>
              </a:rPr>
              <a:t>Changes to dual polarization TRN training text, Claudio da Silva (Inte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all on April 17 is confirmed</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24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9886E2-83B6-43EA-8AAE-6C4FB558D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7</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1r2, </a:t>
            </a:r>
            <a:r>
              <a:rPr b="0" lang="en-GB" sz="1600" spc="-1" strike="noStrike">
                <a:solidFill>
                  <a:srgbClr val="000000"/>
                </a:solidFill>
                <a:latin typeface="Times New Roman"/>
              </a:rPr>
              <a:t>Resolution of SAR related CIDs</a:t>
            </a:r>
            <a:r>
              <a:rPr b="0" lang="en-US" sz="1600" spc="-1" strike="noStrike">
                <a:solidFill>
                  <a:srgbClr val="000000"/>
                </a:solidFill>
                <a:latin typeface="Times New Roman"/>
              </a:rPr>
              <a:t>, Oren Kedem (Intel)</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llow-up on CIDs 4411, 4450, and 4449</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48r1, Resolution of TDD BF and TDD sector switch related CIDs, Oren Kedem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281r0, TDD slot timing CID resolution</a:t>
            </a:r>
            <a:r>
              <a:rPr b="0" lang="en-GB" sz="1600" spc="-1" strike="noStrike">
                <a:solidFill>
                  <a:srgbClr val="000000"/>
                </a:solidFill>
                <a:latin typeface="Times New Roman"/>
              </a:rPr>
              <a:t>, Solomon 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24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638291-9B85-4DDE-8E9B-5D4D2F4A3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24</a:t>
            </a:r>
            <a:endParaRPr b="0" lang="en-US" sz="3200" spc="-1" strike="noStrike">
              <a:solidFill>
                <a:srgbClr val="000000"/>
              </a:solidFill>
              <a:latin typeface="Times New Roman"/>
            </a:endParaRPr>
          </a:p>
        </p:txBody>
      </p:sp>
      <p:sp>
        <p:nvSpPr>
          <p:cNvPr id="6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58r0, Comment resolution on MIMO BF (Part II), Lei Huang (Panasonic)</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55r0, Proposed comment resolutions 4173,4174, George Calcev (Huawei)</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48r3, Resolution of TDD BF and TDD sector switch related CIDs, Oren Kedem (Inte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on May 1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263326-168C-40E9-9C1B-A657CAA83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y 1</a:t>
            </a:r>
            <a:endParaRPr b="0" lang="en-US" sz="3200" spc="-1" strike="noStrike">
              <a:solidFill>
                <a:srgbClr val="000000"/>
              </a:solidFill>
              <a:latin typeface="Times New Roman"/>
            </a:endParaRPr>
          </a:p>
        </p:txBody>
      </p:sp>
      <p:sp>
        <p:nvSpPr>
          <p:cNvPr id="63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281r0, TDD slot timing CID resolution</a:t>
            </a:r>
            <a:r>
              <a:rPr b="0" lang="en-GB" sz="1600" spc="-1" strike="noStrike">
                <a:solidFill>
                  <a:srgbClr val="000000"/>
                </a:solidFill>
                <a:latin typeface="Times New Roman"/>
              </a:rPr>
              <a:t>, Solomon Traini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490r2, Resolution of multiple LB239 CIDs, Solomon Trainin (Qualcomm)</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up on CID 4463</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65r0, </a:t>
            </a:r>
            <a:r>
              <a:rPr b="0" lang="en-GB" sz="1600" spc="-1" strike="noStrike">
                <a:solidFill>
                  <a:srgbClr val="000000"/>
                </a:solidFill>
                <a:latin typeface="Times New Roman"/>
              </a:rPr>
              <a:t>Resolution of LB239 CIDs</a:t>
            </a:r>
            <a:r>
              <a:rPr b="0" lang="en-US" sz="1600" spc="-1" strike="noStrike">
                <a:solidFill>
                  <a:srgbClr val="000000"/>
                </a:solidFill>
                <a:latin typeface="Times New Roman"/>
              </a:rPr>
              <a:t>, Solomon 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 on May 8, 2019, and the May 2019 interim</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38017A-3151-4BD9-861F-FBC9CA24A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y 8</a:t>
            </a:r>
            <a:endParaRPr b="0" lang="en-US" sz="3200" spc="-1" strike="noStrike">
              <a:solidFill>
                <a:srgbClr val="000000"/>
              </a:solidFill>
              <a:latin typeface="Times New Roman"/>
            </a:endParaRPr>
          </a:p>
        </p:txBody>
      </p:sp>
      <p:sp>
        <p:nvSpPr>
          <p:cNvPr id="63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64r0, Resolutions to CIDs related to channel access</a:t>
            </a:r>
            <a:r>
              <a:rPr b="0" lang="en-GB" sz="1600" spc="-1" strike="noStrike">
                <a:solidFill>
                  <a:srgbClr val="000000"/>
                </a:solidFill>
                <a:latin typeface="Times New Roman"/>
              </a:rPr>
              <a:t>, Cheng Chen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667r0, CID resolution – Part XIV, Artyom Lomayev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695r0, </a:t>
            </a:r>
            <a:r>
              <a:rPr b="0" lang="en-US" sz="1600" spc="-1" strike="noStrike">
                <a:solidFill>
                  <a:srgbClr val="000000"/>
                </a:solidFill>
                <a:latin typeface="Times New Roman"/>
              </a:rPr>
              <a:t>Bug fixes to asymmetric beamforming training,</a:t>
            </a:r>
            <a:r>
              <a:rPr b="0" lang="en-GB" sz="1600" spc="-1" strike="noStrike">
                <a:solidFill>
                  <a:srgbClr val="000000"/>
                </a:solidFill>
                <a:latin typeface="Times New Roman"/>
              </a:rPr>
              <a:t> Thomas Handte (Sony)</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May 2019 interim</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y 1,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6932BA-0F87-4946-9C1C-735852F17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F00CE3-E340-41FE-9723-9112E65E7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s between March 20 and May 8,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4C7E72C-C8A7-42F8-893D-0EC7CDB0A7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82FB23D-DF05-48E8-807D-3B3F20CC3B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7F0A15-2865-42D5-A59E-3271EEFBF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0F04B4-76AD-4F15-BE61-B344EACB1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3496C84-8BAF-48E5-9CC5-2D97D40917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EA49A9-A108-4C0E-A4FF-82D1579C2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Edward Au</cp:lastModifiedBy>
  <cp:lastPrinted>2014-11-04T15:04:57Z</cp:lastPrinted>
  <dcterms:modified xsi:type="dcterms:W3CDTF">2019-04-30T18:16:00Z</dcterms:modified>
  <cp:revision>4145</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