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58E0D01-37E2-43E3-9EBA-9E7C82EE2A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F07EF8-B395-4795-BBEF-A56013A87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54160" y="701640"/>
            <a:ext cx="4626000" cy="3468600"/>
          </a:xfrm>
          <a:prstGeom prst="rect">
            <a:avLst/>
          </a:prstGeom>
          <a:ln w="0">
            <a:noFill/>
          </a:ln>
        </p:spPr>
      </p:sp>
      <p:sp>
        <p:nvSpPr>
          <p:cNvPr id="6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FE888B-8762-4929-9167-D9FC20F84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54160" y="701640"/>
            <a:ext cx="4626000" cy="3468600"/>
          </a:xfrm>
          <a:prstGeom prst="rect">
            <a:avLst/>
          </a:prstGeom>
          <a:ln w="0">
            <a:noFill/>
          </a:ln>
        </p:spPr>
      </p:sp>
      <p:sp>
        <p:nvSpPr>
          <p:cNvPr id="7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D627B0-5251-41CC-85C6-DB337230B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0BDA07-2530-4118-BA27-871B96FB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9DEDD7-5457-4FD6-9751-C9C5FC555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5202BE-FC2C-46B3-AFB5-7D10C00BC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A77A48-AEE2-4EA7-8537-D24659C73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8A7A52-B01E-425D-B9A5-CE949BF2D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4160" y="701640"/>
            <a:ext cx="4626000" cy="3468600"/>
          </a:xfrm>
          <a:prstGeom prst="rect">
            <a:avLst/>
          </a:prstGeom>
          <a:ln w="0">
            <a:noFill/>
          </a:ln>
        </p:spPr>
      </p:sp>
      <p:sp>
        <p:nvSpPr>
          <p:cNvPr id="7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3FC292-3857-4872-9F92-661B1E00D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54160" y="701640"/>
            <a:ext cx="4626000" cy="3468600"/>
          </a:xfrm>
          <a:prstGeom prst="rect">
            <a:avLst/>
          </a:prstGeom>
          <a:ln w="0">
            <a:noFill/>
          </a:ln>
        </p:spPr>
      </p:sp>
      <p:sp>
        <p:nvSpPr>
          <p:cNvPr id="6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4482F8-2D46-4557-B81B-062853325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8F018B-937C-4C40-B890-8B8875CE1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54160" y="701640"/>
            <a:ext cx="4626000" cy="3468600"/>
          </a:xfrm>
          <a:prstGeom prst="rect">
            <a:avLst/>
          </a:prstGeom>
          <a:ln w="0">
            <a:noFill/>
          </a:ln>
        </p:spPr>
      </p:sp>
      <p:sp>
        <p:nvSpPr>
          <p:cNvPr id="6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0A9FD15-DD2D-4116-9471-9F6BF503E8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7680" y="696960"/>
            <a:ext cx="4640400" cy="3479760"/>
          </a:xfrm>
          <a:prstGeom prst="rect">
            <a:avLst/>
          </a:prstGeom>
          <a:ln w="0">
            <a:noFill/>
          </a:ln>
        </p:spPr>
      </p:sp>
      <p:sp>
        <p:nvSpPr>
          <p:cNvPr id="6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5CDF60E-0D44-4B10-B800-1D10DCD2DA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7680" y="696960"/>
            <a:ext cx="4640400" cy="3479760"/>
          </a:xfrm>
          <a:prstGeom prst="rect">
            <a:avLst/>
          </a:prstGeom>
          <a:ln w="0">
            <a:noFill/>
          </a:ln>
        </p:spPr>
      </p:sp>
      <p:sp>
        <p:nvSpPr>
          <p:cNvPr id="67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A8C3DD1-CED7-4FE4-9CDE-C992EBDC0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4BD481-4A8E-435F-8446-AB7942696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54160" y="701640"/>
            <a:ext cx="4626000" cy="3468600"/>
          </a:xfrm>
          <a:prstGeom prst="rect">
            <a:avLst/>
          </a:prstGeom>
          <a:ln w="0">
            <a:noFill/>
          </a:ln>
        </p:spPr>
      </p:sp>
      <p:sp>
        <p:nvSpPr>
          <p:cNvPr id="6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7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8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3265D3-324B-4391-A8EC-44E611489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54160" y="701640"/>
            <a:ext cx="4626000" cy="3468600"/>
          </a:xfrm>
          <a:prstGeom prst="rect">
            <a:avLst/>
          </a:prstGeom>
          <a:ln w="0">
            <a:noFill/>
          </a:ln>
        </p:spPr>
      </p:sp>
      <p:sp>
        <p:nvSpPr>
          <p:cNvPr id="68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0838E1-625E-454A-8603-06FC312FD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44A954-F070-455E-902D-E1C56C011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81F13-B111-4163-A364-AB3519C2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6786-0C54-46F7-9EAA-A6A8AC9B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AE464-398D-4779-AE3B-48FBDF14A8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ED50E2-0511-46F3-9990-D90CBFDB5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B19A22-AF5A-4D58-86CF-40BE6D3CE9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26261-4BD2-429A-8547-93A226406E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AFBBE-6047-41A6-A3CD-CB9111AF51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FA8AC-A6F6-40CB-BCBB-4C4B10F87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EED9EC-1061-4195-9C26-302D65B64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C52A29-4446-4B2F-8F73-D4BF697A84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4B9BA7-6FBA-4060-AEB9-E1D3D9E92E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6AFC47-9D0B-403E-B5CA-7EEF893C80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47153-B4A1-4F86-8DCB-1AC9BFDD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7E84C3-AC84-49A5-98A4-EB367BFA67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98AC08-AAE3-413E-A0C8-CC814DEFE4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DB008C-C9B7-49D7-8D46-99953E9474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3989A5-9303-4D8D-8D99-9725B26A0E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1E95A6-6C66-47D8-9455-51E7F89F9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8D665C-5D2C-4B69-9808-9FD0CC40B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05BFAD-BEFD-4729-A45C-BA95625B86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7CA57B-D902-4308-801D-26B3400D97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54E0E8-9824-43F9-A40E-29445392C1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A1CD5F-4F60-48D7-BF32-83A890AEF0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C151D-05C2-420E-AE74-ADCB02CAD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5378D7-AD17-435F-8B13-8F18AB0323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8CAD9C-6FAF-4598-934E-E3D3C507D4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57C01C-BBD5-4B91-8F4A-C947266D32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BB7177-D0E2-4FD9-958B-F97AFCF8C3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3FB3FA-A539-4675-9DA5-9EBFACC8D2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77732F-61F5-4A1E-AEEF-5BF55D0145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0FAC68-1A9A-4E29-9985-4C495FCE37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424E7-F695-41AB-9BE1-9ABD2E8733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32ABD7-0CA2-48C2-8A38-5B95717069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333B65-1E80-49C5-B0DB-899890574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04EBE-41D0-46E9-8541-E89836C52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5B143A-7BA7-4584-B95F-3CD7537139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F770E7-350C-4795-8ED5-F56CCD3E08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CEC685-BE66-4C75-9242-137E95F4AD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A77339-D6AB-42B8-9351-1C7BE29D34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9F2446-2071-45F8-86DC-C89BB4C4BE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A53F14-EA88-4D1B-A9E0-53730D8522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15EF2C-EB3F-4E6E-9E98-22E812F76C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1CE1A3-3DF7-432E-8A82-F2514A7DAA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CD5545-2F55-471A-ADA8-A893F41075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387FD9-DE7D-4777-A3E9-C732D04F60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999E4-8147-4BD7-B1EA-6FBDF90B0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34683-D9AD-41FD-855D-F59170B5AF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3A7A91-6B89-4220-9E74-4611FD9EE6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DA7313-E8BD-491F-A527-1D1195F0DD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83F9B8-E8F9-4FB4-9D26-3C344BA09F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628C4F-96CC-437C-AAA0-A47F81C0F7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7E44E-1CA4-4B2D-A332-C0A11B64C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ACE1B-0D0A-4E98-9E2A-129D96FD7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F43C3-0B7F-4893-8BFB-6C3AE36C1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3419A-5EB2-45C6-8A91-D80AB5D2A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497C-59D8-434E-83F1-C7335606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F279C-6721-4C00-BE03-14C33C3E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5E74-EA5A-49F5-A102-6EA1A14E8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EA674-DA64-4F46-8FBD-378238BD0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AA19D-8C39-4B84-9FCC-1B47C9C24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3DD8C-4A12-4572-B532-C0744D563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FCE30-6D06-4909-84B0-4C5ECCDFA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4043D-7995-4C62-8B6B-C3A11CD17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07340-6F55-4D9D-A8CC-7CBF61493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C0084-1FBE-4B59-9FAF-CF1C2A4AA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B2986-DC99-43A2-B270-B120F3A67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4F0C4-7734-41A6-B191-BEDFD5AF9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F10C4-2C44-4EDB-8202-93E53896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FE9A8-9C5C-40AF-8BDD-CFE3E308B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27E8A-522D-4EA8-8E16-0FE1EB0E1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92152-7673-41B4-BD35-5DC90FA52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06E20-098F-46A9-B809-400483A71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35C74-5EB9-4651-AF80-DE06266F8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CD55D0-C452-4FA2-A601-DCDDC43F96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11A7C-12B1-4141-8254-8B89437CB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533660-FF89-49B9-96E5-07EF5D2F8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E41CC-566A-4FF9-B1EA-89BEDFAE9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7B2CD-9B42-4DE6-A3A4-2D3549899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8DFEC-1C66-48C9-8410-A099E846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D1F2F-B032-44F7-A55F-845732018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5166E-44F8-4D92-B2C0-AEE950A88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ABDD6-20B4-4002-A49B-E3087B531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790C4-FD05-472A-91C4-6384CC70E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BFF08-9852-46C6-9197-7FD760DAC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7DB7F-ECC7-4043-B7E4-9EE17BDDC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1B108-587D-4ECD-80AB-EBBC4D428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D6A32E-3925-43ED-8A67-ADF978B62B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B9662-666C-475E-A64F-C904734BB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D460C-4849-4D3F-B52B-251220AF37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79BF-D7BD-4007-AFFB-4099943C0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24AC8-95B8-4163-A084-DDC96292D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DBFC2-512E-4FF5-A057-5D441B2A3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6D178-AA10-43CB-B8A3-85E1E2636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1ABDA-2DC2-43E4-82EB-ED0C92E67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6E005-158C-42C8-88F7-28CDC6246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10715-6E84-4DA1-BD80-19A330908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53D0C-EA6F-4CCF-8594-F2BE051B5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FDC54-7883-458E-8BD9-44C33EBB6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0827B-E3D1-4CF0-801D-E9CBF82E3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DE8BFB-2790-4787-A54B-D658073CD8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CCC4-3E5C-40A0-B99C-BCA6723A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74BD6-9A2F-4A79-A5FD-7833DAE09D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8D3708-AA3A-4662-9081-31F1FABF86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E005D-475A-4F3B-BF69-B253E9BA4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812E5A-8C01-4413-8DE3-7BA31FE44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710B4-9983-40E6-8F80-19C1888BA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3B130-BC60-4C54-B72C-92CA2B570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94F39-178C-4C85-9473-06C87DB4F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8F4DA-5A1F-4AAD-85D2-0FD103CCF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92EC8-C448-4242-94EA-EE797FBC0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68A95-7F48-447F-B72E-BE4E467E4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231E-5009-4F24-83BA-C076DC5D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FB40A-06B8-4CFB-BCCE-ED990DE5E3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F0A22D-018F-4015-9630-FBBA899546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32F37-4EA9-4D51-90D3-342E279C80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AE40C7-7CC2-4C0E-A33C-CAF29B100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80B9F-78A7-48BB-85E8-A4EEFECC9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9AE30-1537-4CA0-8C2F-6A2E98586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9394CC-A31A-43EE-B805-649F6FA79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0926D-6806-42DC-B359-855EFA10D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87275-D299-42F1-AAD0-246248232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AE4C9-743A-4DCB-92BF-2B46F3A3A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03B6-6DAF-4F22-A99C-EA6433A0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E67B0-5696-4D17-8011-D6ABB8B78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D5DC9-26AA-4207-A5FB-837608479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61965-F597-4ADB-9D55-822B32CC3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907F72-7DB8-4C37-BB2F-89878A943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7467F1-19C1-46A9-B971-9A77C02CE4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B9B55-5759-4EE3-AFBF-C751EA7107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4D594-B09B-4E0A-8202-9689F92D4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C1A80-A058-49C6-A032-FBD7B9246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B3EAA3-29AF-42D6-9824-67CC7A925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632CD-4CB7-4207-A389-91DD871BC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62B6-C334-41FD-9D00-19AB059EB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81A02-9F88-4116-BCE4-1642E2736C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3A4A8-B056-4308-85BB-52782510E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76278-AFF8-4CA5-82C1-8B969ED3F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66EAB-A840-4E53-A1DA-578D318FE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A8F24-461F-40DE-9259-6A9521FC4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65F096-3115-48C5-AFDA-5D82969321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3CC047-7727-40F5-9FAD-07379BB0BA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018B86-B0E9-4CA4-9ACB-9987E862EE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C7548-199C-4067-B1F9-83590FE729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A09F33-C3F4-4BCB-9C7A-1331BB7527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BFF0DB9-864C-4C57-95D4-89063EE1DF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158857-562C-46D8-B36F-7B90C0E89C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D65DC0-7EBB-4A0E-9EE0-9F1CFB10D9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8100050-6E7B-4EA8-99B9-1DB560339E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092AE6-13A2-49C0-B49C-315CF3AE59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AE19D6-59DE-46E4-A5FF-45D52D61CD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E091ADC-39BC-4F00-9F86-1ECFB3E2CA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2363B1-BA26-49C7-993A-B3C2AF4947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374B3E3-8D3C-4986-A459-240AB1671E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D98FF8-1C1C-4B71-8D3D-B18CB0E419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6DE2FF-F096-4D71-8075-3FABBA504B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940280" y="30636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43r1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1DB51B-AF50-4A43-AD9E-6D46A47011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50216A-7626-47E4-9BAB-D64D64F41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4-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96FED4-8FE2-480F-BD7B-1C0F10A34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0</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5r1, </a:t>
            </a:r>
            <a:r>
              <a:rPr b="0" lang="en-GB" sz="1600" spc="-1" strike="noStrike">
                <a:solidFill>
                  <a:srgbClr val="000000"/>
                </a:solidFill>
                <a:latin typeface="Times New Roman"/>
              </a:rPr>
              <a:t>LB239 BRP protocol, 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6r0, </a:t>
            </a:r>
            <a:r>
              <a:rPr b="0" lang="en-GB" sz="1600" spc="-1" strike="noStrike">
                <a:solidFill>
                  <a:srgbClr val="000000"/>
                </a:solidFill>
                <a:latin typeface="Times New Roman"/>
              </a:rPr>
              <a:t>LB239 CH access CIDs, Assaf Kasher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March 27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5D4B2C-46FF-4AAB-9023-A7FCD232A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rch 27</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0,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32r0,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0, Resolution of multiple LB239 CIDs,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3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006AA6-7352-42AA-B950-74A65B603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3</a:t>
            </a:r>
            <a:endParaRPr b="0" lang="en-US" sz="3200" spc="-1" strike="noStrike">
              <a:solidFill>
                <a:srgbClr val="000000"/>
              </a:solidFill>
              <a:latin typeface="Times New Roman"/>
            </a:endParaRPr>
          </a:p>
        </p:txBody>
      </p:sp>
      <p:sp>
        <p:nvSpPr>
          <p:cNvPr id="6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4r0,  D3.0 comment resolutions on hybrid beamforming part I,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55r0, D3.0 CR on hybrid beamforming for CID 4310, Kome Oteri (InterDigita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7r1,  LB239 comment resolution II, Claudio da Silva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46r1, CID resolution - part XIII</a:t>
            </a:r>
            <a:r>
              <a:rPr b="0" lang="en-GB" sz="1600" spc="-1" strike="noStrike">
                <a:solidFill>
                  <a:srgbClr val="000000"/>
                </a:solidFill>
                <a:latin typeface="Times New Roman"/>
              </a:rPr>
              <a:t>, Artyom Lomayev (Intel)</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llow-up on CID 4466</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0578r0, </a:t>
            </a:r>
            <a:r>
              <a:rPr b="0" lang="de-DE" sz="1600" spc="-1" strike="noStrike">
                <a:solidFill>
                  <a:srgbClr val="000000"/>
                </a:solidFill>
                <a:latin typeface="Times New Roman"/>
              </a:rPr>
              <a:t>LB239 CIDs 4058, 4073, 4106, 4107, 4108, 4420, 4421, 4422, 4423</a:t>
            </a:r>
            <a:r>
              <a:rPr b="0" lang="en-US" sz="1600" spc="-1" strike="noStrike">
                <a:solidFill>
                  <a:srgbClr val="000000"/>
                </a:solidFill>
                <a:latin typeface="Times New Roman"/>
              </a:rPr>
              <a:t>, Solomon </a:t>
            </a:r>
            <a:r>
              <a:rPr b="0" lang="en-GB" sz="1600" spc="-1" strike="noStrike">
                <a:solidFill>
                  <a:srgbClr val="000000"/>
                </a:solidFill>
                <a:latin typeface="Times New Roman"/>
              </a:rPr>
              <a:t>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10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459DF1-87CF-4FDE-9BE2-50DD8563D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0</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1,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32r1, Resolution to CID 4267,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587r0, </a:t>
            </a:r>
            <a:r>
              <a:rPr b="0" lang="en-GB" sz="1600" spc="-1" strike="noStrike">
                <a:solidFill>
                  <a:srgbClr val="000000"/>
                </a:solidFill>
                <a:latin typeface="Times New Roman"/>
              </a:rPr>
              <a:t>Resolution to CID 4433</a:t>
            </a:r>
            <a:r>
              <a:rPr b="0" lang="en-US" sz="1600" spc="-1" strike="noStrike">
                <a:solidFill>
                  <a:srgbClr val="000000"/>
                </a:solidFill>
                <a:latin typeface="Times New Roman"/>
              </a:rPr>
              <a:t>, Alecsander Eita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0r0, </a:t>
            </a:r>
            <a:r>
              <a:rPr b="0" lang="en-GB" sz="1600" spc="-1" strike="noStrike">
                <a:solidFill>
                  <a:srgbClr val="000000"/>
                </a:solidFill>
                <a:latin typeface="Times New Roman"/>
              </a:rPr>
              <a:t>LB239 HBF sounding CIDs, </a:t>
            </a:r>
            <a:r>
              <a:rPr b="0" lang="en-US" sz="1600" spc="-1" strike="noStrike">
                <a:solidFill>
                  <a:srgbClr val="000000"/>
                </a:solidFill>
                <a:latin typeface="Times New Roman"/>
              </a:rPr>
              <a:t>Assaf Kasher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9r0, </a:t>
            </a:r>
            <a:r>
              <a:rPr b="0" lang="en-GB" sz="1600" spc="-1" strike="noStrike">
                <a:solidFill>
                  <a:srgbClr val="000000"/>
                </a:solidFill>
                <a:latin typeface="Times New Roman"/>
              </a:rPr>
              <a:t>Changes to dual polarization TRN training text, Claudio da Silva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ll on April 17 is confirmed</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F1714F-6BC8-4436-B348-13923865B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7</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21r2, </a:t>
            </a:r>
            <a:r>
              <a:rPr b="0" lang="en-GB" sz="1600" spc="-1" strike="noStrike">
                <a:solidFill>
                  <a:srgbClr val="000000"/>
                </a:solidFill>
                <a:latin typeface="Times New Roman"/>
              </a:rPr>
              <a:t>Resolution of SAR related CIDs</a:t>
            </a:r>
            <a:r>
              <a:rPr b="0" lang="en-US" sz="1600" spc="-1" strike="noStrike">
                <a:solidFill>
                  <a:srgbClr val="000000"/>
                </a:solidFill>
                <a:latin typeface="Times New Roman"/>
              </a:rPr>
              <a:t>, Oren Kedem (Intel)</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llow-up on CIDs 4411, 4450, and 4449</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1, Resolution of TDD BF and TDD sector switch related CIDs, Oren Kedem (Intel)</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ime permit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between April 24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145A71-E7AD-4FDF-840C-717620F7B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4</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8r0, Comment resolution on MIMO BF (Part II), Lei Huang (Panasonic)</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55r0, Proposed comment resolutions 4173,4174, George Calcev (Huawei)</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48r3, Resolution of TDD BF and TDD sector switch related CIDs, Oren Kedem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s on May 1 and May 8, 2019</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0D8DF0-F6D6-4F79-A904-715FE7817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1</a:t>
            </a:r>
            <a:endParaRPr b="0" lang="en-US" sz="3200" spc="-1" strike="noStrike">
              <a:solidFill>
                <a:srgbClr val="000000"/>
              </a:solidFill>
              <a:latin typeface="Times New Roman"/>
            </a:endParaRPr>
          </a:p>
        </p:txBody>
      </p:sp>
      <p:sp>
        <p:nvSpPr>
          <p:cNvPr id="63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281r0, TDD slot timing CID resolution</a:t>
            </a:r>
            <a:r>
              <a:rPr b="0" lang="en-GB" sz="1600" spc="-1" strike="noStrike">
                <a:solidFill>
                  <a:srgbClr val="000000"/>
                </a:solidFill>
                <a:latin typeface="Times New Roman"/>
              </a:rPr>
              <a:t>,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90r2, Resolution of multiple LB239 CIDs, Solomon Trainin (Qualcomm)</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on CID 4463</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teleconference call on May 8, 2019, and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E8DC6D-E8C0-4F60-8F08-079DF18C3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May 8</a:t>
            </a:r>
            <a:endParaRPr b="0" lang="en-US" sz="3200" spc="-1" strike="noStrike">
              <a:solidFill>
                <a:srgbClr val="000000"/>
              </a:solidFill>
              <a:latin typeface="Times New Roman"/>
            </a:endParaRPr>
          </a:p>
        </p:txBody>
      </p:sp>
      <p:sp>
        <p:nvSpPr>
          <p:cNvPr id="63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664r0, Resolutions to CIDs related to channel access</a:t>
            </a:r>
            <a:r>
              <a:rPr b="0" lang="en-GB" sz="1600" spc="-1" strike="noStrike">
                <a:solidFill>
                  <a:srgbClr val="000000"/>
                </a:solidFill>
                <a:latin typeface="Times New Roman"/>
              </a:rPr>
              <a:t>, Cheng Chen (Intel)</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presentation/comment resolution for the May 2019 interim</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pril 3,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83A66E-23B6-436E-B176-4EE5DFFCC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026AAE-1FF8-453C-B6FC-72263F1D0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March 20 and May 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A0A5C8-8640-467F-8BA3-EE35F72F64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895AE27-5EF1-44FE-9438-0276296DCC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ED42C0-8346-4ECB-B5F4-7F9CA6A1F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90E838-BEFD-4F60-A508-BE2669020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5D7581A-9F7B-41FA-A0D5-5A29826CF4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F0A347-9D1F-457C-B1EB-B3BF58B47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560" y="334800"/>
            <a:ext cx="103716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Edward Au</cp:lastModifiedBy>
  <cp:lastPrinted>2014-11-04T15:04:57Z</cp:lastPrinted>
  <dcterms:modified xsi:type="dcterms:W3CDTF">2019-04-24T18:29:27Z</dcterms:modified>
  <cp:revision>4140</cp:revision>
  <dc:subject>Task Group AY November 2015 Meeting Agenda</dc:subject>
  <dc:title>19/0543r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