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A55D104D-41B5-438A-BD1D-2AC3B8FD5DB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6BC472D-4167-4B67-BE3A-BD36B3ED4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154160" y="701640"/>
            <a:ext cx="4626000" cy="3468600"/>
          </a:xfrm>
          <a:prstGeom prst="rect">
            <a:avLst/>
          </a:prstGeom>
          <a:ln w="0">
            <a:noFill/>
          </a:ln>
        </p:spPr>
      </p:sp>
      <p:sp>
        <p:nvSpPr>
          <p:cNvPr id="6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54160" y="701640"/>
            <a:ext cx="4626000" cy="3468600"/>
          </a:xfrm>
          <a:prstGeom prst="rect">
            <a:avLst/>
          </a:prstGeom>
          <a:ln w="0">
            <a:noFill/>
          </a:ln>
        </p:spPr>
      </p:sp>
      <p:sp>
        <p:nvSpPr>
          <p:cNvPr id="6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9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CA10EFE-4468-4804-85CD-DD6144AF52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54160" y="701640"/>
            <a:ext cx="4626000" cy="3468600"/>
          </a:xfrm>
          <a:prstGeom prst="rect">
            <a:avLst/>
          </a:prstGeom>
          <a:ln w="0">
            <a:noFill/>
          </a:ln>
        </p:spPr>
      </p:sp>
      <p:sp>
        <p:nvSpPr>
          <p:cNvPr id="7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24E5B01-25AC-466A-9AA1-FC98C3DCAA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54160" y="701640"/>
            <a:ext cx="4626000" cy="3468600"/>
          </a:xfrm>
          <a:prstGeom prst="rect">
            <a:avLst/>
          </a:prstGeom>
          <a:ln w="0">
            <a:noFill/>
          </a:ln>
        </p:spPr>
      </p:sp>
      <p:sp>
        <p:nvSpPr>
          <p:cNvPr id="7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6066913-0D55-4CAD-87DE-1EDA02759A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54160" y="701640"/>
            <a:ext cx="4626000" cy="3468600"/>
          </a:xfrm>
          <a:prstGeom prst="rect">
            <a:avLst/>
          </a:prstGeom>
          <a:ln w="0">
            <a:noFill/>
          </a:ln>
        </p:spPr>
      </p:sp>
      <p:sp>
        <p:nvSpPr>
          <p:cNvPr id="7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1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0955974-56E2-49BC-8007-2C1EFC4072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54160" y="701640"/>
            <a:ext cx="4626000" cy="3468600"/>
          </a:xfrm>
          <a:prstGeom prst="rect">
            <a:avLst/>
          </a:prstGeom>
          <a:ln w="0">
            <a:noFill/>
          </a:ln>
        </p:spPr>
      </p:sp>
      <p:sp>
        <p:nvSpPr>
          <p:cNvPr id="7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2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2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1CE761D-4BFE-461B-A7D1-45F94492F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54160" y="701640"/>
            <a:ext cx="4626000" cy="3468600"/>
          </a:xfrm>
          <a:prstGeom prst="rect">
            <a:avLst/>
          </a:prstGeom>
          <a:ln w="0">
            <a:noFill/>
          </a:ln>
        </p:spPr>
      </p:sp>
      <p:sp>
        <p:nvSpPr>
          <p:cNvPr id="7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2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2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116FAC5-C936-4755-ADEE-388F318DC4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54160" y="701640"/>
            <a:ext cx="4626000" cy="3468600"/>
          </a:xfrm>
          <a:prstGeom prst="rect">
            <a:avLst/>
          </a:prstGeom>
          <a:ln w="0">
            <a:noFill/>
          </a:ln>
        </p:spPr>
      </p:sp>
      <p:sp>
        <p:nvSpPr>
          <p:cNvPr id="7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2B0C87F-BC7A-4791-93DA-54C54601CB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54160" y="701640"/>
            <a:ext cx="4626000" cy="3468600"/>
          </a:xfrm>
          <a:prstGeom prst="rect">
            <a:avLst/>
          </a:prstGeom>
          <a:ln w="0">
            <a:noFill/>
          </a:ln>
        </p:spPr>
      </p:sp>
      <p:sp>
        <p:nvSpPr>
          <p:cNvPr id="7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4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FC01D45-975B-4963-8A20-69549953B0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54160" y="701640"/>
            <a:ext cx="4626000" cy="3468600"/>
          </a:xfrm>
          <a:prstGeom prst="rect">
            <a:avLst/>
          </a:prstGeom>
          <a:ln w="0">
            <a:noFill/>
          </a:ln>
        </p:spPr>
      </p:sp>
      <p:sp>
        <p:nvSpPr>
          <p:cNvPr id="6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79F7077-C6B8-4FCD-A786-0D316486D6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DCB0265-E01D-406C-A705-B8370F5EE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1154160" y="701640"/>
            <a:ext cx="4626000" cy="3468600"/>
          </a:xfrm>
          <a:prstGeom prst="rect">
            <a:avLst/>
          </a:prstGeom>
          <a:ln w="0">
            <a:noFill/>
          </a:ln>
        </p:spPr>
      </p:sp>
      <p:sp>
        <p:nvSpPr>
          <p:cNvPr id="6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2"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6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B97E410D-D42C-486E-9081-67AC1B9F5B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4" name="PlaceHolder 1"/>
          <p:cNvSpPr>
            <a:spLocks noGrp="1"/>
          </p:cNvSpPr>
          <p:nvPr>
            <p:ph type="sldImg"/>
          </p:nvPr>
        </p:nvSpPr>
        <p:spPr>
          <a:xfrm>
            <a:off x="1147680" y="696960"/>
            <a:ext cx="4640400" cy="3479760"/>
          </a:xfrm>
          <a:prstGeom prst="rect">
            <a:avLst/>
          </a:prstGeom>
          <a:ln w="0">
            <a:noFill/>
          </a:ln>
        </p:spPr>
      </p:sp>
      <p:sp>
        <p:nvSpPr>
          <p:cNvPr id="66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8"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6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6266621E-22FE-499A-82F7-4DBF7D2F29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0" name="PlaceHolder 1"/>
          <p:cNvSpPr>
            <a:spLocks noGrp="1"/>
          </p:cNvSpPr>
          <p:nvPr>
            <p:ph type="sldImg"/>
          </p:nvPr>
        </p:nvSpPr>
        <p:spPr>
          <a:xfrm>
            <a:off x="1147680" y="696960"/>
            <a:ext cx="4640400" cy="3479760"/>
          </a:xfrm>
          <a:prstGeom prst="rect">
            <a:avLst/>
          </a:prstGeom>
          <a:ln w="0">
            <a:noFill/>
          </a:ln>
        </p:spPr>
      </p:sp>
      <p:sp>
        <p:nvSpPr>
          <p:cNvPr id="671"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0B3538E-02F8-447F-941F-FEDEEA90B8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PlaceHolder 1"/>
          <p:cNvSpPr>
            <a:spLocks noGrp="1"/>
          </p:cNvSpPr>
          <p:nvPr>
            <p:ph type="sldImg"/>
          </p:nvPr>
        </p:nvSpPr>
        <p:spPr>
          <a:xfrm>
            <a:off x="1154160" y="701640"/>
            <a:ext cx="4626000" cy="3468600"/>
          </a:xfrm>
          <a:prstGeom prst="rect">
            <a:avLst/>
          </a:prstGeom>
          <a:ln w="0">
            <a:noFill/>
          </a:ln>
        </p:spPr>
      </p:sp>
      <p:sp>
        <p:nvSpPr>
          <p:cNvPr id="6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BE663DE-EC78-4C21-8CCB-73E97E346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6" name="PlaceHolder 1"/>
          <p:cNvSpPr>
            <a:spLocks noGrp="1"/>
          </p:cNvSpPr>
          <p:nvPr>
            <p:ph type="sldImg"/>
          </p:nvPr>
        </p:nvSpPr>
        <p:spPr>
          <a:xfrm>
            <a:off x="1154160" y="701640"/>
            <a:ext cx="4626000" cy="3468600"/>
          </a:xfrm>
          <a:prstGeom prst="rect">
            <a:avLst/>
          </a:prstGeom>
          <a:ln w="0">
            <a:noFill/>
          </a:ln>
        </p:spPr>
      </p:sp>
      <p:sp>
        <p:nvSpPr>
          <p:cNvPr id="6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79"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80"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8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C19332B-3F38-41CB-98E5-929FB3A0C0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PlaceHolder 1"/>
          <p:cNvSpPr>
            <a:spLocks noGrp="1"/>
          </p:cNvSpPr>
          <p:nvPr>
            <p:ph type="sldImg"/>
          </p:nvPr>
        </p:nvSpPr>
        <p:spPr>
          <a:xfrm>
            <a:off x="1154160" y="701640"/>
            <a:ext cx="4626000" cy="3468600"/>
          </a:xfrm>
          <a:prstGeom prst="rect">
            <a:avLst/>
          </a:prstGeom>
          <a:ln w="0">
            <a:noFill/>
          </a:ln>
        </p:spPr>
      </p:sp>
      <p:sp>
        <p:nvSpPr>
          <p:cNvPr id="683"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8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817DD3F-C077-4E60-827A-93E1B10D1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8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90"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9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70201D3-D881-4BBD-9B59-66824B1552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PlaceHolder 1"/>
          <p:cNvSpPr>
            <a:spLocks noGrp="1"/>
          </p:cNvSpPr>
          <p:nvPr>
            <p:ph type="sldImg"/>
          </p:nvPr>
        </p:nvSpPr>
        <p:spPr>
          <a:xfrm>
            <a:off x="1154160" y="701640"/>
            <a:ext cx="4626000" cy="3468600"/>
          </a:xfrm>
          <a:prstGeom prst="rect">
            <a:avLst/>
          </a:prstGeom>
          <a:ln w="0">
            <a:noFill/>
          </a:ln>
        </p:spPr>
      </p:sp>
      <p:sp>
        <p:nvSpPr>
          <p:cNvPr id="6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250A3-9501-44AF-BC44-81777C238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2A6E0-2C16-456E-BA9B-7EFC89649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CBA3F7-E07B-4381-A76C-54A65C52C2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7DDBA3-CB26-4E4E-8A0B-E1E7B087E3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D9E36E-29F7-44CE-A0E2-077CEFEF3A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9DEA2F-99D6-4644-A4BB-665CA2446E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AE119C-ED6B-4C1C-BC88-E5D5E78D42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A7112D-58D8-46D9-A392-9EA7EB2156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CB075B-1F9D-4B6A-B63A-65C251335B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7552F3-AA4C-461F-B830-BE38B45449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B15665A-3CB7-407E-B937-9270BD2A25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8548F1F-F99A-4B16-9298-1BE82C607C5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80AA4-2CBB-48C4-9FF4-25EF375E7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9587017-A644-4628-8231-891F06EB67C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9508C3-6DBB-413A-A0F5-51418BA7C8E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201E7EF-CA62-4E2E-A63E-2C48AA948D0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B838FC-E80C-4013-A91B-30A6C19D152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F37463B-DF60-4A27-84AD-9FF3935B5C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C9446F-022B-4673-8316-A2E535B056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2DD25C-24A2-4FE4-984C-BED304E387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85BE87-0672-405F-A4B3-9232845743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A1F03E7-F466-47B6-9131-D8D23982561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E3492E4-6389-4954-BF1C-DD9809D887B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79DBB-9B46-4E50-A430-938BE6054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3B983D3-D258-488E-B914-D8C197E896B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41D421F-E3B8-4D77-8D71-806D1C738B2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2F76CFA-0B95-4B84-9480-D2E90F763AE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E1BE7B-519A-4233-B0C3-A75298104F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C28F5E7-350A-4B26-BBD6-CEE9807BA96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BF060A-F569-43E5-86F2-B8D94BD06F9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812558C-9624-4582-9935-29CA7BE02A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31B7D1-44C2-40E9-B283-A1C74819C4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25B6F0-D9A2-42CC-A380-91C3680135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B6A151-898E-4273-BF63-9DA5D79B3A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B8DCC5-B980-4B73-B881-B434C0AE2A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74252D-EA8E-487E-938D-9BE5CDA46D8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335D7F6-820F-41C9-8913-F6BFDF94865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3704FD9-8279-417F-80FE-CED7FE6DF43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2A1386A-757C-44C4-8CA2-6BE9BBB673A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16456D5-915F-43EE-A580-F813C2C1DE8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A8C79C3-3A19-46F3-991D-CD48A89F7EC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F7D87E9-6F33-4F68-AB19-185F48FF631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01D7B6E-2FC3-4787-8114-A42D7161091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1F4688C-8DB7-43B4-9A87-8CDEA898EB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0D8BC3-EED1-4C18-B249-86192EA780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C570E8-76AE-4D93-A0DE-A57525F26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8D8F5E-7260-4B47-AC31-2368FED648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9F90BB4-44E9-4077-ACBA-2EE7408EC0B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227220-E748-43A0-AF73-F93C172453C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243612C-7948-465B-9D02-A004FB6A2C0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739E2A5-02FD-487E-96EB-3DF9CE73832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600E9-6695-42A9-BA9D-564889690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D502B9-0411-48F7-84CD-7E72FA804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EDB2A-7EE8-4A7C-908D-B0CB4236A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075C8-EB36-4996-BA5C-D00115026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E7BE7-DA00-4034-9CA8-6800FAC45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3E58D-88F0-4A4A-9B81-F03479582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D6435-0DBC-4BCC-81B3-A946A5595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38B50-F5F4-4636-8380-1AA70CF69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64A48-426A-44C8-97FB-2D5F4F71A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7E8CE3-3F73-4F71-ADE9-754FAD63CF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03BDCA-2E93-414E-8460-0EE898EDA5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1C86FB-E5E5-4178-9988-4E80CC02D7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09AAD7-0A44-4453-9502-83E85D95D1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DEDD81-741D-4C8D-BE5F-8F899B35EC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B11371-0717-4B1A-A145-F45D2BA762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5CEBAE-42C1-44B8-8EB0-0B0A488C00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8221C-513F-4071-9CA6-ED87AC2DC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AA21D3-C08F-4820-9187-A8252E884E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DFB7A5-B7C7-43C3-9934-D180895F0A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C87EA1-375F-4847-9039-45D5B68D4B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5FE0C9-378C-40F8-ADE6-4586695108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8D2EFB-F3DD-4C22-85BC-F41CADF59A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1C4FB3-AA67-438D-AE86-939A0167E7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A01E71-E812-4EAB-ABA4-71320BB9D1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2590AC-7106-4308-A35E-083D3A112A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CA6C49-53D2-4E10-AFF3-FB9F5322AF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6539CA-F27B-469B-952A-D91CFDE5BC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2D74E-AAAF-4C5C-B3C7-C6B5A937D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A300F3-F9B1-4815-990F-75DA22F722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5299E0-716E-4FA2-9AF0-30C5B3B0F4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4074B2-4D58-493A-AD00-F00B21AF91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C4FA0D-39A0-461D-803F-C0BBBBBCA3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0FD498-C74E-403C-896A-42D5A62BBB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B8D292-B564-47EB-AF85-815346DC36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442FCC-4F90-428C-B74A-1CFFA23EE2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E9ABB2-159F-4441-9516-443B19E36A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ED411A-003F-4906-84F2-1D48F29824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AF1974-6D4B-4CFF-9604-0541334835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12778-EAF7-4132-AD82-98B65A6AD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820B1D-02E1-4B22-A145-3A765A839A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EFA89E-CC67-444E-8185-C8E2D3C5C8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54EEA2-ECBB-43FE-87CC-2597D155F6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6C34E2-F6B2-4377-AFB3-CBF334C4FD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C0389B-892C-43AE-A530-3FBBDCD38A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C37424-6832-49C3-9C1D-75AAEBC5D6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FFECCD-7CC5-4B87-9846-E301C0A61A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87708A-3DB9-445D-98AD-7E050A3905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29621B-9B3E-4BC6-90D0-923970A554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032A19-B211-4119-B16C-D985799BE6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804FD-BFD8-4769-9AB7-93F8D6311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C9409E-1984-49F9-BA19-2B4D9E5E0B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88CC24-15C0-4A0D-B448-381F8CE01C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C2383F-903D-4CCA-9A3C-FDCAC66F51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BC3E51-722D-466C-A914-0306FD01CC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85198D-71B3-4CB6-B753-D08917B161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967732-94D3-42B9-9AFD-8026FE478A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A06786-9EC6-4941-BD9F-3CA2D90AD0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6CB2BF-3FFC-4E09-9902-571C8FA7C5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ECF8FA-01A4-48B7-82F1-212B738D50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FF7165-12C6-4B0E-A219-408EC15A92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E4F1F-8729-4E04-9220-BB3FDE897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1C8E0C-EA27-462D-B496-10AF3AC340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4D480E-4106-4BCD-9C71-3C5EFFAF27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533FA5-DC2A-470A-BC20-8C967EC7E7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F774AC-618F-414B-8D75-E54FD56349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55C4F6-63BC-4D05-B23A-5C52B458E2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326087-39FE-4C1B-93BE-C112CF82FC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8AA9C1-A4E5-4246-8F20-C7A7115BC3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5E255D-57A0-47F1-BBEE-0E12697E19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08F344-FF63-4876-9448-F623DAC87E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F60908-B665-45E9-85EC-1490090955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9A289-30A8-4A00-B68A-4EADFFA73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6EA63B-F2F1-4544-9554-F6BA4A75E3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2BB055-FCE9-4DD2-BFDF-9725A90DE4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017A83-B7D6-43D9-A188-E544D2EF2A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1A9F59-E1F9-43A6-AFA0-612C1F1DC2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F1C1D8-6870-4376-AB9E-7BBB0C8694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97E648-84B0-4898-A653-D455E202A9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164789-173B-4B75-A581-CA5D304405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F04441-B74E-46B9-B5DF-FE2877D587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AB86B4-550D-4EB8-894C-42AAFC6897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ABD749-CFF8-4F24-B771-40D3FE5DA5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1A7D2-A0D6-4422-A635-082E9AAB3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0197D1-8B31-4E70-B1D9-40228302AD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78EA10-5FE5-44A0-9662-F1697E345B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41BD88-5818-45BA-A7DD-8D197D6EEE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03BDF1-3B9B-44CD-8DF5-EBA29D9D29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D536B2-A873-416B-9BAE-D51BAA3A29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FBB695-3DB4-4201-9287-B4273542ED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24917C-3EE3-44CE-A1AC-7723ACC62F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ADA52E-2751-4970-B24A-58776C530B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3BE096-133E-435B-BC23-15C838E6C8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729E23-D4F0-43A0-A0FE-2E672D1AF55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8C45C4C-BD7B-4B02-8C58-52654896B52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1</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ACE88F0-AB09-45DF-855D-9E5D3D64093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1</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ABC6536-CC5A-43A1-B97F-BCF84AA1FEE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1</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9459F42-C95D-48B2-BEB2-C8CA684A8FA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FAF109F-A250-467A-8BE6-200106141C1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1</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25D0E5A-75A6-49E0-861E-38157D77002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1</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8103CD6-8E30-4DDA-8442-7FC08DCBB80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1</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9ABB024-97EF-47D3-93BF-359A044E565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1</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F6D41DA-4CF4-469F-8046-7D9656C74F1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1</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EA4C258-779D-4765-925E-2A6149A7B09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1</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1C06C78-2AAA-42E6-871D-F14F36298D9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1</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54B12E2-9BC6-466B-B200-8BEE705CE60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44EAB9-B648-4ABF-AE3A-55358C207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380880" y="609480"/>
            <a:ext cx="83059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April, and May 2019, Teleconference Call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4-24</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60002C-FE15-44A9-9F93-3AFD69D841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March 20</a:t>
            </a:r>
            <a:endParaRPr b="0" lang="en-US" sz="3200" spc="-1" strike="noStrike">
              <a:solidFill>
                <a:srgbClr val="000000"/>
              </a:solidFill>
              <a:latin typeface="Times New Roman"/>
            </a:endParaRPr>
          </a:p>
        </p:txBody>
      </p:sp>
      <p:sp>
        <p:nvSpPr>
          <p:cNvPr id="60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35r1, </a:t>
            </a:r>
            <a:r>
              <a:rPr b="0" lang="en-GB" sz="1600" spc="-1" strike="noStrike">
                <a:solidFill>
                  <a:srgbClr val="000000"/>
                </a:solidFill>
                <a:latin typeface="Times New Roman"/>
              </a:rPr>
              <a:t>LB239 BRP protocol, Assaf Kasher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36r0, </a:t>
            </a:r>
            <a:r>
              <a:rPr b="0" lang="en-GB" sz="1600" spc="-1" strike="noStrike">
                <a:solidFill>
                  <a:srgbClr val="000000"/>
                </a:solidFill>
                <a:latin typeface="Times New Roman"/>
              </a:rPr>
              <a:t>LB239 CH access CIDs, Assaf Kasher (Qualcomm)</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March 27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AD2D8C-8FB9-4A29-8123-03D3D3B53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March 27</a:t>
            </a:r>
            <a:endParaRPr b="0" lang="en-US" sz="3200" spc="-1" strike="noStrike">
              <a:solidFill>
                <a:srgbClr val="000000"/>
              </a:solidFill>
              <a:latin typeface="Times New Roman"/>
            </a:endParaRPr>
          </a:p>
        </p:txBody>
      </p:sp>
      <p:sp>
        <p:nvSpPr>
          <p:cNvPr id="60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46r0, CID resolution - Part XIII</a:t>
            </a:r>
            <a:r>
              <a:rPr b="0" lang="en-GB" sz="1600" spc="-1" strike="noStrike">
                <a:solidFill>
                  <a:srgbClr val="000000"/>
                </a:solidFill>
                <a:latin typeface="Times New Roman"/>
              </a:rPr>
              <a:t>, Artyom Lomayev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9/0532r0, Resolution to CID 4267, Alecsander Eita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490r0, Resolution of multiple LB239 CIDs, Solomon Traini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ime permits,</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54r0, D3.0 comment resolutions on hybrid beamforming part I, Kome Oteri (InterDigital)</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55r0, D3.0 CR on hybrid beamforming for CID 4310, Kome Oteri (InterDigital)</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April 3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DDB1308-3FA3-4163-AEDF-40DCAA38F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3</a:t>
            </a:r>
            <a:endParaRPr b="0" lang="en-US" sz="3200" spc="-1" strike="noStrike">
              <a:solidFill>
                <a:srgbClr val="000000"/>
              </a:solidFill>
              <a:latin typeface="Times New Roman"/>
            </a:endParaRPr>
          </a:p>
        </p:txBody>
      </p:sp>
      <p:sp>
        <p:nvSpPr>
          <p:cNvPr id="61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54r0,  D3.0 comment resolutions on hybrid beamforming part I, Kome Oteri (InterDigita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55r0, D3.0 CR on hybrid beamforming for CID 4310, Kome Oteri (InterDigita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47r1,  LB239 comment resolution II, Claudio da Silva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46r1, CID resolution - part XIII</a:t>
            </a:r>
            <a:r>
              <a:rPr b="0" lang="en-GB" sz="1600" spc="-1" strike="noStrike">
                <a:solidFill>
                  <a:srgbClr val="000000"/>
                </a:solidFill>
                <a:latin typeface="Times New Roman"/>
              </a:rPr>
              <a:t>, Artyom Lomayev (Intel)</a:t>
            </a:r>
            <a:endParaRPr b="0" lang="en-US" sz="1600" spc="-1" strike="noStrike">
              <a:solidFill>
                <a:srgbClr val="000000"/>
              </a:solidFill>
              <a:latin typeface="Times New Roman"/>
            </a:endParaRPr>
          </a:p>
          <a:p>
            <a:pPr lvl="2" marL="1143000" indent="-22860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ollow-up on CID 4466</a:t>
            </a: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9/0578r0, </a:t>
            </a:r>
            <a:r>
              <a:rPr b="0" lang="de-DE" sz="1600" spc="-1" strike="noStrike">
                <a:solidFill>
                  <a:srgbClr val="000000"/>
                </a:solidFill>
                <a:latin typeface="Times New Roman"/>
              </a:rPr>
              <a:t>LB239 CIDs 4058, 4073, 4106, 4107, 4108, 4420, 4421, 4422, 4423</a:t>
            </a:r>
            <a:r>
              <a:rPr b="0" lang="en-US" sz="1600" spc="-1" strike="noStrike">
                <a:solidFill>
                  <a:srgbClr val="000000"/>
                </a:solidFill>
                <a:latin typeface="Times New Roman"/>
              </a:rPr>
              <a:t>, Solomon </a:t>
            </a:r>
            <a:r>
              <a:rPr b="0" lang="en-GB" sz="1600" spc="-1" strike="noStrike">
                <a:solidFill>
                  <a:srgbClr val="000000"/>
                </a:solidFill>
                <a:latin typeface="Times New Roman"/>
              </a:rPr>
              <a:t>Trainin (Qualcomm)</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April 10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C0E207-4430-4CF3-87FE-4619A19B50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10</a:t>
            </a:r>
            <a:endParaRPr b="0" lang="en-US" sz="3200" spc="-1" strike="noStrike">
              <a:solidFill>
                <a:srgbClr val="000000"/>
              </a:solidFill>
              <a:latin typeface="Times New Roman"/>
            </a:endParaRPr>
          </a:p>
        </p:txBody>
      </p:sp>
      <p:sp>
        <p:nvSpPr>
          <p:cNvPr id="61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Bug fixe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21r1, </a:t>
            </a:r>
            <a:r>
              <a:rPr b="0" lang="en-GB" sz="1600" spc="-1" strike="noStrike">
                <a:solidFill>
                  <a:srgbClr val="000000"/>
                </a:solidFill>
                <a:latin typeface="Times New Roman"/>
              </a:rPr>
              <a:t>Resolution of SAR related CIDs</a:t>
            </a:r>
            <a:r>
              <a:rPr b="0" lang="en-US" sz="1600" spc="-1" strike="noStrike">
                <a:solidFill>
                  <a:srgbClr val="000000"/>
                </a:solidFill>
                <a:latin typeface="Times New Roman"/>
              </a:rPr>
              <a:t>, Oren Kedem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32r1, Resolution to CID 4267, Alecsander Eita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87r0, </a:t>
            </a:r>
            <a:r>
              <a:rPr b="0" lang="en-GB" sz="1600" spc="-1" strike="noStrike">
                <a:solidFill>
                  <a:srgbClr val="000000"/>
                </a:solidFill>
                <a:latin typeface="Times New Roman"/>
              </a:rPr>
              <a:t>Resolution to CID 4433</a:t>
            </a:r>
            <a:r>
              <a:rPr b="0" lang="en-US" sz="1600" spc="-1" strike="noStrike">
                <a:solidFill>
                  <a:srgbClr val="000000"/>
                </a:solidFill>
                <a:latin typeface="Times New Roman"/>
              </a:rPr>
              <a:t>, Alecsander Eita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20r0, </a:t>
            </a:r>
            <a:r>
              <a:rPr b="0" lang="en-GB" sz="1600" spc="-1" strike="noStrike">
                <a:solidFill>
                  <a:srgbClr val="000000"/>
                </a:solidFill>
                <a:latin typeface="Times New Roman"/>
              </a:rPr>
              <a:t>LB239 HBF sounding CIDs, </a:t>
            </a:r>
            <a:r>
              <a:rPr b="0" lang="en-US" sz="1600" spc="-1" strike="noStrike">
                <a:solidFill>
                  <a:srgbClr val="000000"/>
                </a:solidFill>
                <a:latin typeface="Times New Roman"/>
              </a:rPr>
              <a:t>Assaf Kasher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ime permits:</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29r0, </a:t>
            </a:r>
            <a:r>
              <a:rPr b="0" lang="en-GB" sz="1600" spc="-1" strike="noStrike">
                <a:solidFill>
                  <a:srgbClr val="000000"/>
                </a:solidFill>
                <a:latin typeface="Times New Roman"/>
              </a:rPr>
              <a:t>Changes to dual polarization TRN training text, Claudio da Silva (Intel)</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all on April 17 is confirmed</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April 24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7491CA-5721-4637-AD94-7383053C5F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17</a:t>
            </a:r>
            <a:endParaRPr b="0" lang="en-US" sz="3200" spc="-1" strike="noStrike">
              <a:solidFill>
                <a:srgbClr val="000000"/>
              </a:solidFill>
              <a:latin typeface="Times New Roman"/>
            </a:endParaRPr>
          </a:p>
        </p:txBody>
      </p:sp>
      <p:sp>
        <p:nvSpPr>
          <p:cNvPr id="62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21r2, </a:t>
            </a:r>
            <a:r>
              <a:rPr b="0" lang="en-GB" sz="1600" spc="-1" strike="noStrike">
                <a:solidFill>
                  <a:srgbClr val="000000"/>
                </a:solidFill>
                <a:latin typeface="Times New Roman"/>
              </a:rPr>
              <a:t>Resolution of SAR related CIDs</a:t>
            </a:r>
            <a:r>
              <a:rPr b="0" lang="en-US" sz="1600" spc="-1" strike="noStrike">
                <a:solidFill>
                  <a:srgbClr val="000000"/>
                </a:solidFill>
                <a:latin typeface="Times New Roman"/>
              </a:rPr>
              <a:t>, Oren Kedem (Intel)</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llow-up on CIDs 4411, 4450, and 4449</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48r1, Resolution of TDD BF and TDD sector switch related CIDs, Oren Kedem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ime permits:</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281r0, TDD slot timing CID resolution</a:t>
            </a:r>
            <a:r>
              <a:rPr b="0" lang="en-GB" sz="1600" spc="-1" strike="noStrike">
                <a:solidFill>
                  <a:srgbClr val="000000"/>
                </a:solidFill>
                <a:latin typeface="Times New Roman"/>
              </a:rPr>
              <a:t>, Solomon Trainin (Qualcomm)</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April 24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C21A8B-52E0-469B-85DE-208051BE56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24</a:t>
            </a:r>
            <a:endParaRPr b="0" lang="en-US" sz="3200" spc="-1" strike="noStrike">
              <a:solidFill>
                <a:srgbClr val="000000"/>
              </a:solidFill>
              <a:latin typeface="Times New Roman"/>
            </a:endParaRPr>
          </a:p>
        </p:txBody>
      </p:sp>
      <p:sp>
        <p:nvSpPr>
          <p:cNvPr id="62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58r0, Comment resolution on MIMO BF (Part II), Lei Huang (Panasonic)</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55r0, Proposed comment resolutions 4173,4174, George Calcev (Huawei)</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48r3, Resolution of TDD BF and TDD sector switch related CIDs, Oren Kedem (Intel)</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on May 1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0A5055-DCF6-4846-8868-EBFA45BB0E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May 1</a:t>
            </a:r>
            <a:endParaRPr b="0" lang="en-US" sz="3200" spc="-1" strike="noStrike">
              <a:solidFill>
                <a:srgbClr val="000000"/>
              </a:solidFill>
              <a:latin typeface="Times New Roman"/>
            </a:endParaRPr>
          </a:p>
        </p:txBody>
      </p:sp>
      <p:sp>
        <p:nvSpPr>
          <p:cNvPr id="63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281r0, TDD slot timing CID resolution</a:t>
            </a:r>
            <a:r>
              <a:rPr b="0" lang="en-GB" sz="1600" spc="-1" strike="noStrike">
                <a:solidFill>
                  <a:srgbClr val="000000"/>
                </a:solidFill>
                <a:latin typeface="Times New Roman"/>
              </a:rPr>
              <a:t>, Solomon Traini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490r2, Resolution of multiple LB239 CIDs, Solomon Trainin (Qualcomm)</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llow-up on CID 4463</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 on May 8, 2019, and the May 2019 interim</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3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836F049-ADF8-4781-8F7C-D440FCF1DA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May 8</a:t>
            </a:r>
            <a:endParaRPr b="0" lang="en-US" sz="3200" spc="-1" strike="noStrike">
              <a:solidFill>
                <a:srgbClr val="000000"/>
              </a:solidFill>
              <a:latin typeface="Times New Roman"/>
            </a:endParaRPr>
          </a:p>
        </p:txBody>
      </p:sp>
      <p:sp>
        <p:nvSpPr>
          <p:cNvPr id="63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64r0, Resolutions to CIDs related to channel access</a:t>
            </a:r>
            <a:r>
              <a:rPr b="0" lang="en-GB" sz="1600" spc="-1" strike="noStrike">
                <a:solidFill>
                  <a:srgbClr val="000000"/>
                </a:solidFill>
                <a:latin typeface="Times New Roman"/>
              </a:rPr>
              <a:t>, Cheng Chen (Intel)</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May 2019 interim</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4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April 3, 2019</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5683C14-F9AD-44C0-9AA1-BC61E6C2AB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212DB3E-7342-41B2-8F95-CE23EFEBD2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items for the teleconference calls between March 20 and May 8, 2019.</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807667A-0F0E-42FA-8424-FA0340CACE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655BD1B-5C21-4940-A3DD-00B9C62154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1D19EA5-0E25-458A-8B7F-0E5B453E05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74B6708-B73F-44C9-9F2C-EB603B973B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49C03C5A-874C-492B-BC4F-6E9EFE9EF9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25F716-F83B-44FD-8F56-0B822D5507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60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April May 2019</cp:keywords>
  <dc:language>en-US</dc:language>
  <cp:lastModifiedBy>Edward Au</cp:lastModifiedBy>
  <cp:lastPrinted>2014-11-04T15:04:57Z</cp:lastPrinted>
  <dcterms:modified xsi:type="dcterms:W3CDTF">2019-04-24T18:29:27Z</dcterms:modified>
  <cp:revision>4140</cp:revision>
  <dc:subject>Task Group AY November 2015 Meeting Agenda</dc:subject>
  <dc:title>19/0543r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