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D225CE6-8222-4C34-98E2-31E6FAF8DC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AF4546-3198-462B-8FB2-FA5CFBC2E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045DB-2C17-440A-A226-4EC1EE260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4160" y="701640"/>
            <a:ext cx="4626000" cy="3468600"/>
          </a:xfrm>
          <a:prstGeom prst="rect">
            <a:avLst/>
          </a:prstGeom>
          <a:ln w="0">
            <a:noFill/>
          </a:ln>
        </p:spPr>
      </p:sp>
      <p:sp>
        <p:nvSpPr>
          <p:cNvPr id="6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58668A-5814-4421-8CC8-350864A2F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C7EAD5-373F-4863-8A55-8DAD56BF7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56D9D0-4AEF-4CA5-8768-453CC6A27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2A555C-67D8-4F41-8D5C-27461074A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B7A7AB-DF56-4DA7-A616-A73654555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3BB9BD-12C9-4D15-B768-1ECEF720D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B6C272-E2AE-414B-85AD-EA02A4333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EFDE91-4304-44A7-BC0D-B4A7E1A2C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009E186-FB30-4B9F-A081-C1B3D3B659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7680" y="696960"/>
            <a:ext cx="4640400" cy="3479760"/>
          </a:xfrm>
          <a:prstGeom prst="rect">
            <a:avLst/>
          </a:prstGeom>
          <a:ln w="0">
            <a:noFill/>
          </a:ln>
        </p:spPr>
      </p:sp>
      <p:sp>
        <p:nvSpPr>
          <p:cNvPr id="66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1597427-D7AB-4387-A998-67F70DA2DF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7680" y="696960"/>
            <a:ext cx="4640400" cy="3479760"/>
          </a:xfrm>
          <a:prstGeom prst="rect">
            <a:avLst/>
          </a:prstGeom>
          <a:ln w="0">
            <a:noFill/>
          </a:ln>
        </p:spPr>
      </p:sp>
      <p:sp>
        <p:nvSpPr>
          <p:cNvPr id="66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C45760D-E175-48C2-9A88-25705CE76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F7FC6E-2CD9-4A44-8010-11485EDE1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7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7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220BCA-2F27-4799-966B-822FD38B2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8ACDE3-258C-4A30-A749-99E6950E8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8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A764AB-780B-4FB7-9A44-7DE702BF9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54160" y="701640"/>
            <a:ext cx="4626000" cy="3468600"/>
          </a:xfrm>
          <a:prstGeom prst="rect">
            <a:avLst/>
          </a:prstGeom>
          <a:ln w="0">
            <a:noFill/>
          </a:ln>
        </p:spPr>
      </p:sp>
      <p:sp>
        <p:nvSpPr>
          <p:cNvPr id="6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26CF3-DDB3-4546-971A-E10AC3BA6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33A9C-E701-43CE-89E0-2957581E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4F34C-5289-4A14-B80C-EA04E7944A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A2D062-459F-40C8-ACB8-B760C519C5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7876F7-63CA-4A9A-92F9-6564E70496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95627-8221-4641-8786-BF5778E81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39C32-3883-4911-A5E2-E964F1A51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9BF4A-3E19-4194-855D-8AAB085AD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5DB93B-9226-4838-AE2E-47262E0C3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B1CE1A-C854-4396-926B-64375B51E0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ADF5DC-29C0-4DCF-8B35-C13144E362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62C17F-6B90-4390-A3C5-7FE1385815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7CD7-3353-41DA-9167-24C1E9146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84AE0D-D51D-4974-9615-EF6D804AE0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93C72F-36D3-4E7F-B75D-C936156EF0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F66A2C-7AD7-4822-A5EE-ED8FA93ACC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5B5195-8B4C-47B6-9D60-87B9F10716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845500-15B9-43F4-AD44-89182E92B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250ED3-1DF2-49A1-8A6D-B760EE4CFC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5CFB04-6940-4887-B0F4-AEBBE27DBD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AFD13F-2071-43A7-9ECD-AE05B6F604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D85D60-0726-4AFA-9CA3-D036E50446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A334D0-E5CA-4D06-A360-E501B46541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2E20A-F3FF-4E2E-9B47-9442AECBA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D83FA9-8F79-4232-81CE-E7CDD519D8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A1AB5C-9411-43F6-85E7-6A1679988F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19D4A0-6964-41AF-BDAD-37341F1A16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22A94A-888F-4567-A593-D02C3FC7A5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A581D5-F35B-4BC8-AADD-5641AD53D0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77F041-F54F-4A13-8324-DF556E7F57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23B708-6F09-48BD-93DC-2DF569EBEE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CC2D41-3B2E-459C-A1F4-13FA84A416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E5F46B-2465-4E05-B22F-1E13E51C77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3B51F7-BFA8-41E3-8FC2-4596B2FA9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630E5-0535-400F-8746-0187961DC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B0F949-5D60-4424-A13C-5E9C004CCA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11190C-2432-45EE-A1E0-EDF35B3190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62EAD2-101D-48E1-B2E2-50BB5F808D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EF0322-E1BC-43F7-B8F7-55135411C7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ADC348-3A37-4E5A-9AD9-5948FFB8AB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0FBA81-A7AB-4434-B40B-A17FE80CB5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315C5E-ECAA-4578-AA7E-CDD55DCD8B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E34DCB-9206-4743-985E-40D1F26B3E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EAADC7-0043-45D8-B7F1-C85E913BCF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AC5EE2-AB4C-4F60-8FD9-E3F0C557ED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CACDF-BCE2-4865-9DF2-B319BB814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691BF4-DF7C-45EE-96F0-ECD9BEDAF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6A9647-C12E-4F41-809D-CD6CB73DF5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3408F8-B505-49D9-8819-BFC6E2AD52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A66DE8-A476-41EB-8359-7A2DEDA2F4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938D648-A3DE-4380-AD4A-68E27600A7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55A48-7624-438E-B6C3-05F440723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8CE77-477E-4F4A-8791-0EECCC61C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5F9F5-9C0C-4BD6-B900-0FC141A61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B2D34-CEB2-44C0-A00A-9B7EB0912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B620C-0649-4893-8F89-6F955EE1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68DB-B597-4D71-B59D-E5505818A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10D7-336D-49A9-838A-4DABC3D78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23C57-F4C9-4E71-AB67-C8CB60059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3F886-4991-4BAF-8278-3D7E2C568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83260-4813-4F88-8A70-112C50CFF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B41FC-DE54-4B6F-BA72-767D9D786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E401C-9AC6-4277-A5D0-850C59E40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0A4D3-207E-4F53-8F04-D3A1F765B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9758A-77D6-46DF-BE81-22A968806E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E41E3-FCE8-490E-B246-A844EF61E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D3CFA-CF38-41CA-9DD2-1087AAA5E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6E031-48B6-4D8B-B721-D985EBEF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5C814-5980-40AD-87EA-2CCEE6FAC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2586B-2762-4A2C-83DE-F7EB82B30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AD480-C84E-468E-9EA1-039EF3E6A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73290-13A5-4709-BBDB-D68AE5D12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6ADB5-8F6E-44E6-87BE-DB3ED592D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6176B0-1625-4B7A-8AD9-5DC64E92AE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67356-E6CB-4AA8-8F22-A41B9EAD1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092D4-4AAE-4B64-82B1-E3DF6C6234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BB091-B294-4554-B49D-AD79C52C3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1E517-57C4-4F35-8281-EAC4679EF0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B5869-2089-4E97-9C26-1E8B338F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2E372-C47C-4E65-921E-47A1016A9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BBB18-677D-4336-B183-E8667FC55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1F3E3-1061-4385-B4F1-C33DA7675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A289C-3D70-4C0C-A0B8-80BE1B69D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4352D-7463-4E23-8287-D1FABBE43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AF183-4E95-482F-BA5B-1DC359770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9B10A-48C5-4D77-9697-F841647A9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6D74F4-312D-4C69-9C2B-E61C8A5B11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A24567-64B7-40F8-AD31-22143D973D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BA90F8-E866-43E2-BD2E-7A91EB0EB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7937F-9B4E-4EAE-9C15-1C2198476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8FF2F3-5903-49DD-906F-C30F1F956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31C2FB-820B-4645-B5D6-B31094ADA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B5631-9313-4546-A975-81F5BD230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A41864-9AF3-4DD0-AB6F-D4E5997A9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26EA1-34E7-44F4-A959-E9AD658B1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7E61B-3F1D-45AE-A4A0-DD0A271A6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97FE8-8375-4998-BDD2-E3F5851C9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FDC09-CE4D-4797-9C41-EF1EFD0A6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3D3CA-E4EB-4092-8F3A-D2691A911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53FBDD-8A91-41D9-94E6-A8AE8D2D6C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7865-B5B8-4FCD-AD2E-CBA4823D6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19A923-4D35-4487-A1BC-99BDBA5AC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9CBA5E-22E8-4E0A-9A67-26DAF8066C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1464C-8F61-455D-B75A-8F6ACDAB9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CDD66-96C8-41F5-8081-117E45DDC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E07FA-A7A2-4E84-BABB-DF1949256E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7DF06-986B-4A56-AD51-1A08AF5D1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0C376-5076-49A1-81F5-4F2735BCF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4A237-5189-441F-B8D3-6153B7C41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9E8FC-69EB-479D-B466-B0F6AE9FA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50E33-3C1D-4ADB-AEBF-4A7F5AE89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560FB-9CD3-484E-B54E-54E327C5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CF6BF-E88D-440F-9A4F-D39F92E2E0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2C4E43-3CA7-4A45-8AB4-6CD8EED4CB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5F6EC9-8886-4441-9521-D34E81124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9E835D-EB54-490B-8BCF-ED912FC23E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CB61C-6752-4B3C-B64A-9D2D77E719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67EEE-015D-4B3D-8C1B-A27AC9C90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75941C-A6D0-4D1B-BF2F-A142F2E226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A3609-6D95-4527-89A0-D9EFA0FBD1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8ACB9F-17D9-430C-9BAE-1D29906D9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9F735-30FE-4BFD-BCE0-37BE4808A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B5C6-61B6-4939-A8BE-078FEDADA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C6E87-DD8A-47B1-8825-96B0B55E4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F3D24-140A-4827-A17C-D4EE5DF70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A1048-9B9F-4748-A8D7-3CC10481F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66CB4C-53D4-4D78-91B8-8E2579E9CD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D58D8-1A19-4685-AA0E-0366F6BEE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4C4E5A-F97E-4AD0-9B06-641E64AE63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E4ACF-D75E-44BD-AE2B-CB2DF6EA9B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84271-3ADD-4C53-8590-5531AA32D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892A0E-6FE7-46CE-9453-CB6B7A116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B84F1-93AB-4130-9CC4-237458B81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5222-2EAF-4C89-971A-CDB5DE52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179E03-0564-40A6-BB3D-1C8F9FC81C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39A43-61BF-48DF-AC21-B68E25784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19222-C1A5-45D9-B079-B39004031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29563-2381-4CB3-A567-73F491460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291683-6FB7-4C4D-B24B-574D4CF2E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ABFE95-AEEA-4389-A0F8-7E7357EE00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17A936-4521-4EF4-B2A0-CC711B8F3D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8235A7-6569-45A9-A2AB-724D683105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76BD9C-4DBA-4953-B943-50E972E170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722CDC-7364-4AFD-9DDC-32701513E8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BBC8C5E-C340-4AC5-B1BE-6C524511F0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1CEB52-B785-416E-B2BC-5010E9F7F9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3645DFC-DDDB-417C-9A5D-62FEFD392A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3F04646-3E99-4B52-9AFF-79816864F9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DFBF71-ACC2-45FA-813D-EE2AA717EE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0655BB-6E77-4B58-A288-0F5663E6C6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098A46A-2552-4609-B2DC-D8FB906DE4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FD05C0-4573-4ED2-9B35-A4524FAAAF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B19013-27CA-44E1-BD91-EE0FB186A2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3B1AA9-F080-454A-951B-6592AC7434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808DAAB-608D-4F87-9823-A16BA1DB4A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54DDFEB-1525-4D9E-B8D0-A881665537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021D7D-D5B8-4B02-B1E2-13DEE2A57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4-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13D379-6F92-4916-83D0-DCF96CC02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D2A2CD-8262-4BC3-8224-9785EC88E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C35FE9-9D52-4646-ACA3-776445BA8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BD5CDC-B86D-4B1E-A5BA-CBB10B17D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5C57AF-2207-432E-AE7D-DFA47C6BF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1,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AC5994-AF9B-4D86-955D-BB847C8B0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4</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8r0, Comment resolution on MIMO BF (Part II), Lei Huang (Panasonic)</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5r0, Proposed comment resolutions 4173,4174, George Calcev (Huawei)</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2, Resolution of TDD BF and TDD sector switch related CIDs, Oren Kedem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on May 1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E184C8-325E-48A8-9ED0-AAE49FF80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1</a:t>
            </a:r>
            <a:endParaRPr b="0" lang="en-US" sz="3200" spc="-1" strike="noStrike">
              <a:solidFill>
                <a:srgbClr val="000000"/>
              </a:solidFill>
              <a:latin typeface="Times New Roman"/>
            </a:endParaRPr>
          </a:p>
        </p:txBody>
      </p:sp>
      <p:sp>
        <p:nvSpPr>
          <p:cNvPr id="6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2, Resolution of multiple LB239 CIDs, Solomon Trainin (Qualcomm)</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on CID 4463</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 on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pril 3,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6A663A-1004-4B6C-A8BD-6DF2E6DD1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50AB7B-4A42-448F-BF80-37B96E59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897A23E-FAB0-47DF-BCFD-968DC5DB46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0060195-6E99-4353-B36C-41310B1CF8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C991F9-DF88-4373-B8ED-B693CBB50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3D60D8-7929-4A9E-B470-2E479E39A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674E828-D170-4623-BF6A-77A6C93924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7AFA2D-3F94-4409-BE66-CA86BC21B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18T15:35:56Z</dcterms:modified>
  <cp:revision>4137</cp:revision>
  <dc:subject>Task Group AY November 2015 Meeting Agenda</dc:subject>
  <dc:title>19/0543r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