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B5D26DA0-215F-4417-9E0A-0F81D7A836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F4E60E-3FF9-4DD4-B642-92EA405A8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54160" y="701640"/>
            <a:ext cx="4626000" cy="3468600"/>
          </a:xfrm>
          <a:prstGeom prst="rect">
            <a:avLst/>
          </a:prstGeom>
          <a:ln w="0">
            <a:noFill/>
          </a:ln>
        </p:spPr>
      </p:sp>
      <p:sp>
        <p:nvSpPr>
          <p:cNvPr id="6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53A215-9612-43AD-BC50-E591D7CE6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4160" y="701640"/>
            <a:ext cx="4626000" cy="3468600"/>
          </a:xfrm>
          <a:prstGeom prst="rect">
            <a:avLst/>
          </a:prstGeom>
          <a:ln w="0">
            <a:noFill/>
          </a:ln>
        </p:spPr>
      </p:sp>
      <p:sp>
        <p:nvSpPr>
          <p:cNvPr id="6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CABF19-F5B0-4956-9FC6-45D8E62A9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54160" y="701640"/>
            <a:ext cx="4626000" cy="3468600"/>
          </a:xfrm>
          <a:prstGeom prst="rect">
            <a:avLst/>
          </a:prstGeom>
          <a:ln w="0">
            <a:noFill/>
          </a:ln>
        </p:spPr>
      </p:sp>
      <p:sp>
        <p:nvSpPr>
          <p:cNvPr id="7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471C96-010D-454C-B71D-84D6C6AF5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4160" y="701640"/>
            <a:ext cx="4626000" cy="3468600"/>
          </a:xfrm>
          <a:prstGeom prst="rect">
            <a:avLst/>
          </a:prstGeom>
          <a:ln w="0">
            <a:noFill/>
          </a:ln>
        </p:spPr>
      </p:sp>
      <p:sp>
        <p:nvSpPr>
          <p:cNvPr id="7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324808-EE35-4A9F-8A70-F18AD7C50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54160" y="701640"/>
            <a:ext cx="4626000" cy="3468600"/>
          </a:xfrm>
          <a:prstGeom prst="rect">
            <a:avLst/>
          </a:prstGeom>
          <a:ln w="0">
            <a:noFill/>
          </a:ln>
        </p:spPr>
      </p:sp>
      <p:sp>
        <p:nvSpPr>
          <p:cNvPr id="7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5D16AF-47DF-4A72-9193-755F21D41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4160" y="701640"/>
            <a:ext cx="4626000" cy="3468600"/>
          </a:xfrm>
          <a:prstGeom prst="rect">
            <a:avLst/>
          </a:prstGeom>
          <a:ln w="0">
            <a:noFill/>
          </a:ln>
        </p:spPr>
      </p:sp>
      <p:sp>
        <p:nvSpPr>
          <p:cNvPr id="7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CCCCBB-DDD2-455F-A635-CBEC597D4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4160" y="701640"/>
            <a:ext cx="4626000" cy="3468600"/>
          </a:xfrm>
          <a:prstGeom prst="rect">
            <a:avLst/>
          </a:prstGeom>
          <a:ln w="0">
            <a:noFill/>
          </a:ln>
        </p:spPr>
      </p:sp>
      <p:sp>
        <p:nvSpPr>
          <p:cNvPr id="7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DF5CE9-6A97-4159-B22F-5DD76BF65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54160" y="701640"/>
            <a:ext cx="4626000" cy="3468600"/>
          </a:xfrm>
          <a:prstGeom prst="rect">
            <a:avLst/>
          </a:prstGeom>
          <a:ln w="0">
            <a:noFill/>
          </a:ln>
        </p:spPr>
      </p:sp>
      <p:sp>
        <p:nvSpPr>
          <p:cNvPr id="6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247DE3-881D-4FBF-B14A-D9F17136C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1B8888-9FDC-4CAD-88B8-BD7114852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154160" y="701640"/>
            <a:ext cx="4626000" cy="3468600"/>
          </a:xfrm>
          <a:prstGeom prst="rect">
            <a:avLst/>
          </a:prstGeom>
          <a:ln w="0">
            <a:noFill/>
          </a:ln>
        </p:spPr>
      </p:sp>
      <p:sp>
        <p:nvSpPr>
          <p:cNvPr id="6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71FA5EA-B539-42DE-98DE-9A92B2F12C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47680" y="696960"/>
            <a:ext cx="4640400" cy="3479760"/>
          </a:xfrm>
          <a:prstGeom prst="rect">
            <a:avLst/>
          </a:prstGeom>
          <a:ln w="0">
            <a:noFill/>
          </a:ln>
        </p:spPr>
      </p:sp>
      <p:sp>
        <p:nvSpPr>
          <p:cNvPr id="66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B7EBA60-CFD4-44A4-90C4-5F9D5D6E39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147680" y="696960"/>
            <a:ext cx="4640400" cy="3479760"/>
          </a:xfrm>
          <a:prstGeom prst="rect">
            <a:avLst/>
          </a:prstGeom>
          <a:ln w="0">
            <a:noFill/>
          </a:ln>
        </p:spPr>
      </p:sp>
      <p:sp>
        <p:nvSpPr>
          <p:cNvPr id="66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5CBF686-E941-4953-AE13-493A9D871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1154160" y="701640"/>
            <a:ext cx="4626000" cy="3468600"/>
          </a:xfrm>
          <a:prstGeom prst="rect">
            <a:avLst/>
          </a:prstGeom>
          <a:ln w="0">
            <a:noFill/>
          </a:ln>
        </p:spPr>
      </p:sp>
      <p:sp>
        <p:nvSpPr>
          <p:cNvPr id="6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04AC41B-71A2-4216-97C5-EE1848A46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1154160" y="701640"/>
            <a:ext cx="4626000" cy="3468600"/>
          </a:xfrm>
          <a:prstGeom prst="rect">
            <a:avLst/>
          </a:prstGeom>
          <a:ln w="0">
            <a:noFill/>
          </a:ln>
        </p:spPr>
      </p:sp>
      <p:sp>
        <p:nvSpPr>
          <p:cNvPr id="6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7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7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7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DD209D-EF77-47FF-B1D6-ABD48976E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9A76A9-AA77-4EBA-9ACD-AE50D2B3D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8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8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8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3095C8-6A19-452E-B57B-328D6E342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54160" y="701640"/>
            <a:ext cx="4626000" cy="3468600"/>
          </a:xfrm>
          <a:prstGeom prst="rect">
            <a:avLst/>
          </a:prstGeom>
          <a:ln w="0">
            <a:noFill/>
          </a:ln>
        </p:spPr>
      </p:sp>
      <p:sp>
        <p:nvSpPr>
          <p:cNvPr id="6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A679F-9D4C-46EE-A669-B4BFDC8DE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5F412-ECF2-4717-A9E3-D1580987E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3C16B1-AD5F-4895-B6EE-1EE03ED3EB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BC1E8B-AE70-4FD8-958C-396D6E8D8B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F1C50B-D186-4945-AA5F-66C0644892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5281CE-84AD-4C36-810C-D26C541659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E101ED-44BC-4316-A344-57BE2F38CD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614053-2C2D-4984-BEF1-CCE7D9FB83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7254F0-91C5-455A-8E33-E6DE231884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CA8019-205E-463B-B85A-E70AF7D8B2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EB0AEA-B3D2-42F7-8F2D-1BC99A3F0A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B93882-EF22-4F5B-AB5A-0FF31380B9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AAF03-6D4E-48C6-B433-B13EA2D90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64F195-7BCD-4610-B9B3-C052B8FD90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312135-6A3A-490D-817C-199B787855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162F7B-3791-4675-8878-87C1E94F74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934122-E2C6-40E0-B6AF-5A3E92A9F4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107EA4-48CD-489A-BCC5-B6F776BFFC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1A677F-C233-4792-AC36-87AD5172EC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018CDE-BAE9-44A5-9FC8-A6E115D997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4A8D84-1213-4F67-ADFC-AF03413B01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ED2EA1-8FA8-4B7D-9692-B6F5F584C0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9B21744-94A4-4F7F-AF29-D07D490616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BC0F6-2F7C-48D6-8D34-09FC7CC46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63D5A71-F35F-4855-84E4-3C31C0531E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997AB8A-137D-43B2-9334-CEC0D13BEF4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A15B3E-7726-47C0-AB32-C717361D33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86AA8C-080F-4650-85BC-840CA60D89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0F1FF0-3B5B-44D7-AC1D-08025936CA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6C9EDB-D732-4BC1-A2E9-72362843F5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EE9D5C-A125-4FC2-AC83-1D49B8A452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88F1AC-21AC-4599-9549-D51D561D9F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EC565C-FD58-46EF-BC29-E0FCB79ADE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781E3E-501B-4CE3-9DE6-4D330F1A42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18A658-2026-40DD-9B19-798D2C6258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AC5857-E63C-4A41-881E-D166DD465E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AACDBB-2C1E-467B-AAE6-92193F0CC0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6E1F48-2615-4DB9-9981-4DF1F91BD1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BEFEFED-3248-405D-9208-AA26022E323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1F0532-18E6-4F56-942F-930D57EBE4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07C8E5-F289-45E1-9E0E-6A7B0E5B31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D544DD-5377-420C-8E74-1E0E3C9F2C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A5E6EE-336A-4EE7-BD9C-9E200EB1726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066410-60AB-414D-AFBA-3F58F29E6F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7DCF7E-8187-4480-A594-2A120FBADB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02C06-E34D-4932-893E-3D9A645EC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05D403-D799-4465-8575-F34E83CFB0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5E8EE0-E9CB-4F28-8EF5-7FC28E9C1A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DE9181-9FF4-4B3F-98D7-A4B4F4C3F4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2691D28-3B46-41AE-B095-4F513EFC4D8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D5D0A60-ABD3-4D60-9648-97A6E32380C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BF6FD-111F-4190-A4DB-91194B159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9017E-CC75-4980-B57E-71D67217C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9DA5D-5A08-4F46-8C3F-6D2514078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EBC29-8231-4939-AB02-5957BD725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F7D24-03C7-4E53-A6EC-9EC39A688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F9A1B-635B-4F19-A61D-46FB52BDC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2E559-083C-4D4A-98C5-8C0935229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F337C-1E06-47BE-A5D2-D3B71698B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C7706-42A5-4596-902B-439F751B7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351CF1-50A4-45D0-9752-F7128C315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28B0B-54A0-48E7-AD9F-7DB874A96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A379B1-84EF-4B77-893D-A206A9A2C4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B2F32A-A860-4ADD-A328-53504E6C6A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5645C0-F0B5-4F40-AA5A-8543356121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6789C-B5CE-4686-A9D9-60D02C7359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8D8D2E-F96B-4EB9-AB2E-A770E51EC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D01FC-D5C2-4EFC-A6F4-50950B58A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4A6CB-9ACB-4D47-AB8C-6B4992FE8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257A1-B552-48A5-8253-67110302B9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30061-EA98-4B4D-9884-2FA608208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1197E-4EBA-400D-B08B-A29DB34F4D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680B7-2B66-4A2E-BF45-151A159456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F4997E-2397-4567-85FC-2CDF8941F2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65F3CF-26D4-40A1-A2C1-D842D7E6A7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446398-AA6A-41C8-A493-D186ECC06E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7AD547-043A-423A-8459-0A2A733E7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73C908-7EAE-4E47-9562-99BCB08E2D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94350-52C6-401F-B39A-5DC969448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105B20-B298-490D-88B2-52DF02F766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502E3C-C433-45DD-A388-9AC54D4262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158576-9FF5-493F-B886-8640600312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99B06-E2FD-40E2-89F2-8D0719683E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D50B4-BD61-4CEE-99EB-262EC26C0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C03A59-278A-47DA-9FDF-77020389C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BCEA8-0D76-4A34-B924-A5CC00A82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13902F-70F4-4B69-96F4-CF878288D2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524237-DFE4-4651-A5FC-F19B0C3C53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78C99E-9DF4-4888-BC15-F012717FDD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2987F-E466-46B2-93C6-C3A5F1F93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0FF74E-1170-43F6-807E-6A3AC24EC7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0D2ADC-4231-4ADE-A591-7FB8CBB452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4E30E6-76C7-4774-BE0E-57E70F1122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8FD104-CF20-4239-9A91-BAAAB9BE7F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EEB228-7C91-4C6D-B0F1-1EB6792470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BB3337-30AB-4DC6-92C5-A8C26FD1D0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73F64-4FF9-4A68-A3A7-1173D99ED8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37AAFA-B6A2-4D1F-A1D7-10AAE9D44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6D0FA9-F08D-47B0-B870-9DBB2A3BB1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646BF6-4956-4A81-A74E-E9012F565B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C5974-EF25-434D-8279-81F8349B8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625AF0-148F-4FC4-8906-D4C0D482F4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C6C3EE-D67F-4295-8ECA-2B4B62DB04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EF9AF8-61A1-46D1-A788-E649AAB238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89D49F-07C7-41AC-B41E-EEF4520FB4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96A811-E90F-47A7-918C-2873DC250B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920C1E-9B5F-4392-9065-25436FBE83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F98786-BD10-4C34-9AF2-92C8704A41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B03146-7B97-42DE-B74B-AB5ACD086D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16DC6F-CBE4-4C8B-A99A-612F3D961A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8A1050-C81C-4F24-9941-862131CF01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40EA0-0846-42CC-A832-7BBC06453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8ED1B8-0AA8-4673-8260-8179CB5123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27FFA6-CAF5-43CF-B6D5-E7358DE8D5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A666AC-933A-4D44-A8FC-4790608019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033D78-8A0B-4141-96DD-287E4E6295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DC957A-7104-4CFD-8678-5FE51687B6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2DEB80-99DB-4DC8-9812-BE199B9EF5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ADC99C-2C50-4CA7-8C60-20AF4F5DE9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9FC98A-E637-4B79-B255-400976FA86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69075D-3A17-45E8-91FA-78D96C6217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5A1BD5-5862-4015-A629-D398347D05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5997C-ED16-4032-B8E4-50EAFCDBB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351451-807A-40E2-B83C-EE081848E8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1D76A2-2321-4648-A915-C85E8E7C1B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4AA09D-1A00-4803-BF9D-CCF9B75338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4B2581-EC29-451B-A8C0-262EE2E2A8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B835C5-2999-4884-AE52-5EB9B57ED8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3C6B49-3903-431B-BDD9-298B0517A5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388629-3E1D-41EF-9A59-0D65BB30E8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D889DC-151A-42DA-AAF0-4E6F9444D7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F9E5CA-0E54-4ACF-8692-6EB66F4CB0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757765-64E5-4FAD-91B3-D13B85B969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04B69-C0AD-4E98-840C-3D63E3965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4B344C-8CAB-4218-890A-1D3687FF33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EA3221-DD13-4F67-AA59-6EF9C51AE4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E48184-1F1A-4AFE-A2A0-D0255BE42F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8D4341-7A17-4880-8C68-BB664D4B19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D6CD22-A91C-4633-AFBA-F5BEE3FCBA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A4B853-8725-4647-B55A-A653BA9429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4AF20E-080E-4A34-AAA5-4171722D86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B0E3DF-FD3B-451A-9925-4ED43485E8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80C792-F81B-48CE-BC2B-474735E7D9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AD7E79-5CEB-4417-B0CC-E9C3F488C8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35BE92F-6E2A-408E-95B1-0CFB4D4BA16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5AECB15-76BF-4EFE-B14F-AA4DA67014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B364FF2-C08B-4C84-82E9-849AEA3180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6A5C92A-273C-41F8-894F-BC27505194A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67289CD-C49D-44C9-A2EF-BA4B76E34F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78C1B90-773A-4C0E-A455-4CDE3E2625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C30A333-7FD8-493F-8D82-6F6039290F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26E44A5-9AE9-4D07-A603-E576654107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0885D81-1674-45A2-B4C6-0426B04FFF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75BABC4-3F49-4D68-8602-4356A74D23D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C137342-7F95-4EF7-B201-7AB40E2B6A2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E86A10E-69AB-4AA8-8671-94E5DF3776D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B3B67E-D314-4835-810C-B93119FD0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April, and May 2019,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4-2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231847-337D-44A2-AB2C-2C2605843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0</a:t>
            </a:r>
            <a:endParaRPr b="0" lang="en-US" sz="3200" spc="-1" strike="noStrike">
              <a:solidFill>
                <a:srgbClr val="000000"/>
              </a:solidFill>
              <a:latin typeface="Times New Roman"/>
            </a:endParaRPr>
          </a:p>
        </p:txBody>
      </p:sp>
      <p:sp>
        <p:nvSpPr>
          <p:cNvPr id="6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5r1, </a:t>
            </a:r>
            <a:r>
              <a:rPr b="0" lang="en-GB" sz="1600" spc="-1" strike="noStrike">
                <a:solidFill>
                  <a:srgbClr val="000000"/>
                </a:solidFill>
                <a:latin typeface="Times New Roman"/>
              </a:rPr>
              <a:t>LB239 BRP protocol, 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6r0, </a:t>
            </a:r>
            <a:r>
              <a:rPr b="0" lang="en-GB" sz="1600" spc="-1" strike="noStrike">
                <a:solidFill>
                  <a:srgbClr val="000000"/>
                </a:solidFill>
                <a:latin typeface="Times New Roman"/>
              </a:rPr>
              <a:t>LB239 CH access CIDs, Assaf Kasher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March 27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737AB0-CF19-4924-8BF4-D716D5E47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7</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0,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32r0,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490r0, Resolution of multiple LB239 CIDs, Solomon Traini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3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33196D-000B-4C6D-9457-1EF10F692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3</a:t>
            </a:r>
            <a:endParaRPr b="0" lang="en-US" sz="3200" spc="-1" strike="noStrike">
              <a:solidFill>
                <a:srgbClr val="000000"/>
              </a:solidFill>
              <a:latin typeface="Times New Roman"/>
            </a:endParaRPr>
          </a:p>
        </p:txBody>
      </p:sp>
      <p:sp>
        <p:nvSpPr>
          <p:cNvPr id="6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7r1,  LB239 comment resolution II, Claudio da Silva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1,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llow-up on CID 4466</a:t>
            </a: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78r0, </a:t>
            </a:r>
            <a:r>
              <a:rPr b="0" lang="de-DE" sz="1600" spc="-1" strike="noStrike">
                <a:solidFill>
                  <a:srgbClr val="000000"/>
                </a:solidFill>
                <a:latin typeface="Times New Roman"/>
              </a:rPr>
              <a:t>LB239 CIDs 4058, 4073, 4106, 4107, 4108, 4420, 4421, 4422, 4423</a:t>
            </a:r>
            <a:r>
              <a:rPr b="0" lang="en-US" sz="1600" spc="-1" strike="noStrike">
                <a:solidFill>
                  <a:srgbClr val="000000"/>
                </a:solidFill>
                <a:latin typeface="Times New Roman"/>
              </a:rPr>
              <a:t>, Solomon </a:t>
            </a:r>
            <a:r>
              <a:rPr b="0" lang="en-GB" sz="1600" spc="-1" strike="noStrike">
                <a:solidFill>
                  <a:srgbClr val="000000"/>
                </a:solidFill>
                <a:latin typeface="Times New Roman"/>
              </a:rPr>
              <a:t>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10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DF79A3-FC22-4B48-9B33-D1A144892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0</a:t>
            </a:r>
            <a:endParaRPr b="0" lang="en-US" sz="3200" spc="-1" strike="noStrike">
              <a:solidFill>
                <a:srgbClr val="000000"/>
              </a:solidFill>
              <a:latin typeface="Times New Roman"/>
            </a:endParaRPr>
          </a:p>
        </p:txBody>
      </p:sp>
      <p:sp>
        <p:nvSpPr>
          <p:cNvPr id="6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Bug fixe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1,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2r1,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87r0, </a:t>
            </a:r>
            <a:r>
              <a:rPr b="0" lang="en-GB" sz="1600" spc="-1" strike="noStrike">
                <a:solidFill>
                  <a:srgbClr val="000000"/>
                </a:solidFill>
                <a:latin typeface="Times New Roman"/>
              </a:rPr>
              <a:t>Resolution to CID 4433</a:t>
            </a:r>
            <a:r>
              <a:rPr b="0" lang="en-US" sz="1600" spc="-1" strike="noStrike">
                <a:solidFill>
                  <a:srgbClr val="000000"/>
                </a:solidFill>
                <a:latin typeface="Times New Roman"/>
              </a:rPr>
              <a:t>,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0r0, </a:t>
            </a:r>
            <a:r>
              <a:rPr b="0" lang="en-GB" sz="1600" spc="-1" strike="noStrike">
                <a:solidFill>
                  <a:srgbClr val="000000"/>
                </a:solidFill>
                <a:latin typeface="Times New Roman"/>
              </a:rPr>
              <a:t>LB239 HBF sounding CIDs, </a:t>
            </a:r>
            <a:r>
              <a:rPr b="0" lang="en-US" sz="1600" spc="-1" strike="noStrike">
                <a:solidFill>
                  <a:srgbClr val="000000"/>
                </a:solidFill>
                <a:latin typeface="Times New Roman"/>
              </a:rPr>
              <a:t>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9r0, </a:t>
            </a:r>
            <a:r>
              <a:rPr b="0" lang="en-GB" sz="1600" spc="-1" strike="noStrike">
                <a:solidFill>
                  <a:srgbClr val="000000"/>
                </a:solidFill>
                <a:latin typeface="Times New Roman"/>
              </a:rPr>
              <a:t>Changes to dual polarization TRN training text, Claudio da Silva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all on April 17 is confirmed</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4D4D12-53A7-4408-92C9-490E7C629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7</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2,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llow-up on CIDs 4411, 4450, and 4449</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48r1, Resolution of TDD BF and TDD sector switch related CIDs,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281r0, TDD slot timing CID resolution</a:t>
            </a:r>
            <a:r>
              <a:rPr b="0" lang="en-GB"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9225A9-3837-42A4-AE4A-57FA60CEE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24</a:t>
            </a:r>
            <a:endParaRPr b="0" lang="en-US" sz="3200" spc="-1" strike="noStrike">
              <a:solidFill>
                <a:srgbClr val="000000"/>
              </a:solidFill>
              <a:latin typeface="Times New Roman"/>
            </a:endParaRPr>
          </a:p>
        </p:txBody>
      </p:sp>
      <p:sp>
        <p:nvSpPr>
          <p:cNvPr id="6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58r0, Comment resolution on MIMO BF (Part II), Lei Huang (Panasonic)</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55r0, Proposed comment resolutions 4173,4174, George Calcev (Huawei)</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48r2, Resolution of TDD BF and TDD sector switch related CIDs, Oren Kedem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on May 1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FB9E54-9019-4EE4-858B-4D06A0B3E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y 1</a:t>
            </a:r>
            <a:endParaRPr b="0" lang="en-US" sz="3200" spc="-1" strike="noStrike">
              <a:solidFill>
                <a:srgbClr val="000000"/>
              </a:solidFill>
              <a:latin typeface="Times New Roman"/>
            </a:endParaRPr>
          </a:p>
        </p:txBody>
      </p:sp>
      <p:sp>
        <p:nvSpPr>
          <p:cNvPr id="63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281r0, TDD slot timing CID resolution</a:t>
            </a:r>
            <a:r>
              <a:rPr b="0" lang="en-GB"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490r2, Resolution of multiple LB239 CIDs, Solomon Trainin (Qualcomm)</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up on CID 4463</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 on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pril 3,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BEC523-00B5-4692-9C1A-023680808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6EE6D4-D691-4522-95DE-5133D2A9F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s between March 20 and May 8,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7A36399-395A-43E0-A210-08F7C6B748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6EE718D-A808-471A-BFBA-5A2D6D9B3B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DCD69F-E4FA-43D6-ABF0-F100EC3DF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994310-A602-4D07-805A-F51289300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D4B2559-51B7-41D7-B273-BC18BB5977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EF1FED-E63B-4CF5-A0A2-E98AA8947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Edward Au</cp:lastModifiedBy>
  <cp:lastPrinted>2014-11-04T15:04:57Z</cp:lastPrinted>
  <dcterms:modified xsi:type="dcterms:W3CDTF">2019-04-18T15:35:56Z</dcterms:modified>
  <cp:revision>4137</cp:revision>
  <dc:subject>Task Group AY November 2015 Meeting Agenda</dc:subject>
  <dc:title>19/0543r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