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38DBABA7-7C05-43E1-BDBA-1BE8D45A0B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7EF8F6-07EB-473A-B4CD-CEEE3B517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1C4C3F-9926-4414-B7B0-EB5AEF26B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E29328-CAE5-4D75-AC54-0C091327E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AB7D11-C5AC-4061-B95C-B5A99E3A4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16FDEF-3B84-44D5-A718-000FD4022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31D392-834E-4F1B-9E61-DD5AA4F1B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5401FA-5162-4F3E-B556-446FB0B7E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A7D41C-6953-462F-8363-9A41C19A7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6BFFC7C-0C17-4D64-A820-4EB90DDF45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AD506E5-B3F6-4616-99BF-5C8CFDD185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A9ACB9D-6D5B-4AE8-A13B-1B2F56BA3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D61E9D7-03D9-44C5-B514-3AE2E97C6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05FF4B-117B-4724-AB40-2B2BBD61C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399680-B9E7-47B1-ACC8-38A36F801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E751B2-E56B-40A7-8D9E-0051A7E23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146C6-3852-446E-A465-34C1DFC05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9569A-347D-42D2-AEC4-D713864A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31BCD1-3CFF-4963-B40A-3C5F1B288C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23055-5855-4C38-A6C2-4406BC30C2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71EC9E-38C1-40A7-8300-737AC59977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BB7AA0-C055-4FCC-A5FC-F5F81AE54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DE6DE-6589-4E14-B89D-E0B1AC7E5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B06F2-CE83-42BE-91D4-ECD4BF1204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55DB7E-DD30-4464-B56B-3D006F091E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B08F2D-1451-4B29-BDE5-4C526251F9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675F9B-A03F-4A9F-AC60-FA0D373BF7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1042A2-8966-41BC-81DA-43986EE2FE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6ED38-242E-4533-AC61-01DB25829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602745-8D2A-41F6-A053-1E71F01D35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EDB641-8545-4682-B3DC-8B01F0BE2B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37C5B8-99BC-4079-A104-5EF9D6E869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FC39D6-43B4-46F0-A36E-EA4D09C293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986F26-87BD-4AEC-8581-CD9BACCDC9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076F8E-D96E-4767-A589-1E5B3FD3CC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654EF5-29E2-4034-8387-6032139D31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E4A0B1-3168-40C2-939C-2085B63A0D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57A344-6F6F-4EE1-BEC6-4F076FE68B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34E57C-3800-468B-BE4C-55D5F6DBED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7CA8F-21B9-47A8-9BF2-25CEE1574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E899D9-781B-4A0B-9CEC-7268BEDC8D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76605A-D71A-4EEE-A95C-419A5753D5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B6F8AB-84E1-4F70-9E83-E809E417A3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725DA9-16F2-483F-B949-05AE5BECF9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151CBB-7F8B-4FD8-BD46-98463C6E92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49C69D-CDF8-425C-BF37-7DF78B8FA1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687FE2-772C-4339-9A7E-1CA059DA14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C38F07-35A8-4F91-960F-823B31D1B5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BAD5AE-97D5-4BE4-A946-FAC603F339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3A9E06-7499-452B-B9E6-E6223D99A9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08E06-EB4C-4C41-A53E-0FC4C23C8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D78500-4165-4449-92CD-020C616905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E8B399-0C90-4013-A0B5-0C850C7C7B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044B64-63DE-49A2-81C2-BBD4114CE1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856BC1-C1A3-4ED2-85AF-D62DA71EC0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D210D1-BCA5-4CF2-AC82-68F5487EE8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F3B61F-1729-4816-8A44-91C4931F2A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F7BD10-7CA9-414F-A118-91F96BB7C2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E30232-8A9D-475C-8A18-ABC9D6A77E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FCDA36-63E4-4E18-B421-70EEC6CCCC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E90C7C-4531-42E3-BEA8-0441DAB49E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CB3D4-408F-43A5-BBC2-596C41F8E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72F956-AB4E-4B70-BE07-FBCFBC287D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7A586E-8366-4C47-9B8C-44D73688BD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1A13AD-83FA-4CCA-9952-E548CE8B88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2E346D-1C6E-4ADC-99FD-1E2F05D8B4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BEDA2B-1F3E-4C50-A314-2561CEF3C1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6B805-A097-4B34-B8F1-EC3723B90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779C1-8AF0-45A2-8187-204F5E1EC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3E377-0B92-488C-BAED-43F78E015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9E756-1EC5-402F-80BC-8FE2E8EAD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586D1-29AF-4973-99D5-27FF11D3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BCF5-6D69-4EBA-932B-724842A26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704BC-547E-46B5-9658-8DBF94C45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BE860-E5C4-417A-9CF0-3AAA97D6E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F4CFC-2BB3-4144-99FF-40D63971E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6EA4A-1ECB-4B36-BD6B-875454A1D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F55C8-0AD4-4351-9297-EF88AA072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11E585-1C56-46C0-8C8B-1EE71A4B21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30463-64EB-4E6D-A109-6AEBF4C33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E9DF7-B3A5-44F5-B9A9-60A76F8E0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2CF34-E349-47EA-9C96-E8EDE6673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92457-D31A-4926-8518-F6D536EA9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62BA-FB3A-43AB-A6AD-A7FEF2814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285B4-0578-4B56-851F-91356926E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B8BA6-0B87-43F3-8EDF-0D187F037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4C400-0D95-4ADA-8F69-1D334E4F6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103C4-7E27-4F64-9978-FA8271BAA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C6276-1E35-4683-A828-7AF0267B9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980E6-5F50-40EB-B99D-E58DE5DDAF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71376A-080C-4475-BC06-9579002E6B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7227BD-A31D-42A8-A891-8214387158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386ED-A948-4D0F-AFCE-423A1A6BE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E248A-7066-4AEB-ACD6-16B1507FB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F6BBA-FAB2-42B9-AC0D-47EEF41D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6A3242-AD21-41F2-A5E0-CDB134D4E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0F854-79D9-46B1-BB52-6531750E93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23FF0-BD2D-432C-9F27-9430F54E9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AAF21-9425-4C7C-9D0E-380FB2EE0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D7B16-B39D-47B1-AAD8-BE592BA99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55A31-34D2-4AA0-B2E9-3FB0B95CF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20963F-CAE3-4F69-8C2C-26127F84A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0A9732-65F5-497C-9FA0-BA15E4230B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67F93-62A2-4790-800B-73D85FA11B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03AE53-AAE9-4057-95F7-15950633B2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F9DF-69FB-4195-AD0C-E7EA32466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1DAE7-7153-44B8-B8E8-6D85CFA9C4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593AED-E9D5-4EA3-8C5B-09E0325C6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0C45B-90A2-4110-897F-C17FE71B70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4C59E-B744-45B9-BB78-C5BD2C304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45B08C-64F3-4591-AC10-24CE5C766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A406A-60EF-4646-A0DF-2714694BC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48DAC-44C5-4447-96FB-3EE698FED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BE00B-D8C1-48D1-8BE7-EC629CEAC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16A8E-D383-45D4-96B8-E22FD48D2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055216-4E60-41F1-B841-BFD9307F24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1BE2-FA3D-4F5B-BA81-AD7D6D8B3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DF5642-81AC-4A05-9678-70E96F012D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18B067-B0F1-45EE-B6D0-4377107BEF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27C869-7383-44A7-852E-E4670F90E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491AD-F651-4078-AD86-D1F976AD7E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7EA87-33A8-45AE-B982-E758AEF7EE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6390D-6EE0-4482-8807-3FA74479F2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A3169-4325-4786-84CF-93FD8295F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62F41-A7E7-4C33-863A-67DC0838C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BCA02-5AB7-4A7D-844E-B36A5A6D5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2B481-61E3-4DDA-BC4E-F8B44FFD1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E5E4-8298-48DD-A877-9D8E0235D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A4B07-59DF-49D7-AE5B-188B9E6DC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17F6D6-A359-47D8-A014-3E8127F88D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7B87FA-F26D-4F31-8C5E-B09F390721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E5EB06-A1CC-4FEE-AF4B-750FE9B492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DA5CA5-7447-4542-8784-BAE4676D24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1E8D6-C876-4F63-9A5F-DC08F12AFC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B9589F-7033-4156-93B3-4D90A657EB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4125B-DDDE-45BD-A03F-F73CD334E4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0CB19F-7D10-4E59-A97B-FD00B35BD0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0BFCC-E9B5-44BF-900E-950168DDE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80D9-466A-43C6-9EEB-ED9A1CC1C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D89D3-B5FD-4C5E-85EC-2B853E902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F204FB-8EC7-4547-8E99-5A493AE2E2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84A6F4-F11D-417B-8F16-81FF50F04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C283A0-3216-4B2C-88AD-93DBF8A77C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497D47-8C70-47E2-BD5F-2F57E3137D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1F541A-0FEB-4585-9980-8B296684DD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FC6C07-633A-4CB3-A9FA-E99595D514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B151E4-4BBB-4B89-A88F-326F05DC37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B94087-630F-4774-94A8-89E8FC337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14C9D-0AB7-4D1E-87DE-72C1C99F38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AB523-8AD7-4877-A9CD-367F8F39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FE10AD-7BA0-49FE-B80C-26D3F80728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12B8C-7AFB-4AB8-874E-DE78D33EF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25E6A-E40F-44D3-AFB3-65D07FB1EB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38B8F-9ACA-4D13-9D94-3911B86D7F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E7D0FB-032F-47EB-A1D3-3505B5C58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699D47-4D66-4806-95D0-3BA9E1B208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8C52A1-77F1-48BF-AF85-FD096B97B2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7E016F-814B-4D70-8F4F-6788C7C705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FEE87B-6959-4410-8980-88BCFACA2E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C8856-6C58-4DDD-BC21-DD682A106C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C32F7A8-0D1B-453A-A3E5-1CAA207DA6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9081E6-D1BC-4F8D-8878-2A669AB652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A8B671-5D66-442E-B3C6-8155D8957B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167E144-23B8-4DEF-B879-0456E25AD6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A22384-A163-4D86-8BA7-92EADC6440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004D110-6F7D-4265-8405-F2AA92AB66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5652B83-40D8-4DEA-8D4F-72808224C5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4925BB4-8D34-4535-B02A-06BC1B6E7A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59AE3AC-B9D6-4F9F-8047-FD4604C587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5ED2808-31D0-446E-89FE-E92622FB24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590E0A4-1CD6-46D4-B1DA-B1FE4E43E1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6BA1C2-0313-4D2F-8A64-41DA80603E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583C62-E972-413B-AB81-51D5A352C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4-1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C0983C-5A52-4BD2-9107-04CBDAE65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C2DE0B-62BE-43D1-B315-36D8380ED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F0DCA5-00A7-4F63-9A67-8F89E0EC7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359293-6214-47B8-A87F-16C7FB5CB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ACC0E7-FA69-4940-91DB-B909FE994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0,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pril 3,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DAC9DA-B2DA-4EC0-B4BC-3D173472F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66DA48-EE73-4DFC-8949-3178A6C8D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DEEF8A3-BB8B-4643-B7FF-95278F9429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83556DC-188E-45BE-8D50-4491FF6BCD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CAE823-46DF-494B-AB81-056A6871A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65E93C-812B-4342-9076-2BED47898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A797ED0-9A10-4F57-BC0F-596C95222C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B32E4C-A457-4495-80D2-4CDB98C92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14T17:20:53Z</dcterms:modified>
  <cp:revision>4131</cp:revision>
  <dc:subject>Task Group AY November 2015 Meeting Agenda</dc:subject>
  <dc:title>19/0543r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