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D3BC42C4-5154-4C96-8519-ABE64C6068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E0E429-F119-4B38-8B8B-BB2FFCABA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54160" y="701640"/>
            <a:ext cx="4626000" cy="3468600"/>
          </a:xfrm>
          <a:prstGeom prst="rect">
            <a:avLst/>
          </a:prstGeom>
          <a:ln w="0">
            <a:noFill/>
          </a:ln>
        </p:spPr>
      </p:sp>
      <p:sp>
        <p:nvSpPr>
          <p:cNvPr id="6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54160" y="701640"/>
            <a:ext cx="4626000" cy="3468600"/>
          </a:xfrm>
          <a:prstGeom prst="rect">
            <a:avLst/>
          </a:prstGeom>
          <a:ln w="0">
            <a:noFill/>
          </a:ln>
        </p:spPr>
      </p:sp>
      <p:sp>
        <p:nvSpPr>
          <p:cNvPr id="6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2F9CBD-07A7-4446-9F1E-CD8F62FB6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54160" y="701640"/>
            <a:ext cx="4626000" cy="3468600"/>
          </a:xfrm>
          <a:prstGeom prst="rect">
            <a:avLst/>
          </a:prstGeom>
          <a:ln w="0">
            <a:noFill/>
          </a:ln>
        </p:spPr>
      </p:sp>
      <p:sp>
        <p:nvSpPr>
          <p:cNvPr id="6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F26A83-53A0-416D-8FA6-1D850C5E8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FF5C3F-56F5-4E7E-9132-CE902C780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7DE413-0CBA-4673-8F1F-602594DDB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DFBF82-C074-49CD-87BD-9682B750B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4160" y="701640"/>
            <a:ext cx="4626000" cy="3468600"/>
          </a:xfrm>
          <a:prstGeom prst="rect">
            <a:avLst/>
          </a:prstGeom>
          <a:ln w="0">
            <a:noFill/>
          </a:ln>
        </p:spPr>
      </p:sp>
      <p:sp>
        <p:nvSpPr>
          <p:cNvPr id="6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CC93DC-BD19-4A0C-B14A-7A78B84F3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6C0F2F-D862-43D9-B3B1-12F122B28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7D264FA-6192-480E-B055-4817C8B30B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7680" y="696960"/>
            <a:ext cx="4640400" cy="3479760"/>
          </a:xfrm>
          <a:prstGeom prst="rect">
            <a:avLst/>
          </a:prstGeom>
          <a:ln w="0">
            <a:noFill/>
          </a:ln>
        </p:spPr>
      </p:sp>
      <p:sp>
        <p:nvSpPr>
          <p:cNvPr id="65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99F55D6-4CC1-4CC4-ACD8-FEE3BF0C71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7680" y="696960"/>
            <a:ext cx="4640400" cy="3479760"/>
          </a:xfrm>
          <a:prstGeom prst="rect">
            <a:avLst/>
          </a:prstGeom>
          <a:ln w="0">
            <a:noFill/>
          </a:ln>
        </p:spPr>
      </p:sp>
      <p:sp>
        <p:nvSpPr>
          <p:cNvPr id="65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A38321B-CE2E-47CA-A3AE-CC7A1A8FE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44520CC-8DBB-40E1-9712-F2F85E87B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6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6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231366-E4A6-4CBF-813F-420B03FFE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54160" y="701640"/>
            <a:ext cx="4626000" cy="3468600"/>
          </a:xfrm>
          <a:prstGeom prst="rect">
            <a:avLst/>
          </a:prstGeom>
          <a:ln w="0">
            <a:noFill/>
          </a:ln>
        </p:spPr>
      </p:sp>
      <p:sp>
        <p:nvSpPr>
          <p:cNvPr id="66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F40723-FA91-47AE-B70E-DF5F44E2D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A7A63D-162F-4B49-B3BA-503D4710A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864CA-17EA-4DF3-B22F-77D8CEC83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31884-423F-4B99-B063-57210CD6C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F1D81B-A9DB-439C-8E57-794E5B0BC5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06725A-2240-4EB6-B22E-35F40F28C9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D745F4-DD6B-4741-9DF8-52C50BFA0A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A0BF1A-3A27-467A-8874-3297B2E17C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3EA382-40ED-4098-BD27-327460C1CC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58B472-1999-4668-9CDC-B70401A39C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52E8C9-06C7-4421-986E-4E0B5DBE0C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6CEF6A-C056-4849-9BFB-E2603D6713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3A0907-5056-456C-B78A-76D70E1D94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BE047E-863B-45ED-B202-58A326B33C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BE060-FBBF-406B-A735-560B8178E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5CE704-295E-405F-9080-84DB603D45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D685CA-046E-45F7-B3C5-497C89FD94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03C6E9-E4D9-4CB5-99A8-5C81A4125F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574E25-F360-4C64-BF13-6FE8E8F3E9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89DF5C-4315-4372-8173-AC078B5555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C047B6-A362-491C-B684-119CC9D88E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DD1C96-DC40-4519-9A45-FA23B3E67F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922898-F82E-4564-8D4E-1CCDB5798A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F8FBA0-5CA5-4EBD-AC23-D6582450B7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5731C8-AFAF-4A4D-897B-B2AAD708FC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3CA55-71E9-4022-9D46-34253941E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4CAEEF-0150-442B-8905-EC3EF951F5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DCE287-ECF4-4B8D-AF6A-6A5951C290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C0A4BD-AAEC-4352-8446-60B79FE24D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6AD8F1-3B20-4D02-9C1A-22916F5886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597340-00A1-4C4B-8055-4FCB164A34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18FED9-E42B-4F90-BB1C-C6A2B5FEC2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766519-4E80-424B-93E0-8EE172B085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05773F-C67B-40E3-9BDE-3BE5E87FD3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9038A7-78F0-4CCA-994F-563D08C648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CF4577-698F-44FD-A697-D8E2AE3FA6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5A4D8-19E8-4E0A-935C-5E707CB6D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564DFC-4E82-446A-B952-134059521B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E380B5-99D2-427E-8749-B903C1700E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45A7B5-E29D-4B9B-B7A4-E794C9C5E9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0DB706-C5BF-4733-8F11-93AA78FCB9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50C76A-9A7D-4ABE-A047-0CF3960310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C8B772-B536-4F85-92E0-EC16AFE029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E6F062-0BAF-463C-AA94-EC40C3B732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8A9D2A-B5F2-4526-B2B5-E57653BEF8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5D929B-A52D-4948-8FB7-784BABE216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C70B91-ADFA-4C88-BD61-EEA0BA4680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05D9A-55DC-447F-9544-4C5E95E64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F0F8B2-A6D1-43E2-B49C-3B2D2A0A8C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6993C1-7E55-4017-81C7-8739E5E716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CE1AD3-4975-4E07-956C-B171699B66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69E2DED-D6A0-4082-A5E2-D9C42E18279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DB5B4D-18BA-4DC8-9ADD-982D07947A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91630-D649-42EC-AB94-D6C533859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305F9-53CD-437C-B439-09AD3798D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5BA01-625D-43C1-BE2F-6A3E40005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EFCB5-E04A-42D2-9CA5-82E9AD26D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B83FE-7FBC-45E9-80E8-D432DE11C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740D3-DBB9-4143-8CFA-66E25BA06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EA244-AE6B-42D0-BCE9-AB1846AE7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C270E-7361-41AF-96B9-C64BF4197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747A5-B7D5-4147-AA0A-389138E9C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D7CEA-A63C-4540-83D1-5FF3FAF5C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1F40B-B965-4C36-BE98-E73093E14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E3B6A4-CC92-494E-B2A0-86371E527F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3C268-4360-4C33-B624-56123624E0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9D9948-0020-4558-B3EF-58DD90EDB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A0F4C1-1F38-4E8D-AC4B-AF733F075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29AC8-1EEB-4374-806E-32BF1EC4F4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EFA66-F749-4426-93F5-29189F4F4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8E278-30A7-4AF8-BCD7-20E80B21E2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40F94-B10F-4D48-B357-3E676AB29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4DB78-70C6-4EBD-861D-946A2BA9D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6EE83-4E96-48D8-879A-CB268280A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C04348-0C5A-4EE0-BF2A-DD8A10B57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1CDD4F-E99B-4AF7-94A4-AE06D79AD7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F19D8D-4D23-42D1-AFB8-51531F6531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ADB07E-1AC6-406C-ACB2-C88C1BB57B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1B5137-DEE7-4444-9320-E8A0331D33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E8101A-FB6E-478C-80AD-14D30D0F76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B032E-DF54-45A7-9D8F-F769860AD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8412D2-FB6B-4301-9A70-FD4C5D3F8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5B5A4-E398-4ABF-BC29-B3FFB7AEC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9AAE5-1213-4BE4-A3C6-FB47661011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2D3F5-BADB-490F-802A-BD3E55435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733FF-E781-43B3-BFAE-FB7716260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E51702-4EAC-44A9-AB82-9B91C5AB9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746E8-6892-44BD-80E9-6BE7D14E3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45A75E-BEAE-4AB9-9056-7B421B57A9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EF4E6A-B567-4B4E-9865-282F100DAA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C9538B-F3F7-4710-A7A1-EDDBA81E28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C75CA-F38B-4A7F-AEFB-583C84408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A86A5C-D6D6-4B94-8BD2-09C16A2080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2126CA-1564-47FA-B256-04F9271601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0A224-F1F7-4567-B902-1B57E48F43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F66C57-14DC-4BDD-9C19-62339C9E5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FF0A5B-CAC6-4487-8E0D-DB1A56E095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6312EA-31FA-43B3-8162-4982E01A0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4EB5C2-0FC0-4B82-A8AA-C8921831D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5FF088-D1EC-4F7F-B010-6B9B18954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7E88A6-9010-413D-9E6A-E2B9B4D3E1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981149-4980-4D41-9DA1-915CB442A2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654F2-8817-483F-9C77-AACA230E2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6112E1-7982-4FCC-A0B3-D2E64EB8A5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EA5570-A304-4530-BCFE-D03EE5BCF0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CBEB34-9C3E-42F5-B697-34FF52779B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114B3B-63E2-4EAB-AD53-57AD35364C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57A031-68E9-45FA-B1A9-3B918CB659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443BE0-55C5-4EF3-98D7-DD9982891C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C62F38-06BF-457F-B345-44F4F2140A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46E70-8FCB-42EB-841B-9D9B3EA37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3677D-DB74-4526-9704-F9CA406A4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2E69C-DD5E-4910-92DA-87AE4EB4B2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AD9F-F3C4-46A2-B1F3-B8741519D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E21409-469D-460D-9AB7-C1FA18EA7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3C1D55-1E7E-44C9-98EF-C65DAC645F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809540-532E-42A6-90E1-C3FE62F588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B95903-75F5-48CE-AE7C-AEC632AAF1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6D52D4-3553-4DE0-BC03-6EEB091858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CDE0AF-B560-4A5B-8B37-B17DFEA0CD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C4CE7B-F785-4212-8720-06752A696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B17723-C25C-457B-9DC4-7C6A029AE6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84544F-F739-4D51-B515-7B60A0640D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D04F9-3A12-4676-BA93-F2158404CE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A803C-3C54-429C-8BE9-43130FABF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CFA9B4-EB91-40D0-9184-74484225DA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1C00BD-F0BC-4722-B5CE-5A999152C5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473CC0-BD4C-4A85-A214-6B9205EA4C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579124-5FDD-49AF-AC4B-52032AB700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D05AB6-6161-4F5D-AD7A-BFF7C043C1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6186FE-0F7E-4103-B5B1-CEC6093789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4C2E6-4232-4B73-9399-01DDB74C69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352A0D-B944-4DDC-9745-D1660080EB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DA366E-3FB3-4B90-A125-25463971DF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EA6E99-B5DC-441C-A204-2353299C8D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3831F-896A-4F8F-8FE3-0A2E00EDA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940147-3BF7-4B9E-B24A-D058849ACD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05601B-C4FB-4DAA-8DCF-3BEF1BD9A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53CDE5-FEDF-490D-A5D8-D299565242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E65D8F-5C83-4738-8E43-CBD744B86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9049E1-49DC-48DC-80CC-1869069C77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91BCF3-1971-4433-AED8-5B2E6AB921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FFEA7E-A8D1-40DB-84A6-9433D8F1B5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C1E1D6-25FE-4F49-9793-B9456038DE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25AF5D-809D-49A4-9C20-6DE9AB1621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D7A76E-8103-493F-B811-2A9D503FB4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3D9C724-1A0F-4DE3-A464-7CE0B1E5C3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BA369C5-9676-46F2-B8A8-5DC5442948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6E668B5-47EA-4E8E-8270-3AAF59EE8D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1415B5A-E30B-4D93-AEB9-5F06A20AA7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474A496-12E3-40D5-8608-2E55D9828C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65BD876-5DB4-4799-A0EE-CF8BBF59CF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CD9B08E-5E1B-443E-8AFF-026E964D29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D30539E-2B2D-42EB-9656-504B3034A0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2180E69-312B-432D-8309-E2BBE28D28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94921FE-78A9-492E-B3DA-BEE54A0000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DF17720-4618-4DB4-B31B-DEC5E13852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8</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EE9349E-FA38-4BA5-9501-7E02F43490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2DE560-0306-4393-ADE6-DC0EAEA9D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April, and May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4-17</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AE341C-8CDA-4720-B8F6-011595AE0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0</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5r1, </a:t>
            </a:r>
            <a:r>
              <a:rPr b="0" lang="en-GB" sz="1600" spc="-1" strike="noStrike">
                <a:solidFill>
                  <a:srgbClr val="000000"/>
                </a:solidFill>
                <a:latin typeface="Times New Roman"/>
              </a:rPr>
              <a:t>LB239 BRP protocol, 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6r0, </a:t>
            </a:r>
            <a:r>
              <a:rPr b="0" lang="en-GB" sz="1600" spc="-1" strike="noStrike">
                <a:solidFill>
                  <a:srgbClr val="000000"/>
                </a:solidFill>
                <a:latin typeface="Times New Roman"/>
              </a:rPr>
              <a:t>LB239 CH access CIDs, Assaf Kasher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March 27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C8176D-529F-44F1-B97B-E7D7F117E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7</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0,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32r0,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0, Resolution of multiple LB239 CIDs,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3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A2D9C8-47BB-4243-B0D1-EFD99FB3B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3</a:t>
            </a:r>
            <a:endParaRPr b="0" lang="en-US" sz="3200" spc="-1" strike="noStrike">
              <a:solidFill>
                <a:srgbClr val="000000"/>
              </a:solidFill>
              <a:latin typeface="Times New Roman"/>
            </a:endParaRPr>
          </a:p>
        </p:txBody>
      </p:sp>
      <p:sp>
        <p:nvSpPr>
          <p:cNvPr id="6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7r1,  LB239 comment resolution II, Claudio da Silva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1,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llow-up on CID 4466</a:t>
            </a: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78r0, </a:t>
            </a:r>
            <a:r>
              <a:rPr b="0" lang="de-DE" sz="1600" spc="-1" strike="noStrike">
                <a:solidFill>
                  <a:srgbClr val="000000"/>
                </a:solidFill>
                <a:latin typeface="Times New Roman"/>
              </a:rPr>
              <a:t>LB239 CIDs 4058, 4073, 4106, 4107, 4108, 4420, 4421, 4422, 4423</a:t>
            </a:r>
            <a:r>
              <a:rPr b="0" lang="en-US" sz="1600" spc="-1" strike="noStrike">
                <a:solidFill>
                  <a:srgbClr val="000000"/>
                </a:solidFill>
                <a:latin typeface="Times New Roman"/>
              </a:rPr>
              <a:t>, Solomon </a:t>
            </a:r>
            <a:r>
              <a:rPr b="0" lang="en-GB" sz="1600" spc="-1" strike="noStrike">
                <a:solidFill>
                  <a:srgbClr val="000000"/>
                </a:solidFill>
                <a:latin typeface="Times New Roman"/>
              </a:rPr>
              <a:t>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10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DDAB52-F049-42F5-8906-F55F81D29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0</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Bug fixe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1,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2r1,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87r0, </a:t>
            </a:r>
            <a:r>
              <a:rPr b="0" lang="en-GB" sz="1600" spc="-1" strike="noStrike">
                <a:solidFill>
                  <a:srgbClr val="000000"/>
                </a:solidFill>
                <a:latin typeface="Times New Roman"/>
              </a:rPr>
              <a:t>Resolution to CID 4433</a:t>
            </a:r>
            <a:r>
              <a:rPr b="0" lang="en-US" sz="1600" spc="-1" strike="noStrike">
                <a:solidFill>
                  <a:srgbClr val="000000"/>
                </a:solidFill>
                <a:latin typeface="Times New Roman"/>
              </a:rPr>
              <a:t>,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0r0, </a:t>
            </a:r>
            <a:r>
              <a:rPr b="0" lang="en-GB" sz="1600" spc="-1" strike="noStrike">
                <a:solidFill>
                  <a:srgbClr val="000000"/>
                </a:solidFill>
                <a:latin typeface="Times New Roman"/>
              </a:rPr>
              <a:t>LB239 HBF sounding CIDs, </a:t>
            </a:r>
            <a:r>
              <a:rPr b="0" lang="en-US" sz="1600" spc="-1" strike="noStrike">
                <a:solidFill>
                  <a:srgbClr val="000000"/>
                </a:solidFill>
                <a:latin typeface="Times New Roman"/>
              </a:rPr>
              <a:t>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9r0, </a:t>
            </a:r>
            <a:r>
              <a:rPr b="0" lang="en-GB" sz="1600" spc="-1" strike="noStrike">
                <a:solidFill>
                  <a:srgbClr val="000000"/>
                </a:solidFill>
                <a:latin typeface="Times New Roman"/>
              </a:rPr>
              <a:t>Changes to dual polarization TRN training text, Claudio da Silva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ll on April 17 is confirmed</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03CE2B-4BFD-4750-8078-29DF289E2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7</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2,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llow-up on CIDs 4411, 4450, and 4449</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0, Resolution of TDD BF and TDD sector switch related CIDs,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pril 3,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546EE5-663F-4C3D-AB2C-1E53437E4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054E37-E9BB-4D9D-9F34-50ACD72B3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s between March 20 and May 8,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6BAAA55-79AF-4E22-984B-FE5BDED402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CEDFEC3-929E-45BF-925C-77A1164AE6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88F51D-F3AF-48AA-958A-2D0863C85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F76725-2B21-4B18-AB72-CF94242EE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B8C2B57-A637-4A99-8B56-7B925EED74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469E26-8E2B-42C2-88B3-F7A494B63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Edward Au</cp:lastModifiedBy>
  <cp:lastPrinted>2014-11-04T15:04:57Z</cp:lastPrinted>
  <dcterms:modified xsi:type="dcterms:W3CDTF">2019-04-14T17:20:53Z</dcterms:modified>
  <cp:revision>4131</cp:revision>
  <dc:subject>Task Group AY November 2015 Meeting Agenda</dc:subject>
  <dc:title>19/0543r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